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66"/>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Click to move the slide</a:t>
            </a:r>
            <a:endParaRPr b="0" lang="en-US" sz="4400" spc="-1" strike="noStrike">
              <a:solidFill>
                <a:srgbClr val="cc00cc"/>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7FC4-CB11-48BC-8A20-5866D342A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about teaching the </a:t>
            </a:r>
            <a:r>
              <a:rPr b="0" i="1" lang="en-US" sz="1200" spc="-1" strike="noStrike">
                <a:solidFill>
                  <a:srgbClr val="000000"/>
                </a:solidFill>
                <a:latin typeface="Times New Roman"/>
              </a:rPr>
              <a:t>Discovering the Real Me</a:t>
            </a:r>
            <a:r>
              <a:rPr b="0" lang="en-US" sz="1200" spc="-1" strike="noStrike">
                <a:solidFill>
                  <a:srgbClr val="000000"/>
                </a:solidFill>
                <a:latin typeface="Times New Roman"/>
              </a:rPr>
              <a:t> series, Student Textbook and Teacher’s Manual 1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ffective objectives of “Taking the Lead in Understanding Each Other” are for students to understand others more and to work and live more cooperatively.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havioral objectives of “Taking the Lead in Understanding Each Other” are for students to listen better to others, with more perception and understanding.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activities in the lesson plan for the chapter “Taking the Lead in Understanding Each other” is to divide the students into pairs with a blindfold for each pair. The students take turns within their pair guiding the blindfolded one to walk around, sit on a chair, sit all the way down on the floor, etcetera. This exercise means the guide has to communicate clearly and carefully. The teacher reminds the students that we are “blind” to what is in another person’s mind and heart, so when we communicate, we must do so clearly but carefully.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activity promoting good communication, students are read common scenarios that might take place between friends and acquaintances and asked to role play in front of the class good ways to handle the situation.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ample chapter is Chapter 4: “Relationship Skill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main points of the chapter are that our sense of our own value affects our relationships, good attitudes make for better relationship, good habits make for better relationships, that it is important in our relationships to be able to deal with anger, disappointment, and other emotions, and that relationships develop not all at once but in stage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gnitive objectives of “Relationship Skills” are for students to understand that relationship skills are related to qualities of good character.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ffective objectives of “Relationship Skills” are that students will embrace and want to develop the good relationship skills outlined in the chapter.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havioral objectives of “Relationship Skills” are that students will control their emotions, maintain better attitudes and self-concepts and form better habit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n activity for this chapter, the students do a self-test of their sense of value, using the widely recognized Rosenberg Self-Esteem Scale. They answer such questions as the above with Strongly Agree, Agree, Disagree, and Strongly Disagree, and they are given a scale to measure the results of their answer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tle of Book 11 is </a:t>
            </a:r>
            <a:r>
              <a:rPr b="0" i="1" lang="en-US" sz="1200" spc="-1" strike="noStrike">
                <a:solidFill>
                  <a:srgbClr val="000000"/>
                </a:solidFill>
                <a:latin typeface="Times New Roman"/>
              </a:rPr>
              <a:t>Developing Leadership Skills</a:t>
            </a:r>
            <a:r>
              <a:rPr b="0" lang="en-US" sz="1200" spc="-1" strike="noStrike">
                <a:solidFill>
                  <a:srgbClr val="000000"/>
                </a:solidFill>
                <a:latin typeface="Times New Roman"/>
              </a:rPr>
              <a:t>. It contains 17 original chapters on contemporary topics of interest to young people ages 16 to 17 years. It contains Questions for Reflection and Discussion to stimulate student thinking, as well as exercises and activities to help expand upon and engrain the knowledg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as a class, with the teacher’s guidance, students brainstorm and list good habits that make for better relationships and bad habits that harm relationship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ok Developing Leadership Skills and the accompanying teacher’s manual constitute training for life. The topics and activities are character-shaping, and they help stimulate discussion and reflection on meaningful life topics. They strengthen adolescents in the challenges they face, and they are enjoyable for students and teachers alike.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but a few of the topics covered: relationship and communication skills, preparation for marriage, nobility and altruism, citizenship, and environmental consciousn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s Manual gives advice and instruction on teaching character education from this particular series, including a section on what a balanced education is, teaching methods, course requirements and expectations and stimulating icebreakers that help set the stage for meaningful interactions between teacher and students and students and students. There are two lesson plans for each chapter, covering a 35-week school year.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education’s goals are to help students know the good in their heads, care about the good in their hearts, and do the good with their hands, or through their action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each chapter has cognitive, affective, and behavioral goals to educate the head, heart, and hand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first sample chapter is Chapter 3:  “Taking the Lead in Understanding Each Oth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points of the chapter are: 1. Listening to others is important, especially listening with a caring and concerned heart for what the other person is feeling. This is empathic listening. 2. People do not always voice their expectations, and the other person does not understand what is expected and may not live up to the expectations. 3. It is important to be aware of one’s own feelings so as to be able to voice them properly. 4.  The aim of communication is to promote a situation wherein both parties win—one doesn’t have to be the winner while the other is the loser.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gnitive objectives of “Taking the Lead in Understanding Each Other” are for students to understand the importance of listening well and understanding the viewpoints of other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E1D06-1432-4D41-AE99-E32B2806A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C0E27-B1D6-438C-905A-B21300FE7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3F074-8868-4259-8D30-B0AC0BC55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D0CC5-1FDD-4AA6-B804-773022CED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57CFA5-73FB-4B68-B9AF-DFA9A99429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D9B3F-FDFC-4B6F-A554-F6A1821FF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BEC29-3468-477D-8792-56C374143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F856F-E391-4652-B9F7-BEA04F956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8AEBB-A8EA-4630-8434-2520C1D7A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19476-EBF7-400E-B533-7CED7FEDA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DBAC0-7182-47F7-BB98-98A38E1E2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264F2-3361-4EE9-9F6B-7C4599267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E5A7C-7BF4-4973-AEE7-DB6ED2710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37854-F92E-4D4E-A500-B563B18A0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57809-6BDB-48E8-A28F-19EA51B61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945CCC-F11C-431F-8968-BF787AE65C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4D3FE5-0A03-468E-AC63-2E2501B0F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2965C-46EB-4DBD-8392-42FFF9235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D5074-7EF1-4367-9A94-17D3DDD17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29A71-C3C8-4D7E-A6E2-1E25FAA6A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63DA6-548B-4D3B-A332-51449F602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B5A5E-A79E-4907-A00F-BC9B2AE55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6CB9A-8B14-4699-A806-197FAEE5E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cc"/>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3AD4B-8B8F-46D5-A2D9-DF8D3A4DE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66"/>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Click to edit the title text format</a:t>
            </a:r>
            <a:endParaRPr b="0" lang="en-US" sz="4400" spc="-1" strike="noStrike">
              <a:solidFill>
                <a:srgbClr val="cc00cc"/>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1C8D-89C0-4FB8-A2AF-B33585B71839}" type="slidenum">
              <a:rPr b="0" lang="en-US" sz="1400" spc="-1" strike="noStrike">
                <a:solidFill>
                  <a:srgbClr val="ffff66"/>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66"/>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Click to edit the title text format</a:t>
            </a:r>
            <a:endParaRPr b="0" lang="en-US" sz="4400" spc="-1" strike="noStrike">
              <a:solidFill>
                <a:srgbClr val="cc00cc"/>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C520-7FF5-4207-809F-3705E098BE0C}" type="slidenum">
              <a:rPr b="0" lang="en-US" sz="1400" spc="-1" strike="noStrike">
                <a:solidFill>
                  <a:srgbClr val="ffff66"/>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econd Outline Level</a:t>
            </a:r>
            <a:endParaRPr b="0" lang="en-US" sz="2800" spc="-1" strike="noStrike">
              <a:solidFill>
                <a:srgbClr val="ffff66"/>
              </a:solidFill>
              <a:latin typeface="Times New Roman"/>
            </a:endParaRPr>
          </a:p>
          <a:p>
            <a:pPr lvl="2" marL="914400" algn="ctr">
              <a:spcBef>
                <a:spcPts val="601"/>
              </a:spcBef>
              <a:buClr>
                <a:srgbClr val="0099c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rd Outline Level</a:t>
            </a:r>
            <a:endParaRPr b="0" lang="en-US" sz="2400" spc="-1" strike="noStrike">
              <a:solidFill>
                <a:srgbClr val="ffff66"/>
              </a:solidFill>
              <a:latin typeface="Times New Roman"/>
            </a:endParaRPr>
          </a:p>
          <a:p>
            <a:pPr lvl="3" marL="1371600" algn="ctr">
              <a:spcBef>
                <a:spcPts val="499"/>
              </a:spcBef>
              <a:buClr>
                <a:srgbClr val="ffff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urth Outline Level</a:t>
            </a:r>
            <a:endParaRPr b="0" lang="en-US" sz="2000" spc="-1" strike="noStrike">
              <a:solidFill>
                <a:srgbClr val="ffff66"/>
              </a:solidFill>
              <a:latin typeface="Times New Roman"/>
            </a:endParaRPr>
          </a:p>
          <a:p>
            <a:pPr lvl="4" marL="1828800" algn="ctr">
              <a:spcBef>
                <a:spcPts val="499"/>
              </a:spcBef>
              <a:buClr>
                <a:srgbClr val="0099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ifth Outline Level</a:t>
            </a:r>
            <a:endParaRPr b="0" lang="en-US" sz="2000" spc="-1" strike="noStrike">
              <a:solidFill>
                <a:srgbClr val="ffff66"/>
              </a:solidFill>
              <a:latin typeface="Times New Roman"/>
            </a:endParaRPr>
          </a:p>
          <a:p>
            <a:pPr lvl="5" marL="1828800">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ixth Outline Level</a:t>
            </a:r>
            <a:endParaRPr b="0" lang="en-US" sz="2000" spc="-1" strike="noStrike">
              <a:solidFill>
                <a:srgbClr val="ffff66"/>
              </a:solidFill>
              <a:latin typeface="Times New Roman"/>
            </a:endParaRPr>
          </a:p>
          <a:p>
            <a:pPr lvl="6" marL="1828800">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eventh Outline Level</a:t>
            </a:r>
            <a:endParaRPr b="0" lang="en-US" sz="2000" spc="-1" strike="noStrike">
              <a:solidFill>
                <a:srgbClr val="ffff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6854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Teaching the </a:t>
            </a:r>
            <a:r>
              <a:rPr b="0" i="1" lang="en-US" sz="4400" spc="-1" strike="noStrike">
                <a:solidFill>
                  <a:srgbClr val="cc00cc"/>
                </a:solidFill>
                <a:latin typeface="Arial"/>
              </a:rPr>
              <a:t>Discovering the Real Me</a:t>
            </a:r>
            <a:r>
              <a:rPr b="0" lang="en-US" sz="4400" spc="-1" strike="noStrike">
                <a:solidFill>
                  <a:srgbClr val="cc00cc"/>
                </a:solidFill>
                <a:latin typeface="Arial"/>
              </a:rPr>
              <a:t> Series</a:t>
            </a:r>
            <a:endParaRPr b="0" lang="en-US" sz="4400" spc="-1" strike="noStrike">
              <a:solidFill>
                <a:srgbClr val="cc00cc"/>
              </a:solidFill>
              <a:latin typeface="Arial"/>
            </a:endParaRPr>
          </a:p>
        </p:txBody>
      </p:sp>
      <p:sp>
        <p:nvSpPr>
          <p:cNvPr id="96" name="PlaceHolder 2"/>
          <p:cNvSpPr>
            <a:spLocks noGrp="1"/>
          </p:cNvSpPr>
          <p:nvPr>
            <p:ph type="subTitle"/>
          </p:nvPr>
        </p:nvSpPr>
        <p:spPr>
          <a:xfrm>
            <a:off x="-914400" y="373392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1" lang="en-US" sz="3600" spc="-1" strike="noStrike">
                <a:solidFill>
                  <a:srgbClr val="ff9966"/>
                </a:solidFill>
                <a:latin typeface="Times New Roman"/>
              </a:rPr>
              <a:t>Teacher’s Manual 11</a:t>
            </a:r>
            <a:endParaRPr b="0" lang="en-US" sz="3600" spc="-1" strike="noStrike">
              <a:solidFill>
                <a:srgbClr val="ffff66"/>
              </a:solidFill>
              <a:latin typeface="Times New Roman"/>
            </a:endParaRPr>
          </a:p>
        </p:txBody>
      </p:sp>
      <p:sp>
        <p:nvSpPr>
          <p:cNvPr id="97" name=""/>
          <p:cNvSpPr/>
          <p:nvPr/>
        </p:nvSpPr>
        <p:spPr>
          <a:xfrm>
            <a:off x="4401360" y="2438280"/>
            <a:ext cx="474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Times New Roman"/>
              </a:rPr>
              <a:t>Student Textbook 11 &amp;</a:t>
            </a:r>
            <a:endParaRPr b="0" lang="en-US" sz="36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a:t>
            </a:r>
            <a:r>
              <a:rPr b="0" lang="en-US" sz="4400" spc="-1" strike="noStrike">
                <a:solidFill>
                  <a:srgbClr val="cc00cc"/>
                </a:solidFill>
                <a:latin typeface="Arial"/>
              </a:rPr>
              <a:t>Taking the Lead in Understanding Each Other”: Affective Objectives</a:t>
            </a:r>
            <a:endParaRPr b="0" lang="en-US" sz="4400" spc="-1" strike="noStrike">
              <a:solidFill>
                <a:srgbClr val="cc00cc"/>
              </a:solidFill>
              <a:latin typeface="Arial"/>
            </a:endParaRPr>
          </a:p>
        </p:txBody>
      </p:sp>
      <p:sp>
        <p:nvSpPr>
          <p:cNvPr id="244" name="PlaceHolder 2"/>
          <p:cNvSpPr>
            <a:spLocks noGrp="1"/>
          </p:cNvSpPr>
          <p:nvPr>
            <p:ph/>
          </p:nvPr>
        </p:nvSpPr>
        <p:spPr>
          <a:xfrm>
            <a:off x="4952880" y="2743200"/>
            <a:ext cx="381024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tudents will want to understand others more and to work and live more cooperatively</a:t>
            </a:r>
            <a:endParaRPr b="0" lang="en-US" sz="3200" spc="-1" strike="noStrike">
              <a:solidFill>
                <a:srgbClr val="ffff66"/>
              </a:solidFill>
              <a:latin typeface="Times New Roman"/>
            </a:endParaRPr>
          </a:p>
        </p:txBody>
      </p:sp>
      <p:sp>
        <p:nvSpPr>
          <p:cNvPr id="245" name=""/>
          <p:cNvSpPr/>
          <p:nvPr/>
        </p:nvSpPr>
        <p:spPr>
          <a:xfrm>
            <a:off x="1143000" y="2666880"/>
            <a:ext cx="3505320" cy="3353040"/>
          </a:xfrm>
          <a:custGeom>
            <a:avLst/>
            <a:gdLst>
              <a:gd name="textAreaLeft" fmla="*/ 823680 w 3505320"/>
              <a:gd name="textAreaRight" fmla="*/ 2679120 w 3505320"/>
              <a:gd name="textAreaTop" fmla="*/ 394200 h 3353040"/>
              <a:gd name="textAreaBottom" fmla="*/ 2103120 h 33530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99cc"/>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a:t>
            </a:r>
            <a:r>
              <a:rPr b="0" lang="en-US" sz="4400" spc="-1" strike="noStrike">
                <a:solidFill>
                  <a:srgbClr val="cc00cc"/>
                </a:solidFill>
                <a:latin typeface="Arial"/>
              </a:rPr>
              <a:t>Taking the Lead in Understanding Each Other”: Behavioral Objectives</a:t>
            </a:r>
            <a:endParaRPr b="0" lang="en-US" sz="4400" spc="-1" strike="noStrike">
              <a:solidFill>
                <a:srgbClr val="cc00cc"/>
              </a:solidFill>
              <a:latin typeface="Arial"/>
            </a:endParaRPr>
          </a:p>
        </p:txBody>
      </p:sp>
      <p:sp>
        <p:nvSpPr>
          <p:cNvPr id="247" name="PlaceHolder 2"/>
          <p:cNvSpPr>
            <a:spLocks noGrp="1"/>
          </p:cNvSpPr>
          <p:nvPr>
            <p:ph/>
          </p:nvPr>
        </p:nvSpPr>
        <p:spPr>
          <a:xfrm>
            <a:off x="685440" y="2743200"/>
            <a:ext cx="380988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tudents will listen better to others, with more perception and understanding</a:t>
            </a:r>
            <a:endParaRPr b="0" lang="en-US" sz="3200" spc="-1" strike="noStrike">
              <a:solidFill>
                <a:srgbClr val="ffff66"/>
              </a:solidFill>
              <a:latin typeface="Times New Roman"/>
            </a:endParaRPr>
          </a:p>
        </p:txBody>
      </p:sp>
      <p:pic>
        <p:nvPicPr>
          <p:cNvPr id="248" name="" descr=""/>
          <p:cNvPicPr/>
          <p:nvPr/>
        </p:nvPicPr>
        <p:blipFill>
          <a:blip r:embed="rId1"/>
          <a:stretch/>
        </p:blipFill>
        <p:spPr>
          <a:xfrm>
            <a:off x="4876920" y="3048120"/>
            <a:ext cx="358128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Lesson Plan—Activity</a:t>
            </a:r>
            <a:endParaRPr b="0" lang="en-US" sz="4400" spc="-1" strike="noStrike">
              <a:solidFill>
                <a:srgbClr val="cc00cc"/>
              </a:solidFill>
              <a:latin typeface="Arial"/>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tudents pair up</a:t>
            </a:r>
            <a:endParaRPr b="0" lang="en-US" sz="3200" spc="-1" strike="noStrike">
              <a:solidFill>
                <a:srgbClr val="ffff66"/>
              </a:solidFill>
              <a:latin typeface="Times New Roman"/>
            </a:endParaRPr>
          </a:p>
          <a:p>
            <a:pPr marL="343080" indent="-34308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One student wears a blindfold</a:t>
            </a:r>
            <a:endParaRPr b="0" lang="en-US" sz="3200" spc="-1" strike="noStrike">
              <a:solidFill>
                <a:srgbClr val="ffff66"/>
              </a:solidFill>
              <a:latin typeface="Times New Roman"/>
            </a:endParaRPr>
          </a:p>
          <a:p>
            <a:pPr marL="343080" indent="-34308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e other student guides him or her to walk around, sit down on a chair, sit down on the floor safely, communicating clearly and carefully</a:t>
            </a:r>
            <a:endParaRPr b="0" lang="en-US" sz="3200" spc="-1" strike="noStrike">
              <a:solidFill>
                <a:srgbClr val="ffff66"/>
              </a:solidFill>
              <a:latin typeface="Times New Roman"/>
            </a:endParaRPr>
          </a:p>
          <a:p>
            <a:pPr marL="343080" indent="-34308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nce we are “blind” to others’ feelings, we must communicate clearly and carefully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Lesson Plan</a:t>
            </a:r>
            <a:r>
              <a:rPr b="0" lang="en-US" sz="4400" spc="-1" strike="noStrike">
                <a:solidFill>
                  <a:srgbClr val="cc00cc"/>
                </a:solidFill>
                <a:latin typeface="Arial"/>
                <a:ea typeface="Arial"/>
              </a:rPr>
              <a:t>—</a:t>
            </a:r>
            <a:r>
              <a:rPr b="0" lang="en-US" sz="4400" spc="-1" strike="noStrike">
                <a:solidFill>
                  <a:srgbClr val="cc00cc"/>
                </a:solidFill>
                <a:latin typeface="Arial"/>
              </a:rPr>
              <a:t>Role-Play</a:t>
            </a:r>
            <a:endParaRPr b="0" lang="en-US" sz="4400" spc="-1" strike="noStrike">
              <a:solidFill>
                <a:srgbClr val="cc00cc"/>
              </a:solidFill>
              <a:latin typeface="Arial"/>
            </a:endParaRPr>
          </a:p>
        </p:txBody>
      </p:sp>
      <p:sp>
        <p:nvSpPr>
          <p:cNvPr id="252" name="PlaceHolder 2"/>
          <p:cNvSpPr>
            <a:spLocks noGrp="1"/>
          </p:cNvSpPr>
          <p:nvPr>
            <p:ph/>
          </p:nvPr>
        </p:nvSpPr>
        <p:spPr>
          <a:xfrm>
            <a:off x="228240" y="1447560"/>
            <a:ext cx="434340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tudents role-play common communication scenarios</a:t>
            </a:r>
            <a:endParaRPr b="0" lang="en-US" sz="3200" spc="-1" strike="noStrike">
              <a:solidFill>
                <a:srgbClr val="ffff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Example: Carl and Peter are good friends, but they are always at Peter’s house. Peter wants to go to Carl’s house. What should Peter say?</a:t>
            </a:r>
            <a:endParaRPr b="0" lang="en-US" sz="3200" spc="-1" strike="noStrike">
              <a:solidFill>
                <a:srgbClr val="ffff66"/>
              </a:solidFill>
              <a:latin typeface="Times New Roman"/>
            </a:endParaRPr>
          </a:p>
        </p:txBody>
      </p:sp>
      <p:pic>
        <p:nvPicPr>
          <p:cNvPr id="253" name="" descr=""/>
          <p:cNvPicPr/>
          <p:nvPr/>
        </p:nvPicPr>
        <p:blipFill>
          <a:blip r:embed="rId1"/>
          <a:stretch/>
        </p:blipFill>
        <p:spPr>
          <a:xfrm>
            <a:off x="4648320" y="1752480"/>
            <a:ext cx="3809880" cy="392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Sample Chapter 4: “Relationship Skills”</a:t>
            </a:r>
            <a:endParaRPr b="0" lang="en-US" sz="4400" spc="-1" strike="noStrike">
              <a:solidFill>
                <a:srgbClr val="cc00cc"/>
              </a:solidFill>
              <a:latin typeface="Arial"/>
            </a:endParaRPr>
          </a:p>
        </p:txBody>
      </p:sp>
      <p:sp>
        <p:nvSpPr>
          <p:cNvPr id="255"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256" name=""/>
          <p:cNvSpPr/>
          <p:nvPr/>
        </p:nvSpPr>
        <p:spPr>
          <a:xfrm>
            <a:off x="1981080" y="2440080"/>
            <a:ext cx="4672080" cy="3633840"/>
          </a:xfrm>
          <a:custGeom>
            <a:avLst/>
            <a:gdLst/>
            <a:ahLst/>
            <a:rect l="l" t="t" r="r" b="b"/>
            <a:pathLst>
              <a:path w="5886" h="4578">
                <a:moveTo>
                  <a:pt x="252" y="4"/>
                </a:moveTo>
                <a:lnTo>
                  <a:pt x="1197" y="10"/>
                </a:lnTo>
                <a:lnTo>
                  <a:pt x="1214" y="0"/>
                </a:lnTo>
                <a:lnTo>
                  <a:pt x="1340" y="0"/>
                </a:lnTo>
                <a:lnTo>
                  <a:pt x="1327" y="0"/>
                </a:lnTo>
                <a:lnTo>
                  <a:pt x="1321" y="4"/>
                </a:lnTo>
                <a:lnTo>
                  <a:pt x="1569" y="10"/>
                </a:lnTo>
                <a:lnTo>
                  <a:pt x="1573" y="4"/>
                </a:lnTo>
                <a:lnTo>
                  <a:pt x="1579" y="0"/>
                </a:lnTo>
                <a:lnTo>
                  <a:pt x="1592" y="0"/>
                </a:lnTo>
                <a:lnTo>
                  <a:pt x="1592" y="4"/>
                </a:lnTo>
                <a:lnTo>
                  <a:pt x="3037" y="10"/>
                </a:lnTo>
                <a:lnTo>
                  <a:pt x="3043" y="4"/>
                </a:lnTo>
                <a:lnTo>
                  <a:pt x="3053" y="0"/>
                </a:lnTo>
                <a:lnTo>
                  <a:pt x="3066" y="0"/>
                </a:lnTo>
                <a:lnTo>
                  <a:pt x="3066" y="4"/>
                </a:lnTo>
                <a:lnTo>
                  <a:pt x="4086" y="10"/>
                </a:lnTo>
                <a:lnTo>
                  <a:pt x="4090" y="0"/>
                </a:lnTo>
                <a:lnTo>
                  <a:pt x="4106" y="0"/>
                </a:lnTo>
                <a:lnTo>
                  <a:pt x="4106" y="4"/>
                </a:lnTo>
                <a:lnTo>
                  <a:pt x="4856" y="10"/>
                </a:lnTo>
                <a:lnTo>
                  <a:pt x="4860" y="4"/>
                </a:lnTo>
                <a:lnTo>
                  <a:pt x="4866" y="0"/>
                </a:lnTo>
                <a:lnTo>
                  <a:pt x="4881" y="0"/>
                </a:lnTo>
                <a:lnTo>
                  <a:pt x="4881" y="4"/>
                </a:lnTo>
                <a:lnTo>
                  <a:pt x="5870" y="10"/>
                </a:lnTo>
                <a:lnTo>
                  <a:pt x="5870" y="1450"/>
                </a:lnTo>
                <a:lnTo>
                  <a:pt x="5882" y="1460"/>
                </a:lnTo>
                <a:lnTo>
                  <a:pt x="5886" y="1460"/>
                </a:lnTo>
                <a:lnTo>
                  <a:pt x="5870" y="1487"/>
                </a:lnTo>
                <a:lnTo>
                  <a:pt x="5870" y="4572"/>
                </a:lnTo>
                <a:lnTo>
                  <a:pt x="1055" y="4578"/>
                </a:lnTo>
                <a:lnTo>
                  <a:pt x="12" y="4578"/>
                </a:lnTo>
                <a:lnTo>
                  <a:pt x="12" y="3903"/>
                </a:lnTo>
                <a:lnTo>
                  <a:pt x="6" y="3899"/>
                </a:lnTo>
                <a:lnTo>
                  <a:pt x="0" y="3890"/>
                </a:lnTo>
                <a:lnTo>
                  <a:pt x="0" y="3876"/>
                </a:lnTo>
                <a:lnTo>
                  <a:pt x="6" y="3876"/>
                </a:lnTo>
                <a:lnTo>
                  <a:pt x="12" y="10"/>
                </a:lnTo>
                <a:lnTo>
                  <a:pt x="229" y="10"/>
                </a:lnTo>
                <a:lnTo>
                  <a:pt x="233" y="0"/>
                </a:lnTo>
                <a:lnTo>
                  <a:pt x="252" y="0"/>
                </a:lnTo>
                <a:lnTo>
                  <a:pt x="25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57" name=""/>
          <p:cNvSpPr/>
          <p:nvPr/>
        </p:nvSpPr>
        <p:spPr>
          <a:xfrm>
            <a:off x="2016000" y="2473200"/>
            <a:ext cx="149400" cy="3025800"/>
          </a:xfrm>
          <a:custGeom>
            <a:avLst/>
            <a:gdLst/>
            <a:ahLst/>
            <a:rect l="l" t="t" r="r" b="b"/>
            <a:pathLst>
              <a:path w="188" h="3812">
                <a:moveTo>
                  <a:pt x="184" y="226"/>
                </a:moveTo>
                <a:lnTo>
                  <a:pt x="178" y="318"/>
                </a:lnTo>
                <a:lnTo>
                  <a:pt x="188" y="329"/>
                </a:lnTo>
                <a:lnTo>
                  <a:pt x="184" y="329"/>
                </a:lnTo>
                <a:lnTo>
                  <a:pt x="178" y="488"/>
                </a:lnTo>
                <a:lnTo>
                  <a:pt x="174" y="705"/>
                </a:lnTo>
                <a:lnTo>
                  <a:pt x="174" y="932"/>
                </a:lnTo>
                <a:lnTo>
                  <a:pt x="164" y="1006"/>
                </a:lnTo>
                <a:lnTo>
                  <a:pt x="164" y="1097"/>
                </a:lnTo>
                <a:lnTo>
                  <a:pt x="159" y="1223"/>
                </a:lnTo>
                <a:lnTo>
                  <a:pt x="159" y="1262"/>
                </a:lnTo>
                <a:lnTo>
                  <a:pt x="155" y="1562"/>
                </a:lnTo>
                <a:lnTo>
                  <a:pt x="139" y="1871"/>
                </a:lnTo>
                <a:lnTo>
                  <a:pt x="130" y="2069"/>
                </a:lnTo>
                <a:lnTo>
                  <a:pt x="120" y="2340"/>
                </a:lnTo>
                <a:lnTo>
                  <a:pt x="120" y="2418"/>
                </a:lnTo>
                <a:lnTo>
                  <a:pt x="110" y="3024"/>
                </a:lnTo>
                <a:lnTo>
                  <a:pt x="106" y="3711"/>
                </a:lnTo>
                <a:lnTo>
                  <a:pt x="102" y="3711"/>
                </a:lnTo>
                <a:lnTo>
                  <a:pt x="106" y="3736"/>
                </a:lnTo>
                <a:lnTo>
                  <a:pt x="120" y="3750"/>
                </a:lnTo>
                <a:lnTo>
                  <a:pt x="130" y="3750"/>
                </a:lnTo>
                <a:lnTo>
                  <a:pt x="67" y="3779"/>
                </a:lnTo>
                <a:lnTo>
                  <a:pt x="54" y="3794"/>
                </a:lnTo>
                <a:lnTo>
                  <a:pt x="5" y="3808"/>
                </a:lnTo>
                <a:lnTo>
                  <a:pt x="0" y="3812"/>
                </a:lnTo>
                <a:lnTo>
                  <a:pt x="0" y="0"/>
                </a:lnTo>
                <a:lnTo>
                  <a:pt x="184" y="0"/>
                </a:lnTo>
                <a:lnTo>
                  <a:pt x="184" y="226"/>
                </a:lnTo>
                <a:close/>
              </a:path>
            </a:pathLst>
          </a:custGeom>
          <a:solidFill>
            <a:srgbClr val="5e99a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58" name=""/>
          <p:cNvSpPr/>
          <p:nvPr/>
        </p:nvSpPr>
        <p:spPr>
          <a:xfrm>
            <a:off x="2124000" y="2473200"/>
            <a:ext cx="1154160" cy="2968920"/>
          </a:xfrm>
          <a:custGeom>
            <a:avLst/>
            <a:gdLst/>
            <a:ahLst/>
            <a:rect l="l" t="t" r="r" b="b"/>
            <a:pathLst>
              <a:path w="1455" h="3740">
                <a:moveTo>
                  <a:pt x="638" y="44"/>
                </a:moveTo>
                <a:lnTo>
                  <a:pt x="363" y="97"/>
                </a:lnTo>
                <a:lnTo>
                  <a:pt x="227" y="116"/>
                </a:lnTo>
                <a:lnTo>
                  <a:pt x="202" y="130"/>
                </a:lnTo>
                <a:lnTo>
                  <a:pt x="198" y="145"/>
                </a:lnTo>
                <a:lnTo>
                  <a:pt x="208" y="155"/>
                </a:lnTo>
                <a:lnTo>
                  <a:pt x="272" y="139"/>
                </a:lnTo>
                <a:lnTo>
                  <a:pt x="276" y="139"/>
                </a:lnTo>
                <a:lnTo>
                  <a:pt x="369" y="126"/>
                </a:lnTo>
                <a:lnTo>
                  <a:pt x="594" y="81"/>
                </a:lnTo>
                <a:lnTo>
                  <a:pt x="642" y="71"/>
                </a:lnTo>
                <a:lnTo>
                  <a:pt x="739" y="54"/>
                </a:lnTo>
                <a:lnTo>
                  <a:pt x="920" y="13"/>
                </a:lnTo>
                <a:lnTo>
                  <a:pt x="982" y="0"/>
                </a:lnTo>
                <a:lnTo>
                  <a:pt x="1389" y="0"/>
                </a:lnTo>
                <a:lnTo>
                  <a:pt x="1383" y="479"/>
                </a:lnTo>
                <a:lnTo>
                  <a:pt x="1373" y="498"/>
                </a:lnTo>
                <a:lnTo>
                  <a:pt x="1247" y="579"/>
                </a:lnTo>
                <a:lnTo>
                  <a:pt x="1238" y="579"/>
                </a:lnTo>
                <a:lnTo>
                  <a:pt x="1230" y="550"/>
                </a:lnTo>
                <a:lnTo>
                  <a:pt x="1117" y="449"/>
                </a:lnTo>
                <a:lnTo>
                  <a:pt x="1040" y="407"/>
                </a:lnTo>
                <a:lnTo>
                  <a:pt x="924" y="397"/>
                </a:lnTo>
                <a:lnTo>
                  <a:pt x="856" y="411"/>
                </a:lnTo>
                <a:lnTo>
                  <a:pt x="662" y="575"/>
                </a:lnTo>
                <a:lnTo>
                  <a:pt x="623" y="628"/>
                </a:lnTo>
                <a:lnTo>
                  <a:pt x="615" y="667"/>
                </a:lnTo>
                <a:lnTo>
                  <a:pt x="604" y="779"/>
                </a:lnTo>
                <a:lnTo>
                  <a:pt x="571" y="837"/>
                </a:lnTo>
                <a:lnTo>
                  <a:pt x="532" y="861"/>
                </a:lnTo>
                <a:lnTo>
                  <a:pt x="460" y="866"/>
                </a:lnTo>
                <a:lnTo>
                  <a:pt x="454" y="905"/>
                </a:lnTo>
                <a:lnTo>
                  <a:pt x="454" y="919"/>
                </a:lnTo>
                <a:lnTo>
                  <a:pt x="493" y="954"/>
                </a:lnTo>
                <a:lnTo>
                  <a:pt x="526" y="961"/>
                </a:lnTo>
                <a:lnTo>
                  <a:pt x="448" y="1068"/>
                </a:lnTo>
                <a:lnTo>
                  <a:pt x="439" y="1132"/>
                </a:lnTo>
                <a:lnTo>
                  <a:pt x="439" y="1151"/>
                </a:lnTo>
                <a:lnTo>
                  <a:pt x="448" y="1161"/>
                </a:lnTo>
                <a:lnTo>
                  <a:pt x="532" y="1126"/>
                </a:lnTo>
                <a:lnTo>
                  <a:pt x="555" y="1126"/>
                </a:lnTo>
                <a:lnTo>
                  <a:pt x="512" y="1190"/>
                </a:lnTo>
                <a:lnTo>
                  <a:pt x="444" y="1268"/>
                </a:lnTo>
                <a:lnTo>
                  <a:pt x="415" y="1330"/>
                </a:lnTo>
                <a:lnTo>
                  <a:pt x="392" y="1444"/>
                </a:lnTo>
                <a:lnTo>
                  <a:pt x="402" y="1504"/>
                </a:lnTo>
                <a:lnTo>
                  <a:pt x="435" y="1504"/>
                </a:lnTo>
                <a:lnTo>
                  <a:pt x="522" y="1421"/>
                </a:lnTo>
                <a:lnTo>
                  <a:pt x="493" y="1528"/>
                </a:lnTo>
                <a:lnTo>
                  <a:pt x="503" y="1576"/>
                </a:lnTo>
                <a:lnTo>
                  <a:pt x="532" y="1595"/>
                </a:lnTo>
                <a:lnTo>
                  <a:pt x="580" y="1572"/>
                </a:lnTo>
                <a:lnTo>
                  <a:pt x="594" y="1572"/>
                </a:lnTo>
                <a:lnTo>
                  <a:pt x="600" y="1566"/>
                </a:lnTo>
                <a:lnTo>
                  <a:pt x="600" y="1615"/>
                </a:lnTo>
                <a:lnTo>
                  <a:pt x="590" y="1673"/>
                </a:lnTo>
                <a:lnTo>
                  <a:pt x="615" y="1778"/>
                </a:lnTo>
                <a:lnTo>
                  <a:pt x="638" y="1818"/>
                </a:lnTo>
                <a:lnTo>
                  <a:pt x="652" y="1818"/>
                </a:lnTo>
                <a:lnTo>
                  <a:pt x="697" y="1760"/>
                </a:lnTo>
                <a:lnTo>
                  <a:pt x="730" y="1861"/>
                </a:lnTo>
                <a:lnTo>
                  <a:pt x="755" y="1880"/>
                </a:lnTo>
                <a:lnTo>
                  <a:pt x="797" y="1867"/>
                </a:lnTo>
                <a:lnTo>
                  <a:pt x="823" y="1842"/>
                </a:lnTo>
                <a:lnTo>
                  <a:pt x="840" y="1871"/>
                </a:lnTo>
                <a:lnTo>
                  <a:pt x="865" y="1939"/>
                </a:lnTo>
                <a:lnTo>
                  <a:pt x="871" y="1977"/>
                </a:lnTo>
                <a:lnTo>
                  <a:pt x="871" y="2059"/>
                </a:lnTo>
                <a:lnTo>
                  <a:pt x="856" y="2094"/>
                </a:lnTo>
                <a:lnTo>
                  <a:pt x="856" y="2098"/>
                </a:lnTo>
                <a:lnTo>
                  <a:pt x="865" y="2107"/>
                </a:lnTo>
                <a:lnTo>
                  <a:pt x="910" y="2088"/>
                </a:lnTo>
                <a:lnTo>
                  <a:pt x="1005" y="1962"/>
                </a:lnTo>
                <a:lnTo>
                  <a:pt x="1034" y="1867"/>
                </a:lnTo>
                <a:lnTo>
                  <a:pt x="1050" y="1838"/>
                </a:lnTo>
                <a:lnTo>
                  <a:pt x="1059" y="1805"/>
                </a:lnTo>
                <a:lnTo>
                  <a:pt x="1084" y="1805"/>
                </a:lnTo>
                <a:lnTo>
                  <a:pt x="1133" y="1857"/>
                </a:lnTo>
                <a:lnTo>
                  <a:pt x="1156" y="1851"/>
                </a:lnTo>
                <a:lnTo>
                  <a:pt x="1195" y="1764"/>
                </a:lnTo>
                <a:lnTo>
                  <a:pt x="1214" y="1712"/>
                </a:lnTo>
                <a:lnTo>
                  <a:pt x="1218" y="1708"/>
                </a:lnTo>
                <a:lnTo>
                  <a:pt x="1263" y="1745"/>
                </a:lnTo>
                <a:lnTo>
                  <a:pt x="1276" y="1741"/>
                </a:lnTo>
                <a:lnTo>
                  <a:pt x="1354" y="1793"/>
                </a:lnTo>
                <a:lnTo>
                  <a:pt x="1389" y="1842"/>
                </a:lnTo>
                <a:lnTo>
                  <a:pt x="1393" y="1867"/>
                </a:lnTo>
                <a:lnTo>
                  <a:pt x="1403" y="1880"/>
                </a:lnTo>
                <a:lnTo>
                  <a:pt x="1455" y="2098"/>
                </a:lnTo>
                <a:lnTo>
                  <a:pt x="1445" y="2133"/>
                </a:lnTo>
                <a:lnTo>
                  <a:pt x="1370" y="2220"/>
                </a:lnTo>
                <a:lnTo>
                  <a:pt x="1325" y="2247"/>
                </a:lnTo>
                <a:lnTo>
                  <a:pt x="1286" y="2272"/>
                </a:lnTo>
                <a:lnTo>
                  <a:pt x="1209" y="2297"/>
                </a:lnTo>
                <a:lnTo>
                  <a:pt x="1133" y="2350"/>
                </a:lnTo>
                <a:lnTo>
                  <a:pt x="920" y="2437"/>
                </a:lnTo>
                <a:lnTo>
                  <a:pt x="879" y="2460"/>
                </a:lnTo>
                <a:lnTo>
                  <a:pt x="832" y="2482"/>
                </a:lnTo>
                <a:lnTo>
                  <a:pt x="778" y="2528"/>
                </a:lnTo>
                <a:lnTo>
                  <a:pt x="704" y="2650"/>
                </a:lnTo>
                <a:lnTo>
                  <a:pt x="677" y="2728"/>
                </a:lnTo>
                <a:lnTo>
                  <a:pt x="671" y="2741"/>
                </a:lnTo>
                <a:lnTo>
                  <a:pt x="648" y="2776"/>
                </a:lnTo>
                <a:lnTo>
                  <a:pt x="619" y="2895"/>
                </a:lnTo>
                <a:lnTo>
                  <a:pt x="586" y="3166"/>
                </a:lnTo>
                <a:lnTo>
                  <a:pt x="590" y="3412"/>
                </a:lnTo>
                <a:lnTo>
                  <a:pt x="545" y="3451"/>
                </a:lnTo>
                <a:lnTo>
                  <a:pt x="464" y="3490"/>
                </a:lnTo>
                <a:lnTo>
                  <a:pt x="262" y="3610"/>
                </a:lnTo>
                <a:lnTo>
                  <a:pt x="101" y="3701"/>
                </a:lnTo>
                <a:lnTo>
                  <a:pt x="39" y="3726"/>
                </a:lnTo>
                <a:lnTo>
                  <a:pt x="24" y="3740"/>
                </a:lnTo>
                <a:lnTo>
                  <a:pt x="4" y="3740"/>
                </a:lnTo>
                <a:lnTo>
                  <a:pt x="16" y="3726"/>
                </a:lnTo>
                <a:lnTo>
                  <a:pt x="0" y="3678"/>
                </a:lnTo>
                <a:lnTo>
                  <a:pt x="0" y="2982"/>
                </a:lnTo>
                <a:lnTo>
                  <a:pt x="10" y="2658"/>
                </a:lnTo>
                <a:lnTo>
                  <a:pt x="20" y="2224"/>
                </a:lnTo>
                <a:lnTo>
                  <a:pt x="24" y="2059"/>
                </a:lnTo>
                <a:lnTo>
                  <a:pt x="24" y="2030"/>
                </a:lnTo>
                <a:lnTo>
                  <a:pt x="39" y="1764"/>
                </a:lnTo>
                <a:lnTo>
                  <a:pt x="53" y="1320"/>
                </a:lnTo>
                <a:lnTo>
                  <a:pt x="59" y="1029"/>
                </a:lnTo>
                <a:lnTo>
                  <a:pt x="72" y="638"/>
                </a:lnTo>
                <a:lnTo>
                  <a:pt x="78" y="0"/>
                </a:lnTo>
                <a:lnTo>
                  <a:pt x="840" y="0"/>
                </a:lnTo>
                <a:lnTo>
                  <a:pt x="638" y="44"/>
                </a:lnTo>
                <a:close/>
              </a:path>
            </a:pathLst>
          </a:custGeom>
          <a:solidFill>
            <a:srgbClr val="5e99a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59" name=""/>
          <p:cNvSpPr/>
          <p:nvPr/>
        </p:nvSpPr>
        <p:spPr>
          <a:xfrm>
            <a:off x="3249720" y="2473200"/>
            <a:ext cx="1146240" cy="2016360"/>
          </a:xfrm>
          <a:custGeom>
            <a:avLst/>
            <a:gdLst/>
            <a:ahLst/>
            <a:rect l="l" t="t" r="r" b="b"/>
            <a:pathLst>
              <a:path w="1445" h="2540">
                <a:moveTo>
                  <a:pt x="1439" y="366"/>
                </a:moveTo>
                <a:lnTo>
                  <a:pt x="1429" y="498"/>
                </a:lnTo>
                <a:lnTo>
                  <a:pt x="1410" y="1039"/>
                </a:lnTo>
                <a:lnTo>
                  <a:pt x="1396" y="1295"/>
                </a:lnTo>
                <a:lnTo>
                  <a:pt x="1387" y="1355"/>
                </a:lnTo>
                <a:lnTo>
                  <a:pt x="1387" y="1403"/>
                </a:lnTo>
                <a:lnTo>
                  <a:pt x="1371" y="1692"/>
                </a:lnTo>
                <a:lnTo>
                  <a:pt x="1358" y="1818"/>
                </a:lnTo>
                <a:lnTo>
                  <a:pt x="1358" y="1861"/>
                </a:lnTo>
                <a:lnTo>
                  <a:pt x="1329" y="2262"/>
                </a:lnTo>
                <a:lnTo>
                  <a:pt x="1305" y="2482"/>
                </a:lnTo>
                <a:lnTo>
                  <a:pt x="1299" y="2534"/>
                </a:lnTo>
                <a:lnTo>
                  <a:pt x="1296" y="2540"/>
                </a:lnTo>
                <a:lnTo>
                  <a:pt x="1179" y="2433"/>
                </a:lnTo>
                <a:lnTo>
                  <a:pt x="1102" y="2398"/>
                </a:lnTo>
                <a:lnTo>
                  <a:pt x="981" y="2369"/>
                </a:lnTo>
                <a:lnTo>
                  <a:pt x="865" y="2325"/>
                </a:lnTo>
                <a:lnTo>
                  <a:pt x="723" y="2272"/>
                </a:lnTo>
                <a:lnTo>
                  <a:pt x="646" y="2189"/>
                </a:lnTo>
                <a:lnTo>
                  <a:pt x="623" y="2156"/>
                </a:lnTo>
                <a:lnTo>
                  <a:pt x="603" y="2098"/>
                </a:lnTo>
                <a:lnTo>
                  <a:pt x="613" y="2055"/>
                </a:lnTo>
                <a:lnTo>
                  <a:pt x="623" y="2030"/>
                </a:lnTo>
                <a:lnTo>
                  <a:pt x="716" y="1952"/>
                </a:lnTo>
                <a:lnTo>
                  <a:pt x="791" y="1832"/>
                </a:lnTo>
                <a:lnTo>
                  <a:pt x="836" y="1756"/>
                </a:lnTo>
                <a:lnTo>
                  <a:pt x="836" y="1741"/>
                </a:lnTo>
                <a:lnTo>
                  <a:pt x="879" y="1721"/>
                </a:lnTo>
                <a:lnTo>
                  <a:pt x="946" y="1605"/>
                </a:lnTo>
                <a:lnTo>
                  <a:pt x="976" y="1572"/>
                </a:lnTo>
                <a:lnTo>
                  <a:pt x="989" y="1531"/>
                </a:lnTo>
                <a:lnTo>
                  <a:pt x="985" y="1485"/>
                </a:lnTo>
                <a:lnTo>
                  <a:pt x="981" y="1479"/>
                </a:lnTo>
                <a:lnTo>
                  <a:pt x="970" y="1436"/>
                </a:lnTo>
                <a:lnTo>
                  <a:pt x="999" y="1431"/>
                </a:lnTo>
                <a:lnTo>
                  <a:pt x="1024" y="1403"/>
                </a:lnTo>
                <a:lnTo>
                  <a:pt x="1024" y="1378"/>
                </a:lnTo>
                <a:lnTo>
                  <a:pt x="970" y="1307"/>
                </a:lnTo>
                <a:lnTo>
                  <a:pt x="970" y="1295"/>
                </a:lnTo>
                <a:lnTo>
                  <a:pt x="1034" y="1258"/>
                </a:lnTo>
                <a:lnTo>
                  <a:pt x="1034" y="1252"/>
                </a:lnTo>
                <a:lnTo>
                  <a:pt x="1043" y="1243"/>
                </a:lnTo>
                <a:lnTo>
                  <a:pt x="1014" y="1219"/>
                </a:lnTo>
                <a:lnTo>
                  <a:pt x="981" y="1179"/>
                </a:lnTo>
                <a:lnTo>
                  <a:pt x="962" y="1142"/>
                </a:lnTo>
                <a:lnTo>
                  <a:pt x="962" y="1078"/>
                </a:lnTo>
                <a:lnTo>
                  <a:pt x="970" y="1012"/>
                </a:lnTo>
                <a:lnTo>
                  <a:pt x="995" y="925"/>
                </a:lnTo>
                <a:lnTo>
                  <a:pt x="985" y="857"/>
                </a:lnTo>
                <a:lnTo>
                  <a:pt x="946" y="783"/>
                </a:lnTo>
                <a:lnTo>
                  <a:pt x="962" y="731"/>
                </a:lnTo>
                <a:lnTo>
                  <a:pt x="976" y="715"/>
                </a:lnTo>
                <a:lnTo>
                  <a:pt x="981" y="628"/>
                </a:lnTo>
                <a:lnTo>
                  <a:pt x="999" y="492"/>
                </a:lnTo>
                <a:lnTo>
                  <a:pt x="989" y="449"/>
                </a:lnTo>
                <a:lnTo>
                  <a:pt x="933" y="397"/>
                </a:lnTo>
                <a:lnTo>
                  <a:pt x="888" y="366"/>
                </a:lnTo>
                <a:lnTo>
                  <a:pt x="879" y="358"/>
                </a:lnTo>
                <a:lnTo>
                  <a:pt x="923" y="285"/>
                </a:lnTo>
                <a:lnTo>
                  <a:pt x="917" y="236"/>
                </a:lnTo>
                <a:lnTo>
                  <a:pt x="879" y="194"/>
                </a:lnTo>
                <a:lnTo>
                  <a:pt x="782" y="194"/>
                </a:lnTo>
                <a:lnTo>
                  <a:pt x="764" y="182"/>
                </a:lnTo>
                <a:lnTo>
                  <a:pt x="710" y="145"/>
                </a:lnTo>
                <a:lnTo>
                  <a:pt x="613" y="145"/>
                </a:lnTo>
                <a:lnTo>
                  <a:pt x="535" y="174"/>
                </a:lnTo>
                <a:lnTo>
                  <a:pt x="497" y="217"/>
                </a:lnTo>
                <a:lnTo>
                  <a:pt x="429" y="236"/>
                </a:lnTo>
                <a:lnTo>
                  <a:pt x="396" y="265"/>
                </a:lnTo>
                <a:lnTo>
                  <a:pt x="341" y="333"/>
                </a:lnTo>
                <a:lnTo>
                  <a:pt x="337" y="349"/>
                </a:lnTo>
                <a:lnTo>
                  <a:pt x="318" y="420"/>
                </a:lnTo>
                <a:lnTo>
                  <a:pt x="322" y="440"/>
                </a:lnTo>
                <a:lnTo>
                  <a:pt x="322" y="455"/>
                </a:lnTo>
                <a:lnTo>
                  <a:pt x="153" y="446"/>
                </a:lnTo>
                <a:lnTo>
                  <a:pt x="14" y="473"/>
                </a:lnTo>
                <a:lnTo>
                  <a:pt x="10" y="479"/>
                </a:lnTo>
                <a:lnTo>
                  <a:pt x="0" y="446"/>
                </a:lnTo>
                <a:lnTo>
                  <a:pt x="0" y="0"/>
                </a:lnTo>
                <a:lnTo>
                  <a:pt x="1445" y="0"/>
                </a:lnTo>
                <a:lnTo>
                  <a:pt x="1439" y="366"/>
                </a:lnTo>
                <a:close/>
              </a:path>
            </a:pathLst>
          </a:custGeom>
          <a:solidFill>
            <a:srgbClr val="5e99a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60" name=""/>
          <p:cNvSpPr/>
          <p:nvPr/>
        </p:nvSpPr>
        <p:spPr>
          <a:xfrm>
            <a:off x="4303800" y="2473200"/>
            <a:ext cx="912600" cy="2130480"/>
          </a:xfrm>
          <a:custGeom>
            <a:avLst/>
            <a:gdLst/>
            <a:ahLst/>
            <a:rect l="l" t="t" r="r" b="b"/>
            <a:pathLst>
              <a:path w="1150" h="2683">
                <a:moveTo>
                  <a:pt x="1150" y="130"/>
                </a:moveTo>
                <a:lnTo>
                  <a:pt x="1146" y="362"/>
                </a:lnTo>
                <a:lnTo>
                  <a:pt x="1134" y="492"/>
                </a:lnTo>
                <a:lnTo>
                  <a:pt x="1033" y="570"/>
                </a:lnTo>
                <a:lnTo>
                  <a:pt x="991" y="643"/>
                </a:lnTo>
                <a:lnTo>
                  <a:pt x="971" y="702"/>
                </a:lnTo>
                <a:lnTo>
                  <a:pt x="975" y="793"/>
                </a:lnTo>
                <a:lnTo>
                  <a:pt x="1010" y="857"/>
                </a:lnTo>
                <a:lnTo>
                  <a:pt x="965" y="996"/>
                </a:lnTo>
                <a:lnTo>
                  <a:pt x="952" y="1045"/>
                </a:lnTo>
                <a:lnTo>
                  <a:pt x="952" y="1175"/>
                </a:lnTo>
                <a:lnTo>
                  <a:pt x="946" y="1219"/>
                </a:lnTo>
                <a:lnTo>
                  <a:pt x="932" y="1272"/>
                </a:lnTo>
                <a:lnTo>
                  <a:pt x="932" y="1295"/>
                </a:lnTo>
                <a:lnTo>
                  <a:pt x="894" y="1374"/>
                </a:lnTo>
                <a:lnTo>
                  <a:pt x="878" y="1440"/>
                </a:lnTo>
                <a:lnTo>
                  <a:pt x="894" y="1557"/>
                </a:lnTo>
                <a:lnTo>
                  <a:pt x="956" y="1663"/>
                </a:lnTo>
                <a:lnTo>
                  <a:pt x="975" y="1687"/>
                </a:lnTo>
                <a:lnTo>
                  <a:pt x="987" y="1687"/>
                </a:lnTo>
                <a:lnTo>
                  <a:pt x="1014" y="1741"/>
                </a:lnTo>
                <a:lnTo>
                  <a:pt x="991" y="1842"/>
                </a:lnTo>
                <a:lnTo>
                  <a:pt x="975" y="1943"/>
                </a:lnTo>
                <a:lnTo>
                  <a:pt x="979" y="2006"/>
                </a:lnTo>
                <a:lnTo>
                  <a:pt x="1029" y="2069"/>
                </a:lnTo>
                <a:lnTo>
                  <a:pt x="870" y="2189"/>
                </a:lnTo>
                <a:lnTo>
                  <a:pt x="777" y="2272"/>
                </a:lnTo>
                <a:lnTo>
                  <a:pt x="740" y="2346"/>
                </a:lnTo>
                <a:lnTo>
                  <a:pt x="126" y="2654"/>
                </a:lnTo>
                <a:lnTo>
                  <a:pt x="91" y="2666"/>
                </a:lnTo>
                <a:lnTo>
                  <a:pt x="87" y="2670"/>
                </a:lnTo>
                <a:lnTo>
                  <a:pt x="58" y="2683"/>
                </a:lnTo>
                <a:lnTo>
                  <a:pt x="0" y="2582"/>
                </a:lnTo>
                <a:lnTo>
                  <a:pt x="0" y="2569"/>
                </a:lnTo>
                <a:lnTo>
                  <a:pt x="15" y="2557"/>
                </a:lnTo>
                <a:lnTo>
                  <a:pt x="19" y="2334"/>
                </a:lnTo>
                <a:lnTo>
                  <a:pt x="29" y="2321"/>
                </a:lnTo>
                <a:lnTo>
                  <a:pt x="29" y="2268"/>
                </a:lnTo>
                <a:lnTo>
                  <a:pt x="52" y="1968"/>
                </a:lnTo>
                <a:lnTo>
                  <a:pt x="71" y="1721"/>
                </a:lnTo>
                <a:lnTo>
                  <a:pt x="91" y="1349"/>
                </a:lnTo>
                <a:lnTo>
                  <a:pt x="116" y="1054"/>
                </a:lnTo>
                <a:lnTo>
                  <a:pt x="116" y="847"/>
                </a:lnTo>
                <a:lnTo>
                  <a:pt x="129" y="643"/>
                </a:lnTo>
                <a:lnTo>
                  <a:pt x="139" y="385"/>
                </a:lnTo>
                <a:lnTo>
                  <a:pt x="149" y="5"/>
                </a:lnTo>
                <a:lnTo>
                  <a:pt x="145" y="0"/>
                </a:lnTo>
                <a:lnTo>
                  <a:pt x="1150" y="0"/>
                </a:lnTo>
                <a:lnTo>
                  <a:pt x="1150" y="130"/>
                </a:lnTo>
                <a:close/>
              </a:path>
            </a:pathLst>
          </a:custGeom>
          <a:solidFill>
            <a:srgbClr val="5e99a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61" name=""/>
          <p:cNvSpPr/>
          <p:nvPr/>
        </p:nvSpPr>
        <p:spPr>
          <a:xfrm>
            <a:off x="5240160" y="2473200"/>
            <a:ext cx="595440" cy="381240"/>
          </a:xfrm>
          <a:custGeom>
            <a:avLst/>
            <a:gdLst/>
            <a:ahLst/>
            <a:rect l="l" t="t" r="r" b="b"/>
            <a:pathLst>
              <a:path w="750" h="479">
                <a:moveTo>
                  <a:pt x="750" y="242"/>
                </a:moveTo>
                <a:lnTo>
                  <a:pt x="740" y="256"/>
                </a:lnTo>
                <a:lnTo>
                  <a:pt x="746" y="261"/>
                </a:lnTo>
                <a:lnTo>
                  <a:pt x="746" y="275"/>
                </a:lnTo>
                <a:lnTo>
                  <a:pt x="721" y="271"/>
                </a:lnTo>
                <a:lnTo>
                  <a:pt x="676" y="236"/>
                </a:lnTo>
                <a:lnTo>
                  <a:pt x="663" y="213"/>
                </a:lnTo>
                <a:lnTo>
                  <a:pt x="647" y="199"/>
                </a:lnTo>
                <a:lnTo>
                  <a:pt x="640" y="199"/>
                </a:lnTo>
                <a:lnTo>
                  <a:pt x="614" y="232"/>
                </a:lnTo>
                <a:lnTo>
                  <a:pt x="581" y="246"/>
                </a:lnTo>
                <a:lnTo>
                  <a:pt x="479" y="242"/>
                </a:lnTo>
                <a:lnTo>
                  <a:pt x="463" y="256"/>
                </a:lnTo>
                <a:lnTo>
                  <a:pt x="463" y="337"/>
                </a:lnTo>
                <a:lnTo>
                  <a:pt x="504" y="385"/>
                </a:lnTo>
                <a:lnTo>
                  <a:pt x="562" y="420"/>
                </a:lnTo>
                <a:lnTo>
                  <a:pt x="223" y="424"/>
                </a:lnTo>
                <a:lnTo>
                  <a:pt x="44" y="459"/>
                </a:lnTo>
                <a:lnTo>
                  <a:pt x="9" y="473"/>
                </a:lnTo>
                <a:lnTo>
                  <a:pt x="4" y="473"/>
                </a:lnTo>
                <a:lnTo>
                  <a:pt x="0" y="479"/>
                </a:lnTo>
                <a:lnTo>
                  <a:pt x="4" y="0"/>
                </a:lnTo>
                <a:lnTo>
                  <a:pt x="750" y="0"/>
                </a:lnTo>
                <a:lnTo>
                  <a:pt x="750" y="242"/>
                </a:lnTo>
                <a:close/>
              </a:path>
            </a:pathLst>
          </a:custGeom>
          <a:solidFill>
            <a:srgbClr val="5e99a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62" name=""/>
          <p:cNvSpPr/>
          <p:nvPr/>
        </p:nvSpPr>
        <p:spPr>
          <a:xfrm>
            <a:off x="5846760" y="2473200"/>
            <a:ext cx="768240" cy="1374840"/>
          </a:xfrm>
          <a:custGeom>
            <a:avLst/>
            <a:gdLst/>
            <a:ahLst/>
            <a:rect l="l" t="t" r="r" b="b"/>
            <a:pathLst>
              <a:path w="968" h="1731">
                <a:moveTo>
                  <a:pt x="968" y="1411"/>
                </a:moveTo>
                <a:lnTo>
                  <a:pt x="942" y="1411"/>
                </a:lnTo>
                <a:lnTo>
                  <a:pt x="871" y="1452"/>
                </a:lnTo>
                <a:lnTo>
                  <a:pt x="851" y="1452"/>
                </a:lnTo>
                <a:lnTo>
                  <a:pt x="818" y="1475"/>
                </a:lnTo>
                <a:lnTo>
                  <a:pt x="783" y="1479"/>
                </a:lnTo>
                <a:lnTo>
                  <a:pt x="754" y="1489"/>
                </a:lnTo>
                <a:lnTo>
                  <a:pt x="735" y="1495"/>
                </a:lnTo>
                <a:lnTo>
                  <a:pt x="692" y="1524"/>
                </a:lnTo>
                <a:lnTo>
                  <a:pt x="648" y="1537"/>
                </a:lnTo>
                <a:lnTo>
                  <a:pt x="628" y="1562"/>
                </a:lnTo>
                <a:lnTo>
                  <a:pt x="589" y="1576"/>
                </a:lnTo>
                <a:lnTo>
                  <a:pt x="566" y="1599"/>
                </a:lnTo>
                <a:lnTo>
                  <a:pt x="502" y="1625"/>
                </a:lnTo>
                <a:lnTo>
                  <a:pt x="417" y="1669"/>
                </a:lnTo>
                <a:lnTo>
                  <a:pt x="246" y="1731"/>
                </a:lnTo>
                <a:lnTo>
                  <a:pt x="232" y="1731"/>
                </a:lnTo>
                <a:lnTo>
                  <a:pt x="300" y="1638"/>
                </a:lnTo>
                <a:lnTo>
                  <a:pt x="343" y="1508"/>
                </a:lnTo>
                <a:lnTo>
                  <a:pt x="349" y="1440"/>
                </a:lnTo>
                <a:lnTo>
                  <a:pt x="362" y="1310"/>
                </a:lnTo>
                <a:lnTo>
                  <a:pt x="359" y="1165"/>
                </a:lnTo>
                <a:lnTo>
                  <a:pt x="306" y="987"/>
                </a:lnTo>
                <a:lnTo>
                  <a:pt x="291" y="967"/>
                </a:lnTo>
                <a:lnTo>
                  <a:pt x="306" y="938"/>
                </a:lnTo>
                <a:lnTo>
                  <a:pt x="349" y="886"/>
                </a:lnTo>
                <a:lnTo>
                  <a:pt x="349" y="870"/>
                </a:lnTo>
                <a:lnTo>
                  <a:pt x="339" y="861"/>
                </a:lnTo>
                <a:lnTo>
                  <a:pt x="316" y="861"/>
                </a:lnTo>
                <a:lnTo>
                  <a:pt x="295" y="847"/>
                </a:lnTo>
                <a:lnTo>
                  <a:pt x="277" y="822"/>
                </a:lnTo>
                <a:lnTo>
                  <a:pt x="277" y="804"/>
                </a:lnTo>
                <a:lnTo>
                  <a:pt x="300" y="789"/>
                </a:lnTo>
                <a:lnTo>
                  <a:pt x="362" y="783"/>
                </a:lnTo>
                <a:lnTo>
                  <a:pt x="388" y="775"/>
                </a:lnTo>
                <a:lnTo>
                  <a:pt x="401" y="756"/>
                </a:lnTo>
                <a:lnTo>
                  <a:pt x="378" y="715"/>
                </a:lnTo>
                <a:lnTo>
                  <a:pt x="413" y="605"/>
                </a:lnTo>
                <a:lnTo>
                  <a:pt x="401" y="595"/>
                </a:lnTo>
                <a:lnTo>
                  <a:pt x="343" y="595"/>
                </a:lnTo>
                <a:lnTo>
                  <a:pt x="320" y="562"/>
                </a:lnTo>
                <a:lnTo>
                  <a:pt x="320" y="531"/>
                </a:lnTo>
                <a:lnTo>
                  <a:pt x="306" y="521"/>
                </a:lnTo>
                <a:lnTo>
                  <a:pt x="232" y="575"/>
                </a:lnTo>
                <a:lnTo>
                  <a:pt x="184" y="575"/>
                </a:lnTo>
                <a:lnTo>
                  <a:pt x="180" y="556"/>
                </a:lnTo>
                <a:lnTo>
                  <a:pt x="300" y="465"/>
                </a:lnTo>
                <a:lnTo>
                  <a:pt x="300" y="455"/>
                </a:lnTo>
                <a:lnTo>
                  <a:pt x="316" y="440"/>
                </a:lnTo>
                <a:lnTo>
                  <a:pt x="285" y="415"/>
                </a:lnTo>
                <a:lnTo>
                  <a:pt x="262" y="401"/>
                </a:lnTo>
                <a:lnTo>
                  <a:pt x="252" y="362"/>
                </a:lnTo>
                <a:lnTo>
                  <a:pt x="246" y="323"/>
                </a:lnTo>
                <a:lnTo>
                  <a:pt x="246" y="310"/>
                </a:lnTo>
                <a:lnTo>
                  <a:pt x="236" y="300"/>
                </a:lnTo>
                <a:lnTo>
                  <a:pt x="213" y="304"/>
                </a:lnTo>
                <a:lnTo>
                  <a:pt x="203" y="314"/>
                </a:lnTo>
                <a:lnTo>
                  <a:pt x="136" y="300"/>
                </a:lnTo>
                <a:lnTo>
                  <a:pt x="116" y="285"/>
                </a:lnTo>
                <a:lnTo>
                  <a:pt x="103" y="285"/>
                </a:lnTo>
                <a:lnTo>
                  <a:pt x="83" y="314"/>
                </a:lnTo>
                <a:lnTo>
                  <a:pt x="83" y="337"/>
                </a:lnTo>
                <a:lnTo>
                  <a:pt x="73" y="349"/>
                </a:lnTo>
                <a:lnTo>
                  <a:pt x="64" y="391"/>
                </a:lnTo>
                <a:lnTo>
                  <a:pt x="0" y="415"/>
                </a:lnTo>
                <a:lnTo>
                  <a:pt x="39" y="294"/>
                </a:lnTo>
                <a:lnTo>
                  <a:pt x="39" y="261"/>
                </a:lnTo>
                <a:lnTo>
                  <a:pt x="25" y="246"/>
                </a:lnTo>
                <a:lnTo>
                  <a:pt x="19" y="0"/>
                </a:lnTo>
                <a:lnTo>
                  <a:pt x="968" y="0"/>
                </a:lnTo>
                <a:lnTo>
                  <a:pt x="968" y="1411"/>
                </a:lnTo>
                <a:close/>
              </a:path>
            </a:pathLst>
          </a:custGeom>
          <a:solidFill>
            <a:srgbClr val="5e99a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63" name=""/>
          <p:cNvSpPr/>
          <p:nvPr/>
        </p:nvSpPr>
        <p:spPr>
          <a:xfrm>
            <a:off x="3532320" y="2608200"/>
            <a:ext cx="487080" cy="453960"/>
          </a:xfrm>
          <a:custGeom>
            <a:avLst/>
            <a:gdLst/>
            <a:ahLst/>
            <a:rect l="l" t="t" r="r" b="b"/>
            <a:pathLst>
              <a:path w="613" h="572">
                <a:moveTo>
                  <a:pt x="415" y="55"/>
                </a:moveTo>
                <a:lnTo>
                  <a:pt x="508" y="58"/>
                </a:lnTo>
                <a:lnTo>
                  <a:pt x="531" y="88"/>
                </a:lnTo>
                <a:lnTo>
                  <a:pt x="531" y="132"/>
                </a:lnTo>
                <a:lnTo>
                  <a:pt x="489" y="175"/>
                </a:lnTo>
                <a:lnTo>
                  <a:pt x="492" y="204"/>
                </a:lnTo>
                <a:lnTo>
                  <a:pt x="527" y="239"/>
                </a:lnTo>
                <a:lnTo>
                  <a:pt x="560" y="252"/>
                </a:lnTo>
                <a:lnTo>
                  <a:pt x="613" y="320"/>
                </a:lnTo>
                <a:lnTo>
                  <a:pt x="584" y="470"/>
                </a:lnTo>
                <a:lnTo>
                  <a:pt x="580" y="547"/>
                </a:lnTo>
                <a:lnTo>
                  <a:pt x="570" y="563"/>
                </a:lnTo>
                <a:lnTo>
                  <a:pt x="570" y="572"/>
                </a:lnTo>
                <a:lnTo>
                  <a:pt x="551" y="566"/>
                </a:lnTo>
                <a:lnTo>
                  <a:pt x="498" y="524"/>
                </a:lnTo>
                <a:lnTo>
                  <a:pt x="407" y="510"/>
                </a:lnTo>
                <a:lnTo>
                  <a:pt x="363" y="514"/>
                </a:lnTo>
                <a:lnTo>
                  <a:pt x="347" y="514"/>
                </a:lnTo>
                <a:lnTo>
                  <a:pt x="337" y="499"/>
                </a:lnTo>
                <a:lnTo>
                  <a:pt x="366" y="423"/>
                </a:lnTo>
                <a:lnTo>
                  <a:pt x="343" y="359"/>
                </a:lnTo>
                <a:lnTo>
                  <a:pt x="324" y="334"/>
                </a:lnTo>
                <a:lnTo>
                  <a:pt x="324" y="320"/>
                </a:lnTo>
                <a:lnTo>
                  <a:pt x="304" y="291"/>
                </a:lnTo>
                <a:lnTo>
                  <a:pt x="266" y="266"/>
                </a:lnTo>
                <a:lnTo>
                  <a:pt x="182" y="256"/>
                </a:lnTo>
                <a:lnTo>
                  <a:pt x="116" y="278"/>
                </a:lnTo>
                <a:lnTo>
                  <a:pt x="81" y="314"/>
                </a:lnTo>
                <a:lnTo>
                  <a:pt x="0" y="291"/>
                </a:lnTo>
                <a:lnTo>
                  <a:pt x="0" y="233"/>
                </a:lnTo>
                <a:lnTo>
                  <a:pt x="33" y="150"/>
                </a:lnTo>
                <a:lnTo>
                  <a:pt x="101" y="93"/>
                </a:lnTo>
                <a:lnTo>
                  <a:pt x="126" y="88"/>
                </a:lnTo>
                <a:lnTo>
                  <a:pt x="140" y="88"/>
                </a:lnTo>
                <a:lnTo>
                  <a:pt x="145" y="142"/>
                </a:lnTo>
                <a:lnTo>
                  <a:pt x="149" y="146"/>
                </a:lnTo>
                <a:lnTo>
                  <a:pt x="165" y="146"/>
                </a:lnTo>
                <a:lnTo>
                  <a:pt x="174" y="136"/>
                </a:lnTo>
                <a:lnTo>
                  <a:pt x="178" y="58"/>
                </a:lnTo>
                <a:lnTo>
                  <a:pt x="223" y="20"/>
                </a:lnTo>
                <a:lnTo>
                  <a:pt x="289" y="0"/>
                </a:lnTo>
                <a:lnTo>
                  <a:pt x="347" y="10"/>
                </a:lnTo>
                <a:lnTo>
                  <a:pt x="415" y="55"/>
                </a:lnTo>
                <a:close/>
              </a:path>
            </a:pathLst>
          </a:custGeom>
          <a:solidFill>
            <a:srgbClr val="c14923"/>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64" name=""/>
          <p:cNvSpPr/>
          <p:nvPr/>
        </p:nvSpPr>
        <p:spPr>
          <a:xfrm>
            <a:off x="6022800" y="2614680"/>
            <a:ext cx="308160" cy="61920"/>
          </a:xfrm>
          <a:custGeom>
            <a:avLst/>
            <a:gdLst/>
            <a:ahLst/>
            <a:rect l="l" t="t" r="r" b="b"/>
            <a:pathLst>
              <a:path w="388" h="78">
                <a:moveTo>
                  <a:pt x="382" y="21"/>
                </a:moveTo>
                <a:lnTo>
                  <a:pt x="333" y="25"/>
                </a:lnTo>
                <a:lnTo>
                  <a:pt x="295" y="35"/>
                </a:lnTo>
                <a:lnTo>
                  <a:pt x="252" y="45"/>
                </a:lnTo>
                <a:lnTo>
                  <a:pt x="207" y="45"/>
                </a:lnTo>
                <a:lnTo>
                  <a:pt x="0" y="78"/>
                </a:lnTo>
                <a:lnTo>
                  <a:pt x="0" y="64"/>
                </a:lnTo>
                <a:lnTo>
                  <a:pt x="252" y="16"/>
                </a:lnTo>
                <a:lnTo>
                  <a:pt x="324" y="16"/>
                </a:lnTo>
                <a:lnTo>
                  <a:pt x="359" y="0"/>
                </a:lnTo>
                <a:lnTo>
                  <a:pt x="388" y="0"/>
                </a:lnTo>
                <a:lnTo>
                  <a:pt x="382" y="21"/>
                </a:lnTo>
                <a:close/>
              </a:path>
            </a:pathLst>
          </a:custGeom>
          <a:solidFill>
            <a:srgbClr val="99cccc"/>
          </a:solidFill>
          <a:ln w="0">
            <a:noFill/>
          </a:ln>
        </p:spPr>
        <p:style>
          <a:lnRef idx="0"/>
          <a:fillRef idx="0"/>
          <a:effectRef idx="0"/>
          <a:fontRef idx="minor"/>
        </p:style>
        <p:txBody>
          <a:bodyPr lIns="90000" rIns="90000" tIns="15120" bIns="15120" anchor="t">
            <a:noAutofit/>
          </a:bodyPr>
          <a:p>
            <a:endParaRPr b="0" lang="en-US" sz="2400" spc="-1" strike="noStrike">
              <a:solidFill>
                <a:srgbClr val="ffff66"/>
              </a:solidFill>
              <a:latin typeface="Times New Roman"/>
            </a:endParaRPr>
          </a:p>
        </p:txBody>
      </p:sp>
      <p:sp>
        <p:nvSpPr>
          <p:cNvPr id="265" name=""/>
          <p:cNvSpPr/>
          <p:nvPr/>
        </p:nvSpPr>
        <p:spPr>
          <a:xfrm>
            <a:off x="5627520" y="2668680"/>
            <a:ext cx="514440" cy="568080"/>
          </a:xfrm>
          <a:custGeom>
            <a:avLst/>
            <a:gdLst/>
            <a:ahLst/>
            <a:rect l="l" t="t" r="r" b="b"/>
            <a:pathLst>
              <a:path w="648" h="715">
                <a:moveTo>
                  <a:pt x="223" y="58"/>
                </a:moveTo>
                <a:lnTo>
                  <a:pt x="239" y="64"/>
                </a:lnTo>
                <a:lnTo>
                  <a:pt x="266" y="64"/>
                </a:lnTo>
                <a:lnTo>
                  <a:pt x="282" y="48"/>
                </a:lnTo>
                <a:lnTo>
                  <a:pt x="282" y="83"/>
                </a:lnTo>
                <a:lnTo>
                  <a:pt x="243" y="165"/>
                </a:lnTo>
                <a:lnTo>
                  <a:pt x="243" y="188"/>
                </a:lnTo>
                <a:lnTo>
                  <a:pt x="258" y="203"/>
                </a:lnTo>
                <a:lnTo>
                  <a:pt x="336" y="178"/>
                </a:lnTo>
                <a:lnTo>
                  <a:pt x="373" y="136"/>
                </a:lnTo>
                <a:lnTo>
                  <a:pt x="382" y="83"/>
                </a:lnTo>
                <a:lnTo>
                  <a:pt x="470" y="97"/>
                </a:lnTo>
                <a:lnTo>
                  <a:pt x="499" y="91"/>
                </a:lnTo>
                <a:lnTo>
                  <a:pt x="505" y="151"/>
                </a:lnTo>
                <a:lnTo>
                  <a:pt x="518" y="178"/>
                </a:lnTo>
                <a:lnTo>
                  <a:pt x="541" y="200"/>
                </a:lnTo>
                <a:lnTo>
                  <a:pt x="547" y="200"/>
                </a:lnTo>
                <a:lnTo>
                  <a:pt x="547" y="209"/>
                </a:lnTo>
                <a:lnTo>
                  <a:pt x="446" y="281"/>
                </a:lnTo>
                <a:lnTo>
                  <a:pt x="425" y="304"/>
                </a:lnTo>
                <a:lnTo>
                  <a:pt x="431" y="349"/>
                </a:lnTo>
                <a:lnTo>
                  <a:pt x="441" y="359"/>
                </a:lnTo>
                <a:lnTo>
                  <a:pt x="495" y="362"/>
                </a:lnTo>
                <a:lnTo>
                  <a:pt x="499" y="359"/>
                </a:lnTo>
                <a:lnTo>
                  <a:pt x="557" y="329"/>
                </a:lnTo>
                <a:lnTo>
                  <a:pt x="567" y="320"/>
                </a:lnTo>
                <a:lnTo>
                  <a:pt x="586" y="362"/>
                </a:lnTo>
                <a:lnTo>
                  <a:pt x="625" y="382"/>
                </a:lnTo>
                <a:lnTo>
                  <a:pt x="648" y="382"/>
                </a:lnTo>
                <a:lnTo>
                  <a:pt x="629" y="485"/>
                </a:lnTo>
                <a:lnTo>
                  <a:pt x="635" y="510"/>
                </a:lnTo>
                <a:lnTo>
                  <a:pt x="541" y="523"/>
                </a:lnTo>
                <a:lnTo>
                  <a:pt x="518" y="552"/>
                </a:lnTo>
                <a:lnTo>
                  <a:pt x="522" y="595"/>
                </a:lnTo>
                <a:lnTo>
                  <a:pt x="528" y="601"/>
                </a:lnTo>
                <a:lnTo>
                  <a:pt x="571" y="640"/>
                </a:lnTo>
                <a:lnTo>
                  <a:pt x="582" y="640"/>
                </a:lnTo>
                <a:lnTo>
                  <a:pt x="586" y="644"/>
                </a:lnTo>
                <a:lnTo>
                  <a:pt x="567" y="679"/>
                </a:lnTo>
                <a:lnTo>
                  <a:pt x="518" y="708"/>
                </a:lnTo>
                <a:lnTo>
                  <a:pt x="512" y="715"/>
                </a:lnTo>
                <a:lnTo>
                  <a:pt x="446" y="708"/>
                </a:lnTo>
                <a:lnTo>
                  <a:pt x="437" y="698"/>
                </a:lnTo>
                <a:lnTo>
                  <a:pt x="431" y="547"/>
                </a:lnTo>
                <a:lnTo>
                  <a:pt x="408" y="469"/>
                </a:lnTo>
                <a:lnTo>
                  <a:pt x="320" y="320"/>
                </a:lnTo>
                <a:lnTo>
                  <a:pt x="233" y="219"/>
                </a:lnTo>
                <a:lnTo>
                  <a:pt x="194" y="194"/>
                </a:lnTo>
                <a:lnTo>
                  <a:pt x="117" y="169"/>
                </a:lnTo>
                <a:lnTo>
                  <a:pt x="16" y="91"/>
                </a:lnTo>
                <a:lnTo>
                  <a:pt x="0" y="64"/>
                </a:lnTo>
                <a:lnTo>
                  <a:pt x="6" y="48"/>
                </a:lnTo>
                <a:lnTo>
                  <a:pt x="6" y="33"/>
                </a:lnTo>
                <a:lnTo>
                  <a:pt x="33" y="25"/>
                </a:lnTo>
                <a:lnTo>
                  <a:pt x="68" y="33"/>
                </a:lnTo>
                <a:lnTo>
                  <a:pt x="117" y="25"/>
                </a:lnTo>
                <a:lnTo>
                  <a:pt x="146" y="0"/>
                </a:lnTo>
                <a:lnTo>
                  <a:pt x="169" y="10"/>
                </a:lnTo>
                <a:lnTo>
                  <a:pt x="223" y="58"/>
                </a:lnTo>
                <a:close/>
              </a:path>
            </a:pathLst>
          </a:custGeom>
          <a:solidFill>
            <a:srgbClr val="cc32f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66" name=""/>
          <p:cNvSpPr/>
          <p:nvPr/>
        </p:nvSpPr>
        <p:spPr>
          <a:xfrm>
            <a:off x="5340240" y="2719440"/>
            <a:ext cx="244440" cy="60120"/>
          </a:xfrm>
          <a:custGeom>
            <a:avLst/>
            <a:gdLst/>
            <a:ahLst/>
            <a:rect l="l" t="t" r="r" b="b"/>
            <a:pathLst>
              <a:path w="308" h="75">
                <a:moveTo>
                  <a:pt x="308" y="8"/>
                </a:moveTo>
                <a:lnTo>
                  <a:pt x="256" y="33"/>
                </a:lnTo>
                <a:lnTo>
                  <a:pt x="135" y="48"/>
                </a:lnTo>
                <a:lnTo>
                  <a:pt x="35" y="72"/>
                </a:lnTo>
                <a:lnTo>
                  <a:pt x="9" y="72"/>
                </a:lnTo>
                <a:lnTo>
                  <a:pt x="4" y="75"/>
                </a:lnTo>
                <a:lnTo>
                  <a:pt x="0" y="72"/>
                </a:lnTo>
                <a:lnTo>
                  <a:pt x="0" y="62"/>
                </a:lnTo>
                <a:lnTo>
                  <a:pt x="71" y="39"/>
                </a:lnTo>
                <a:lnTo>
                  <a:pt x="221" y="8"/>
                </a:lnTo>
                <a:lnTo>
                  <a:pt x="291" y="0"/>
                </a:lnTo>
                <a:lnTo>
                  <a:pt x="304" y="4"/>
                </a:lnTo>
                <a:lnTo>
                  <a:pt x="308" y="8"/>
                </a:lnTo>
                <a:close/>
              </a:path>
            </a:pathLst>
          </a:custGeom>
          <a:solidFill>
            <a:srgbClr val="99cccc"/>
          </a:solidFill>
          <a:ln w="0">
            <a:noFill/>
          </a:ln>
        </p:spPr>
        <p:style>
          <a:lnRef idx="0"/>
          <a:fillRef idx="0"/>
          <a:effectRef idx="0"/>
          <a:fontRef idx="minor"/>
        </p:style>
        <p:txBody>
          <a:bodyPr lIns="90000" rIns="90000" tIns="13320" bIns="13320" anchor="t">
            <a:noAutofit/>
          </a:bodyPr>
          <a:p>
            <a:endParaRPr b="0" lang="en-US" sz="2400" spc="-1" strike="noStrike">
              <a:solidFill>
                <a:srgbClr val="ffff66"/>
              </a:solidFill>
              <a:latin typeface="Times New Roman"/>
            </a:endParaRPr>
          </a:p>
        </p:txBody>
      </p:sp>
      <p:sp>
        <p:nvSpPr>
          <p:cNvPr id="267" name=""/>
          <p:cNvSpPr/>
          <p:nvPr/>
        </p:nvSpPr>
        <p:spPr>
          <a:xfrm>
            <a:off x="4492800" y="2803680"/>
            <a:ext cx="585720" cy="142560"/>
          </a:xfrm>
          <a:custGeom>
            <a:avLst/>
            <a:gdLst/>
            <a:ahLst/>
            <a:rect l="l" t="t" r="r" b="b"/>
            <a:pathLst>
              <a:path w="739" h="180">
                <a:moveTo>
                  <a:pt x="739" y="5"/>
                </a:moveTo>
                <a:lnTo>
                  <a:pt x="720" y="19"/>
                </a:lnTo>
                <a:lnTo>
                  <a:pt x="586" y="64"/>
                </a:lnTo>
                <a:lnTo>
                  <a:pt x="425" y="97"/>
                </a:lnTo>
                <a:lnTo>
                  <a:pt x="382" y="106"/>
                </a:lnTo>
                <a:lnTo>
                  <a:pt x="320" y="120"/>
                </a:lnTo>
                <a:lnTo>
                  <a:pt x="188" y="135"/>
                </a:lnTo>
                <a:lnTo>
                  <a:pt x="140" y="135"/>
                </a:lnTo>
                <a:lnTo>
                  <a:pt x="116" y="155"/>
                </a:lnTo>
                <a:lnTo>
                  <a:pt x="10" y="176"/>
                </a:lnTo>
                <a:lnTo>
                  <a:pt x="4" y="180"/>
                </a:lnTo>
                <a:lnTo>
                  <a:pt x="0" y="176"/>
                </a:lnTo>
                <a:lnTo>
                  <a:pt x="0" y="164"/>
                </a:lnTo>
                <a:lnTo>
                  <a:pt x="10" y="155"/>
                </a:lnTo>
                <a:lnTo>
                  <a:pt x="33" y="155"/>
                </a:lnTo>
                <a:lnTo>
                  <a:pt x="171" y="116"/>
                </a:lnTo>
                <a:lnTo>
                  <a:pt x="314" y="97"/>
                </a:lnTo>
                <a:lnTo>
                  <a:pt x="454" y="67"/>
                </a:lnTo>
                <a:lnTo>
                  <a:pt x="634" y="25"/>
                </a:lnTo>
                <a:lnTo>
                  <a:pt x="677" y="15"/>
                </a:lnTo>
                <a:lnTo>
                  <a:pt x="729" y="0"/>
                </a:lnTo>
                <a:lnTo>
                  <a:pt x="735" y="5"/>
                </a:lnTo>
                <a:lnTo>
                  <a:pt x="739" y="5"/>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68" name=""/>
          <p:cNvSpPr/>
          <p:nvPr/>
        </p:nvSpPr>
        <p:spPr>
          <a:xfrm>
            <a:off x="2462040" y="2811600"/>
            <a:ext cx="702000" cy="1288800"/>
          </a:xfrm>
          <a:custGeom>
            <a:avLst/>
            <a:gdLst/>
            <a:ahLst/>
            <a:rect l="l" t="t" r="r" b="b"/>
            <a:pathLst>
              <a:path w="884" h="1625">
                <a:moveTo>
                  <a:pt x="702" y="68"/>
                </a:moveTo>
                <a:lnTo>
                  <a:pt x="780" y="161"/>
                </a:lnTo>
                <a:lnTo>
                  <a:pt x="780" y="248"/>
                </a:lnTo>
                <a:lnTo>
                  <a:pt x="774" y="254"/>
                </a:lnTo>
                <a:lnTo>
                  <a:pt x="774" y="268"/>
                </a:lnTo>
                <a:lnTo>
                  <a:pt x="741" y="272"/>
                </a:lnTo>
                <a:lnTo>
                  <a:pt x="716" y="287"/>
                </a:lnTo>
                <a:lnTo>
                  <a:pt x="716" y="291"/>
                </a:lnTo>
                <a:lnTo>
                  <a:pt x="708" y="301"/>
                </a:lnTo>
                <a:lnTo>
                  <a:pt x="756" y="446"/>
                </a:lnTo>
                <a:lnTo>
                  <a:pt x="770" y="578"/>
                </a:lnTo>
                <a:lnTo>
                  <a:pt x="809" y="605"/>
                </a:lnTo>
                <a:lnTo>
                  <a:pt x="828" y="640"/>
                </a:lnTo>
                <a:lnTo>
                  <a:pt x="877" y="799"/>
                </a:lnTo>
                <a:lnTo>
                  <a:pt x="884" y="919"/>
                </a:lnTo>
                <a:lnTo>
                  <a:pt x="871" y="983"/>
                </a:lnTo>
                <a:lnTo>
                  <a:pt x="857" y="1007"/>
                </a:lnTo>
                <a:lnTo>
                  <a:pt x="819" y="997"/>
                </a:lnTo>
                <a:lnTo>
                  <a:pt x="809" y="997"/>
                </a:lnTo>
                <a:lnTo>
                  <a:pt x="799" y="1007"/>
                </a:lnTo>
                <a:lnTo>
                  <a:pt x="805" y="1100"/>
                </a:lnTo>
                <a:lnTo>
                  <a:pt x="832" y="1162"/>
                </a:lnTo>
                <a:lnTo>
                  <a:pt x="844" y="1239"/>
                </a:lnTo>
                <a:lnTo>
                  <a:pt x="838" y="1263"/>
                </a:lnTo>
                <a:lnTo>
                  <a:pt x="838" y="1272"/>
                </a:lnTo>
                <a:lnTo>
                  <a:pt x="809" y="1253"/>
                </a:lnTo>
                <a:lnTo>
                  <a:pt x="780" y="1245"/>
                </a:lnTo>
                <a:lnTo>
                  <a:pt x="751" y="1268"/>
                </a:lnTo>
                <a:lnTo>
                  <a:pt x="722" y="1385"/>
                </a:lnTo>
                <a:lnTo>
                  <a:pt x="716" y="1389"/>
                </a:lnTo>
                <a:lnTo>
                  <a:pt x="654" y="1336"/>
                </a:lnTo>
                <a:lnTo>
                  <a:pt x="634" y="1336"/>
                </a:lnTo>
                <a:lnTo>
                  <a:pt x="630" y="1332"/>
                </a:lnTo>
                <a:lnTo>
                  <a:pt x="595" y="1373"/>
                </a:lnTo>
                <a:lnTo>
                  <a:pt x="586" y="1408"/>
                </a:lnTo>
                <a:lnTo>
                  <a:pt x="586" y="1427"/>
                </a:lnTo>
                <a:lnTo>
                  <a:pt x="572" y="1466"/>
                </a:lnTo>
                <a:lnTo>
                  <a:pt x="572" y="1482"/>
                </a:lnTo>
                <a:lnTo>
                  <a:pt x="566" y="1482"/>
                </a:lnTo>
                <a:lnTo>
                  <a:pt x="543" y="1544"/>
                </a:lnTo>
                <a:lnTo>
                  <a:pt x="499" y="1606"/>
                </a:lnTo>
                <a:lnTo>
                  <a:pt x="479" y="1625"/>
                </a:lnTo>
                <a:lnTo>
                  <a:pt x="479" y="1528"/>
                </a:lnTo>
                <a:lnTo>
                  <a:pt x="435" y="1408"/>
                </a:lnTo>
                <a:lnTo>
                  <a:pt x="407" y="1373"/>
                </a:lnTo>
                <a:lnTo>
                  <a:pt x="372" y="1398"/>
                </a:lnTo>
                <a:lnTo>
                  <a:pt x="347" y="1422"/>
                </a:lnTo>
                <a:lnTo>
                  <a:pt x="339" y="1422"/>
                </a:lnTo>
                <a:lnTo>
                  <a:pt x="314" y="1365"/>
                </a:lnTo>
                <a:lnTo>
                  <a:pt x="301" y="1307"/>
                </a:lnTo>
                <a:lnTo>
                  <a:pt x="285" y="1292"/>
                </a:lnTo>
                <a:lnTo>
                  <a:pt x="272" y="1292"/>
                </a:lnTo>
                <a:lnTo>
                  <a:pt x="227" y="1350"/>
                </a:lnTo>
                <a:lnTo>
                  <a:pt x="198" y="1245"/>
                </a:lnTo>
                <a:lnTo>
                  <a:pt x="223" y="1133"/>
                </a:lnTo>
                <a:lnTo>
                  <a:pt x="223" y="1119"/>
                </a:lnTo>
                <a:lnTo>
                  <a:pt x="146" y="1119"/>
                </a:lnTo>
                <a:lnTo>
                  <a:pt x="126" y="1133"/>
                </a:lnTo>
                <a:lnTo>
                  <a:pt x="107" y="1133"/>
                </a:lnTo>
                <a:lnTo>
                  <a:pt x="107" y="1055"/>
                </a:lnTo>
                <a:lnTo>
                  <a:pt x="130" y="993"/>
                </a:lnTo>
                <a:lnTo>
                  <a:pt x="130" y="968"/>
                </a:lnTo>
                <a:lnTo>
                  <a:pt x="120" y="958"/>
                </a:lnTo>
                <a:lnTo>
                  <a:pt x="58" y="997"/>
                </a:lnTo>
                <a:lnTo>
                  <a:pt x="10" y="1045"/>
                </a:lnTo>
                <a:lnTo>
                  <a:pt x="0" y="1045"/>
                </a:lnTo>
                <a:lnTo>
                  <a:pt x="0" y="968"/>
                </a:lnTo>
                <a:lnTo>
                  <a:pt x="58" y="834"/>
                </a:lnTo>
                <a:lnTo>
                  <a:pt x="161" y="708"/>
                </a:lnTo>
                <a:lnTo>
                  <a:pt x="161" y="685"/>
                </a:lnTo>
                <a:lnTo>
                  <a:pt x="126" y="669"/>
                </a:lnTo>
                <a:lnTo>
                  <a:pt x="58" y="692"/>
                </a:lnTo>
                <a:lnTo>
                  <a:pt x="54" y="698"/>
                </a:lnTo>
                <a:lnTo>
                  <a:pt x="49" y="698"/>
                </a:lnTo>
                <a:lnTo>
                  <a:pt x="45" y="692"/>
                </a:lnTo>
                <a:lnTo>
                  <a:pt x="72" y="615"/>
                </a:lnTo>
                <a:lnTo>
                  <a:pt x="142" y="533"/>
                </a:lnTo>
                <a:lnTo>
                  <a:pt x="146" y="520"/>
                </a:lnTo>
                <a:lnTo>
                  <a:pt x="136" y="508"/>
                </a:lnTo>
                <a:lnTo>
                  <a:pt x="101" y="508"/>
                </a:lnTo>
                <a:lnTo>
                  <a:pt x="72" y="495"/>
                </a:lnTo>
                <a:lnTo>
                  <a:pt x="68" y="485"/>
                </a:lnTo>
                <a:lnTo>
                  <a:pt x="68" y="469"/>
                </a:lnTo>
                <a:lnTo>
                  <a:pt x="126" y="456"/>
                </a:lnTo>
                <a:lnTo>
                  <a:pt x="175" y="417"/>
                </a:lnTo>
                <a:lnTo>
                  <a:pt x="213" y="359"/>
                </a:lnTo>
                <a:lnTo>
                  <a:pt x="227" y="278"/>
                </a:lnTo>
                <a:lnTo>
                  <a:pt x="227" y="223"/>
                </a:lnTo>
                <a:lnTo>
                  <a:pt x="272" y="151"/>
                </a:lnTo>
                <a:lnTo>
                  <a:pt x="359" y="88"/>
                </a:lnTo>
                <a:lnTo>
                  <a:pt x="376" y="64"/>
                </a:lnTo>
                <a:lnTo>
                  <a:pt x="440" y="16"/>
                </a:lnTo>
                <a:lnTo>
                  <a:pt x="512" y="6"/>
                </a:lnTo>
                <a:lnTo>
                  <a:pt x="543" y="0"/>
                </a:lnTo>
                <a:lnTo>
                  <a:pt x="638" y="25"/>
                </a:lnTo>
                <a:lnTo>
                  <a:pt x="702" y="68"/>
                </a:lnTo>
                <a:close/>
              </a:path>
            </a:pathLst>
          </a:custGeom>
          <a:solidFill>
            <a:srgbClr val="c14923"/>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69" name=""/>
          <p:cNvSpPr/>
          <p:nvPr/>
        </p:nvSpPr>
        <p:spPr>
          <a:xfrm>
            <a:off x="5095800" y="2830680"/>
            <a:ext cx="858960" cy="691920"/>
          </a:xfrm>
          <a:custGeom>
            <a:avLst/>
            <a:gdLst/>
            <a:ahLst/>
            <a:rect l="l" t="t" r="r" b="b"/>
            <a:pathLst>
              <a:path w="1083" h="871">
                <a:moveTo>
                  <a:pt x="794" y="16"/>
                </a:moveTo>
                <a:lnTo>
                  <a:pt x="865" y="30"/>
                </a:lnTo>
                <a:lnTo>
                  <a:pt x="910" y="68"/>
                </a:lnTo>
                <a:lnTo>
                  <a:pt x="1001" y="189"/>
                </a:lnTo>
                <a:lnTo>
                  <a:pt x="1069" y="320"/>
                </a:lnTo>
                <a:lnTo>
                  <a:pt x="1083" y="402"/>
                </a:lnTo>
                <a:lnTo>
                  <a:pt x="1083" y="499"/>
                </a:lnTo>
                <a:lnTo>
                  <a:pt x="1069" y="512"/>
                </a:lnTo>
                <a:lnTo>
                  <a:pt x="1079" y="524"/>
                </a:lnTo>
                <a:lnTo>
                  <a:pt x="1053" y="605"/>
                </a:lnTo>
                <a:lnTo>
                  <a:pt x="953" y="741"/>
                </a:lnTo>
                <a:lnTo>
                  <a:pt x="910" y="770"/>
                </a:lnTo>
                <a:lnTo>
                  <a:pt x="900" y="778"/>
                </a:lnTo>
                <a:lnTo>
                  <a:pt x="856" y="778"/>
                </a:lnTo>
                <a:lnTo>
                  <a:pt x="827" y="730"/>
                </a:lnTo>
                <a:lnTo>
                  <a:pt x="813" y="730"/>
                </a:lnTo>
                <a:lnTo>
                  <a:pt x="733" y="832"/>
                </a:lnTo>
                <a:lnTo>
                  <a:pt x="697" y="871"/>
                </a:lnTo>
                <a:lnTo>
                  <a:pt x="697" y="852"/>
                </a:lnTo>
                <a:lnTo>
                  <a:pt x="720" y="803"/>
                </a:lnTo>
                <a:lnTo>
                  <a:pt x="714" y="602"/>
                </a:lnTo>
                <a:lnTo>
                  <a:pt x="710" y="596"/>
                </a:lnTo>
                <a:lnTo>
                  <a:pt x="720" y="572"/>
                </a:lnTo>
                <a:lnTo>
                  <a:pt x="726" y="567"/>
                </a:lnTo>
                <a:lnTo>
                  <a:pt x="697" y="541"/>
                </a:lnTo>
                <a:lnTo>
                  <a:pt x="697" y="528"/>
                </a:lnTo>
                <a:lnTo>
                  <a:pt x="726" y="483"/>
                </a:lnTo>
                <a:lnTo>
                  <a:pt x="720" y="466"/>
                </a:lnTo>
                <a:lnTo>
                  <a:pt x="697" y="466"/>
                </a:lnTo>
                <a:lnTo>
                  <a:pt x="633" y="483"/>
                </a:lnTo>
                <a:lnTo>
                  <a:pt x="565" y="479"/>
                </a:lnTo>
                <a:lnTo>
                  <a:pt x="561" y="479"/>
                </a:lnTo>
                <a:lnTo>
                  <a:pt x="638" y="441"/>
                </a:lnTo>
                <a:lnTo>
                  <a:pt x="652" y="441"/>
                </a:lnTo>
                <a:lnTo>
                  <a:pt x="677" y="437"/>
                </a:lnTo>
                <a:lnTo>
                  <a:pt x="691" y="421"/>
                </a:lnTo>
                <a:lnTo>
                  <a:pt x="691" y="412"/>
                </a:lnTo>
                <a:lnTo>
                  <a:pt x="681" y="402"/>
                </a:lnTo>
                <a:lnTo>
                  <a:pt x="642" y="408"/>
                </a:lnTo>
                <a:lnTo>
                  <a:pt x="536" y="460"/>
                </a:lnTo>
                <a:lnTo>
                  <a:pt x="468" y="476"/>
                </a:lnTo>
                <a:lnTo>
                  <a:pt x="419" y="460"/>
                </a:lnTo>
                <a:lnTo>
                  <a:pt x="419" y="437"/>
                </a:lnTo>
                <a:lnTo>
                  <a:pt x="429" y="427"/>
                </a:lnTo>
                <a:lnTo>
                  <a:pt x="429" y="402"/>
                </a:lnTo>
                <a:lnTo>
                  <a:pt x="419" y="392"/>
                </a:lnTo>
                <a:lnTo>
                  <a:pt x="380" y="417"/>
                </a:lnTo>
                <a:lnTo>
                  <a:pt x="344" y="427"/>
                </a:lnTo>
                <a:lnTo>
                  <a:pt x="309" y="412"/>
                </a:lnTo>
                <a:lnTo>
                  <a:pt x="303" y="408"/>
                </a:lnTo>
                <a:lnTo>
                  <a:pt x="344" y="355"/>
                </a:lnTo>
                <a:lnTo>
                  <a:pt x="348" y="334"/>
                </a:lnTo>
                <a:lnTo>
                  <a:pt x="367" y="315"/>
                </a:lnTo>
                <a:lnTo>
                  <a:pt x="371" y="315"/>
                </a:lnTo>
                <a:lnTo>
                  <a:pt x="377" y="320"/>
                </a:lnTo>
                <a:lnTo>
                  <a:pt x="386" y="307"/>
                </a:lnTo>
                <a:lnTo>
                  <a:pt x="390" y="299"/>
                </a:lnTo>
                <a:lnTo>
                  <a:pt x="367" y="282"/>
                </a:lnTo>
                <a:lnTo>
                  <a:pt x="348" y="291"/>
                </a:lnTo>
                <a:lnTo>
                  <a:pt x="299" y="373"/>
                </a:lnTo>
                <a:lnTo>
                  <a:pt x="256" y="402"/>
                </a:lnTo>
                <a:lnTo>
                  <a:pt x="192" y="392"/>
                </a:lnTo>
                <a:lnTo>
                  <a:pt x="202" y="373"/>
                </a:lnTo>
                <a:lnTo>
                  <a:pt x="202" y="334"/>
                </a:lnTo>
                <a:lnTo>
                  <a:pt x="124" y="382"/>
                </a:lnTo>
                <a:lnTo>
                  <a:pt x="111" y="379"/>
                </a:lnTo>
                <a:lnTo>
                  <a:pt x="101" y="369"/>
                </a:lnTo>
                <a:lnTo>
                  <a:pt x="115" y="315"/>
                </a:lnTo>
                <a:lnTo>
                  <a:pt x="101" y="307"/>
                </a:lnTo>
                <a:lnTo>
                  <a:pt x="76" y="320"/>
                </a:lnTo>
                <a:lnTo>
                  <a:pt x="53" y="373"/>
                </a:lnTo>
                <a:lnTo>
                  <a:pt x="33" y="379"/>
                </a:lnTo>
                <a:lnTo>
                  <a:pt x="10" y="340"/>
                </a:lnTo>
                <a:lnTo>
                  <a:pt x="0" y="282"/>
                </a:lnTo>
                <a:lnTo>
                  <a:pt x="18" y="198"/>
                </a:lnTo>
                <a:lnTo>
                  <a:pt x="62" y="142"/>
                </a:lnTo>
                <a:lnTo>
                  <a:pt x="163" y="68"/>
                </a:lnTo>
                <a:lnTo>
                  <a:pt x="208" y="49"/>
                </a:lnTo>
                <a:lnTo>
                  <a:pt x="270" y="30"/>
                </a:lnTo>
                <a:lnTo>
                  <a:pt x="503" y="6"/>
                </a:lnTo>
                <a:lnTo>
                  <a:pt x="526" y="0"/>
                </a:lnTo>
                <a:lnTo>
                  <a:pt x="600" y="10"/>
                </a:lnTo>
                <a:lnTo>
                  <a:pt x="794" y="16"/>
                </a:lnTo>
                <a:close/>
              </a:path>
            </a:pathLst>
          </a:custGeom>
          <a:solidFill>
            <a:srgbClr val="ff663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70" name=""/>
          <p:cNvSpPr/>
          <p:nvPr/>
        </p:nvSpPr>
        <p:spPr>
          <a:xfrm>
            <a:off x="3618000" y="2838600"/>
            <a:ext cx="179280" cy="129960"/>
          </a:xfrm>
          <a:custGeom>
            <a:avLst/>
            <a:gdLst/>
            <a:ahLst/>
            <a:rect l="l" t="t" r="r" b="b"/>
            <a:pathLst>
              <a:path w="226" h="165">
                <a:moveTo>
                  <a:pt x="164" y="14"/>
                </a:moveTo>
                <a:lnTo>
                  <a:pt x="211" y="91"/>
                </a:lnTo>
                <a:lnTo>
                  <a:pt x="226" y="146"/>
                </a:lnTo>
                <a:lnTo>
                  <a:pt x="211" y="165"/>
                </a:lnTo>
                <a:lnTo>
                  <a:pt x="133" y="91"/>
                </a:lnTo>
                <a:lnTo>
                  <a:pt x="58" y="72"/>
                </a:lnTo>
                <a:lnTo>
                  <a:pt x="13" y="68"/>
                </a:lnTo>
                <a:lnTo>
                  <a:pt x="0" y="43"/>
                </a:lnTo>
                <a:lnTo>
                  <a:pt x="3" y="43"/>
                </a:lnTo>
                <a:lnTo>
                  <a:pt x="9" y="33"/>
                </a:lnTo>
                <a:lnTo>
                  <a:pt x="9" y="23"/>
                </a:lnTo>
                <a:lnTo>
                  <a:pt x="62" y="0"/>
                </a:lnTo>
                <a:lnTo>
                  <a:pt x="149" y="10"/>
                </a:lnTo>
                <a:lnTo>
                  <a:pt x="164" y="14"/>
                </a:lnTo>
                <a:close/>
              </a:path>
            </a:pathLst>
          </a:custGeom>
          <a:solidFill>
            <a:srgbClr val="289b2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71" name=""/>
          <p:cNvSpPr/>
          <p:nvPr/>
        </p:nvSpPr>
        <p:spPr>
          <a:xfrm>
            <a:off x="3106800" y="2849400"/>
            <a:ext cx="906480" cy="795600"/>
          </a:xfrm>
          <a:custGeom>
            <a:avLst/>
            <a:gdLst/>
            <a:ahLst/>
            <a:rect l="l" t="t" r="r" b="b"/>
            <a:pathLst>
              <a:path w="1142" h="1002">
                <a:moveTo>
                  <a:pt x="591" y="35"/>
                </a:moveTo>
                <a:lnTo>
                  <a:pt x="614" y="62"/>
                </a:lnTo>
                <a:lnTo>
                  <a:pt x="618" y="58"/>
                </a:lnTo>
                <a:lnTo>
                  <a:pt x="647" y="89"/>
                </a:lnTo>
                <a:lnTo>
                  <a:pt x="692" y="89"/>
                </a:lnTo>
                <a:lnTo>
                  <a:pt x="770" y="112"/>
                </a:lnTo>
                <a:lnTo>
                  <a:pt x="826" y="180"/>
                </a:lnTo>
                <a:lnTo>
                  <a:pt x="822" y="180"/>
                </a:lnTo>
                <a:lnTo>
                  <a:pt x="812" y="190"/>
                </a:lnTo>
                <a:lnTo>
                  <a:pt x="841" y="223"/>
                </a:lnTo>
                <a:lnTo>
                  <a:pt x="837" y="229"/>
                </a:lnTo>
                <a:lnTo>
                  <a:pt x="855" y="248"/>
                </a:lnTo>
                <a:lnTo>
                  <a:pt x="913" y="238"/>
                </a:lnTo>
                <a:lnTo>
                  <a:pt x="1016" y="248"/>
                </a:lnTo>
                <a:lnTo>
                  <a:pt x="1059" y="275"/>
                </a:lnTo>
                <a:lnTo>
                  <a:pt x="1107" y="345"/>
                </a:lnTo>
                <a:lnTo>
                  <a:pt x="1142" y="426"/>
                </a:lnTo>
                <a:lnTo>
                  <a:pt x="1126" y="508"/>
                </a:lnTo>
                <a:lnTo>
                  <a:pt x="1113" y="533"/>
                </a:lnTo>
                <a:lnTo>
                  <a:pt x="1113" y="465"/>
                </a:lnTo>
                <a:lnTo>
                  <a:pt x="1093" y="446"/>
                </a:lnTo>
                <a:lnTo>
                  <a:pt x="1082" y="446"/>
                </a:lnTo>
                <a:lnTo>
                  <a:pt x="1068" y="636"/>
                </a:lnTo>
                <a:lnTo>
                  <a:pt x="1055" y="663"/>
                </a:lnTo>
                <a:lnTo>
                  <a:pt x="1016" y="611"/>
                </a:lnTo>
                <a:lnTo>
                  <a:pt x="997" y="591"/>
                </a:lnTo>
                <a:lnTo>
                  <a:pt x="971" y="591"/>
                </a:lnTo>
                <a:lnTo>
                  <a:pt x="962" y="636"/>
                </a:lnTo>
                <a:lnTo>
                  <a:pt x="938" y="591"/>
                </a:lnTo>
                <a:lnTo>
                  <a:pt x="867" y="523"/>
                </a:lnTo>
                <a:lnTo>
                  <a:pt x="851" y="517"/>
                </a:lnTo>
                <a:lnTo>
                  <a:pt x="832" y="517"/>
                </a:lnTo>
                <a:lnTo>
                  <a:pt x="826" y="659"/>
                </a:lnTo>
                <a:lnTo>
                  <a:pt x="808" y="688"/>
                </a:lnTo>
                <a:lnTo>
                  <a:pt x="793" y="649"/>
                </a:lnTo>
                <a:lnTo>
                  <a:pt x="783" y="640"/>
                </a:lnTo>
                <a:lnTo>
                  <a:pt x="770" y="640"/>
                </a:lnTo>
                <a:lnTo>
                  <a:pt x="750" y="663"/>
                </a:lnTo>
                <a:lnTo>
                  <a:pt x="744" y="688"/>
                </a:lnTo>
                <a:lnTo>
                  <a:pt x="735" y="698"/>
                </a:lnTo>
                <a:lnTo>
                  <a:pt x="735" y="601"/>
                </a:lnTo>
                <a:lnTo>
                  <a:pt x="725" y="585"/>
                </a:lnTo>
                <a:lnTo>
                  <a:pt x="711" y="543"/>
                </a:lnTo>
                <a:lnTo>
                  <a:pt x="653" y="500"/>
                </a:lnTo>
                <a:lnTo>
                  <a:pt x="634" y="500"/>
                </a:lnTo>
                <a:lnTo>
                  <a:pt x="624" y="508"/>
                </a:lnTo>
                <a:lnTo>
                  <a:pt x="624" y="601"/>
                </a:lnTo>
                <a:lnTo>
                  <a:pt x="605" y="659"/>
                </a:lnTo>
                <a:lnTo>
                  <a:pt x="605" y="663"/>
                </a:lnTo>
                <a:lnTo>
                  <a:pt x="595" y="698"/>
                </a:lnTo>
                <a:lnTo>
                  <a:pt x="566" y="737"/>
                </a:lnTo>
                <a:lnTo>
                  <a:pt x="562" y="740"/>
                </a:lnTo>
                <a:lnTo>
                  <a:pt x="562" y="663"/>
                </a:lnTo>
                <a:lnTo>
                  <a:pt x="543" y="595"/>
                </a:lnTo>
                <a:lnTo>
                  <a:pt x="521" y="595"/>
                </a:lnTo>
                <a:lnTo>
                  <a:pt x="502" y="636"/>
                </a:lnTo>
                <a:lnTo>
                  <a:pt x="488" y="673"/>
                </a:lnTo>
                <a:lnTo>
                  <a:pt x="473" y="684"/>
                </a:lnTo>
                <a:lnTo>
                  <a:pt x="479" y="653"/>
                </a:lnTo>
                <a:lnTo>
                  <a:pt x="440" y="620"/>
                </a:lnTo>
                <a:lnTo>
                  <a:pt x="424" y="624"/>
                </a:lnTo>
                <a:lnTo>
                  <a:pt x="421" y="624"/>
                </a:lnTo>
                <a:lnTo>
                  <a:pt x="407" y="663"/>
                </a:lnTo>
                <a:lnTo>
                  <a:pt x="275" y="754"/>
                </a:lnTo>
                <a:lnTo>
                  <a:pt x="238" y="841"/>
                </a:lnTo>
                <a:lnTo>
                  <a:pt x="217" y="919"/>
                </a:lnTo>
                <a:lnTo>
                  <a:pt x="223" y="996"/>
                </a:lnTo>
                <a:lnTo>
                  <a:pt x="227" y="1002"/>
                </a:lnTo>
                <a:lnTo>
                  <a:pt x="151" y="909"/>
                </a:lnTo>
                <a:lnTo>
                  <a:pt x="112" y="847"/>
                </a:lnTo>
                <a:lnTo>
                  <a:pt x="87" y="698"/>
                </a:lnTo>
                <a:lnTo>
                  <a:pt x="44" y="578"/>
                </a:lnTo>
                <a:lnTo>
                  <a:pt x="19" y="539"/>
                </a:lnTo>
                <a:lnTo>
                  <a:pt x="71" y="504"/>
                </a:lnTo>
                <a:lnTo>
                  <a:pt x="93" y="475"/>
                </a:lnTo>
                <a:lnTo>
                  <a:pt x="87" y="358"/>
                </a:lnTo>
                <a:lnTo>
                  <a:pt x="64" y="302"/>
                </a:lnTo>
                <a:lnTo>
                  <a:pt x="31" y="258"/>
                </a:lnTo>
                <a:lnTo>
                  <a:pt x="15" y="252"/>
                </a:lnTo>
                <a:lnTo>
                  <a:pt x="0" y="238"/>
                </a:lnTo>
                <a:lnTo>
                  <a:pt x="25" y="180"/>
                </a:lnTo>
                <a:lnTo>
                  <a:pt x="31" y="135"/>
                </a:lnTo>
                <a:lnTo>
                  <a:pt x="48" y="118"/>
                </a:lnTo>
                <a:lnTo>
                  <a:pt x="180" y="39"/>
                </a:lnTo>
                <a:lnTo>
                  <a:pt x="265" y="9"/>
                </a:lnTo>
                <a:lnTo>
                  <a:pt x="324" y="0"/>
                </a:lnTo>
                <a:lnTo>
                  <a:pt x="527" y="15"/>
                </a:lnTo>
                <a:lnTo>
                  <a:pt x="591" y="35"/>
                </a:lnTo>
                <a:close/>
              </a:path>
            </a:pathLst>
          </a:custGeom>
          <a:solidFill>
            <a:srgbClr val="c14923"/>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72" name=""/>
          <p:cNvSpPr/>
          <p:nvPr/>
        </p:nvSpPr>
        <p:spPr>
          <a:xfrm>
            <a:off x="4078440" y="2946240"/>
            <a:ext cx="241200" cy="66960"/>
          </a:xfrm>
          <a:custGeom>
            <a:avLst/>
            <a:gdLst/>
            <a:ahLst/>
            <a:rect l="l" t="t" r="r" b="b"/>
            <a:pathLst>
              <a:path w="305" h="83">
                <a:moveTo>
                  <a:pt x="305" y="13"/>
                </a:moveTo>
                <a:lnTo>
                  <a:pt x="286" y="13"/>
                </a:lnTo>
                <a:lnTo>
                  <a:pt x="243" y="39"/>
                </a:lnTo>
                <a:lnTo>
                  <a:pt x="218" y="39"/>
                </a:lnTo>
                <a:lnTo>
                  <a:pt x="59" y="77"/>
                </a:lnTo>
                <a:lnTo>
                  <a:pt x="4" y="83"/>
                </a:lnTo>
                <a:lnTo>
                  <a:pt x="0" y="68"/>
                </a:lnTo>
                <a:lnTo>
                  <a:pt x="20" y="58"/>
                </a:lnTo>
                <a:lnTo>
                  <a:pt x="117" y="39"/>
                </a:lnTo>
                <a:lnTo>
                  <a:pt x="276" y="0"/>
                </a:lnTo>
                <a:lnTo>
                  <a:pt x="305" y="4"/>
                </a:lnTo>
                <a:lnTo>
                  <a:pt x="305" y="13"/>
                </a:lnTo>
                <a:close/>
              </a:path>
            </a:pathLst>
          </a:custGeom>
          <a:solidFill>
            <a:srgbClr val="99cccc"/>
          </a:solidFill>
          <a:ln w="0">
            <a:noFill/>
          </a:ln>
        </p:spPr>
        <p:style>
          <a:lnRef idx="0"/>
          <a:fillRef idx="0"/>
          <a:effectRef idx="0"/>
          <a:fontRef idx="minor"/>
        </p:style>
        <p:txBody>
          <a:bodyPr lIns="90000" rIns="90000" tIns="20160" bIns="20160" anchor="t">
            <a:noAutofit/>
          </a:bodyPr>
          <a:p>
            <a:endParaRPr b="0" lang="en-US" sz="2400" spc="-1" strike="noStrike">
              <a:solidFill>
                <a:srgbClr val="ffff66"/>
              </a:solidFill>
              <a:latin typeface="Times New Roman"/>
            </a:endParaRPr>
          </a:p>
        </p:txBody>
      </p:sp>
      <p:sp>
        <p:nvSpPr>
          <p:cNvPr id="273" name=""/>
          <p:cNvSpPr/>
          <p:nvPr/>
        </p:nvSpPr>
        <p:spPr>
          <a:xfrm>
            <a:off x="3052800" y="3046320"/>
            <a:ext cx="100080" cy="211320"/>
          </a:xfrm>
          <a:custGeom>
            <a:avLst/>
            <a:gdLst/>
            <a:ahLst/>
            <a:rect l="l" t="t" r="r" b="b"/>
            <a:pathLst>
              <a:path w="126" h="266">
                <a:moveTo>
                  <a:pt x="116" y="107"/>
                </a:moveTo>
                <a:lnTo>
                  <a:pt x="126" y="155"/>
                </a:lnTo>
                <a:lnTo>
                  <a:pt x="126" y="172"/>
                </a:lnTo>
                <a:lnTo>
                  <a:pt x="116" y="172"/>
                </a:lnTo>
                <a:lnTo>
                  <a:pt x="112" y="178"/>
                </a:lnTo>
                <a:lnTo>
                  <a:pt x="122" y="188"/>
                </a:lnTo>
                <a:lnTo>
                  <a:pt x="116" y="227"/>
                </a:lnTo>
                <a:lnTo>
                  <a:pt x="93" y="260"/>
                </a:lnTo>
                <a:lnTo>
                  <a:pt x="77" y="266"/>
                </a:lnTo>
                <a:lnTo>
                  <a:pt x="64" y="266"/>
                </a:lnTo>
                <a:lnTo>
                  <a:pt x="48" y="236"/>
                </a:lnTo>
                <a:lnTo>
                  <a:pt x="48" y="211"/>
                </a:lnTo>
                <a:lnTo>
                  <a:pt x="44" y="159"/>
                </a:lnTo>
                <a:lnTo>
                  <a:pt x="25" y="72"/>
                </a:lnTo>
                <a:lnTo>
                  <a:pt x="0" y="10"/>
                </a:lnTo>
                <a:lnTo>
                  <a:pt x="25" y="0"/>
                </a:lnTo>
                <a:lnTo>
                  <a:pt x="74" y="35"/>
                </a:lnTo>
                <a:lnTo>
                  <a:pt x="116" y="107"/>
                </a:lnTo>
                <a:close/>
              </a:path>
            </a:pathLst>
          </a:custGeom>
          <a:solidFill>
            <a:srgbClr val="289b2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74" name=""/>
          <p:cNvSpPr/>
          <p:nvPr/>
        </p:nvSpPr>
        <p:spPr>
          <a:xfrm>
            <a:off x="5029200" y="3146400"/>
            <a:ext cx="763560" cy="781200"/>
          </a:xfrm>
          <a:custGeom>
            <a:avLst/>
            <a:gdLst/>
            <a:ahLst/>
            <a:rect l="l" t="t" r="r" b="b"/>
            <a:pathLst>
              <a:path w="962" h="985">
                <a:moveTo>
                  <a:pt x="246" y="4"/>
                </a:moveTo>
                <a:lnTo>
                  <a:pt x="246" y="14"/>
                </a:lnTo>
                <a:lnTo>
                  <a:pt x="281" y="33"/>
                </a:lnTo>
                <a:lnTo>
                  <a:pt x="339" y="39"/>
                </a:lnTo>
                <a:lnTo>
                  <a:pt x="343" y="33"/>
                </a:lnTo>
                <a:lnTo>
                  <a:pt x="343" y="29"/>
                </a:lnTo>
                <a:lnTo>
                  <a:pt x="411" y="58"/>
                </a:lnTo>
                <a:lnTo>
                  <a:pt x="479" y="43"/>
                </a:lnTo>
                <a:lnTo>
                  <a:pt x="469" y="52"/>
                </a:lnTo>
                <a:lnTo>
                  <a:pt x="469" y="72"/>
                </a:lnTo>
                <a:lnTo>
                  <a:pt x="508" y="101"/>
                </a:lnTo>
                <a:lnTo>
                  <a:pt x="557" y="110"/>
                </a:lnTo>
                <a:lnTo>
                  <a:pt x="595" y="101"/>
                </a:lnTo>
                <a:lnTo>
                  <a:pt x="671" y="120"/>
                </a:lnTo>
                <a:lnTo>
                  <a:pt x="749" y="101"/>
                </a:lnTo>
                <a:lnTo>
                  <a:pt x="764" y="97"/>
                </a:lnTo>
                <a:lnTo>
                  <a:pt x="774" y="97"/>
                </a:lnTo>
                <a:lnTo>
                  <a:pt x="760" y="114"/>
                </a:lnTo>
                <a:lnTo>
                  <a:pt x="745" y="143"/>
                </a:lnTo>
                <a:lnTo>
                  <a:pt x="764" y="182"/>
                </a:lnTo>
                <a:lnTo>
                  <a:pt x="754" y="198"/>
                </a:lnTo>
                <a:lnTo>
                  <a:pt x="780" y="250"/>
                </a:lnTo>
                <a:lnTo>
                  <a:pt x="774" y="411"/>
                </a:lnTo>
                <a:lnTo>
                  <a:pt x="735" y="483"/>
                </a:lnTo>
                <a:lnTo>
                  <a:pt x="692" y="516"/>
                </a:lnTo>
                <a:lnTo>
                  <a:pt x="671" y="522"/>
                </a:lnTo>
                <a:lnTo>
                  <a:pt x="661" y="531"/>
                </a:lnTo>
                <a:lnTo>
                  <a:pt x="661" y="541"/>
                </a:lnTo>
                <a:lnTo>
                  <a:pt x="677" y="556"/>
                </a:lnTo>
                <a:lnTo>
                  <a:pt x="745" y="535"/>
                </a:lnTo>
                <a:lnTo>
                  <a:pt x="842" y="454"/>
                </a:lnTo>
                <a:lnTo>
                  <a:pt x="896" y="376"/>
                </a:lnTo>
                <a:lnTo>
                  <a:pt x="906" y="396"/>
                </a:lnTo>
                <a:lnTo>
                  <a:pt x="919" y="411"/>
                </a:lnTo>
                <a:lnTo>
                  <a:pt x="962" y="411"/>
                </a:lnTo>
                <a:lnTo>
                  <a:pt x="962" y="448"/>
                </a:lnTo>
                <a:lnTo>
                  <a:pt x="935" y="522"/>
                </a:lnTo>
                <a:lnTo>
                  <a:pt x="913" y="545"/>
                </a:lnTo>
                <a:lnTo>
                  <a:pt x="884" y="564"/>
                </a:lnTo>
                <a:lnTo>
                  <a:pt x="847" y="560"/>
                </a:lnTo>
                <a:lnTo>
                  <a:pt x="828" y="551"/>
                </a:lnTo>
                <a:lnTo>
                  <a:pt x="797" y="551"/>
                </a:lnTo>
                <a:lnTo>
                  <a:pt x="774" y="570"/>
                </a:lnTo>
                <a:lnTo>
                  <a:pt x="770" y="564"/>
                </a:lnTo>
                <a:lnTo>
                  <a:pt x="760" y="574"/>
                </a:lnTo>
                <a:lnTo>
                  <a:pt x="760" y="651"/>
                </a:lnTo>
                <a:lnTo>
                  <a:pt x="787" y="681"/>
                </a:lnTo>
                <a:lnTo>
                  <a:pt x="793" y="681"/>
                </a:lnTo>
                <a:lnTo>
                  <a:pt x="797" y="677"/>
                </a:lnTo>
                <a:lnTo>
                  <a:pt x="809" y="684"/>
                </a:lnTo>
                <a:lnTo>
                  <a:pt x="729" y="787"/>
                </a:lnTo>
                <a:lnTo>
                  <a:pt x="595" y="888"/>
                </a:lnTo>
                <a:lnTo>
                  <a:pt x="498" y="923"/>
                </a:lnTo>
                <a:lnTo>
                  <a:pt x="431" y="931"/>
                </a:lnTo>
                <a:lnTo>
                  <a:pt x="415" y="942"/>
                </a:lnTo>
                <a:lnTo>
                  <a:pt x="386" y="942"/>
                </a:lnTo>
                <a:lnTo>
                  <a:pt x="266" y="985"/>
                </a:lnTo>
                <a:lnTo>
                  <a:pt x="198" y="979"/>
                </a:lnTo>
                <a:lnTo>
                  <a:pt x="175" y="966"/>
                </a:lnTo>
                <a:lnTo>
                  <a:pt x="155" y="937"/>
                </a:lnTo>
                <a:lnTo>
                  <a:pt x="149" y="898"/>
                </a:lnTo>
                <a:lnTo>
                  <a:pt x="111" y="836"/>
                </a:lnTo>
                <a:lnTo>
                  <a:pt x="25" y="729"/>
                </a:lnTo>
                <a:lnTo>
                  <a:pt x="19" y="706"/>
                </a:lnTo>
                <a:lnTo>
                  <a:pt x="0" y="661"/>
                </a:lnTo>
                <a:lnTo>
                  <a:pt x="0" y="574"/>
                </a:lnTo>
                <a:lnTo>
                  <a:pt x="52" y="438"/>
                </a:lnTo>
                <a:lnTo>
                  <a:pt x="87" y="425"/>
                </a:lnTo>
                <a:lnTo>
                  <a:pt x="194" y="444"/>
                </a:lnTo>
                <a:lnTo>
                  <a:pt x="198" y="444"/>
                </a:lnTo>
                <a:lnTo>
                  <a:pt x="217" y="425"/>
                </a:lnTo>
                <a:lnTo>
                  <a:pt x="207" y="411"/>
                </a:lnTo>
                <a:lnTo>
                  <a:pt x="207" y="405"/>
                </a:lnTo>
                <a:lnTo>
                  <a:pt x="213" y="399"/>
                </a:lnTo>
                <a:lnTo>
                  <a:pt x="207" y="396"/>
                </a:lnTo>
                <a:lnTo>
                  <a:pt x="198" y="396"/>
                </a:lnTo>
                <a:lnTo>
                  <a:pt x="175" y="347"/>
                </a:lnTo>
                <a:lnTo>
                  <a:pt x="107" y="314"/>
                </a:lnTo>
                <a:lnTo>
                  <a:pt x="78" y="310"/>
                </a:lnTo>
                <a:lnTo>
                  <a:pt x="66" y="262"/>
                </a:lnTo>
                <a:lnTo>
                  <a:pt x="74" y="217"/>
                </a:lnTo>
                <a:lnTo>
                  <a:pt x="83" y="207"/>
                </a:lnTo>
                <a:lnTo>
                  <a:pt x="140" y="211"/>
                </a:lnTo>
                <a:lnTo>
                  <a:pt x="140" y="217"/>
                </a:lnTo>
                <a:lnTo>
                  <a:pt x="159" y="221"/>
                </a:lnTo>
                <a:lnTo>
                  <a:pt x="169" y="221"/>
                </a:lnTo>
                <a:lnTo>
                  <a:pt x="178" y="204"/>
                </a:lnTo>
                <a:lnTo>
                  <a:pt x="178" y="198"/>
                </a:lnTo>
                <a:lnTo>
                  <a:pt x="126" y="174"/>
                </a:lnTo>
                <a:lnTo>
                  <a:pt x="87" y="174"/>
                </a:lnTo>
                <a:lnTo>
                  <a:pt x="83" y="178"/>
                </a:lnTo>
                <a:lnTo>
                  <a:pt x="101" y="81"/>
                </a:lnTo>
                <a:lnTo>
                  <a:pt x="130" y="14"/>
                </a:lnTo>
                <a:lnTo>
                  <a:pt x="159" y="0"/>
                </a:lnTo>
                <a:lnTo>
                  <a:pt x="184" y="14"/>
                </a:lnTo>
                <a:lnTo>
                  <a:pt x="246" y="4"/>
                </a:lnTo>
                <a:close/>
              </a:path>
            </a:pathLst>
          </a:custGeom>
          <a:solidFill>
            <a:srgbClr val="f2b596"/>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75" name=""/>
          <p:cNvSpPr/>
          <p:nvPr/>
        </p:nvSpPr>
        <p:spPr>
          <a:xfrm>
            <a:off x="5527800" y="3252960"/>
            <a:ext cx="583920" cy="790560"/>
          </a:xfrm>
          <a:custGeom>
            <a:avLst/>
            <a:gdLst/>
            <a:ahLst/>
            <a:rect l="l" t="t" r="r" b="b"/>
            <a:pathLst>
              <a:path w="735" h="996">
                <a:moveTo>
                  <a:pt x="667" y="6"/>
                </a:moveTo>
                <a:lnTo>
                  <a:pt x="687" y="48"/>
                </a:lnTo>
                <a:lnTo>
                  <a:pt x="726" y="165"/>
                </a:lnTo>
                <a:lnTo>
                  <a:pt x="735" y="232"/>
                </a:lnTo>
                <a:lnTo>
                  <a:pt x="731" y="430"/>
                </a:lnTo>
                <a:lnTo>
                  <a:pt x="708" y="562"/>
                </a:lnTo>
                <a:lnTo>
                  <a:pt x="679" y="640"/>
                </a:lnTo>
                <a:lnTo>
                  <a:pt x="615" y="731"/>
                </a:lnTo>
                <a:lnTo>
                  <a:pt x="524" y="812"/>
                </a:lnTo>
                <a:lnTo>
                  <a:pt x="278" y="942"/>
                </a:lnTo>
                <a:lnTo>
                  <a:pt x="136" y="987"/>
                </a:lnTo>
                <a:lnTo>
                  <a:pt x="55" y="996"/>
                </a:lnTo>
                <a:lnTo>
                  <a:pt x="10" y="993"/>
                </a:lnTo>
                <a:lnTo>
                  <a:pt x="0" y="993"/>
                </a:lnTo>
                <a:lnTo>
                  <a:pt x="82" y="952"/>
                </a:lnTo>
                <a:lnTo>
                  <a:pt x="136" y="909"/>
                </a:lnTo>
                <a:lnTo>
                  <a:pt x="200" y="832"/>
                </a:lnTo>
                <a:lnTo>
                  <a:pt x="252" y="727"/>
                </a:lnTo>
                <a:lnTo>
                  <a:pt x="282" y="630"/>
                </a:lnTo>
                <a:lnTo>
                  <a:pt x="285" y="450"/>
                </a:lnTo>
                <a:lnTo>
                  <a:pt x="340" y="388"/>
                </a:lnTo>
                <a:lnTo>
                  <a:pt x="369" y="291"/>
                </a:lnTo>
                <a:lnTo>
                  <a:pt x="388" y="271"/>
                </a:lnTo>
                <a:lnTo>
                  <a:pt x="413" y="238"/>
                </a:lnTo>
                <a:lnTo>
                  <a:pt x="456" y="198"/>
                </a:lnTo>
                <a:lnTo>
                  <a:pt x="538" y="77"/>
                </a:lnTo>
                <a:lnTo>
                  <a:pt x="551" y="40"/>
                </a:lnTo>
                <a:lnTo>
                  <a:pt x="563" y="0"/>
                </a:lnTo>
                <a:lnTo>
                  <a:pt x="631" y="9"/>
                </a:lnTo>
                <a:lnTo>
                  <a:pt x="667" y="6"/>
                </a:lnTo>
                <a:close/>
              </a:path>
            </a:pathLst>
          </a:custGeom>
          <a:solidFill>
            <a:srgbClr val="ff663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76" name=""/>
          <p:cNvSpPr/>
          <p:nvPr/>
        </p:nvSpPr>
        <p:spPr>
          <a:xfrm>
            <a:off x="3222720" y="3279600"/>
            <a:ext cx="690480" cy="787680"/>
          </a:xfrm>
          <a:custGeom>
            <a:avLst/>
            <a:gdLst/>
            <a:ahLst/>
            <a:rect l="l" t="t" r="r" b="b"/>
            <a:pathLst>
              <a:path w="871" h="990">
                <a:moveTo>
                  <a:pt x="557" y="52"/>
                </a:moveTo>
                <a:lnTo>
                  <a:pt x="566" y="116"/>
                </a:lnTo>
                <a:lnTo>
                  <a:pt x="551" y="178"/>
                </a:lnTo>
                <a:lnTo>
                  <a:pt x="547" y="190"/>
                </a:lnTo>
                <a:lnTo>
                  <a:pt x="547" y="203"/>
                </a:lnTo>
                <a:lnTo>
                  <a:pt x="557" y="211"/>
                </a:lnTo>
                <a:lnTo>
                  <a:pt x="570" y="211"/>
                </a:lnTo>
                <a:lnTo>
                  <a:pt x="628" y="149"/>
                </a:lnTo>
                <a:lnTo>
                  <a:pt x="628" y="194"/>
                </a:lnTo>
                <a:lnTo>
                  <a:pt x="644" y="207"/>
                </a:lnTo>
                <a:lnTo>
                  <a:pt x="696" y="149"/>
                </a:lnTo>
                <a:lnTo>
                  <a:pt x="716" y="93"/>
                </a:lnTo>
                <a:lnTo>
                  <a:pt x="716" y="19"/>
                </a:lnTo>
                <a:lnTo>
                  <a:pt x="774" y="77"/>
                </a:lnTo>
                <a:lnTo>
                  <a:pt x="788" y="149"/>
                </a:lnTo>
                <a:lnTo>
                  <a:pt x="799" y="159"/>
                </a:lnTo>
                <a:lnTo>
                  <a:pt x="822" y="155"/>
                </a:lnTo>
                <a:lnTo>
                  <a:pt x="832" y="145"/>
                </a:lnTo>
                <a:lnTo>
                  <a:pt x="836" y="223"/>
                </a:lnTo>
                <a:lnTo>
                  <a:pt x="826" y="242"/>
                </a:lnTo>
                <a:lnTo>
                  <a:pt x="822" y="298"/>
                </a:lnTo>
                <a:lnTo>
                  <a:pt x="745" y="323"/>
                </a:lnTo>
                <a:lnTo>
                  <a:pt x="677" y="382"/>
                </a:lnTo>
                <a:lnTo>
                  <a:pt x="696" y="411"/>
                </a:lnTo>
                <a:lnTo>
                  <a:pt x="755" y="428"/>
                </a:lnTo>
                <a:lnTo>
                  <a:pt x="832" y="415"/>
                </a:lnTo>
                <a:lnTo>
                  <a:pt x="842" y="405"/>
                </a:lnTo>
                <a:lnTo>
                  <a:pt x="861" y="444"/>
                </a:lnTo>
                <a:lnTo>
                  <a:pt x="871" y="546"/>
                </a:lnTo>
                <a:lnTo>
                  <a:pt x="865" y="605"/>
                </a:lnTo>
                <a:lnTo>
                  <a:pt x="832" y="729"/>
                </a:lnTo>
                <a:lnTo>
                  <a:pt x="778" y="845"/>
                </a:lnTo>
                <a:lnTo>
                  <a:pt x="677" y="965"/>
                </a:lnTo>
                <a:lnTo>
                  <a:pt x="628" y="990"/>
                </a:lnTo>
                <a:lnTo>
                  <a:pt x="537" y="985"/>
                </a:lnTo>
                <a:lnTo>
                  <a:pt x="411" y="942"/>
                </a:lnTo>
                <a:lnTo>
                  <a:pt x="295" y="903"/>
                </a:lnTo>
                <a:lnTo>
                  <a:pt x="184" y="822"/>
                </a:lnTo>
                <a:lnTo>
                  <a:pt x="126" y="748"/>
                </a:lnTo>
                <a:lnTo>
                  <a:pt x="107" y="705"/>
                </a:lnTo>
                <a:lnTo>
                  <a:pt x="93" y="696"/>
                </a:lnTo>
                <a:lnTo>
                  <a:pt x="39" y="709"/>
                </a:lnTo>
                <a:lnTo>
                  <a:pt x="0" y="680"/>
                </a:lnTo>
                <a:lnTo>
                  <a:pt x="16" y="680"/>
                </a:lnTo>
                <a:lnTo>
                  <a:pt x="45" y="676"/>
                </a:lnTo>
                <a:lnTo>
                  <a:pt x="52" y="661"/>
                </a:lnTo>
                <a:lnTo>
                  <a:pt x="23" y="599"/>
                </a:lnTo>
                <a:lnTo>
                  <a:pt x="29" y="453"/>
                </a:lnTo>
                <a:lnTo>
                  <a:pt x="111" y="541"/>
                </a:lnTo>
                <a:lnTo>
                  <a:pt x="116" y="541"/>
                </a:lnTo>
                <a:lnTo>
                  <a:pt x="126" y="550"/>
                </a:lnTo>
                <a:lnTo>
                  <a:pt x="130" y="546"/>
                </a:lnTo>
                <a:lnTo>
                  <a:pt x="165" y="560"/>
                </a:lnTo>
                <a:lnTo>
                  <a:pt x="188" y="541"/>
                </a:lnTo>
                <a:lnTo>
                  <a:pt x="188" y="531"/>
                </a:lnTo>
                <a:lnTo>
                  <a:pt x="140" y="492"/>
                </a:lnTo>
                <a:lnTo>
                  <a:pt x="120" y="463"/>
                </a:lnTo>
                <a:lnTo>
                  <a:pt x="107" y="405"/>
                </a:lnTo>
                <a:lnTo>
                  <a:pt x="116" y="343"/>
                </a:lnTo>
                <a:lnTo>
                  <a:pt x="126" y="318"/>
                </a:lnTo>
                <a:lnTo>
                  <a:pt x="146" y="246"/>
                </a:lnTo>
                <a:lnTo>
                  <a:pt x="204" y="194"/>
                </a:lnTo>
                <a:lnTo>
                  <a:pt x="295" y="130"/>
                </a:lnTo>
                <a:lnTo>
                  <a:pt x="301" y="126"/>
                </a:lnTo>
                <a:lnTo>
                  <a:pt x="285" y="197"/>
                </a:lnTo>
                <a:lnTo>
                  <a:pt x="295" y="207"/>
                </a:lnTo>
                <a:lnTo>
                  <a:pt x="318" y="203"/>
                </a:lnTo>
                <a:lnTo>
                  <a:pt x="382" y="126"/>
                </a:lnTo>
                <a:lnTo>
                  <a:pt x="382" y="194"/>
                </a:lnTo>
                <a:lnTo>
                  <a:pt x="372" y="227"/>
                </a:lnTo>
                <a:lnTo>
                  <a:pt x="372" y="246"/>
                </a:lnTo>
                <a:lnTo>
                  <a:pt x="376" y="252"/>
                </a:lnTo>
                <a:lnTo>
                  <a:pt x="256" y="275"/>
                </a:lnTo>
                <a:lnTo>
                  <a:pt x="204" y="304"/>
                </a:lnTo>
                <a:lnTo>
                  <a:pt x="204" y="323"/>
                </a:lnTo>
                <a:lnTo>
                  <a:pt x="221" y="323"/>
                </a:lnTo>
                <a:lnTo>
                  <a:pt x="291" y="294"/>
                </a:lnTo>
                <a:lnTo>
                  <a:pt x="369" y="285"/>
                </a:lnTo>
                <a:lnTo>
                  <a:pt x="372" y="279"/>
                </a:lnTo>
                <a:lnTo>
                  <a:pt x="372" y="275"/>
                </a:lnTo>
                <a:lnTo>
                  <a:pt x="435" y="298"/>
                </a:lnTo>
                <a:lnTo>
                  <a:pt x="460" y="298"/>
                </a:lnTo>
                <a:lnTo>
                  <a:pt x="469" y="291"/>
                </a:lnTo>
                <a:lnTo>
                  <a:pt x="469" y="279"/>
                </a:lnTo>
                <a:lnTo>
                  <a:pt x="431" y="261"/>
                </a:lnTo>
                <a:lnTo>
                  <a:pt x="425" y="265"/>
                </a:lnTo>
                <a:lnTo>
                  <a:pt x="398" y="252"/>
                </a:lnTo>
                <a:lnTo>
                  <a:pt x="460" y="197"/>
                </a:lnTo>
                <a:lnTo>
                  <a:pt x="493" y="120"/>
                </a:lnTo>
                <a:lnTo>
                  <a:pt x="512" y="13"/>
                </a:lnTo>
                <a:lnTo>
                  <a:pt x="512" y="0"/>
                </a:lnTo>
                <a:lnTo>
                  <a:pt x="526" y="5"/>
                </a:lnTo>
                <a:lnTo>
                  <a:pt x="557" y="52"/>
                </a:lnTo>
                <a:close/>
              </a:path>
            </a:pathLst>
          </a:custGeom>
          <a:solidFill>
            <a:srgbClr val="e8aa7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77" name=""/>
          <p:cNvSpPr/>
          <p:nvPr/>
        </p:nvSpPr>
        <p:spPr>
          <a:xfrm>
            <a:off x="5340240" y="3328920"/>
            <a:ext cx="203400" cy="50760"/>
          </a:xfrm>
          <a:custGeom>
            <a:avLst/>
            <a:gdLst/>
            <a:ahLst/>
            <a:rect l="l" t="t" r="r" b="b"/>
            <a:pathLst>
              <a:path w="256" h="64">
                <a:moveTo>
                  <a:pt x="242" y="44"/>
                </a:moveTo>
                <a:lnTo>
                  <a:pt x="256" y="48"/>
                </a:lnTo>
                <a:lnTo>
                  <a:pt x="252" y="54"/>
                </a:lnTo>
                <a:lnTo>
                  <a:pt x="252" y="64"/>
                </a:lnTo>
                <a:lnTo>
                  <a:pt x="221" y="58"/>
                </a:lnTo>
                <a:lnTo>
                  <a:pt x="165" y="31"/>
                </a:lnTo>
                <a:lnTo>
                  <a:pt x="23" y="38"/>
                </a:lnTo>
                <a:lnTo>
                  <a:pt x="0" y="38"/>
                </a:lnTo>
                <a:lnTo>
                  <a:pt x="4" y="25"/>
                </a:lnTo>
                <a:lnTo>
                  <a:pt x="87" y="0"/>
                </a:lnTo>
                <a:lnTo>
                  <a:pt x="188" y="9"/>
                </a:lnTo>
                <a:lnTo>
                  <a:pt x="242" y="4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278" name=""/>
          <p:cNvSpPr/>
          <p:nvPr/>
        </p:nvSpPr>
        <p:spPr>
          <a:xfrm>
            <a:off x="3900600" y="3341520"/>
            <a:ext cx="137880" cy="476280"/>
          </a:xfrm>
          <a:custGeom>
            <a:avLst/>
            <a:gdLst/>
            <a:ahLst/>
            <a:rect l="l" t="t" r="r" b="b"/>
            <a:pathLst>
              <a:path w="175" h="599">
                <a:moveTo>
                  <a:pt x="136" y="117"/>
                </a:moveTo>
                <a:lnTo>
                  <a:pt x="175" y="153"/>
                </a:lnTo>
                <a:lnTo>
                  <a:pt x="117" y="188"/>
                </a:lnTo>
                <a:lnTo>
                  <a:pt x="121" y="231"/>
                </a:lnTo>
                <a:lnTo>
                  <a:pt x="169" y="295"/>
                </a:lnTo>
                <a:lnTo>
                  <a:pt x="169" y="310"/>
                </a:lnTo>
                <a:lnTo>
                  <a:pt x="121" y="318"/>
                </a:lnTo>
                <a:lnTo>
                  <a:pt x="113" y="338"/>
                </a:lnTo>
                <a:lnTo>
                  <a:pt x="136" y="454"/>
                </a:lnTo>
                <a:lnTo>
                  <a:pt x="68" y="541"/>
                </a:lnTo>
                <a:lnTo>
                  <a:pt x="29" y="599"/>
                </a:lnTo>
                <a:lnTo>
                  <a:pt x="45" y="564"/>
                </a:lnTo>
                <a:lnTo>
                  <a:pt x="45" y="528"/>
                </a:lnTo>
                <a:lnTo>
                  <a:pt x="55" y="464"/>
                </a:lnTo>
                <a:lnTo>
                  <a:pt x="39" y="351"/>
                </a:lnTo>
                <a:lnTo>
                  <a:pt x="0" y="285"/>
                </a:lnTo>
                <a:lnTo>
                  <a:pt x="16" y="227"/>
                </a:lnTo>
                <a:lnTo>
                  <a:pt x="6" y="188"/>
                </a:lnTo>
                <a:lnTo>
                  <a:pt x="16" y="130"/>
                </a:lnTo>
                <a:lnTo>
                  <a:pt x="0" y="20"/>
                </a:lnTo>
                <a:lnTo>
                  <a:pt x="20" y="49"/>
                </a:lnTo>
                <a:lnTo>
                  <a:pt x="26" y="97"/>
                </a:lnTo>
                <a:lnTo>
                  <a:pt x="35" y="107"/>
                </a:lnTo>
                <a:lnTo>
                  <a:pt x="59" y="91"/>
                </a:lnTo>
                <a:lnTo>
                  <a:pt x="97" y="23"/>
                </a:lnTo>
                <a:lnTo>
                  <a:pt x="103" y="0"/>
                </a:lnTo>
                <a:lnTo>
                  <a:pt x="107" y="53"/>
                </a:lnTo>
                <a:lnTo>
                  <a:pt x="136" y="117"/>
                </a:lnTo>
                <a:close/>
              </a:path>
            </a:pathLst>
          </a:custGeom>
          <a:solidFill>
            <a:srgbClr val="c14923"/>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79" name=""/>
          <p:cNvSpPr/>
          <p:nvPr/>
        </p:nvSpPr>
        <p:spPr>
          <a:xfrm>
            <a:off x="3772080" y="3419640"/>
            <a:ext cx="110880" cy="55440"/>
          </a:xfrm>
          <a:custGeom>
            <a:avLst/>
            <a:gdLst/>
            <a:ahLst/>
            <a:rect l="l" t="t" r="r" b="b"/>
            <a:pathLst>
              <a:path w="140" h="72">
                <a:moveTo>
                  <a:pt x="140" y="20"/>
                </a:moveTo>
                <a:lnTo>
                  <a:pt x="140" y="23"/>
                </a:lnTo>
                <a:lnTo>
                  <a:pt x="86" y="29"/>
                </a:lnTo>
                <a:lnTo>
                  <a:pt x="63" y="33"/>
                </a:lnTo>
                <a:lnTo>
                  <a:pt x="10" y="72"/>
                </a:lnTo>
                <a:lnTo>
                  <a:pt x="0" y="62"/>
                </a:lnTo>
                <a:lnTo>
                  <a:pt x="47" y="20"/>
                </a:lnTo>
                <a:lnTo>
                  <a:pt x="101" y="0"/>
                </a:lnTo>
                <a:lnTo>
                  <a:pt x="134" y="16"/>
                </a:lnTo>
                <a:lnTo>
                  <a:pt x="140"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280" name=""/>
          <p:cNvSpPr/>
          <p:nvPr/>
        </p:nvSpPr>
        <p:spPr>
          <a:xfrm>
            <a:off x="5108400" y="3430440"/>
            <a:ext cx="32040" cy="22320"/>
          </a:xfrm>
          <a:custGeom>
            <a:avLst/>
            <a:gdLst/>
            <a:ahLst/>
            <a:rect l="l" t="t" r="r" b="b"/>
            <a:pathLst>
              <a:path w="39" h="27">
                <a:moveTo>
                  <a:pt x="39" y="7"/>
                </a:moveTo>
                <a:lnTo>
                  <a:pt x="35" y="21"/>
                </a:lnTo>
                <a:lnTo>
                  <a:pt x="19" y="27"/>
                </a:lnTo>
                <a:lnTo>
                  <a:pt x="6" y="27"/>
                </a:lnTo>
                <a:lnTo>
                  <a:pt x="0" y="0"/>
                </a:lnTo>
                <a:lnTo>
                  <a:pt x="29" y="0"/>
                </a:lnTo>
                <a:lnTo>
                  <a:pt x="39" y="7"/>
                </a:lnTo>
                <a:close/>
              </a:path>
            </a:pathLst>
          </a:custGeom>
          <a:solidFill>
            <a:srgbClr val="6565cc"/>
          </a:solidFill>
          <a:ln w="0">
            <a:noFill/>
          </a:ln>
        </p:spPr>
        <p:style>
          <a:lnRef idx="0"/>
          <a:fillRef idx="0"/>
          <a:effectRef idx="0"/>
          <a:fontRef idx="minor"/>
        </p:style>
        <p:txBody>
          <a:bodyPr lIns="90000" rIns="90000" tIns="-24480" bIns="-24480" anchor="t">
            <a:noAutofit/>
          </a:bodyPr>
          <a:p>
            <a:endParaRPr b="0" lang="en-US" sz="2400" spc="-1" strike="noStrike">
              <a:solidFill>
                <a:srgbClr val="ffff66"/>
              </a:solidFill>
              <a:latin typeface="Times New Roman"/>
            </a:endParaRPr>
          </a:p>
        </p:txBody>
      </p:sp>
      <p:sp>
        <p:nvSpPr>
          <p:cNvPr id="281" name=""/>
          <p:cNvSpPr/>
          <p:nvPr/>
        </p:nvSpPr>
        <p:spPr>
          <a:xfrm>
            <a:off x="5348160" y="3433680"/>
            <a:ext cx="174600" cy="98640"/>
          </a:xfrm>
          <a:custGeom>
            <a:avLst/>
            <a:gdLst/>
            <a:ahLst/>
            <a:rect l="l" t="t" r="r" b="b"/>
            <a:pathLst>
              <a:path w="221" h="124">
                <a:moveTo>
                  <a:pt x="156" y="23"/>
                </a:moveTo>
                <a:lnTo>
                  <a:pt x="212" y="67"/>
                </a:lnTo>
                <a:lnTo>
                  <a:pt x="221" y="91"/>
                </a:lnTo>
                <a:lnTo>
                  <a:pt x="221" y="100"/>
                </a:lnTo>
                <a:lnTo>
                  <a:pt x="194" y="114"/>
                </a:lnTo>
                <a:lnTo>
                  <a:pt x="49" y="110"/>
                </a:lnTo>
                <a:lnTo>
                  <a:pt x="10" y="124"/>
                </a:lnTo>
                <a:lnTo>
                  <a:pt x="0" y="124"/>
                </a:lnTo>
                <a:lnTo>
                  <a:pt x="4" y="75"/>
                </a:lnTo>
                <a:lnTo>
                  <a:pt x="30" y="29"/>
                </a:lnTo>
                <a:lnTo>
                  <a:pt x="10" y="23"/>
                </a:lnTo>
                <a:lnTo>
                  <a:pt x="10" y="9"/>
                </a:lnTo>
                <a:lnTo>
                  <a:pt x="72" y="0"/>
                </a:lnTo>
                <a:lnTo>
                  <a:pt x="97" y="9"/>
                </a:lnTo>
                <a:lnTo>
                  <a:pt x="15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82" name=""/>
          <p:cNvSpPr/>
          <p:nvPr/>
        </p:nvSpPr>
        <p:spPr>
          <a:xfrm>
            <a:off x="5070600" y="3441600"/>
            <a:ext cx="17280" cy="19080"/>
          </a:xfrm>
          <a:custGeom>
            <a:avLst/>
            <a:gdLst/>
            <a:ahLst/>
            <a:rect l="l" t="t" r="r" b="b"/>
            <a:pathLst>
              <a:path w="22" h="24">
                <a:moveTo>
                  <a:pt x="22" y="24"/>
                </a:moveTo>
                <a:lnTo>
                  <a:pt x="0" y="24"/>
                </a:lnTo>
                <a:lnTo>
                  <a:pt x="14" y="0"/>
                </a:lnTo>
                <a:lnTo>
                  <a:pt x="22" y="14"/>
                </a:lnTo>
                <a:lnTo>
                  <a:pt x="22" y="24"/>
                </a:lnTo>
                <a:close/>
              </a:path>
            </a:pathLst>
          </a:custGeom>
          <a:solidFill>
            <a:srgbClr val="99cccc"/>
          </a:solidFill>
          <a:ln w="0">
            <a:noFill/>
          </a:ln>
        </p:spPr>
        <p:style>
          <a:lnRef idx="0"/>
          <a:fillRef idx="0"/>
          <a:effectRef idx="0"/>
          <a:fontRef idx="minor"/>
        </p:style>
        <p:txBody>
          <a:bodyPr lIns="90000" rIns="90000" tIns="-27720" bIns="-27720" anchor="t">
            <a:noAutofit/>
          </a:bodyPr>
          <a:p>
            <a:endParaRPr b="0" lang="en-US" sz="2400" spc="-1" strike="noStrike">
              <a:solidFill>
                <a:srgbClr val="ffff66"/>
              </a:solidFill>
              <a:latin typeface="Times New Roman"/>
            </a:endParaRPr>
          </a:p>
        </p:txBody>
      </p:sp>
      <p:sp>
        <p:nvSpPr>
          <p:cNvPr id="283" name=""/>
          <p:cNvSpPr/>
          <p:nvPr/>
        </p:nvSpPr>
        <p:spPr>
          <a:xfrm>
            <a:off x="5148360" y="3452760"/>
            <a:ext cx="19080" cy="15840"/>
          </a:xfrm>
          <a:custGeom>
            <a:avLst/>
            <a:gdLst/>
            <a:ahLst/>
            <a:rect l="l" t="t" r="r" b="b"/>
            <a:pathLst>
              <a:path w="26" h="19">
                <a:moveTo>
                  <a:pt x="0" y="19"/>
                </a:moveTo>
                <a:lnTo>
                  <a:pt x="10" y="0"/>
                </a:lnTo>
                <a:lnTo>
                  <a:pt x="26" y="19"/>
                </a:lnTo>
                <a:lnTo>
                  <a:pt x="0" y="19"/>
                </a:lnTo>
                <a:close/>
              </a:path>
            </a:pathLst>
          </a:custGeom>
          <a:solidFill>
            <a:srgbClr val="99cccc"/>
          </a:solidFill>
          <a:ln w="0">
            <a:noFill/>
          </a:ln>
        </p:spPr>
        <p:style>
          <a:lnRef idx="0"/>
          <a:fillRef idx="0"/>
          <a:effectRef idx="0"/>
          <a:fontRef idx="minor"/>
        </p:style>
        <p:txBody>
          <a:bodyPr lIns="90000" rIns="90000" tIns="-30960" bIns="-30960" anchor="t">
            <a:noAutofit/>
          </a:bodyPr>
          <a:p>
            <a:endParaRPr b="0" lang="en-US" sz="2400" spc="-1" strike="noStrike">
              <a:solidFill>
                <a:srgbClr val="ffff66"/>
              </a:solidFill>
              <a:latin typeface="Times New Roman"/>
            </a:endParaRPr>
          </a:p>
        </p:txBody>
      </p:sp>
      <p:sp>
        <p:nvSpPr>
          <p:cNvPr id="284" name=""/>
          <p:cNvSpPr/>
          <p:nvPr/>
        </p:nvSpPr>
        <p:spPr>
          <a:xfrm>
            <a:off x="5405400" y="3460680"/>
            <a:ext cx="30240" cy="22320"/>
          </a:xfrm>
          <a:custGeom>
            <a:avLst/>
            <a:gdLst/>
            <a:ahLst/>
            <a:rect l="l" t="t" r="r" b="b"/>
            <a:pathLst>
              <a:path w="39" h="29">
                <a:moveTo>
                  <a:pt x="39" y="9"/>
                </a:moveTo>
                <a:lnTo>
                  <a:pt x="16" y="29"/>
                </a:lnTo>
                <a:lnTo>
                  <a:pt x="0" y="29"/>
                </a:lnTo>
                <a:lnTo>
                  <a:pt x="6" y="0"/>
                </a:lnTo>
                <a:lnTo>
                  <a:pt x="35" y="3"/>
                </a:lnTo>
                <a:lnTo>
                  <a:pt x="39" y="9"/>
                </a:lnTo>
                <a:close/>
              </a:path>
            </a:pathLst>
          </a:custGeom>
          <a:solidFill>
            <a:srgbClr val="6565cc"/>
          </a:solidFill>
          <a:ln w="0">
            <a:noFill/>
          </a:ln>
        </p:spPr>
        <p:style>
          <a:lnRef idx="0"/>
          <a:fillRef idx="0"/>
          <a:effectRef idx="0"/>
          <a:fontRef idx="minor"/>
        </p:style>
        <p:txBody>
          <a:bodyPr lIns="90000" rIns="90000" tIns="-24480" bIns="-24480" anchor="t">
            <a:noAutofit/>
          </a:bodyPr>
          <a:p>
            <a:endParaRPr b="0" lang="en-US" sz="2400" spc="-1" strike="noStrike">
              <a:solidFill>
                <a:srgbClr val="ffff66"/>
              </a:solidFill>
              <a:latin typeface="Times New Roman"/>
            </a:endParaRPr>
          </a:p>
        </p:txBody>
      </p:sp>
      <p:sp>
        <p:nvSpPr>
          <p:cNvPr id="285" name=""/>
          <p:cNvSpPr/>
          <p:nvPr/>
        </p:nvSpPr>
        <p:spPr>
          <a:xfrm>
            <a:off x="5427720" y="3473280"/>
            <a:ext cx="61920" cy="33480"/>
          </a:xfrm>
          <a:custGeom>
            <a:avLst/>
            <a:gdLst/>
            <a:ahLst/>
            <a:rect l="l" t="t" r="r" b="b"/>
            <a:pathLst>
              <a:path w="78" h="43">
                <a:moveTo>
                  <a:pt x="78" y="27"/>
                </a:moveTo>
                <a:lnTo>
                  <a:pt x="78" y="33"/>
                </a:lnTo>
                <a:lnTo>
                  <a:pt x="14" y="43"/>
                </a:lnTo>
                <a:lnTo>
                  <a:pt x="0" y="37"/>
                </a:lnTo>
                <a:lnTo>
                  <a:pt x="25" y="27"/>
                </a:lnTo>
                <a:lnTo>
                  <a:pt x="35" y="0"/>
                </a:lnTo>
                <a:lnTo>
                  <a:pt x="62" y="14"/>
                </a:lnTo>
                <a:lnTo>
                  <a:pt x="78" y="27"/>
                </a:lnTo>
                <a:close/>
              </a:path>
            </a:pathLst>
          </a:custGeom>
          <a:solidFill>
            <a:srgbClr val="99cccc"/>
          </a:solidFill>
          <a:ln w="0">
            <a:noFill/>
          </a:ln>
        </p:spPr>
        <p:style>
          <a:lnRef idx="0"/>
          <a:fillRef idx="0"/>
          <a:effectRef idx="0"/>
          <a:fontRef idx="minor"/>
        </p:style>
        <p:txBody>
          <a:bodyPr lIns="90000" rIns="90000" tIns="-13320" bIns="-13320" anchor="t">
            <a:noAutofit/>
          </a:bodyPr>
          <a:p>
            <a:endParaRPr b="0" lang="en-US" sz="2400" spc="-1" strike="noStrike">
              <a:solidFill>
                <a:srgbClr val="ffff66"/>
              </a:solidFill>
              <a:latin typeface="Times New Roman"/>
            </a:endParaRPr>
          </a:p>
        </p:txBody>
      </p:sp>
      <p:sp>
        <p:nvSpPr>
          <p:cNvPr id="286" name=""/>
          <p:cNvSpPr/>
          <p:nvPr/>
        </p:nvSpPr>
        <p:spPr>
          <a:xfrm>
            <a:off x="5362560" y="3479760"/>
            <a:ext cx="27000" cy="31680"/>
          </a:xfrm>
          <a:custGeom>
            <a:avLst/>
            <a:gdLst/>
            <a:ahLst/>
            <a:rect l="l" t="t" r="r" b="b"/>
            <a:pathLst>
              <a:path w="33" h="39">
                <a:moveTo>
                  <a:pt x="0" y="39"/>
                </a:moveTo>
                <a:lnTo>
                  <a:pt x="25" y="0"/>
                </a:lnTo>
                <a:lnTo>
                  <a:pt x="33" y="27"/>
                </a:lnTo>
                <a:lnTo>
                  <a:pt x="0" y="39"/>
                </a:lnTo>
                <a:close/>
              </a:path>
            </a:pathLst>
          </a:custGeom>
          <a:solidFill>
            <a:srgbClr val="99cccc"/>
          </a:solidFill>
          <a:ln w="0">
            <a:noFill/>
          </a:ln>
        </p:spPr>
        <p:style>
          <a:lnRef idx="0"/>
          <a:fillRef idx="0"/>
          <a:effectRef idx="0"/>
          <a:fontRef idx="minor"/>
        </p:style>
        <p:txBody>
          <a:bodyPr lIns="90000" rIns="90000" tIns="-15120" bIns="-15120" anchor="t">
            <a:noAutofit/>
          </a:bodyPr>
          <a:p>
            <a:endParaRPr b="0" lang="en-US" sz="2400" spc="-1" strike="noStrike">
              <a:solidFill>
                <a:srgbClr val="ffff66"/>
              </a:solidFill>
              <a:latin typeface="Times New Roman"/>
            </a:endParaRPr>
          </a:p>
        </p:txBody>
      </p:sp>
      <p:sp>
        <p:nvSpPr>
          <p:cNvPr id="287" name=""/>
          <p:cNvSpPr/>
          <p:nvPr/>
        </p:nvSpPr>
        <p:spPr>
          <a:xfrm>
            <a:off x="5137200" y="3524400"/>
            <a:ext cx="41400" cy="101520"/>
          </a:xfrm>
          <a:custGeom>
            <a:avLst/>
            <a:gdLst/>
            <a:ahLst/>
            <a:rect l="l" t="t" r="r" b="b"/>
            <a:pathLst>
              <a:path w="52" h="128">
                <a:moveTo>
                  <a:pt x="29" y="35"/>
                </a:moveTo>
                <a:lnTo>
                  <a:pt x="19" y="45"/>
                </a:lnTo>
                <a:lnTo>
                  <a:pt x="33" y="93"/>
                </a:lnTo>
                <a:lnTo>
                  <a:pt x="52" y="112"/>
                </a:lnTo>
                <a:lnTo>
                  <a:pt x="52" y="120"/>
                </a:lnTo>
                <a:lnTo>
                  <a:pt x="48" y="128"/>
                </a:lnTo>
                <a:lnTo>
                  <a:pt x="9" y="87"/>
                </a:lnTo>
                <a:lnTo>
                  <a:pt x="0" y="50"/>
                </a:lnTo>
                <a:lnTo>
                  <a:pt x="23" y="10"/>
                </a:lnTo>
                <a:lnTo>
                  <a:pt x="33" y="0"/>
                </a:lnTo>
                <a:lnTo>
                  <a:pt x="39" y="6"/>
                </a:lnTo>
                <a:lnTo>
                  <a:pt x="2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88" name=""/>
          <p:cNvSpPr/>
          <p:nvPr/>
        </p:nvSpPr>
        <p:spPr>
          <a:xfrm>
            <a:off x="3846600" y="3544920"/>
            <a:ext cx="36360" cy="23760"/>
          </a:xfrm>
          <a:custGeom>
            <a:avLst/>
            <a:gdLst/>
            <a:ahLst/>
            <a:rect l="l" t="t" r="r" b="b"/>
            <a:pathLst>
              <a:path w="44" h="29">
                <a:moveTo>
                  <a:pt x="29" y="29"/>
                </a:moveTo>
                <a:lnTo>
                  <a:pt x="11" y="29"/>
                </a:lnTo>
                <a:lnTo>
                  <a:pt x="0" y="20"/>
                </a:lnTo>
                <a:lnTo>
                  <a:pt x="19" y="0"/>
                </a:lnTo>
                <a:lnTo>
                  <a:pt x="44" y="0"/>
                </a:lnTo>
                <a:lnTo>
                  <a:pt x="29" y="29"/>
                </a:lnTo>
                <a:close/>
              </a:path>
            </a:pathLst>
          </a:custGeom>
          <a:solidFill>
            <a:srgbClr val="cc6532"/>
          </a:solidFill>
          <a:ln w="0">
            <a:noFill/>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289" name=""/>
          <p:cNvSpPr/>
          <p:nvPr/>
        </p:nvSpPr>
        <p:spPr>
          <a:xfrm>
            <a:off x="3794040" y="3565440"/>
            <a:ext cx="57240" cy="28800"/>
          </a:xfrm>
          <a:custGeom>
            <a:avLst/>
            <a:gdLst/>
            <a:ahLst/>
            <a:rect l="l" t="t" r="r" b="b"/>
            <a:pathLst>
              <a:path w="71" h="37">
                <a:moveTo>
                  <a:pt x="42" y="14"/>
                </a:moveTo>
                <a:lnTo>
                  <a:pt x="71" y="37"/>
                </a:lnTo>
                <a:lnTo>
                  <a:pt x="13" y="37"/>
                </a:lnTo>
                <a:lnTo>
                  <a:pt x="0" y="29"/>
                </a:lnTo>
                <a:lnTo>
                  <a:pt x="29" y="0"/>
                </a:lnTo>
                <a:lnTo>
                  <a:pt x="36" y="0"/>
                </a:lnTo>
                <a:lnTo>
                  <a:pt x="42" y="14"/>
                </a:lnTo>
                <a:close/>
              </a:path>
            </a:pathLst>
          </a:custGeom>
          <a:solidFill>
            <a:srgbClr val="99ffff"/>
          </a:solidFill>
          <a:ln w="0">
            <a:noFill/>
          </a:ln>
        </p:spPr>
        <p:style>
          <a:lnRef idx="0"/>
          <a:fillRef idx="0"/>
          <a:effectRef idx="0"/>
          <a:fontRef idx="minor"/>
        </p:style>
        <p:txBody>
          <a:bodyPr lIns="90000" rIns="90000" tIns="-18000" bIns="-18000" anchor="t">
            <a:noAutofit/>
          </a:bodyPr>
          <a:p>
            <a:endParaRPr b="0" lang="en-US" sz="2400" spc="-1" strike="noStrike">
              <a:solidFill>
                <a:srgbClr val="ffff66"/>
              </a:solidFill>
              <a:latin typeface="Times New Roman"/>
            </a:endParaRPr>
          </a:p>
        </p:txBody>
      </p:sp>
      <p:sp>
        <p:nvSpPr>
          <p:cNvPr id="290" name=""/>
          <p:cNvSpPr/>
          <p:nvPr/>
        </p:nvSpPr>
        <p:spPr>
          <a:xfrm>
            <a:off x="3119400" y="3568680"/>
            <a:ext cx="109440" cy="303120"/>
          </a:xfrm>
          <a:custGeom>
            <a:avLst/>
            <a:gdLst/>
            <a:ahLst/>
            <a:rect l="l" t="t" r="r" b="b"/>
            <a:pathLst>
              <a:path w="140" h="382">
                <a:moveTo>
                  <a:pt x="130" y="58"/>
                </a:moveTo>
                <a:lnTo>
                  <a:pt x="111" y="150"/>
                </a:lnTo>
                <a:lnTo>
                  <a:pt x="117" y="233"/>
                </a:lnTo>
                <a:lnTo>
                  <a:pt x="140" y="291"/>
                </a:lnTo>
                <a:lnTo>
                  <a:pt x="97" y="291"/>
                </a:lnTo>
                <a:lnTo>
                  <a:pt x="86" y="309"/>
                </a:lnTo>
                <a:lnTo>
                  <a:pt x="111" y="378"/>
                </a:lnTo>
                <a:lnTo>
                  <a:pt x="117" y="382"/>
                </a:lnTo>
                <a:lnTo>
                  <a:pt x="68" y="357"/>
                </a:lnTo>
                <a:lnTo>
                  <a:pt x="39" y="324"/>
                </a:lnTo>
                <a:lnTo>
                  <a:pt x="49" y="291"/>
                </a:lnTo>
                <a:lnTo>
                  <a:pt x="43" y="221"/>
                </a:lnTo>
                <a:lnTo>
                  <a:pt x="0" y="101"/>
                </a:lnTo>
                <a:lnTo>
                  <a:pt x="10" y="82"/>
                </a:lnTo>
                <a:lnTo>
                  <a:pt x="23" y="91"/>
                </a:lnTo>
                <a:lnTo>
                  <a:pt x="49" y="97"/>
                </a:lnTo>
                <a:lnTo>
                  <a:pt x="56" y="97"/>
                </a:lnTo>
                <a:lnTo>
                  <a:pt x="68" y="88"/>
                </a:lnTo>
                <a:lnTo>
                  <a:pt x="68" y="53"/>
                </a:lnTo>
                <a:lnTo>
                  <a:pt x="91" y="0"/>
                </a:lnTo>
                <a:lnTo>
                  <a:pt x="117" y="29"/>
                </a:lnTo>
                <a:lnTo>
                  <a:pt x="130" y="58"/>
                </a:lnTo>
                <a:close/>
              </a:path>
            </a:pathLst>
          </a:custGeom>
          <a:solidFill>
            <a:srgbClr val="c14923"/>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91" name=""/>
          <p:cNvSpPr/>
          <p:nvPr/>
        </p:nvSpPr>
        <p:spPr>
          <a:xfrm>
            <a:off x="3390840" y="3578400"/>
            <a:ext cx="235080" cy="90360"/>
          </a:xfrm>
          <a:custGeom>
            <a:avLst/>
            <a:gdLst/>
            <a:ahLst/>
            <a:rect l="l" t="t" r="r" b="b"/>
            <a:pathLst>
              <a:path w="295" h="112">
                <a:moveTo>
                  <a:pt x="295" y="29"/>
                </a:moveTo>
                <a:lnTo>
                  <a:pt x="295" y="44"/>
                </a:lnTo>
                <a:lnTo>
                  <a:pt x="260" y="52"/>
                </a:lnTo>
                <a:lnTo>
                  <a:pt x="256" y="60"/>
                </a:lnTo>
                <a:lnTo>
                  <a:pt x="256" y="68"/>
                </a:lnTo>
                <a:lnTo>
                  <a:pt x="276" y="77"/>
                </a:lnTo>
                <a:lnTo>
                  <a:pt x="276" y="87"/>
                </a:lnTo>
                <a:lnTo>
                  <a:pt x="233" y="112"/>
                </a:lnTo>
                <a:lnTo>
                  <a:pt x="127" y="106"/>
                </a:lnTo>
                <a:lnTo>
                  <a:pt x="39" y="87"/>
                </a:lnTo>
                <a:lnTo>
                  <a:pt x="20" y="97"/>
                </a:lnTo>
                <a:lnTo>
                  <a:pt x="4" y="97"/>
                </a:lnTo>
                <a:lnTo>
                  <a:pt x="0" y="93"/>
                </a:lnTo>
                <a:lnTo>
                  <a:pt x="0" y="83"/>
                </a:lnTo>
                <a:lnTo>
                  <a:pt x="115" y="6"/>
                </a:lnTo>
                <a:lnTo>
                  <a:pt x="140" y="0"/>
                </a:lnTo>
                <a:lnTo>
                  <a:pt x="241" y="6"/>
                </a:lnTo>
                <a:lnTo>
                  <a:pt x="295" y="2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66"/>
              </a:solidFill>
              <a:latin typeface="Times New Roman"/>
            </a:endParaRPr>
          </a:p>
        </p:txBody>
      </p:sp>
      <p:sp>
        <p:nvSpPr>
          <p:cNvPr id="292" name=""/>
          <p:cNvSpPr/>
          <p:nvPr/>
        </p:nvSpPr>
        <p:spPr>
          <a:xfrm>
            <a:off x="5205240" y="3591000"/>
            <a:ext cx="54000" cy="34920"/>
          </a:xfrm>
          <a:custGeom>
            <a:avLst/>
            <a:gdLst/>
            <a:ahLst/>
            <a:rect l="l" t="t" r="r" b="b"/>
            <a:pathLst>
              <a:path w="70" h="45">
                <a:moveTo>
                  <a:pt x="70" y="29"/>
                </a:moveTo>
                <a:lnTo>
                  <a:pt x="60" y="45"/>
                </a:lnTo>
                <a:lnTo>
                  <a:pt x="60" y="33"/>
                </a:lnTo>
                <a:lnTo>
                  <a:pt x="6" y="14"/>
                </a:lnTo>
                <a:lnTo>
                  <a:pt x="0" y="0"/>
                </a:lnTo>
                <a:lnTo>
                  <a:pt x="54" y="4"/>
                </a:lnTo>
                <a:lnTo>
                  <a:pt x="70" y="2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293" name=""/>
          <p:cNvSpPr/>
          <p:nvPr/>
        </p:nvSpPr>
        <p:spPr>
          <a:xfrm>
            <a:off x="3448080" y="3598920"/>
            <a:ext cx="77760" cy="49320"/>
          </a:xfrm>
          <a:custGeom>
            <a:avLst/>
            <a:gdLst/>
            <a:ahLst/>
            <a:rect l="l" t="t" r="r" b="b"/>
            <a:pathLst>
              <a:path w="97" h="62">
                <a:moveTo>
                  <a:pt x="97" y="4"/>
                </a:moveTo>
                <a:lnTo>
                  <a:pt x="87" y="39"/>
                </a:lnTo>
                <a:lnTo>
                  <a:pt x="97" y="52"/>
                </a:lnTo>
                <a:lnTo>
                  <a:pt x="84" y="62"/>
                </a:lnTo>
                <a:lnTo>
                  <a:pt x="49" y="52"/>
                </a:lnTo>
                <a:lnTo>
                  <a:pt x="39" y="52"/>
                </a:lnTo>
                <a:lnTo>
                  <a:pt x="0" y="43"/>
                </a:lnTo>
                <a:lnTo>
                  <a:pt x="55" y="10"/>
                </a:lnTo>
                <a:lnTo>
                  <a:pt x="84" y="0"/>
                </a:lnTo>
                <a:lnTo>
                  <a:pt x="87" y="4"/>
                </a:lnTo>
                <a:lnTo>
                  <a:pt x="97" y="4"/>
                </a:lnTo>
                <a:close/>
              </a:path>
            </a:pathLst>
          </a:custGeom>
          <a:solidFill>
            <a:srgbClr val="99ffff"/>
          </a:solidFill>
          <a:ln w="0">
            <a:noFill/>
          </a:ln>
        </p:spPr>
        <p:style>
          <a:lnRef idx="0"/>
          <a:fillRef idx="0"/>
          <a:effectRef idx="0"/>
          <a:fontRef idx="minor"/>
        </p:style>
        <p:txBody>
          <a:bodyPr lIns="90000" rIns="90000" tIns="2520" bIns="2520" anchor="t">
            <a:noAutofit/>
          </a:bodyPr>
          <a:p>
            <a:endParaRPr b="0" lang="en-US" sz="2400" spc="-1" strike="noStrike">
              <a:solidFill>
                <a:srgbClr val="ffff66"/>
              </a:solidFill>
              <a:latin typeface="Times New Roman"/>
            </a:endParaRPr>
          </a:p>
        </p:txBody>
      </p:sp>
      <p:sp>
        <p:nvSpPr>
          <p:cNvPr id="294" name=""/>
          <p:cNvSpPr/>
          <p:nvPr/>
        </p:nvSpPr>
        <p:spPr>
          <a:xfrm>
            <a:off x="3552840" y="3598920"/>
            <a:ext cx="27000" cy="33120"/>
          </a:xfrm>
          <a:custGeom>
            <a:avLst/>
            <a:gdLst/>
            <a:ahLst/>
            <a:rect l="l" t="t" r="r" b="b"/>
            <a:pathLst>
              <a:path w="33" h="43">
                <a:moveTo>
                  <a:pt x="23" y="4"/>
                </a:moveTo>
                <a:lnTo>
                  <a:pt x="33" y="14"/>
                </a:lnTo>
                <a:lnTo>
                  <a:pt x="23" y="39"/>
                </a:lnTo>
                <a:lnTo>
                  <a:pt x="8" y="43"/>
                </a:lnTo>
                <a:lnTo>
                  <a:pt x="0" y="43"/>
                </a:lnTo>
                <a:lnTo>
                  <a:pt x="0" y="0"/>
                </a:lnTo>
                <a:lnTo>
                  <a:pt x="14" y="4"/>
                </a:lnTo>
                <a:lnTo>
                  <a:pt x="23" y="4"/>
                </a:lnTo>
                <a:close/>
              </a:path>
            </a:pathLst>
          </a:custGeom>
          <a:solidFill>
            <a:srgbClr val="cc6532"/>
          </a:solidFill>
          <a:ln w="0">
            <a:noFill/>
          </a:ln>
        </p:spPr>
        <p:style>
          <a:lnRef idx="0"/>
          <a:fillRef idx="0"/>
          <a:effectRef idx="0"/>
          <a:fontRef idx="minor"/>
        </p:style>
        <p:txBody>
          <a:bodyPr lIns="90000" rIns="90000" tIns="-13680" bIns="-13680" anchor="t">
            <a:noAutofit/>
          </a:bodyPr>
          <a:p>
            <a:endParaRPr b="0" lang="en-US" sz="2400" spc="-1" strike="noStrike">
              <a:solidFill>
                <a:srgbClr val="ffff66"/>
              </a:solidFill>
              <a:latin typeface="Times New Roman"/>
            </a:endParaRPr>
          </a:p>
        </p:txBody>
      </p:sp>
      <p:sp>
        <p:nvSpPr>
          <p:cNvPr id="295" name=""/>
          <p:cNvSpPr/>
          <p:nvPr/>
        </p:nvSpPr>
        <p:spPr>
          <a:xfrm>
            <a:off x="5651640" y="3606840"/>
            <a:ext cx="54000" cy="54000"/>
          </a:xfrm>
          <a:custGeom>
            <a:avLst/>
            <a:gdLst/>
            <a:ahLst/>
            <a:rect l="l" t="t" r="r" b="b"/>
            <a:pathLst>
              <a:path w="68" h="68">
                <a:moveTo>
                  <a:pt x="68" y="17"/>
                </a:moveTo>
                <a:lnTo>
                  <a:pt x="64" y="58"/>
                </a:lnTo>
                <a:lnTo>
                  <a:pt x="49" y="68"/>
                </a:lnTo>
                <a:lnTo>
                  <a:pt x="14" y="68"/>
                </a:lnTo>
                <a:lnTo>
                  <a:pt x="0" y="48"/>
                </a:lnTo>
                <a:lnTo>
                  <a:pt x="4" y="25"/>
                </a:lnTo>
                <a:lnTo>
                  <a:pt x="30" y="0"/>
                </a:lnTo>
                <a:lnTo>
                  <a:pt x="59" y="9"/>
                </a:lnTo>
                <a:lnTo>
                  <a:pt x="68" y="17"/>
                </a:lnTo>
                <a:close/>
              </a:path>
            </a:pathLst>
          </a:custGeom>
          <a:solidFill>
            <a:srgbClr val="cc32ff"/>
          </a:solidFill>
          <a:ln w="0">
            <a:noFill/>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296" name=""/>
          <p:cNvSpPr/>
          <p:nvPr/>
        </p:nvSpPr>
        <p:spPr>
          <a:xfrm>
            <a:off x="5810400" y="3618000"/>
            <a:ext cx="804600" cy="2428920"/>
          </a:xfrm>
          <a:custGeom>
            <a:avLst/>
            <a:gdLst/>
            <a:ahLst/>
            <a:rect l="l" t="t" r="r" b="b"/>
            <a:pathLst>
              <a:path w="1015" h="3060">
                <a:moveTo>
                  <a:pt x="1015" y="3060"/>
                </a:moveTo>
                <a:lnTo>
                  <a:pt x="652" y="3060"/>
                </a:lnTo>
                <a:lnTo>
                  <a:pt x="632" y="3021"/>
                </a:lnTo>
                <a:lnTo>
                  <a:pt x="613" y="2950"/>
                </a:lnTo>
                <a:lnTo>
                  <a:pt x="613" y="2905"/>
                </a:lnTo>
                <a:lnTo>
                  <a:pt x="603" y="2897"/>
                </a:lnTo>
                <a:lnTo>
                  <a:pt x="671" y="2765"/>
                </a:lnTo>
                <a:lnTo>
                  <a:pt x="695" y="2649"/>
                </a:lnTo>
                <a:lnTo>
                  <a:pt x="729" y="2331"/>
                </a:lnTo>
                <a:lnTo>
                  <a:pt x="772" y="2027"/>
                </a:lnTo>
                <a:lnTo>
                  <a:pt x="782" y="2001"/>
                </a:lnTo>
                <a:lnTo>
                  <a:pt x="739" y="1476"/>
                </a:lnTo>
                <a:lnTo>
                  <a:pt x="724" y="1441"/>
                </a:lnTo>
                <a:lnTo>
                  <a:pt x="691" y="1296"/>
                </a:lnTo>
                <a:lnTo>
                  <a:pt x="662" y="1100"/>
                </a:lnTo>
                <a:lnTo>
                  <a:pt x="617" y="945"/>
                </a:lnTo>
                <a:lnTo>
                  <a:pt x="574" y="846"/>
                </a:lnTo>
                <a:lnTo>
                  <a:pt x="503" y="764"/>
                </a:lnTo>
                <a:lnTo>
                  <a:pt x="439" y="725"/>
                </a:lnTo>
                <a:lnTo>
                  <a:pt x="396" y="687"/>
                </a:lnTo>
                <a:lnTo>
                  <a:pt x="208" y="609"/>
                </a:lnTo>
                <a:lnTo>
                  <a:pt x="159" y="582"/>
                </a:lnTo>
                <a:lnTo>
                  <a:pt x="29" y="528"/>
                </a:lnTo>
                <a:lnTo>
                  <a:pt x="0" y="499"/>
                </a:lnTo>
                <a:lnTo>
                  <a:pt x="4" y="489"/>
                </a:lnTo>
                <a:lnTo>
                  <a:pt x="4" y="479"/>
                </a:lnTo>
                <a:lnTo>
                  <a:pt x="124" y="417"/>
                </a:lnTo>
                <a:lnTo>
                  <a:pt x="140" y="402"/>
                </a:lnTo>
                <a:lnTo>
                  <a:pt x="153" y="402"/>
                </a:lnTo>
                <a:lnTo>
                  <a:pt x="260" y="330"/>
                </a:lnTo>
                <a:lnTo>
                  <a:pt x="415" y="281"/>
                </a:lnTo>
                <a:lnTo>
                  <a:pt x="613" y="198"/>
                </a:lnTo>
                <a:lnTo>
                  <a:pt x="743" y="155"/>
                </a:lnTo>
                <a:lnTo>
                  <a:pt x="801" y="117"/>
                </a:lnTo>
                <a:lnTo>
                  <a:pt x="811" y="117"/>
                </a:lnTo>
                <a:lnTo>
                  <a:pt x="811" y="97"/>
                </a:lnTo>
                <a:lnTo>
                  <a:pt x="807" y="91"/>
                </a:lnTo>
                <a:lnTo>
                  <a:pt x="791" y="91"/>
                </a:lnTo>
                <a:lnTo>
                  <a:pt x="768" y="113"/>
                </a:lnTo>
                <a:lnTo>
                  <a:pt x="743" y="122"/>
                </a:lnTo>
                <a:lnTo>
                  <a:pt x="695" y="140"/>
                </a:lnTo>
                <a:lnTo>
                  <a:pt x="685" y="140"/>
                </a:lnTo>
                <a:lnTo>
                  <a:pt x="724" y="117"/>
                </a:lnTo>
                <a:lnTo>
                  <a:pt x="768" y="103"/>
                </a:lnTo>
                <a:lnTo>
                  <a:pt x="795" y="84"/>
                </a:lnTo>
                <a:lnTo>
                  <a:pt x="879" y="58"/>
                </a:lnTo>
                <a:lnTo>
                  <a:pt x="904" y="45"/>
                </a:lnTo>
                <a:lnTo>
                  <a:pt x="947" y="29"/>
                </a:lnTo>
                <a:lnTo>
                  <a:pt x="947" y="26"/>
                </a:lnTo>
                <a:lnTo>
                  <a:pt x="1005" y="0"/>
                </a:lnTo>
                <a:lnTo>
                  <a:pt x="1015" y="0"/>
                </a:lnTo>
                <a:lnTo>
                  <a:pt x="1015" y="306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97" name=""/>
          <p:cNvSpPr/>
          <p:nvPr/>
        </p:nvSpPr>
        <p:spPr>
          <a:xfrm>
            <a:off x="5291280" y="3632040"/>
            <a:ext cx="498240" cy="968400"/>
          </a:xfrm>
          <a:custGeom>
            <a:avLst/>
            <a:gdLst/>
            <a:ahLst/>
            <a:rect l="l" t="t" r="r" b="b"/>
            <a:pathLst>
              <a:path w="628" h="1219">
                <a:moveTo>
                  <a:pt x="512" y="265"/>
                </a:moveTo>
                <a:lnTo>
                  <a:pt x="479" y="337"/>
                </a:lnTo>
                <a:lnTo>
                  <a:pt x="370" y="446"/>
                </a:lnTo>
                <a:lnTo>
                  <a:pt x="250" y="492"/>
                </a:lnTo>
                <a:lnTo>
                  <a:pt x="244" y="488"/>
                </a:lnTo>
                <a:lnTo>
                  <a:pt x="234" y="502"/>
                </a:lnTo>
                <a:lnTo>
                  <a:pt x="240" y="527"/>
                </a:lnTo>
                <a:lnTo>
                  <a:pt x="256" y="537"/>
                </a:lnTo>
                <a:lnTo>
                  <a:pt x="314" y="550"/>
                </a:lnTo>
                <a:lnTo>
                  <a:pt x="440" y="537"/>
                </a:lnTo>
                <a:lnTo>
                  <a:pt x="554" y="502"/>
                </a:lnTo>
                <a:lnTo>
                  <a:pt x="618" y="479"/>
                </a:lnTo>
                <a:lnTo>
                  <a:pt x="624" y="479"/>
                </a:lnTo>
                <a:lnTo>
                  <a:pt x="628" y="514"/>
                </a:lnTo>
                <a:lnTo>
                  <a:pt x="628" y="541"/>
                </a:lnTo>
                <a:lnTo>
                  <a:pt x="589" y="690"/>
                </a:lnTo>
                <a:lnTo>
                  <a:pt x="492" y="899"/>
                </a:lnTo>
                <a:lnTo>
                  <a:pt x="370" y="1087"/>
                </a:lnTo>
                <a:lnTo>
                  <a:pt x="279" y="1184"/>
                </a:lnTo>
                <a:lnTo>
                  <a:pt x="221" y="1214"/>
                </a:lnTo>
                <a:lnTo>
                  <a:pt x="186" y="1219"/>
                </a:lnTo>
                <a:lnTo>
                  <a:pt x="172" y="1219"/>
                </a:lnTo>
                <a:lnTo>
                  <a:pt x="163" y="1198"/>
                </a:lnTo>
                <a:lnTo>
                  <a:pt x="149" y="1190"/>
                </a:lnTo>
                <a:lnTo>
                  <a:pt x="120" y="1206"/>
                </a:lnTo>
                <a:lnTo>
                  <a:pt x="91" y="1190"/>
                </a:lnTo>
                <a:lnTo>
                  <a:pt x="19" y="1093"/>
                </a:lnTo>
                <a:lnTo>
                  <a:pt x="0" y="973"/>
                </a:lnTo>
                <a:lnTo>
                  <a:pt x="4" y="773"/>
                </a:lnTo>
                <a:lnTo>
                  <a:pt x="52" y="579"/>
                </a:lnTo>
                <a:lnTo>
                  <a:pt x="71" y="521"/>
                </a:lnTo>
                <a:lnTo>
                  <a:pt x="75" y="517"/>
                </a:lnTo>
                <a:lnTo>
                  <a:pt x="85" y="570"/>
                </a:lnTo>
                <a:lnTo>
                  <a:pt x="85" y="595"/>
                </a:lnTo>
                <a:lnTo>
                  <a:pt x="91" y="599"/>
                </a:lnTo>
                <a:lnTo>
                  <a:pt x="110" y="579"/>
                </a:lnTo>
                <a:lnTo>
                  <a:pt x="91" y="424"/>
                </a:lnTo>
                <a:lnTo>
                  <a:pt x="75" y="382"/>
                </a:lnTo>
                <a:lnTo>
                  <a:pt x="75" y="362"/>
                </a:lnTo>
                <a:lnTo>
                  <a:pt x="120" y="349"/>
                </a:lnTo>
                <a:lnTo>
                  <a:pt x="159" y="349"/>
                </a:lnTo>
                <a:lnTo>
                  <a:pt x="289" y="300"/>
                </a:lnTo>
                <a:lnTo>
                  <a:pt x="444" y="168"/>
                </a:lnTo>
                <a:lnTo>
                  <a:pt x="550" y="19"/>
                </a:lnTo>
                <a:lnTo>
                  <a:pt x="550" y="0"/>
                </a:lnTo>
                <a:lnTo>
                  <a:pt x="547" y="178"/>
                </a:lnTo>
                <a:lnTo>
                  <a:pt x="512" y="265"/>
                </a:lnTo>
                <a:close/>
              </a:path>
            </a:pathLst>
          </a:custGeom>
          <a:solidFill>
            <a:srgbClr val="f2b596"/>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98" name=""/>
          <p:cNvSpPr/>
          <p:nvPr/>
        </p:nvSpPr>
        <p:spPr>
          <a:xfrm>
            <a:off x="2189160" y="3660840"/>
            <a:ext cx="195120" cy="57240"/>
          </a:xfrm>
          <a:custGeom>
            <a:avLst/>
            <a:gdLst/>
            <a:ahLst/>
            <a:rect l="l" t="t" r="r" b="b"/>
            <a:pathLst>
              <a:path w="246" h="71">
                <a:moveTo>
                  <a:pt x="180" y="42"/>
                </a:moveTo>
                <a:lnTo>
                  <a:pt x="4" y="71"/>
                </a:lnTo>
                <a:lnTo>
                  <a:pt x="0" y="67"/>
                </a:lnTo>
                <a:lnTo>
                  <a:pt x="0" y="52"/>
                </a:lnTo>
                <a:lnTo>
                  <a:pt x="194" y="9"/>
                </a:lnTo>
                <a:lnTo>
                  <a:pt x="227" y="0"/>
                </a:lnTo>
                <a:lnTo>
                  <a:pt x="246" y="0"/>
                </a:lnTo>
                <a:lnTo>
                  <a:pt x="180" y="42"/>
                </a:lnTo>
                <a:close/>
              </a:path>
            </a:pathLst>
          </a:custGeom>
          <a:solidFill>
            <a:srgbClr val="99cccc"/>
          </a:solidFill>
          <a:ln w="0">
            <a:noFill/>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299" name=""/>
          <p:cNvSpPr/>
          <p:nvPr/>
        </p:nvSpPr>
        <p:spPr>
          <a:xfrm>
            <a:off x="5091120" y="3672000"/>
            <a:ext cx="228600" cy="133200"/>
          </a:xfrm>
          <a:custGeom>
            <a:avLst/>
            <a:gdLst/>
            <a:ahLst/>
            <a:rect l="l" t="t" r="r" b="b"/>
            <a:pathLst>
              <a:path w="289" h="169">
                <a:moveTo>
                  <a:pt x="97" y="10"/>
                </a:moveTo>
                <a:lnTo>
                  <a:pt x="106" y="20"/>
                </a:lnTo>
                <a:lnTo>
                  <a:pt x="135" y="20"/>
                </a:lnTo>
                <a:lnTo>
                  <a:pt x="149" y="6"/>
                </a:lnTo>
                <a:lnTo>
                  <a:pt x="188" y="10"/>
                </a:lnTo>
                <a:lnTo>
                  <a:pt x="256" y="64"/>
                </a:lnTo>
                <a:lnTo>
                  <a:pt x="289" y="58"/>
                </a:lnTo>
                <a:lnTo>
                  <a:pt x="275" y="91"/>
                </a:lnTo>
                <a:lnTo>
                  <a:pt x="192" y="161"/>
                </a:lnTo>
                <a:lnTo>
                  <a:pt x="155" y="169"/>
                </a:lnTo>
                <a:lnTo>
                  <a:pt x="77" y="161"/>
                </a:lnTo>
                <a:lnTo>
                  <a:pt x="42" y="126"/>
                </a:lnTo>
                <a:lnTo>
                  <a:pt x="33" y="82"/>
                </a:lnTo>
                <a:lnTo>
                  <a:pt x="38" y="54"/>
                </a:lnTo>
                <a:lnTo>
                  <a:pt x="29" y="45"/>
                </a:lnTo>
                <a:lnTo>
                  <a:pt x="0" y="45"/>
                </a:lnTo>
                <a:lnTo>
                  <a:pt x="0" y="29"/>
                </a:lnTo>
                <a:lnTo>
                  <a:pt x="19" y="20"/>
                </a:lnTo>
                <a:lnTo>
                  <a:pt x="62" y="10"/>
                </a:lnTo>
                <a:lnTo>
                  <a:pt x="77" y="0"/>
                </a:lnTo>
                <a:lnTo>
                  <a:pt x="97" y="6"/>
                </a:lnTo>
                <a:lnTo>
                  <a:pt x="97" y="10"/>
                </a:lnTo>
                <a:close/>
              </a:path>
            </a:pathLst>
          </a:custGeom>
          <a:solidFill>
            <a:srgbClr val="c17054"/>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00" name=""/>
          <p:cNvSpPr/>
          <p:nvPr/>
        </p:nvSpPr>
        <p:spPr>
          <a:xfrm>
            <a:off x="5140440" y="3706920"/>
            <a:ext cx="108000" cy="41040"/>
          </a:xfrm>
          <a:custGeom>
            <a:avLst/>
            <a:gdLst/>
            <a:ahLst/>
            <a:rect l="l" t="t" r="r" b="b"/>
            <a:pathLst>
              <a:path w="135" h="52">
                <a:moveTo>
                  <a:pt x="135" y="19"/>
                </a:moveTo>
                <a:lnTo>
                  <a:pt x="93" y="52"/>
                </a:lnTo>
                <a:lnTo>
                  <a:pt x="25" y="52"/>
                </a:lnTo>
                <a:lnTo>
                  <a:pt x="0" y="0"/>
                </a:lnTo>
                <a:lnTo>
                  <a:pt x="54" y="19"/>
                </a:lnTo>
                <a:lnTo>
                  <a:pt x="135" y="19"/>
                </a:lnTo>
                <a:close/>
              </a:path>
            </a:pathLst>
          </a:custGeom>
          <a:solidFill>
            <a:srgbClr val="ff9999"/>
          </a:solidFill>
          <a:ln w="0">
            <a:noFill/>
          </a:ln>
        </p:spPr>
        <p:style>
          <a:lnRef idx="0"/>
          <a:fillRef idx="0"/>
          <a:effectRef idx="0"/>
          <a:fontRef idx="minor"/>
        </p:style>
        <p:txBody>
          <a:bodyPr lIns="90000" rIns="90000" tIns="-5760" bIns="-5760" anchor="t">
            <a:noAutofit/>
          </a:bodyPr>
          <a:p>
            <a:endParaRPr b="0" lang="en-US" sz="2400" spc="-1" strike="noStrike">
              <a:solidFill>
                <a:srgbClr val="ffff66"/>
              </a:solidFill>
              <a:latin typeface="Times New Roman"/>
            </a:endParaRPr>
          </a:p>
        </p:txBody>
      </p:sp>
      <p:sp>
        <p:nvSpPr>
          <p:cNvPr id="301" name=""/>
          <p:cNvSpPr/>
          <p:nvPr/>
        </p:nvSpPr>
        <p:spPr>
          <a:xfrm>
            <a:off x="3780000" y="3747960"/>
            <a:ext cx="41040" cy="69840"/>
          </a:xfrm>
          <a:custGeom>
            <a:avLst/>
            <a:gdLst/>
            <a:ahLst/>
            <a:rect l="l" t="t" r="r" b="b"/>
            <a:pathLst>
              <a:path w="53" h="87">
                <a:moveTo>
                  <a:pt x="49" y="58"/>
                </a:moveTo>
                <a:lnTo>
                  <a:pt x="20" y="82"/>
                </a:lnTo>
                <a:lnTo>
                  <a:pt x="14" y="87"/>
                </a:lnTo>
                <a:lnTo>
                  <a:pt x="0" y="87"/>
                </a:lnTo>
                <a:lnTo>
                  <a:pt x="0" y="72"/>
                </a:lnTo>
                <a:lnTo>
                  <a:pt x="33" y="33"/>
                </a:lnTo>
                <a:lnTo>
                  <a:pt x="23" y="20"/>
                </a:lnTo>
                <a:lnTo>
                  <a:pt x="23" y="6"/>
                </a:lnTo>
                <a:lnTo>
                  <a:pt x="33" y="0"/>
                </a:lnTo>
                <a:lnTo>
                  <a:pt x="53" y="20"/>
                </a:lnTo>
                <a:lnTo>
                  <a:pt x="49" y="5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302" name=""/>
          <p:cNvSpPr/>
          <p:nvPr/>
        </p:nvSpPr>
        <p:spPr>
          <a:xfrm>
            <a:off x="3683160" y="3801960"/>
            <a:ext cx="64800" cy="33480"/>
          </a:xfrm>
          <a:custGeom>
            <a:avLst/>
            <a:gdLst/>
            <a:ahLst/>
            <a:rect l="l" t="t" r="r" b="b"/>
            <a:pathLst>
              <a:path w="83" h="43">
                <a:moveTo>
                  <a:pt x="25" y="43"/>
                </a:moveTo>
                <a:lnTo>
                  <a:pt x="16" y="39"/>
                </a:lnTo>
                <a:lnTo>
                  <a:pt x="0" y="39"/>
                </a:lnTo>
                <a:lnTo>
                  <a:pt x="0" y="19"/>
                </a:lnTo>
                <a:lnTo>
                  <a:pt x="29" y="14"/>
                </a:lnTo>
                <a:lnTo>
                  <a:pt x="48" y="4"/>
                </a:lnTo>
                <a:lnTo>
                  <a:pt x="83" y="0"/>
                </a:lnTo>
                <a:lnTo>
                  <a:pt x="83" y="14"/>
                </a:lnTo>
                <a:lnTo>
                  <a:pt x="25" y="4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66"/>
              </a:solidFill>
              <a:latin typeface="Times New Roman"/>
            </a:endParaRPr>
          </a:p>
        </p:txBody>
      </p:sp>
      <p:sp>
        <p:nvSpPr>
          <p:cNvPr id="303" name=""/>
          <p:cNvSpPr/>
          <p:nvPr/>
        </p:nvSpPr>
        <p:spPr>
          <a:xfrm>
            <a:off x="3222720" y="3862440"/>
            <a:ext cx="571320" cy="1209600"/>
          </a:xfrm>
          <a:custGeom>
            <a:avLst/>
            <a:gdLst/>
            <a:ahLst/>
            <a:rect l="l" t="t" r="r" b="b"/>
            <a:pathLst>
              <a:path w="722" h="1524">
                <a:moveTo>
                  <a:pt x="136" y="83"/>
                </a:moveTo>
                <a:lnTo>
                  <a:pt x="200" y="141"/>
                </a:lnTo>
                <a:lnTo>
                  <a:pt x="305" y="213"/>
                </a:lnTo>
                <a:lnTo>
                  <a:pt x="460" y="261"/>
                </a:lnTo>
                <a:lnTo>
                  <a:pt x="570" y="290"/>
                </a:lnTo>
                <a:lnTo>
                  <a:pt x="619" y="290"/>
                </a:lnTo>
                <a:lnTo>
                  <a:pt x="570" y="393"/>
                </a:lnTo>
                <a:lnTo>
                  <a:pt x="547" y="498"/>
                </a:lnTo>
                <a:lnTo>
                  <a:pt x="557" y="519"/>
                </a:lnTo>
                <a:lnTo>
                  <a:pt x="570" y="519"/>
                </a:lnTo>
                <a:lnTo>
                  <a:pt x="586" y="504"/>
                </a:lnTo>
                <a:lnTo>
                  <a:pt x="599" y="426"/>
                </a:lnTo>
                <a:lnTo>
                  <a:pt x="609" y="387"/>
                </a:lnTo>
                <a:lnTo>
                  <a:pt x="692" y="508"/>
                </a:lnTo>
                <a:lnTo>
                  <a:pt x="722" y="548"/>
                </a:lnTo>
                <a:lnTo>
                  <a:pt x="706" y="750"/>
                </a:lnTo>
                <a:lnTo>
                  <a:pt x="706" y="857"/>
                </a:lnTo>
                <a:lnTo>
                  <a:pt x="696" y="868"/>
                </a:lnTo>
                <a:lnTo>
                  <a:pt x="696" y="934"/>
                </a:lnTo>
                <a:lnTo>
                  <a:pt x="687" y="987"/>
                </a:lnTo>
                <a:lnTo>
                  <a:pt x="654" y="1194"/>
                </a:lnTo>
                <a:lnTo>
                  <a:pt x="619" y="1316"/>
                </a:lnTo>
                <a:lnTo>
                  <a:pt x="551" y="1524"/>
                </a:lnTo>
                <a:lnTo>
                  <a:pt x="526" y="1485"/>
                </a:lnTo>
                <a:lnTo>
                  <a:pt x="402" y="1275"/>
                </a:lnTo>
                <a:lnTo>
                  <a:pt x="314" y="1136"/>
                </a:lnTo>
                <a:lnTo>
                  <a:pt x="204" y="925"/>
                </a:lnTo>
                <a:lnTo>
                  <a:pt x="140" y="820"/>
                </a:lnTo>
                <a:lnTo>
                  <a:pt x="52" y="636"/>
                </a:lnTo>
                <a:lnTo>
                  <a:pt x="0" y="519"/>
                </a:lnTo>
                <a:lnTo>
                  <a:pt x="6" y="494"/>
                </a:lnTo>
                <a:lnTo>
                  <a:pt x="82" y="407"/>
                </a:lnTo>
                <a:lnTo>
                  <a:pt x="111" y="378"/>
                </a:lnTo>
                <a:lnTo>
                  <a:pt x="103" y="300"/>
                </a:lnTo>
                <a:lnTo>
                  <a:pt x="45" y="102"/>
                </a:lnTo>
                <a:lnTo>
                  <a:pt x="20" y="44"/>
                </a:lnTo>
                <a:lnTo>
                  <a:pt x="20" y="7"/>
                </a:lnTo>
                <a:lnTo>
                  <a:pt x="16" y="0"/>
                </a:lnTo>
                <a:lnTo>
                  <a:pt x="82" y="7"/>
                </a:lnTo>
                <a:lnTo>
                  <a:pt x="136" y="83"/>
                </a:lnTo>
                <a:close/>
              </a:path>
            </a:pathLst>
          </a:custGeom>
          <a:solidFill>
            <a:srgbClr val="e8aa7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04" name=""/>
          <p:cNvSpPr/>
          <p:nvPr/>
        </p:nvSpPr>
        <p:spPr>
          <a:xfrm>
            <a:off x="3579840" y="3871800"/>
            <a:ext cx="241200" cy="109800"/>
          </a:xfrm>
          <a:custGeom>
            <a:avLst/>
            <a:gdLst/>
            <a:ahLst/>
            <a:rect l="l" t="t" r="r" b="b"/>
            <a:pathLst>
              <a:path w="305" h="140">
                <a:moveTo>
                  <a:pt x="305" y="18"/>
                </a:moveTo>
                <a:lnTo>
                  <a:pt x="275" y="33"/>
                </a:lnTo>
                <a:lnTo>
                  <a:pt x="272" y="72"/>
                </a:lnTo>
                <a:lnTo>
                  <a:pt x="256" y="101"/>
                </a:lnTo>
                <a:lnTo>
                  <a:pt x="204" y="140"/>
                </a:lnTo>
                <a:lnTo>
                  <a:pt x="149" y="140"/>
                </a:lnTo>
                <a:lnTo>
                  <a:pt x="116" y="124"/>
                </a:lnTo>
                <a:lnTo>
                  <a:pt x="62" y="78"/>
                </a:lnTo>
                <a:lnTo>
                  <a:pt x="10" y="58"/>
                </a:lnTo>
                <a:lnTo>
                  <a:pt x="10" y="53"/>
                </a:lnTo>
                <a:lnTo>
                  <a:pt x="0" y="45"/>
                </a:lnTo>
                <a:lnTo>
                  <a:pt x="23" y="33"/>
                </a:lnTo>
                <a:lnTo>
                  <a:pt x="140" y="29"/>
                </a:lnTo>
                <a:lnTo>
                  <a:pt x="149" y="18"/>
                </a:lnTo>
                <a:lnTo>
                  <a:pt x="188" y="24"/>
                </a:lnTo>
                <a:lnTo>
                  <a:pt x="217" y="24"/>
                </a:lnTo>
                <a:lnTo>
                  <a:pt x="237" y="4"/>
                </a:lnTo>
                <a:lnTo>
                  <a:pt x="285" y="0"/>
                </a:lnTo>
                <a:lnTo>
                  <a:pt x="305" y="0"/>
                </a:lnTo>
                <a:lnTo>
                  <a:pt x="305" y="18"/>
                </a:lnTo>
                <a:close/>
              </a:path>
            </a:pathLst>
          </a:custGeom>
          <a:solidFill>
            <a:srgbClr val="d1775b"/>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05" name=""/>
          <p:cNvSpPr/>
          <p:nvPr/>
        </p:nvSpPr>
        <p:spPr>
          <a:xfrm>
            <a:off x="5105520" y="3881520"/>
            <a:ext cx="237960" cy="210960"/>
          </a:xfrm>
          <a:custGeom>
            <a:avLst/>
            <a:gdLst/>
            <a:ahLst/>
            <a:rect l="l" t="t" r="r" b="b"/>
            <a:pathLst>
              <a:path w="299" h="265">
                <a:moveTo>
                  <a:pt x="43" y="58"/>
                </a:moveTo>
                <a:lnTo>
                  <a:pt x="78" y="83"/>
                </a:lnTo>
                <a:lnTo>
                  <a:pt x="110" y="93"/>
                </a:lnTo>
                <a:lnTo>
                  <a:pt x="198" y="93"/>
                </a:lnTo>
                <a:lnTo>
                  <a:pt x="260" y="64"/>
                </a:lnTo>
                <a:lnTo>
                  <a:pt x="275" y="58"/>
                </a:lnTo>
                <a:lnTo>
                  <a:pt x="295" y="110"/>
                </a:lnTo>
                <a:lnTo>
                  <a:pt x="299" y="145"/>
                </a:lnTo>
                <a:lnTo>
                  <a:pt x="217" y="200"/>
                </a:lnTo>
                <a:lnTo>
                  <a:pt x="153" y="227"/>
                </a:lnTo>
                <a:lnTo>
                  <a:pt x="78" y="265"/>
                </a:lnTo>
                <a:lnTo>
                  <a:pt x="62" y="265"/>
                </a:lnTo>
                <a:lnTo>
                  <a:pt x="48" y="252"/>
                </a:lnTo>
                <a:lnTo>
                  <a:pt x="29" y="262"/>
                </a:lnTo>
                <a:lnTo>
                  <a:pt x="0" y="200"/>
                </a:lnTo>
                <a:lnTo>
                  <a:pt x="0" y="116"/>
                </a:lnTo>
                <a:lnTo>
                  <a:pt x="23" y="0"/>
                </a:lnTo>
                <a:lnTo>
                  <a:pt x="39" y="35"/>
                </a:lnTo>
                <a:lnTo>
                  <a:pt x="43" y="58"/>
                </a:lnTo>
                <a:close/>
              </a:path>
            </a:pathLst>
          </a:custGeom>
          <a:solidFill>
            <a:srgbClr val="ff663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06" name=""/>
          <p:cNvSpPr/>
          <p:nvPr/>
        </p:nvSpPr>
        <p:spPr>
          <a:xfrm>
            <a:off x="3672000" y="3913200"/>
            <a:ext cx="95040" cy="42840"/>
          </a:xfrm>
          <a:custGeom>
            <a:avLst/>
            <a:gdLst/>
            <a:ahLst/>
            <a:rect l="l" t="t" r="r" b="b"/>
            <a:pathLst>
              <a:path w="121" h="54">
                <a:moveTo>
                  <a:pt x="82" y="48"/>
                </a:moveTo>
                <a:lnTo>
                  <a:pt x="66" y="54"/>
                </a:lnTo>
                <a:lnTo>
                  <a:pt x="14" y="33"/>
                </a:lnTo>
                <a:lnTo>
                  <a:pt x="0" y="13"/>
                </a:lnTo>
                <a:lnTo>
                  <a:pt x="88" y="5"/>
                </a:lnTo>
                <a:lnTo>
                  <a:pt x="92" y="0"/>
                </a:lnTo>
                <a:lnTo>
                  <a:pt x="121" y="0"/>
                </a:lnTo>
                <a:lnTo>
                  <a:pt x="82" y="48"/>
                </a:lnTo>
                <a:close/>
              </a:path>
            </a:pathLst>
          </a:custGeom>
          <a:solidFill>
            <a:srgbClr val="ff9999"/>
          </a:solidFill>
          <a:ln w="0">
            <a:noFill/>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307" name=""/>
          <p:cNvSpPr/>
          <p:nvPr/>
        </p:nvSpPr>
        <p:spPr>
          <a:xfrm>
            <a:off x="5078520" y="4043520"/>
            <a:ext cx="279360" cy="901440"/>
          </a:xfrm>
          <a:custGeom>
            <a:avLst/>
            <a:gdLst/>
            <a:ahLst/>
            <a:rect l="l" t="t" r="r" b="b"/>
            <a:pathLst>
              <a:path w="353" h="1137">
                <a:moveTo>
                  <a:pt x="281" y="130"/>
                </a:moveTo>
                <a:lnTo>
                  <a:pt x="272" y="140"/>
                </a:lnTo>
                <a:lnTo>
                  <a:pt x="272" y="165"/>
                </a:lnTo>
                <a:lnTo>
                  <a:pt x="248" y="237"/>
                </a:lnTo>
                <a:lnTo>
                  <a:pt x="233" y="435"/>
                </a:lnTo>
                <a:lnTo>
                  <a:pt x="252" y="557"/>
                </a:lnTo>
                <a:lnTo>
                  <a:pt x="281" y="634"/>
                </a:lnTo>
                <a:lnTo>
                  <a:pt x="334" y="693"/>
                </a:lnTo>
                <a:lnTo>
                  <a:pt x="353" y="712"/>
                </a:lnTo>
                <a:lnTo>
                  <a:pt x="272" y="784"/>
                </a:lnTo>
                <a:lnTo>
                  <a:pt x="213" y="865"/>
                </a:lnTo>
                <a:lnTo>
                  <a:pt x="155" y="962"/>
                </a:lnTo>
                <a:lnTo>
                  <a:pt x="83" y="1131"/>
                </a:lnTo>
                <a:lnTo>
                  <a:pt x="78" y="1137"/>
                </a:lnTo>
                <a:lnTo>
                  <a:pt x="31" y="956"/>
                </a:lnTo>
                <a:lnTo>
                  <a:pt x="4" y="755"/>
                </a:lnTo>
                <a:lnTo>
                  <a:pt x="0" y="563"/>
                </a:lnTo>
                <a:lnTo>
                  <a:pt x="12" y="551"/>
                </a:lnTo>
                <a:lnTo>
                  <a:pt x="21" y="373"/>
                </a:lnTo>
                <a:lnTo>
                  <a:pt x="74" y="156"/>
                </a:lnTo>
                <a:lnTo>
                  <a:pt x="97" y="117"/>
                </a:lnTo>
                <a:lnTo>
                  <a:pt x="97" y="111"/>
                </a:lnTo>
                <a:lnTo>
                  <a:pt x="93" y="107"/>
                </a:lnTo>
                <a:lnTo>
                  <a:pt x="291" y="10"/>
                </a:lnTo>
                <a:lnTo>
                  <a:pt x="301" y="0"/>
                </a:lnTo>
                <a:lnTo>
                  <a:pt x="301" y="24"/>
                </a:lnTo>
                <a:lnTo>
                  <a:pt x="281" y="13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08" name=""/>
          <p:cNvSpPr/>
          <p:nvPr/>
        </p:nvSpPr>
        <p:spPr>
          <a:xfrm>
            <a:off x="5432400" y="4059360"/>
            <a:ext cx="498600" cy="950760"/>
          </a:xfrm>
          <a:custGeom>
            <a:avLst/>
            <a:gdLst/>
            <a:ahLst/>
            <a:rect l="l" t="t" r="r" b="b"/>
            <a:pathLst>
              <a:path w="628" h="1198">
                <a:moveTo>
                  <a:pt x="555" y="33"/>
                </a:moveTo>
                <a:lnTo>
                  <a:pt x="605" y="46"/>
                </a:lnTo>
                <a:lnTo>
                  <a:pt x="615" y="62"/>
                </a:lnTo>
                <a:lnTo>
                  <a:pt x="628" y="77"/>
                </a:lnTo>
                <a:lnTo>
                  <a:pt x="628" y="116"/>
                </a:lnTo>
                <a:lnTo>
                  <a:pt x="590" y="304"/>
                </a:lnTo>
                <a:lnTo>
                  <a:pt x="489" y="585"/>
                </a:lnTo>
                <a:lnTo>
                  <a:pt x="388" y="783"/>
                </a:lnTo>
                <a:lnTo>
                  <a:pt x="314" y="903"/>
                </a:lnTo>
                <a:lnTo>
                  <a:pt x="289" y="956"/>
                </a:lnTo>
                <a:lnTo>
                  <a:pt x="111" y="1198"/>
                </a:lnTo>
                <a:lnTo>
                  <a:pt x="87" y="1020"/>
                </a:lnTo>
                <a:lnTo>
                  <a:pt x="49" y="851"/>
                </a:lnTo>
                <a:lnTo>
                  <a:pt x="19" y="773"/>
                </a:lnTo>
                <a:lnTo>
                  <a:pt x="14" y="744"/>
                </a:lnTo>
                <a:lnTo>
                  <a:pt x="0" y="715"/>
                </a:lnTo>
                <a:lnTo>
                  <a:pt x="43" y="709"/>
                </a:lnTo>
                <a:lnTo>
                  <a:pt x="120" y="673"/>
                </a:lnTo>
                <a:lnTo>
                  <a:pt x="241" y="537"/>
                </a:lnTo>
                <a:lnTo>
                  <a:pt x="363" y="328"/>
                </a:lnTo>
                <a:lnTo>
                  <a:pt x="454" y="116"/>
                </a:lnTo>
                <a:lnTo>
                  <a:pt x="479" y="0"/>
                </a:lnTo>
                <a:lnTo>
                  <a:pt x="498" y="0"/>
                </a:lnTo>
                <a:lnTo>
                  <a:pt x="555" y="33"/>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09" name=""/>
          <p:cNvSpPr/>
          <p:nvPr/>
        </p:nvSpPr>
        <p:spPr>
          <a:xfrm>
            <a:off x="5348160" y="4130640"/>
            <a:ext cx="777960" cy="1816200"/>
          </a:xfrm>
          <a:custGeom>
            <a:avLst/>
            <a:gdLst/>
            <a:ahLst/>
            <a:rect l="l" t="t" r="r" b="b"/>
            <a:pathLst>
              <a:path w="982" h="2288">
                <a:moveTo>
                  <a:pt x="968" y="77"/>
                </a:moveTo>
                <a:lnTo>
                  <a:pt x="982" y="77"/>
                </a:lnTo>
                <a:lnTo>
                  <a:pt x="939" y="141"/>
                </a:lnTo>
                <a:lnTo>
                  <a:pt x="924" y="155"/>
                </a:lnTo>
                <a:lnTo>
                  <a:pt x="875" y="237"/>
                </a:lnTo>
                <a:lnTo>
                  <a:pt x="838" y="339"/>
                </a:lnTo>
                <a:lnTo>
                  <a:pt x="790" y="566"/>
                </a:lnTo>
                <a:lnTo>
                  <a:pt x="778" y="841"/>
                </a:lnTo>
                <a:lnTo>
                  <a:pt x="778" y="1010"/>
                </a:lnTo>
                <a:lnTo>
                  <a:pt x="794" y="1107"/>
                </a:lnTo>
                <a:lnTo>
                  <a:pt x="765" y="1127"/>
                </a:lnTo>
                <a:lnTo>
                  <a:pt x="761" y="1132"/>
                </a:lnTo>
                <a:lnTo>
                  <a:pt x="768" y="1165"/>
                </a:lnTo>
                <a:lnTo>
                  <a:pt x="817" y="1247"/>
                </a:lnTo>
                <a:lnTo>
                  <a:pt x="848" y="1330"/>
                </a:lnTo>
                <a:lnTo>
                  <a:pt x="871" y="1421"/>
                </a:lnTo>
                <a:lnTo>
                  <a:pt x="900" y="1470"/>
                </a:lnTo>
                <a:lnTo>
                  <a:pt x="910" y="1710"/>
                </a:lnTo>
                <a:lnTo>
                  <a:pt x="900" y="1821"/>
                </a:lnTo>
                <a:lnTo>
                  <a:pt x="894" y="1968"/>
                </a:lnTo>
                <a:lnTo>
                  <a:pt x="702" y="2282"/>
                </a:lnTo>
                <a:lnTo>
                  <a:pt x="582" y="2288"/>
                </a:lnTo>
                <a:lnTo>
                  <a:pt x="505" y="2263"/>
                </a:lnTo>
                <a:lnTo>
                  <a:pt x="111" y="2263"/>
                </a:lnTo>
                <a:lnTo>
                  <a:pt x="68" y="2170"/>
                </a:lnTo>
                <a:lnTo>
                  <a:pt x="30" y="2121"/>
                </a:lnTo>
                <a:lnTo>
                  <a:pt x="0" y="2075"/>
                </a:lnTo>
                <a:lnTo>
                  <a:pt x="0" y="1978"/>
                </a:lnTo>
                <a:lnTo>
                  <a:pt x="10" y="1956"/>
                </a:lnTo>
                <a:lnTo>
                  <a:pt x="14" y="1914"/>
                </a:lnTo>
                <a:lnTo>
                  <a:pt x="26" y="1904"/>
                </a:lnTo>
                <a:lnTo>
                  <a:pt x="33" y="1683"/>
                </a:lnTo>
                <a:lnTo>
                  <a:pt x="53" y="1658"/>
                </a:lnTo>
                <a:lnTo>
                  <a:pt x="49" y="1493"/>
                </a:lnTo>
                <a:lnTo>
                  <a:pt x="45" y="1415"/>
                </a:lnTo>
                <a:lnTo>
                  <a:pt x="45" y="1150"/>
                </a:lnTo>
                <a:lnTo>
                  <a:pt x="62" y="871"/>
                </a:lnTo>
                <a:lnTo>
                  <a:pt x="78" y="712"/>
                </a:lnTo>
                <a:lnTo>
                  <a:pt x="88" y="667"/>
                </a:lnTo>
                <a:lnTo>
                  <a:pt x="130" y="770"/>
                </a:lnTo>
                <a:lnTo>
                  <a:pt x="136" y="797"/>
                </a:lnTo>
                <a:lnTo>
                  <a:pt x="185" y="1039"/>
                </a:lnTo>
                <a:lnTo>
                  <a:pt x="198" y="1146"/>
                </a:lnTo>
                <a:lnTo>
                  <a:pt x="221" y="1146"/>
                </a:lnTo>
                <a:lnTo>
                  <a:pt x="392" y="923"/>
                </a:lnTo>
                <a:lnTo>
                  <a:pt x="446" y="836"/>
                </a:lnTo>
                <a:lnTo>
                  <a:pt x="495" y="746"/>
                </a:lnTo>
                <a:lnTo>
                  <a:pt x="547" y="667"/>
                </a:lnTo>
                <a:lnTo>
                  <a:pt x="600" y="547"/>
                </a:lnTo>
                <a:lnTo>
                  <a:pt x="654" y="423"/>
                </a:lnTo>
                <a:lnTo>
                  <a:pt x="716" y="237"/>
                </a:lnTo>
                <a:lnTo>
                  <a:pt x="745" y="132"/>
                </a:lnTo>
                <a:lnTo>
                  <a:pt x="768" y="0"/>
                </a:lnTo>
                <a:lnTo>
                  <a:pt x="924" y="54"/>
                </a:lnTo>
                <a:lnTo>
                  <a:pt x="968" y="77"/>
                </a:lnTo>
                <a:close/>
              </a:path>
            </a:pathLst>
          </a:custGeom>
          <a:solidFill>
            <a:srgbClr val="cc65c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10" name=""/>
          <p:cNvSpPr/>
          <p:nvPr/>
        </p:nvSpPr>
        <p:spPr>
          <a:xfrm>
            <a:off x="4937040" y="4151160"/>
            <a:ext cx="457200" cy="1787760"/>
          </a:xfrm>
          <a:custGeom>
            <a:avLst/>
            <a:gdLst/>
            <a:ahLst/>
            <a:rect l="l" t="t" r="r" b="b"/>
            <a:pathLst>
              <a:path w="576" h="2251">
                <a:moveTo>
                  <a:pt x="168" y="272"/>
                </a:moveTo>
                <a:lnTo>
                  <a:pt x="155" y="522"/>
                </a:lnTo>
                <a:lnTo>
                  <a:pt x="164" y="716"/>
                </a:lnTo>
                <a:lnTo>
                  <a:pt x="194" y="888"/>
                </a:lnTo>
                <a:lnTo>
                  <a:pt x="242" y="1043"/>
                </a:lnTo>
                <a:lnTo>
                  <a:pt x="252" y="1059"/>
                </a:lnTo>
                <a:lnTo>
                  <a:pt x="271" y="1047"/>
                </a:lnTo>
                <a:lnTo>
                  <a:pt x="320" y="943"/>
                </a:lnTo>
                <a:lnTo>
                  <a:pt x="391" y="782"/>
                </a:lnTo>
                <a:lnTo>
                  <a:pt x="465" y="677"/>
                </a:lnTo>
                <a:lnTo>
                  <a:pt x="537" y="615"/>
                </a:lnTo>
                <a:lnTo>
                  <a:pt x="576" y="593"/>
                </a:lnTo>
                <a:lnTo>
                  <a:pt x="562" y="816"/>
                </a:lnTo>
                <a:lnTo>
                  <a:pt x="543" y="989"/>
                </a:lnTo>
                <a:lnTo>
                  <a:pt x="531" y="1218"/>
                </a:lnTo>
                <a:lnTo>
                  <a:pt x="531" y="1454"/>
                </a:lnTo>
                <a:lnTo>
                  <a:pt x="543" y="1513"/>
                </a:lnTo>
                <a:lnTo>
                  <a:pt x="537" y="1598"/>
                </a:lnTo>
                <a:lnTo>
                  <a:pt x="527" y="1643"/>
                </a:lnTo>
                <a:lnTo>
                  <a:pt x="517" y="1846"/>
                </a:lnTo>
                <a:lnTo>
                  <a:pt x="508" y="1869"/>
                </a:lnTo>
                <a:lnTo>
                  <a:pt x="498" y="1904"/>
                </a:lnTo>
                <a:lnTo>
                  <a:pt x="488" y="1961"/>
                </a:lnTo>
                <a:lnTo>
                  <a:pt x="488" y="2112"/>
                </a:lnTo>
                <a:lnTo>
                  <a:pt x="498" y="2131"/>
                </a:lnTo>
                <a:lnTo>
                  <a:pt x="498" y="2160"/>
                </a:lnTo>
                <a:lnTo>
                  <a:pt x="488" y="2170"/>
                </a:lnTo>
                <a:lnTo>
                  <a:pt x="488" y="2215"/>
                </a:lnTo>
                <a:lnTo>
                  <a:pt x="483" y="2215"/>
                </a:lnTo>
                <a:lnTo>
                  <a:pt x="473" y="2224"/>
                </a:lnTo>
                <a:lnTo>
                  <a:pt x="473" y="2251"/>
                </a:lnTo>
                <a:lnTo>
                  <a:pt x="411" y="2247"/>
                </a:lnTo>
                <a:lnTo>
                  <a:pt x="349" y="2232"/>
                </a:lnTo>
                <a:lnTo>
                  <a:pt x="242" y="2215"/>
                </a:lnTo>
                <a:lnTo>
                  <a:pt x="242" y="2209"/>
                </a:lnTo>
                <a:lnTo>
                  <a:pt x="209" y="2199"/>
                </a:lnTo>
                <a:lnTo>
                  <a:pt x="141" y="2166"/>
                </a:lnTo>
                <a:lnTo>
                  <a:pt x="135" y="2160"/>
                </a:lnTo>
                <a:lnTo>
                  <a:pt x="126" y="2160"/>
                </a:lnTo>
                <a:lnTo>
                  <a:pt x="126" y="2151"/>
                </a:lnTo>
                <a:lnTo>
                  <a:pt x="106" y="2137"/>
                </a:lnTo>
                <a:lnTo>
                  <a:pt x="87" y="1939"/>
                </a:lnTo>
                <a:lnTo>
                  <a:pt x="67" y="1802"/>
                </a:lnTo>
                <a:lnTo>
                  <a:pt x="54" y="1691"/>
                </a:lnTo>
                <a:lnTo>
                  <a:pt x="29" y="1522"/>
                </a:lnTo>
                <a:lnTo>
                  <a:pt x="9" y="1270"/>
                </a:lnTo>
                <a:lnTo>
                  <a:pt x="9" y="1096"/>
                </a:lnTo>
                <a:lnTo>
                  <a:pt x="0" y="972"/>
                </a:lnTo>
                <a:lnTo>
                  <a:pt x="0" y="739"/>
                </a:lnTo>
                <a:lnTo>
                  <a:pt x="48" y="308"/>
                </a:lnTo>
                <a:lnTo>
                  <a:pt x="54" y="246"/>
                </a:lnTo>
                <a:lnTo>
                  <a:pt x="73" y="120"/>
                </a:lnTo>
                <a:lnTo>
                  <a:pt x="155" y="43"/>
                </a:lnTo>
                <a:lnTo>
                  <a:pt x="227" y="0"/>
                </a:lnTo>
                <a:lnTo>
                  <a:pt x="182" y="198"/>
                </a:lnTo>
                <a:lnTo>
                  <a:pt x="168" y="272"/>
                </a:lnTo>
                <a:close/>
              </a:path>
            </a:pathLst>
          </a:custGeom>
          <a:solidFill>
            <a:srgbClr val="cc65c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11" name=""/>
          <p:cNvSpPr/>
          <p:nvPr/>
        </p:nvSpPr>
        <p:spPr>
          <a:xfrm>
            <a:off x="5989680" y="4216320"/>
            <a:ext cx="374760" cy="790560"/>
          </a:xfrm>
          <a:custGeom>
            <a:avLst/>
            <a:gdLst/>
            <a:ahLst/>
            <a:rect l="l" t="t" r="r" b="b"/>
            <a:pathLst>
              <a:path w="471" h="996">
                <a:moveTo>
                  <a:pt x="338" y="130"/>
                </a:moveTo>
                <a:lnTo>
                  <a:pt x="347" y="164"/>
                </a:lnTo>
                <a:lnTo>
                  <a:pt x="396" y="304"/>
                </a:lnTo>
                <a:lnTo>
                  <a:pt x="409" y="368"/>
                </a:lnTo>
                <a:lnTo>
                  <a:pt x="431" y="517"/>
                </a:lnTo>
                <a:lnTo>
                  <a:pt x="444" y="560"/>
                </a:lnTo>
                <a:lnTo>
                  <a:pt x="444" y="599"/>
                </a:lnTo>
                <a:lnTo>
                  <a:pt x="458" y="643"/>
                </a:lnTo>
                <a:lnTo>
                  <a:pt x="464" y="696"/>
                </a:lnTo>
                <a:lnTo>
                  <a:pt x="471" y="738"/>
                </a:lnTo>
                <a:lnTo>
                  <a:pt x="468" y="764"/>
                </a:lnTo>
                <a:lnTo>
                  <a:pt x="402" y="849"/>
                </a:lnTo>
                <a:lnTo>
                  <a:pt x="357" y="890"/>
                </a:lnTo>
                <a:lnTo>
                  <a:pt x="351" y="893"/>
                </a:lnTo>
                <a:lnTo>
                  <a:pt x="343" y="880"/>
                </a:lnTo>
                <a:lnTo>
                  <a:pt x="338" y="767"/>
                </a:lnTo>
                <a:lnTo>
                  <a:pt x="322" y="754"/>
                </a:lnTo>
                <a:lnTo>
                  <a:pt x="140" y="913"/>
                </a:lnTo>
                <a:lnTo>
                  <a:pt x="29" y="996"/>
                </a:lnTo>
                <a:lnTo>
                  <a:pt x="8" y="981"/>
                </a:lnTo>
                <a:lnTo>
                  <a:pt x="8" y="913"/>
                </a:lnTo>
                <a:lnTo>
                  <a:pt x="0" y="812"/>
                </a:lnTo>
                <a:lnTo>
                  <a:pt x="0" y="572"/>
                </a:lnTo>
                <a:lnTo>
                  <a:pt x="14" y="426"/>
                </a:lnTo>
                <a:lnTo>
                  <a:pt x="66" y="197"/>
                </a:lnTo>
                <a:lnTo>
                  <a:pt x="97" y="130"/>
                </a:lnTo>
                <a:lnTo>
                  <a:pt x="163" y="34"/>
                </a:lnTo>
                <a:lnTo>
                  <a:pt x="192" y="0"/>
                </a:lnTo>
                <a:lnTo>
                  <a:pt x="266" y="44"/>
                </a:lnTo>
                <a:lnTo>
                  <a:pt x="338" y="130"/>
                </a:lnTo>
                <a:close/>
              </a:path>
            </a:pathLst>
          </a:custGeom>
          <a:solidFill>
            <a:srgbClr val="cc65c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12" name=""/>
          <p:cNvSpPr/>
          <p:nvPr/>
        </p:nvSpPr>
        <p:spPr>
          <a:xfrm>
            <a:off x="4768920" y="4270320"/>
            <a:ext cx="193680" cy="701640"/>
          </a:xfrm>
          <a:custGeom>
            <a:avLst/>
            <a:gdLst/>
            <a:ahLst/>
            <a:rect l="l" t="t" r="r" b="b"/>
            <a:pathLst>
              <a:path w="245" h="885">
                <a:moveTo>
                  <a:pt x="227" y="249"/>
                </a:moveTo>
                <a:lnTo>
                  <a:pt x="196" y="456"/>
                </a:lnTo>
                <a:lnTo>
                  <a:pt x="196" y="499"/>
                </a:lnTo>
                <a:lnTo>
                  <a:pt x="188" y="543"/>
                </a:lnTo>
                <a:lnTo>
                  <a:pt x="188" y="879"/>
                </a:lnTo>
                <a:lnTo>
                  <a:pt x="192" y="885"/>
                </a:lnTo>
                <a:lnTo>
                  <a:pt x="155" y="869"/>
                </a:lnTo>
                <a:lnTo>
                  <a:pt x="20" y="768"/>
                </a:lnTo>
                <a:lnTo>
                  <a:pt x="0" y="730"/>
                </a:lnTo>
                <a:lnTo>
                  <a:pt x="20" y="633"/>
                </a:lnTo>
                <a:lnTo>
                  <a:pt x="43" y="572"/>
                </a:lnTo>
                <a:lnTo>
                  <a:pt x="115" y="278"/>
                </a:lnTo>
                <a:lnTo>
                  <a:pt x="163" y="126"/>
                </a:lnTo>
                <a:lnTo>
                  <a:pt x="188" y="97"/>
                </a:lnTo>
                <a:lnTo>
                  <a:pt x="188" y="72"/>
                </a:lnTo>
                <a:lnTo>
                  <a:pt x="245" y="0"/>
                </a:lnTo>
                <a:lnTo>
                  <a:pt x="237" y="59"/>
                </a:lnTo>
                <a:lnTo>
                  <a:pt x="227" y="249"/>
                </a:lnTo>
                <a:close/>
              </a:path>
            </a:pathLst>
          </a:custGeom>
          <a:solidFill>
            <a:srgbClr val="cc65c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13" name=""/>
          <p:cNvSpPr/>
          <p:nvPr/>
        </p:nvSpPr>
        <p:spPr>
          <a:xfrm>
            <a:off x="3057480" y="4281480"/>
            <a:ext cx="306360" cy="449280"/>
          </a:xfrm>
          <a:custGeom>
            <a:avLst/>
            <a:gdLst/>
            <a:ahLst/>
            <a:rect l="l" t="t" r="r" b="b"/>
            <a:pathLst>
              <a:path w="386" h="566">
                <a:moveTo>
                  <a:pt x="236" y="136"/>
                </a:moveTo>
                <a:lnTo>
                  <a:pt x="386" y="430"/>
                </a:lnTo>
                <a:lnTo>
                  <a:pt x="269" y="494"/>
                </a:lnTo>
                <a:lnTo>
                  <a:pt x="182" y="566"/>
                </a:lnTo>
                <a:lnTo>
                  <a:pt x="159" y="456"/>
                </a:lnTo>
                <a:lnTo>
                  <a:pt x="13" y="145"/>
                </a:lnTo>
                <a:lnTo>
                  <a:pt x="0" y="87"/>
                </a:lnTo>
                <a:lnTo>
                  <a:pt x="48" y="49"/>
                </a:lnTo>
                <a:lnTo>
                  <a:pt x="155" y="0"/>
                </a:lnTo>
                <a:lnTo>
                  <a:pt x="174" y="6"/>
                </a:lnTo>
                <a:lnTo>
                  <a:pt x="236" y="136"/>
                </a:lnTo>
                <a:close/>
              </a:path>
            </a:pathLst>
          </a:custGeom>
          <a:solidFill>
            <a:srgbClr val="289b2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14" name=""/>
          <p:cNvSpPr/>
          <p:nvPr/>
        </p:nvSpPr>
        <p:spPr>
          <a:xfrm>
            <a:off x="3805200" y="4308480"/>
            <a:ext cx="115920" cy="326880"/>
          </a:xfrm>
          <a:custGeom>
            <a:avLst/>
            <a:gdLst/>
            <a:ahLst/>
            <a:rect l="l" t="t" r="r" b="b"/>
            <a:pathLst>
              <a:path w="146" h="411">
                <a:moveTo>
                  <a:pt x="146" y="48"/>
                </a:moveTo>
                <a:lnTo>
                  <a:pt x="126" y="233"/>
                </a:lnTo>
                <a:lnTo>
                  <a:pt x="117" y="271"/>
                </a:lnTo>
                <a:lnTo>
                  <a:pt x="111" y="324"/>
                </a:lnTo>
                <a:lnTo>
                  <a:pt x="91" y="411"/>
                </a:lnTo>
                <a:lnTo>
                  <a:pt x="78" y="411"/>
                </a:lnTo>
                <a:lnTo>
                  <a:pt x="0" y="363"/>
                </a:lnTo>
                <a:lnTo>
                  <a:pt x="10" y="149"/>
                </a:lnTo>
                <a:lnTo>
                  <a:pt x="16" y="10"/>
                </a:lnTo>
                <a:lnTo>
                  <a:pt x="20" y="0"/>
                </a:lnTo>
                <a:lnTo>
                  <a:pt x="126" y="35"/>
                </a:lnTo>
                <a:lnTo>
                  <a:pt x="146" y="48"/>
                </a:lnTo>
                <a:close/>
              </a:path>
            </a:pathLst>
          </a:custGeom>
          <a:solidFill>
            <a:srgbClr val="289b2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15" name=""/>
          <p:cNvSpPr/>
          <p:nvPr/>
        </p:nvSpPr>
        <p:spPr>
          <a:xfrm>
            <a:off x="2616120" y="4362480"/>
            <a:ext cx="1776600" cy="1281240"/>
          </a:xfrm>
          <a:custGeom>
            <a:avLst/>
            <a:gdLst/>
            <a:ahLst/>
            <a:rect l="l" t="t" r="r" b="b"/>
            <a:pathLst>
              <a:path w="2238" h="1613">
                <a:moveTo>
                  <a:pt x="566" y="126"/>
                </a:moveTo>
                <a:lnTo>
                  <a:pt x="615" y="207"/>
                </a:lnTo>
                <a:lnTo>
                  <a:pt x="667" y="320"/>
                </a:lnTo>
                <a:lnTo>
                  <a:pt x="677" y="357"/>
                </a:lnTo>
                <a:lnTo>
                  <a:pt x="687" y="366"/>
                </a:lnTo>
                <a:lnTo>
                  <a:pt x="706" y="488"/>
                </a:lnTo>
                <a:lnTo>
                  <a:pt x="696" y="521"/>
                </a:lnTo>
                <a:lnTo>
                  <a:pt x="696" y="537"/>
                </a:lnTo>
                <a:lnTo>
                  <a:pt x="731" y="537"/>
                </a:lnTo>
                <a:lnTo>
                  <a:pt x="803" y="450"/>
                </a:lnTo>
                <a:lnTo>
                  <a:pt x="890" y="388"/>
                </a:lnTo>
                <a:lnTo>
                  <a:pt x="952" y="362"/>
                </a:lnTo>
                <a:lnTo>
                  <a:pt x="968" y="362"/>
                </a:lnTo>
                <a:lnTo>
                  <a:pt x="1010" y="463"/>
                </a:lnTo>
                <a:lnTo>
                  <a:pt x="1107" y="628"/>
                </a:lnTo>
                <a:lnTo>
                  <a:pt x="1266" y="878"/>
                </a:lnTo>
                <a:lnTo>
                  <a:pt x="1315" y="956"/>
                </a:lnTo>
                <a:lnTo>
                  <a:pt x="1330" y="956"/>
                </a:lnTo>
                <a:lnTo>
                  <a:pt x="1344" y="942"/>
                </a:lnTo>
                <a:lnTo>
                  <a:pt x="1344" y="907"/>
                </a:lnTo>
                <a:lnTo>
                  <a:pt x="1350" y="907"/>
                </a:lnTo>
                <a:lnTo>
                  <a:pt x="1441" y="603"/>
                </a:lnTo>
                <a:lnTo>
                  <a:pt x="1474" y="426"/>
                </a:lnTo>
                <a:lnTo>
                  <a:pt x="1486" y="357"/>
                </a:lnTo>
                <a:lnTo>
                  <a:pt x="1489" y="349"/>
                </a:lnTo>
                <a:lnTo>
                  <a:pt x="1489" y="333"/>
                </a:lnTo>
                <a:lnTo>
                  <a:pt x="1538" y="353"/>
                </a:lnTo>
                <a:lnTo>
                  <a:pt x="1596" y="388"/>
                </a:lnTo>
                <a:lnTo>
                  <a:pt x="1606" y="388"/>
                </a:lnTo>
                <a:lnTo>
                  <a:pt x="1625" y="366"/>
                </a:lnTo>
                <a:lnTo>
                  <a:pt x="1678" y="6"/>
                </a:lnTo>
                <a:lnTo>
                  <a:pt x="1716" y="6"/>
                </a:lnTo>
                <a:lnTo>
                  <a:pt x="1930" y="68"/>
                </a:lnTo>
                <a:lnTo>
                  <a:pt x="1992" y="106"/>
                </a:lnTo>
                <a:lnTo>
                  <a:pt x="2104" y="223"/>
                </a:lnTo>
                <a:lnTo>
                  <a:pt x="2162" y="339"/>
                </a:lnTo>
                <a:lnTo>
                  <a:pt x="2209" y="589"/>
                </a:lnTo>
                <a:lnTo>
                  <a:pt x="2234" y="801"/>
                </a:lnTo>
                <a:lnTo>
                  <a:pt x="2238" y="931"/>
                </a:lnTo>
                <a:lnTo>
                  <a:pt x="2234" y="1289"/>
                </a:lnTo>
                <a:lnTo>
                  <a:pt x="2046" y="1344"/>
                </a:lnTo>
                <a:lnTo>
                  <a:pt x="1846" y="1371"/>
                </a:lnTo>
                <a:lnTo>
                  <a:pt x="1858" y="1322"/>
                </a:lnTo>
                <a:lnTo>
                  <a:pt x="1885" y="1111"/>
                </a:lnTo>
                <a:lnTo>
                  <a:pt x="1920" y="1014"/>
                </a:lnTo>
                <a:lnTo>
                  <a:pt x="1920" y="969"/>
                </a:lnTo>
                <a:lnTo>
                  <a:pt x="1965" y="820"/>
                </a:lnTo>
                <a:lnTo>
                  <a:pt x="1972" y="616"/>
                </a:lnTo>
                <a:lnTo>
                  <a:pt x="1992" y="401"/>
                </a:lnTo>
                <a:lnTo>
                  <a:pt x="1992" y="349"/>
                </a:lnTo>
                <a:lnTo>
                  <a:pt x="2017" y="238"/>
                </a:lnTo>
                <a:lnTo>
                  <a:pt x="2027" y="227"/>
                </a:lnTo>
                <a:lnTo>
                  <a:pt x="2007" y="213"/>
                </a:lnTo>
                <a:lnTo>
                  <a:pt x="1988" y="246"/>
                </a:lnTo>
                <a:lnTo>
                  <a:pt x="1965" y="362"/>
                </a:lnTo>
                <a:lnTo>
                  <a:pt x="1939" y="665"/>
                </a:lnTo>
                <a:lnTo>
                  <a:pt x="1924" y="826"/>
                </a:lnTo>
                <a:lnTo>
                  <a:pt x="1895" y="936"/>
                </a:lnTo>
                <a:lnTo>
                  <a:pt x="1895" y="946"/>
                </a:lnTo>
                <a:lnTo>
                  <a:pt x="1858" y="942"/>
                </a:lnTo>
                <a:lnTo>
                  <a:pt x="1813" y="898"/>
                </a:lnTo>
                <a:lnTo>
                  <a:pt x="1769" y="878"/>
                </a:lnTo>
                <a:lnTo>
                  <a:pt x="1765" y="855"/>
                </a:lnTo>
                <a:lnTo>
                  <a:pt x="1722" y="826"/>
                </a:lnTo>
                <a:lnTo>
                  <a:pt x="1645" y="826"/>
                </a:lnTo>
                <a:lnTo>
                  <a:pt x="1629" y="836"/>
                </a:lnTo>
                <a:lnTo>
                  <a:pt x="1639" y="744"/>
                </a:lnTo>
                <a:lnTo>
                  <a:pt x="1654" y="622"/>
                </a:lnTo>
                <a:lnTo>
                  <a:pt x="1654" y="554"/>
                </a:lnTo>
                <a:lnTo>
                  <a:pt x="1639" y="492"/>
                </a:lnTo>
                <a:lnTo>
                  <a:pt x="1619" y="479"/>
                </a:lnTo>
                <a:lnTo>
                  <a:pt x="1606" y="479"/>
                </a:lnTo>
                <a:lnTo>
                  <a:pt x="1577" y="516"/>
                </a:lnTo>
                <a:lnTo>
                  <a:pt x="1552" y="603"/>
                </a:lnTo>
                <a:lnTo>
                  <a:pt x="1470" y="849"/>
                </a:lnTo>
                <a:lnTo>
                  <a:pt x="1422" y="956"/>
                </a:lnTo>
                <a:lnTo>
                  <a:pt x="1392" y="1062"/>
                </a:lnTo>
                <a:lnTo>
                  <a:pt x="1369" y="1088"/>
                </a:lnTo>
                <a:lnTo>
                  <a:pt x="1334" y="1140"/>
                </a:lnTo>
                <a:lnTo>
                  <a:pt x="1107" y="1309"/>
                </a:lnTo>
                <a:lnTo>
                  <a:pt x="981" y="1371"/>
                </a:lnTo>
                <a:lnTo>
                  <a:pt x="968" y="1371"/>
                </a:lnTo>
                <a:lnTo>
                  <a:pt x="867" y="1433"/>
                </a:lnTo>
                <a:lnTo>
                  <a:pt x="770" y="1481"/>
                </a:lnTo>
                <a:lnTo>
                  <a:pt x="706" y="1526"/>
                </a:lnTo>
                <a:lnTo>
                  <a:pt x="702" y="1522"/>
                </a:lnTo>
                <a:lnTo>
                  <a:pt x="590" y="1609"/>
                </a:lnTo>
                <a:lnTo>
                  <a:pt x="586" y="1613"/>
                </a:lnTo>
                <a:lnTo>
                  <a:pt x="566" y="1570"/>
                </a:lnTo>
                <a:lnTo>
                  <a:pt x="522" y="1338"/>
                </a:lnTo>
                <a:lnTo>
                  <a:pt x="528" y="1332"/>
                </a:lnTo>
                <a:lnTo>
                  <a:pt x="514" y="1318"/>
                </a:lnTo>
                <a:lnTo>
                  <a:pt x="504" y="1134"/>
                </a:lnTo>
                <a:lnTo>
                  <a:pt x="498" y="981"/>
                </a:lnTo>
                <a:lnTo>
                  <a:pt x="473" y="836"/>
                </a:lnTo>
                <a:lnTo>
                  <a:pt x="386" y="531"/>
                </a:lnTo>
                <a:lnTo>
                  <a:pt x="334" y="397"/>
                </a:lnTo>
                <a:lnTo>
                  <a:pt x="308" y="366"/>
                </a:lnTo>
                <a:lnTo>
                  <a:pt x="291" y="366"/>
                </a:lnTo>
                <a:lnTo>
                  <a:pt x="285" y="372"/>
                </a:lnTo>
                <a:lnTo>
                  <a:pt x="301" y="411"/>
                </a:lnTo>
                <a:lnTo>
                  <a:pt x="318" y="440"/>
                </a:lnTo>
                <a:lnTo>
                  <a:pt x="386" y="638"/>
                </a:lnTo>
                <a:lnTo>
                  <a:pt x="415" y="748"/>
                </a:lnTo>
                <a:lnTo>
                  <a:pt x="465" y="965"/>
                </a:lnTo>
                <a:lnTo>
                  <a:pt x="479" y="1173"/>
                </a:lnTo>
                <a:lnTo>
                  <a:pt x="479" y="1322"/>
                </a:lnTo>
                <a:lnTo>
                  <a:pt x="291" y="1328"/>
                </a:lnTo>
                <a:lnTo>
                  <a:pt x="217" y="1347"/>
                </a:lnTo>
                <a:lnTo>
                  <a:pt x="130" y="1361"/>
                </a:lnTo>
                <a:lnTo>
                  <a:pt x="43" y="1396"/>
                </a:lnTo>
                <a:lnTo>
                  <a:pt x="29" y="1371"/>
                </a:lnTo>
                <a:lnTo>
                  <a:pt x="4" y="1173"/>
                </a:lnTo>
                <a:lnTo>
                  <a:pt x="0" y="752"/>
                </a:lnTo>
                <a:lnTo>
                  <a:pt x="10" y="729"/>
                </a:lnTo>
                <a:lnTo>
                  <a:pt x="10" y="686"/>
                </a:lnTo>
                <a:lnTo>
                  <a:pt x="29" y="541"/>
                </a:lnTo>
                <a:lnTo>
                  <a:pt x="43" y="463"/>
                </a:lnTo>
                <a:lnTo>
                  <a:pt x="116" y="295"/>
                </a:lnTo>
                <a:lnTo>
                  <a:pt x="116" y="279"/>
                </a:lnTo>
                <a:lnTo>
                  <a:pt x="136" y="256"/>
                </a:lnTo>
                <a:lnTo>
                  <a:pt x="149" y="217"/>
                </a:lnTo>
                <a:lnTo>
                  <a:pt x="194" y="155"/>
                </a:lnTo>
                <a:lnTo>
                  <a:pt x="213" y="145"/>
                </a:lnTo>
                <a:lnTo>
                  <a:pt x="231" y="126"/>
                </a:lnTo>
                <a:lnTo>
                  <a:pt x="237" y="132"/>
                </a:lnTo>
                <a:lnTo>
                  <a:pt x="308" y="81"/>
                </a:lnTo>
                <a:lnTo>
                  <a:pt x="479" y="19"/>
                </a:lnTo>
                <a:lnTo>
                  <a:pt x="518" y="0"/>
                </a:lnTo>
                <a:lnTo>
                  <a:pt x="537" y="39"/>
                </a:lnTo>
                <a:lnTo>
                  <a:pt x="566" y="126"/>
                </a:lnTo>
                <a:close/>
              </a:path>
            </a:pathLst>
          </a:custGeom>
          <a:solidFill>
            <a:srgbClr val="32cc3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16" name=""/>
          <p:cNvSpPr/>
          <p:nvPr/>
        </p:nvSpPr>
        <p:spPr>
          <a:xfrm>
            <a:off x="4146480" y="4378320"/>
            <a:ext cx="728640" cy="1657440"/>
          </a:xfrm>
          <a:custGeom>
            <a:avLst/>
            <a:gdLst/>
            <a:ahLst/>
            <a:rect l="l" t="t" r="r" b="b"/>
            <a:pathLst>
              <a:path w="917" h="2089">
                <a:moveTo>
                  <a:pt x="874" y="136"/>
                </a:moveTo>
                <a:lnTo>
                  <a:pt x="865" y="179"/>
                </a:lnTo>
                <a:lnTo>
                  <a:pt x="774" y="518"/>
                </a:lnTo>
                <a:lnTo>
                  <a:pt x="774" y="522"/>
                </a:lnTo>
                <a:lnTo>
                  <a:pt x="768" y="526"/>
                </a:lnTo>
                <a:lnTo>
                  <a:pt x="754" y="512"/>
                </a:lnTo>
                <a:lnTo>
                  <a:pt x="723" y="522"/>
                </a:lnTo>
                <a:lnTo>
                  <a:pt x="710" y="535"/>
                </a:lnTo>
                <a:lnTo>
                  <a:pt x="710" y="574"/>
                </a:lnTo>
                <a:lnTo>
                  <a:pt x="638" y="768"/>
                </a:lnTo>
                <a:lnTo>
                  <a:pt x="613" y="817"/>
                </a:lnTo>
                <a:lnTo>
                  <a:pt x="593" y="904"/>
                </a:lnTo>
                <a:lnTo>
                  <a:pt x="580" y="933"/>
                </a:lnTo>
                <a:lnTo>
                  <a:pt x="585" y="962"/>
                </a:lnTo>
                <a:lnTo>
                  <a:pt x="618" y="1005"/>
                </a:lnTo>
                <a:lnTo>
                  <a:pt x="550" y="1197"/>
                </a:lnTo>
                <a:lnTo>
                  <a:pt x="492" y="1352"/>
                </a:lnTo>
                <a:lnTo>
                  <a:pt x="424" y="1474"/>
                </a:lnTo>
                <a:lnTo>
                  <a:pt x="269" y="1734"/>
                </a:lnTo>
                <a:lnTo>
                  <a:pt x="184" y="1881"/>
                </a:lnTo>
                <a:lnTo>
                  <a:pt x="159" y="1881"/>
                </a:lnTo>
                <a:lnTo>
                  <a:pt x="149" y="1933"/>
                </a:lnTo>
                <a:lnTo>
                  <a:pt x="58" y="2073"/>
                </a:lnTo>
                <a:lnTo>
                  <a:pt x="42" y="2089"/>
                </a:lnTo>
                <a:lnTo>
                  <a:pt x="38" y="2089"/>
                </a:lnTo>
                <a:lnTo>
                  <a:pt x="23" y="2034"/>
                </a:lnTo>
                <a:lnTo>
                  <a:pt x="9" y="2021"/>
                </a:lnTo>
                <a:lnTo>
                  <a:pt x="0" y="1972"/>
                </a:lnTo>
                <a:lnTo>
                  <a:pt x="116" y="1881"/>
                </a:lnTo>
                <a:lnTo>
                  <a:pt x="168" y="1798"/>
                </a:lnTo>
                <a:lnTo>
                  <a:pt x="232" y="1629"/>
                </a:lnTo>
                <a:lnTo>
                  <a:pt x="318" y="1319"/>
                </a:lnTo>
                <a:lnTo>
                  <a:pt x="347" y="1270"/>
                </a:lnTo>
                <a:lnTo>
                  <a:pt x="337" y="1222"/>
                </a:lnTo>
                <a:lnTo>
                  <a:pt x="347" y="1154"/>
                </a:lnTo>
                <a:lnTo>
                  <a:pt x="343" y="1069"/>
                </a:lnTo>
                <a:lnTo>
                  <a:pt x="337" y="855"/>
                </a:lnTo>
                <a:lnTo>
                  <a:pt x="327" y="807"/>
                </a:lnTo>
                <a:lnTo>
                  <a:pt x="324" y="687"/>
                </a:lnTo>
                <a:lnTo>
                  <a:pt x="294" y="460"/>
                </a:lnTo>
                <a:lnTo>
                  <a:pt x="285" y="444"/>
                </a:lnTo>
                <a:lnTo>
                  <a:pt x="285" y="411"/>
                </a:lnTo>
                <a:lnTo>
                  <a:pt x="260" y="314"/>
                </a:lnTo>
                <a:lnTo>
                  <a:pt x="589" y="165"/>
                </a:lnTo>
                <a:lnTo>
                  <a:pt x="729" y="91"/>
                </a:lnTo>
                <a:lnTo>
                  <a:pt x="907" y="0"/>
                </a:lnTo>
                <a:lnTo>
                  <a:pt x="917" y="0"/>
                </a:lnTo>
                <a:lnTo>
                  <a:pt x="874" y="1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17" name=""/>
          <p:cNvSpPr/>
          <p:nvPr/>
        </p:nvSpPr>
        <p:spPr>
          <a:xfrm>
            <a:off x="2679840" y="4772160"/>
            <a:ext cx="1423800" cy="1274760"/>
          </a:xfrm>
          <a:custGeom>
            <a:avLst/>
            <a:gdLst/>
            <a:ahLst/>
            <a:rect l="l" t="t" r="r" b="b"/>
            <a:pathLst>
              <a:path w="1794" h="1605">
                <a:moveTo>
                  <a:pt x="1548" y="54"/>
                </a:moveTo>
                <a:lnTo>
                  <a:pt x="1535" y="149"/>
                </a:lnTo>
                <a:lnTo>
                  <a:pt x="1525" y="170"/>
                </a:lnTo>
                <a:lnTo>
                  <a:pt x="1525" y="236"/>
                </a:lnTo>
                <a:lnTo>
                  <a:pt x="1515" y="256"/>
                </a:lnTo>
                <a:lnTo>
                  <a:pt x="1515" y="320"/>
                </a:lnTo>
                <a:lnTo>
                  <a:pt x="1467" y="382"/>
                </a:lnTo>
                <a:lnTo>
                  <a:pt x="1467" y="401"/>
                </a:lnTo>
                <a:lnTo>
                  <a:pt x="1482" y="415"/>
                </a:lnTo>
                <a:lnTo>
                  <a:pt x="1525" y="358"/>
                </a:lnTo>
                <a:lnTo>
                  <a:pt x="1583" y="343"/>
                </a:lnTo>
                <a:lnTo>
                  <a:pt x="1645" y="349"/>
                </a:lnTo>
                <a:lnTo>
                  <a:pt x="1651" y="362"/>
                </a:lnTo>
                <a:lnTo>
                  <a:pt x="1655" y="366"/>
                </a:lnTo>
                <a:lnTo>
                  <a:pt x="1587" y="387"/>
                </a:lnTo>
                <a:lnTo>
                  <a:pt x="1558" y="415"/>
                </a:lnTo>
                <a:lnTo>
                  <a:pt x="1573" y="430"/>
                </a:lnTo>
                <a:lnTo>
                  <a:pt x="1659" y="401"/>
                </a:lnTo>
                <a:lnTo>
                  <a:pt x="1694" y="407"/>
                </a:lnTo>
                <a:lnTo>
                  <a:pt x="1713" y="411"/>
                </a:lnTo>
                <a:lnTo>
                  <a:pt x="1738" y="430"/>
                </a:lnTo>
                <a:lnTo>
                  <a:pt x="1717" y="446"/>
                </a:lnTo>
                <a:lnTo>
                  <a:pt x="1699" y="446"/>
                </a:lnTo>
                <a:lnTo>
                  <a:pt x="1694" y="449"/>
                </a:lnTo>
                <a:lnTo>
                  <a:pt x="1626" y="488"/>
                </a:lnTo>
                <a:lnTo>
                  <a:pt x="1597" y="523"/>
                </a:lnTo>
                <a:lnTo>
                  <a:pt x="1616" y="537"/>
                </a:lnTo>
                <a:lnTo>
                  <a:pt x="1742" y="469"/>
                </a:lnTo>
                <a:lnTo>
                  <a:pt x="1794" y="469"/>
                </a:lnTo>
                <a:lnTo>
                  <a:pt x="1794" y="492"/>
                </a:lnTo>
                <a:lnTo>
                  <a:pt x="1777" y="560"/>
                </a:lnTo>
                <a:lnTo>
                  <a:pt x="1777" y="572"/>
                </a:lnTo>
                <a:lnTo>
                  <a:pt x="1756" y="585"/>
                </a:lnTo>
                <a:lnTo>
                  <a:pt x="1752" y="605"/>
                </a:lnTo>
                <a:lnTo>
                  <a:pt x="1659" y="711"/>
                </a:lnTo>
                <a:lnTo>
                  <a:pt x="1635" y="731"/>
                </a:lnTo>
                <a:lnTo>
                  <a:pt x="1631" y="734"/>
                </a:lnTo>
                <a:lnTo>
                  <a:pt x="1631" y="700"/>
                </a:lnTo>
                <a:lnTo>
                  <a:pt x="1664" y="634"/>
                </a:lnTo>
                <a:lnTo>
                  <a:pt x="1680" y="605"/>
                </a:lnTo>
                <a:lnTo>
                  <a:pt x="1738" y="579"/>
                </a:lnTo>
                <a:lnTo>
                  <a:pt x="1746" y="566"/>
                </a:lnTo>
                <a:lnTo>
                  <a:pt x="1742" y="550"/>
                </a:lnTo>
                <a:lnTo>
                  <a:pt x="1732" y="543"/>
                </a:lnTo>
                <a:lnTo>
                  <a:pt x="1620" y="585"/>
                </a:lnTo>
                <a:lnTo>
                  <a:pt x="1577" y="638"/>
                </a:lnTo>
                <a:lnTo>
                  <a:pt x="1564" y="686"/>
                </a:lnTo>
                <a:lnTo>
                  <a:pt x="1500" y="748"/>
                </a:lnTo>
                <a:lnTo>
                  <a:pt x="1441" y="779"/>
                </a:lnTo>
                <a:lnTo>
                  <a:pt x="1438" y="773"/>
                </a:lnTo>
                <a:lnTo>
                  <a:pt x="1346" y="880"/>
                </a:lnTo>
                <a:lnTo>
                  <a:pt x="1288" y="977"/>
                </a:lnTo>
                <a:lnTo>
                  <a:pt x="1249" y="1020"/>
                </a:lnTo>
                <a:lnTo>
                  <a:pt x="1147" y="1149"/>
                </a:lnTo>
                <a:lnTo>
                  <a:pt x="955" y="1355"/>
                </a:lnTo>
                <a:lnTo>
                  <a:pt x="842" y="1450"/>
                </a:lnTo>
                <a:lnTo>
                  <a:pt x="673" y="1537"/>
                </a:lnTo>
                <a:lnTo>
                  <a:pt x="538" y="1588"/>
                </a:lnTo>
                <a:lnTo>
                  <a:pt x="495" y="1595"/>
                </a:lnTo>
                <a:lnTo>
                  <a:pt x="373" y="1605"/>
                </a:lnTo>
                <a:lnTo>
                  <a:pt x="334" y="1601"/>
                </a:lnTo>
                <a:lnTo>
                  <a:pt x="276" y="1572"/>
                </a:lnTo>
                <a:lnTo>
                  <a:pt x="175" y="1456"/>
                </a:lnTo>
                <a:lnTo>
                  <a:pt x="156" y="1421"/>
                </a:lnTo>
                <a:lnTo>
                  <a:pt x="150" y="1392"/>
                </a:lnTo>
                <a:lnTo>
                  <a:pt x="88" y="1262"/>
                </a:lnTo>
                <a:lnTo>
                  <a:pt x="43" y="1132"/>
                </a:lnTo>
                <a:lnTo>
                  <a:pt x="22" y="1045"/>
                </a:lnTo>
                <a:lnTo>
                  <a:pt x="0" y="971"/>
                </a:lnTo>
                <a:lnTo>
                  <a:pt x="0" y="903"/>
                </a:lnTo>
                <a:lnTo>
                  <a:pt x="113" y="864"/>
                </a:lnTo>
                <a:lnTo>
                  <a:pt x="268" y="841"/>
                </a:lnTo>
                <a:lnTo>
                  <a:pt x="402" y="841"/>
                </a:lnTo>
                <a:lnTo>
                  <a:pt x="423" y="899"/>
                </a:lnTo>
                <a:lnTo>
                  <a:pt x="437" y="981"/>
                </a:lnTo>
                <a:lnTo>
                  <a:pt x="466" y="1113"/>
                </a:lnTo>
                <a:lnTo>
                  <a:pt x="466" y="1122"/>
                </a:lnTo>
                <a:lnTo>
                  <a:pt x="340" y="1252"/>
                </a:lnTo>
                <a:lnTo>
                  <a:pt x="276" y="1330"/>
                </a:lnTo>
                <a:lnTo>
                  <a:pt x="276" y="1339"/>
                </a:lnTo>
                <a:lnTo>
                  <a:pt x="301" y="1339"/>
                </a:lnTo>
                <a:lnTo>
                  <a:pt x="402" y="1233"/>
                </a:lnTo>
                <a:lnTo>
                  <a:pt x="495" y="1146"/>
                </a:lnTo>
                <a:lnTo>
                  <a:pt x="654" y="1029"/>
                </a:lnTo>
                <a:lnTo>
                  <a:pt x="745" y="977"/>
                </a:lnTo>
                <a:lnTo>
                  <a:pt x="751" y="971"/>
                </a:lnTo>
                <a:lnTo>
                  <a:pt x="935" y="876"/>
                </a:lnTo>
                <a:lnTo>
                  <a:pt x="1040" y="822"/>
                </a:lnTo>
                <a:lnTo>
                  <a:pt x="1240" y="678"/>
                </a:lnTo>
                <a:lnTo>
                  <a:pt x="1292" y="628"/>
                </a:lnTo>
                <a:lnTo>
                  <a:pt x="1298" y="634"/>
                </a:lnTo>
                <a:lnTo>
                  <a:pt x="1321" y="605"/>
                </a:lnTo>
                <a:lnTo>
                  <a:pt x="1346" y="550"/>
                </a:lnTo>
                <a:lnTo>
                  <a:pt x="1399" y="387"/>
                </a:lnTo>
                <a:lnTo>
                  <a:pt x="1418" y="343"/>
                </a:lnTo>
                <a:lnTo>
                  <a:pt x="1447" y="285"/>
                </a:lnTo>
                <a:lnTo>
                  <a:pt x="1476" y="170"/>
                </a:lnTo>
                <a:lnTo>
                  <a:pt x="1496" y="106"/>
                </a:lnTo>
                <a:lnTo>
                  <a:pt x="1525" y="0"/>
                </a:lnTo>
                <a:lnTo>
                  <a:pt x="1538" y="0"/>
                </a:lnTo>
                <a:lnTo>
                  <a:pt x="1548" y="54"/>
                </a:lnTo>
                <a:close/>
              </a:path>
            </a:pathLst>
          </a:custGeom>
          <a:solidFill>
            <a:srgbClr val="e8aa7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18" name=""/>
          <p:cNvSpPr/>
          <p:nvPr/>
        </p:nvSpPr>
        <p:spPr>
          <a:xfrm>
            <a:off x="6265800" y="4834080"/>
            <a:ext cx="138240" cy="374400"/>
          </a:xfrm>
          <a:custGeom>
            <a:avLst/>
            <a:gdLst/>
            <a:ahLst/>
            <a:rect l="l" t="t" r="r" b="b"/>
            <a:pathLst>
              <a:path w="175" h="473">
                <a:moveTo>
                  <a:pt x="169" y="376"/>
                </a:moveTo>
                <a:lnTo>
                  <a:pt x="175" y="446"/>
                </a:lnTo>
                <a:lnTo>
                  <a:pt x="175" y="456"/>
                </a:lnTo>
                <a:lnTo>
                  <a:pt x="35" y="473"/>
                </a:lnTo>
                <a:lnTo>
                  <a:pt x="24" y="466"/>
                </a:lnTo>
                <a:lnTo>
                  <a:pt x="20" y="466"/>
                </a:lnTo>
                <a:lnTo>
                  <a:pt x="14" y="469"/>
                </a:lnTo>
                <a:lnTo>
                  <a:pt x="0" y="421"/>
                </a:lnTo>
                <a:lnTo>
                  <a:pt x="0" y="349"/>
                </a:lnTo>
                <a:lnTo>
                  <a:pt x="4" y="165"/>
                </a:lnTo>
                <a:lnTo>
                  <a:pt x="136" y="16"/>
                </a:lnTo>
                <a:lnTo>
                  <a:pt x="146" y="0"/>
                </a:lnTo>
                <a:lnTo>
                  <a:pt x="159" y="204"/>
                </a:lnTo>
                <a:lnTo>
                  <a:pt x="169" y="376"/>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19" name=""/>
          <p:cNvSpPr/>
          <p:nvPr/>
        </p:nvSpPr>
        <p:spPr>
          <a:xfrm>
            <a:off x="4633920" y="4848120"/>
            <a:ext cx="299880" cy="473040"/>
          </a:xfrm>
          <a:custGeom>
            <a:avLst/>
            <a:gdLst/>
            <a:ahLst/>
            <a:rect l="l" t="t" r="r" b="b"/>
            <a:pathLst>
              <a:path w="378" h="595">
                <a:moveTo>
                  <a:pt x="353" y="199"/>
                </a:moveTo>
                <a:lnTo>
                  <a:pt x="362" y="207"/>
                </a:lnTo>
                <a:lnTo>
                  <a:pt x="366" y="459"/>
                </a:lnTo>
                <a:lnTo>
                  <a:pt x="378" y="546"/>
                </a:lnTo>
                <a:lnTo>
                  <a:pt x="374" y="595"/>
                </a:lnTo>
                <a:lnTo>
                  <a:pt x="246" y="541"/>
                </a:lnTo>
                <a:lnTo>
                  <a:pt x="21" y="372"/>
                </a:lnTo>
                <a:lnTo>
                  <a:pt x="9" y="356"/>
                </a:lnTo>
                <a:lnTo>
                  <a:pt x="0" y="349"/>
                </a:lnTo>
                <a:lnTo>
                  <a:pt x="9" y="290"/>
                </a:lnTo>
                <a:lnTo>
                  <a:pt x="54" y="155"/>
                </a:lnTo>
                <a:lnTo>
                  <a:pt x="73" y="116"/>
                </a:lnTo>
                <a:lnTo>
                  <a:pt x="100" y="32"/>
                </a:lnTo>
                <a:lnTo>
                  <a:pt x="122" y="0"/>
                </a:lnTo>
                <a:lnTo>
                  <a:pt x="193" y="102"/>
                </a:lnTo>
                <a:lnTo>
                  <a:pt x="353" y="199"/>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20" name=""/>
          <p:cNvSpPr/>
          <p:nvPr/>
        </p:nvSpPr>
        <p:spPr>
          <a:xfrm>
            <a:off x="5985000" y="4861080"/>
            <a:ext cx="264960" cy="398160"/>
          </a:xfrm>
          <a:custGeom>
            <a:avLst/>
            <a:gdLst/>
            <a:ahLst/>
            <a:rect l="l" t="t" r="r" b="b"/>
            <a:pathLst>
              <a:path w="334" h="502">
                <a:moveTo>
                  <a:pt x="328" y="405"/>
                </a:moveTo>
                <a:lnTo>
                  <a:pt x="334" y="463"/>
                </a:lnTo>
                <a:lnTo>
                  <a:pt x="262" y="487"/>
                </a:lnTo>
                <a:lnTo>
                  <a:pt x="121" y="502"/>
                </a:lnTo>
                <a:lnTo>
                  <a:pt x="88" y="463"/>
                </a:lnTo>
                <a:lnTo>
                  <a:pt x="29" y="289"/>
                </a:lnTo>
                <a:lnTo>
                  <a:pt x="0" y="237"/>
                </a:lnTo>
                <a:lnTo>
                  <a:pt x="84" y="192"/>
                </a:lnTo>
                <a:lnTo>
                  <a:pt x="314" y="0"/>
                </a:lnTo>
                <a:lnTo>
                  <a:pt x="324" y="107"/>
                </a:lnTo>
                <a:lnTo>
                  <a:pt x="328" y="405"/>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21" name=""/>
          <p:cNvSpPr/>
          <p:nvPr/>
        </p:nvSpPr>
        <p:spPr>
          <a:xfrm>
            <a:off x="5224320" y="4979880"/>
            <a:ext cx="100080" cy="146160"/>
          </a:xfrm>
          <a:custGeom>
            <a:avLst/>
            <a:gdLst/>
            <a:ahLst/>
            <a:rect l="l" t="t" r="r" b="b"/>
            <a:pathLst>
              <a:path w="126" h="185">
                <a:moveTo>
                  <a:pt x="126" y="49"/>
                </a:moveTo>
                <a:lnTo>
                  <a:pt x="121" y="126"/>
                </a:lnTo>
                <a:lnTo>
                  <a:pt x="107" y="154"/>
                </a:lnTo>
                <a:lnTo>
                  <a:pt x="68" y="185"/>
                </a:lnTo>
                <a:lnTo>
                  <a:pt x="20" y="175"/>
                </a:lnTo>
                <a:lnTo>
                  <a:pt x="0" y="140"/>
                </a:lnTo>
                <a:lnTo>
                  <a:pt x="4" y="72"/>
                </a:lnTo>
                <a:lnTo>
                  <a:pt x="68" y="0"/>
                </a:lnTo>
                <a:lnTo>
                  <a:pt x="97" y="4"/>
                </a:lnTo>
                <a:lnTo>
                  <a:pt x="12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22" name=""/>
          <p:cNvSpPr/>
          <p:nvPr/>
        </p:nvSpPr>
        <p:spPr>
          <a:xfrm>
            <a:off x="5240160" y="5002200"/>
            <a:ext cx="68400" cy="103320"/>
          </a:xfrm>
          <a:custGeom>
            <a:avLst/>
            <a:gdLst/>
            <a:ahLst/>
            <a:rect l="l" t="t" r="r" b="b"/>
            <a:pathLst>
              <a:path w="87" h="130">
                <a:moveTo>
                  <a:pt x="87" y="49"/>
                </a:moveTo>
                <a:lnTo>
                  <a:pt x="77" y="107"/>
                </a:lnTo>
                <a:lnTo>
                  <a:pt x="58" y="121"/>
                </a:lnTo>
                <a:lnTo>
                  <a:pt x="48" y="130"/>
                </a:lnTo>
                <a:lnTo>
                  <a:pt x="9" y="117"/>
                </a:lnTo>
                <a:lnTo>
                  <a:pt x="0" y="88"/>
                </a:lnTo>
                <a:lnTo>
                  <a:pt x="4" y="53"/>
                </a:lnTo>
                <a:lnTo>
                  <a:pt x="58" y="0"/>
                </a:lnTo>
                <a:lnTo>
                  <a:pt x="83" y="30"/>
                </a:lnTo>
                <a:lnTo>
                  <a:pt x="87" y="49"/>
                </a:lnTo>
                <a:close/>
              </a:path>
            </a:pathLst>
          </a:custGeom>
          <a:solidFill>
            <a:srgbClr val="9932c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23" name=""/>
          <p:cNvSpPr/>
          <p:nvPr/>
        </p:nvSpPr>
        <p:spPr>
          <a:xfrm>
            <a:off x="4200480" y="5189400"/>
            <a:ext cx="698400" cy="857520"/>
          </a:xfrm>
          <a:custGeom>
            <a:avLst/>
            <a:gdLst/>
            <a:ahLst/>
            <a:rect l="l" t="t" r="r" b="b"/>
            <a:pathLst>
              <a:path w="878" h="1078">
                <a:moveTo>
                  <a:pt x="806" y="159"/>
                </a:moveTo>
                <a:lnTo>
                  <a:pt x="839" y="169"/>
                </a:lnTo>
                <a:lnTo>
                  <a:pt x="878" y="188"/>
                </a:lnTo>
                <a:lnTo>
                  <a:pt x="874" y="213"/>
                </a:lnTo>
                <a:lnTo>
                  <a:pt x="783" y="444"/>
                </a:lnTo>
                <a:lnTo>
                  <a:pt x="694" y="595"/>
                </a:lnTo>
                <a:lnTo>
                  <a:pt x="531" y="793"/>
                </a:lnTo>
                <a:lnTo>
                  <a:pt x="482" y="842"/>
                </a:lnTo>
                <a:lnTo>
                  <a:pt x="473" y="842"/>
                </a:lnTo>
                <a:lnTo>
                  <a:pt x="444" y="884"/>
                </a:lnTo>
                <a:lnTo>
                  <a:pt x="444" y="900"/>
                </a:lnTo>
                <a:lnTo>
                  <a:pt x="424" y="909"/>
                </a:lnTo>
                <a:lnTo>
                  <a:pt x="399" y="948"/>
                </a:lnTo>
                <a:lnTo>
                  <a:pt x="366" y="971"/>
                </a:lnTo>
                <a:lnTo>
                  <a:pt x="353" y="991"/>
                </a:lnTo>
                <a:lnTo>
                  <a:pt x="323" y="1020"/>
                </a:lnTo>
                <a:lnTo>
                  <a:pt x="285" y="1055"/>
                </a:lnTo>
                <a:lnTo>
                  <a:pt x="269" y="1078"/>
                </a:lnTo>
                <a:lnTo>
                  <a:pt x="0" y="1078"/>
                </a:lnTo>
                <a:lnTo>
                  <a:pt x="62" y="997"/>
                </a:lnTo>
                <a:lnTo>
                  <a:pt x="100" y="933"/>
                </a:lnTo>
                <a:lnTo>
                  <a:pt x="168" y="818"/>
                </a:lnTo>
                <a:lnTo>
                  <a:pt x="314" y="574"/>
                </a:lnTo>
                <a:lnTo>
                  <a:pt x="482" y="275"/>
                </a:lnTo>
                <a:lnTo>
                  <a:pt x="486" y="246"/>
                </a:lnTo>
                <a:lnTo>
                  <a:pt x="554" y="58"/>
                </a:lnTo>
                <a:lnTo>
                  <a:pt x="579" y="0"/>
                </a:lnTo>
                <a:lnTo>
                  <a:pt x="706" y="91"/>
                </a:lnTo>
                <a:lnTo>
                  <a:pt x="806" y="159"/>
                </a:lnTo>
                <a:close/>
              </a:path>
            </a:pathLst>
          </a:custGeom>
          <a:solidFill>
            <a:srgbClr val="f2b596"/>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24" name=""/>
          <p:cNvSpPr/>
          <p:nvPr/>
        </p:nvSpPr>
        <p:spPr>
          <a:xfrm>
            <a:off x="2016000" y="5226120"/>
            <a:ext cx="800280" cy="820800"/>
          </a:xfrm>
          <a:custGeom>
            <a:avLst/>
            <a:gdLst/>
            <a:ahLst/>
            <a:rect l="l" t="t" r="r" b="b"/>
            <a:pathLst>
              <a:path w="1006" h="1033">
                <a:moveTo>
                  <a:pt x="758" y="304"/>
                </a:moveTo>
                <a:lnTo>
                  <a:pt x="758" y="312"/>
                </a:lnTo>
                <a:lnTo>
                  <a:pt x="754" y="318"/>
                </a:lnTo>
                <a:lnTo>
                  <a:pt x="783" y="345"/>
                </a:lnTo>
                <a:lnTo>
                  <a:pt x="803" y="345"/>
                </a:lnTo>
                <a:lnTo>
                  <a:pt x="806" y="393"/>
                </a:lnTo>
                <a:lnTo>
                  <a:pt x="890" y="690"/>
                </a:lnTo>
                <a:lnTo>
                  <a:pt x="907" y="738"/>
                </a:lnTo>
                <a:lnTo>
                  <a:pt x="995" y="923"/>
                </a:lnTo>
                <a:lnTo>
                  <a:pt x="1006" y="932"/>
                </a:lnTo>
                <a:lnTo>
                  <a:pt x="1000" y="1033"/>
                </a:lnTo>
                <a:lnTo>
                  <a:pt x="0" y="1033"/>
                </a:lnTo>
                <a:lnTo>
                  <a:pt x="0" y="380"/>
                </a:lnTo>
                <a:lnTo>
                  <a:pt x="386" y="188"/>
                </a:lnTo>
                <a:lnTo>
                  <a:pt x="628" y="46"/>
                </a:lnTo>
                <a:lnTo>
                  <a:pt x="721" y="0"/>
                </a:lnTo>
                <a:lnTo>
                  <a:pt x="739" y="234"/>
                </a:lnTo>
                <a:lnTo>
                  <a:pt x="758" y="3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25" name=""/>
          <p:cNvSpPr/>
          <p:nvPr/>
        </p:nvSpPr>
        <p:spPr>
          <a:xfrm>
            <a:off x="5856120" y="5226120"/>
            <a:ext cx="543240" cy="820800"/>
          </a:xfrm>
          <a:custGeom>
            <a:avLst/>
            <a:gdLst/>
            <a:ahLst/>
            <a:rect l="l" t="t" r="r" b="b"/>
            <a:pathLst>
              <a:path w="685" h="1033">
                <a:moveTo>
                  <a:pt x="627" y="415"/>
                </a:moveTo>
                <a:lnTo>
                  <a:pt x="623" y="492"/>
                </a:lnTo>
                <a:lnTo>
                  <a:pt x="604" y="632"/>
                </a:lnTo>
                <a:lnTo>
                  <a:pt x="588" y="715"/>
                </a:lnTo>
                <a:lnTo>
                  <a:pt x="565" y="783"/>
                </a:lnTo>
                <a:lnTo>
                  <a:pt x="530" y="820"/>
                </a:lnTo>
                <a:lnTo>
                  <a:pt x="448" y="956"/>
                </a:lnTo>
                <a:lnTo>
                  <a:pt x="406" y="1004"/>
                </a:lnTo>
                <a:lnTo>
                  <a:pt x="406" y="1020"/>
                </a:lnTo>
                <a:lnTo>
                  <a:pt x="390" y="1029"/>
                </a:lnTo>
                <a:lnTo>
                  <a:pt x="18" y="1033"/>
                </a:lnTo>
                <a:lnTo>
                  <a:pt x="0" y="1033"/>
                </a:lnTo>
                <a:lnTo>
                  <a:pt x="37" y="985"/>
                </a:lnTo>
                <a:lnTo>
                  <a:pt x="43" y="985"/>
                </a:lnTo>
                <a:lnTo>
                  <a:pt x="295" y="570"/>
                </a:lnTo>
                <a:lnTo>
                  <a:pt x="289" y="149"/>
                </a:lnTo>
                <a:lnTo>
                  <a:pt x="289" y="75"/>
                </a:lnTo>
                <a:lnTo>
                  <a:pt x="367" y="62"/>
                </a:lnTo>
                <a:lnTo>
                  <a:pt x="425" y="62"/>
                </a:lnTo>
                <a:lnTo>
                  <a:pt x="512" y="33"/>
                </a:lnTo>
                <a:lnTo>
                  <a:pt x="555" y="13"/>
                </a:lnTo>
                <a:lnTo>
                  <a:pt x="627" y="3"/>
                </a:lnTo>
                <a:lnTo>
                  <a:pt x="633" y="0"/>
                </a:lnTo>
                <a:lnTo>
                  <a:pt x="685" y="3"/>
                </a:lnTo>
                <a:lnTo>
                  <a:pt x="627" y="415"/>
                </a:lnTo>
                <a:close/>
              </a:path>
            </a:pathLst>
          </a:custGeom>
          <a:solidFill>
            <a:srgbClr val="f2b596"/>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26" name=""/>
          <p:cNvSpPr/>
          <p:nvPr/>
        </p:nvSpPr>
        <p:spPr>
          <a:xfrm>
            <a:off x="5216400" y="5232240"/>
            <a:ext cx="95400" cy="133560"/>
          </a:xfrm>
          <a:custGeom>
            <a:avLst/>
            <a:gdLst/>
            <a:ahLst/>
            <a:rect l="l" t="t" r="r" b="b"/>
            <a:pathLst>
              <a:path w="120" h="169">
                <a:moveTo>
                  <a:pt x="120" y="68"/>
                </a:moveTo>
                <a:lnTo>
                  <a:pt x="112" y="126"/>
                </a:lnTo>
                <a:lnTo>
                  <a:pt x="93" y="155"/>
                </a:lnTo>
                <a:lnTo>
                  <a:pt x="67" y="169"/>
                </a:lnTo>
                <a:lnTo>
                  <a:pt x="29" y="161"/>
                </a:lnTo>
                <a:lnTo>
                  <a:pt x="5" y="113"/>
                </a:lnTo>
                <a:lnTo>
                  <a:pt x="9" y="49"/>
                </a:lnTo>
                <a:lnTo>
                  <a:pt x="0" y="39"/>
                </a:lnTo>
                <a:lnTo>
                  <a:pt x="0" y="29"/>
                </a:lnTo>
                <a:lnTo>
                  <a:pt x="58" y="0"/>
                </a:lnTo>
                <a:lnTo>
                  <a:pt x="93" y="6"/>
                </a:lnTo>
                <a:lnTo>
                  <a:pt x="120"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27" name=""/>
          <p:cNvSpPr/>
          <p:nvPr/>
        </p:nvSpPr>
        <p:spPr>
          <a:xfrm>
            <a:off x="5237280" y="5254560"/>
            <a:ext cx="56880" cy="92160"/>
          </a:xfrm>
          <a:custGeom>
            <a:avLst/>
            <a:gdLst/>
            <a:ahLst/>
            <a:rect l="l" t="t" r="r" b="b"/>
            <a:pathLst>
              <a:path w="72" h="117">
                <a:moveTo>
                  <a:pt x="72" y="39"/>
                </a:moveTo>
                <a:lnTo>
                  <a:pt x="68" y="88"/>
                </a:lnTo>
                <a:lnTo>
                  <a:pt x="48" y="113"/>
                </a:lnTo>
                <a:lnTo>
                  <a:pt x="42" y="117"/>
                </a:lnTo>
                <a:lnTo>
                  <a:pt x="8" y="103"/>
                </a:lnTo>
                <a:lnTo>
                  <a:pt x="0" y="70"/>
                </a:lnTo>
                <a:lnTo>
                  <a:pt x="8" y="30"/>
                </a:lnTo>
                <a:lnTo>
                  <a:pt x="37" y="0"/>
                </a:lnTo>
                <a:lnTo>
                  <a:pt x="52" y="0"/>
                </a:lnTo>
                <a:lnTo>
                  <a:pt x="72" y="39"/>
                </a:lnTo>
                <a:close/>
              </a:path>
            </a:pathLst>
          </a:custGeom>
          <a:solidFill>
            <a:srgbClr val="9932cc"/>
          </a:solidFill>
          <a:ln w="0">
            <a:noFill/>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328" name=""/>
          <p:cNvSpPr/>
          <p:nvPr/>
        </p:nvSpPr>
        <p:spPr>
          <a:xfrm>
            <a:off x="3152880" y="5270400"/>
            <a:ext cx="933480" cy="776520"/>
          </a:xfrm>
          <a:custGeom>
            <a:avLst/>
            <a:gdLst/>
            <a:ahLst/>
            <a:rect l="l" t="t" r="r" b="b"/>
            <a:pathLst>
              <a:path w="1175" h="977">
                <a:moveTo>
                  <a:pt x="1006" y="50"/>
                </a:moveTo>
                <a:lnTo>
                  <a:pt x="1006" y="68"/>
                </a:lnTo>
                <a:lnTo>
                  <a:pt x="997" y="97"/>
                </a:lnTo>
                <a:lnTo>
                  <a:pt x="1006" y="132"/>
                </a:lnTo>
                <a:lnTo>
                  <a:pt x="1024" y="139"/>
                </a:lnTo>
                <a:lnTo>
                  <a:pt x="1055" y="132"/>
                </a:lnTo>
                <a:lnTo>
                  <a:pt x="1117" y="72"/>
                </a:lnTo>
                <a:lnTo>
                  <a:pt x="1156" y="29"/>
                </a:lnTo>
                <a:lnTo>
                  <a:pt x="1175" y="10"/>
                </a:lnTo>
                <a:lnTo>
                  <a:pt x="1136" y="236"/>
                </a:lnTo>
                <a:lnTo>
                  <a:pt x="1117" y="262"/>
                </a:lnTo>
                <a:lnTo>
                  <a:pt x="1117" y="285"/>
                </a:lnTo>
                <a:lnTo>
                  <a:pt x="1078" y="368"/>
                </a:lnTo>
                <a:lnTo>
                  <a:pt x="1014" y="537"/>
                </a:lnTo>
                <a:lnTo>
                  <a:pt x="971" y="624"/>
                </a:lnTo>
                <a:lnTo>
                  <a:pt x="913" y="663"/>
                </a:lnTo>
                <a:lnTo>
                  <a:pt x="719" y="746"/>
                </a:lnTo>
                <a:lnTo>
                  <a:pt x="706" y="760"/>
                </a:lnTo>
                <a:lnTo>
                  <a:pt x="638" y="789"/>
                </a:lnTo>
                <a:lnTo>
                  <a:pt x="430" y="938"/>
                </a:lnTo>
                <a:lnTo>
                  <a:pt x="392" y="948"/>
                </a:lnTo>
                <a:lnTo>
                  <a:pt x="343" y="977"/>
                </a:lnTo>
                <a:lnTo>
                  <a:pt x="0" y="977"/>
                </a:lnTo>
                <a:lnTo>
                  <a:pt x="207" y="890"/>
                </a:lnTo>
                <a:lnTo>
                  <a:pt x="320" y="808"/>
                </a:lnTo>
                <a:lnTo>
                  <a:pt x="378" y="756"/>
                </a:lnTo>
                <a:lnTo>
                  <a:pt x="378" y="746"/>
                </a:lnTo>
                <a:lnTo>
                  <a:pt x="421" y="711"/>
                </a:lnTo>
                <a:lnTo>
                  <a:pt x="527" y="595"/>
                </a:lnTo>
                <a:lnTo>
                  <a:pt x="657" y="450"/>
                </a:lnTo>
                <a:lnTo>
                  <a:pt x="822" y="217"/>
                </a:lnTo>
                <a:lnTo>
                  <a:pt x="909" y="161"/>
                </a:lnTo>
                <a:lnTo>
                  <a:pt x="952" y="132"/>
                </a:lnTo>
                <a:lnTo>
                  <a:pt x="997" y="72"/>
                </a:lnTo>
                <a:lnTo>
                  <a:pt x="1020" y="15"/>
                </a:lnTo>
                <a:lnTo>
                  <a:pt x="1035" y="0"/>
                </a:lnTo>
                <a:lnTo>
                  <a:pt x="1014" y="39"/>
                </a:lnTo>
                <a:lnTo>
                  <a:pt x="1006" y="50"/>
                </a:lnTo>
                <a:close/>
              </a:path>
            </a:pathLst>
          </a:custGeom>
          <a:solidFill>
            <a:srgbClr val="32cc3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29" name=""/>
          <p:cNvSpPr/>
          <p:nvPr/>
        </p:nvSpPr>
        <p:spPr>
          <a:xfrm>
            <a:off x="4443480" y="5351400"/>
            <a:ext cx="619200" cy="695520"/>
          </a:xfrm>
          <a:custGeom>
            <a:avLst/>
            <a:gdLst/>
            <a:ahLst/>
            <a:rect l="l" t="t" r="r" b="b"/>
            <a:pathLst>
              <a:path w="782" h="874">
                <a:moveTo>
                  <a:pt x="661" y="289"/>
                </a:moveTo>
                <a:lnTo>
                  <a:pt x="716" y="672"/>
                </a:lnTo>
                <a:lnTo>
                  <a:pt x="720" y="686"/>
                </a:lnTo>
                <a:lnTo>
                  <a:pt x="725" y="690"/>
                </a:lnTo>
                <a:lnTo>
                  <a:pt x="735" y="690"/>
                </a:lnTo>
                <a:lnTo>
                  <a:pt x="743" y="676"/>
                </a:lnTo>
                <a:lnTo>
                  <a:pt x="739" y="672"/>
                </a:lnTo>
                <a:lnTo>
                  <a:pt x="764" y="690"/>
                </a:lnTo>
                <a:lnTo>
                  <a:pt x="772" y="822"/>
                </a:lnTo>
                <a:lnTo>
                  <a:pt x="782" y="864"/>
                </a:lnTo>
                <a:lnTo>
                  <a:pt x="782" y="874"/>
                </a:lnTo>
                <a:lnTo>
                  <a:pt x="0" y="874"/>
                </a:lnTo>
                <a:lnTo>
                  <a:pt x="33" y="841"/>
                </a:lnTo>
                <a:lnTo>
                  <a:pt x="58" y="816"/>
                </a:lnTo>
                <a:lnTo>
                  <a:pt x="136" y="738"/>
                </a:lnTo>
                <a:lnTo>
                  <a:pt x="169" y="702"/>
                </a:lnTo>
                <a:lnTo>
                  <a:pt x="217" y="638"/>
                </a:lnTo>
                <a:lnTo>
                  <a:pt x="357" y="482"/>
                </a:lnTo>
                <a:lnTo>
                  <a:pt x="444" y="362"/>
                </a:lnTo>
                <a:lnTo>
                  <a:pt x="512" y="230"/>
                </a:lnTo>
                <a:lnTo>
                  <a:pt x="566" y="91"/>
                </a:lnTo>
                <a:lnTo>
                  <a:pt x="603" y="0"/>
                </a:lnTo>
                <a:lnTo>
                  <a:pt x="619" y="3"/>
                </a:lnTo>
                <a:lnTo>
                  <a:pt x="661" y="2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30" name=""/>
          <p:cNvSpPr/>
          <p:nvPr/>
        </p:nvSpPr>
        <p:spPr>
          <a:xfrm>
            <a:off x="3468600" y="5419800"/>
            <a:ext cx="908280" cy="627120"/>
          </a:xfrm>
          <a:custGeom>
            <a:avLst/>
            <a:gdLst/>
            <a:ahLst/>
            <a:rect l="l" t="t" r="r" b="b"/>
            <a:pathLst>
              <a:path w="1145" h="789">
                <a:moveTo>
                  <a:pt x="1121" y="68"/>
                </a:moveTo>
                <a:lnTo>
                  <a:pt x="1125" y="74"/>
                </a:lnTo>
                <a:lnTo>
                  <a:pt x="1121" y="74"/>
                </a:lnTo>
                <a:lnTo>
                  <a:pt x="1054" y="326"/>
                </a:lnTo>
                <a:lnTo>
                  <a:pt x="995" y="475"/>
                </a:lnTo>
                <a:lnTo>
                  <a:pt x="937" y="553"/>
                </a:lnTo>
                <a:lnTo>
                  <a:pt x="821" y="640"/>
                </a:lnTo>
                <a:lnTo>
                  <a:pt x="671" y="727"/>
                </a:lnTo>
                <a:lnTo>
                  <a:pt x="627" y="741"/>
                </a:lnTo>
                <a:lnTo>
                  <a:pt x="609" y="741"/>
                </a:lnTo>
                <a:lnTo>
                  <a:pt x="580" y="756"/>
                </a:lnTo>
                <a:lnTo>
                  <a:pt x="545" y="756"/>
                </a:lnTo>
                <a:lnTo>
                  <a:pt x="493" y="789"/>
                </a:lnTo>
                <a:lnTo>
                  <a:pt x="0" y="789"/>
                </a:lnTo>
                <a:lnTo>
                  <a:pt x="33" y="785"/>
                </a:lnTo>
                <a:lnTo>
                  <a:pt x="280" y="620"/>
                </a:lnTo>
                <a:lnTo>
                  <a:pt x="497" y="520"/>
                </a:lnTo>
                <a:lnTo>
                  <a:pt x="580" y="481"/>
                </a:lnTo>
                <a:lnTo>
                  <a:pt x="627" y="407"/>
                </a:lnTo>
                <a:lnTo>
                  <a:pt x="701" y="229"/>
                </a:lnTo>
                <a:lnTo>
                  <a:pt x="724" y="161"/>
                </a:lnTo>
                <a:lnTo>
                  <a:pt x="749" y="101"/>
                </a:lnTo>
                <a:lnTo>
                  <a:pt x="772" y="68"/>
                </a:lnTo>
                <a:lnTo>
                  <a:pt x="860" y="64"/>
                </a:lnTo>
                <a:lnTo>
                  <a:pt x="879" y="54"/>
                </a:lnTo>
                <a:lnTo>
                  <a:pt x="933" y="54"/>
                </a:lnTo>
                <a:lnTo>
                  <a:pt x="1092" y="15"/>
                </a:lnTo>
                <a:lnTo>
                  <a:pt x="1131" y="0"/>
                </a:lnTo>
                <a:lnTo>
                  <a:pt x="1145" y="0"/>
                </a:lnTo>
                <a:lnTo>
                  <a:pt x="1121" y="68"/>
                </a:lnTo>
                <a:close/>
              </a:path>
            </a:pathLst>
          </a:custGeom>
          <a:solidFill>
            <a:srgbClr val="e8aa7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31" name=""/>
          <p:cNvSpPr/>
          <p:nvPr/>
        </p:nvSpPr>
        <p:spPr>
          <a:xfrm>
            <a:off x="5070600" y="5819760"/>
            <a:ext cx="819000" cy="227160"/>
          </a:xfrm>
          <a:custGeom>
            <a:avLst/>
            <a:gdLst/>
            <a:ahLst/>
            <a:rect l="l" t="t" r="r" b="b"/>
            <a:pathLst>
              <a:path w="1032" h="285">
                <a:moveTo>
                  <a:pt x="398" y="68"/>
                </a:moveTo>
                <a:lnTo>
                  <a:pt x="417" y="122"/>
                </a:lnTo>
                <a:lnTo>
                  <a:pt x="421" y="126"/>
                </a:lnTo>
                <a:lnTo>
                  <a:pt x="431" y="126"/>
                </a:lnTo>
                <a:lnTo>
                  <a:pt x="431" y="145"/>
                </a:lnTo>
                <a:lnTo>
                  <a:pt x="450" y="165"/>
                </a:lnTo>
                <a:lnTo>
                  <a:pt x="861" y="171"/>
                </a:lnTo>
                <a:lnTo>
                  <a:pt x="920" y="188"/>
                </a:lnTo>
                <a:lnTo>
                  <a:pt x="1032" y="188"/>
                </a:lnTo>
                <a:lnTo>
                  <a:pt x="1003" y="208"/>
                </a:lnTo>
                <a:lnTo>
                  <a:pt x="984" y="246"/>
                </a:lnTo>
                <a:lnTo>
                  <a:pt x="964" y="272"/>
                </a:lnTo>
                <a:lnTo>
                  <a:pt x="960" y="285"/>
                </a:lnTo>
                <a:lnTo>
                  <a:pt x="22" y="285"/>
                </a:lnTo>
                <a:lnTo>
                  <a:pt x="14" y="237"/>
                </a:lnTo>
                <a:lnTo>
                  <a:pt x="14" y="223"/>
                </a:lnTo>
                <a:lnTo>
                  <a:pt x="10" y="217"/>
                </a:lnTo>
                <a:lnTo>
                  <a:pt x="0" y="116"/>
                </a:lnTo>
                <a:lnTo>
                  <a:pt x="152" y="161"/>
                </a:lnTo>
                <a:lnTo>
                  <a:pt x="214" y="165"/>
                </a:lnTo>
                <a:lnTo>
                  <a:pt x="214" y="171"/>
                </a:lnTo>
                <a:lnTo>
                  <a:pt x="326" y="178"/>
                </a:lnTo>
                <a:lnTo>
                  <a:pt x="340" y="171"/>
                </a:lnTo>
                <a:lnTo>
                  <a:pt x="334" y="145"/>
                </a:lnTo>
                <a:lnTo>
                  <a:pt x="349" y="107"/>
                </a:lnTo>
                <a:lnTo>
                  <a:pt x="359" y="29"/>
                </a:lnTo>
                <a:lnTo>
                  <a:pt x="349" y="0"/>
                </a:lnTo>
                <a:lnTo>
                  <a:pt x="369" y="39"/>
                </a:lnTo>
                <a:lnTo>
                  <a:pt x="398" y="68"/>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32" name=""/>
          <p:cNvSpPr/>
          <p:nvPr/>
        </p:nvSpPr>
        <p:spPr>
          <a:xfrm>
            <a:off x="6188040" y="5931000"/>
            <a:ext cx="111240" cy="115920"/>
          </a:xfrm>
          <a:custGeom>
            <a:avLst/>
            <a:gdLst/>
            <a:ahLst/>
            <a:rect l="l" t="t" r="r" b="b"/>
            <a:pathLst>
              <a:path w="140" h="145">
                <a:moveTo>
                  <a:pt x="132" y="132"/>
                </a:moveTo>
                <a:lnTo>
                  <a:pt x="136" y="135"/>
                </a:lnTo>
                <a:lnTo>
                  <a:pt x="140" y="135"/>
                </a:lnTo>
                <a:lnTo>
                  <a:pt x="140" y="145"/>
                </a:lnTo>
                <a:lnTo>
                  <a:pt x="0" y="145"/>
                </a:lnTo>
                <a:lnTo>
                  <a:pt x="49" y="83"/>
                </a:lnTo>
                <a:lnTo>
                  <a:pt x="78" y="44"/>
                </a:lnTo>
                <a:lnTo>
                  <a:pt x="107" y="0"/>
                </a:lnTo>
                <a:lnTo>
                  <a:pt x="111" y="68"/>
                </a:lnTo>
                <a:lnTo>
                  <a:pt x="132" y="132"/>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33" name=""/>
          <p:cNvSpPr/>
          <p:nvPr/>
        </p:nvSpPr>
        <p:spPr>
          <a:xfrm>
            <a:off x="3900600" y="5950080"/>
            <a:ext cx="253800" cy="96840"/>
          </a:xfrm>
          <a:custGeom>
            <a:avLst/>
            <a:gdLst/>
            <a:ahLst/>
            <a:rect l="l" t="t" r="r" b="b"/>
            <a:pathLst>
              <a:path w="320" h="120">
                <a:moveTo>
                  <a:pt x="315" y="81"/>
                </a:moveTo>
                <a:lnTo>
                  <a:pt x="315" y="116"/>
                </a:lnTo>
                <a:lnTo>
                  <a:pt x="320" y="120"/>
                </a:lnTo>
                <a:lnTo>
                  <a:pt x="0" y="120"/>
                </a:lnTo>
                <a:lnTo>
                  <a:pt x="72" y="107"/>
                </a:lnTo>
                <a:lnTo>
                  <a:pt x="107" y="107"/>
                </a:lnTo>
                <a:lnTo>
                  <a:pt x="169" y="68"/>
                </a:lnTo>
                <a:lnTo>
                  <a:pt x="218" y="48"/>
                </a:lnTo>
                <a:lnTo>
                  <a:pt x="276" y="10"/>
                </a:lnTo>
                <a:lnTo>
                  <a:pt x="276" y="0"/>
                </a:lnTo>
                <a:lnTo>
                  <a:pt x="301" y="62"/>
                </a:lnTo>
                <a:lnTo>
                  <a:pt x="315" y="81"/>
                </a:lnTo>
                <a:close/>
              </a:path>
            </a:pathLst>
          </a:custGeom>
          <a:solidFill>
            <a:srgbClr val="32cc3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34" name=""/>
          <p:cNvSpPr/>
          <p:nvPr/>
        </p:nvSpPr>
        <p:spPr>
          <a:xfrm>
            <a:off x="2833560" y="5992920"/>
            <a:ext cx="59040" cy="54000"/>
          </a:xfrm>
          <a:custGeom>
            <a:avLst/>
            <a:gdLst/>
            <a:ahLst/>
            <a:rect l="l" t="t" r="r" b="b"/>
            <a:pathLst>
              <a:path w="74" h="68">
                <a:moveTo>
                  <a:pt x="0" y="68"/>
                </a:moveTo>
                <a:lnTo>
                  <a:pt x="0" y="0"/>
                </a:lnTo>
                <a:lnTo>
                  <a:pt x="74" y="68"/>
                </a:lnTo>
                <a:lnTo>
                  <a:pt x="0" y="68"/>
                </a:lnTo>
                <a:close/>
              </a:path>
            </a:pathLst>
          </a:custGeom>
          <a:solidFill>
            <a:srgbClr val="32cc32"/>
          </a:solidFill>
          <a:ln w="0">
            <a:noFill/>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335" name=""/>
          <p:cNvSpPr/>
          <p:nvPr/>
        </p:nvSpPr>
        <p:spPr>
          <a:xfrm>
            <a:off x="4379760" y="2992320"/>
            <a:ext cx="438480" cy="1460520"/>
          </a:xfrm>
          <a:custGeom>
            <a:avLst/>
            <a:gdLst/>
            <a:ahLst/>
            <a:rect l="l" t="t" r="r" b="b"/>
            <a:pathLst>
              <a:path w="552" h="1840">
                <a:moveTo>
                  <a:pt x="312" y="357"/>
                </a:moveTo>
                <a:lnTo>
                  <a:pt x="67" y="0"/>
                </a:lnTo>
                <a:lnTo>
                  <a:pt x="0" y="1276"/>
                </a:lnTo>
                <a:lnTo>
                  <a:pt x="0" y="1726"/>
                </a:lnTo>
                <a:lnTo>
                  <a:pt x="79" y="1840"/>
                </a:lnTo>
                <a:lnTo>
                  <a:pt x="287" y="1829"/>
                </a:lnTo>
                <a:lnTo>
                  <a:pt x="461" y="1737"/>
                </a:lnTo>
                <a:lnTo>
                  <a:pt x="552" y="1635"/>
                </a:lnTo>
                <a:lnTo>
                  <a:pt x="506" y="1483"/>
                </a:lnTo>
                <a:lnTo>
                  <a:pt x="415" y="1208"/>
                </a:lnTo>
                <a:lnTo>
                  <a:pt x="345" y="770"/>
                </a:lnTo>
                <a:lnTo>
                  <a:pt x="312" y="357"/>
                </a:lnTo>
                <a:close/>
              </a:path>
            </a:pathLst>
          </a:custGeom>
          <a:solidFill>
            <a:srgbClr val="5e99a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36" name=""/>
          <p:cNvSpPr/>
          <p:nvPr/>
        </p:nvSpPr>
        <p:spPr>
          <a:xfrm>
            <a:off x="4398840" y="3121200"/>
            <a:ext cx="373320" cy="1242720"/>
          </a:xfrm>
          <a:custGeom>
            <a:avLst/>
            <a:gdLst/>
            <a:ahLst/>
            <a:rect l="l" t="t" r="r" b="b"/>
            <a:pathLst>
              <a:path w="469" h="1565">
                <a:moveTo>
                  <a:pt x="264" y="302"/>
                </a:moveTo>
                <a:lnTo>
                  <a:pt x="58" y="0"/>
                </a:lnTo>
                <a:lnTo>
                  <a:pt x="0" y="1086"/>
                </a:lnTo>
                <a:lnTo>
                  <a:pt x="0" y="1468"/>
                </a:lnTo>
                <a:lnTo>
                  <a:pt x="35" y="1516"/>
                </a:lnTo>
                <a:lnTo>
                  <a:pt x="70" y="1565"/>
                </a:lnTo>
                <a:lnTo>
                  <a:pt x="157" y="1561"/>
                </a:lnTo>
                <a:lnTo>
                  <a:pt x="244" y="1555"/>
                </a:lnTo>
                <a:lnTo>
                  <a:pt x="318" y="1516"/>
                </a:lnTo>
                <a:lnTo>
                  <a:pt x="392" y="1477"/>
                </a:lnTo>
                <a:lnTo>
                  <a:pt x="469" y="1388"/>
                </a:lnTo>
                <a:lnTo>
                  <a:pt x="430" y="1262"/>
                </a:lnTo>
                <a:lnTo>
                  <a:pt x="392" y="1144"/>
                </a:lnTo>
                <a:lnTo>
                  <a:pt x="353" y="1028"/>
                </a:lnTo>
                <a:lnTo>
                  <a:pt x="293" y="655"/>
                </a:lnTo>
                <a:lnTo>
                  <a:pt x="279" y="479"/>
                </a:lnTo>
                <a:lnTo>
                  <a:pt x="264" y="302"/>
                </a:lnTo>
                <a:close/>
              </a:path>
            </a:pathLst>
          </a:custGeom>
          <a:solidFill>
            <a:srgbClr val="609eaa"/>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37" name=""/>
          <p:cNvSpPr/>
          <p:nvPr/>
        </p:nvSpPr>
        <p:spPr>
          <a:xfrm>
            <a:off x="4419720" y="3252960"/>
            <a:ext cx="306360" cy="1022040"/>
          </a:xfrm>
          <a:custGeom>
            <a:avLst/>
            <a:gdLst/>
            <a:ahLst/>
            <a:rect l="l" t="t" r="r" b="b"/>
            <a:pathLst>
              <a:path w="386" h="1287">
                <a:moveTo>
                  <a:pt x="217" y="248"/>
                </a:moveTo>
                <a:lnTo>
                  <a:pt x="134" y="124"/>
                </a:lnTo>
                <a:lnTo>
                  <a:pt x="48" y="0"/>
                </a:lnTo>
                <a:lnTo>
                  <a:pt x="23" y="446"/>
                </a:lnTo>
                <a:lnTo>
                  <a:pt x="0" y="894"/>
                </a:lnTo>
                <a:lnTo>
                  <a:pt x="0" y="1206"/>
                </a:lnTo>
                <a:lnTo>
                  <a:pt x="29" y="1247"/>
                </a:lnTo>
                <a:lnTo>
                  <a:pt x="43" y="1268"/>
                </a:lnTo>
                <a:lnTo>
                  <a:pt x="56" y="1287"/>
                </a:lnTo>
                <a:lnTo>
                  <a:pt x="130" y="1283"/>
                </a:lnTo>
                <a:lnTo>
                  <a:pt x="202" y="1280"/>
                </a:lnTo>
                <a:lnTo>
                  <a:pt x="262" y="1247"/>
                </a:lnTo>
                <a:lnTo>
                  <a:pt x="322" y="1216"/>
                </a:lnTo>
                <a:lnTo>
                  <a:pt x="355" y="1179"/>
                </a:lnTo>
                <a:lnTo>
                  <a:pt x="386" y="1142"/>
                </a:lnTo>
                <a:lnTo>
                  <a:pt x="355" y="1037"/>
                </a:lnTo>
                <a:lnTo>
                  <a:pt x="291" y="845"/>
                </a:lnTo>
                <a:lnTo>
                  <a:pt x="266" y="690"/>
                </a:lnTo>
                <a:lnTo>
                  <a:pt x="242" y="539"/>
                </a:lnTo>
                <a:lnTo>
                  <a:pt x="231" y="393"/>
                </a:lnTo>
                <a:lnTo>
                  <a:pt x="217" y="248"/>
                </a:lnTo>
                <a:close/>
              </a:path>
            </a:pathLst>
          </a:custGeom>
          <a:solidFill>
            <a:srgbClr val="66a5b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38" name=""/>
          <p:cNvSpPr/>
          <p:nvPr/>
        </p:nvSpPr>
        <p:spPr>
          <a:xfrm>
            <a:off x="4440240" y="3379680"/>
            <a:ext cx="241200" cy="804960"/>
          </a:xfrm>
          <a:custGeom>
            <a:avLst/>
            <a:gdLst/>
            <a:ahLst/>
            <a:rect l="l" t="t" r="r" b="b"/>
            <a:pathLst>
              <a:path w="305" h="1014">
                <a:moveTo>
                  <a:pt x="171" y="197"/>
                </a:moveTo>
                <a:lnTo>
                  <a:pt x="138" y="147"/>
                </a:lnTo>
                <a:lnTo>
                  <a:pt x="105" y="99"/>
                </a:lnTo>
                <a:lnTo>
                  <a:pt x="37" y="0"/>
                </a:lnTo>
                <a:lnTo>
                  <a:pt x="20" y="353"/>
                </a:lnTo>
                <a:lnTo>
                  <a:pt x="0" y="704"/>
                </a:lnTo>
                <a:lnTo>
                  <a:pt x="0" y="950"/>
                </a:lnTo>
                <a:lnTo>
                  <a:pt x="23" y="983"/>
                </a:lnTo>
                <a:lnTo>
                  <a:pt x="45" y="1014"/>
                </a:lnTo>
                <a:lnTo>
                  <a:pt x="101" y="1012"/>
                </a:lnTo>
                <a:lnTo>
                  <a:pt x="159" y="1008"/>
                </a:lnTo>
                <a:lnTo>
                  <a:pt x="206" y="983"/>
                </a:lnTo>
                <a:lnTo>
                  <a:pt x="254" y="956"/>
                </a:lnTo>
                <a:lnTo>
                  <a:pt x="279" y="928"/>
                </a:lnTo>
                <a:lnTo>
                  <a:pt x="305" y="899"/>
                </a:lnTo>
                <a:lnTo>
                  <a:pt x="279" y="816"/>
                </a:lnTo>
                <a:lnTo>
                  <a:pt x="254" y="742"/>
                </a:lnTo>
                <a:lnTo>
                  <a:pt x="229" y="667"/>
                </a:lnTo>
                <a:lnTo>
                  <a:pt x="210" y="545"/>
                </a:lnTo>
                <a:lnTo>
                  <a:pt x="200" y="484"/>
                </a:lnTo>
                <a:lnTo>
                  <a:pt x="190" y="424"/>
                </a:lnTo>
                <a:lnTo>
                  <a:pt x="181" y="310"/>
                </a:lnTo>
                <a:lnTo>
                  <a:pt x="171" y="197"/>
                </a:lnTo>
                <a:close/>
              </a:path>
            </a:pathLst>
          </a:custGeom>
          <a:solidFill>
            <a:srgbClr val="68aab7"/>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39" name=""/>
          <p:cNvSpPr/>
          <p:nvPr/>
        </p:nvSpPr>
        <p:spPr>
          <a:xfrm>
            <a:off x="4459320" y="3511440"/>
            <a:ext cx="176040" cy="584280"/>
          </a:xfrm>
          <a:custGeom>
            <a:avLst/>
            <a:gdLst/>
            <a:ahLst/>
            <a:rect l="l" t="t" r="r" b="b"/>
            <a:pathLst>
              <a:path w="221" h="736">
                <a:moveTo>
                  <a:pt x="125" y="143"/>
                </a:moveTo>
                <a:lnTo>
                  <a:pt x="28" y="0"/>
                </a:lnTo>
                <a:lnTo>
                  <a:pt x="0" y="509"/>
                </a:lnTo>
                <a:lnTo>
                  <a:pt x="0" y="690"/>
                </a:lnTo>
                <a:lnTo>
                  <a:pt x="18" y="713"/>
                </a:lnTo>
                <a:lnTo>
                  <a:pt x="33" y="736"/>
                </a:lnTo>
                <a:lnTo>
                  <a:pt x="74" y="732"/>
                </a:lnTo>
                <a:lnTo>
                  <a:pt x="115" y="731"/>
                </a:lnTo>
                <a:lnTo>
                  <a:pt x="185" y="696"/>
                </a:lnTo>
                <a:lnTo>
                  <a:pt x="221" y="653"/>
                </a:lnTo>
                <a:lnTo>
                  <a:pt x="204" y="593"/>
                </a:lnTo>
                <a:lnTo>
                  <a:pt x="167" y="482"/>
                </a:lnTo>
                <a:lnTo>
                  <a:pt x="140" y="308"/>
                </a:lnTo>
                <a:lnTo>
                  <a:pt x="132" y="224"/>
                </a:lnTo>
                <a:lnTo>
                  <a:pt x="125" y="143"/>
                </a:lnTo>
                <a:close/>
              </a:path>
            </a:pathLst>
          </a:custGeom>
          <a:solidFill>
            <a:srgbClr val="6db2b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40" name=""/>
          <p:cNvSpPr/>
          <p:nvPr/>
        </p:nvSpPr>
        <p:spPr>
          <a:xfrm>
            <a:off x="4481640" y="3639960"/>
            <a:ext cx="108000" cy="365400"/>
          </a:xfrm>
          <a:custGeom>
            <a:avLst/>
            <a:gdLst/>
            <a:ahLst/>
            <a:rect l="l" t="t" r="r" b="b"/>
            <a:pathLst>
              <a:path w="135" h="460">
                <a:moveTo>
                  <a:pt x="75" y="90"/>
                </a:moveTo>
                <a:lnTo>
                  <a:pt x="15" y="0"/>
                </a:lnTo>
                <a:lnTo>
                  <a:pt x="0" y="320"/>
                </a:lnTo>
                <a:lnTo>
                  <a:pt x="0" y="433"/>
                </a:lnTo>
                <a:lnTo>
                  <a:pt x="17" y="460"/>
                </a:lnTo>
                <a:lnTo>
                  <a:pt x="69" y="458"/>
                </a:lnTo>
                <a:lnTo>
                  <a:pt x="112" y="435"/>
                </a:lnTo>
                <a:lnTo>
                  <a:pt x="135" y="410"/>
                </a:lnTo>
                <a:lnTo>
                  <a:pt x="124" y="373"/>
                </a:lnTo>
                <a:lnTo>
                  <a:pt x="102" y="303"/>
                </a:lnTo>
                <a:lnTo>
                  <a:pt x="85" y="194"/>
                </a:lnTo>
                <a:lnTo>
                  <a:pt x="75" y="90"/>
                </a:lnTo>
                <a:close/>
              </a:path>
            </a:pathLst>
          </a:custGeom>
          <a:solidFill>
            <a:srgbClr val="70b5c4"/>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41" name=""/>
          <p:cNvSpPr/>
          <p:nvPr/>
        </p:nvSpPr>
        <p:spPr>
          <a:xfrm>
            <a:off x="2158920" y="3841920"/>
            <a:ext cx="384120" cy="1449360"/>
          </a:xfrm>
          <a:custGeom>
            <a:avLst/>
            <a:gdLst/>
            <a:ahLst/>
            <a:rect l="l" t="t" r="r" b="b"/>
            <a:pathLst>
              <a:path w="485" h="1825">
                <a:moveTo>
                  <a:pt x="347" y="714"/>
                </a:moveTo>
                <a:lnTo>
                  <a:pt x="70" y="0"/>
                </a:lnTo>
                <a:lnTo>
                  <a:pt x="25" y="737"/>
                </a:lnTo>
                <a:lnTo>
                  <a:pt x="2" y="1393"/>
                </a:lnTo>
                <a:lnTo>
                  <a:pt x="2" y="1395"/>
                </a:lnTo>
                <a:lnTo>
                  <a:pt x="2" y="1402"/>
                </a:lnTo>
                <a:lnTo>
                  <a:pt x="2" y="1412"/>
                </a:lnTo>
                <a:lnTo>
                  <a:pt x="0" y="1426"/>
                </a:lnTo>
                <a:lnTo>
                  <a:pt x="0" y="1443"/>
                </a:lnTo>
                <a:lnTo>
                  <a:pt x="0" y="1460"/>
                </a:lnTo>
                <a:lnTo>
                  <a:pt x="0" y="1482"/>
                </a:lnTo>
                <a:lnTo>
                  <a:pt x="0" y="1505"/>
                </a:lnTo>
                <a:lnTo>
                  <a:pt x="2" y="1550"/>
                </a:lnTo>
                <a:lnTo>
                  <a:pt x="6" y="1596"/>
                </a:lnTo>
                <a:lnTo>
                  <a:pt x="10" y="1616"/>
                </a:lnTo>
                <a:lnTo>
                  <a:pt x="14" y="1637"/>
                </a:lnTo>
                <a:lnTo>
                  <a:pt x="19" y="1652"/>
                </a:lnTo>
                <a:lnTo>
                  <a:pt x="25" y="1668"/>
                </a:lnTo>
                <a:lnTo>
                  <a:pt x="39" y="1693"/>
                </a:lnTo>
                <a:lnTo>
                  <a:pt x="52" y="1716"/>
                </a:lnTo>
                <a:lnTo>
                  <a:pt x="68" y="1736"/>
                </a:lnTo>
                <a:lnTo>
                  <a:pt x="85" y="1755"/>
                </a:lnTo>
                <a:lnTo>
                  <a:pt x="103" y="1773"/>
                </a:lnTo>
                <a:lnTo>
                  <a:pt x="122" y="1790"/>
                </a:lnTo>
                <a:lnTo>
                  <a:pt x="142" y="1804"/>
                </a:lnTo>
                <a:lnTo>
                  <a:pt x="163" y="1817"/>
                </a:lnTo>
                <a:lnTo>
                  <a:pt x="175" y="1823"/>
                </a:lnTo>
                <a:lnTo>
                  <a:pt x="190" y="1825"/>
                </a:lnTo>
                <a:lnTo>
                  <a:pt x="208" y="1823"/>
                </a:lnTo>
                <a:lnTo>
                  <a:pt x="227" y="1819"/>
                </a:lnTo>
                <a:lnTo>
                  <a:pt x="248" y="1813"/>
                </a:lnTo>
                <a:lnTo>
                  <a:pt x="268" y="1808"/>
                </a:lnTo>
                <a:lnTo>
                  <a:pt x="312" y="1790"/>
                </a:lnTo>
                <a:lnTo>
                  <a:pt x="334" y="1780"/>
                </a:lnTo>
                <a:lnTo>
                  <a:pt x="351" y="1773"/>
                </a:lnTo>
                <a:lnTo>
                  <a:pt x="369" y="1763"/>
                </a:lnTo>
                <a:lnTo>
                  <a:pt x="386" y="1755"/>
                </a:lnTo>
                <a:lnTo>
                  <a:pt x="400" y="1747"/>
                </a:lnTo>
                <a:lnTo>
                  <a:pt x="409" y="1742"/>
                </a:lnTo>
                <a:lnTo>
                  <a:pt x="413" y="1740"/>
                </a:lnTo>
                <a:lnTo>
                  <a:pt x="415" y="1740"/>
                </a:lnTo>
                <a:lnTo>
                  <a:pt x="417" y="1738"/>
                </a:lnTo>
                <a:lnTo>
                  <a:pt x="417" y="1738"/>
                </a:lnTo>
                <a:lnTo>
                  <a:pt x="485" y="1552"/>
                </a:lnTo>
                <a:lnTo>
                  <a:pt x="450" y="1127"/>
                </a:lnTo>
                <a:lnTo>
                  <a:pt x="347" y="714"/>
                </a:lnTo>
                <a:close/>
              </a:path>
            </a:pathLst>
          </a:custGeom>
          <a:solidFill>
            <a:srgbClr val="5e99a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42" name=""/>
          <p:cNvSpPr/>
          <p:nvPr/>
        </p:nvSpPr>
        <p:spPr>
          <a:xfrm>
            <a:off x="2173320" y="4006800"/>
            <a:ext cx="328680" cy="1230480"/>
          </a:xfrm>
          <a:custGeom>
            <a:avLst/>
            <a:gdLst/>
            <a:ahLst/>
            <a:rect l="l" t="t" r="r" b="b"/>
            <a:pathLst>
              <a:path w="414" h="1549">
                <a:moveTo>
                  <a:pt x="295" y="607"/>
                </a:moveTo>
                <a:lnTo>
                  <a:pt x="179" y="304"/>
                </a:lnTo>
                <a:lnTo>
                  <a:pt x="61" y="0"/>
                </a:lnTo>
                <a:lnTo>
                  <a:pt x="41" y="312"/>
                </a:lnTo>
                <a:lnTo>
                  <a:pt x="22" y="626"/>
                </a:lnTo>
                <a:lnTo>
                  <a:pt x="2" y="1183"/>
                </a:lnTo>
                <a:lnTo>
                  <a:pt x="2" y="1190"/>
                </a:lnTo>
                <a:lnTo>
                  <a:pt x="0" y="1200"/>
                </a:lnTo>
                <a:lnTo>
                  <a:pt x="0" y="1212"/>
                </a:lnTo>
                <a:lnTo>
                  <a:pt x="0" y="1225"/>
                </a:lnTo>
                <a:lnTo>
                  <a:pt x="0" y="1260"/>
                </a:lnTo>
                <a:lnTo>
                  <a:pt x="0" y="1278"/>
                </a:lnTo>
                <a:lnTo>
                  <a:pt x="2" y="1318"/>
                </a:lnTo>
                <a:lnTo>
                  <a:pt x="6" y="1355"/>
                </a:lnTo>
                <a:lnTo>
                  <a:pt x="8" y="1375"/>
                </a:lnTo>
                <a:lnTo>
                  <a:pt x="12" y="1390"/>
                </a:lnTo>
                <a:lnTo>
                  <a:pt x="16" y="1406"/>
                </a:lnTo>
                <a:lnTo>
                  <a:pt x="22" y="1417"/>
                </a:lnTo>
                <a:lnTo>
                  <a:pt x="33" y="1439"/>
                </a:lnTo>
                <a:lnTo>
                  <a:pt x="45" y="1458"/>
                </a:lnTo>
                <a:lnTo>
                  <a:pt x="59" y="1475"/>
                </a:lnTo>
                <a:lnTo>
                  <a:pt x="72" y="1491"/>
                </a:lnTo>
                <a:lnTo>
                  <a:pt x="88" y="1507"/>
                </a:lnTo>
                <a:lnTo>
                  <a:pt x="103" y="1520"/>
                </a:lnTo>
                <a:lnTo>
                  <a:pt x="121" y="1532"/>
                </a:lnTo>
                <a:lnTo>
                  <a:pt x="138" y="1543"/>
                </a:lnTo>
                <a:lnTo>
                  <a:pt x="150" y="1547"/>
                </a:lnTo>
                <a:lnTo>
                  <a:pt x="161" y="1549"/>
                </a:lnTo>
                <a:lnTo>
                  <a:pt x="177" y="1549"/>
                </a:lnTo>
                <a:lnTo>
                  <a:pt x="192" y="1547"/>
                </a:lnTo>
                <a:lnTo>
                  <a:pt x="210" y="1541"/>
                </a:lnTo>
                <a:lnTo>
                  <a:pt x="229" y="1536"/>
                </a:lnTo>
                <a:lnTo>
                  <a:pt x="264" y="1520"/>
                </a:lnTo>
                <a:lnTo>
                  <a:pt x="299" y="1505"/>
                </a:lnTo>
                <a:lnTo>
                  <a:pt x="315" y="1497"/>
                </a:lnTo>
                <a:lnTo>
                  <a:pt x="326" y="1491"/>
                </a:lnTo>
                <a:lnTo>
                  <a:pt x="338" y="1485"/>
                </a:lnTo>
                <a:lnTo>
                  <a:pt x="348" y="1479"/>
                </a:lnTo>
                <a:lnTo>
                  <a:pt x="351" y="1477"/>
                </a:lnTo>
                <a:lnTo>
                  <a:pt x="353" y="1475"/>
                </a:lnTo>
                <a:lnTo>
                  <a:pt x="353" y="1475"/>
                </a:lnTo>
                <a:lnTo>
                  <a:pt x="414" y="1318"/>
                </a:lnTo>
                <a:lnTo>
                  <a:pt x="398" y="1138"/>
                </a:lnTo>
                <a:lnTo>
                  <a:pt x="384" y="958"/>
                </a:lnTo>
                <a:lnTo>
                  <a:pt x="340" y="783"/>
                </a:lnTo>
                <a:lnTo>
                  <a:pt x="295" y="607"/>
                </a:lnTo>
                <a:close/>
              </a:path>
            </a:pathLst>
          </a:custGeom>
          <a:solidFill>
            <a:srgbClr val="609eaa"/>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43" name=""/>
          <p:cNvSpPr/>
          <p:nvPr/>
        </p:nvSpPr>
        <p:spPr>
          <a:xfrm>
            <a:off x="2189160" y="4172040"/>
            <a:ext cx="270000" cy="1014480"/>
          </a:xfrm>
          <a:custGeom>
            <a:avLst/>
            <a:gdLst/>
            <a:ahLst/>
            <a:rect l="l" t="t" r="r" b="b"/>
            <a:pathLst>
              <a:path w="339" h="1278">
                <a:moveTo>
                  <a:pt x="242" y="501"/>
                </a:moveTo>
                <a:lnTo>
                  <a:pt x="50" y="0"/>
                </a:lnTo>
                <a:lnTo>
                  <a:pt x="17" y="516"/>
                </a:lnTo>
                <a:lnTo>
                  <a:pt x="10" y="745"/>
                </a:lnTo>
                <a:lnTo>
                  <a:pt x="2" y="976"/>
                </a:lnTo>
                <a:lnTo>
                  <a:pt x="2" y="982"/>
                </a:lnTo>
                <a:lnTo>
                  <a:pt x="0" y="989"/>
                </a:lnTo>
                <a:lnTo>
                  <a:pt x="0" y="1011"/>
                </a:lnTo>
                <a:lnTo>
                  <a:pt x="0" y="1024"/>
                </a:lnTo>
                <a:lnTo>
                  <a:pt x="0" y="1053"/>
                </a:lnTo>
                <a:lnTo>
                  <a:pt x="2" y="1086"/>
                </a:lnTo>
                <a:lnTo>
                  <a:pt x="6" y="1117"/>
                </a:lnTo>
                <a:lnTo>
                  <a:pt x="8" y="1133"/>
                </a:lnTo>
                <a:lnTo>
                  <a:pt x="10" y="1146"/>
                </a:lnTo>
                <a:lnTo>
                  <a:pt x="13" y="1160"/>
                </a:lnTo>
                <a:lnTo>
                  <a:pt x="17" y="1170"/>
                </a:lnTo>
                <a:lnTo>
                  <a:pt x="27" y="1185"/>
                </a:lnTo>
                <a:lnTo>
                  <a:pt x="37" y="1203"/>
                </a:lnTo>
                <a:lnTo>
                  <a:pt x="48" y="1216"/>
                </a:lnTo>
                <a:lnTo>
                  <a:pt x="60" y="1230"/>
                </a:lnTo>
                <a:lnTo>
                  <a:pt x="74" y="1243"/>
                </a:lnTo>
                <a:lnTo>
                  <a:pt x="85" y="1253"/>
                </a:lnTo>
                <a:lnTo>
                  <a:pt x="99" y="1265"/>
                </a:lnTo>
                <a:lnTo>
                  <a:pt x="114" y="1274"/>
                </a:lnTo>
                <a:lnTo>
                  <a:pt x="122" y="1276"/>
                </a:lnTo>
                <a:lnTo>
                  <a:pt x="134" y="1278"/>
                </a:lnTo>
                <a:lnTo>
                  <a:pt x="145" y="1278"/>
                </a:lnTo>
                <a:lnTo>
                  <a:pt x="159" y="1274"/>
                </a:lnTo>
                <a:lnTo>
                  <a:pt x="172" y="1270"/>
                </a:lnTo>
                <a:lnTo>
                  <a:pt x="188" y="1267"/>
                </a:lnTo>
                <a:lnTo>
                  <a:pt x="217" y="1255"/>
                </a:lnTo>
                <a:lnTo>
                  <a:pt x="246" y="1241"/>
                </a:lnTo>
                <a:lnTo>
                  <a:pt x="258" y="1234"/>
                </a:lnTo>
                <a:lnTo>
                  <a:pt x="269" y="1230"/>
                </a:lnTo>
                <a:lnTo>
                  <a:pt x="279" y="1224"/>
                </a:lnTo>
                <a:lnTo>
                  <a:pt x="285" y="1220"/>
                </a:lnTo>
                <a:lnTo>
                  <a:pt x="291" y="1218"/>
                </a:lnTo>
                <a:lnTo>
                  <a:pt x="291" y="1216"/>
                </a:lnTo>
                <a:lnTo>
                  <a:pt x="339" y="1088"/>
                </a:lnTo>
                <a:lnTo>
                  <a:pt x="328" y="939"/>
                </a:lnTo>
                <a:lnTo>
                  <a:pt x="316" y="790"/>
                </a:lnTo>
                <a:lnTo>
                  <a:pt x="279" y="644"/>
                </a:lnTo>
                <a:lnTo>
                  <a:pt x="242" y="501"/>
                </a:lnTo>
                <a:close/>
              </a:path>
            </a:pathLst>
          </a:custGeom>
          <a:solidFill>
            <a:srgbClr val="66a5b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44" name=""/>
          <p:cNvSpPr/>
          <p:nvPr/>
        </p:nvSpPr>
        <p:spPr>
          <a:xfrm>
            <a:off x="2205000" y="4336920"/>
            <a:ext cx="211320" cy="797040"/>
          </a:xfrm>
          <a:custGeom>
            <a:avLst/>
            <a:gdLst/>
            <a:ahLst/>
            <a:rect l="l" t="t" r="r" b="b"/>
            <a:pathLst>
              <a:path w="268" h="1002">
                <a:moveTo>
                  <a:pt x="192" y="391"/>
                </a:moveTo>
                <a:lnTo>
                  <a:pt x="39" y="0"/>
                </a:lnTo>
                <a:lnTo>
                  <a:pt x="27" y="201"/>
                </a:lnTo>
                <a:lnTo>
                  <a:pt x="14" y="405"/>
                </a:lnTo>
                <a:lnTo>
                  <a:pt x="8" y="583"/>
                </a:lnTo>
                <a:lnTo>
                  <a:pt x="2" y="764"/>
                </a:lnTo>
                <a:lnTo>
                  <a:pt x="2" y="770"/>
                </a:lnTo>
                <a:lnTo>
                  <a:pt x="2" y="775"/>
                </a:lnTo>
                <a:lnTo>
                  <a:pt x="2" y="791"/>
                </a:lnTo>
                <a:lnTo>
                  <a:pt x="0" y="803"/>
                </a:lnTo>
                <a:lnTo>
                  <a:pt x="2" y="826"/>
                </a:lnTo>
                <a:lnTo>
                  <a:pt x="2" y="851"/>
                </a:lnTo>
                <a:lnTo>
                  <a:pt x="4" y="876"/>
                </a:lnTo>
                <a:lnTo>
                  <a:pt x="6" y="888"/>
                </a:lnTo>
                <a:lnTo>
                  <a:pt x="8" y="898"/>
                </a:lnTo>
                <a:lnTo>
                  <a:pt x="12" y="909"/>
                </a:lnTo>
                <a:lnTo>
                  <a:pt x="14" y="917"/>
                </a:lnTo>
                <a:lnTo>
                  <a:pt x="22" y="931"/>
                </a:lnTo>
                <a:lnTo>
                  <a:pt x="29" y="942"/>
                </a:lnTo>
                <a:lnTo>
                  <a:pt x="39" y="954"/>
                </a:lnTo>
                <a:lnTo>
                  <a:pt x="47" y="963"/>
                </a:lnTo>
                <a:lnTo>
                  <a:pt x="68" y="983"/>
                </a:lnTo>
                <a:lnTo>
                  <a:pt x="89" y="998"/>
                </a:lnTo>
                <a:lnTo>
                  <a:pt x="97" y="1000"/>
                </a:lnTo>
                <a:lnTo>
                  <a:pt x="105" y="1002"/>
                </a:lnTo>
                <a:lnTo>
                  <a:pt x="115" y="1000"/>
                </a:lnTo>
                <a:lnTo>
                  <a:pt x="124" y="998"/>
                </a:lnTo>
                <a:lnTo>
                  <a:pt x="148" y="993"/>
                </a:lnTo>
                <a:lnTo>
                  <a:pt x="171" y="983"/>
                </a:lnTo>
                <a:lnTo>
                  <a:pt x="194" y="973"/>
                </a:lnTo>
                <a:lnTo>
                  <a:pt x="204" y="967"/>
                </a:lnTo>
                <a:lnTo>
                  <a:pt x="212" y="963"/>
                </a:lnTo>
                <a:lnTo>
                  <a:pt x="219" y="960"/>
                </a:lnTo>
                <a:lnTo>
                  <a:pt x="225" y="958"/>
                </a:lnTo>
                <a:lnTo>
                  <a:pt x="227" y="954"/>
                </a:lnTo>
                <a:lnTo>
                  <a:pt x="229" y="954"/>
                </a:lnTo>
                <a:lnTo>
                  <a:pt x="268" y="853"/>
                </a:lnTo>
                <a:lnTo>
                  <a:pt x="258" y="737"/>
                </a:lnTo>
                <a:lnTo>
                  <a:pt x="248" y="618"/>
                </a:lnTo>
                <a:lnTo>
                  <a:pt x="192" y="391"/>
                </a:lnTo>
                <a:close/>
              </a:path>
            </a:pathLst>
          </a:custGeom>
          <a:solidFill>
            <a:srgbClr val="68aab7"/>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45" name=""/>
          <p:cNvSpPr/>
          <p:nvPr/>
        </p:nvSpPr>
        <p:spPr>
          <a:xfrm>
            <a:off x="2219400" y="4502160"/>
            <a:ext cx="155520" cy="579600"/>
          </a:xfrm>
          <a:custGeom>
            <a:avLst/>
            <a:gdLst/>
            <a:ahLst/>
            <a:rect l="l" t="t" r="r" b="b"/>
            <a:pathLst>
              <a:path w="195" h="729">
                <a:moveTo>
                  <a:pt x="139" y="285"/>
                </a:moveTo>
                <a:lnTo>
                  <a:pt x="85" y="144"/>
                </a:lnTo>
                <a:lnTo>
                  <a:pt x="29" y="0"/>
                </a:lnTo>
                <a:lnTo>
                  <a:pt x="19" y="148"/>
                </a:lnTo>
                <a:lnTo>
                  <a:pt x="11" y="295"/>
                </a:lnTo>
                <a:lnTo>
                  <a:pt x="5" y="425"/>
                </a:lnTo>
                <a:lnTo>
                  <a:pt x="2" y="557"/>
                </a:lnTo>
                <a:lnTo>
                  <a:pt x="2" y="565"/>
                </a:lnTo>
                <a:lnTo>
                  <a:pt x="0" y="570"/>
                </a:lnTo>
                <a:lnTo>
                  <a:pt x="0" y="601"/>
                </a:lnTo>
                <a:lnTo>
                  <a:pt x="3" y="636"/>
                </a:lnTo>
                <a:lnTo>
                  <a:pt x="5" y="654"/>
                </a:lnTo>
                <a:lnTo>
                  <a:pt x="11" y="665"/>
                </a:lnTo>
                <a:lnTo>
                  <a:pt x="21" y="685"/>
                </a:lnTo>
                <a:lnTo>
                  <a:pt x="35" y="702"/>
                </a:lnTo>
                <a:lnTo>
                  <a:pt x="48" y="716"/>
                </a:lnTo>
                <a:lnTo>
                  <a:pt x="66" y="727"/>
                </a:lnTo>
                <a:lnTo>
                  <a:pt x="69" y="727"/>
                </a:lnTo>
                <a:lnTo>
                  <a:pt x="75" y="729"/>
                </a:lnTo>
                <a:lnTo>
                  <a:pt x="83" y="729"/>
                </a:lnTo>
                <a:lnTo>
                  <a:pt x="91" y="727"/>
                </a:lnTo>
                <a:lnTo>
                  <a:pt x="108" y="724"/>
                </a:lnTo>
                <a:lnTo>
                  <a:pt x="126" y="716"/>
                </a:lnTo>
                <a:lnTo>
                  <a:pt x="141" y="708"/>
                </a:lnTo>
                <a:lnTo>
                  <a:pt x="155" y="702"/>
                </a:lnTo>
                <a:lnTo>
                  <a:pt x="159" y="698"/>
                </a:lnTo>
                <a:lnTo>
                  <a:pt x="164" y="696"/>
                </a:lnTo>
                <a:lnTo>
                  <a:pt x="166" y="694"/>
                </a:lnTo>
                <a:lnTo>
                  <a:pt x="166" y="694"/>
                </a:lnTo>
                <a:lnTo>
                  <a:pt x="195" y="621"/>
                </a:lnTo>
                <a:lnTo>
                  <a:pt x="188" y="535"/>
                </a:lnTo>
                <a:lnTo>
                  <a:pt x="180" y="450"/>
                </a:lnTo>
                <a:lnTo>
                  <a:pt x="161" y="367"/>
                </a:lnTo>
                <a:lnTo>
                  <a:pt x="139" y="285"/>
                </a:lnTo>
                <a:close/>
              </a:path>
            </a:pathLst>
          </a:custGeom>
          <a:solidFill>
            <a:srgbClr val="6db2b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46" name=""/>
          <p:cNvSpPr/>
          <p:nvPr/>
        </p:nvSpPr>
        <p:spPr>
          <a:xfrm>
            <a:off x="2235240" y="4667400"/>
            <a:ext cx="96840" cy="361800"/>
          </a:xfrm>
          <a:custGeom>
            <a:avLst/>
            <a:gdLst/>
            <a:ahLst/>
            <a:rect l="l" t="t" r="r" b="b"/>
            <a:pathLst>
              <a:path w="122" h="455">
                <a:moveTo>
                  <a:pt x="87" y="178"/>
                </a:moveTo>
                <a:lnTo>
                  <a:pt x="17" y="0"/>
                </a:lnTo>
                <a:lnTo>
                  <a:pt x="6" y="184"/>
                </a:lnTo>
                <a:lnTo>
                  <a:pt x="0" y="347"/>
                </a:lnTo>
                <a:lnTo>
                  <a:pt x="0" y="376"/>
                </a:lnTo>
                <a:lnTo>
                  <a:pt x="2" y="399"/>
                </a:lnTo>
                <a:lnTo>
                  <a:pt x="4" y="409"/>
                </a:lnTo>
                <a:lnTo>
                  <a:pt x="6" y="417"/>
                </a:lnTo>
                <a:lnTo>
                  <a:pt x="14" y="428"/>
                </a:lnTo>
                <a:lnTo>
                  <a:pt x="21" y="438"/>
                </a:lnTo>
                <a:lnTo>
                  <a:pt x="31" y="446"/>
                </a:lnTo>
                <a:lnTo>
                  <a:pt x="41" y="453"/>
                </a:lnTo>
                <a:lnTo>
                  <a:pt x="48" y="455"/>
                </a:lnTo>
                <a:lnTo>
                  <a:pt x="58" y="453"/>
                </a:lnTo>
                <a:lnTo>
                  <a:pt x="68" y="452"/>
                </a:lnTo>
                <a:lnTo>
                  <a:pt x="78" y="446"/>
                </a:lnTo>
                <a:lnTo>
                  <a:pt x="89" y="442"/>
                </a:lnTo>
                <a:lnTo>
                  <a:pt x="97" y="438"/>
                </a:lnTo>
                <a:lnTo>
                  <a:pt x="103" y="436"/>
                </a:lnTo>
                <a:lnTo>
                  <a:pt x="103" y="434"/>
                </a:lnTo>
                <a:lnTo>
                  <a:pt x="105" y="434"/>
                </a:lnTo>
                <a:lnTo>
                  <a:pt x="122" y="388"/>
                </a:lnTo>
                <a:lnTo>
                  <a:pt x="114" y="281"/>
                </a:lnTo>
                <a:lnTo>
                  <a:pt x="87" y="178"/>
                </a:lnTo>
                <a:close/>
              </a:path>
            </a:pathLst>
          </a:custGeom>
          <a:solidFill>
            <a:srgbClr val="70b5c4"/>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47" name=""/>
          <p:cNvSpPr/>
          <p:nvPr/>
        </p:nvSpPr>
        <p:spPr>
          <a:xfrm>
            <a:off x="3959280" y="3048120"/>
            <a:ext cx="330120" cy="1323720"/>
          </a:xfrm>
          <a:custGeom>
            <a:avLst/>
            <a:gdLst/>
            <a:ahLst/>
            <a:rect l="l" t="t" r="r" b="b"/>
            <a:pathLst>
              <a:path w="415" h="1667">
                <a:moveTo>
                  <a:pt x="415" y="0"/>
                </a:moveTo>
                <a:lnTo>
                  <a:pt x="231" y="161"/>
                </a:lnTo>
                <a:lnTo>
                  <a:pt x="173" y="793"/>
                </a:lnTo>
                <a:lnTo>
                  <a:pt x="47" y="1126"/>
                </a:lnTo>
                <a:lnTo>
                  <a:pt x="0" y="1483"/>
                </a:lnTo>
                <a:lnTo>
                  <a:pt x="231" y="1667"/>
                </a:lnTo>
                <a:lnTo>
                  <a:pt x="347" y="1644"/>
                </a:lnTo>
                <a:lnTo>
                  <a:pt x="415" y="758"/>
                </a:lnTo>
                <a:lnTo>
                  <a:pt x="415" y="0"/>
                </a:lnTo>
                <a:close/>
              </a:path>
            </a:pathLst>
          </a:custGeom>
          <a:solidFill>
            <a:srgbClr val="5e99a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48" name=""/>
          <p:cNvSpPr/>
          <p:nvPr/>
        </p:nvSpPr>
        <p:spPr>
          <a:xfrm>
            <a:off x="3992400" y="3211560"/>
            <a:ext cx="281160" cy="1125360"/>
          </a:xfrm>
          <a:custGeom>
            <a:avLst/>
            <a:gdLst/>
            <a:ahLst/>
            <a:rect l="l" t="t" r="r" b="b"/>
            <a:pathLst>
              <a:path w="353" h="1420">
                <a:moveTo>
                  <a:pt x="353" y="0"/>
                </a:moveTo>
                <a:lnTo>
                  <a:pt x="196" y="138"/>
                </a:lnTo>
                <a:lnTo>
                  <a:pt x="147" y="677"/>
                </a:lnTo>
                <a:lnTo>
                  <a:pt x="40" y="960"/>
                </a:lnTo>
                <a:lnTo>
                  <a:pt x="19" y="1111"/>
                </a:lnTo>
                <a:lnTo>
                  <a:pt x="0" y="1263"/>
                </a:lnTo>
                <a:lnTo>
                  <a:pt x="196" y="1420"/>
                </a:lnTo>
                <a:lnTo>
                  <a:pt x="246" y="1410"/>
                </a:lnTo>
                <a:lnTo>
                  <a:pt x="295" y="1400"/>
                </a:lnTo>
                <a:lnTo>
                  <a:pt x="324" y="1024"/>
                </a:lnTo>
                <a:lnTo>
                  <a:pt x="353" y="648"/>
                </a:lnTo>
                <a:lnTo>
                  <a:pt x="353" y="0"/>
                </a:lnTo>
                <a:close/>
              </a:path>
            </a:pathLst>
          </a:custGeom>
          <a:solidFill>
            <a:srgbClr val="609eaa"/>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49" name=""/>
          <p:cNvSpPr/>
          <p:nvPr/>
        </p:nvSpPr>
        <p:spPr>
          <a:xfrm>
            <a:off x="4029120" y="3376440"/>
            <a:ext cx="228600" cy="928800"/>
          </a:xfrm>
          <a:custGeom>
            <a:avLst/>
            <a:gdLst/>
            <a:ahLst/>
            <a:rect l="l" t="t" r="r" b="b"/>
            <a:pathLst>
              <a:path w="289" h="1169">
                <a:moveTo>
                  <a:pt x="289" y="0"/>
                </a:moveTo>
                <a:lnTo>
                  <a:pt x="223" y="56"/>
                </a:lnTo>
                <a:lnTo>
                  <a:pt x="159" y="112"/>
                </a:lnTo>
                <a:lnTo>
                  <a:pt x="140" y="335"/>
                </a:lnTo>
                <a:lnTo>
                  <a:pt x="121" y="556"/>
                </a:lnTo>
                <a:lnTo>
                  <a:pt x="76" y="673"/>
                </a:lnTo>
                <a:lnTo>
                  <a:pt x="31" y="789"/>
                </a:lnTo>
                <a:lnTo>
                  <a:pt x="0" y="1039"/>
                </a:lnTo>
                <a:lnTo>
                  <a:pt x="80" y="1103"/>
                </a:lnTo>
                <a:lnTo>
                  <a:pt x="159" y="1169"/>
                </a:lnTo>
                <a:lnTo>
                  <a:pt x="200" y="1159"/>
                </a:lnTo>
                <a:lnTo>
                  <a:pt x="241" y="1152"/>
                </a:lnTo>
                <a:lnTo>
                  <a:pt x="289" y="531"/>
                </a:lnTo>
                <a:lnTo>
                  <a:pt x="289" y="0"/>
                </a:lnTo>
                <a:close/>
              </a:path>
            </a:pathLst>
          </a:custGeom>
          <a:solidFill>
            <a:srgbClr val="66a5b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50" name=""/>
          <p:cNvSpPr/>
          <p:nvPr/>
        </p:nvSpPr>
        <p:spPr>
          <a:xfrm>
            <a:off x="4060800" y="3541680"/>
            <a:ext cx="181080" cy="730440"/>
          </a:xfrm>
          <a:custGeom>
            <a:avLst/>
            <a:gdLst/>
            <a:ahLst/>
            <a:rect l="l" t="t" r="r" b="b"/>
            <a:pathLst>
              <a:path w="229" h="919">
                <a:moveTo>
                  <a:pt x="229" y="0"/>
                </a:moveTo>
                <a:lnTo>
                  <a:pt x="128" y="89"/>
                </a:lnTo>
                <a:lnTo>
                  <a:pt x="113" y="264"/>
                </a:lnTo>
                <a:lnTo>
                  <a:pt x="95" y="439"/>
                </a:lnTo>
                <a:lnTo>
                  <a:pt x="62" y="530"/>
                </a:lnTo>
                <a:lnTo>
                  <a:pt x="25" y="621"/>
                </a:lnTo>
                <a:lnTo>
                  <a:pt x="0" y="817"/>
                </a:lnTo>
                <a:lnTo>
                  <a:pt x="128" y="919"/>
                </a:lnTo>
                <a:lnTo>
                  <a:pt x="159" y="912"/>
                </a:lnTo>
                <a:lnTo>
                  <a:pt x="190" y="906"/>
                </a:lnTo>
                <a:lnTo>
                  <a:pt x="210" y="661"/>
                </a:lnTo>
                <a:lnTo>
                  <a:pt x="229" y="419"/>
                </a:lnTo>
                <a:lnTo>
                  <a:pt x="229" y="0"/>
                </a:lnTo>
                <a:close/>
              </a:path>
            </a:pathLst>
          </a:custGeom>
          <a:solidFill>
            <a:srgbClr val="68aab7"/>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51" name=""/>
          <p:cNvSpPr/>
          <p:nvPr/>
        </p:nvSpPr>
        <p:spPr>
          <a:xfrm>
            <a:off x="4094280" y="3708360"/>
            <a:ext cx="133200" cy="527040"/>
          </a:xfrm>
          <a:custGeom>
            <a:avLst/>
            <a:gdLst/>
            <a:ahLst/>
            <a:rect l="l" t="t" r="r" b="b"/>
            <a:pathLst>
              <a:path w="167" h="665">
                <a:moveTo>
                  <a:pt x="167" y="0"/>
                </a:moveTo>
                <a:lnTo>
                  <a:pt x="93" y="62"/>
                </a:lnTo>
                <a:lnTo>
                  <a:pt x="70" y="316"/>
                </a:lnTo>
                <a:lnTo>
                  <a:pt x="44" y="384"/>
                </a:lnTo>
                <a:lnTo>
                  <a:pt x="19" y="450"/>
                </a:lnTo>
                <a:lnTo>
                  <a:pt x="9" y="521"/>
                </a:lnTo>
                <a:lnTo>
                  <a:pt x="0" y="593"/>
                </a:lnTo>
                <a:lnTo>
                  <a:pt x="46" y="630"/>
                </a:lnTo>
                <a:lnTo>
                  <a:pt x="93" y="665"/>
                </a:lnTo>
                <a:lnTo>
                  <a:pt x="116" y="661"/>
                </a:lnTo>
                <a:lnTo>
                  <a:pt x="137" y="657"/>
                </a:lnTo>
                <a:lnTo>
                  <a:pt x="167" y="302"/>
                </a:lnTo>
                <a:lnTo>
                  <a:pt x="167" y="0"/>
                </a:lnTo>
                <a:close/>
              </a:path>
            </a:pathLst>
          </a:custGeom>
          <a:solidFill>
            <a:srgbClr val="6db2b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52" name=""/>
          <p:cNvSpPr/>
          <p:nvPr/>
        </p:nvSpPr>
        <p:spPr>
          <a:xfrm>
            <a:off x="4129200" y="3873600"/>
            <a:ext cx="81000" cy="330120"/>
          </a:xfrm>
          <a:custGeom>
            <a:avLst/>
            <a:gdLst/>
            <a:ahLst/>
            <a:rect l="l" t="t" r="r" b="b"/>
            <a:pathLst>
              <a:path w="103" h="417">
                <a:moveTo>
                  <a:pt x="103" y="0"/>
                </a:moveTo>
                <a:lnTo>
                  <a:pt x="59" y="39"/>
                </a:lnTo>
                <a:lnTo>
                  <a:pt x="43" y="198"/>
                </a:lnTo>
                <a:lnTo>
                  <a:pt x="12" y="281"/>
                </a:lnTo>
                <a:lnTo>
                  <a:pt x="0" y="371"/>
                </a:lnTo>
                <a:lnTo>
                  <a:pt x="59" y="417"/>
                </a:lnTo>
                <a:lnTo>
                  <a:pt x="88" y="411"/>
                </a:lnTo>
                <a:lnTo>
                  <a:pt x="103" y="190"/>
                </a:lnTo>
                <a:lnTo>
                  <a:pt x="103" y="0"/>
                </a:lnTo>
                <a:close/>
              </a:path>
            </a:pathLst>
          </a:custGeom>
          <a:solidFill>
            <a:srgbClr val="70b5c4"/>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53" name=""/>
          <p:cNvSpPr/>
          <p:nvPr/>
        </p:nvSpPr>
        <p:spPr>
          <a:xfrm>
            <a:off x="2635200" y="4564080"/>
            <a:ext cx="265320" cy="838080"/>
          </a:xfrm>
          <a:custGeom>
            <a:avLst/>
            <a:gdLst/>
            <a:ahLst/>
            <a:rect l="l" t="t" r="r" b="b"/>
            <a:pathLst>
              <a:path w="334" h="1057">
                <a:moveTo>
                  <a:pt x="206" y="252"/>
                </a:moveTo>
                <a:lnTo>
                  <a:pt x="161" y="0"/>
                </a:lnTo>
                <a:lnTo>
                  <a:pt x="0" y="436"/>
                </a:lnTo>
                <a:lnTo>
                  <a:pt x="22" y="989"/>
                </a:lnTo>
                <a:lnTo>
                  <a:pt x="136" y="1057"/>
                </a:lnTo>
                <a:lnTo>
                  <a:pt x="334" y="1000"/>
                </a:lnTo>
                <a:lnTo>
                  <a:pt x="309" y="574"/>
                </a:lnTo>
                <a:lnTo>
                  <a:pt x="206" y="252"/>
                </a:lnTo>
                <a:close/>
              </a:path>
            </a:pathLst>
          </a:custGeom>
          <a:solidFill>
            <a:srgbClr val="32cc3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54" name=""/>
          <p:cNvSpPr/>
          <p:nvPr/>
        </p:nvSpPr>
        <p:spPr>
          <a:xfrm>
            <a:off x="2655720" y="4626000"/>
            <a:ext cx="223920" cy="714240"/>
          </a:xfrm>
          <a:custGeom>
            <a:avLst/>
            <a:gdLst/>
            <a:ahLst/>
            <a:rect l="l" t="t" r="r" b="b"/>
            <a:pathLst>
              <a:path w="284" h="900">
                <a:moveTo>
                  <a:pt x="175" y="216"/>
                </a:moveTo>
                <a:lnTo>
                  <a:pt x="156" y="109"/>
                </a:lnTo>
                <a:lnTo>
                  <a:pt x="136" y="0"/>
                </a:lnTo>
                <a:lnTo>
                  <a:pt x="0" y="373"/>
                </a:lnTo>
                <a:lnTo>
                  <a:pt x="20" y="842"/>
                </a:lnTo>
                <a:lnTo>
                  <a:pt x="68" y="871"/>
                </a:lnTo>
                <a:lnTo>
                  <a:pt x="117" y="900"/>
                </a:lnTo>
                <a:lnTo>
                  <a:pt x="200" y="877"/>
                </a:lnTo>
                <a:lnTo>
                  <a:pt x="284" y="852"/>
                </a:lnTo>
                <a:lnTo>
                  <a:pt x="274" y="671"/>
                </a:lnTo>
                <a:lnTo>
                  <a:pt x="264" y="489"/>
                </a:lnTo>
                <a:lnTo>
                  <a:pt x="175" y="216"/>
                </a:lnTo>
                <a:close/>
              </a:path>
            </a:pathLst>
          </a:custGeom>
          <a:solidFill>
            <a:srgbClr val="35d13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55" name=""/>
          <p:cNvSpPr/>
          <p:nvPr/>
        </p:nvSpPr>
        <p:spPr>
          <a:xfrm>
            <a:off x="2674800" y="4687920"/>
            <a:ext cx="185760" cy="590400"/>
          </a:xfrm>
          <a:custGeom>
            <a:avLst/>
            <a:gdLst/>
            <a:ahLst/>
            <a:rect l="l" t="t" r="r" b="b"/>
            <a:pathLst>
              <a:path w="232" h="743">
                <a:moveTo>
                  <a:pt x="143" y="176"/>
                </a:moveTo>
                <a:lnTo>
                  <a:pt x="128" y="89"/>
                </a:lnTo>
                <a:lnTo>
                  <a:pt x="110" y="0"/>
                </a:lnTo>
                <a:lnTo>
                  <a:pt x="0" y="306"/>
                </a:lnTo>
                <a:lnTo>
                  <a:pt x="15" y="692"/>
                </a:lnTo>
                <a:lnTo>
                  <a:pt x="95" y="743"/>
                </a:lnTo>
                <a:lnTo>
                  <a:pt x="165" y="721"/>
                </a:lnTo>
                <a:lnTo>
                  <a:pt x="232" y="700"/>
                </a:lnTo>
                <a:lnTo>
                  <a:pt x="217" y="403"/>
                </a:lnTo>
                <a:lnTo>
                  <a:pt x="180" y="291"/>
                </a:lnTo>
                <a:lnTo>
                  <a:pt x="143" y="176"/>
                </a:lnTo>
                <a:close/>
              </a:path>
            </a:pathLst>
          </a:custGeom>
          <a:solidFill>
            <a:srgbClr val="38d83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56" name=""/>
          <p:cNvSpPr/>
          <p:nvPr/>
        </p:nvSpPr>
        <p:spPr>
          <a:xfrm>
            <a:off x="2693880" y="4751280"/>
            <a:ext cx="146160" cy="462240"/>
          </a:xfrm>
          <a:custGeom>
            <a:avLst/>
            <a:gdLst/>
            <a:ahLst/>
            <a:rect l="l" t="t" r="r" b="b"/>
            <a:pathLst>
              <a:path w="184" h="582">
                <a:moveTo>
                  <a:pt x="114" y="140"/>
                </a:moveTo>
                <a:lnTo>
                  <a:pt x="103" y="70"/>
                </a:lnTo>
                <a:lnTo>
                  <a:pt x="89" y="0"/>
                </a:lnTo>
                <a:lnTo>
                  <a:pt x="45" y="121"/>
                </a:lnTo>
                <a:lnTo>
                  <a:pt x="0" y="241"/>
                </a:lnTo>
                <a:lnTo>
                  <a:pt x="8" y="392"/>
                </a:lnTo>
                <a:lnTo>
                  <a:pt x="14" y="545"/>
                </a:lnTo>
                <a:lnTo>
                  <a:pt x="45" y="565"/>
                </a:lnTo>
                <a:lnTo>
                  <a:pt x="78" y="582"/>
                </a:lnTo>
                <a:lnTo>
                  <a:pt x="184" y="551"/>
                </a:lnTo>
                <a:lnTo>
                  <a:pt x="171" y="318"/>
                </a:lnTo>
                <a:lnTo>
                  <a:pt x="114" y="140"/>
                </a:lnTo>
                <a:close/>
              </a:path>
            </a:pathLst>
          </a:custGeom>
          <a:solidFill>
            <a:srgbClr val="38dd3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57" name=""/>
          <p:cNvSpPr/>
          <p:nvPr/>
        </p:nvSpPr>
        <p:spPr>
          <a:xfrm>
            <a:off x="2714760" y="4815000"/>
            <a:ext cx="104760" cy="334800"/>
          </a:xfrm>
          <a:custGeom>
            <a:avLst/>
            <a:gdLst/>
            <a:ahLst/>
            <a:rect l="l" t="t" r="r" b="b"/>
            <a:pathLst>
              <a:path w="134" h="423">
                <a:moveTo>
                  <a:pt x="84" y="103"/>
                </a:moveTo>
                <a:lnTo>
                  <a:pt x="74" y="50"/>
                </a:lnTo>
                <a:lnTo>
                  <a:pt x="64" y="0"/>
                </a:lnTo>
                <a:lnTo>
                  <a:pt x="33" y="87"/>
                </a:lnTo>
                <a:lnTo>
                  <a:pt x="0" y="174"/>
                </a:lnTo>
                <a:lnTo>
                  <a:pt x="4" y="287"/>
                </a:lnTo>
                <a:lnTo>
                  <a:pt x="10" y="395"/>
                </a:lnTo>
                <a:lnTo>
                  <a:pt x="33" y="409"/>
                </a:lnTo>
                <a:lnTo>
                  <a:pt x="56" y="423"/>
                </a:lnTo>
                <a:lnTo>
                  <a:pt x="95" y="411"/>
                </a:lnTo>
                <a:lnTo>
                  <a:pt x="134" y="399"/>
                </a:lnTo>
                <a:lnTo>
                  <a:pt x="130" y="316"/>
                </a:lnTo>
                <a:lnTo>
                  <a:pt x="124" y="231"/>
                </a:lnTo>
                <a:lnTo>
                  <a:pt x="103" y="167"/>
                </a:lnTo>
                <a:lnTo>
                  <a:pt x="84" y="103"/>
                </a:lnTo>
                <a:close/>
              </a:path>
            </a:pathLst>
          </a:custGeom>
          <a:solidFill>
            <a:srgbClr val="38e23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58" name=""/>
          <p:cNvSpPr/>
          <p:nvPr/>
        </p:nvSpPr>
        <p:spPr>
          <a:xfrm>
            <a:off x="2733840" y="4878360"/>
            <a:ext cx="66600" cy="211320"/>
          </a:xfrm>
          <a:custGeom>
            <a:avLst/>
            <a:gdLst/>
            <a:ahLst/>
            <a:rect l="l" t="t" r="r" b="b"/>
            <a:pathLst>
              <a:path w="84" h="266">
                <a:moveTo>
                  <a:pt x="53" y="64"/>
                </a:moveTo>
                <a:lnTo>
                  <a:pt x="41" y="0"/>
                </a:lnTo>
                <a:lnTo>
                  <a:pt x="0" y="111"/>
                </a:lnTo>
                <a:lnTo>
                  <a:pt x="6" y="247"/>
                </a:lnTo>
                <a:lnTo>
                  <a:pt x="35" y="266"/>
                </a:lnTo>
                <a:lnTo>
                  <a:pt x="84" y="251"/>
                </a:lnTo>
                <a:lnTo>
                  <a:pt x="78" y="144"/>
                </a:lnTo>
                <a:lnTo>
                  <a:pt x="53" y="64"/>
                </a:lnTo>
                <a:close/>
              </a:path>
            </a:pathLst>
          </a:custGeom>
          <a:solidFill>
            <a:srgbClr val="3aea3a"/>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59" name=""/>
          <p:cNvSpPr/>
          <p:nvPr/>
        </p:nvSpPr>
        <p:spPr>
          <a:xfrm>
            <a:off x="2679840" y="5440320"/>
            <a:ext cx="1039680" cy="606600"/>
          </a:xfrm>
          <a:custGeom>
            <a:avLst/>
            <a:gdLst/>
            <a:ahLst/>
            <a:rect l="l" t="t" r="r" b="b"/>
            <a:pathLst>
              <a:path w="1310" h="764">
                <a:moveTo>
                  <a:pt x="412" y="25"/>
                </a:moveTo>
                <a:lnTo>
                  <a:pt x="266" y="91"/>
                </a:lnTo>
                <a:lnTo>
                  <a:pt x="208" y="252"/>
                </a:lnTo>
                <a:lnTo>
                  <a:pt x="231" y="483"/>
                </a:lnTo>
                <a:lnTo>
                  <a:pt x="322" y="634"/>
                </a:lnTo>
                <a:lnTo>
                  <a:pt x="576" y="621"/>
                </a:lnTo>
                <a:lnTo>
                  <a:pt x="714" y="427"/>
                </a:lnTo>
                <a:lnTo>
                  <a:pt x="1015" y="208"/>
                </a:lnTo>
                <a:lnTo>
                  <a:pt x="1310" y="99"/>
                </a:lnTo>
                <a:lnTo>
                  <a:pt x="1288" y="136"/>
                </a:lnTo>
                <a:lnTo>
                  <a:pt x="1249" y="179"/>
                </a:lnTo>
                <a:lnTo>
                  <a:pt x="1147" y="308"/>
                </a:lnTo>
                <a:lnTo>
                  <a:pt x="955" y="514"/>
                </a:lnTo>
                <a:lnTo>
                  <a:pt x="842" y="609"/>
                </a:lnTo>
                <a:lnTo>
                  <a:pt x="673" y="696"/>
                </a:lnTo>
                <a:lnTo>
                  <a:pt x="538" y="747"/>
                </a:lnTo>
                <a:lnTo>
                  <a:pt x="495" y="754"/>
                </a:lnTo>
                <a:lnTo>
                  <a:pt x="373" y="764"/>
                </a:lnTo>
                <a:lnTo>
                  <a:pt x="334" y="760"/>
                </a:lnTo>
                <a:lnTo>
                  <a:pt x="276" y="731"/>
                </a:lnTo>
                <a:lnTo>
                  <a:pt x="175" y="615"/>
                </a:lnTo>
                <a:lnTo>
                  <a:pt x="156" y="580"/>
                </a:lnTo>
                <a:lnTo>
                  <a:pt x="150" y="551"/>
                </a:lnTo>
                <a:lnTo>
                  <a:pt x="88" y="421"/>
                </a:lnTo>
                <a:lnTo>
                  <a:pt x="43" y="291"/>
                </a:lnTo>
                <a:lnTo>
                  <a:pt x="22" y="204"/>
                </a:lnTo>
                <a:lnTo>
                  <a:pt x="0" y="130"/>
                </a:lnTo>
                <a:lnTo>
                  <a:pt x="0" y="62"/>
                </a:lnTo>
                <a:lnTo>
                  <a:pt x="113" y="23"/>
                </a:lnTo>
                <a:lnTo>
                  <a:pt x="268" y="0"/>
                </a:lnTo>
                <a:lnTo>
                  <a:pt x="400" y="0"/>
                </a:lnTo>
                <a:lnTo>
                  <a:pt x="404" y="6"/>
                </a:lnTo>
                <a:lnTo>
                  <a:pt x="412" y="25"/>
                </a:lnTo>
                <a:close/>
              </a:path>
            </a:pathLst>
          </a:custGeom>
          <a:solidFill>
            <a:srgbClr val="d89b7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60" name=""/>
          <p:cNvSpPr/>
          <p:nvPr/>
        </p:nvSpPr>
        <p:spPr>
          <a:xfrm>
            <a:off x="2835360" y="4619520"/>
            <a:ext cx="550800" cy="1024200"/>
          </a:xfrm>
          <a:custGeom>
            <a:avLst/>
            <a:gdLst/>
            <a:ahLst/>
            <a:rect l="l" t="t" r="r" b="b"/>
            <a:pathLst>
              <a:path w="695" h="1289">
                <a:moveTo>
                  <a:pt x="22" y="1004"/>
                </a:moveTo>
                <a:lnTo>
                  <a:pt x="202" y="998"/>
                </a:lnTo>
                <a:lnTo>
                  <a:pt x="202" y="849"/>
                </a:lnTo>
                <a:lnTo>
                  <a:pt x="188" y="641"/>
                </a:lnTo>
                <a:lnTo>
                  <a:pt x="138" y="424"/>
                </a:lnTo>
                <a:lnTo>
                  <a:pt x="109" y="314"/>
                </a:lnTo>
                <a:lnTo>
                  <a:pt x="41" y="116"/>
                </a:lnTo>
                <a:lnTo>
                  <a:pt x="24" y="87"/>
                </a:lnTo>
                <a:lnTo>
                  <a:pt x="20" y="75"/>
                </a:lnTo>
                <a:lnTo>
                  <a:pt x="0" y="114"/>
                </a:lnTo>
                <a:lnTo>
                  <a:pt x="70" y="389"/>
                </a:lnTo>
                <a:lnTo>
                  <a:pt x="82" y="735"/>
                </a:lnTo>
                <a:lnTo>
                  <a:pt x="47" y="963"/>
                </a:lnTo>
                <a:lnTo>
                  <a:pt x="22" y="1004"/>
                </a:lnTo>
                <a:close/>
                <a:moveTo>
                  <a:pt x="57" y="0"/>
                </a:moveTo>
                <a:lnTo>
                  <a:pt x="231" y="285"/>
                </a:lnTo>
                <a:lnTo>
                  <a:pt x="278" y="539"/>
                </a:lnTo>
                <a:lnTo>
                  <a:pt x="322" y="746"/>
                </a:lnTo>
                <a:lnTo>
                  <a:pt x="507" y="861"/>
                </a:lnTo>
                <a:lnTo>
                  <a:pt x="635" y="940"/>
                </a:lnTo>
                <a:lnTo>
                  <a:pt x="695" y="1047"/>
                </a:lnTo>
                <a:lnTo>
                  <a:pt x="691" y="1047"/>
                </a:lnTo>
                <a:lnTo>
                  <a:pt x="590" y="1109"/>
                </a:lnTo>
                <a:lnTo>
                  <a:pt x="493" y="1157"/>
                </a:lnTo>
                <a:lnTo>
                  <a:pt x="429" y="1202"/>
                </a:lnTo>
                <a:lnTo>
                  <a:pt x="425" y="1198"/>
                </a:lnTo>
                <a:lnTo>
                  <a:pt x="313" y="1285"/>
                </a:lnTo>
                <a:lnTo>
                  <a:pt x="309" y="1289"/>
                </a:lnTo>
                <a:lnTo>
                  <a:pt x="289" y="1246"/>
                </a:lnTo>
                <a:lnTo>
                  <a:pt x="245" y="1014"/>
                </a:lnTo>
                <a:lnTo>
                  <a:pt x="251" y="1008"/>
                </a:lnTo>
                <a:lnTo>
                  <a:pt x="237" y="994"/>
                </a:lnTo>
                <a:lnTo>
                  <a:pt x="227" y="810"/>
                </a:lnTo>
                <a:lnTo>
                  <a:pt x="221" y="657"/>
                </a:lnTo>
                <a:lnTo>
                  <a:pt x="196" y="512"/>
                </a:lnTo>
                <a:lnTo>
                  <a:pt x="109" y="207"/>
                </a:lnTo>
                <a:lnTo>
                  <a:pt x="57" y="73"/>
                </a:lnTo>
                <a:lnTo>
                  <a:pt x="35" y="44"/>
                </a:lnTo>
                <a:lnTo>
                  <a:pt x="57" y="0"/>
                </a:lnTo>
                <a:close/>
              </a:path>
            </a:pathLst>
          </a:custGeom>
          <a:solidFill>
            <a:srgbClr val="2dba2d"/>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61" name=""/>
          <p:cNvSpPr/>
          <p:nvPr/>
        </p:nvSpPr>
        <p:spPr>
          <a:xfrm>
            <a:off x="2830680" y="4670280"/>
            <a:ext cx="169560" cy="750960"/>
          </a:xfrm>
          <a:custGeom>
            <a:avLst/>
            <a:gdLst/>
            <a:ahLst/>
            <a:rect l="l" t="t" r="r" b="b"/>
            <a:pathLst>
              <a:path w="213" h="946">
                <a:moveTo>
                  <a:pt x="17" y="946"/>
                </a:moveTo>
                <a:lnTo>
                  <a:pt x="211" y="940"/>
                </a:lnTo>
                <a:lnTo>
                  <a:pt x="213" y="785"/>
                </a:lnTo>
                <a:lnTo>
                  <a:pt x="197" y="577"/>
                </a:lnTo>
                <a:lnTo>
                  <a:pt x="197" y="575"/>
                </a:lnTo>
                <a:lnTo>
                  <a:pt x="149" y="358"/>
                </a:lnTo>
                <a:lnTo>
                  <a:pt x="120" y="248"/>
                </a:lnTo>
                <a:lnTo>
                  <a:pt x="52" y="50"/>
                </a:lnTo>
                <a:lnTo>
                  <a:pt x="33" y="19"/>
                </a:lnTo>
                <a:lnTo>
                  <a:pt x="33" y="21"/>
                </a:lnTo>
                <a:lnTo>
                  <a:pt x="25" y="0"/>
                </a:lnTo>
                <a:lnTo>
                  <a:pt x="0" y="48"/>
                </a:lnTo>
                <a:lnTo>
                  <a:pt x="69" y="325"/>
                </a:lnTo>
                <a:lnTo>
                  <a:pt x="69" y="325"/>
                </a:lnTo>
                <a:lnTo>
                  <a:pt x="81" y="671"/>
                </a:lnTo>
                <a:lnTo>
                  <a:pt x="81" y="669"/>
                </a:lnTo>
                <a:lnTo>
                  <a:pt x="46" y="899"/>
                </a:lnTo>
                <a:lnTo>
                  <a:pt x="48" y="897"/>
                </a:lnTo>
                <a:lnTo>
                  <a:pt x="17" y="946"/>
                </a:lnTo>
                <a:lnTo>
                  <a:pt x="31" y="942"/>
                </a:lnTo>
                <a:lnTo>
                  <a:pt x="58" y="901"/>
                </a:lnTo>
                <a:lnTo>
                  <a:pt x="91" y="671"/>
                </a:lnTo>
                <a:lnTo>
                  <a:pt x="81" y="323"/>
                </a:lnTo>
                <a:lnTo>
                  <a:pt x="11" y="48"/>
                </a:lnTo>
                <a:lnTo>
                  <a:pt x="11" y="52"/>
                </a:lnTo>
                <a:lnTo>
                  <a:pt x="29" y="15"/>
                </a:lnTo>
                <a:lnTo>
                  <a:pt x="19" y="13"/>
                </a:lnTo>
                <a:lnTo>
                  <a:pt x="23" y="25"/>
                </a:lnTo>
                <a:lnTo>
                  <a:pt x="42" y="56"/>
                </a:lnTo>
                <a:lnTo>
                  <a:pt x="40" y="54"/>
                </a:lnTo>
                <a:lnTo>
                  <a:pt x="110" y="252"/>
                </a:lnTo>
                <a:lnTo>
                  <a:pt x="137" y="362"/>
                </a:lnTo>
                <a:lnTo>
                  <a:pt x="188" y="579"/>
                </a:lnTo>
                <a:lnTo>
                  <a:pt x="188" y="577"/>
                </a:lnTo>
                <a:lnTo>
                  <a:pt x="201" y="785"/>
                </a:lnTo>
                <a:lnTo>
                  <a:pt x="201" y="934"/>
                </a:lnTo>
                <a:lnTo>
                  <a:pt x="207" y="930"/>
                </a:lnTo>
                <a:lnTo>
                  <a:pt x="27" y="934"/>
                </a:lnTo>
                <a:lnTo>
                  <a:pt x="31" y="942"/>
                </a:lnTo>
                <a:lnTo>
                  <a:pt x="17" y="9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62" name=""/>
          <p:cNvSpPr/>
          <p:nvPr/>
        </p:nvSpPr>
        <p:spPr>
          <a:xfrm>
            <a:off x="2859120" y="4610160"/>
            <a:ext cx="534960" cy="1039680"/>
          </a:xfrm>
          <a:custGeom>
            <a:avLst/>
            <a:gdLst/>
            <a:ahLst/>
            <a:rect l="l" t="t" r="r" b="b"/>
            <a:pathLst>
              <a:path w="675" h="1311">
                <a:moveTo>
                  <a:pt x="33" y="14"/>
                </a:moveTo>
                <a:lnTo>
                  <a:pt x="24" y="14"/>
                </a:lnTo>
                <a:lnTo>
                  <a:pt x="198" y="301"/>
                </a:lnTo>
                <a:lnTo>
                  <a:pt x="198" y="297"/>
                </a:lnTo>
                <a:lnTo>
                  <a:pt x="243" y="551"/>
                </a:lnTo>
                <a:lnTo>
                  <a:pt x="243" y="551"/>
                </a:lnTo>
                <a:lnTo>
                  <a:pt x="289" y="760"/>
                </a:lnTo>
                <a:lnTo>
                  <a:pt x="476" y="876"/>
                </a:lnTo>
                <a:lnTo>
                  <a:pt x="602" y="958"/>
                </a:lnTo>
                <a:lnTo>
                  <a:pt x="600" y="956"/>
                </a:lnTo>
                <a:lnTo>
                  <a:pt x="662" y="1063"/>
                </a:lnTo>
                <a:lnTo>
                  <a:pt x="666" y="1055"/>
                </a:lnTo>
                <a:lnTo>
                  <a:pt x="660" y="1055"/>
                </a:lnTo>
                <a:lnTo>
                  <a:pt x="557" y="1117"/>
                </a:lnTo>
                <a:lnTo>
                  <a:pt x="557" y="1117"/>
                </a:lnTo>
                <a:lnTo>
                  <a:pt x="462" y="1165"/>
                </a:lnTo>
                <a:lnTo>
                  <a:pt x="460" y="1165"/>
                </a:lnTo>
                <a:lnTo>
                  <a:pt x="398" y="1210"/>
                </a:lnTo>
                <a:lnTo>
                  <a:pt x="404" y="1210"/>
                </a:lnTo>
                <a:lnTo>
                  <a:pt x="396" y="1202"/>
                </a:lnTo>
                <a:lnTo>
                  <a:pt x="282" y="1291"/>
                </a:lnTo>
                <a:lnTo>
                  <a:pt x="280" y="1293"/>
                </a:lnTo>
                <a:lnTo>
                  <a:pt x="276" y="1297"/>
                </a:lnTo>
                <a:lnTo>
                  <a:pt x="284" y="1299"/>
                </a:lnTo>
                <a:lnTo>
                  <a:pt x="264" y="1255"/>
                </a:lnTo>
                <a:lnTo>
                  <a:pt x="266" y="1256"/>
                </a:lnTo>
                <a:lnTo>
                  <a:pt x="222" y="1026"/>
                </a:lnTo>
                <a:lnTo>
                  <a:pt x="220" y="1030"/>
                </a:lnTo>
                <a:lnTo>
                  <a:pt x="227" y="1020"/>
                </a:lnTo>
                <a:lnTo>
                  <a:pt x="212" y="1002"/>
                </a:lnTo>
                <a:lnTo>
                  <a:pt x="212" y="1006"/>
                </a:lnTo>
                <a:lnTo>
                  <a:pt x="202" y="822"/>
                </a:lnTo>
                <a:lnTo>
                  <a:pt x="198" y="669"/>
                </a:lnTo>
                <a:lnTo>
                  <a:pt x="198" y="667"/>
                </a:lnTo>
                <a:lnTo>
                  <a:pt x="173" y="524"/>
                </a:lnTo>
                <a:lnTo>
                  <a:pt x="173" y="522"/>
                </a:lnTo>
                <a:lnTo>
                  <a:pt x="86" y="217"/>
                </a:lnTo>
                <a:lnTo>
                  <a:pt x="86" y="217"/>
                </a:lnTo>
                <a:lnTo>
                  <a:pt x="31" y="83"/>
                </a:lnTo>
                <a:lnTo>
                  <a:pt x="10" y="54"/>
                </a:lnTo>
                <a:lnTo>
                  <a:pt x="10" y="58"/>
                </a:lnTo>
                <a:lnTo>
                  <a:pt x="33" y="14"/>
                </a:lnTo>
                <a:lnTo>
                  <a:pt x="28" y="0"/>
                </a:lnTo>
                <a:lnTo>
                  <a:pt x="0" y="58"/>
                </a:lnTo>
                <a:lnTo>
                  <a:pt x="24" y="87"/>
                </a:lnTo>
                <a:lnTo>
                  <a:pt x="22" y="87"/>
                </a:lnTo>
                <a:lnTo>
                  <a:pt x="76" y="221"/>
                </a:lnTo>
                <a:lnTo>
                  <a:pt x="76" y="221"/>
                </a:lnTo>
                <a:lnTo>
                  <a:pt x="163" y="525"/>
                </a:lnTo>
                <a:lnTo>
                  <a:pt x="163" y="525"/>
                </a:lnTo>
                <a:lnTo>
                  <a:pt x="187" y="669"/>
                </a:lnTo>
                <a:lnTo>
                  <a:pt x="187" y="669"/>
                </a:lnTo>
                <a:lnTo>
                  <a:pt x="192" y="822"/>
                </a:lnTo>
                <a:lnTo>
                  <a:pt x="202" y="1008"/>
                </a:lnTo>
                <a:lnTo>
                  <a:pt x="218" y="1024"/>
                </a:lnTo>
                <a:lnTo>
                  <a:pt x="218" y="1016"/>
                </a:lnTo>
                <a:lnTo>
                  <a:pt x="212" y="1024"/>
                </a:lnTo>
                <a:lnTo>
                  <a:pt x="255" y="1258"/>
                </a:lnTo>
                <a:lnTo>
                  <a:pt x="278" y="1311"/>
                </a:lnTo>
                <a:lnTo>
                  <a:pt x="287" y="1301"/>
                </a:lnTo>
                <a:lnTo>
                  <a:pt x="287" y="1301"/>
                </a:lnTo>
                <a:lnTo>
                  <a:pt x="398" y="1214"/>
                </a:lnTo>
                <a:lnTo>
                  <a:pt x="392" y="1214"/>
                </a:lnTo>
                <a:lnTo>
                  <a:pt x="400" y="1220"/>
                </a:lnTo>
                <a:lnTo>
                  <a:pt x="466" y="1175"/>
                </a:lnTo>
                <a:lnTo>
                  <a:pt x="466" y="1175"/>
                </a:lnTo>
                <a:lnTo>
                  <a:pt x="563" y="1127"/>
                </a:lnTo>
                <a:lnTo>
                  <a:pt x="563" y="1127"/>
                </a:lnTo>
                <a:lnTo>
                  <a:pt x="664" y="1065"/>
                </a:lnTo>
                <a:lnTo>
                  <a:pt x="662" y="1065"/>
                </a:lnTo>
                <a:lnTo>
                  <a:pt x="675" y="1065"/>
                </a:lnTo>
                <a:lnTo>
                  <a:pt x="609" y="948"/>
                </a:lnTo>
                <a:lnTo>
                  <a:pt x="481" y="867"/>
                </a:lnTo>
                <a:lnTo>
                  <a:pt x="297" y="754"/>
                </a:lnTo>
                <a:lnTo>
                  <a:pt x="299" y="756"/>
                </a:lnTo>
                <a:lnTo>
                  <a:pt x="253" y="549"/>
                </a:lnTo>
                <a:lnTo>
                  <a:pt x="253" y="549"/>
                </a:lnTo>
                <a:lnTo>
                  <a:pt x="208" y="295"/>
                </a:lnTo>
                <a:lnTo>
                  <a:pt x="28" y="0"/>
                </a:lnTo>
                <a:lnTo>
                  <a:pt x="33"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63" name=""/>
          <p:cNvSpPr/>
          <p:nvPr/>
        </p:nvSpPr>
        <p:spPr>
          <a:xfrm>
            <a:off x="3152880" y="5278320"/>
            <a:ext cx="933480" cy="768600"/>
          </a:xfrm>
          <a:custGeom>
            <a:avLst/>
            <a:gdLst/>
            <a:ahLst/>
            <a:rect l="l" t="t" r="r" b="b"/>
            <a:pathLst>
              <a:path w="1175" h="967">
                <a:moveTo>
                  <a:pt x="584" y="523"/>
                </a:moveTo>
                <a:lnTo>
                  <a:pt x="752" y="572"/>
                </a:lnTo>
                <a:lnTo>
                  <a:pt x="902" y="490"/>
                </a:lnTo>
                <a:lnTo>
                  <a:pt x="1086" y="226"/>
                </a:lnTo>
                <a:lnTo>
                  <a:pt x="1086" y="93"/>
                </a:lnTo>
                <a:lnTo>
                  <a:pt x="1117" y="62"/>
                </a:lnTo>
                <a:lnTo>
                  <a:pt x="1156" y="19"/>
                </a:lnTo>
                <a:lnTo>
                  <a:pt x="1175" y="0"/>
                </a:lnTo>
                <a:lnTo>
                  <a:pt x="1136" y="226"/>
                </a:lnTo>
                <a:lnTo>
                  <a:pt x="1117" y="252"/>
                </a:lnTo>
                <a:lnTo>
                  <a:pt x="1117" y="275"/>
                </a:lnTo>
                <a:lnTo>
                  <a:pt x="1078" y="358"/>
                </a:lnTo>
                <a:lnTo>
                  <a:pt x="1014" y="527"/>
                </a:lnTo>
                <a:lnTo>
                  <a:pt x="971" y="614"/>
                </a:lnTo>
                <a:lnTo>
                  <a:pt x="913" y="653"/>
                </a:lnTo>
                <a:lnTo>
                  <a:pt x="719" y="736"/>
                </a:lnTo>
                <a:lnTo>
                  <a:pt x="706" y="750"/>
                </a:lnTo>
                <a:lnTo>
                  <a:pt x="638" y="779"/>
                </a:lnTo>
                <a:lnTo>
                  <a:pt x="430" y="928"/>
                </a:lnTo>
                <a:lnTo>
                  <a:pt x="392" y="938"/>
                </a:lnTo>
                <a:lnTo>
                  <a:pt x="343" y="967"/>
                </a:lnTo>
                <a:lnTo>
                  <a:pt x="0" y="967"/>
                </a:lnTo>
                <a:lnTo>
                  <a:pt x="207" y="880"/>
                </a:lnTo>
                <a:lnTo>
                  <a:pt x="320" y="798"/>
                </a:lnTo>
                <a:lnTo>
                  <a:pt x="378" y="746"/>
                </a:lnTo>
                <a:lnTo>
                  <a:pt x="378" y="736"/>
                </a:lnTo>
                <a:lnTo>
                  <a:pt x="421" y="701"/>
                </a:lnTo>
                <a:lnTo>
                  <a:pt x="527" y="585"/>
                </a:lnTo>
                <a:lnTo>
                  <a:pt x="584" y="523"/>
                </a:lnTo>
                <a:close/>
              </a:path>
            </a:pathLst>
          </a:custGeom>
          <a:solidFill>
            <a:srgbClr val="2baf2b"/>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64" name=""/>
          <p:cNvSpPr/>
          <p:nvPr/>
        </p:nvSpPr>
        <p:spPr>
          <a:xfrm>
            <a:off x="3948120" y="4573440"/>
            <a:ext cx="298440" cy="876600"/>
          </a:xfrm>
          <a:custGeom>
            <a:avLst/>
            <a:gdLst/>
            <a:ahLst/>
            <a:rect l="l" t="t" r="r" b="b"/>
            <a:pathLst>
              <a:path w="376" h="1106">
                <a:moveTo>
                  <a:pt x="312" y="134"/>
                </a:moveTo>
                <a:lnTo>
                  <a:pt x="312" y="136"/>
                </a:lnTo>
                <a:lnTo>
                  <a:pt x="292" y="351"/>
                </a:lnTo>
                <a:lnTo>
                  <a:pt x="285" y="555"/>
                </a:lnTo>
                <a:lnTo>
                  <a:pt x="240" y="704"/>
                </a:lnTo>
                <a:lnTo>
                  <a:pt x="240" y="749"/>
                </a:lnTo>
                <a:lnTo>
                  <a:pt x="205" y="846"/>
                </a:lnTo>
                <a:lnTo>
                  <a:pt x="178" y="1057"/>
                </a:lnTo>
                <a:lnTo>
                  <a:pt x="166" y="1106"/>
                </a:lnTo>
                <a:lnTo>
                  <a:pt x="314" y="1084"/>
                </a:lnTo>
                <a:lnTo>
                  <a:pt x="333" y="1063"/>
                </a:lnTo>
                <a:lnTo>
                  <a:pt x="351" y="1040"/>
                </a:lnTo>
                <a:lnTo>
                  <a:pt x="356" y="1030"/>
                </a:lnTo>
                <a:lnTo>
                  <a:pt x="364" y="1018"/>
                </a:lnTo>
                <a:lnTo>
                  <a:pt x="368" y="1009"/>
                </a:lnTo>
                <a:lnTo>
                  <a:pt x="372" y="999"/>
                </a:lnTo>
                <a:lnTo>
                  <a:pt x="372" y="987"/>
                </a:lnTo>
                <a:lnTo>
                  <a:pt x="374" y="974"/>
                </a:lnTo>
                <a:lnTo>
                  <a:pt x="376" y="958"/>
                </a:lnTo>
                <a:lnTo>
                  <a:pt x="376" y="941"/>
                </a:lnTo>
                <a:lnTo>
                  <a:pt x="376" y="869"/>
                </a:lnTo>
                <a:lnTo>
                  <a:pt x="374" y="834"/>
                </a:lnTo>
                <a:lnTo>
                  <a:pt x="374" y="821"/>
                </a:lnTo>
                <a:lnTo>
                  <a:pt x="372" y="807"/>
                </a:lnTo>
                <a:lnTo>
                  <a:pt x="372" y="797"/>
                </a:lnTo>
                <a:lnTo>
                  <a:pt x="372" y="788"/>
                </a:lnTo>
                <a:lnTo>
                  <a:pt x="372" y="782"/>
                </a:lnTo>
                <a:lnTo>
                  <a:pt x="360" y="322"/>
                </a:lnTo>
                <a:lnTo>
                  <a:pt x="312" y="134"/>
                </a:lnTo>
                <a:close/>
                <a:moveTo>
                  <a:pt x="279" y="0"/>
                </a:moveTo>
                <a:lnTo>
                  <a:pt x="292" y="55"/>
                </a:lnTo>
                <a:lnTo>
                  <a:pt x="285" y="97"/>
                </a:lnTo>
                <a:lnTo>
                  <a:pt x="259" y="400"/>
                </a:lnTo>
                <a:lnTo>
                  <a:pt x="244" y="561"/>
                </a:lnTo>
                <a:lnTo>
                  <a:pt x="215" y="671"/>
                </a:lnTo>
                <a:lnTo>
                  <a:pt x="215" y="681"/>
                </a:lnTo>
                <a:lnTo>
                  <a:pt x="178" y="677"/>
                </a:lnTo>
                <a:lnTo>
                  <a:pt x="133" y="633"/>
                </a:lnTo>
                <a:lnTo>
                  <a:pt x="89" y="613"/>
                </a:lnTo>
                <a:lnTo>
                  <a:pt x="85" y="590"/>
                </a:lnTo>
                <a:lnTo>
                  <a:pt x="42" y="561"/>
                </a:lnTo>
                <a:lnTo>
                  <a:pt x="0" y="561"/>
                </a:lnTo>
                <a:lnTo>
                  <a:pt x="36" y="505"/>
                </a:lnTo>
                <a:lnTo>
                  <a:pt x="164" y="379"/>
                </a:lnTo>
                <a:lnTo>
                  <a:pt x="279" y="0"/>
                </a:lnTo>
                <a:close/>
              </a:path>
            </a:pathLst>
          </a:custGeom>
          <a:solidFill>
            <a:srgbClr val="2baf2b"/>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65" name=""/>
          <p:cNvSpPr/>
          <p:nvPr/>
        </p:nvSpPr>
        <p:spPr>
          <a:xfrm>
            <a:off x="4076640" y="4645080"/>
            <a:ext cx="174600" cy="811080"/>
          </a:xfrm>
          <a:custGeom>
            <a:avLst/>
            <a:gdLst/>
            <a:ahLst/>
            <a:rect l="l" t="t" r="r" b="b"/>
            <a:pathLst>
              <a:path w="222" h="1021">
                <a:moveTo>
                  <a:pt x="146" y="0"/>
                </a:moveTo>
                <a:lnTo>
                  <a:pt x="146" y="44"/>
                </a:lnTo>
                <a:lnTo>
                  <a:pt x="146" y="44"/>
                </a:lnTo>
                <a:lnTo>
                  <a:pt x="127" y="259"/>
                </a:lnTo>
                <a:lnTo>
                  <a:pt x="127" y="259"/>
                </a:lnTo>
                <a:lnTo>
                  <a:pt x="119" y="463"/>
                </a:lnTo>
                <a:lnTo>
                  <a:pt x="119" y="463"/>
                </a:lnTo>
                <a:lnTo>
                  <a:pt x="74" y="612"/>
                </a:lnTo>
                <a:lnTo>
                  <a:pt x="74" y="657"/>
                </a:lnTo>
                <a:lnTo>
                  <a:pt x="74" y="655"/>
                </a:lnTo>
                <a:lnTo>
                  <a:pt x="39" y="752"/>
                </a:lnTo>
                <a:lnTo>
                  <a:pt x="12" y="965"/>
                </a:lnTo>
                <a:lnTo>
                  <a:pt x="0" y="1021"/>
                </a:lnTo>
                <a:lnTo>
                  <a:pt x="156" y="998"/>
                </a:lnTo>
                <a:lnTo>
                  <a:pt x="177" y="975"/>
                </a:lnTo>
                <a:lnTo>
                  <a:pt x="179" y="973"/>
                </a:lnTo>
                <a:lnTo>
                  <a:pt x="194" y="952"/>
                </a:lnTo>
                <a:lnTo>
                  <a:pt x="202" y="940"/>
                </a:lnTo>
                <a:lnTo>
                  <a:pt x="202" y="940"/>
                </a:lnTo>
                <a:lnTo>
                  <a:pt x="208" y="928"/>
                </a:lnTo>
                <a:lnTo>
                  <a:pt x="212" y="919"/>
                </a:lnTo>
                <a:lnTo>
                  <a:pt x="214" y="919"/>
                </a:lnTo>
                <a:lnTo>
                  <a:pt x="216" y="909"/>
                </a:lnTo>
                <a:lnTo>
                  <a:pt x="218" y="895"/>
                </a:lnTo>
                <a:lnTo>
                  <a:pt x="220" y="882"/>
                </a:lnTo>
                <a:lnTo>
                  <a:pt x="220" y="882"/>
                </a:lnTo>
                <a:lnTo>
                  <a:pt x="220" y="866"/>
                </a:lnTo>
                <a:lnTo>
                  <a:pt x="222" y="849"/>
                </a:lnTo>
                <a:lnTo>
                  <a:pt x="220" y="777"/>
                </a:lnTo>
                <a:lnTo>
                  <a:pt x="220" y="742"/>
                </a:lnTo>
                <a:lnTo>
                  <a:pt x="220" y="729"/>
                </a:lnTo>
                <a:lnTo>
                  <a:pt x="218" y="715"/>
                </a:lnTo>
                <a:lnTo>
                  <a:pt x="218" y="715"/>
                </a:lnTo>
                <a:lnTo>
                  <a:pt x="218" y="703"/>
                </a:lnTo>
                <a:lnTo>
                  <a:pt x="218" y="705"/>
                </a:lnTo>
                <a:lnTo>
                  <a:pt x="218" y="696"/>
                </a:lnTo>
                <a:lnTo>
                  <a:pt x="216" y="690"/>
                </a:lnTo>
                <a:lnTo>
                  <a:pt x="216" y="690"/>
                </a:lnTo>
                <a:lnTo>
                  <a:pt x="216" y="690"/>
                </a:lnTo>
                <a:lnTo>
                  <a:pt x="204" y="228"/>
                </a:lnTo>
                <a:lnTo>
                  <a:pt x="146" y="0"/>
                </a:lnTo>
                <a:lnTo>
                  <a:pt x="146" y="44"/>
                </a:lnTo>
                <a:lnTo>
                  <a:pt x="194" y="230"/>
                </a:lnTo>
                <a:lnTo>
                  <a:pt x="194" y="230"/>
                </a:lnTo>
                <a:lnTo>
                  <a:pt x="206" y="690"/>
                </a:lnTo>
                <a:lnTo>
                  <a:pt x="206" y="690"/>
                </a:lnTo>
                <a:lnTo>
                  <a:pt x="206" y="692"/>
                </a:lnTo>
                <a:lnTo>
                  <a:pt x="206" y="698"/>
                </a:lnTo>
                <a:lnTo>
                  <a:pt x="206" y="696"/>
                </a:lnTo>
                <a:lnTo>
                  <a:pt x="206" y="705"/>
                </a:lnTo>
                <a:lnTo>
                  <a:pt x="206" y="705"/>
                </a:lnTo>
                <a:lnTo>
                  <a:pt x="208" y="715"/>
                </a:lnTo>
                <a:lnTo>
                  <a:pt x="208" y="715"/>
                </a:lnTo>
                <a:lnTo>
                  <a:pt x="208" y="729"/>
                </a:lnTo>
                <a:lnTo>
                  <a:pt x="208" y="742"/>
                </a:lnTo>
                <a:lnTo>
                  <a:pt x="210" y="777"/>
                </a:lnTo>
                <a:lnTo>
                  <a:pt x="210" y="849"/>
                </a:lnTo>
                <a:lnTo>
                  <a:pt x="210" y="866"/>
                </a:lnTo>
                <a:lnTo>
                  <a:pt x="208" y="882"/>
                </a:lnTo>
                <a:lnTo>
                  <a:pt x="208" y="882"/>
                </a:lnTo>
                <a:lnTo>
                  <a:pt x="208" y="895"/>
                </a:lnTo>
                <a:lnTo>
                  <a:pt x="206" y="907"/>
                </a:lnTo>
                <a:lnTo>
                  <a:pt x="206" y="907"/>
                </a:lnTo>
                <a:lnTo>
                  <a:pt x="202" y="915"/>
                </a:lnTo>
                <a:lnTo>
                  <a:pt x="204" y="915"/>
                </a:lnTo>
                <a:lnTo>
                  <a:pt x="198" y="924"/>
                </a:lnTo>
                <a:lnTo>
                  <a:pt x="192" y="936"/>
                </a:lnTo>
                <a:lnTo>
                  <a:pt x="192" y="934"/>
                </a:lnTo>
                <a:lnTo>
                  <a:pt x="187" y="946"/>
                </a:lnTo>
                <a:lnTo>
                  <a:pt x="169" y="967"/>
                </a:lnTo>
                <a:lnTo>
                  <a:pt x="169" y="967"/>
                </a:lnTo>
                <a:lnTo>
                  <a:pt x="150" y="988"/>
                </a:lnTo>
                <a:lnTo>
                  <a:pt x="154" y="988"/>
                </a:lnTo>
                <a:lnTo>
                  <a:pt x="6" y="1010"/>
                </a:lnTo>
                <a:lnTo>
                  <a:pt x="12" y="1016"/>
                </a:lnTo>
                <a:lnTo>
                  <a:pt x="22" y="967"/>
                </a:lnTo>
                <a:lnTo>
                  <a:pt x="51" y="754"/>
                </a:lnTo>
                <a:lnTo>
                  <a:pt x="51" y="756"/>
                </a:lnTo>
                <a:lnTo>
                  <a:pt x="86" y="657"/>
                </a:lnTo>
                <a:lnTo>
                  <a:pt x="86" y="612"/>
                </a:lnTo>
                <a:lnTo>
                  <a:pt x="86" y="614"/>
                </a:lnTo>
                <a:lnTo>
                  <a:pt x="128" y="465"/>
                </a:lnTo>
                <a:lnTo>
                  <a:pt x="138" y="259"/>
                </a:lnTo>
                <a:lnTo>
                  <a:pt x="138" y="261"/>
                </a:lnTo>
                <a:lnTo>
                  <a:pt x="158" y="46"/>
                </a:lnTo>
                <a:lnTo>
                  <a:pt x="158" y="44"/>
                </a:lnTo>
                <a:lnTo>
                  <a:pt x="158" y="42"/>
                </a:lnTo>
                <a:lnTo>
                  <a:pt x="146" y="44"/>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66" name=""/>
          <p:cNvSpPr/>
          <p:nvPr/>
        </p:nvSpPr>
        <p:spPr>
          <a:xfrm>
            <a:off x="3940200" y="4557600"/>
            <a:ext cx="245880" cy="560520"/>
          </a:xfrm>
          <a:custGeom>
            <a:avLst/>
            <a:gdLst/>
            <a:ahLst/>
            <a:rect l="l" t="t" r="r" b="b"/>
            <a:pathLst>
              <a:path w="308" h="706">
                <a:moveTo>
                  <a:pt x="295" y="21"/>
                </a:moveTo>
                <a:lnTo>
                  <a:pt x="283" y="21"/>
                </a:lnTo>
                <a:lnTo>
                  <a:pt x="297" y="76"/>
                </a:lnTo>
                <a:lnTo>
                  <a:pt x="297" y="74"/>
                </a:lnTo>
                <a:lnTo>
                  <a:pt x="289" y="116"/>
                </a:lnTo>
                <a:lnTo>
                  <a:pt x="264" y="419"/>
                </a:lnTo>
                <a:lnTo>
                  <a:pt x="250" y="578"/>
                </a:lnTo>
                <a:lnTo>
                  <a:pt x="250" y="578"/>
                </a:lnTo>
                <a:lnTo>
                  <a:pt x="221" y="690"/>
                </a:lnTo>
                <a:lnTo>
                  <a:pt x="221" y="700"/>
                </a:lnTo>
                <a:lnTo>
                  <a:pt x="227" y="694"/>
                </a:lnTo>
                <a:lnTo>
                  <a:pt x="188" y="690"/>
                </a:lnTo>
                <a:lnTo>
                  <a:pt x="190" y="692"/>
                </a:lnTo>
                <a:lnTo>
                  <a:pt x="147" y="648"/>
                </a:lnTo>
                <a:lnTo>
                  <a:pt x="103" y="628"/>
                </a:lnTo>
                <a:lnTo>
                  <a:pt x="105" y="632"/>
                </a:lnTo>
                <a:lnTo>
                  <a:pt x="99" y="605"/>
                </a:lnTo>
                <a:lnTo>
                  <a:pt x="54" y="574"/>
                </a:lnTo>
                <a:lnTo>
                  <a:pt x="10" y="574"/>
                </a:lnTo>
                <a:lnTo>
                  <a:pt x="13" y="582"/>
                </a:lnTo>
                <a:lnTo>
                  <a:pt x="50" y="527"/>
                </a:lnTo>
                <a:lnTo>
                  <a:pt x="50" y="527"/>
                </a:lnTo>
                <a:lnTo>
                  <a:pt x="178" y="399"/>
                </a:lnTo>
                <a:lnTo>
                  <a:pt x="295" y="21"/>
                </a:lnTo>
                <a:lnTo>
                  <a:pt x="291" y="0"/>
                </a:lnTo>
                <a:lnTo>
                  <a:pt x="169" y="396"/>
                </a:lnTo>
                <a:lnTo>
                  <a:pt x="170" y="394"/>
                </a:lnTo>
                <a:lnTo>
                  <a:pt x="42" y="522"/>
                </a:lnTo>
                <a:lnTo>
                  <a:pt x="0" y="584"/>
                </a:lnTo>
                <a:lnTo>
                  <a:pt x="52" y="584"/>
                </a:lnTo>
                <a:lnTo>
                  <a:pt x="48" y="584"/>
                </a:lnTo>
                <a:lnTo>
                  <a:pt x="91" y="613"/>
                </a:lnTo>
                <a:lnTo>
                  <a:pt x="89" y="609"/>
                </a:lnTo>
                <a:lnTo>
                  <a:pt x="95" y="636"/>
                </a:lnTo>
                <a:lnTo>
                  <a:pt x="141" y="657"/>
                </a:lnTo>
                <a:lnTo>
                  <a:pt x="139" y="655"/>
                </a:lnTo>
                <a:lnTo>
                  <a:pt x="184" y="700"/>
                </a:lnTo>
                <a:lnTo>
                  <a:pt x="231" y="706"/>
                </a:lnTo>
                <a:lnTo>
                  <a:pt x="231" y="690"/>
                </a:lnTo>
                <a:lnTo>
                  <a:pt x="231" y="692"/>
                </a:lnTo>
                <a:lnTo>
                  <a:pt x="260" y="580"/>
                </a:lnTo>
                <a:lnTo>
                  <a:pt x="260" y="580"/>
                </a:lnTo>
                <a:lnTo>
                  <a:pt x="275" y="421"/>
                </a:lnTo>
                <a:lnTo>
                  <a:pt x="298" y="116"/>
                </a:lnTo>
                <a:lnTo>
                  <a:pt x="308" y="74"/>
                </a:lnTo>
                <a:lnTo>
                  <a:pt x="291" y="0"/>
                </a:lnTo>
                <a:lnTo>
                  <a:pt x="29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67" name=""/>
          <p:cNvSpPr/>
          <p:nvPr/>
        </p:nvSpPr>
        <p:spPr>
          <a:xfrm>
            <a:off x="3449520" y="3668760"/>
            <a:ext cx="244440" cy="154080"/>
          </a:xfrm>
          <a:custGeom>
            <a:avLst/>
            <a:gdLst/>
            <a:ahLst/>
            <a:rect l="l" t="t" r="r" b="b"/>
            <a:pathLst>
              <a:path w="309" h="194">
                <a:moveTo>
                  <a:pt x="309" y="66"/>
                </a:moveTo>
                <a:lnTo>
                  <a:pt x="225" y="0"/>
                </a:lnTo>
                <a:lnTo>
                  <a:pt x="138" y="22"/>
                </a:lnTo>
                <a:lnTo>
                  <a:pt x="54" y="22"/>
                </a:lnTo>
                <a:lnTo>
                  <a:pt x="0" y="55"/>
                </a:lnTo>
                <a:lnTo>
                  <a:pt x="4" y="138"/>
                </a:lnTo>
                <a:lnTo>
                  <a:pt x="93" y="194"/>
                </a:lnTo>
                <a:lnTo>
                  <a:pt x="182" y="183"/>
                </a:lnTo>
                <a:lnTo>
                  <a:pt x="309" y="66"/>
                </a:lnTo>
                <a:close/>
              </a:path>
            </a:pathLst>
          </a:custGeom>
          <a:solidFill>
            <a:srgbClr val="e8aa7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68" name=""/>
          <p:cNvSpPr/>
          <p:nvPr/>
        </p:nvSpPr>
        <p:spPr>
          <a:xfrm>
            <a:off x="3471840" y="3675240"/>
            <a:ext cx="209520" cy="129960"/>
          </a:xfrm>
          <a:custGeom>
            <a:avLst/>
            <a:gdLst/>
            <a:ahLst/>
            <a:rect l="l" t="t" r="r" b="b"/>
            <a:pathLst>
              <a:path w="264" h="163">
                <a:moveTo>
                  <a:pt x="264" y="54"/>
                </a:moveTo>
                <a:lnTo>
                  <a:pt x="192" y="0"/>
                </a:lnTo>
                <a:lnTo>
                  <a:pt x="155" y="8"/>
                </a:lnTo>
                <a:lnTo>
                  <a:pt x="117" y="17"/>
                </a:lnTo>
                <a:lnTo>
                  <a:pt x="47" y="17"/>
                </a:lnTo>
                <a:lnTo>
                  <a:pt x="24" y="33"/>
                </a:lnTo>
                <a:lnTo>
                  <a:pt x="0" y="47"/>
                </a:lnTo>
                <a:lnTo>
                  <a:pt x="4" y="116"/>
                </a:lnTo>
                <a:lnTo>
                  <a:pt x="24" y="128"/>
                </a:lnTo>
                <a:lnTo>
                  <a:pt x="43" y="140"/>
                </a:lnTo>
                <a:lnTo>
                  <a:pt x="80" y="163"/>
                </a:lnTo>
                <a:lnTo>
                  <a:pt x="155" y="155"/>
                </a:lnTo>
                <a:lnTo>
                  <a:pt x="210" y="105"/>
                </a:lnTo>
                <a:lnTo>
                  <a:pt x="264" y="54"/>
                </a:lnTo>
                <a:close/>
              </a:path>
            </a:pathLst>
          </a:custGeom>
          <a:solidFill>
            <a:srgbClr val="edb284"/>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69" name=""/>
          <p:cNvSpPr/>
          <p:nvPr/>
        </p:nvSpPr>
        <p:spPr>
          <a:xfrm>
            <a:off x="3492360" y="3681360"/>
            <a:ext cx="173160" cy="108000"/>
          </a:xfrm>
          <a:custGeom>
            <a:avLst/>
            <a:gdLst/>
            <a:ahLst/>
            <a:rect l="l" t="t" r="r" b="b"/>
            <a:pathLst>
              <a:path w="218" h="135">
                <a:moveTo>
                  <a:pt x="218" y="46"/>
                </a:moveTo>
                <a:lnTo>
                  <a:pt x="189" y="23"/>
                </a:lnTo>
                <a:lnTo>
                  <a:pt x="159" y="0"/>
                </a:lnTo>
                <a:lnTo>
                  <a:pt x="128" y="7"/>
                </a:lnTo>
                <a:lnTo>
                  <a:pt x="97" y="15"/>
                </a:lnTo>
                <a:lnTo>
                  <a:pt x="39" y="15"/>
                </a:lnTo>
                <a:lnTo>
                  <a:pt x="20" y="27"/>
                </a:lnTo>
                <a:lnTo>
                  <a:pt x="0" y="39"/>
                </a:lnTo>
                <a:lnTo>
                  <a:pt x="2" y="68"/>
                </a:lnTo>
                <a:lnTo>
                  <a:pt x="4" y="97"/>
                </a:lnTo>
                <a:lnTo>
                  <a:pt x="66" y="135"/>
                </a:lnTo>
                <a:lnTo>
                  <a:pt x="128" y="128"/>
                </a:lnTo>
                <a:lnTo>
                  <a:pt x="218" y="46"/>
                </a:lnTo>
                <a:close/>
              </a:path>
            </a:pathLst>
          </a:custGeom>
          <a:solidFill>
            <a:srgbClr val="f2b78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70" name=""/>
          <p:cNvSpPr/>
          <p:nvPr/>
        </p:nvSpPr>
        <p:spPr>
          <a:xfrm>
            <a:off x="3514680" y="3689280"/>
            <a:ext cx="135000" cy="85680"/>
          </a:xfrm>
          <a:custGeom>
            <a:avLst/>
            <a:gdLst/>
            <a:ahLst/>
            <a:rect l="l" t="t" r="r" b="b"/>
            <a:pathLst>
              <a:path w="170" h="107">
                <a:moveTo>
                  <a:pt x="170" y="37"/>
                </a:moveTo>
                <a:lnTo>
                  <a:pt x="124" y="0"/>
                </a:lnTo>
                <a:lnTo>
                  <a:pt x="77" y="12"/>
                </a:lnTo>
                <a:lnTo>
                  <a:pt x="31" y="12"/>
                </a:lnTo>
                <a:lnTo>
                  <a:pt x="15" y="22"/>
                </a:lnTo>
                <a:lnTo>
                  <a:pt x="0" y="30"/>
                </a:lnTo>
                <a:lnTo>
                  <a:pt x="3" y="76"/>
                </a:lnTo>
                <a:lnTo>
                  <a:pt x="29" y="92"/>
                </a:lnTo>
                <a:lnTo>
                  <a:pt x="52" y="107"/>
                </a:lnTo>
                <a:lnTo>
                  <a:pt x="100" y="101"/>
                </a:lnTo>
                <a:lnTo>
                  <a:pt x="135" y="68"/>
                </a:lnTo>
                <a:lnTo>
                  <a:pt x="170" y="37"/>
                </a:lnTo>
                <a:close/>
              </a:path>
            </a:pathLst>
          </a:custGeom>
          <a:solidFill>
            <a:srgbClr val="f7bc8e"/>
          </a:solidFill>
          <a:ln w="0">
            <a:noFill/>
          </a:ln>
        </p:spPr>
        <p:style>
          <a:lnRef idx="0"/>
          <a:fillRef idx="0"/>
          <a:effectRef idx="0"/>
          <a:fontRef idx="minor"/>
        </p:style>
        <p:txBody>
          <a:bodyPr lIns="90000" rIns="90000" tIns="38880" bIns="38880" anchor="t">
            <a:noAutofit/>
          </a:bodyPr>
          <a:p>
            <a:endParaRPr b="0" lang="en-US" sz="2400" spc="-1" strike="noStrike">
              <a:solidFill>
                <a:srgbClr val="ffff66"/>
              </a:solidFill>
              <a:latin typeface="Times New Roman"/>
            </a:endParaRPr>
          </a:p>
        </p:txBody>
      </p:sp>
      <p:sp>
        <p:nvSpPr>
          <p:cNvPr id="371" name=""/>
          <p:cNvSpPr/>
          <p:nvPr/>
        </p:nvSpPr>
        <p:spPr>
          <a:xfrm>
            <a:off x="3537000" y="3695760"/>
            <a:ext cx="98280" cy="61920"/>
          </a:xfrm>
          <a:custGeom>
            <a:avLst/>
            <a:gdLst/>
            <a:ahLst/>
            <a:rect l="l" t="t" r="r" b="b"/>
            <a:pathLst>
              <a:path w="124" h="78">
                <a:moveTo>
                  <a:pt x="124" y="27"/>
                </a:moveTo>
                <a:lnTo>
                  <a:pt x="106" y="14"/>
                </a:lnTo>
                <a:lnTo>
                  <a:pt x="91" y="0"/>
                </a:lnTo>
                <a:lnTo>
                  <a:pt x="71" y="6"/>
                </a:lnTo>
                <a:lnTo>
                  <a:pt x="54" y="10"/>
                </a:lnTo>
                <a:lnTo>
                  <a:pt x="21" y="10"/>
                </a:lnTo>
                <a:lnTo>
                  <a:pt x="11" y="18"/>
                </a:lnTo>
                <a:lnTo>
                  <a:pt x="0" y="23"/>
                </a:lnTo>
                <a:lnTo>
                  <a:pt x="0" y="39"/>
                </a:lnTo>
                <a:lnTo>
                  <a:pt x="2" y="56"/>
                </a:lnTo>
                <a:lnTo>
                  <a:pt x="19" y="68"/>
                </a:lnTo>
                <a:lnTo>
                  <a:pt x="37" y="78"/>
                </a:lnTo>
                <a:lnTo>
                  <a:pt x="54" y="76"/>
                </a:lnTo>
                <a:lnTo>
                  <a:pt x="71" y="74"/>
                </a:lnTo>
                <a:lnTo>
                  <a:pt x="97" y="51"/>
                </a:lnTo>
                <a:lnTo>
                  <a:pt x="124" y="27"/>
                </a:lnTo>
                <a:close/>
              </a:path>
            </a:pathLst>
          </a:custGeom>
          <a:solidFill>
            <a:srgbClr val="f9bf93"/>
          </a:solidFill>
          <a:ln w="0">
            <a:noFill/>
          </a:ln>
        </p:spPr>
        <p:style>
          <a:lnRef idx="0"/>
          <a:fillRef idx="0"/>
          <a:effectRef idx="0"/>
          <a:fontRef idx="minor"/>
        </p:style>
        <p:txBody>
          <a:bodyPr lIns="90000" rIns="90000" tIns="15120" bIns="15120" anchor="t">
            <a:noAutofit/>
          </a:bodyPr>
          <a:p>
            <a:endParaRPr b="0" lang="en-US" sz="2400" spc="-1" strike="noStrike">
              <a:solidFill>
                <a:srgbClr val="ffff66"/>
              </a:solidFill>
              <a:latin typeface="Times New Roman"/>
            </a:endParaRPr>
          </a:p>
        </p:txBody>
      </p:sp>
      <p:sp>
        <p:nvSpPr>
          <p:cNvPr id="372" name=""/>
          <p:cNvSpPr/>
          <p:nvPr/>
        </p:nvSpPr>
        <p:spPr>
          <a:xfrm>
            <a:off x="3559320" y="3703680"/>
            <a:ext cx="61920" cy="38160"/>
          </a:xfrm>
          <a:custGeom>
            <a:avLst/>
            <a:gdLst/>
            <a:ahLst/>
            <a:rect l="l" t="t" r="r" b="b"/>
            <a:pathLst>
              <a:path w="77" h="48">
                <a:moveTo>
                  <a:pt x="77" y="15"/>
                </a:moveTo>
                <a:lnTo>
                  <a:pt x="56" y="0"/>
                </a:lnTo>
                <a:lnTo>
                  <a:pt x="35" y="6"/>
                </a:lnTo>
                <a:lnTo>
                  <a:pt x="13" y="6"/>
                </a:lnTo>
                <a:lnTo>
                  <a:pt x="0" y="13"/>
                </a:lnTo>
                <a:lnTo>
                  <a:pt x="2" y="35"/>
                </a:lnTo>
                <a:lnTo>
                  <a:pt x="23" y="48"/>
                </a:lnTo>
                <a:lnTo>
                  <a:pt x="44" y="46"/>
                </a:lnTo>
                <a:lnTo>
                  <a:pt x="77" y="15"/>
                </a:lnTo>
                <a:close/>
              </a:path>
            </a:pathLst>
          </a:custGeom>
          <a:solidFill>
            <a:srgbClr val="ffc499"/>
          </a:solidFill>
          <a:ln w="0">
            <a:noFill/>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373" name=""/>
          <p:cNvSpPr/>
          <p:nvPr/>
        </p:nvSpPr>
        <p:spPr>
          <a:xfrm>
            <a:off x="3686040" y="3602160"/>
            <a:ext cx="104760" cy="183960"/>
          </a:xfrm>
          <a:custGeom>
            <a:avLst/>
            <a:gdLst/>
            <a:ahLst/>
            <a:rect l="l" t="t" r="r" b="b"/>
            <a:pathLst>
              <a:path w="132" h="233">
                <a:moveTo>
                  <a:pt x="0" y="0"/>
                </a:moveTo>
                <a:lnTo>
                  <a:pt x="66" y="39"/>
                </a:lnTo>
                <a:lnTo>
                  <a:pt x="105" y="155"/>
                </a:lnTo>
                <a:lnTo>
                  <a:pt x="132" y="221"/>
                </a:lnTo>
                <a:lnTo>
                  <a:pt x="81" y="233"/>
                </a:lnTo>
                <a:lnTo>
                  <a:pt x="21" y="200"/>
                </a:lnTo>
                <a:lnTo>
                  <a:pt x="10" y="95"/>
                </a:lnTo>
                <a:lnTo>
                  <a:pt x="0" y="0"/>
                </a:lnTo>
                <a:close/>
              </a:path>
            </a:pathLst>
          </a:custGeom>
          <a:solidFill>
            <a:srgbClr val="e8aa7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74" name=""/>
          <p:cNvSpPr/>
          <p:nvPr/>
        </p:nvSpPr>
        <p:spPr>
          <a:xfrm>
            <a:off x="3693960" y="3621240"/>
            <a:ext cx="88920" cy="155520"/>
          </a:xfrm>
          <a:custGeom>
            <a:avLst/>
            <a:gdLst/>
            <a:ahLst/>
            <a:rect l="l" t="t" r="r" b="b"/>
            <a:pathLst>
              <a:path w="110" h="196">
                <a:moveTo>
                  <a:pt x="0" y="0"/>
                </a:moveTo>
                <a:lnTo>
                  <a:pt x="56" y="31"/>
                </a:lnTo>
                <a:lnTo>
                  <a:pt x="71" y="82"/>
                </a:lnTo>
                <a:lnTo>
                  <a:pt x="89" y="130"/>
                </a:lnTo>
                <a:lnTo>
                  <a:pt x="110" y="188"/>
                </a:lnTo>
                <a:lnTo>
                  <a:pt x="69" y="196"/>
                </a:lnTo>
                <a:lnTo>
                  <a:pt x="44" y="182"/>
                </a:lnTo>
                <a:lnTo>
                  <a:pt x="17" y="169"/>
                </a:lnTo>
                <a:lnTo>
                  <a:pt x="13" y="124"/>
                </a:lnTo>
                <a:lnTo>
                  <a:pt x="7" y="80"/>
                </a:lnTo>
                <a:lnTo>
                  <a:pt x="3" y="39"/>
                </a:lnTo>
                <a:lnTo>
                  <a:pt x="0" y="0"/>
                </a:lnTo>
                <a:close/>
              </a:path>
            </a:pathLst>
          </a:custGeom>
          <a:solidFill>
            <a:srgbClr val="edb284"/>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75" name=""/>
          <p:cNvSpPr/>
          <p:nvPr/>
        </p:nvSpPr>
        <p:spPr>
          <a:xfrm>
            <a:off x="3701880" y="3637080"/>
            <a:ext cx="74880" cy="129960"/>
          </a:xfrm>
          <a:custGeom>
            <a:avLst/>
            <a:gdLst/>
            <a:ahLst/>
            <a:rect l="l" t="t" r="r" b="b"/>
            <a:pathLst>
              <a:path w="93" h="162">
                <a:moveTo>
                  <a:pt x="0" y="0"/>
                </a:moveTo>
                <a:lnTo>
                  <a:pt x="23" y="13"/>
                </a:lnTo>
                <a:lnTo>
                  <a:pt x="47" y="27"/>
                </a:lnTo>
                <a:lnTo>
                  <a:pt x="60" y="65"/>
                </a:lnTo>
                <a:lnTo>
                  <a:pt x="72" y="106"/>
                </a:lnTo>
                <a:lnTo>
                  <a:pt x="84" y="129"/>
                </a:lnTo>
                <a:lnTo>
                  <a:pt x="87" y="141"/>
                </a:lnTo>
                <a:lnTo>
                  <a:pt x="93" y="155"/>
                </a:lnTo>
                <a:lnTo>
                  <a:pt x="58" y="162"/>
                </a:lnTo>
                <a:lnTo>
                  <a:pt x="14" y="137"/>
                </a:lnTo>
                <a:lnTo>
                  <a:pt x="14" y="120"/>
                </a:lnTo>
                <a:lnTo>
                  <a:pt x="12" y="102"/>
                </a:lnTo>
                <a:lnTo>
                  <a:pt x="8" y="65"/>
                </a:lnTo>
                <a:lnTo>
                  <a:pt x="0" y="0"/>
                </a:lnTo>
                <a:close/>
              </a:path>
            </a:pathLst>
          </a:custGeom>
          <a:solidFill>
            <a:srgbClr val="f2b78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76" name=""/>
          <p:cNvSpPr/>
          <p:nvPr/>
        </p:nvSpPr>
        <p:spPr>
          <a:xfrm>
            <a:off x="3710160" y="3654360"/>
            <a:ext cx="56880" cy="100080"/>
          </a:xfrm>
          <a:custGeom>
            <a:avLst/>
            <a:gdLst/>
            <a:ahLst/>
            <a:rect l="l" t="t" r="r" b="b"/>
            <a:pathLst>
              <a:path w="72" h="126">
                <a:moveTo>
                  <a:pt x="0" y="0"/>
                </a:moveTo>
                <a:lnTo>
                  <a:pt x="17" y="11"/>
                </a:lnTo>
                <a:lnTo>
                  <a:pt x="37" y="21"/>
                </a:lnTo>
                <a:lnTo>
                  <a:pt x="46" y="52"/>
                </a:lnTo>
                <a:lnTo>
                  <a:pt x="56" y="85"/>
                </a:lnTo>
                <a:lnTo>
                  <a:pt x="72" y="122"/>
                </a:lnTo>
                <a:lnTo>
                  <a:pt x="58" y="124"/>
                </a:lnTo>
                <a:lnTo>
                  <a:pt x="46" y="126"/>
                </a:lnTo>
                <a:lnTo>
                  <a:pt x="29" y="118"/>
                </a:lnTo>
                <a:lnTo>
                  <a:pt x="12" y="108"/>
                </a:lnTo>
                <a:lnTo>
                  <a:pt x="8" y="79"/>
                </a:lnTo>
                <a:lnTo>
                  <a:pt x="6" y="50"/>
                </a:lnTo>
                <a:lnTo>
                  <a:pt x="0" y="0"/>
                </a:lnTo>
                <a:close/>
              </a:path>
            </a:pathLst>
          </a:custGeom>
          <a:solidFill>
            <a:srgbClr val="f7bc8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77" name=""/>
          <p:cNvSpPr/>
          <p:nvPr/>
        </p:nvSpPr>
        <p:spPr>
          <a:xfrm>
            <a:off x="3718080" y="3672000"/>
            <a:ext cx="41040" cy="73080"/>
          </a:xfrm>
          <a:custGeom>
            <a:avLst/>
            <a:gdLst/>
            <a:ahLst/>
            <a:rect l="l" t="t" r="r" b="b"/>
            <a:pathLst>
              <a:path w="52" h="93">
                <a:moveTo>
                  <a:pt x="0" y="0"/>
                </a:moveTo>
                <a:lnTo>
                  <a:pt x="27" y="16"/>
                </a:lnTo>
                <a:lnTo>
                  <a:pt x="35" y="39"/>
                </a:lnTo>
                <a:lnTo>
                  <a:pt x="42" y="62"/>
                </a:lnTo>
                <a:lnTo>
                  <a:pt x="48" y="76"/>
                </a:lnTo>
                <a:lnTo>
                  <a:pt x="52" y="89"/>
                </a:lnTo>
                <a:lnTo>
                  <a:pt x="33" y="93"/>
                </a:lnTo>
                <a:lnTo>
                  <a:pt x="21" y="87"/>
                </a:lnTo>
                <a:lnTo>
                  <a:pt x="7" y="80"/>
                </a:lnTo>
                <a:lnTo>
                  <a:pt x="5" y="39"/>
                </a:lnTo>
                <a:lnTo>
                  <a:pt x="2" y="20"/>
                </a:lnTo>
                <a:lnTo>
                  <a:pt x="0" y="0"/>
                </a:lnTo>
                <a:close/>
              </a:path>
            </a:pathLst>
          </a:custGeom>
          <a:solidFill>
            <a:srgbClr val="f9bf93"/>
          </a:solidFill>
          <a:ln w="0">
            <a:noFill/>
          </a:ln>
        </p:spPr>
        <p:style>
          <a:lnRef idx="0"/>
          <a:fillRef idx="0"/>
          <a:effectRef idx="0"/>
          <a:fontRef idx="minor"/>
        </p:style>
        <p:txBody>
          <a:bodyPr lIns="90000" rIns="90000" tIns="26280" bIns="26280" anchor="t">
            <a:noAutofit/>
          </a:bodyPr>
          <a:p>
            <a:endParaRPr b="0" lang="en-US" sz="2400" spc="-1" strike="noStrike">
              <a:solidFill>
                <a:srgbClr val="ffff66"/>
              </a:solidFill>
              <a:latin typeface="Times New Roman"/>
            </a:endParaRPr>
          </a:p>
        </p:txBody>
      </p:sp>
      <p:sp>
        <p:nvSpPr>
          <p:cNvPr id="378" name=""/>
          <p:cNvSpPr/>
          <p:nvPr/>
        </p:nvSpPr>
        <p:spPr>
          <a:xfrm>
            <a:off x="3726000" y="3689280"/>
            <a:ext cx="25200" cy="44640"/>
          </a:xfrm>
          <a:custGeom>
            <a:avLst/>
            <a:gdLst/>
            <a:ahLst/>
            <a:rect l="l" t="t" r="r" b="b"/>
            <a:pathLst>
              <a:path w="33" h="57">
                <a:moveTo>
                  <a:pt x="0" y="0"/>
                </a:moveTo>
                <a:lnTo>
                  <a:pt x="18" y="8"/>
                </a:lnTo>
                <a:lnTo>
                  <a:pt x="27" y="37"/>
                </a:lnTo>
                <a:lnTo>
                  <a:pt x="33" y="55"/>
                </a:lnTo>
                <a:lnTo>
                  <a:pt x="22" y="57"/>
                </a:lnTo>
                <a:lnTo>
                  <a:pt x="6" y="49"/>
                </a:lnTo>
                <a:lnTo>
                  <a:pt x="2" y="24"/>
                </a:lnTo>
                <a:lnTo>
                  <a:pt x="0" y="0"/>
                </a:lnTo>
                <a:close/>
              </a:path>
            </a:pathLst>
          </a:custGeom>
          <a:solidFill>
            <a:srgbClr val="ffc499"/>
          </a:solidFill>
          <a:ln w="0">
            <a:noFill/>
          </a:ln>
        </p:spPr>
        <p:style>
          <a:lnRef idx="0"/>
          <a:fillRef idx="0"/>
          <a:effectRef idx="0"/>
          <a:fontRef idx="minor"/>
        </p:style>
        <p:txBody>
          <a:bodyPr lIns="90000" rIns="90000" tIns="-2160" bIns="-2160" anchor="t">
            <a:noAutofit/>
          </a:bodyPr>
          <a:p>
            <a:endParaRPr b="0" lang="en-US" sz="2400" spc="-1" strike="noStrike">
              <a:solidFill>
                <a:srgbClr val="ffff66"/>
              </a:solidFill>
              <a:latin typeface="Times New Roman"/>
            </a:endParaRPr>
          </a:p>
        </p:txBody>
      </p:sp>
      <p:sp>
        <p:nvSpPr>
          <p:cNvPr id="379" name=""/>
          <p:cNvSpPr/>
          <p:nvPr/>
        </p:nvSpPr>
        <p:spPr>
          <a:xfrm>
            <a:off x="2736720" y="2820960"/>
            <a:ext cx="427320" cy="1030320"/>
          </a:xfrm>
          <a:custGeom>
            <a:avLst/>
            <a:gdLst/>
            <a:ahLst/>
            <a:rect l="l" t="t" r="r" b="b"/>
            <a:pathLst>
              <a:path w="537" h="1297">
                <a:moveTo>
                  <a:pt x="392" y="101"/>
                </a:moveTo>
                <a:lnTo>
                  <a:pt x="340" y="56"/>
                </a:lnTo>
                <a:lnTo>
                  <a:pt x="196" y="0"/>
                </a:lnTo>
                <a:lnTo>
                  <a:pt x="35" y="56"/>
                </a:lnTo>
                <a:lnTo>
                  <a:pt x="35" y="105"/>
                </a:lnTo>
                <a:lnTo>
                  <a:pt x="80" y="122"/>
                </a:lnTo>
                <a:lnTo>
                  <a:pt x="35" y="238"/>
                </a:lnTo>
                <a:lnTo>
                  <a:pt x="35" y="238"/>
                </a:lnTo>
                <a:lnTo>
                  <a:pt x="35" y="240"/>
                </a:lnTo>
                <a:lnTo>
                  <a:pt x="35" y="244"/>
                </a:lnTo>
                <a:lnTo>
                  <a:pt x="33" y="248"/>
                </a:lnTo>
                <a:lnTo>
                  <a:pt x="31" y="260"/>
                </a:lnTo>
                <a:lnTo>
                  <a:pt x="29" y="273"/>
                </a:lnTo>
                <a:lnTo>
                  <a:pt x="25" y="291"/>
                </a:lnTo>
                <a:lnTo>
                  <a:pt x="24" y="310"/>
                </a:lnTo>
                <a:lnTo>
                  <a:pt x="20" y="333"/>
                </a:lnTo>
                <a:lnTo>
                  <a:pt x="16" y="355"/>
                </a:lnTo>
                <a:lnTo>
                  <a:pt x="8" y="403"/>
                </a:lnTo>
                <a:lnTo>
                  <a:pt x="6" y="426"/>
                </a:lnTo>
                <a:lnTo>
                  <a:pt x="4" y="448"/>
                </a:lnTo>
                <a:lnTo>
                  <a:pt x="2" y="469"/>
                </a:lnTo>
                <a:lnTo>
                  <a:pt x="0" y="487"/>
                </a:lnTo>
                <a:lnTo>
                  <a:pt x="0" y="502"/>
                </a:lnTo>
                <a:lnTo>
                  <a:pt x="2" y="514"/>
                </a:lnTo>
                <a:lnTo>
                  <a:pt x="6" y="525"/>
                </a:lnTo>
                <a:lnTo>
                  <a:pt x="10" y="535"/>
                </a:lnTo>
                <a:lnTo>
                  <a:pt x="22" y="560"/>
                </a:lnTo>
                <a:lnTo>
                  <a:pt x="35" y="583"/>
                </a:lnTo>
                <a:lnTo>
                  <a:pt x="51" y="607"/>
                </a:lnTo>
                <a:lnTo>
                  <a:pt x="66" y="626"/>
                </a:lnTo>
                <a:lnTo>
                  <a:pt x="74" y="634"/>
                </a:lnTo>
                <a:lnTo>
                  <a:pt x="80" y="642"/>
                </a:lnTo>
                <a:lnTo>
                  <a:pt x="84" y="649"/>
                </a:lnTo>
                <a:lnTo>
                  <a:pt x="89" y="653"/>
                </a:lnTo>
                <a:lnTo>
                  <a:pt x="91" y="657"/>
                </a:lnTo>
                <a:lnTo>
                  <a:pt x="91" y="657"/>
                </a:lnTo>
                <a:lnTo>
                  <a:pt x="113" y="585"/>
                </a:lnTo>
                <a:lnTo>
                  <a:pt x="113" y="570"/>
                </a:lnTo>
                <a:lnTo>
                  <a:pt x="115" y="556"/>
                </a:lnTo>
                <a:lnTo>
                  <a:pt x="119" y="543"/>
                </a:lnTo>
                <a:lnTo>
                  <a:pt x="120" y="537"/>
                </a:lnTo>
                <a:lnTo>
                  <a:pt x="124" y="531"/>
                </a:lnTo>
                <a:lnTo>
                  <a:pt x="128" y="529"/>
                </a:lnTo>
                <a:lnTo>
                  <a:pt x="134" y="527"/>
                </a:lnTo>
                <a:lnTo>
                  <a:pt x="140" y="529"/>
                </a:lnTo>
                <a:lnTo>
                  <a:pt x="148" y="533"/>
                </a:lnTo>
                <a:lnTo>
                  <a:pt x="157" y="541"/>
                </a:lnTo>
                <a:lnTo>
                  <a:pt x="169" y="552"/>
                </a:lnTo>
                <a:lnTo>
                  <a:pt x="188" y="580"/>
                </a:lnTo>
                <a:lnTo>
                  <a:pt x="206" y="605"/>
                </a:lnTo>
                <a:lnTo>
                  <a:pt x="217" y="630"/>
                </a:lnTo>
                <a:lnTo>
                  <a:pt x="227" y="655"/>
                </a:lnTo>
                <a:lnTo>
                  <a:pt x="233" y="678"/>
                </a:lnTo>
                <a:lnTo>
                  <a:pt x="237" y="698"/>
                </a:lnTo>
                <a:lnTo>
                  <a:pt x="241" y="715"/>
                </a:lnTo>
                <a:lnTo>
                  <a:pt x="241" y="731"/>
                </a:lnTo>
                <a:lnTo>
                  <a:pt x="241" y="737"/>
                </a:lnTo>
                <a:lnTo>
                  <a:pt x="239" y="744"/>
                </a:lnTo>
                <a:lnTo>
                  <a:pt x="235" y="764"/>
                </a:lnTo>
                <a:lnTo>
                  <a:pt x="221" y="808"/>
                </a:lnTo>
                <a:lnTo>
                  <a:pt x="214" y="830"/>
                </a:lnTo>
                <a:lnTo>
                  <a:pt x="212" y="839"/>
                </a:lnTo>
                <a:lnTo>
                  <a:pt x="208" y="847"/>
                </a:lnTo>
                <a:lnTo>
                  <a:pt x="206" y="853"/>
                </a:lnTo>
                <a:lnTo>
                  <a:pt x="204" y="859"/>
                </a:lnTo>
                <a:lnTo>
                  <a:pt x="204" y="863"/>
                </a:lnTo>
                <a:lnTo>
                  <a:pt x="202" y="863"/>
                </a:lnTo>
                <a:lnTo>
                  <a:pt x="119" y="932"/>
                </a:lnTo>
                <a:lnTo>
                  <a:pt x="223" y="983"/>
                </a:lnTo>
                <a:lnTo>
                  <a:pt x="256" y="973"/>
                </a:lnTo>
                <a:lnTo>
                  <a:pt x="258" y="973"/>
                </a:lnTo>
                <a:lnTo>
                  <a:pt x="258" y="979"/>
                </a:lnTo>
                <a:lnTo>
                  <a:pt x="262" y="985"/>
                </a:lnTo>
                <a:lnTo>
                  <a:pt x="264" y="995"/>
                </a:lnTo>
                <a:lnTo>
                  <a:pt x="266" y="1004"/>
                </a:lnTo>
                <a:lnTo>
                  <a:pt x="270" y="1018"/>
                </a:lnTo>
                <a:lnTo>
                  <a:pt x="270" y="1029"/>
                </a:lnTo>
                <a:lnTo>
                  <a:pt x="268" y="1045"/>
                </a:lnTo>
                <a:lnTo>
                  <a:pt x="266" y="1053"/>
                </a:lnTo>
                <a:lnTo>
                  <a:pt x="266" y="1062"/>
                </a:lnTo>
                <a:lnTo>
                  <a:pt x="262" y="1086"/>
                </a:lnTo>
                <a:lnTo>
                  <a:pt x="254" y="1136"/>
                </a:lnTo>
                <a:lnTo>
                  <a:pt x="250" y="1161"/>
                </a:lnTo>
                <a:lnTo>
                  <a:pt x="248" y="1181"/>
                </a:lnTo>
                <a:lnTo>
                  <a:pt x="247" y="1188"/>
                </a:lnTo>
                <a:lnTo>
                  <a:pt x="247" y="1194"/>
                </a:lnTo>
                <a:lnTo>
                  <a:pt x="247" y="1196"/>
                </a:lnTo>
                <a:lnTo>
                  <a:pt x="247" y="1198"/>
                </a:lnTo>
                <a:lnTo>
                  <a:pt x="295" y="1276"/>
                </a:lnTo>
                <a:lnTo>
                  <a:pt x="392" y="1297"/>
                </a:lnTo>
                <a:lnTo>
                  <a:pt x="404" y="1254"/>
                </a:lnTo>
                <a:lnTo>
                  <a:pt x="433" y="1231"/>
                </a:lnTo>
                <a:lnTo>
                  <a:pt x="462" y="1239"/>
                </a:lnTo>
                <a:lnTo>
                  <a:pt x="491" y="1258"/>
                </a:lnTo>
                <a:lnTo>
                  <a:pt x="491" y="1249"/>
                </a:lnTo>
                <a:lnTo>
                  <a:pt x="497" y="1225"/>
                </a:lnTo>
                <a:lnTo>
                  <a:pt x="485" y="1148"/>
                </a:lnTo>
                <a:lnTo>
                  <a:pt x="458" y="1086"/>
                </a:lnTo>
                <a:lnTo>
                  <a:pt x="452" y="993"/>
                </a:lnTo>
                <a:lnTo>
                  <a:pt x="462" y="983"/>
                </a:lnTo>
                <a:lnTo>
                  <a:pt x="472" y="983"/>
                </a:lnTo>
                <a:lnTo>
                  <a:pt x="510" y="993"/>
                </a:lnTo>
                <a:lnTo>
                  <a:pt x="524" y="969"/>
                </a:lnTo>
                <a:lnTo>
                  <a:pt x="537" y="905"/>
                </a:lnTo>
                <a:lnTo>
                  <a:pt x="530" y="785"/>
                </a:lnTo>
                <a:lnTo>
                  <a:pt x="481" y="626"/>
                </a:lnTo>
                <a:lnTo>
                  <a:pt x="462" y="591"/>
                </a:lnTo>
                <a:lnTo>
                  <a:pt x="423" y="564"/>
                </a:lnTo>
                <a:lnTo>
                  <a:pt x="409" y="432"/>
                </a:lnTo>
                <a:lnTo>
                  <a:pt x="361" y="287"/>
                </a:lnTo>
                <a:lnTo>
                  <a:pt x="369" y="277"/>
                </a:lnTo>
                <a:lnTo>
                  <a:pt x="369" y="273"/>
                </a:lnTo>
                <a:lnTo>
                  <a:pt x="394" y="258"/>
                </a:lnTo>
                <a:lnTo>
                  <a:pt x="427" y="254"/>
                </a:lnTo>
                <a:lnTo>
                  <a:pt x="427" y="240"/>
                </a:lnTo>
                <a:lnTo>
                  <a:pt x="433" y="234"/>
                </a:lnTo>
                <a:lnTo>
                  <a:pt x="433" y="147"/>
                </a:lnTo>
                <a:lnTo>
                  <a:pt x="429" y="141"/>
                </a:lnTo>
                <a:lnTo>
                  <a:pt x="392" y="101"/>
                </a:lnTo>
                <a:close/>
              </a:path>
            </a:pathLst>
          </a:custGeom>
          <a:solidFill>
            <a:srgbClr val="a83f1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80" name=""/>
          <p:cNvSpPr/>
          <p:nvPr/>
        </p:nvSpPr>
        <p:spPr>
          <a:xfrm>
            <a:off x="3122640" y="2927520"/>
            <a:ext cx="763560" cy="544320"/>
          </a:xfrm>
          <a:custGeom>
            <a:avLst/>
            <a:gdLst/>
            <a:ahLst/>
            <a:rect l="l" t="t" r="r" b="b"/>
            <a:pathLst>
              <a:path w="964" h="684">
                <a:moveTo>
                  <a:pt x="82" y="401"/>
                </a:moveTo>
                <a:lnTo>
                  <a:pt x="82" y="405"/>
                </a:lnTo>
                <a:lnTo>
                  <a:pt x="80" y="411"/>
                </a:lnTo>
                <a:lnTo>
                  <a:pt x="80" y="417"/>
                </a:lnTo>
                <a:lnTo>
                  <a:pt x="80" y="432"/>
                </a:lnTo>
                <a:lnTo>
                  <a:pt x="80" y="449"/>
                </a:lnTo>
                <a:lnTo>
                  <a:pt x="82" y="490"/>
                </a:lnTo>
                <a:lnTo>
                  <a:pt x="82" y="508"/>
                </a:lnTo>
                <a:lnTo>
                  <a:pt x="83" y="515"/>
                </a:lnTo>
                <a:lnTo>
                  <a:pt x="85" y="523"/>
                </a:lnTo>
                <a:lnTo>
                  <a:pt x="89" y="531"/>
                </a:lnTo>
                <a:lnTo>
                  <a:pt x="93" y="541"/>
                </a:lnTo>
                <a:lnTo>
                  <a:pt x="97" y="550"/>
                </a:lnTo>
                <a:lnTo>
                  <a:pt x="101" y="562"/>
                </a:lnTo>
                <a:lnTo>
                  <a:pt x="113" y="589"/>
                </a:lnTo>
                <a:lnTo>
                  <a:pt x="124" y="616"/>
                </a:lnTo>
                <a:lnTo>
                  <a:pt x="134" y="641"/>
                </a:lnTo>
                <a:lnTo>
                  <a:pt x="140" y="653"/>
                </a:lnTo>
                <a:lnTo>
                  <a:pt x="146" y="663"/>
                </a:lnTo>
                <a:lnTo>
                  <a:pt x="147" y="671"/>
                </a:lnTo>
                <a:lnTo>
                  <a:pt x="151" y="678"/>
                </a:lnTo>
                <a:lnTo>
                  <a:pt x="151" y="682"/>
                </a:lnTo>
                <a:lnTo>
                  <a:pt x="153" y="684"/>
                </a:lnTo>
                <a:lnTo>
                  <a:pt x="169" y="574"/>
                </a:lnTo>
                <a:lnTo>
                  <a:pt x="258" y="475"/>
                </a:lnTo>
                <a:lnTo>
                  <a:pt x="258" y="473"/>
                </a:lnTo>
                <a:lnTo>
                  <a:pt x="260" y="471"/>
                </a:lnTo>
                <a:lnTo>
                  <a:pt x="262" y="465"/>
                </a:lnTo>
                <a:lnTo>
                  <a:pt x="264" y="459"/>
                </a:lnTo>
                <a:lnTo>
                  <a:pt x="270" y="446"/>
                </a:lnTo>
                <a:lnTo>
                  <a:pt x="279" y="430"/>
                </a:lnTo>
                <a:lnTo>
                  <a:pt x="289" y="417"/>
                </a:lnTo>
                <a:lnTo>
                  <a:pt x="299" y="405"/>
                </a:lnTo>
                <a:lnTo>
                  <a:pt x="306" y="399"/>
                </a:lnTo>
                <a:lnTo>
                  <a:pt x="310" y="397"/>
                </a:lnTo>
                <a:lnTo>
                  <a:pt x="318" y="395"/>
                </a:lnTo>
                <a:lnTo>
                  <a:pt x="324" y="397"/>
                </a:lnTo>
                <a:lnTo>
                  <a:pt x="330" y="399"/>
                </a:lnTo>
                <a:lnTo>
                  <a:pt x="336" y="405"/>
                </a:lnTo>
                <a:lnTo>
                  <a:pt x="349" y="417"/>
                </a:lnTo>
                <a:lnTo>
                  <a:pt x="361" y="434"/>
                </a:lnTo>
                <a:lnTo>
                  <a:pt x="372" y="451"/>
                </a:lnTo>
                <a:lnTo>
                  <a:pt x="382" y="467"/>
                </a:lnTo>
                <a:lnTo>
                  <a:pt x="390" y="482"/>
                </a:lnTo>
                <a:lnTo>
                  <a:pt x="392" y="488"/>
                </a:lnTo>
                <a:lnTo>
                  <a:pt x="394" y="492"/>
                </a:lnTo>
                <a:lnTo>
                  <a:pt x="396" y="496"/>
                </a:lnTo>
                <a:lnTo>
                  <a:pt x="396" y="496"/>
                </a:lnTo>
                <a:lnTo>
                  <a:pt x="423" y="397"/>
                </a:lnTo>
                <a:lnTo>
                  <a:pt x="390" y="335"/>
                </a:lnTo>
                <a:lnTo>
                  <a:pt x="396" y="333"/>
                </a:lnTo>
                <a:lnTo>
                  <a:pt x="403" y="331"/>
                </a:lnTo>
                <a:lnTo>
                  <a:pt x="419" y="327"/>
                </a:lnTo>
                <a:lnTo>
                  <a:pt x="456" y="321"/>
                </a:lnTo>
                <a:lnTo>
                  <a:pt x="473" y="320"/>
                </a:lnTo>
                <a:lnTo>
                  <a:pt x="487" y="320"/>
                </a:lnTo>
                <a:lnTo>
                  <a:pt x="502" y="320"/>
                </a:lnTo>
                <a:lnTo>
                  <a:pt x="578" y="358"/>
                </a:lnTo>
                <a:lnTo>
                  <a:pt x="617" y="325"/>
                </a:lnTo>
                <a:lnTo>
                  <a:pt x="578" y="259"/>
                </a:lnTo>
                <a:lnTo>
                  <a:pt x="605" y="254"/>
                </a:lnTo>
                <a:lnTo>
                  <a:pt x="733" y="259"/>
                </a:lnTo>
                <a:lnTo>
                  <a:pt x="805" y="325"/>
                </a:lnTo>
                <a:lnTo>
                  <a:pt x="853" y="409"/>
                </a:lnTo>
                <a:lnTo>
                  <a:pt x="855" y="407"/>
                </a:lnTo>
                <a:lnTo>
                  <a:pt x="857" y="401"/>
                </a:lnTo>
                <a:lnTo>
                  <a:pt x="861" y="393"/>
                </a:lnTo>
                <a:lnTo>
                  <a:pt x="865" y="385"/>
                </a:lnTo>
                <a:lnTo>
                  <a:pt x="869" y="374"/>
                </a:lnTo>
                <a:lnTo>
                  <a:pt x="871" y="364"/>
                </a:lnTo>
                <a:lnTo>
                  <a:pt x="873" y="353"/>
                </a:lnTo>
                <a:lnTo>
                  <a:pt x="871" y="341"/>
                </a:lnTo>
                <a:lnTo>
                  <a:pt x="869" y="335"/>
                </a:lnTo>
                <a:lnTo>
                  <a:pt x="869" y="327"/>
                </a:lnTo>
                <a:lnTo>
                  <a:pt x="865" y="312"/>
                </a:lnTo>
                <a:lnTo>
                  <a:pt x="859" y="273"/>
                </a:lnTo>
                <a:lnTo>
                  <a:pt x="855" y="256"/>
                </a:lnTo>
                <a:lnTo>
                  <a:pt x="851" y="240"/>
                </a:lnTo>
                <a:lnTo>
                  <a:pt x="851" y="234"/>
                </a:lnTo>
                <a:lnTo>
                  <a:pt x="850" y="230"/>
                </a:lnTo>
                <a:lnTo>
                  <a:pt x="850" y="226"/>
                </a:lnTo>
                <a:lnTo>
                  <a:pt x="850" y="226"/>
                </a:lnTo>
                <a:lnTo>
                  <a:pt x="844" y="192"/>
                </a:lnTo>
                <a:lnTo>
                  <a:pt x="915" y="188"/>
                </a:lnTo>
                <a:lnTo>
                  <a:pt x="917" y="188"/>
                </a:lnTo>
                <a:lnTo>
                  <a:pt x="919" y="190"/>
                </a:lnTo>
                <a:lnTo>
                  <a:pt x="921" y="192"/>
                </a:lnTo>
                <a:lnTo>
                  <a:pt x="925" y="195"/>
                </a:lnTo>
                <a:lnTo>
                  <a:pt x="946" y="211"/>
                </a:lnTo>
                <a:lnTo>
                  <a:pt x="954" y="217"/>
                </a:lnTo>
                <a:lnTo>
                  <a:pt x="958" y="217"/>
                </a:lnTo>
                <a:lnTo>
                  <a:pt x="962" y="217"/>
                </a:lnTo>
                <a:lnTo>
                  <a:pt x="964" y="215"/>
                </a:lnTo>
                <a:lnTo>
                  <a:pt x="964" y="213"/>
                </a:lnTo>
                <a:lnTo>
                  <a:pt x="962" y="207"/>
                </a:lnTo>
                <a:lnTo>
                  <a:pt x="958" y="199"/>
                </a:lnTo>
                <a:lnTo>
                  <a:pt x="952" y="188"/>
                </a:lnTo>
                <a:lnTo>
                  <a:pt x="945" y="176"/>
                </a:lnTo>
                <a:lnTo>
                  <a:pt x="933" y="168"/>
                </a:lnTo>
                <a:lnTo>
                  <a:pt x="923" y="161"/>
                </a:lnTo>
                <a:lnTo>
                  <a:pt x="910" y="155"/>
                </a:lnTo>
                <a:lnTo>
                  <a:pt x="900" y="149"/>
                </a:lnTo>
                <a:lnTo>
                  <a:pt x="888" y="145"/>
                </a:lnTo>
                <a:lnTo>
                  <a:pt x="877" y="143"/>
                </a:lnTo>
                <a:lnTo>
                  <a:pt x="836" y="149"/>
                </a:lnTo>
                <a:lnTo>
                  <a:pt x="818" y="130"/>
                </a:lnTo>
                <a:lnTo>
                  <a:pt x="822" y="124"/>
                </a:lnTo>
                <a:lnTo>
                  <a:pt x="793" y="91"/>
                </a:lnTo>
                <a:lnTo>
                  <a:pt x="797" y="85"/>
                </a:lnTo>
                <a:lnTo>
                  <a:pt x="784" y="71"/>
                </a:lnTo>
                <a:lnTo>
                  <a:pt x="704" y="3"/>
                </a:lnTo>
                <a:lnTo>
                  <a:pt x="562" y="0"/>
                </a:lnTo>
                <a:lnTo>
                  <a:pt x="562" y="0"/>
                </a:lnTo>
                <a:lnTo>
                  <a:pt x="562" y="2"/>
                </a:lnTo>
                <a:lnTo>
                  <a:pt x="564" y="3"/>
                </a:lnTo>
                <a:lnTo>
                  <a:pt x="566" y="9"/>
                </a:lnTo>
                <a:lnTo>
                  <a:pt x="568" y="15"/>
                </a:lnTo>
                <a:lnTo>
                  <a:pt x="570" y="23"/>
                </a:lnTo>
                <a:lnTo>
                  <a:pt x="574" y="33"/>
                </a:lnTo>
                <a:lnTo>
                  <a:pt x="578" y="44"/>
                </a:lnTo>
                <a:lnTo>
                  <a:pt x="586" y="69"/>
                </a:lnTo>
                <a:lnTo>
                  <a:pt x="588" y="81"/>
                </a:lnTo>
                <a:lnTo>
                  <a:pt x="590" y="91"/>
                </a:lnTo>
                <a:lnTo>
                  <a:pt x="590" y="99"/>
                </a:lnTo>
                <a:lnTo>
                  <a:pt x="586" y="104"/>
                </a:lnTo>
                <a:lnTo>
                  <a:pt x="584" y="106"/>
                </a:lnTo>
                <a:lnTo>
                  <a:pt x="578" y="106"/>
                </a:lnTo>
                <a:lnTo>
                  <a:pt x="572" y="104"/>
                </a:lnTo>
                <a:lnTo>
                  <a:pt x="562" y="100"/>
                </a:lnTo>
                <a:lnTo>
                  <a:pt x="551" y="93"/>
                </a:lnTo>
                <a:lnTo>
                  <a:pt x="528" y="79"/>
                </a:lnTo>
                <a:lnTo>
                  <a:pt x="506" y="66"/>
                </a:lnTo>
                <a:lnTo>
                  <a:pt x="495" y="60"/>
                </a:lnTo>
                <a:lnTo>
                  <a:pt x="483" y="54"/>
                </a:lnTo>
                <a:lnTo>
                  <a:pt x="477" y="52"/>
                </a:lnTo>
                <a:lnTo>
                  <a:pt x="469" y="52"/>
                </a:lnTo>
                <a:lnTo>
                  <a:pt x="462" y="50"/>
                </a:lnTo>
                <a:lnTo>
                  <a:pt x="450" y="48"/>
                </a:lnTo>
                <a:lnTo>
                  <a:pt x="438" y="48"/>
                </a:lnTo>
                <a:lnTo>
                  <a:pt x="427" y="48"/>
                </a:lnTo>
                <a:lnTo>
                  <a:pt x="336" y="48"/>
                </a:lnTo>
                <a:lnTo>
                  <a:pt x="270" y="48"/>
                </a:lnTo>
                <a:lnTo>
                  <a:pt x="254" y="48"/>
                </a:lnTo>
                <a:lnTo>
                  <a:pt x="241" y="52"/>
                </a:lnTo>
                <a:lnTo>
                  <a:pt x="229" y="56"/>
                </a:lnTo>
                <a:lnTo>
                  <a:pt x="221" y="62"/>
                </a:lnTo>
                <a:lnTo>
                  <a:pt x="215" y="69"/>
                </a:lnTo>
                <a:lnTo>
                  <a:pt x="210" y="77"/>
                </a:lnTo>
                <a:lnTo>
                  <a:pt x="206" y="85"/>
                </a:lnTo>
                <a:lnTo>
                  <a:pt x="202" y="93"/>
                </a:lnTo>
                <a:lnTo>
                  <a:pt x="200" y="108"/>
                </a:lnTo>
                <a:lnTo>
                  <a:pt x="200" y="124"/>
                </a:lnTo>
                <a:lnTo>
                  <a:pt x="200" y="130"/>
                </a:lnTo>
                <a:lnTo>
                  <a:pt x="202" y="133"/>
                </a:lnTo>
                <a:lnTo>
                  <a:pt x="202" y="137"/>
                </a:lnTo>
                <a:lnTo>
                  <a:pt x="202" y="137"/>
                </a:lnTo>
                <a:lnTo>
                  <a:pt x="241" y="188"/>
                </a:lnTo>
                <a:lnTo>
                  <a:pt x="242" y="188"/>
                </a:lnTo>
                <a:lnTo>
                  <a:pt x="244" y="188"/>
                </a:lnTo>
                <a:lnTo>
                  <a:pt x="246" y="192"/>
                </a:lnTo>
                <a:lnTo>
                  <a:pt x="246" y="194"/>
                </a:lnTo>
                <a:lnTo>
                  <a:pt x="242" y="195"/>
                </a:lnTo>
                <a:lnTo>
                  <a:pt x="239" y="195"/>
                </a:lnTo>
                <a:lnTo>
                  <a:pt x="235" y="197"/>
                </a:lnTo>
                <a:lnTo>
                  <a:pt x="229" y="197"/>
                </a:lnTo>
                <a:lnTo>
                  <a:pt x="219" y="197"/>
                </a:lnTo>
                <a:lnTo>
                  <a:pt x="210" y="199"/>
                </a:lnTo>
                <a:lnTo>
                  <a:pt x="198" y="199"/>
                </a:lnTo>
                <a:lnTo>
                  <a:pt x="171" y="199"/>
                </a:lnTo>
                <a:lnTo>
                  <a:pt x="146" y="199"/>
                </a:lnTo>
                <a:lnTo>
                  <a:pt x="122" y="199"/>
                </a:lnTo>
                <a:lnTo>
                  <a:pt x="101" y="201"/>
                </a:lnTo>
                <a:lnTo>
                  <a:pt x="83" y="201"/>
                </a:lnTo>
                <a:lnTo>
                  <a:pt x="70" y="203"/>
                </a:lnTo>
                <a:lnTo>
                  <a:pt x="66" y="203"/>
                </a:lnTo>
                <a:lnTo>
                  <a:pt x="62" y="203"/>
                </a:lnTo>
                <a:lnTo>
                  <a:pt x="58" y="203"/>
                </a:lnTo>
                <a:lnTo>
                  <a:pt x="58" y="203"/>
                </a:lnTo>
                <a:lnTo>
                  <a:pt x="56" y="205"/>
                </a:lnTo>
                <a:lnTo>
                  <a:pt x="52" y="207"/>
                </a:lnTo>
                <a:lnTo>
                  <a:pt x="47" y="209"/>
                </a:lnTo>
                <a:lnTo>
                  <a:pt x="47" y="209"/>
                </a:lnTo>
                <a:lnTo>
                  <a:pt x="68" y="259"/>
                </a:lnTo>
                <a:lnTo>
                  <a:pt x="74" y="376"/>
                </a:lnTo>
                <a:lnTo>
                  <a:pt x="52" y="405"/>
                </a:lnTo>
                <a:lnTo>
                  <a:pt x="0" y="440"/>
                </a:lnTo>
                <a:lnTo>
                  <a:pt x="25" y="479"/>
                </a:lnTo>
                <a:lnTo>
                  <a:pt x="29" y="490"/>
                </a:lnTo>
                <a:lnTo>
                  <a:pt x="82" y="401"/>
                </a:lnTo>
                <a:close/>
              </a:path>
            </a:pathLst>
          </a:custGeom>
          <a:solidFill>
            <a:srgbClr val="a83f1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81" name=""/>
          <p:cNvSpPr/>
          <p:nvPr/>
        </p:nvSpPr>
        <p:spPr>
          <a:xfrm>
            <a:off x="3537000" y="2712960"/>
            <a:ext cx="387360" cy="308160"/>
          </a:xfrm>
          <a:custGeom>
            <a:avLst/>
            <a:gdLst/>
            <a:ahLst/>
            <a:rect l="l" t="t" r="r" b="b"/>
            <a:pathLst>
              <a:path w="486" h="390">
                <a:moveTo>
                  <a:pt x="4" y="161"/>
                </a:moveTo>
                <a:lnTo>
                  <a:pt x="0" y="111"/>
                </a:lnTo>
                <a:lnTo>
                  <a:pt x="35" y="14"/>
                </a:lnTo>
                <a:lnTo>
                  <a:pt x="48" y="2"/>
                </a:lnTo>
                <a:lnTo>
                  <a:pt x="66" y="45"/>
                </a:lnTo>
                <a:lnTo>
                  <a:pt x="143" y="78"/>
                </a:lnTo>
                <a:lnTo>
                  <a:pt x="139" y="78"/>
                </a:lnTo>
                <a:lnTo>
                  <a:pt x="135" y="74"/>
                </a:lnTo>
                <a:lnTo>
                  <a:pt x="132" y="70"/>
                </a:lnTo>
                <a:lnTo>
                  <a:pt x="128" y="66"/>
                </a:lnTo>
                <a:lnTo>
                  <a:pt x="128" y="62"/>
                </a:lnTo>
                <a:lnTo>
                  <a:pt x="130" y="60"/>
                </a:lnTo>
                <a:lnTo>
                  <a:pt x="134" y="56"/>
                </a:lnTo>
                <a:lnTo>
                  <a:pt x="137" y="53"/>
                </a:lnTo>
                <a:lnTo>
                  <a:pt x="145" y="49"/>
                </a:lnTo>
                <a:lnTo>
                  <a:pt x="155" y="45"/>
                </a:lnTo>
                <a:lnTo>
                  <a:pt x="166" y="39"/>
                </a:lnTo>
                <a:lnTo>
                  <a:pt x="180" y="33"/>
                </a:lnTo>
                <a:lnTo>
                  <a:pt x="215" y="25"/>
                </a:lnTo>
                <a:lnTo>
                  <a:pt x="248" y="18"/>
                </a:lnTo>
                <a:lnTo>
                  <a:pt x="279" y="12"/>
                </a:lnTo>
                <a:lnTo>
                  <a:pt x="308" y="8"/>
                </a:lnTo>
                <a:lnTo>
                  <a:pt x="333" y="4"/>
                </a:lnTo>
                <a:lnTo>
                  <a:pt x="343" y="4"/>
                </a:lnTo>
                <a:lnTo>
                  <a:pt x="353" y="2"/>
                </a:lnTo>
                <a:lnTo>
                  <a:pt x="358" y="2"/>
                </a:lnTo>
                <a:lnTo>
                  <a:pt x="364" y="0"/>
                </a:lnTo>
                <a:lnTo>
                  <a:pt x="368" y="0"/>
                </a:lnTo>
                <a:lnTo>
                  <a:pt x="430" y="21"/>
                </a:lnTo>
                <a:lnTo>
                  <a:pt x="397" y="72"/>
                </a:lnTo>
                <a:lnTo>
                  <a:pt x="401" y="161"/>
                </a:lnTo>
                <a:lnTo>
                  <a:pt x="452" y="275"/>
                </a:lnTo>
                <a:lnTo>
                  <a:pt x="486" y="390"/>
                </a:lnTo>
                <a:lnTo>
                  <a:pt x="401" y="378"/>
                </a:lnTo>
                <a:lnTo>
                  <a:pt x="357" y="382"/>
                </a:lnTo>
                <a:lnTo>
                  <a:pt x="341" y="382"/>
                </a:lnTo>
                <a:lnTo>
                  <a:pt x="331" y="367"/>
                </a:lnTo>
                <a:lnTo>
                  <a:pt x="360" y="291"/>
                </a:lnTo>
                <a:lnTo>
                  <a:pt x="337" y="227"/>
                </a:lnTo>
                <a:lnTo>
                  <a:pt x="318" y="202"/>
                </a:lnTo>
                <a:lnTo>
                  <a:pt x="318" y="188"/>
                </a:lnTo>
                <a:lnTo>
                  <a:pt x="298" y="159"/>
                </a:lnTo>
                <a:lnTo>
                  <a:pt x="260" y="134"/>
                </a:lnTo>
                <a:lnTo>
                  <a:pt x="176" y="124"/>
                </a:lnTo>
                <a:lnTo>
                  <a:pt x="110" y="146"/>
                </a:lnTo>
                <a:lnTo>
                  <a:pt x="75" y="182"/>
                </a:lnTo>
                <a:lnTo>
                  <a:pt x="4" y="161"/>
                </a:lnTo>
                <a:close/>
              </a:path>
            </a:pathLst>
          </a:custGeom>
          <a:solidFill>
            <a:srgbClr val="a83f1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82" name=""/>
          <p:cNvSpPr/>
          <p:nvPr/>
        </p:nvSpPr>
        <p:spPr>
          <a:xfrm>
            <a:off x="3222720" y="3279600"/>
            <a:ext cx="622080" cy="578160"/>
          </a:xfrm>
          <a:custGeom>
            <a:avLst/>
            <a:gdLst/>
            <a:ahLst/>
            <a:rect l="l" t="t" r="r" b="b"/>
            <a:pathLst>
              <a:path w="786" h="727">
                <a:moveTo>
                  <a:pt x="287" y="267"/>
                </a:moveTo>
                <a:lnTo>
                  <a:pt x="264" y="252"/>
                </a:lnTo>
                <a:lnTo>
                  <a:pt x="165" y="273"/>
                </a:lnTo>
                <a:lnTo>
                  <a:pt x="126" y="444"/>
                </a:lnTo>
                <a:lnTo>
                  <a:pt x="128" y="446"/>
                </a:lnTo>
                <a:lnTo>
                  <a:pt x="130" y="450"/>
                </a:lnTo>
                <a:lnTo>
                  <a:pt x="132" y="453"/>
                </a:lnTo>
                <a:lnTo>
                  <a:pt x="140" y="465"/>
                </a:lnTo>
                <a:lnTo>
                  <a:pt x="148" y="479"/>
                </a:lnTo>
                <a:lnTo>
                  <a:pt x="157" y="494"/>
                </a:lnTo>
                <a:lnTo>
                  <a:pt x="169" y="510"/>
                </a:lnTo>
                <a:lnTo>
                  <a:pt x="180" y="521"/>
                </a:lnTo>
                <a:lnTo>
                  <a:pt x="192" y="533"/>
                </a:lnTo>
                <a:lnTo>
                  <a:pt x="200" y="537"/>
                </a:lnTo>
                <a:lnTo>
                  <a:pt x="204" y="543"/>
                </a:lnTo>
                <a:lnTo>
                  <a:pt x="213" y="558"/>
                </a:lnTo>
                <a:lnTo>
                  <a:pt x="223" y="576"/>
                </a:lnTo>
                <a:lnTo>
                  <a:pt x="231" y="593"/>
                </a:lnTo>
                <a:lnTo>
                  <a:pt x="237" y="610"/>
                </a:lnTo>
                <a:lnTo>
                  <a:pt x="239" y="624"/>
                </a:lnTo>
                <a:lnTo>
                  <a:pt x="241" y="630"/>
                </a:lnTo>
                <a:lnTo>
                  <a:pt x="243" y="634"/>
                </a:lnTo>
                <a:lnTo>
                  <a:pt x="243" y="636"/>
                </a:lnTo>
                <a:lnTo>
                  <a:pt x="243" y="638"/>
                </a:lnTo>
                <a:lnTo>
                  <a:pt x="126" y="616"/>
                </a:lnTo>
                <a:lnTo>
                  <a:pt x="126" y="618"/>
                </a:lnTo>
                <a:lnTo>
                  <a:pt x="124" y="624"/>
                </a:lnTo>
                <a:lnTo>
                  <a:pt x="122" y="634"/>
                </a:lnTo>
                <a:lnTo>
                  <a:pt x="120" y="643"/>
                </a:lnTo>
                <a:lnTo>
                  <a:pt x="118" y="657"/>
                </a:lnTo>
                <a:lnTo>
                  <a:pt x="116" y="671"/>
                </a:lnTo>
                <a:lnTo>
                  <a:pt x="118" y="684"/>
                </a:lnTo>
                <a:lnTo>
                  <a:pt x="120" y="698"/>
                </a:lnTo>
                <a:lnTo>
                  <a:pt x="122" y="704"/>
                </a:lnTo>
                <a:lnTo>
                  <a:pt x="120" y="711"/>
                </a:lnTo>
                <a:lnTo>
                  <a:pt x="118" y="719"/>
                </a:lnTo>
                <a:lnTo>
                  <a:pt x="116" y="727"/>
                </a:lnTo>
                <a:lnTo>
                  <a:pt x="107" y="705"/>
                </a:lnTo>
                <a:lnTo>
                  <a:pt x="93" y="696"/>
                </a:lnTo>
                <a:lnTo>
                  <a:pt x="39" y="709"/>
                </a:lnTo>
                <a:lnTo>
                  <a:pt x="0" y="680"/>
                </a:lnTo>
                <a:lnTo>
                  <a:pt x="16" y="680"/>
                </a:lnTo>
                <a:lnTo>
                  <a:pt x="45" y="676"/>
                </a:lnTo>
                <a:lnTo>
                  <a:pt x="52" y="661"/>
                </a:lnTo>
                <a:lnTo>
                  <a:pt x="23" y="599"/>
                </a:lnTo>
                <a:lnTo>
                  <a:pt x="29" y="453"/>
                </a:lnTo>
                <a:lnTo>
                  <a:pt x="111" y="541"/>
                </a:lnTo>
                <a:lnTo>
                  <a:pt x="116" y="541"/>
                </a:lnTo>
                <a:lnTo>
                  <a:pt x="126" y="550"/>
                </a:lnTo>
                <a:lnTo>
                  <a:pt x="130" y="546"/>
                </a:lnTo>
                <a:lnTo>
                  <a:pt x="165" y="560"/>
                </a:lnTo>
                <a:lnTo>
                  <a:pt x="188" y="541"/>
                </a:lnTo>
                <a:lnTo>
                  <a:pt x="188" y="531"/>
                </a:lnTo>
                <a:lnTo>
                  <a:pt x="140" y="492"/>
                </a:lnTo>
                <a:lnTo>
                  <a:pt x="120" y="463"/>
                </a:lnTo>
                <a:lnTo>
                  <a:pt x="107" y="405"/>
                </a:lnTo>
                <a:lnTo>
                  <a:pt x="116" y="343"/>
                </a:lnTo>
                <a:lnTo>
                  <a:pt x="126" y="318"/>
                </a:lnTo>
                <a:lnTo>
                  <a:pt x="146" y="246"/>
                </a:lnTo>
                <a:lnTo>
                  <a:pt x="204" y="194"/>
                </a:lnTo>
                <a:lnTo>
                  <a:pt x="295" y="130"/>
                </a:lnTo>
                <a:lnTo>
                  <a:pt x="301" y="126"/>
                </a:lnTo>
                <a:lnTo>
                  <a:pt x="285" y="197"/>
                </a:lnTo>
                <a:lnTo>
                  <a:pt x="295" y="207"/>
                </a:lnTo>
                <a:lnTo>
                  <a:pt x="318" y="203"/>
                </a:lnTo>
                <a:lnTo>
                  <a:pt x="382" y="126"/>
                </a:lnTo>
                <a:lnTo>
                  <a:pt x="382" y="194"/>
                </a:lnTo>
                <a:lnTo>
                  <a:pt x="372" y="227"/>
                </a:lnTo>
                <a:lnTo>
                  <a:pt x="372" y="246"/>
                </a:lnTo>
                <a:lnTo>
                  <a:pt x="376" y="252"/>
                </a:lnTo>
                <a:lnTo>
                  <a:pt x="287" y="267"/>
                </a:lnTo>
                <a:close/>
                <a:moveTo>
                  <a:pt x="786" y="133"/>
                </a:moveTo>
                <a:lnTo>
                  <a:pt x="733" y="97"/>
                </a:lnTo>
                <a:lnTo>
                  <a:pt x="673" y="195"/>
                </a:lnTo>
                <a:lnTo>
                  <a:pt x="596" y="289"/>
                </a:lnTo>
                <a:lnTo>
                  <a:pt x="541" y="261"/>
                </a:lnTo>
                <a:lnTo>
                  <a:pt x="539" y="259"/>
                </a:lnTo>
                <a:lnTo>
                  <a:pt x="533" y="256"/>
                </a:lnTo>
                <a:lnTo>
                  <a:pt x="526" y="252"/>
                </a:lnTo>
                <a:lnTo>
                  <a:pt x="518" y="244"/>
                </a:lnTo>
                <a:lnTo>
                  <a:pt x="497" y="232"/>
                </a:lnTo>
                <a:lnTo>
                  <a:pt x="485" y="228"/>
                </a:lnTo>
                <a:lnTo>
                  <a:pt x="475" y="228"/>
                </a:lnTo>
                <a:lnTo>
                  <a:pt x="468" y="228"/>
                </a:lnTo>
                <a:lnTo>
                  <a:pt x="458" y="230"/>
                </a:lnTo>
                <a:lnTo>
                  <a:pt x="438" y="236"/>
                </a:lnTo>
                <a:lnTo>
                  <a:pt x="417" y="244"/>
                </a:lnTo>
                <a:lnTo>
                  <a:pt x="400" y="254"/>
                </a:lnTo>
                <a:lnTo>
                  <a:pt x="398" y="252"/>
                </a:lnTo>
                <a:lnTo>
                  <a:pt x="460" y="197"/>
                </a:lnTo>
                <a:lnTo>
                  <a:pt x="493" y="120"/>
                </a:lnTo>
                <a:lnTo>
                  <a:pt x="512" y="13"/>
                </a:lnTo>
                <a:lnTo>
                  <a:pt x="512" y="0"/>
                </a:lnTo>
                <a:lnTo>
                  <a:pt x="526" y="5"/>
                </a:lnTo>
                <a:lnTo>
                  <a:pt x="557" y="52"/>
                </a:lnTo>
                <a:lnTo>
                  <a:pt x="566" y="116"/>
                </a:lnTo>
                <a:lnTo>
                  <a:pt x="551" y="178"/>
                </a:lnTo>
                <a:lnTo>
                  <a:pt x="547" y="190"/>
                </a:lnTo>
                <a:lnTo>
                  <a:pt x="547" y="203"/>
                </a:lnTo>
                <a:lnTo>
                  <a:pt x="557" y="211"/>
                </a:lnTo>
                <a:lnTo>
                  <a:pt x="570" y="211"/>
                </a:lnTo>
                <a:lnTo>
                  <a:pt x="628" y="149"/>
                </a:lnTo>
                <a:lnTo>
                  <a:pt x="628" y="194"/>
                </a:lnTo>
                <a:lnTo>
                  <a:pt x="644" y="207"/>
                </a:lnTo>
                <a:lnTo>
                  <a:pt x="696" y="149"/>
                </a:lnTo>
                <a:lnTo>
                  <a:pt x="716" y="93"/>
                </a:lnTo>
                <a:lnTo>
                  <a:pt x="716" y="19"/>
                </a:lnTo>
                <a:lnTo>
                  <a:pt x="774" y="77"/>
                </a:lnTo>
                <a:lnTo>
                  <a:pt x="786" y="133"/>
                </a:lnTo>
                <a:close/>
              </a:path>
            </a:pathLst>
          </a:custGeom>
          <a:solidFill>
            <a:srgbClr val="d39e7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83" name=""/>
          <p:cNvSpPr/>
          <p:nvPr/>
        </p:nvSpPr>
        <p:spPr>
          <a:xfrm>
            <a:off x="3209760" y="3368520"/>
            <a:ext cx="319320" cy="501840"/>
          </a:xfrm>
          <a:custGeom>
            <a:avLst/>
            <a:gdLst/>
            <a:ahLst/>
            <a:rect l="l" t="t" r="r" b="b"/>
            <a:pathLst>
              <a:path w="401" h="632">
                <a:moveTo>
                  <a:pt x="302" y="153"/>
                </a:moveTo>
                <a:lnTo>
                  <a:pt x="306" y="153"/>
                </a:lnTo>
                <a:lnTo>
                  <a:pt x="281" y="136"/>
                </a:lnTo>
                <a:lnTo>
                  <a:pt x="176" y="159"/>
                </a:lnTo>
                <a:lnTo>
                  <a:pt x="137" y="332"/>
                </a:lnTo>
                <a:lnTo>
                  <a:pt x="137" y="336"/>
                </a:lnTo>
                <a:lnTo>
                  <a:pt x="139" y="340"/>
                </a:lnTo>
                <a:lnTo>
                  <a:pt x="139" y="340"/>
                </a:lnTo>
                <a:lnTo>
                  <a:pt x="143" y="347"/>
                </a:lnTo>
                <a:lnTo>
                  <a:pt x="143" y="347"/>
                </a:lnTo>
                <a:lnTo>
                  <a:pt x="149" y="359"/>
                </a:lnTo>
                <a:lnTo>
                  <a:pt x="159" y="372"/>
                </a:lnTo>
                <a:lnTo>
                  <a:pt x="168" y="388"/>
                </a:lnTo>
                <a:lnTo>
                  <a:pt x="178" y="402"/>
                </a:lnTo>
                <a:lnTo>
                  <a:pt x="180" y="402"/>
                </a:lnTo>
                <a:lnTo>
                  <a:pt x="192" y="415"/>
                </a:lnTo>
                <a:lnTo>
                  <a:pt x="203" y="427"/>
                </a:lnTo>
                <a:lnTo>
                  <a:pt x="205" y="427"/>
                </a:lnTo>
                <a:lnTo>
                  <a:pt x="211" y="433"/>
                </a:lnTo>
                <a:lnTo>
                  <a:pt x="211" y="431"/>
                </a:lnTo>
                <a:lnTo>
                  <a:pt x="215" y="436"/>
                </a:lnTo>
                <a:lnTo>
                  <a:pt x="215" y="436"/>
                </a:lnTo>
                <a:lnTo>
                  <a:pt x="225" y="450"/>
                </a:lnTo>
                <a:lnTo>
                  <a:pt x="225" y="450"/>
                </a:lnTo>
                <a:lnTo>
                  <a:pt x="232" y="467"/>
                </a:lnTo>
                <a:lnTo>
                  <a:pt x="240" y="485"/>
                </a:lnTo>
                <a:lnTo>
                  <a:pt x="240" y="485"/>
                </a:lnTo>
                <a:lnTo>
                  <a:pt x="246" y="502"/>
                </a:lnTo>
                <a:lnTo>
                  <a:pt x="250" y="516"/>
                </a:lnTo>
                <a:lnTo>
                  <a:pt x="252" y="520"/>
                </a:lnTo>
                <a:lnTo>
                  <a:pt x="252" y="520"/>
                </a:lnTo>
                <a:lnTo>
                  <a:pt x="252" y="524"/>
                </a:lnTo>
                <a:lnTo>
                  <a:pt x="252" y="524"/>
                </a:lnTo>
                <a:lnTo>
                  <a:pt x="252" y="528"/>
                </a:lnTo>
                <a:lnTo>
                  <a:pt x="252" y="526"/>
                </a:lnTo>
                <a:lnTo>
                  <a:pt x="252" y="528"/>
                </a:lnTo>
                <a:lnTo>
                  <a:pt x="258" y="522"/>
                </a:lnTo>
                <a:lnTo>
                  <a:pt x="137" y="499"/>
                </a:lnTo>
                <a:lnTo>
                  <a:pt x="137" y="506"/>
                </a:lnTo>
                <a:lnTo>
                  <a:pt x="137" y="504"/>
                </a:lnTo>
                <a:lnTo>
                  <a:pt x="135" y="506"/>
                </a:lnTo>
                <a:lnTo>
                  <a:pt x="131" y="522"/>
                </a:lnTo>
                <a:lnTo>
                  <a:pt x="131" y="522"/>
                </a:lnTo>
                <a:lnTo>
                  <a:pt x="130" y="533"/>
                </a:lnTo>
                <a:lnTo>
                  <a:pt x="128" y="545"/>
                </a:lnTo>
                <a:lnTo>
                  <a:pt x="128" y="547"/>
                </a:lnTo>
                <a:lnTo>
                  <a:pt x="126" y="561"/>
                </a:lnTo>
                <a:lnTo>
                  <a:pt x="128" y="576"/>
                </a:lnTo>
                <a:lnTo>
                  <a:pt x="130" y="590"/>
                </a:lnTo>
                <a:lnTo>
                  <a:pt x="130" y="588"/>
                </a:lnTo>
                <a:lnTo>
                  <a:pt x="131" y="594"/>
                </a:lnTo>
                <a:lnTo>
                  <a:pt x="131" y="594"/>
                </a:lnTo>
                <a:lnTo>
                  <a:pt x="130" y="601"/>
                </a:lnTo>
                <a:lnTo>
                  <a:pt x="130" y="609"/>
                </a:lnTo>
                <a:lnTo>
                  <a:pt x="130" y="607"/>
                </a:lnTo>
                <a:lnTo>
                  <a:pt x="126" y="617"/>
                </a:lnTo>
                <a:lnTo>
                  <a:pt x="135" y="615"/>
                </a:lnTo>
                <a:lnTo>
                  <a:pt x="126" y="592"/>
                </a:lnTo>
                <a:lnTo>
                  <a:pt x="108" y="580"/>
                </a:lnTo>
                <a:lnTo>
                  <a:pt x="52" y="594"/>
                </a:lnTo>
                <a:lnTo>
                  <a:pt x="58" y="595"/>
                </a:lnTo>
                <a:lnTo>
                  <a:pt x="19" y="566"/>
                </a:lnTo>
                <a:lnTo>
                  <a:pt x="15" y="576"/>
                </a:lnTo>
                <a:lnTo>
                  <a:pt x="31" y="576"/>
                </a:lnTo>
                <a:lnTo>
                  <a:pt x="62" y="570"/>
                </a:lnTo>
                <a:lnTo>
                  <a:pt x="73" y="551"/>
                </a:lnTo>
                <a:lnTo>
                  <a:pt x="44" y="487"/>
                </a:lnTo>
                <a:lnTo>
                  <a:pt x="44" y="489"/>
                </a:lnTo>
                <a:lnTo>
                  <a:pt x="50" y="343"/>
                </a:lnTo>
                <a:lnTo>
                  <a:pt x="40" y="347"/>
                </a:lnTo>
                <a:lnTo>
                  <a:pt x="124" y="436"/>
                </a:lnTo>
                <a:lnTo>
                  <a:pt x="131" y="436"/>
                </a:lnTo>
                <a:lnTo>
                  <a:pt x="128" y="435"/>
                </a:lnTo>
                <a:lnTo>
                  <a:pt x="141" y="446"/>
                </a:lnTo>
                <a:lnTo>
                  <a:pt x="149" y="438"/>
                </a:lnTo>
                <a:lnTo>
                  <a:pt x="143" y="440"/>
                </a:lnTo>
                <a:lnTo>
                  <a:pt x="180" y="456"/>
                </a:lnTo>
                <a:lnTo>
                  <a:pt x="209" y="433"/>
                </a:lnTo>
                <a:lnTo>
                  <a:pt x="209" y="419"/>
                </a:lnTo>
                <a:lnTo>
                  <a:pt x="159" y="378"/>
                </a:lnTo>
                <a:lnTo>
                  <a:pt x="161" y="380"/>
                </a:lnTo>
                <a:lnTo>
                  <a:pt x="141" y="351"/>
                </a:lnTo>
                <a:lnTo>
                  <a:pt x="141" y="351"/>
                </a:lnTo>
                <a:lnTo>
                  <a:pt x="128" y="293"/>
                </a:lnTo>
                <a:lnTo>
                  <a:pt x="128" y="295"/>
                </a:lnTo>
                <a:lnTo>
                  <a:pt x="137" y="233"/>
                </a:lnTo>
                <a:lnTo>
                  <a:pt x="135" y="235"/>
                </a:lnTo>
                <a:lnTo>
                  <a:pt x="145" y="212"/>
                </a:lnTo>
                <a:lnTo>
                  <a:pt x="147" y="210"/>
                </a:lnTo>
                <a:lnTo>
                  <a:pt x="166" y="138"/>
                </a:lnTo>
                <a:lnTo>
                  <a:pt x="164" y="140"/>
                </a:lnTo>
                <a:lnTo>
                  <a:pt x="223" y="87"/>
                </a:lnTo>
                <a:lnTo>
                  <a:pt x="221" y="87"/>
                </a:lnTo>
                <a:lnTo>
                  <a:pt x="314" y="23"/>
                </a:lnTo>
                <a:lnTo>
                  <a:pt x="314" y="23"/>
                </a:lnTo>
                <a:lnTo>
                  <a:pt x="320" y="20"/>
                </a:lnTo>
                <a:lnTo>
                  <a:pt x="310" y="14"/>
                </a:lnTo>
                <a:lnTo>
                  <a:pt x="294" y="89"/>
                </a:lnTo>
                <a:lnTo>
                  <a:pt x="308" y="103"/>
                </a:lnTo>
                <a:lnTo>
                  <a:pt x="337" y="97"/>
                </a:lnTo>
                <a:lnTo>
                  <a:pt x="401" y="18"/>
                </a:lnTo>
                <a:lnTo>
                  <a:pt x="391" y="16"/>
                </a:lnTo>
                <a:lnTo>
                  <a:pt x="391" y="84"/>
                </a:lnTo>
                <a:lnTo>
                  <a:pt x="391" y="82"/>
                </a:lnTo>
                <a:lnTo>
                  <a:pt x="382" y="117"/>
                </a:lnTo>
                <a:lnTo>
                  <a:pt x="384" y="138"/>
                </a:lnTo>
                <a:lnTo>
                  <a:pt x="387" y="146"/>
                </a:lnTo>
                <a:lnTo>
                  <a:pt x="391" y="136"/>
                </a:lnTo>
                <a:lnTo>
                  <a:pt x="302" y="153"/>
                </a:lnTo>
                <a:lnTo>
                  <a:pt x="302" y="163"/>
                </a:lnTo>
                <a:lnTo>
                  <a:pt x="401" y="144"/>
                </a:lnTo>
                <a:lnTo>
                  <a:pt x="391" y="132"/>
                </a:lnTo>
                <a:lnTo>
                  <a:pt x="393" y="136"/>
                </a:lnTo>
                <a:lnTo>
                  <a:pt x="393" y="117"/>
                </a:lnTo>
                <a:lnTo>
                  <a:pt x="393" y="118"/>
                </a:lnTo>
                <a:lnTo>
                  <a:pt x="401" y="84"/>
                </a:lnTo>
                <a:lnTo>
                  <a:pt x="401" y="0"/>
                </a:lnTo>
                <a:lnTo>
                  <a:pt x="329" y="89"/>
                </a:lnTo>
                <a:lnTo>
                  <a:pt x="333" y="87"/>
                </a:lnTo>
                <a:lnTo>
                  <a:pt x="310" y="91"/>
                </a:lnTo>
                <a:lnTo>
                  <a:pt x="314" y="93"/>
                </a:lnTo>
                <a:lnTo>
                  <a:pt x="304" y="84"/>
                </a:lnTo>
                <a:lnTo>
                  <a:pt x="306" y="89"/>
                </a:lnTo>
                <a:lnTo>
                  <a:pt x="323" y="2"/>
                </a:lnTo>
                <a:lnTo>
                  <a:pt x="306" y="16"/>
                </a:lnTo>
                <a:lnTo>
                  <a:pt x="306" y="16"/>
                </a:lnTo>
                <a:lnTo>
                  <a:pt x="215" y="80"/>
                </a:lnTo>
                <a:lnTo>
                  <a:pt x="215" y="80"/>
                </a:lnTo>
                <a:lnTo>
                  <a:pt x="155" y="134"/>
                </a:lnTo>
                <a:lnTo>
                  <a:pt x="135" y="208"/>
                </a:lnTo>
                <a:lnTo>
                  <a:pt x="137" y="206"/>
                </a:lnTo>
                <a:lnTo>
                  <a:pt x="126" y="231"/>
                </a:lnTo>
                <a:lnTo>
                  <a:pt x="116" y="295"/>
                </a:lnTo>
                <a:lnTo>
                  <a:pt x="131" y="355"/>
                </a:lnTo>
                <a:lnTo>
                  <a:pt x="151" y="386"/>
                </a:lnTo>
                <a:lnTo>
                  <a:pt x="201" y="425"/>
                </a:lnTo>
                <a:lnTo>
                  <a:pt x="199" y="421"/>
                </a:lnTo>
                <a:lnTo>
                  <a:pt x="199" y="431"/>
                </a:lnTo>
                <a:lnTo>
                  <a:pt x="201" y="427"/>
                </a:lnTo>
                <a:lnTo>
                  <a:pt x="176" y="446"/>
                </a:lnTo>
                <a:lnTo>
                  <a:pt x="182" y="446"/>
                </a:lnTo>
                <a:lnTo>
                  <a:pt x="145" y="429"/>
                </a:lnTo>
                <a:lnTo>
                  <a:pt x="137" y="436"/>
                </a:lnTo>
                <a:lnTo>
                  <a:pt x="145" y="436"/>
                </a:lnTo>
                <a:lnTo>
                  <a:pt x="133" y="425"/>
                </a:lnTo>
                <a:lnTo>
                  <a:pt x="126" y="425"/>
                </a:lnTo>
                <a:lnTo>
                  <a:pt x="130" y="427"/>
                </a:lnTo>
                <a:lnTo>
                  <a:pt x="40" y="332"/>
                </a:lnTo>
                <a:lnTo>
                  <a:pt x="35" y="491"/>
                </a:lnTo>
                <a:lnTo>
                  <a:pt x="64" y="553"/>
                </a:lnTo>
                <a:lnTo>
                  <a:pt x="64" y="549"/>
                </a:lnTo>
                <a:lnTo>
                  <a:pt x="54" y="562"/>
                </a:lnTo>
                <a:lnTo>
                  <a:pt x="58" y="561"/>
                </a:lnTo>
                <a:lnTo>
                  <a:pt x="29" y="564"/>
                </a:lnTo>
                <a:lnTo>
                  <a:pt x="31" y="564"/>
                </a:lnTo>
                <a:lnTo>
                  <a:pt x="0" y="564"/>
                </a:lnTo>
                <a:lnTo>
                  <a:pt x="54" y="605"/>
                </a:lnTo>
                <a:lnTo>
                  <a:pt x="108" y="592"/>
                </a:lnTo>
                <a:lnTo>
                  <a:pt x="104" y="590"/>
                </a:lnTo>
                <a:lnTo>
                  <a:pt x="118" y="599"/>
                </a:lnTo>
                <a:lnTo>
                  <a:pt x="118" y="597"/>
                </a:lnTo>
                <a:lnTo>
                  <a:pt x="131" y="632"/>
                </a:lnTo>
                <a:lnTo>
                  <a:pt x="139" y="611"/>
                </a:lnTo>
                <a:lnTo>
                  <a:pt x="139" y="609"/>
                </a:lnTo>
                <a:lnTo>
                  <a:pt x="141" y="601"/>
                </a:lnTo>
                <a:lnTo>
                  <a:pt x="141" y="594"/>
                </a:lnTo>
                <a:lnTo>
                  <a:pt x="141" y="586"/>
                </a:lnTo>
                <a:lnTo>
                  <a:pt x="141" y="586"/>
                </a:lnTo>
                <a:lnTo>
                  <a:pt x="137" y="572"/>
                </a:lnTo>
                <a:lnTo>
                  <a:pt x="137" y="574"/>
                </a:lnTo>
                <a:lnTo>
                  <a:pt x="137" y="561"/>
                </a:lnTo>
                <a:lnTo>
                  <a:pt x="137" y="547"/>
                </a:lnTo>
                <a:lnTo>
                  <a:pt x="137" y="547"/>
                </a:lnTo>
                <a:lnTo>
                  <a:pt x="141" y="535"/>
                </a:lnTo>
                <a:lnTo>
                  <a:pt x="143" y="524"/>
                </a:lnTo>
                <a:lnTo>
                  <a:pt x="143" y="524"/>
                </a:lnTo>
                <a:lnTo>
                  <a:pt x="147" y="508"/>
                </a:lnTo>
                <a:lnTo>
                  <a:pt x="145" y="510"/>
                </a:lnTo>
                <a:lnTo>
                  <a:pt x="147" y="508"/>
                </a:lnTo>
                <a:lnTo>
                  <a:pt x="147" y="506"/>
                </a:lnTo>
                <a:lnTo>
                  <a:pt x="141" y="510"/>
                </a:lnTo>
                <a:lnTo>
                  <a:pt x="261" y="533"/>
                </a:lnTo>
                <a:lnTo>
                  <a:pt x="263" y="526"/>
                </a:lnTo>
                <a:lnTo>
                  <a:pt x="261" y="522"/>
                </a:lnTo>
                <a:lnTo>
                  <a:pt x="261" y="522"/>
                </a:lnTo>
                <a:lnTo>
                  <a:pt x="261" y="518"/>
                </a:lnTo>
                <a:lnTo>
                  <a:pt x="261" y="518"/>
                </a:lnTo>
                <a:lnTo>
                  <a:pt x="259" y="512"/>
                </a:lnTo>
                <a:lnTo>
                  <a:pt x="256" y="499"/>
                </a:lnTo>
                <a:lnTo>
                  <a:pt x="252" y="481"/>
                </a:lnTo>
                <a:lnTo>
                  <a:pt x="250" y="481"/>
                </a:lnTo>
                <a:lnTo>
                  <a:pt x="242" y="464"/>
                </a:lnTo>
                <a:lnTo>
                  <a:pt x="234" y="446"/>
                </a:lnTo>
                <a:lnTo>
                  <a:pt x="234" y="444"/>
                </a:lnTo>
                <a:lnTo>
                  <a:pt x="225" y="431"/>
                </a:lnTo>
                <a:lnTo>
                  <a:pt x="223" y="429"/>
                </a:lnTo>
                <a:lnTo>
                  <a:pt x="219" y="423"/>
                </a:lnTo>
                <a:lnTo>
                  <a:pt x="211" y="417"/>
                </a:lnTo>
                <a:lnTo>
                  <a:pt x="211" y="419"/>
                </a:lnTo>
                <a:lnTo>
                  <a:pt x="199" y="407"/>
                </a:lnTo>
                <a:lnTo>
                  <a:pt x="188" y="396"/>
                </a:lnTo>
                <a:lnTo>
                  <a:pt x="188" y="396"/>
                </a:lnTo>
                <a:lnTo>
                  <a:pt x="178" y="380"/>
                </a:lnTo>
                <a:lnTo>
                  <a:pt x="166" y="367"/>
                </a:lnTo>
                <a:lnTo>
                  <a:pt x="159" y="353"/>
                </a:lnTo>
                <a:lnTo>
                  <a:pt x="151" y="341"/>
                </a:lnTo>
                <a:lnTo>
                  <a:pt x="151" y="341"/>
                </a:lnTo>
                <a:lnTo>
                  <a:pt x="147" y="334"/>
                </a:lnTo>
                <a:lnTo>
                  <a:pt x="147" y="334"/>
                </a:lnTo>
                <a:lnTo>
                  <a:pt x="147" y="332"/>
                </a:lnTo>
                <a:lnTo>
                  <a:pt x="147" y="334"/>
                </a:lnTo>
                <a:lnTo>
                  <a:pt x="147" y="334"/>
                </a:lnTo>
                <a:lnTo>
                  <a:pt x="147" y="336"/>
                </a:lnTo>
                <a:lnTo>
                  <a:pt x="186" y="165"/>
                </a:lnTo>
                <a:lnTo>
                  <a:pt x="182" y="169"/>
                </a:lnTo>
                <a:lnTo>
                  <a:pt x="281" y="146"/>
                </a:lnTo>
                <a:lnTo>
                  <a:pt x="277" y="146"/>
                </a:lnTo>
                <a:lnTo>
                  <a:pt x="302" y="163"/>
                </a:lnTo>
                <a:lnTo>
                  <a:pt x="302"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84" name=""/>
          <p:cNvSpPr/>
          <p:nvPr/>
        </p:nvSpPr>
        <p:spPr>
          <a:xfrm>
            <a:off x="3530520" y="3274920"/>
            <a:ext cx="320760" cy="241560"/>
          </a:xfrm>
          <a:custGeom>
            <a:avLst/>
            <a:gdLst/>
            <a:ahLst/>
            <a:rect l="l" t="t" r="r" b="b"/>
            <a:pathLst>
              <a:path w="403" h="302">
                <a:moveTo>
                  <a:pt x="390" y="139"/>
                </a:moveTo>
                <a:lnTo>
                  <a:pt x="398" y="136"/>
                </a:lnTo>
                <a:lnTo>
                  <a:pt x="343" y="95"/>
                </a:lnTo>
                <a:lnTo>
                  <a:pt x="279" y="198"/>
                </a:lnTo>
                <a:lnTo>
                  <a:pt x="279" y="198"/>
                </a:lnTo>
                <a:lnTo>
                  <a:pt x="202" y="293"/>
                </a:lnTo>
                <a:lnTo>
                  <a:pt x="207" y="291"/>
                </a:lnTo>
                <a:lnTo>
                  <a:pt x="153" y="264"/>
                </a:lnTo>
                <a:lnTo>
                  <a:pt x="155" y="264"/>
                </a:lnTo>
                <a:lnTo>
                  <a:pt x="153" y="262"/>
                </a:lnTo>
                <a:lnTo>
                  <a:pt x="151" y="262"/>
                </a:lnTo>
                <a:lnTo>
                  <a:pt x="147" y="258"/>
                </a:lnTo>
                <a:lnTo>
                  <a:pt x="147" y="258"/>
                </a:lnTo>
                <a:lnTo>
                  <a:pt x="140" y="252"/>
                </a:lnTo>
                <a:lnTo>
                  <a:pt x="132" y="246"/>
                </a:lnTo>
                <a:lnTo>
                  <a:pt x="130" y="246"/>
                </a:lnTo>
                <a:lnTo>
                  <a:pt x="109" y="234"/>
                </a:lnTo>
                <a:lnTo>
                  <a:pt x="109" y="234"/>
                </a:lnTo>
                <a:lnTo>
                  <a:pt x="97" y="231"/>
                </a:lnTo>
                <a:lnTo>
                  <a:pt x="85" y="229"/>
                </a:lnTo>
                <a:lnTo>
                  <a:pt x="76" y="229"/>
                </a:lnTo>
                <a:lnTo>
                  <a:pt x="68" y="231"/>
                </a:lnTo>
                <a:lnTo>
                  <a:pt x="66" y="231"/>
                </a:lnTo>
                <a:lnTo>
                  <a:pt x="46" y="236"/>
                </a:lnTo>
                <a:lnTo>
                  <a:pt x="46" y="238"/>
                </a:lnTo>
                <a:lnTo>
                  <a:pt x="25" y="246"/>
                </a:lnTo>
                <a:lnTo>
                  <a:pt x="8" y="254"/>
                </a:lnTo>
                <a:lnTo>
                  <a:pt x="14" y="256"/>
                </a:lnTo>
                <a:lnTo>
                  <a:pt x="12" y="254"/>
                </a:lnTo>
                <a:lnTo>
                  <a:pt x="12" y="262"/>
                </a:lnTo>
                <a:lnTo>
                  <a:pt x="74" y="207"/>
                </a:lnTo>
                <a:lnTo>
                  <a:pt x="109" y="128"/>
                </a:lnTo>
                <a:lnTo>
                  <a:pt x="128" y="21"/>
                </a:lnTo>
                <a:lnTo>
                  <a:pt x="128" y="6"/>
                </a:lnTo>
                <a:lnTo>
                  <a:pt x="122" y="11"/>
                </a:lnTo>
                <a:lnTo>
                  <a:pt x="136" y="15"/>
                </a:lnTo>
                <a:lnTo>
                  <a:pt x="132" y="13"/>
                </a:lnTo>
                <a:lnTo>
                  <a:pt x="161" y="62"/>
                </a:lnTo>
                <a:lnTo>
                  <a:pt x="161" y="60"/>
                </a:lnTo>
                <a:lnTo>
                  <a:pt x="171" y="122"/>
                </a:lnTo>
                <a:lnTo>
                  <a:pt x="171" y="120"/>
                </a:lnTo>
                <a:lnTo>
                  <a:pt x="155" y="182"/>
                </a:lnTo>
                <a:lnTo>
                  <a:pt x="157" y="182"/>
                </a:lnTo>
                <a:lnTo>
                  <a:pt x="151" y="194"/>
                </a:lnTo>
                <a:lnTo>
                  <a:pt x="151" y="211"/>
                </a:lnTo>
                <a:lnTo>
                  <a:pt x="163" y="223"/>
                </a:lnTo>
                <a:lnTo>
                  <a:pt x="182" y="223"/>
                </a:lnTo>
                <a:lnTo>
                  <a:pt x="242" y="159"/>
                </a:lnTo>
                <a:lnTo>
                  <a:pt x="233" y="155"/>
                </a:lnTo>
                <a:lnTo>
                  <a:pt x="235" y="201"/>
                </a:lnTo>
                <a:lnTo>
                  <a:pt x="254" y="221"/>
                </a:lnTo>
                <a:lnTo>
                  <a:pt x="312" y="159"/>
                </a:lnTo>
                <a:lnTo>
                  <a:pt x="332" y="99"/>
                </a:lnTo>
                <a:lnTo>
                  <a:pt x="332" y="25"/>
                </a:lnTo>
                <a:lnTo>
                  <a:pt x="322" y="29"/>
                </a:lnTo>
                <a:lnTo>
                  <a:pt x="380" y="87"/>
                </a:lnTo>
                <a:lnTo>
                  <a:pt x="378" y="83"/>
                </a:lnTo>
                <a:lnTo>
                  <a:pt x="390" y="139"/>
                </a:lnTo>
                <a:lnTo>
                  <a:pt x="403" y="151"/>
                </a:lnTo>
                <a:lnTo>
                  <a:pt x="388" y="81"/>
                </a:lnTo>
                <a:lnTo>
                  <a:pt x="320" y="11"/>
                </a:lnTo>
                <a:lnTo>
                  <a:pt x="320" y="99"/>
                </a:lnTo>
                <a:lnTo>
                  <a:pt x="320" y="97"/>
                </a:lnTo>
                <a:lnTo>
                  <a:pt x="302" y="155"/>
                </a:lnTo>
                <a:lnTo>
                  <a:pt x="302" y="151"/>
                </a:lnTo>
                <a:lnTo>
                  <a:pt x="250" y="209"/>
                </a:lnTo>
                <a:lnTo>
                  <a:pt x="258" y="209"/>
                </a:lnTo>
                <a:lnTo>
                  <a:pt x="242" y="196"/>
                </a:lnTo>
                <a:lnTo>
                  <a:pt x="244" y="200"/>
                </a:lnTo>
                <a:lnTo>
                  <a:pt x="244" y="141"/>
                </a:lnTo>
                <a:lnTo>
                  <a:pt x="176" y="213"/>
                </a:lnTo>
                <a:lnTo>
                  <a:pt x="180" y="213"/>
                </a:lnTo>
                <a:lnTo>
                  <a:pt x="167" y="213"/>
                </a:lnTo>
                <a:lnTo>
                  <a:pt x="171" y="213"/>
                </a:lnTo>
                <a:lnTo>
                  <a:pt x="161" y="205"/>
                </a:lnTo>
                <a:lnTo>
                  <a:pt x="163" y="209"/>
                </a:lnTo>
                <a:lnTo>
                  <a:pt x="163" y="196"/>
                </a:lnTo>
                <a:lnTo>
                  <a:pt x="161" y="198"/>
                </a:lnTo>
                <a:lnTo>
                  <a:pt x="167" y="186"/>
                </a:lnTo>
                <a:lnTo>
                  <a:pt x="180" y="122"/>
                </a:lnTo>
                <a:lnTo>
                  <a:pt x="171" y="58"/>
                </a:lnTo>
                <a:lnTo>
                  <a:pt x="140" y="8"/>
                </a:lnTo>
                <a:lnTo>
                  <a:pt x="118" y="0"/>
                </a:lnTo>
                <a:lnTo>
                  <a:pt x="118" y="19"/>
                </a:lnTo>
                <a:lnTo>
                  <a:pt x="118" y="19"/>
                </a:lnTo>
                <a:lnTo>
                  <a:pt x="99" y="126"/>
                </a:lnTo>
                <a:lnTo>
                  <a:pt x="99" y="124"/>
                </a:lnTo>
                <a:lnTo>
                  <a:pt x="66" y="201"/>
                </a:lnTo>
                <a:lnTo>
                  <a:pt x="66" y="200"/>
                </a:lnTo>
                <a:lnTo>
                  <a:pt x="0" y="258"/>
                </a:lnTo>
                <a:lnTo>
                  <a:pt x="8" y="265"/>
                </a:lnTo>
                <a:lnTo>
                  <a:pt x="29" y="256"/>
                </a:lnTo>
                <a:lnTo>
                  <a:pt x="50" y="246"/>
                </a:lnTo>
                <a:lnTo>
                  <a:pt x="50" y="248"/>
                </a:lnTo>
                <a:lnTo>
                  <a:pt x="70" y="242"/>
                </a:lnTo>
                <a:lnTo>
                  <a:pt x="70" y="242"/>
                </a:lnTo>
                <a:lnTo>
                  <a:pt x="78" y="240"/>
                </a:lnTo>
                <a:lnTo>
                  <a:pt x="85" y="238"/>
                </a:lnTo>
                <a:lnTo>
                  <a:pt x="83" y="238"/>
                </a:lnTo>
                <a:lnTo>
                  <a:pt x="95" y="240"/>
                </a:lnTo>
                <a:lnTo>
                  <a:pt x="93" y="240"/>
                </a:lnTo>
                <a:lnTo>
                  <a:pt x="105" y="244"/>
                </a:lnTo>
                <a:lnTo>
                  <a:pt x="105" y="244"/>
                </a:lnTo>
                <a:lnTo>
                  <a:pt x="126" y="256"/>
                </a:lnTo>
                <a:lnTo>
                  <a:pt x="126" y="256"/>
                </a:lnTo>
                <a:lnTo>
                  <a:pt x="134" y="262"/>
                </a:lnTo>
                <a:lnTo>
                  <a:pt x="142" y="267"/>
                </a:lnTo>
                <a:lnTo>
                  <a:pt x="142" y="265"/>
                </a:lnTo>
                <a:lnTo>
                  <a:pt x="145" y="269"/>
                </a:lnTo>
                <a:lnTo>
                  <a:pt x="145" y="269"/>
                </a:lnTo>
                <a:lnTo>
                  <a:pt x="147" y="271"/>
                </a:lnTo>
                <a:lnTo>
                  <a:pt x="207" y="302"/>
                </a:lnTo>
                <a:lnTo>
                  <a:pt x="287" y="203"/>
                </a:lnTo>
                <a:lnTo>
                  <a:pt x="287" y="203"/>
                </a:lnTo>
                <a:lnTo>
                  <a:pt x="349" y="106"/>
                </a:lnTo>
                <a:lnTo>
                  <a:pt x="341" y="106"/>
                </a:lnTo>
                <a:lnTo>
                  <a:pt x="403" y="151"/>
                </a:lnTo>
                <a:lnTo>
                  <a:pt x="39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85" name=""/>
          <p:cNvSpPr/>
          <p:nvPr/>
        </p:nvSpPr>
        <p:spPr>
          <a:xfrm>
            <a:off x="3222720" y="3862440"/>
            <a:ext cx="160200" cy="455400"/>
          </a:xfrm>
          <a:custGeom>
            <a:avLst/>
            <a:gdLst/>
            <a:ahLst/>
            <a:rect l="l" t="t" r="r" b="b"/>
            <a:pathLst>
              <a:path w="204" h="574">
                <a:moveTo>
                  <a:pt x="180" y="126"/>
                </a:moveTo>
                <a:lnTo>
                  <a:pt x="198" y="285"/>
                </a:lnTo>
                <a:lnTo>
                  <a:pt x="204" y="446"/>
                </a:lnTo>
                <a:lnTo>
                  <a:pt x="132" y="566"/>
                </a:lnTo>
                <a:lnTo>
                  <a:pt x="25" y="574"/>
                </a:lnTo>
                <a:lnTo>
                  <a:pt x="0" y="519"/>
                </a:lnTo>
                <a:lnTo>
                  <a:pt x="6" y="494"/>
                </a:lnTo>
                <a:lnTo>
                  <a:pt x="82" y="407"/>
                </a:lnTo>
                <a:lnTo>
                  <a:pt x="111" y="378"/>
                </a:lnTo>
                <a:lnTo>
                  <a:pt x="103" y="300"/>
                </a:lnTo>
                <a:lnTo>
                  <a:pt x="45" y="102"/>
                </a:lnTo>
                <a:lnTo>
                  <a:pt x="20" y="44"/>
                </a:lnTo>
                <a:lnTo>
                  <a:pt x="20" y="7"/>
                </a:lnTo>
                <a:lnTo>
                  <a:pt x="16" y="0"/>
                </a:lnTo>
                <a:lnTo>
                  <a:pt x="82" y="7"/>
                </a:lnTo>
                <a:lnTo>
                  <a:pt x="136" y="83"/>
                </a:lnTo>
                <a:lnTo>
                  <a:pt x="180" y="126"/>
                </a:lnTo>
                <a:close/>
              </a:path>
            </a:pathLst>
          </a:custGeom>
          <a:solidFill>
            <a:srgbClr val="d39e7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86" name=""/>
          <p:cNvSpPr/>
          <p:nvPr/>
        </p:nvSpPr>
        <p:spPr>
          <a:xfrm>
            <a:off x="3336840" y="3533760"/>
            <a:ext cx="244440" cy="101520"/>
          </a:xfrm>
          <a:custGeom>
            <a:avLst/>
            <a:gdLst/>
            <a:ahLst/>
            <a:rect l="l" t="t" r="r" b="b"/>
            <a:pathLst>
              <a:path w="308" h="128">
                <a:moveTo>
                  <a:pt x="9" y="29"/>
                </a:moveTo>
                <a:lnTo>
                  <a:pt x="0" y="64"/>
                </a:lnTo>
                <a:lnTo>
                  <a:pt x="23" y="116"/>
                </a:lnTo>
                <a:lnTo>
                  <a:pt x="69" y="128"/>
                </a:lnTo>
                <a:lnTo>
                  <a:pt x="174" y="62"/>
                </a:lnTo>
                <a:lnTo>
                  <a:pt x="308" y="56"/>
                </a:lnTo>
                <a:lnTo>
                  <a:pt x="285" y="15"/>
                </a:lnTo>
                <a:lnTo>
                  <a:pt x="118" y="0"/>
                </a:lnTo>
                <a:lnTo>
                  <a:pt x="9" y="29"/>
                </a:lnTo>
                <a:close/>
              </a:path>
            </a:pathLst>
          </a:custGeom>
          <a:solidFill>
            <a:srgbClr val="e8aa7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87" name=""/>
          <p:cNvSpPr/>
          <p:nvPr/>
        </p:nvSpPr>
        <p:spPr>
          <a:xfrm>
            <a:off x="3351240" y="3541680"/>
            <a:ext cx="208080" cy="87480"/>
          </a:xfrm>
          <a:custGeom>
            <a:avLst/>
            <a:gdLst/>
            <a:ahLst/>
            <a:rect l="l" t="t" r="r" b="b"/>
            <a:pathLst>
              <a:path w="262" h="111">
                <a:moveTo>
                  <a:pt x="8" y="25"/>
                </a:moveTo>
                <a:lnTo>
                  <a:pt x="4" y="41"/>
                </a:lnTo>
                <a:lnTo>
                  <a:pt x="0" y="57"/>
                </a:lnTo>
                <a:lnTo>
                  <a:pt x="10" y="78"/>
                </a:lnTo>
                <a:lnTo>
                  <a:pt x="19" y="99"/>
                </a:lnTo>
                <a:lnTo>
                  <a:pt x="41" y="105"/>
                </a:lnTo>
                <a:lnTo>
                  <a:pt x="60" y="111"/>
                </a:lnTo>
                <a:lnTo>
                  <a:pt x="149" y="53"/>
                </a:lnTo>
                <a:lnTo>
                  <a:pt x="262" y="49"/>
                </a:lnTo>
                <a:lnTo>
                  <a:pt x="252" y="31"/>
                </a:lnTo>
                <a:lnTo>
                  <a:pt x="242" y="14"/>
                </a:lnTo>
                <a:lnTo>
                  <a:pt x="173" y="8"/>
                </a:lnTo>
                <a:lnTo>
                  <a:pt x="101" y="0"/>
                </a:lnTo>
                <a:lnTo>
                  <a:pt x="8" y="25"/>
                </a:lnTo>
                <a:close/>
              </a:path>
            </a:pathLst>
          </a:custGeom>
          <a:solidFill>
            <a:srgbClr val="e0a87a"/>
          </a:solidFill>
          <a:ln w="0">
            <a:noFill/>
          </a:ln>
        </p:spPr>
        <p:style>
          <a:lnRef idx="0"/>
          <a:fillRef idx="0"/>
          <a:effectRef idx="0"/>
          <a:fontRef idx="minor"/>
        </p:style>
        <p:txBody>
          <a:bodyPr lIns="90000" rIns="90000" tIns="40680" bIns="40680" anchor="t">
            <a:noAutofit/>
          </a:bodyPr>
          <a:p>
            <a:endParaRPr b="0" lang="en-US" sz="2400" spc="-1" strike="noStrike">
              <a:solidFill>
                <a:srgbClr val="ffff66"/>
              </a:solidFill>
              <a:latin typeface="Times New Roman"/>
            </a:endParaRPr>
          </a:p>
        </p:txBody>
      </p:sp>
      <p:sp>
        <p:nvSpPr>
          <p:cNvPr id="388" name=""/>
          <p:cNvSpPr/>
          <p:nvPr/>
        </p:nvSpPr>
        <p:spPr>
          <a:xfrm>
            <a:off x="3365640" y="3549600"/>
            <a:ext cx="169560" cy="73080"/>
          </a:xfrm>
          <a:custGeom>
            <a:avLst/>
            <a:gdLst/>
            <a:ahLst/>
            <a:rect l="l" t="t" r="r" b="b"/>
            <a:pathLst>
              <a:path w="216" h="91">
                <a:moveTo>
                  <a:pt x="8" y="21"/>
                </a:moveTo>
                <a:lnTo>
                  <a:pt x="4" y="33"/>
                </a:lnTo>
                <a:lnTo>
                  <a:pt x="0" y="47"/>
                </a:lnTo>
                <a:lnTo>
                  <a:pt x="8" y="66"/>
                </a:lnTo>
                <a:lnTo>
                  <a:pt x="16" y="83"/>
                </a:lnTo>
                <a:lnTo>
                  <a:pt x="33" y="87"/>
                </a:lnTo>
                <a:lnTo>
                  <a:pt x="51" y="91"/>
                </a:lnTo>
                <a:lnTo>
                  <a:pt x="86" y="68"/>
                </a:lnTo>
                <a:lnTo>
                  <a:pt x="123" y="45"/>
                </a:lnTo>
                <a:lnTo>
                  <a:pt x="169" y="43"/>
                </a:lnTo>
                <a:lnTo>
                  <a:pt x="216" y="41"/>
                </a:lnTo>
                <a:lnTo>
                  <a:pt x="208" y="27"/>
                </a:lnTo>
                <a:lnTo>
                  <a:pt x="200" y="12"/>
                </a:lnTo>
                <a:lnTo>
                  <a:pt x="142" y="6"/>
                </a:lnTo>
                <a:lnTo>
                  <a:pt x="84" y="0"/>
                </a:lnTo>
                <a:lnTo>
                  <a:pt x="64" y="6"/>
                </a:lnTo>
                <a:lnTo>
                  <a:pt x="45" y="12"/>
                </a:lnTo>
                <a:lnTo>
                  <a:pt x="8" y="21"/>
                </a:lnTo>
                <a:close/>
              </a:path>
            </a:pathLst>
          </a:custGeom>
          <a:solidFill>
            <a:srgbClr val="d8a377"/>
          </a:solidFill>
          <a:ln w="0">
            <a:noFill/>
          </a:ln>
        </p:spPr>
        <p:style>
          <a:lnRef idx="0"/>
          <a:fillRef idx="0"/>
          <a:effectRef idx="0"/>
          <a:fontRef idx="minor"/>
        </p:style>
        <p:txBody>
          <a:bodyPr lIns="90000" rIns="90000" tIns="26280" bIns="26280" anchor="t">
            <a:noAutofit/>
          </a:bodyPr>
          <a:p>
            <a:endParaRPr b="0" lang="en-US" sz="2400" spc="-1" strike="noStrike">
              <a:solidFill>
                <a:srgbClr val="ffff66"/>
              </a:solidFill>
              <a:latin typeface="Times New Roman"/>
            </a:endParaRPr>
          </a:p>
        </p:txBody>
      </p:sp>
      <p:sp>
        <p:nvSpPr>
          <p:cNvPr id="389" name=""/>
          <p:cNvSpPr/>
          <p:nvPr/>
        </p:nvSpPr>
        <p:spPr>
          <a:xfrm>
            <a:off x="3379680" y="3559320"/>
            <a:ext cx="135000" cy="55440"/>
          </a:xfrm>
          <a:custGeom>
            <a:avLst/>
            <a:gdLst/>
            <a:ahLst/>
            <a:rect l="l" t="t" r="r" b="b"/>
            <a:pathLst>
              <a:path w="169" h="69">
                <a:moveTo>
                  <a:pt x="4" y="15"/>
                </a:moveTo>
                <a:lnTo>
                  <a:pt x="2" y="25"/>
                </a:lnTo>
                <a:lnTo>
                  <a:pt x="0" y="35"/>
                </a:lnTo>
                <a:lnTo>
                  <a:pt x="6" y="50"/>
                </a:lnTo>
                <a:lnTo>
                  <a:pt x="12" y="64"/>
                </a:lnTo>
                <a:lnTo>
                  <a:pt x="25" y="67"/>
                </a:lnTo>
                <a:lnTo>
                  <a:pt x="37" y="69"/>
                </a:lnTo>
                <a:lnTo>
                  <a:pt x="95" y="33"/>
                </a:lnTo>
                <a:lnTo>
                  <a:pt x="169" y="31"/>
                </a:lnTo>
                <a:lnTo>
                  <a:pt x="155" y="7"/>
                </a:lnTo>
                <a:lnTo>
                  <a:pt x="110" y="3"/>
                </a:lnTo>
                <a:lnTo>
                  <a:pt x="64" y="0"/>
                </a:lnTo>
                <a:lnTo>
                  <a:pt x="4" y="15"/>
                </a:lnTo>
                <a:close/>
              </a:path>
            </a:pathLst>
          </a:custGeom>
          <a:solidFill>
            <a:srgbClr val="d19e75"/>
          </a:solidFill>
          <a:ln w="0">
            <a:noFill/>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390" name=""/>
          <p:cNvSpPr/>
          <p:nvPr/>
        </p:nvSpPr>
        <p:spPr>
          <a:xfrm>
            <a:off x="3394080" y="3567240"/>
            <a:ext cx="96840" cy="39600"/>
          </a:xfrm>
          <a:custGeom>
            <a:avLst/>
            <a:gdLst/>
            <a:ahLst/>
            <a:rect l="l" t="t" r="r" b="b"/>
            <a:pathLst>
              <a:path w="123" h="51">
                <a:moveTo>
                  <a:pt x="2" y="12"/>
                </a:moveTo>
                <a:lnTo>
                  <a:pt x="0" y="27"/>
                </a:lnTo>
                <a:lnTo>
                  <a:pt x="4" y="37"/>
                </a:lnTo>
                <a:lnTo>
                  <a:pt x="8" y="47"/>
                </a:lnTo>
                <a:lnTo>
                  <a:pt x="18" y="49"/>
                </a:lnTo>
                <a:lnTo>
                  <a:pt x="27" y="51"/>
                </a:lnTo>
                <a:lnTo>
                  <a:pt x="49" y="39"/>
                </a:lnTo>
                <a:lnTo>
                  <a:pt x="68" y="24"/>
                </a:lnTo>
                <a:lnTo>
                  <a:pt x="123" y="24"/>
                </a:lnTo>
                <a:lnTo>
                  <a:pt x="113" y="6"/>
                </a:lnTo>
                <a:lnTo>
                  <a:pt x="80" y="2"/>
                </a:lnTo>
                <a:lnTo>
                  <a:pt x="47" y="0"/>
                </a:lnTo>
                <a:lnTo>
                  <a:pt x="26" y="6"/>
                </a:lnTo>
                <a:lnTo>
                  <a:pt x="2" y="12"/>
                </a:lnTo>
                <a:close/>
              </a:path>
            </a:pathLst>
          </a:custGeom>
          <a:solidFill>
            <a:srgbClr val="c99670"/>
          </a:solidFill>
          <a:ln w="0">
            <a:noFill/>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391" name=""/>
          <p:cNvSpPr/>
          <p:nvPr/>
        </p:nvSpPr>
        <p:spPr>
          <a:xfrm>
            <a:off x="3406680" y="3575160"/>
            <a:ext cx="61920" cy="25200"/>
          </a:xfrm>
          <a:custGeom>
            <a:avLst/>
            <a:gdLst/>
            <a:ahLst/>
            <a:rect l="l" t="t" r="r" b="b"/>
            <a:pathLst>
              <a:path w="77" h="33">
                <a:moveTo>
                  <a:pt x="4" y="6"/>
                </a:moveTo>
                <a:lnTo>
                  <a:pt x="0" y="17"/>
                </a:lnTo>
                <a:lnTo>
                  <a:pt x="6" y="29"/>
                </a:lnTo>
                <a:lnTo>
                  <a:pt x="19" y="33"/>
                </a:lnTo>
                <a:lnTo>
                  <a:pt x="44" y="16"/>
                </a:lnTo>
                <a:lnTo>
                  <a:pt x="77" y="14"/>
                </a:lnTo>
                <a:lnTo>
                  <a:pt x="72" y="4"/>
                </a:lnTo>
                <a:lnTo>
                  <a:pt x="31" y="0"/>
                </a:lnTo>
                <a:lnTo>
                  <a:pt x="4" y="6"/>
                </a:lnTo>
                <a:close/>
              </a:path>
            </a:pathLst>
          </a:custGeom>
          <a:solidFill>
            <a:srgbClr val="c1916b"/>
          </a:solidFill>
          <a:ln w="0">
            <a:noFill/>
          </a:ln>
        </p:spPr>
        <p:style>
          <a:lnRef idx="0"/>
          <a:fillRef idx="0"/>
          <a:effectRef idx="0"/>
          <a:fontRef idx="minor"/>
        </p:style>
        <p:txBody>
          <a:bodyPr lIns="90000" rIns="90000" tIns="-21600" bIns="-21600" anchor="t">
            <a:noAutofit/>
          </a:bodyPr>
          <a:p>
            <a:endParaRPr b="0" lang="en-US" sz="2400" spc="-1" strike="noStrike">
              <a:solidFill>
                <a:srgbClr val="ffff66"/>
              </a:solidFill>
              <a:latin typeface="Times New Roman"/>
            </a:endParaRPr>
          </a:p>
        </p:txBody>
      </p:sp>
      <p:sp>
        <p:nvSpPr>
          <p:cNvPr id="392" name=""/>
          <p:cNvSpPr/>
          <p:nvPr/>
        </p:nvSpPr>
        <p:spPr>
          <a:xfrm>
            <a:off x="3773520" y="3448080"/>
            <a:ext cx="104760" cy="109440"/>
          </a:xfrm>
          <a:custGeom>
            <a:avLst/>
            <a:gdLst/>
            <a:ahLst/>
            <a:rect l="l" t="t" r="r" b="b"/>
            <a:pathLst>
              <a:path w="132" h="138">
                <a:moveTo>
                  <a:pt x="0" y="118"/>
                </a:moveTo>
                <a:lnTo>
                  <a:pt x="10" y="138"/>
                </a:lnTo>
                <a:lnTo>
                  <a:pt x="49" y="109"/>
                </a:lnTo>
                <a:lnTo>
                  <a:pt x="125" y="87"/>
                </a:lnTo>
                <a:lnTo>
                  <a:pt x="132" y="8"/>
                </a:lnTo>
                <a:lnTo>
                  <a:pt x="97" y="0"/>
                </a:lnTo>
                <a:lnTo>
                  <a:pt x="14" y="68"/>
                </a:lnTo>
                <a:lnTo>
                  <a:pt x="0" y="118"/>
                </a:lnTo>
                <a:close/>
              </a:path>
            </a:pathLst>
          </a:custGeom>
          <a:solidFill>
            <a:srgbClr val="e8aa7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393" name=""/>
          <p:cNvSpPr/>
          <p:nvPr/>
        </p:nvSpPr>
        <p:spPr>
          <a:xfrm>
            <a:off x="3784680" y="3454560"/>
            <a:ext cx="90360" cy="91800"/>
          </a:xfrm>
          <a:custGeom>
            <a:avLst/>
            <a:gdLst/>
            <a:ahLst/>
            <a:rect l="l" t="t" r="r" b="b"/>
            <a:pathLst>
              <a:path w="112" h="116">
                <a:moveTo>
                  <a:pt x="0" y="101"/>
                </a:moveTo>
                <a:lnTo>
                  <a:pt x="8" y="116"/>
                </a:lnTo>
                <a:lnTo>
                  <a:pt x="41" y="93"/>
                </a:lnTo>
                <a:lnTo>
                  <a:pt x="107" y="73"/>
                </a:lnTo>
                <a:lnTo>
                  <a:pt x="112" y="8"/>
                </a:lnTo>
                <a:lnTo>
                  <a:pt x="97" y="4"/>
                </a:lnTo>
                <a:lnTo>
                  <a:pt x="83" y="0"/>
                </a:lnTo>
                <a:lnTo>
                  <a:pt x="12" y="58"/>
                </a:lnTo>
                <a:lnTo>
                  <a:pt x="8" y="79"/>
                </a:lnTo>
                <a:lnTo>
                  <a:pt x="0" y="101"/>
                </a:lnTo>
                <a:close/>
              </a:path>
            </a:pathLst>
          </a:custGeom>
          <a:solidFill>
            <a:srgbClr val="e0a87a"/>
          </a:solidFill>
          <a:ln w="0">
            <a:noFill/>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394" name=""/>
          <p:cNvSpPr/>
          <p:nvPr/>
        </p:nvSpPr>
        <p:spPr>
          <a:xfrm>
            <a:off x="3797280" y="3460680"/>
            <a:ext cx="74520" cy="76320"/>
          </a:xfrm>
          <a:custGeom>
            <a:avLst/>
            <a:gdLst/>
            <a:ahLst/>
            <a:rect l="l" t="t" r="r" b="b"/>
            <a:pathLst>
              <a:path w="94" h="96">
                <a:moveTo>
                  <a:pt x="0" y="83"/>
                </a:moveTo>
                <a:lnTo>
                  <a:pt x="4" y="91"/>
                </a:lnTo>
                <a:lnTo>
                  <a:pt x="8" y="96"/>
                </a:lnTo>
                <a:lnTo>
                  <a:pt x="22" y="87"/>
                </a:lnTo>
                <a:lnTo>
                  <a:pt x="33" y="75"/>
                </a:lnTo>
                <a:lnTo>
                  <a:pt x="63" y="69"/>
                </a:lnTo>
                <a:lnTo>
                  <a:pt x="88" y="60"/>
                </a:lnTo>
                <a:lnTo>
                  <a:pt x="92" y="32"/>
                </a:lnTo>
                <a:lnTo>
                  <a:pt x="94" y="5"/>
                </a:lnTo>
                <a:lnTo>
                  <a:pt x="82" y="3"/>
                </a:lnTo>
                <a:lnTo>
                  <a:pt x="70" y="0"/>
                </a:lnTo>
                <a:lnTo>
                  <a:pt x="41" y="25"/>
                </a:lnTo>
                <a:lnTo>
                  <a:pt x="10" y="48"/>
                </a:lnTo>
                <a:lnTo>
                  <a:pt x="0" y="83"/>
                </a:lnTo>
                <a:close/>
              </a:path>
            </a:pathLst>
          </a:custGeom>
          <a:solidFill>
            <a:srgbClr val="d8a377"/>
          </a:solidFill>
          <a:ln w="0">
            <a:noFill/>
          </a:ln>
        </p:spPr>
        <p:style>
          <a:lnRef idx="0"/>
          <a:fillRef idx="0"/>
          <a:effectRef idx="0"/>
          <a:fontRef idx="minor"/>
        </p:style>
        <p:txBody>
          <a:bodyPr lIns="90000" rIns="90000" tIns="29520" bIns="29520" anchor="t">
            <a:noAutofit/>
          </a:bodyPr>
          <a:p>
            <a:endParaRPr b="0" lang="en-US" sz="2400" spc="-1" strike="noStrike">
              <a:solidFill>
                <a:srgbClr val="ffff66"/>
              </a:solidFill>
              <a:latin typeface="Times New Roman"/>
            </a:endParaRPr>
          </a:p>
        </p:txBody>
      </p:sp>
      <p:sp>
        <p:nvSpPr>
          <p:cNvPr id="395" name=""/>
          <p:cNvSpPr/>
          <p:nvPr/>
        </p:nvSpPr>
        <p:spPr>
          <a:xfrm>
            <a:off x="3811680" y="3468600"/>
            <a:ext cx="56880" cy="57240"/>
          </a:xfrm>
          <a:custGeom>
            <a:avLst/>
            <a:gdLst/>
            <a:ahLst/>
            <a:rect l="l" t="t" r="r" b="b"/>
            <a:pathLst>
              <a:path w="72" h="74">
                <a:moveTo>
                  <a:pt x="0" y="64"/>
                </a:moveTo>
                <a:lnTo>
                  <a:pt x="2" y="70"/>
                </a:lnTo>
                <a:lnTo>
                  <a:pt x="4" y="74"/>
                </a:lnTo>
                <a:lnTo>
                  <a:pt x="15" y="66"/>
                </a:lnTo>
                <a:lnTo>
                  <a:pt x="25" y="58"/>
                </a:lnTo>
                <a:lnTo>
                  <a:pt x="68" y="47"/>
                </a:lnTo>
                <a:lnTo>
                  <a:pt x="70" y="25"/>
                </a:lnTo>
                <a:lnTo>
                  <a:pt x="72" y="2"/>
                </a:lnTo>
                <a:lnTo>
                  <a:pt x="52" y="0"/>
                </a:lnTo>
                <a:lnTo>
                  <a:pt x="8" y="37"/>
                </a:lnTo>
                <a:lnTo>
                  <a:pt x="4" y="51"/>
                </a:lnTo>
                <a:lnTo>
                  <a:pt x="0" y="64"/>
                </a:lnTo>
                <a:close/>
              </a:path>
            </a:pathLst>
          </a:custGeom>
          <a:solidFill>
            <a:srgbClr val="d19e75"/>
          </a:solidFill>
          <a:ln w="0">
            <a:noFill/>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396" name=""/>
          <p:cNvSpPr/>
          <p:nvPr/>
        </p:nvSpPr>
        <p:spPr>
          <a:xfrm>
            <a:off x="3822840" y="3473280"/>
            <a:ext cx="42840" cy="44640"/>
          </a:xfrm>
          <a:custGeom>
            <a:avLst/>
            <a:gdLst/>
            <a:ahLst/>
            <a:rect l="l" t="t" r="r" b="b"/>
            <a:pathLst>
              <a:path w="55" h="54">
                <a:moveTo>
                  <a:pt x="0" y="47"/>
                </a:moveTo>
                <a:lnTo>
                  <a:pt x="2" y="50"/>
                </a:lnTo>
                <a:lnTo>
                  <a:pt x="6" y="54"/>
                </a:lnTo>
                <a:lnTo>
                  <a:pt x="14" y="48"/>
                </a:lnTo>
                <a:lnTo>
                  <a:pt x="20" y="43"/>
                </a:lnTo>
                <a:lnTo>
                  <a:pt x="35" y="39"/>
                </a:lnTo>
                <a:lnTo>
                  <a:pt x="51" y="33"/>
                </a:lnTo>
                <a:lnTo>
                  <a:pt x="55" y="2"/>
                </a:lnTo>
                <a:lnTo>
                  <a:pt x="41" y="0"/>
                </a:lnTo>
                <a:lnTo>
                  <a:pt x="6" y="27"/>
                </a:lnTo>
                <a:lnTo>
                  <a:pt x="0" y="47"/>
                </a:lnTo>
                <a:close/>
              </a:path>
            </a:pathLst>
          </a:custGeom>
          <a:solidFill>
            <a:srgbClr val="c99670"/>
          </a:solidFill>
          <a:ln w="0">
            <a:noFill/>
          </a:ln>
        </p:spPr>
        <p:style>
          <a:lnRef idx="0"/>
          <a:fillRef idx="0"/>
          <a:effectRef idx="0"/>
          <a:fontRef idx="minor"/>
        </p:style>
        <p:txBody>
          <a:bodyPr lIns="90000" rIns="90000" tIns="-2160" bIns="-2160" anchor="t">
            <a:noAutofit/>
          </a:bodyPr>
          <a:p>
            <a:endParaRPr b="0" lang="en-US" sz="2400" spc="-1" strike="noStrike">
              <a:solidFill>
                <a:srgbClr val="ffff66"/>
              </a:solidFill>
              <a:latin typeface="Times New Roman"/>
            </a:endParaRPr>
          </a:p>
        </p:txBody>
      </p:sp>
      <p:sp>
        <p:nvSpPr>
          <p:cNvPr id="397" name=""/>
          <p:cNvSpPr/>
          <p:nvPr/>
        </p:nvSpPr>
        <p:spPr>
          <a:xfrm>
            <a:off x="3835440" y="3479760"/>
            <a:ext cx="27000" cy="28440"/>
          </a:xfrm>
          <a:custGeom>
            <a:avLst/>
            <a:gdLst/>
            <a:ahLst/>
            <a:rect l="l" t="t" r="r" b="b"/>
            <a:pathLst>
              <a:path w="33" h="35">
                <a:moveTo>
                  <a:pt x="0" y="29"/>
                </a:moveTo>
                <a:lnTo>
                  <a:pt x="2" y="35"/>
                </a:lnTo>
                <a:lnTo>
                  <a:pt x="12" y="27"/>
                </a:lnTo>
                <a:lnTo>
                  <a:pt x="31" y="21"/>
                </a:lnTo>
                <a:lnTo>
                  <a:pt x="33" y="2"/>
                </a:lnTo>
                <a:lnTo>
                  <a:pt x="23" y="0"/>
                </a:lnTo>
                <a:lnTo>
                  <a:pt x="2" y="15"/>
                </a:lnTo>
                <a:lnTo>
                  <a:pt x="0" y="29"/>
                </a:lnTo>
                <a:close/>
              </a:path>
            </a:pathLst>
          </a:custGeom>
          <a:solidFill>
            <a:srgbClr val="c1916b"/>
          </a:solidFill>
          <a:ln w="0">
            <a:noFill/>
          </a:ln>
        </p:spPr>
        <p:style>
          <a:lnRef idx="0"/>
          <a:fillRef idx="0"/>
          <a:effectRef idx="0"/>
          <a:fontRef idx="minor"/>
        </p:style>
        <p:txBody>
          <a:bodyPr lIns="90000" rIns="90000" tIns="-18360" bIns="-18360" anchor="t">
            <a:noAutofit/>
          </a:bodyPr>
          <a:p>
            <a:endParaRPr b="0" lang="en-US" sz="2400" spc="-1" strike="noStrike">
              <a:solidFill>
                <a:srgbClr val="ffff66"/>
              </a:solidFill>
              <a:latin typeface="Times New Roman"/>
            </a:endParaRPr>
          </a:p>
        </p:txBody>
      </p:sp>
      <p:sp>
        <p:nvSpPr>
          <p:cNvPr id="398" name=""/>
          <p:cNvSpPr/>
          <p:nvPr/>
        </p:nvSpPr>
        <p:spPr>
          <a:xfrm>
            <a:off x="3559320" y="3602160"/>
            <a:ext cx="28440" cy="28440"/>
          </a:xfrm>
          <a:custGeom>
            <a:avLst/>
            <a:gdLst/>
            <a:ahLst/>
            <a:rect l="l" t="t" r="r" b="b"/>
            <a:pathLst>
              <a:path w="37" h="37">
                <a:moveTo>
                  <a:pt x="19" y="0"/>
                </a:moveTo>
                <a:lnTo>
                  <a:pt x="25" y="2"/>
                </a:lnTo>
                <a:lnTo>
                  <a:pt x="31" y="6"/>
                </a:lnTo>
                <a:lnTo>
                  <a:pt x="35" y="12"/>
                </a:lnTo>
                <a:lnTo>
                  <a:pt x="37" y="19"/>
                </a:lnTo>
                <a:lnTo>
                  <a:pt x="35" y="27"/>
                </a:lnTo>
                <a:lnTo>
                  <a:pt x="31" y="31"/>
                </a:lnTo>
                <a:lnTo>
                  <a:pt x="25" y="35"/>
                </a:lnTo>
                <a:lnTo>
                  <a:pt x="19" y="37"/>
                </a:lnTo>
                <a:lnTo>
                  <a:pt x="11" y="35"/>
                </a:lnTo>
                <a:lnTo>
                  <a:pt x="6" y="31"/>
                </a:lnTo>
                <a:lnTo>
                  <a:pt x="2" y="27"/>
                </a:lnTo>
                <a:lnTo>
                  <a:pt x="0" y="19"/>
                </a:lnTo>
                <a:lnTo>
                  <a:pt x="2" y="12"/>
                </a:lnTo>
                <a:lnTo>
                  <a:pt x="6" y="6"/>
                </a:lnTo>
                <a:lnTo>
                  <a:pt x="11" y="2"/>
                </a:lnTo>
                <a:lnTo>
                  <a:pt x="19" y="0"/>
                </a:lnTo>
                <a:close/>
              </a:path>
            </a:pathLst>
          </a:custGeom>
          <a:solidFill>
            <a:srgbClr val="663200"/>
          </a:solidFill>
          <a:ln w="0">
            <a:noFill/>
          </a:ln>
        </p:spPr>
        <p:style>
          <a:lnRef idx="0"/>
          <a:fillRef idx="0"/>
          <a:effectRef idx="0"/>
          <a:fontRef idx="minor"/>
        </p:style>
        <p:txBody>
          <a:bodyPr lIns="90000" rIns="90000" tIns="-18360" bIns="-18360" anchor="t">
            <a:noAutofit/>
          </a:bodyPr>
          <a:p>
            <a:endParaRPr b="0" lang="en-US" sz="2400" spc="-1" strike="noStrike">
              <a:solidFill>
                <a:srgbClr val="ffff66"/>
              </a:solidFill>
              <a:latin typeface="Times New Roman"/>
            </a:endParaRPr>
          </a:p>
        </p:txBody>
      </p:sp>
      <p:sp>
        <p:nvSpPr>
          <p:cNvPr id="399" name=""/>
          <p:cNvSpPr/>
          <p:nvPr/>
        </p:nvSpPr>
        <p:spPr>
          <a:xfrm>
            <a:off x="3862440" y="3540240"/>
            <a:ext cx="28440" cy="31680"/>
          </a:xfrm>
          <a:custGeom>
            <a:avLst/>
            <a:gdLst/>
            <a:ahLst/>
            <a:rect l="l" t="t" r="r" b="b"/>
            <a:pathLst>
              <a:path w="37" h="39">
                <a:moveTo>
                  <a:pt x="17" y="0"/>
                </a:moveTo>
                <a:lnTo>
                  <a:pt x="25" y="2"/>
                </a:lnTo>
                <a:lnTo>
                  <a:pt x="31" y="6"/>
                </a:lnTo>
                <a:lnTo>
                  <a:pt x="35" y="12"/>
                </a:lnTo>
                <a:lnTo>
                  <a:pt x="37" y="20"/>
                </a:lnTo>
                <a:lnTo>
                  <a:pt x="35" y="26"/>
                </a:lnTo>
                <a:lnTo>
                  <a:pt x="31" y="31"/>
                </a:lnTo>
                <a:lnTo>
                  <a:pt x="25" y="37"/>
                </a:lnTo>
                <a:lnTo>
                  <a:pt x="17" y="39"/>
                </a:lnTo>
                <a:lnTo>
                  <a:pt x="12" y="37"/>
                </a:lnTo>
                <a:lnTo>
                  <a:pt x="6" y="31"/>
                </a:lnTo>
                <a:lnTo>
                  <a:pt x="2" y="26"/>
                </a:lnTo>
                <a:lnTo>
                  <a:pt x="0" y="20"/>
                </a:lnTo>
                <a:lnTo>
                  <a:pt x="2" y="12"/>
                </a:lnTo>
                <a:lnTo>
                  <a:pt x="6" y="6"/>
                </a:lnTo>
                <a:lnTo>
                  <a:pt x="12" y="2"/>
                </a:lnTo>
                <a:lnTo>
                  <a:pt x="17" y="0"/>
                </a:lnTo>
                <a:close/>
              </a:path>
            </a:pathLst>
          </a:custGeom>
          <a:solidFill>
            <a:srgbClr val="663200"/>
          </a:solidFill>
          <a:ln w="0">
            <a:noFill/>
          </a:ln>
        </p:spPr>
        <p:style>
          <a:lnRef idx="0"/>
          <a:fillRef idx="0"/>
          <a:effectRef idx="0"/>
          <a:fontRef idx="minor"/>
        </p:style>
        <p:txBody>
          <a:bodyPr lIns="90000" rIns="90000" tIns="-15120" bIns="-15120" anchor="t">
            <a:noAutofit/>
          </a:bodyPr>
          <a:p>
            <a:endParaRPr b="0" lang="en-US" sz="2400" spc="-1" strike="noStrike">
              <a:solidFill>
                <a:srgbClr val="ffff66"/>
              </a:solidFill>
              <a:latin typeface="Times New Roman"/>
            </a:endParaRPr>
          </a:p>
        </p:txBody>
      </p:sp>
      <p:sp>
        <p:nvSpPr>
          <p:cNvPr id="400" name=""/>
          <p:cNvSpPr/>
          <p:nvPr/>
        </p:nvSpPr>
        <p:spPr>
          <a:xfrm>
            <a:off x="3560760" y="5419800"/>
            <a:ext cx="816120" cy="585720"/>
          </a:xfrm>
          <a:custGeom>
            <a:avLst/>
            <a:gdLst/>
            <a:ahLst/>
            <a:rect l="l" t="t" r="r" b="b"/>
            <a:pathLst>
              <a:path w="1028" h="739">
                <a:moveTo>
                  <a:pt x="756" y="151"/>
                </a:moveTo>
                <a:lnTo>
                  <a:pt x="745" y="312"/>
                </a:lnTo>
                <a:lnTo>
                  <a:pt x="525" y="543"/>
                </a:lnTo>
                <a:lnTo>
                  <a:pt x="159" y="739"/>
                </a:lnTo>
                <a:lnTo>
                  <a:pt x="0" y="729"/>
                </a:lnTo>
                <a:lnTo>
                  <a:pt x="163" y="620"/>
                </a:lnTo>
                <a:lnTo>
                  <a:pt x="380" y="520"/>
                </a:lnTo>
                <a:lnTo>
                  <a:pt x="463" y="481"/>
                </a:lnTo>
                <a:lnTo>
                  <a:pt x="510" y="407"/>
                </a:lnTo>
                <a:lnTo>
                  <a:pt x="584" y="229"/>
                </a:lnTo>
                <a:lnTo>
                  <a:pt x="607" y="161"/>
                </a:lnTo>
                <a:lnTo>
                  <a:pt x="632" y="101"/>
                </a:lnTo>
                <a:lnTo>
                  <a:pt x="655" y="68"/>
                </a:lnTo>
                <a:lnTo>
                  <a:pt x="743" y="64"/>
                </a:lnTo>
                <a:lnTo>
                  <a:pt x="762" y="54"/>
                </a:lnTo>
                <a:lnTo>
                  <a:pt x="816" y="54"/>
                </a:lnTo>
                <a:lnTo>
                  <a:pt x="975" y="15"/>
                </a:lnTo>
                <a:lnTo>
                  <a:pt x="1014" y="0"/>
                </a:lnTo>
                <a:lnTo>
                  <a:pt x="1028" y="0"/>
                </a:lnTo>
                <a:lnTo>
                  <a:pt x="1004" y="68"/>
                </a:lnTo>
                <a:lnTo>
                  <a:pt x="1008" y="74"/>
                </a:lnTo>
                <a:lnTo>
                  <a:pt x="1004" y="74"/>
                </a:lnTo>
                <a:lnTo>
                  <a:pt x="997" y="101"/>
                </a:lnTo>
                <a:lnTo>
                  <a:pt x="845" y="130"/>
                </a:lnTo>
                <a:lnTo>
                  <a:pt x="830" y="134"/>
                </a:lnTo>
                <a:lnTo>
                  <a:pt x="814" y="138"/>
                </a:lnTo>
                <a:lnTo>
                  <a:pt x="799" y="140"/>
                </a:lnTo>
                <a:lnTo>
                  <a:pt x="787" y="143"/>
                </a:lnTo>
                <a:lnTo>
                  <a:pt x="776" y="145"/>
                </a:lnTo>
                <a:lnTo>
                  <a:pt x="768" y="147"/>
                </a:lnTo>
                <a:lnTo>
                  <a:pt x="760" y="149"/>
                </a:lnTo>
                <a:lnTo>
                  <a:pt x="756" y="151"/>
                </a:lnTo>
                <a:close/>
              </a:path>
            </a:pathLst>
          </a:custGeom>
          <a:solidFill>
            <a:srgbClr val="d39e7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01" name=""/>
          <p:cNvSpPr/>
          <p:nvPr/>
        </p:nvSpPr>
        <p:spPr>
          <a:xfrm>
            <a:off x="5280120" y="3530520"/>
            <a:ext cx="215640" cy="136440"/>
          </a:xfrm>
          <a:custGeom>
            <a:avLst/>
            <a:gdLst/>
            <a:ahLst/>
            <a:rect l="l" t="t" r="r" b="b"/>
            <a:pathLst>
              <a:path w="272" h="170">
                <a:moveTo>
                  <a:pt x="0" y="0"/>
                </a:moveTo>
                <a:lnTo>
                  <a:pt x="0" y="54"/>
                </a:lnTo>
                <a:lnTo>
                  <a:pt x="49" y="120"/>
                </a:lnTo>
                <a:lnTo>
                  <a:pt x="144" y="170"/>
                </a:lnTo>
                <a:lnTo>
                  <a:pt x="237" y="163"/>
                </a:lnTo>
                <a:lnTo>
                  <a:pt x="272" y="101"/>
                </a:lnTo>
                <a:lnTo>
                  <a:pt x="211" y="42"/>
                </a:lnTo>
                <a:lnTo>
                  <a:pt x="60" y="0"/>
                </a:lnTo>
                <a:lnTo>
                  <a:pt x="0" y="0"/>
                </a:lnTo>
                <a:close/>
              </a:path>
            </a:pathLst>
          </a:custGeom>
          <a:solidFill>
            <a:srgbClr val="f2b596"/>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02" name=""/>
          <p:cNvSpPr/>
          <p:nvPr/>
        </p:nvSpPr>
        <p:spPr>
          <a:xfrm>
            <a:off x="5297400" y="3540240"/>
            <a:ext cx="182520" cy="115920"/>
          </a:xfrm>
          <a:custGeom>
            <a:avLst/>
            <a:gdLst/>
            <a:ahLst/>
            <a:rect l="l" t="t" r="r" b="b"/>
            <a:pathLst>
              <a:path w="231" h="146">
                <a:moveTo>
                  <a:pt x="0" y="0"/>
                </a:moveTo>
                <a:lnTo>
                  <a:pt x="0" y="47"/>
                </a:lnTo>
                <a:lnTo>
                  <a:pt x="41" y="105"/>
                </a:lnTo>
                <a:lnTo>
                  <a:pt x="82" y="124"/>
                </a:lnTo>
                <a:lnTo>
                  <a:pt x="123" y="146"/>
                </a:lnTo>
                <a:lnTo>
                  <a:pt x="200" y="140"/>
                </a:lnTo>
                <a:lnTo>
                  <a:pt x="216" y="115"/>
                </a:lnTo>
                <a:lnTo>
                  <a:pt x="231" y="90"/>
                </a:lnTo>
                <a:lnTo>
                  <a:pt x="179" y="37"/>
                </a:lnTo>
                <a:lnTo>
                  <a:pt x="115" y="20"/>
                </a:lnTo>
                <a:lnTo>
                  <a:pt x="51" y="0"/>
                </a:lnTo>
                <a:lnTo>
                  <a:pt x="0" y="0"/>
                </a:lnTo>
                <a:close/>
              </a:path>
            </a:pathLst>
          </a:custGeom>
          <a:solidFill>
            <a:srgbClr val="f4bc9b"/>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03" name=""/>
          <p:cNvSpPr/>
          <p:nvPr/>
        </p:nvSpPr>
        <p:spPr>
          <a:xfrm>
            <a:off x="5311800" y="3551400"/>
            <a:ext cx="150840" cy="93600"/>
          </a:xfrm>
          <a:custGeom>
            <a:avLst/>
            <a:gdLst/>
            <a:ahLst/>
            <a:rect l="l" t="t" r="r" b="b"/>
            <a:pathLst>
              <a:path w="190" h="118">
                <a:moveTo>
                  <a:pt x="0" y="0"/>
                </a:moveTo>
                <a:lnTo>
                  <a:pt x="0" y="39"/>
                </a:lnTo>
                <a:lnTo>
                  <a:pt x="17" y="62"/>
                </a:lnTo>
                <a:lnTo>
                  <a:pt x="33" y="85"/>
                </a:lnTo>
                <a:lnTo>
                  <a:pt x="101" y="118"/>
                </a:lnTo>
                <a:lnTo>
                  <a:pt x="165" y="114"/>
                </a:lnTo>
                <a:lnTo>
                  <a:pt x="176" y="93"/>
                </a:lnTo>
                <a:lnTo>
                  <a:pt x="190" y="72"/>
                </a:lnTo>
                <a:lnTo>
                  <a:pt x="169" y="50"/>
                </a:lnTo>
                <a:lnTo>
                  <a:pt x="147" y="29"/>
                </a:lnTo>
                <a:lnTo>
                  <a:pt x="42" y="0"/>
                </a:lnTo>
                <a:lnTo>
                  <a:pt x="0" y="0"/>
                </a:lnTo>
                <a:close/>
              </a:path>
            </a:pathLst>
          </a:custGeom>
          <a:solidFill>
            <a:srgbClr val="f7c1a3"/>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04" name=""/>
          <p:cNvSpPr/>
          <p:nvPr/>
        </p:nvSpPr>
        <p:spPr>
          <a:xfrm>
            <a:off x="5329080" y="3562200"/>
            <a:ext cx="119160" cy="71640"/>
          </a:xfrm>
          <a:custGeom>
            <a:avLst/>
            <a:gdLst/>
            <a:ahLst/>
            <a:rect l="l" t="t" r="r" b="b"/>
            <a:pathLst>
              <a:path w="149" h="92">
                <a:moveTo>
                  <a:pt x="0" y="0"/>
                </a:moveTo>
                <a:lnTo>
                  <a:pt x="0" y="30"/>
                </a:lnTo>
                <a:lnTo>
                  <a:pt x="25" y="66"/>
                </a:lnTo>
                <a:lnTo>
                  <a:pt x="80" y="92"/>
                </a:lnTo>
                <a:lnTo>
                  <a:pt x="128" y="90"/>
                </a:lnTo>
                <a:lnTo>
                  <a:pt x="140" y="72"/>
                </a:lnTo>
                <a:lnTo>
                  <a:pt x="149" y="57"/>
                </a:lnTo>
                <a:lnTo>
                  <a:pt x="115" y="22"/>
                </a:lnTo>
                <a:lnTo>
                  <a:pt x="74" y="10"/>
                </a:lnTo>
                <a:lnTo>
                  <a:pt x="33" y="0"/>
                </a:lnTo>
                <a:lnTo>
                  <a:pt x="0" y="0"/>
                </a:lnTo>
                <a:close/>
              </a:path>
            </a:pathLst>
          </a:custGeom>
          <a:solidFill>
            <a:srgbClr val="f9c6aa"/>
          </a:solidFill>
          <a:ln w="0">
            <a:noFill/>
          </a:ln>
        </p:spPr>
        <p:style>
          <a:lnRef idx="0"/>
          <a:fillRef idx="0"/>
          <a:effectRef idx="0"/>
          <a:fontRef idx="minor"/>
        </p:style>
        <p:txBody>
          <a:bodyPr lIns="90000" rIns="90000" tIns="24840" bIns="24840" anchor="t">
            <a:noAutofit/>
          </a:bodyPr>
          <a:p>
            <a:endParaRPr b="0" lang="en-US" sz="2400" spc="-1" strike="noStrike">
              <a:solidFill>
                <a:srgbClr val="ffff66"/>
              </a:solidFill>
              <a:latin typeface="Times New Roman"/>
            </a:endParaRPr>
          </a:p>
        </p:txBody>
      </p:sp>
      <p:sp>
        <p:nvSpPr>
          <p:cNvPr id="405" name=""/>
          <p:cNvSpPr/>
          <p:nvPr/>
        </p:nvSpPr>
        <p:spPr>
          <a:xfrm>
            <a:off x="5345280" y="3571920"/>
            <a:ext cx="85680" cy="52200"/>
          </a:xfrm>
          <a:custGeom>
            <a:avLst/>
            <a:gdLst/>
            <a:ahLst/>
            <a:rect l="l" t="t" r="r" b="b"/>
            <a:pathLst>
              <a:path w="108" h="68">
                <a:moveTo>
                  <a:pt x="0" y="0"/>
                </a:moveTo>
                <a:lnTo>
                  <a:pt x="0" y="21"/>
                </a:lnTo>
                <a:lnTo>
                  <a:pt x="19" y="49"/>
                </a:lnTo>
                <a:lnTo>
                  <a:pt x="38" y="58"/>
                </a:lnTo>
                <a:lnTo>
                  <a:pt x="58" y="68"/>
                </a:lnTo>
                <a:lnTo>
                  <a:pt x="95" y="66"/>
                </a:lnTo>
                <a:lnTo>
                  <a:pt x="102" y="54"/>
                </a:lnTo>
                <a:lnTo>
                  <a:pt x="108" y="41"/>
                </a:lnTo>
                <a:lnTo>
                  <a:pt x="83" y="18"/>
                </a:lnTo>
                <a:lnTo>
                  <a:pt x="54" y="8"/>
                </a:lnTo>
                <a:lnTo>
                  <a:pt x="25" y="0"/>
                </a:lnTo>
                <a:lnTo>
                  <a:pt x="0" y="0"/>
                </a:lnTo>
                <a:close/>
              </a:path>
            </a:pathLst>
          </a:custGeom>
          <a:solidFill>
            <a:srgbClr val="fcccb2"/>
          </a:solidFill>
          <a:ln w="0">
            <a:noFill/>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406" name=""/>
          <p:cNvSpPr/>
          <p:nvPr/>
        </p:nvSpPr>
        <p:spPr>
          <a:xfrm>
            <a:off x="5361120" y="3581280"/>
            <a:ext cx="54000" cy="34920"/>
          </a:xfrm>
          <a:custGeom>
            <a:avLst/>
            <a:gdLst/>
            <a:ahLst/>
            <a:rect l="l" t="t" r="r" b="b"/>
            <a:pathLst>
              <a:path w="68" h="42">
                <a:moveTo>
                  <a:pt x="0" y="0"/>
                </a:moveTo>
                <a:lnTo>
                  <a:pt x="0" y="11"/>
                </a:lnTo>
                <a:lnTo>
                  <a:pt x="10" y="29"/>
                </a:lnTo>
                <a:lnTo>
                  <a:pt x="35" y="42"/>
                </a:lnTo>
                <a:lnTo>
                  <a:pt x="58" y="40"/>
                </a:lnTo>
                <a:lnTo>
                  <a:pt x="68" y="25"/>
                </a:lnTo>
                <a:lnTo>
                  <a:pt x="52" y="9"/>
                </a:lnTo>
                <a:lnTo>
                  <a:pt x="15" y="0"/>
                </a:lnTo>
                <a:lnTo>
                  <a:pt x="0" y="0"/>
                </a:lnTo>
                <a:close/>
              </a:path>
            </a:pathLst>
          </a:custGeom>
          <a:solidFill>
            <a:srgbClr val="ffd1ba"/>
          </a:solidFill>
          <a:ln w="0">
            <a:noFill/>
          </a:ln>
        </p:spPr>
        <p:style>
          <a:lnRef idx="0"/>
          <a:fillRef idx="0"/>
          <a:effectRef idx="0"/>
          <a:fontRef idx="minor"/>
        </p:style>
        <p:txBody>
          <a:bodyPr lIns="90000" rIns="90000" tIns="-11880" bIns="-11880" anchor="t">
            <a:noAutofit/>
          </a:bodyPr>
          <a:p>
            <a:endParaRPr b="0" lang="en-US" sz="2400" spc="-1" strike="noStrike">
              <a:solidFill>
                <a:srgbClr val="ffff66"/>
              </a:solidFill>
              <a:latin typeface="Times New Roman"/>
            </a:endParaRPr>
          </a:p>
        </p:txBody>
      </p:sp>
      <p:sp>
        <p:nvSpPr>
          <p:cNvPr id="407" name=""/>
          <p:cNvSpPr/>
          <p:nvPr/>
        </p:nvSpPr>
        <p:spPr>
          <a:xfrm>
            <a:off x="5164200" y="3832200"/>
            <a:ext cx="135000" cy="77760"/>
          </a:xfrm>
          <a:custGeom>
            <a:avLst/>
            <a:gdLst/>
            <a:ahLst/>
            <a:rect l="l" t="t" r="r" b="b"/>
            <a:pathLst>
              <a:path w="168" h="97">
                <a:moveTo>
                  <a:pt x="132" y="0"/>
                </a:moveTo>
                <a:lnTo>
                  <a:pt x="0" y="13"/>
                </a:lnTo>
                <a:lnTo>
                  <a:pt x="5" y="85"/>
                </a:lnTo>
                <a:lnTo>
                  <a:pt x="83" y="97"/>
                </a:lnTo>
                <a:lnTo>
                  <a:pt x="168" y="73"/>
                </a:lnTo>
                <a:lnTo>
                  <a:pt x="132" y="0"/>
                </a:lnTo>
                <a:close/>
              </a:path>
            </a:pathLst>
          </a:custGeom>
          <a:solidFill>
            <a:srgbClr val="f2b596"/>
          </a:solidFill>
          <a:ln w="0">
            <a:noFill/>
          </a:ln>
        </p:spPr>
        <p:style>
          <a:lnRef idx="0"/>
          <a:fillRef idx="0"/>
          <a:effectRef idx="0"/>
          <a:fontRef idx="minor"/>
        </p:style>
        <p:txBody>
          <a:bodyPr lIns="90000" rIns="90000" tIns="30960" bIns="30960" anchor="t">
            <a:noAutofit/>
          </a:bodyPr>
          <a:p>
            <a:endParaRPr b="0" lang="en-US" sz="2400" spc="-1" strike="noStrike">
              <a:solidFill>
                <a:srgbClr val="ffff66"/>
              </a:solidFill>
              <a:latin typeface="Times New Roman"/>
            </a:endParaRPr>
          </a:p>
        </p:txBody>
      </p:sp>
      <p:sp>
        <p:nvSpPr>
          <p:cNvPr id="408" name=""/>
          <p:cNvSpPr/>
          <p:nvPr/>
        </p:nvSpPr>
        <p:spPr>
          <a:xfrm>
            <a:off x="5173560" y="3838680"/>
            <a:ext cx="115920" cy="65160"/>
          </a:xfrm>
          <a:custGeom>
            <a:avLst/>
            <a:gdLst/>
            <a:ahLst/>
            <a:rect l="l" t="t" r="r" b="b"/>
            <a:pathLst>
              <a:path w="146" h="81">
                <a:moveTo>
                  <a:pt x="115" y="0"/>
                </a:moveTo>
                <a:lnTo>
                  <a:pt x="58" y="5"/>
                </a:lnTo>
                <a:lnTo>
                  <a:pt x="0" y="9"/>
                </a:lnTo>
                <a:lnTo>
                  <a:pt x="6" y="73"/>
                </a:lnTo>
                <a:lnTo>
                  <a:pt x="72" y="81"/>
                </a:lnTo>
                <a:lnTo>
                  <a:pt x="146" y="62"/>
                </a:lnTo>
                <a:lnTo>
                  <a:pt x="130" y="31"/>
                </a:lnTo>
                <a:lnTo>
                  <a:pt x="115" y="0"/>
                </a:lnTo>
                <a:close/>
              </a:path>
            </a:pathLst>
          </a:custGeom>
          <a:solidFill>
            <a:srgbClr val="f4bc9b"/>
          </a:solidFill>
          <a:ln w="0">
            <a:noFill/>
          </a:ln>
        </p:spPr>
        <p:style>
          <a:lnRef idx="0"/>
          <a:fillRef idx="0"/>
          <a:effectRef idx="0"/>
          <a:fontRef idx="minor"/>
        </p:style>
        <p:txBody>
          <a:bodyPr lIns="90000" rIns="90000" tIns="18360" bIns="18360" anchor="t">
            <a:noAutofit/>
          </a:bodyPr>
          <a:p>
            <a:endParaRPr b="0" lang="en-US" sz="2400" spc="-1" strike="noStrike">
              <a:solidFill>
                <a:srgbClr val="ffff66"/>
              </a:solidFill>
              <a:latin typeface="Times New Roman"/>
            </a:endParaRPr>
          </a:p>
        </p:txBody>
      </p:sp>
      <p:sp>
        <p:nvSpPr>
          <p:cNvPr id="409" name=""/>
          <p:cNvSpPr/>
          <p:nvPr/>
        </p:nvSpPr>
        <p:spPr>
          <a:xfrm>
            <a:off x="5184720" y="3844800"/>
            <a:ext cx="93600" cy="54000"/>
          </a:xfrm>
          <a:custGeom>
            <a:avLst/>
            <a:gdLst/>
            <a:ahLst/>
            <a:rect l="l" t="t" r="r" b="b"/>
            <a:pathLst>
              <a:path w="118" h="68">
                <a:moveTo>
                  <a:pt x="93" y="0"/>
                </a:moveTo>
                <a:lnTo>
                  <a:pt x="46" y="4"/>
                </a:lnTo>
                <a:lnTo>
                  <a:pt x="0" y="8"/>
                </a:lnTo>
                <a:lnTo>
                  <a:pt x="4" y="58"/>
                </a:lnTo>
                <a:lnTo>
                  <a:pt x="58" y="68"/>
                </a:lnTo>
                <a:lnTo>
                  <a:pt x="89" y="60"/>
                </a:lnTo>
                <a:lnTo>
                  <a:pt x="118" y="51"/>
                </a:lnTo>
                <a:lnTo>
                  <a:pt x="93" y="0"/>
                </a:lnTo>
                <a:close/>
              </a:path>
            </a:pathLst>
          </a:custGeom>
          <a:solidFill>
            <a:srgbClr val="f7c1a3"/>
          </a:solidFill>
          <a:ln w="0">
            <a:noFill/>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410" name=""/>
          <p:cNvSpPr/>
          <p:nvPr/>
        </p:nvSpPr>
        <p:spPr>
          <a:xfrm>
            <a:off x="5195880" y="3851280"/>
            <a:ext cx="73080" cy="41400"/>
          </a:xfrm>
          <a:custGeom>
            <a:avLst/>
            <a:gdLst/>
            <a:ahLst/>
            <a:rect l="l" t="t" r="r" b="b"/>
            <a:pathLst>
              <a:path w="94" h="52">
                <a:moveTo>
                  <a:pt x="72" y="0"/>
                </a:moveTo>
                <a:lnTo>
                  <a:pt x="37" y="4"/>
                </a:lnTo>
                <a:lnTo>
                  <a:pt x="0" y="6"/>
                </a:lnTo>
                <a:lnTo>
                  <a:pt x="0" y="25"/>
                </a:lnTo>
                <a:lnTo>
                  <a:pt x="4" y="47"/>
                </a:lnTo>
                <a:lnTo>
                  <a:pt x="26" y="50"/>
                </a:lnTo>
                <a:lnTo>
                  <a:pt x="45" y="52"/>
                </a:lnTo>
                <a:lnTo>
                  <a:pt x="70" y="47"/>
                </a:lnTo>
                <a:lnTo>
                  <a:pt x="94" y="39"/>
                </a:lnTo>
                <a:lnTo>
                  <a:pt x="72" y="0"/>
                </a:lnTo>
                <a:close/>
              </a:path>
            </a:pathLst>
          </a:custGeom>
          <a:solidFill>
            <a:srgbClr val="f9c6aa"/>
          </a:solidFill>
          <a:ln w="0">
            <a:noFill/>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411" name=""/>
          <p:cNvSpPr/>
          <p:nvPr/>
        </p:nvSpPr>
        <p:spPr>
          <a:xfrm>
            <a:off x="5205240" y="3857760"/>
            <a:ext cx="52560" cy="28440"/>
          </a:xfrm>
          <a:custGeom>
            <a:avLst/>
            <a:gdLst/>
            <a:ahLst/>
            <a:rect l="l" t="t" r="r" b="b"/>
            <a:pathLst>
              <a:path w="68" h="37">
                <a:moveTo>
                  <a:pt x="54" y="0"/>
                </a:moveTo>
                <a:lnTo>
                  <a:pt x="0" y="4"/>
                </a:lnTo>
                <a:lnTo>
                  <a:pt x="2" y="33"/>
                </a:lnTo>
                <a:lnTo>
                  <a:pt x="19" y="35"/>
                </a:lnTo>
                <a:lnTo>
                  <a:pt x="33" y="37"/>
                </a:lnTo>
                <a:lnTo>
                  <a:pt x="68" y="27"/>
                </a:lnTo>
                <a:lnTo>
                  <a:pt x="62" y="13"/>
                </a:lnTo>
                <a:lnTo>
                  <a:pt x="54" y="0"/>
                </a:lnTo>
                <a:close/>
              </a:path>
            </a:pathLst>
          </a:custGeom>
          <a:solidFill>
            <a:srgbClr val="fcccb2"/>
          </a:solidFill>
          <a:ln w="0">
            <a:noFill/>
          </a:ln>
        </p:spPr>
        <p:style>
          <a:lnRef idx="0"/>
          <a:fillRef idx="0"/>
          <a:effectRef idx="0"/>
          <a:fontRef idx="minor"/>
        </p:style>
        <p:txBody>
          <a:bodyPr lIns="90000" rIns="90000" tIns="-18360" bIns="-18360" anchor="t">
            <a:noAutofit/>
          </a:bodyPr>
          <a:p>
            <a:endParaRPr b="0" lang="en-US" sz="2400" spc="-1" strike="noStrike">
              <a:solidFill>
                <a:srgbClr val="ffff66"/>
              </a:solidFill>
              <a:latin typeface="Times New Roman"/>
            </a:endParaRPr>
          </a:p>
        </p:txBody>
      </p:sp>
      <p:sp>
        <p:nvSpPr>
          <p:cNvPr id="412" name=""/>
          <p:cNvSpPr/>
          <p:nvPr/>
        </p:nvSpPr>
        <p:spPr>
          <a:xfrm>
            <a:off x="5214960" y="3862440"/>
            <a:ext cx="33480" cy="19080"/>
          </a:xfrm>
          <a:custGeom>
            <a:avLst/>
            <a:gdLst/>
            <a:ahLst/>
            <a:rect l="l" t="t" r="r" b="b"/>
            <a:pathLst>
              <a:path w="40" h="25">
                <a:moveTo>
                  <a:pt x="33" y="0"/>
                </a:moveTo>
                <a:lnTo>
                  <a:pt x="0" y="3"/>
                </a:lnTo>
                <a:lnTo>
                  <a:pt x="0" y="21"/>
                </a:lnTo>
                <a:lnTo>
                  <a:pt x="19" y="25"/>
                </a:lnTo>
                <a:lnTo>
                  <a:pt x="40" y="19"/>
                </a:lnTo>
                <a:lnTo>
                  <a:pt x="33" y="0"/>
                </a:lnTo>
                <a:close/>
              </a:path>
            </a:pathLst>
          </a:custGeom>
          <a:solidFill>
            <a:srgbClr val="ffd1ba"/>
          </a:solidFill>
          <a:ln w="0">
            <a:noFill/>
          </a:ln>
        </p:spPr>
        <p:style>
          <a:lnRef idx="0"/>
          <a:fillRef idx="0"/>
          <a:effectRef idx="0"/>
          <a:fontRef idx="minor"/>
        </p:style>
        <p:txBody>
          <a:bodyPr lIns="90000" rIns="90000" tIns="-27720" bIns="-27720" anchor="t">
            <a:noAutofit/>
          </a:bodyPr>
          <a:p>
            <a:endParaRPr b="0" lang="en-US" sz="2400" spc="-1" strike="noStrike">
              <a:solidFill>
                <a:srgbClr val="ffff66"/>
              </a:solidFill>
              <a:latin typeface="Times New Roman"/>
            </a:endParaRPr>
          </a:p>
        </p:txBody>
      </p:sp>
      <p:sp>
        <p:nvSpPr>
          <p:cNvPr id="413" name=""/>
          <p:cNvSpPr/>
          <p:nvPr/>
        </p:nvSpPr>
        <p:spPr>
          <a:xfrm>
            <a:off x="5440320" y="3632040"/>
            <a:ext cx="349200" cy="849600"/>
          </a:xfrm>
          <a:custGeom>
            <a:avLst/>
            <a:gdLst/>
            <a:ahLst/>
            <a:rect l="l" t="t" r="r" b="b"/>
            <a:pathLst>
              <a:path w="440" h="1068">
                <a:moveTo>
                  <a:pt x="64" y="535"/>
                </a:moveTo>
                <a:lnTo>
                  <a:pt x="68" y="537"/>
                </a:lnTo>
                <a:lnTo>
                  <a:pt x="126" y="550"/>
                </a:lnTo>
                <a:lnTo>
                  <a:pt x="252" y="537"/>
                </a:lnTo>
                <a:lnTo>
                  <a:pt x="366" y="502"/>
                </a:lnTo>
                <a:lnTo>
                  <a:pt x="430" y="479"/>
                </a:lnTo>
                <a:lnTo>
                  <a:pt x="436" y="479"/>
                </a:lnTo>
                <a:lnTo>
                  <a:pt x="440" y="514"/>
                </a:lnTo>
                <a:lnTo>
                  <a:pt x="440" y="541"/>
                </a:lnTo>
                <a:lnTo>
                  <a:pt x="401" y="690"/>
                </a:lnTo>
                <a:lnTo>
                  <a:pt x="304" y="899"/>
                </a:lnTo>
                <a:lnTo>
                  <a:pt x="196" y="1068"/>
                </a:lnTo>
                <a:lnTo>
                  <a:pt x="200" y="1018"/>
                </a:lnTo>
                <a:lnTo>
                  <a:pt x="203" y="969"/>
                </a:lnTo>
                <a:lnTo>
                  <a:pt x="205" y="946"/>
                </a:lnTo>
                <a:lnTo>
                  <a:pt x="207" y="925"/>
                </a:lnTo>
                <a:lnTo>
                  <a:pt x="207" y="907"/>
                </a:lnTo>
                <a:lnTo>
                  <a:pt x="209" y="894"/>
                </a:lnTo>
                <a:lnTo>
                  <a:pt x="211" y="880"/>
                </a:lnTo>
                <a:lnTo>
                  <a:pt x="209" y="865"/>
                </a:lnTo>
                <a:lnTo>
                  <a:pt x="209" y="849"/>
                </a:lnTo>
                <a:lnTo>
                  <a:pt x="207" y="830"/>
                </a:lnTo>
                <a:lnTo>
                  <a:pt x="196" y="756"/>
                </a:lnTo>
                <a:lnTo>
                  <a:pt x="190" y="723"/>
                </a:lnTo>
                <a:lnTo>
                  <a:pt x="188" y="709"/>
                </a:lnTo>
                <a:lnTo>
                  <a:pt x="184" y="696"/>
                </a:lnTo>
                <a:lnTo>
                  <a:pt x="182" y="684"/>
                </a:lnTo>
                <a:lnTo>
                  <a:pt x="180" y="676"/>
                </a:lnTo>
                <a:lnTo>
                  <a:pt x="180" y="673"/>
                </a:lnTo>
                <a:lnTo>
                  <a:pt x="178" y="671"/>
                </a:lnTo>
                <a:lnTo>
                  <a:pt x="64" y="550"/>
                </a:lnTo>
                <a:lnTo>
                  <a:pt x="64" y="535"/>
                </a:lnTo>
                <a:close/>
                <a:moveTo>
                  <a:pt x="0" y="337"/>
                </a:moveTo>
                <a:lnTo>
                  <a:pt x="112" y="355"/>
                </a:lnTo>
                <a:lnTo>
                  <a:pt x="143" y="391"/>
                </a:lnTo>
                <a:lnTo>
                  <a:pt x="64" y="477"/>
                </a:lnTo>
                <a:lnTo>
                  <a:pt x="64" y="492"/>
                </a:lnTo>
                <a:lnTo>
                  <a:pt x="182" y="446"/>
                </a:lnTo>
                <a:lnTo>
                  <a:pt x="291" y="337"/>
                </a:lnTo>
                <a:lnTo>
                  <a:pt x="324" y="265"/>
                </a:lnTo>
                <a:lnTo>
                  <a:pt x="359" y="178"/>
                </a:lnTo>
                <a:lnTo>
                  <a:pt x="362" y="0"/>
                </a:lnTo>
                <a:lnTo>
                  <a:pt x="362" y="19"/>
                </a:lnTo>
                <a:lnTo>
                  <a:pt x="256" y="168"/>
                </a:lnTo>
                <a:lnTo>
                  <a:pt x="101" y="300"/>
                </a:lnTo>
                <a:lnTo>
                  <a:pt x="0" y="337"/>
                </a:lnTo>
                <a:close/>
              </a:path>
            </a:pathLst>
          </a:custGeom>
          <a:solidFill>
            <a:srgbClr val="dda889"/>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14" name=""/>
          <p:cNvSpPr/>
          <p:nvPr/>
        </p:nvSpPr>
        <p:spPr>
          <a:xfrm>
            <a:off x="5487840" y="4008600"/>
            <a:ext cx="306360" cy="488880"/>
          </a:xfrm>
          <a:custGeom>
            <a:avLst/>
            <a:gdLst/>
            <a:ahLst/>
            <a:rect l="l" t="t" r="r" b="b"/>
            <a:pathLst>
              <a:path w="386" h="616">
                <a:moveTo>
                  <a:pt x="10" y="62"/>
                </a:moveTo>
                <a:lnTo>
                  <a:pt x="0" y="66"/>
                </a:lnTo>
                <a:lnTo>
                  <a:pt x="4" y="68"/>
                </a:lnTo>
                <a:lnTo>
                  <a:pt x="66" y="83"/>
                </a:lnTo>
                <a:lnTo>
                  <a:pt x="192" y="70"/>
                </a:lnTo>
                <a:lnTo>
                  <a:pt x="192" y="70"/>
                </a:lnTo>
                <a:lnTo>
                  <a:pt x="308" y="35"/>
                </a:lnTo>
                <a:lnTo>
                  <a:pt x="308" y="35"/>
                </a:lnTo>
                <a:lnTo>
                  <a:pt x="372" y="11"/>
                </a:lnTo>
                <a:lnTo>
                  <a:pt x="370" y="11"/>
                </a:lnTo>
                <a:lnTo>
                  <a:pt x="376" y="11"/>
                </a:lnTo>
                <a:lnTo>
                  <a:pt x="370" y="6"/>
                </a:lnTo>
                <a:lnTo>
                  <a:pt x="374" y="41"/>
                </a:lnTo>
                <a:lnTo>
                  <a:pt x="374" y="41"/>
                </a:lnTo>
                <a:lnTo>
                  <a:pt x="374" y="68"/>
                </a:lnTo>
                <a:lnTo>
                  <a:pt x="374" y="66"/>
                </a:lnTo>
                <a:lnTo>
                  <a:pt x="335" y="217"/>
                </a:lnTo>
                <a:lnTo>
                  <a:pt x="337" y="215"/>
                </a:lnTo>
                <a:lnTo>
                  <a:pt x="238" y="424"/>
                </a:lnTo>
                <a:lnTo>
                  <a:pt x="238" y="423"/>
                </a:lnTo>
                <a:lnTo>
                  <a:pt x="130" y="593"/>
                </a:lnTo>
                <a:lnTo>
                  <a:pt x="140" y="597"/>
                </a:lnTo>
                <a:lnTo>
                  <a:pt x="145" y="545"/>
                </a:lnTo>
                <a:lnTo>
                  <a:pt x="149" y="496"/>
                </a:lnTo>
                <a:lnTo>
                  <a:pt x="149" y="496"/>
                </a:lnTo>
                <a:lnTo>
                  <a:pt x="151" y="473"/>
                </a:lnTo>
                <a:lnTo>
                  <a:pt x="151" y="473"/>
                </a:lnTo>
                <a:lnTo>
                  <a:pt x="151" y="454"/>
                </a:lnTo>
                <a:lnTo>
                  <a:pt x="153" y="436"/>
                </a:lnTo>
                <a:lnTo>
                  <a:pt x="155" y="421"/>
                </a:lnTo>
                <a:lnTo>
                  <a:pt x="155" y="421"/>
                </a:lnTo>
                <a:lnTo>
                  <a:pt x="155" y="407"/>
                </a:lnTo>
                <a:lnTo>
                  <a:pt x="155" y="392"/>
                </a:lnTo>
                <a:lnTo>
                  <a:pt x="155" y="376"/>
                </a:lnTo>
                <a:lnTo>
                  <a:pt x="155" y="374"/>
                </a:lnTo>
                <a:lnTo>
                  <a:pt x="153" y="357"/>
                </a:lnTo>
                <a:lnTo>
                  <a:pt x="141" y="283"/>
                </a:lnTo>
                <a:lnTo>
                  <a:pt x="136" y="250"/>
                </a:lnTo>
                <a:lnTo>
                  <a:pt x="132" y="234"/>
                </a:lnTo>
                <a:lnTo>
                  <a:pt x="132" y="234"/>
                </a:lnTo>
                <a:lnTo>
                  <a:pt x="130" y="221"/>
                </a:lnTo>
                <a:lnTo>
                  <a:pt x="130" y="221"/>
                </a:lnTo>
                <a:lnTo>
                  <a:pt x="128" y="211"/>
                </a:lnTo>
                <a:lnTo>
                  <a:pt x="126" y="203"/>
                </a:lnTo>
                <a:lnTo>
                  <a:pt x="126" y="198"/>
                </a:lnTo>
                <a:lnTo>
                  <a:pt x="124" y="194"/>
                </a:lnTo>
                <a:lnTo>
                  <a:pt x="8" y="73"/>
                </a:lnTo>
                <a:lnTo>
                  <a:pt x="10" y="77"/>
                </a:lnTo>
                <a:lnTo>
                  <a:pt x="10" y="62"/>
                </a:lnTo>
                <a:lnTo>
                  <a:pt x="0" y="48"/>
                </a:lnTo>
                <a:lnTo>
                  <a:pt x="0" y="79"/>
                </a:lnTo>
                <a:lnTo>
                  <a:pt x="114" y="201"/>
                </a:lnTo>
                <a:lnTo>
                  <a:pt x="114" y="200"/>
                </a:lnTo>
                <a:lnTo>
                  <a:pt x="114" y="201"/>
                </a:lnTo>
                <a:lnTo>
                  <a:pt x="114" y="200"/>
                </a:lnTo>
                <a:lnTo>
                  <a:pt x="114" y="205"/>
                </a:lnTo>
                <a:lnTo>
                  <a:pt x="116" y="213"/>
                </a:lnTo>
                <a:lnTo>
                  <a:pt x="118" y="223"/>
                </a:lnTo>
                <a:lnTo>
                  <a:pt x="118" y="225"/>
                </a:lnTo>
                <a:lnTo>
                  <a:pt x="122" y="236"/>
                </a:lnTo>
                <a:lnTo>
                  <a:pt x="122" y="236"/>
                </a:lnTo>
                <a:lnTo>
                  <a:pt x="126" y="250"/>
                </a:lnTo>
                <a:lnTo>
                  <a:pt x="132" y="285"/>
                </a:lnTo>
                <a:lnTo>
                  <a:pt x="141" y="359"/>
                </a:lnTo>
                <a:lnTo>
                  <a:pt x="143" y="376"/>
                </a:lnTo>
                <a:lnTo>
                  <a:pt x="143" y="376"/>
                </a:lnTo>
                <a:lnTo>
                  <a:pt x="143" y="392"/>
                </a:lnTo>
                <a:lnTo>
                  <a:pt x="145" y="407"/>
                </a:lnTo>
                <a:lnTo>
                  <a:pt x="143" y="421"/>
                </a:lnTo>
                <a:lnTo>
                  <a:pt x="143" y="419"/>
                </a:lnTo>
                <a:lnTo>
                  <a:pt x="143" y="434"/>
                </a:lnTo>
                <a:lnTo>
                  <a:pt x="141" y="452"/>
                </a:lnTo>
                <a:lnTo>
                  <a:pt x="140" y="471"/>
                </a:lnTo>
                <a:lnTo>
                  <a:pt x="140" y="473"/>
                </a:lnTo>
                <a:lnTo>
                  <a:pt x="138" y="496"/>
                </a:lnTo>
                <a:lnTo>
                  <a:pt x="138" y="494"/>
                </a:lnTo>
                <a:lnTo>
                  <a:pt x="134" y="545"/>
                </a:lnTo>
                <a:lnTo>
                  <a:pt x="128" y="616"/>
                </a:lnTo>
                <a:lnTo>
                  <a:pt x="248" y="430"/>
                </a:lnTo>
                <a:lnTo>
                  <a:pt x="248" y="428"/>
                </a:lnTo>
                <a:lnTo>
                  <a:pt x="347" y="219"/>
                </a:lnTo>
                <a:lnTo>
                  <a:pt x="386" y="70"/>
                </a:lnTo>
                <a:lnTo>
                  <a:pt x="386" y="41"/>
                </a:lnTo>
                <a:lnTo>
                  <a:pt x="386" y="39"/>
                </a:lnTo>
                <a:lnTo>
                  <a:pt x="380" y="0"/>
                </a:lnTo>
                <a:lnTo>
                  <a:pt x="370" y="0"/>
                </a:lnTo>
                <a:lnTo>
                  <a:pt x="304" y="25"/>
                </a:lnTo>
                <a:lnTo>
                  <a:pt x="304" y="25"/>
                </a:lnTo>
                <a:lnTo>
                  <a:pt x="190" y="58"/>
                </a:lnTo>
                <a:lnTo>
                  <a:pt x="190" y="58"/>
                </a:lnTo>
                <a:lnTo>
                  <a:pt x="64" y="73"/>
                </a:lnTo>
                <a:lnTo>
                  <a:pt x="66" y="73"/>
                </a:lnTo>
                <a:lnTo>
                  <a:pt x="8" y="58"/>
                </a:lnTo>
                <a:lnTo>
                  <a:pt x="12" y="60"/>
                </a:lnTo>
                <a:lnTo>
                  <a:pt x="0" y="48"/>
                </a:lnTo>
                <a:lnTo>
                  <a:pt x="1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15" name=""/>
          <p:cNvSpPr/>
          <p:nvPr/>
        </p:nvSpPr>
        <p:spPr>
          <a:xfrm>
            <a:off x="5423040" y="3632040"/>
            <a:ext cx="309600" cy="397080"/>
          </a:xfrm>
          <a:custGeom>
            <a:avLst/>
            <a:gdLst/>
            <a:ahLst/>
            <a:rect l="l" t="t" r="r" b="b"/>
            <a:pathLst>
              <a:path w="390" h="500">
                <a:moveTo>
                  <a:pt x="0" y="339"/>
                </a:moveTo>
                <a:lnTo>
                  <a:pt x="134" y="360"/>
                </a:lnTo>
                <a:lnTo>
                  <a:pt x="130" y="358"/>
                </a:lnTo>
                <a:lnTo>
                  <a:pt x="161" y="395"/>
                </a:lnTo>
                <a:lnTo>
                  <a:pt x="161" y="389"/>
                </a:lnTo>
                <a:lnTo>
                  <a:pt x="82" y="475"/>
                </a:lnTo>
                <a:lnTo>
                  <a:pt x="82" y="500"/>
                </a:lnTo>
                <a:lnTo>
                  <a:pt x="208" y="450"/>
                </a:lnTo>
                <a:lnTo>
                  <a:pt x="317" y="341"/>
                </a:lnTo>
                <a:lnTo>
                  <a:pt x="350" y="267"/>
                </a:lnTo>
                <a:lnTo>
                  <a:pt x="351" y="267"/>
                </a:lnTo>
                <a:lnTo>
                  <a:pt x="384" y="180"/>
                </a:lnTo>
                <a:lnTo>
                  <a:pt x="390" y="0"/>
                </a:lnTo>
                <a:lnTo>
                  <a:pt x="379" y="0"/>
                </a:lnTo>
                <a:lnTo>
                  <a:pt x="379" y="19"/>
                </a:lnTo>
                <a:lnTo>
                  <a:pt x="381" y="17"/>
                </a:lnTo>
                <a:lnTo>
                  <a:pt x="274" y="166"/>
                </a:lnTo>
                <a:lnTo>
                  <a:pt x="274" y="165"/>
                </a:lnTo>
                <a:lnTo>
                  <a:pt x="119" y="296"/>
                </a:lnTo>
                <a:lnTo>
                  <a:pt x="121" y="294"/>
                </a:lnTo>
                <a:lnTo>
                  <a:pt x="0" y="339"/>
                </a:lnTo>
                <a:lnTo>
                  <a:pt x="24" y="343"/>
                </a:lnTo>
                <a:lnTo>
                  <a:pt x="126" y="304"/>
                </a:lnTo>
                <a:lnTo>
                  <a:pt x="282" y="172"/>
                </a:lnTo>
                <a:lnTo>
                  <a:pt x="390" y="21"/>
                </a:lnTo>
                <a:lnTo>
                  <a:pt x="390" y="0"/>
                </a:lnTo>
                <a:lnTo>
                  <a:pt x="379" y="0"/>
                </a:lnTo>
                <a:lnTo>
                  <a:pt x="375" y="178"/>
                </a:lnTo>
                <a:lnTo>
                  <a:pt x="375" y="176"/>
                </a:lnTo>
                <a:lnTo>
                  <a:pt x="340" y="263"/>
                </a:lnTo>
                <a:lnTo>
                  <a:pt x="340" y="263"/>
                </a:lnTo>
                <a:lnTo>
                  <a:pt x="307" y="335"/>
                </a:lnTo>
                <a:lnTo>
                  <a:pt x="309" y="333"/>
                </a:lnTo>
                <a:lnTo>
                  <a:pt x="200" y="442"/>
                </a:lnTo>
                <a:lnTo>
                  <a:pt x="202" y="440"/>
                </a:lnTo>
                <a:lnTo>
                  <a:pt x="84" y="486"/>
                </a:lnTo>
                <a:lnTo>
                  <a:pt x="92" y="492"/>
                </a:lnTo>
                <a:lnTo>
                  <a:pt x="92" y="477"/>
                </a:lnTo>
                <a:lnTo>
                  <a:pt x="90" y="481"/>
                </a:lnTo>
                <a:lnTo>
                  <a:pt x="171" y="391"/>
                </a:lnTo>
                <a:lnTo>
                  <a:pt x="138" y="351"/>
                </a:lnTo>
                <a:lnTo>
                  <a:pt x="24" y="331"/>
                </a:lnTo>
                <a:lnTo>
                  <a:pt x="24" y="343"/>
                </a:lnTo>
                <a:lnTo>
                  <a:pt x="0"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16" name=""/>
          <p:cNvSpPr/>
          <p:nvPr/>
        </p:nvSpPr>
        <p:spPr>
          <a:xfrm>
            <a:off x="5110200" y="3146400"/>
            <a:ext cx="682560" cy="722160"/>
          </a:xfrm>
          <a:custGeom>
            <a:avLst/>
            <a:gdLst/>
            <a:ahLst/>
            <a:rect l="l" t="t" r="r" b="b"/>
            <a:pathLst>
              <a:path w="859" h="909">
                <a:moveTo>
                  <a:pt x="564" y="545"/>
                </a:moveTo>
                <a:lnTo>
                  <a:pt x="545" y="582"/>
                </a:lnTo>
                <a:lnTo>
                  <a:pt x="601" y="624"/>
                </a:lnTo>
                <a:lnTo>
                  <a:pt x="533" y="762"/>
                </a:lnTo>
                <a:lnTo>
                  <a:pt x="419" y="909"/>
                </a:lnTo>
                <a:lnTo>
                  <a:pt x="448" y="904"/>
                </a:lnTo>
                <a:lnTo>
                  <a:pt x="492" y="888"/>
                </a:lnTo>
                <a:lnTo>
                  <a:pt x="626" y="787"/>
                </a:lnTo>
                <a:lnTo>
                  <a:pt x="706" y="684"/>
                </a:lnTo>
                <a:lnTo>
                  <a:pt x="694" y="677"/>
                </a:lnTo>
                <a:lnTo>
                  <a:pt x="690" y="681"/>
                </a:lnTo>
                <a:lnTo>
                  <a:pt x="684" y="681"/>
                </a:lnTo>
                <a:lnTo>
                  <a:pt x="657" y="651"/>
                </a:lnTo>
                <a:lnTo>
                  <a:pt x="657" y="574"/>
                </a:lnTo>
                <a:lnTo>
                  <a:pt x="667" y="564"/>
                </a:lnTo>
                <a:lnTo>
                  <a:pt x="671" y="570"/>
                </a:lnTo>
                <a:lnTo>
                  <a:pt x="694" y="551"/>
                </a:lnTo>
                <a:lnTo>
                  <a:pt x="725" y="551"/>
                </a:lnTo>
                <a:lnTo>
                  <a:pt x="744" y="560"/>
                </a:lnTo>
                <a:lnTo>
                  <a:pt x="781" y="564"/>
                </a:lnTo>
                <a:lnTo>
                  <a:pt x="810" y="545"/>
                </a:lnTo>
                <a:lnTo>
                  <a:pt x="832" y="522"/>
                </a:lnTo>
                <a:lnTo>
                  <a:pt x="859" y="448"/>
                </a:lnTo>
                <a:lnTo>
                  <a:pt x="859" y="411"/>
                </a:lnTo>
                <a:lnTo>
                  <a:pt x="816" y="411"/>
                </a:lnTo>
                <a:lnTo>
                  <a:pt x="803" y="396"/>
                </a:lnTo>
                <a:lnTo>
                  <a:pt x="793" y="376"/>
                </a:lnTo>
                <a:lnTo>
                  <a:pt x="739" y="454"/>
                </a:lnTo>
                <a:lnTo>
                  <a:pt x="642" y="535"/>
                </a:lnTo>
                <a:lnTo>
                  <a:pt x="574" y="556"/>
                </a:lnTo>
                <a:lnTo>
                  <a:pt x="564" y="545"/>
                </a:lnTo>
                <a:close/>
                <a:moveTo>
                  <a:pt x="0" y="79"/>
                </a:moveTo>
                <a:lnTo>
                  <a:pt x="25" y="48"/>
                </a:lnTo>
                <a:lnTo>
                  <a:pt x="99" y="43"/>
                </a:lnTo>
                <a:lnTo>
                  <a:pt x="170" y="48"/>
                </a:lnTo>
                <a:lnTo>
                  <a:pt x="298" y="78"/>
                </a:lnTo>
                <a:lnTo>
                  <a:pt x="368" y="74"/>
                </a:lnTo>
                <a:lnTo>
                  <a:pt x="366" y="72"/>
                </a:lnTo>
                <a:lnTo>
                  <a:pt x="366" y="52"/>
                </a:lnTo>
                <a:lnTo>
                  <a:pt x="376" y="43"/>
                </a:lnTo>
                <a:lnTo>
                  <a:pt x="308" y="58"/>
                </a:lnTo>
                <a:lnTo>
                  <a:pt x="240" y="29"/>
                </a:lnTo>
                <a:lnTo>
                  <a:pt x="240" y="33"/>
                </a:lnTo>
                <a:lnTo>
                  <a:pt x="236" y="39"/>
                </a:lnTo>
                <a:lnTo>
                  <a:pt x="178" y="33"/>
                </a:lnTo>
                <a:lnTo>
                  <a:pt x="143" y="14"/>
                </a:lnTo>
                <a:lnTo>
                  <a:pt x="143" y="4"/>
                </a:lnTo>
                <a:lnTo>
                  <a:pt x="81" y="14"/>
                </a:lnTo>
                <a:lnTo>
                  <a:pt x="56" y="0"/>
                </a:lnTo>
                <a:lnTo>
                  <a:pt x="27" y="14"/>
                </a:lnTo>
                <a:lnTo>
                  <a:pt x="0" y="79"/>
                </a:lnTo>
                <a:close/>
                <a:moveTo>
                  <a:pt x="372" y="76"/>
                </a:moveTo>
                <a:lnTo>
                  <a:pt x="405" y="101"/>
                </a:lnTo>
                <a:lnTo>
                  <a:pt x="454" y="110"/>
                </a:lnTo>
                <a:lnTo>
                  <a:pt x="492" y="101"/>
                </a:lnTo>
                <a:lnTo>
                  <a:pt x="568" y="120"/>
                </a:lnTo>
                <a:lnTo>
                  <a:pt x="646" y="101"/>
                </a:lnTo>
                <a:lnTo>
                  <a:pt x="661" y="97"/>
                </a:lnTo>
                <a:lnTo>
                  <a:pt x="671" y="97"/>
                </a:lnTo>
                <a:lnTo>
                  <a:pt x="657" y="114"/>
                </a:lnTo>
                <a:lnTo>
                  <a:pt x="642" y="143"/>
                </a:lnTo>
                <a:lnTo>
                  <a:pt x="661" y="182"/>
                </a:lnTo>
                <a:lnTo>
                  <a:pt x="651" y="198"/>
                </a:lnTo>
                <a:lnTo>
                  <a:pt x="677" y="250"/>
                </a:lnTo>
                <a:lnTo>
                  <a:pt x="671" y="411"/>
                </a:lnTo>
                <a:lnTo>
                  <a:pt x="632" y="483"/>
                </a:lnTo>
                <a:lnTo>
                  <a:pt x="589" y="516"/>
                </a:lnTo>
                <a:lnTo>
                  <a:pt x="580" y="520"/>
                </a:lnTo>
                <a:lnTo>
                  <a:pt x="582" y="516"/>
                </a:lnTo>
                <a:lnTo>
                  <a:pt x="618" y="405"/>
                </a:lnTo>
                <a:lnTo>
                  <a:pt x="613" y="273"/>
                </a:lnTo>
                <a:lnTo>
                  <a:pt x="576" y="174"/>
                </a:lnTo>
                <a:lnTo>
                  <a:pt x="461" y="151"/>
                </a:lnTo>
                <a:lnTo>
                  <a:pt x="393" y="126"/>
                </a:lnTo>
                <a:lnTo>
                  <a:pt x="372" y="76"/>
                </a:lnTo>
                <a:close/>
              </a:path>
            </a:pathLst>
          </a:custGeom>
          <a:solidFill>
            <a:srgbClr val="dda889"/>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17" name=""/>
          <p:cNvSpPr/>
          <p:nvPr/>
        </p:nvSpPr>
        <p:spPr>
          <a:xfrm>
            <a:off x="5432400" y="3436920"/>
            <a:ext cx="365040" cy="438120"/>
          </a:xfrm>
          <a:custGeom>
            <a:avLst/>
            <a:gdLst/>
            <a:ahLst/>
            <a:rect l="l" t="t" r="r" b="b"/>
            <a:pathLst>
              <a:path w="460" h="551">
                <a:moveTo>
                  <a:pt x="159" y="171"/>
                </a:moveTo>
                <a:lnTo>
                  <a:pt x="134" y="216"/>
                </a:lnTo>
                <a:lnTo>
                  <a:pt x="192" y="262"/>
                </a:lnTo>
                <a:lnTo>
                  <a:pt x="190" y="256"/>
                </a:lnTo>
                <a:lnTo>
                  <a:pt x="124" y="394"/>
                </a:lnTo>
                <a:lnTo>
                  <a:pt x="124" y="392"/>
                </a:lnTo>
                <a:lnTo>
                  <a:pt x="0" y="551"/>
                </a:lnTo>
                <a:lnTo>
                  <a:pt x="45" y="543"/>
                </a:lnTo>
                <a:lnTo>
                  <a:pt x="45" y="543"/>
                </a:lnTo>
                <a:lnTo>
                  <a:pt x="89" y="528"/>
                </a:lnTo>
                <a:lnTo>
                  <a:pt x="225" y="425"/>
                </a:lnTo>
                <a:lnTo>
                  <a:pt x="306" y="318"/>
                </a:lnTo>
                <a:lnTo>
                  <a:pt x="289" y="303"/>
                </a:lnTo>
                <a:lnTo>
                  <a:pt x="281" y="311"/>
                </a:lnTo>
                <a:lnTo>
                  <a:pt x="285" y="309"/>
                </a:lnTo>
                <a:lnTo>
                  <a:pt x="279" y="309"/>
                </a:lnTo>
                <a:lnTo>
                  <a:pt x="283" y="311"/>
                </a:lnTo>
                <a:lnTo>
                  <a:pt x="256" y="282"/>
                </a:lnTo>
                <a:lnTo>
                  <a:pt x="258" y="285"/>
                </a:lnTo>
                <a:lnTo>
                  <a:pt x="258" y="208"/>
                </a:lnTo>
                <a:lnTo>
                  <a:pt x="256" y="212"/>
                </a:lnTo>
                <a:lnTo>
                  <a:pt x="266" y="202"/>
                </a:lnTo>
                <a:lnTo>
                  <a:pt x="258" y="202"/>
                </a:lnTo>
                <a:lnTo>
                  <a:pt x="266" y="210"/>
                </a:lnTo>
                <a:lnTo>
                  <a:pt x="293" y="189"/>
                </a:lnTo>
                <a:lnTo>
                  <a:pt x="289" y="190"/>
                </a:lnTo>
                <a:lnTo>
                  <a:pt x="320" y="190"/>
                </a:lnTo>
                <a:lnTo>
                  <a:pt x="316" y="189"/>
                </a:lnTo>
                <a:lnTo>
                  <a:pt x="338" y="200"/>
                </a:lnTo>
                <a:lnTo>
                  <a:pt x="378" y="204"/>
                </a:lnTo>
                <a:lnTo>
                  <a:pt x="409" y="183"/>
                </a:lnTo>
                <a:lnTo>
                  <a:pt x="431" y="159"/>
                </a:lnTo>
                <a:lnTo>
                  <a:pt x="460" y="84"/>
                </a:lnTo>
                <a:lnTo>
                  <a:pt x="460" y="39"/>
                </a:lnTo>
                <a:lnTo>
                  <a:pt x="411" y="39"/>
                </a:lnTo>
                <a:lnTo>
                  <a:pt x="415" y="41"/>
                </a:lnTo>
                <a:lnTo>
                  <a:pt x="402" y="26"/>
                </a:lnTo>
                <a:lnTo>
                  <a:pt x="402" y="28"/>
                </a:lnTo>
                <a:lnTo>
                  <a:pt x="388" y="0"/>
                </a:lnTo>
                <a:lnTo>
                  <a:pt x="328" y="84"/>
                </a:lnTo>
                <a:lnTo>
                  <a:pt x="330" y="84"/>
                </a:lnTo>
                <a:lnTo>
                  <a:pt x="233" y="165"/>
                </a:lnTo>
                <a:lnTo>
                  <a:pt x="235" y="165"/>
                </a:lnTo>
                <a:lnTo>
                  <a:pt x="167" y="185"/>
                </a:lnTo>
                <a:lnTo>
                  <a:pt x="173" y="187"/>
                </a:lnTo>
                <a:lnTo>
                  <a:pt x="159" y="171"/>
                </a:lnTo>
                <a:lnTo>
                  <a:pt x="155" y="183"/>
                </a:lnTo>
                <a:lnTo>
                  <a:pt x="167" y="196"/>
                </a:lnTo>
                <a:lnTo>
                  <a:pt x="239" y="175"/>
                </a:lnTo>
                <a:lnTo>
                  <a:pt x="338" y="92"/>
                </a:lnTo>
                <a:lnTo>
                  <a:pt x="392" y="14"/>
                </a:lnTo>
                <a:lnTo>
                  <a:pt x="382" y="12"/>
                </a:lnTo>
                <a:lnTo>
                  <a:pt x="392" y="31"/>
                </a:lnTo>
                <a:lnTo>
                  <a:pt x="409" y="49"/>
                </a:lnTo>
                <a:lnTo>
                  <a:pt x="454" y="51"/>
                </a:lnTo>
                <a:lnTo>
                  <a:pt x="448" y="45"/>
                </a:lnTo>
                <a:lnTo>
                  <a:pt x="448" y="82"/>
                </a:lnTo>
                <a:lnTo>
                  <a:pt x="448" y="80"/>
                </a:lnTo>
                <a:lnTo>
                  <a:pt x="421" y="154"/>
                </a:lnTo>
                <a:lnTo>
                  <a:pt x="423" y="152"/>
                </a:lnTo>
                <a:lnTo>
                  <a:pt x="402" y="175"/>
                </a:lnTo>
                <a:lnTo>
                  <a:pt x="403" y="175"/>
                </a:lnTo>
                <a:lnTo>
                  <a:pt x="374" y="194"/>
                </a:lnTo>
                <a:lnTo>
                  <a:pt x="378" y="194"/>
                </a:lnTo>
                <a:lnTo>
                  <a:pt x="339" y="189"/>
                </a:lnTo>
                <a:lnTo>
                  <a:pt x="341" y="190"/>
                </a:lnTo>
                <a:lnTo>
                  <a:pt x="320" y="179"/>
                </a:lnTo>
                <a:lnTo>
                  <a:pt x="287" y="179"/>
                </a:lnTo>
                <a:lnTo>
                  <a:pt x="264" y="200"/>
                </a:lnTo>
                <a:lnTo>
                  <a:pt x="270" y="200"/>
                </a:lnTo>
                <a:lnTo>
                  <a:pt x="262" y="192"/>
                </a:lnTo>
                <a:lnTo>
                  <a:pt x="246" y="206"/>
                </a:lnTo>
                <a:lnTo>
                  <a:pt x="246" y="287"/>
                </a:lnTo>
                <a:lnTo>
                  <a:pt x="277" y="318"/>
                </a:lnTo>
                <a:lnTo>
                  <a:pt x="287" y="318"/>
                </a:lnTo>
                <a:lnTo>
                  <a:pt x="293" y="315"/>
                </a:lnTo>
                <a:lnTo>
                  <a:pt x="285" y="315"/>
                </a:lnTo>
                <a:lnTo>
                  <a:pt x="297" y="322"/>
                </a:lnTo>
                <a:lnTo>
                  <a:pt x="295" y="316"/>
                </a:lnTo>
                <a:lnTo>
                  <a:pt x="217" y="419"/>
                </a:lnTo>
                <a:lnTo>
                  <a:pt x="219" y="417"/>
                </a:lnTo>
                <a:lnTo>
                  <a:pt x="83" y="518"/>
                </a:lnTo>
                <a:lnTo>
                  <a:pt x="85" y="518"/>
                </a:lnTo>
                <a:lnTo>
                  <a:pt x="41" y="532"/>
                </a:lnTo>
                <a:lnTo>
                  <a:pt x="43" y="532"/>
                </a:lnTo>
                <a:lnTo>
                  <a:pt x="12" y="538"/>
                </a:lnTo>
                <a:lnTo>
                  <a:pt x="18" y="545"/>
                </a:lnTo>
                <a:lnTo>
                  <a:pt x="132" y="400"/>
                </a:lnTo>
                <a:lnTo>
                  <a:pt x="202" y="256"/>
                </a:lnTo>
                <a:lnTo>
                  <a:pt x="144" y="212"/>
                </a:lnTo>
                <a:lnTo>
                  <a:pt x="146" y="218"/>
                </a:lnTo>
                <a:lnTo>
                  <a:pt x="165" y="183"/>
                </a:lnTo>
                <a:lnTo>
                  <a:pt x="155" y="183"/>
                </a:lnTo>
                <a:lnTo>
                  <a:pt x="159"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18" name=""/>
          <p:cNvSpPr/>
          <p:nvPr/>
        </p:nvSpPr>
        <p:spPr>
          <a:xfrm>
            <a:off x="5095800" y="3141720"/>
            <a:ext cx="325440" cy="92160"/>
          </a:xfrm>
          <a:custGeom>
            <a:avLst/>
            <a:gdLst/>
            <a:ahLst/>
            <a:rect l="l" t="t" r="r" b="b"/>
            <a:pathLst>
              <a:path w="412" h="116">
                <a:moveTo>
                  <a:pt x="0" y="116"/>
                </a:moveTo>
                <a:lnTo>
                  <a:pt x="49" y="58"/>
                </a:lnTo>
                <a:lnTo>
                  <a:pt x="47" y="60"/>
                </a:lnTo>
                <a:lnTo>
                  <a:pt x="119" y="54"/>
                </a:lnTo>
                <a:lnTo>
                  <a:pt x="117" y="54"/>
                </a:lnTo>
                <a:lnTo>
                  <a:pt x="190" y="60"/>
                </a:lnTo>
                <a:lnTo>
                  <a:pt x="188" y="60"/>
                </a:lnTo>
                <a:lnTo>
                  <a:pt x="316" y="89"/>
                </a:lnTo>
                <a:lnTo>
                  <a:pt x="408" y="84"/>
                </a:lnTo>
                <a:lnTo>
                  <a:pt x="388" y="74"/>
                </a:lnTo>
                <a:lnTo>
                  <a:pt x="392" y="78"/>
                </a:lnTo>
                <a:lnTo>
                  <a:pt x="392" y="58"/>
                </a:lnTo>
                <a:lnTo>
                  <a:pt x="390" y="62"/>
                </a:lnTo>
                <a:lnTo>
                  <a:pt x="412" y="41"/>
                </a:lnTo>
                <a:lnTo>
                  <a:pt x="326" y="58"/>
                </a:lnTo>
                <a:lnTo>
                  <a:pt x="330" y="58"/>
                </a:lnTo>
                <a:lnTo>
                  <a:pt x="254" y="27"/>
                </a:lnTo>
                <a:lnTo>
                  <a:pt x="254" y="39"/>
                </a:lnTo>
                <a:lnTo>
                  <a:pt x="256" y="35"/>
                </a:lnTo>
                <a:lnTo>
                  <a:pt x="252" y="41"/>
                </a:lnTo>
                <a:lnTo>
                  <a:pt x="256" y="39"/>
                </a:lnTo>
                <a:lnTo>
                  <a:pt x="198" y="33"/>
                </a:lnTo>
                <a:lnTo>
                  <a:pt x="200" y="35"/>
                </a:lnTo>
                <a:lnTo>
                  <a:pt x="165" y="16"/>
                </a:lnTo>
                <a:lnTo>
                  <a:pt x="169" y="20"/>
                </a:lnTo>
                <a:lnTo>
                  <a:pt x="169" y="4"/>
                </a:lnTo>
                <a:lnTo>
                  <a:pt x="101" y="14"/>
                </a:lnTo>
                <a:lnTo>
                  <a:pt x="103" y="16"/>
                </a:lnTo>
                <a:lnTo>
                  <a:pt x="76" y="0"/>
                </a:lnTo>
                <a:lnTo>
                  <a:pt x="43" y="16"/>
                </a:lnTo>
                <a:lnTo>
                  <a:pt x="0" y="116"/>
                </a:lnTo>
                <a:lnTo>
                  <a:pt x="24" y="87"/>
                </a:lnTo>
                <a:lnTo>
                  <a:pt x="53" y="21"/>
                </a:lnTo>
                <a:lnTo>
                  <a:pt x="51" y="25"/>
                </a:lnTo>
                <a:lnTo>
                  <a:pt x="78" y="10"/>
                </a:lnTo>
                <a:lnTo>
                  <a:pt x="74" y="10"/>
                </a:lnTo>
                <a:lnTo>
                  <a:pt x="101" y="25"/>
                </a:lnTo>
                <a:lnTo>
                  <a:pt x="163" y="16"/>
                </a:lnTo>
                <a:lnTo>
                  <a:pt x="157" y="10"/>
                </a:lnTo>
                <a:lnTo>
                  <a:pt x="157" y="23"/>
                </a:lnTo>
                <a:lnTo>
                  <a:pt x="196" y="45"/>
                </a:lnTo>
                <a:lnTo>
                  <a:pt x="256" y="49"/>
                </a:lnTo>
                <a:lnTo>
                  <a:pt x="264" y="41"/>
                </a:lnTo>
                <a:lnTo>
                  <a:pt x="266" y="35"/>
                </a:lnTo>
                <a:lnTo>
                  <a:pt x="258" y="39"/>
                </a:lnTo>
                <a:lnTo>
                  <a:pt x="326" y="70"/>
                </a:lnTo>
                <a:lnTo>
                  <a:pt x="398" y="54"/>
                </a:lnTo>
                <a:lnTo>
                  <a:pt x="392" y="45"/>
                </a:lnTo>
                <a:lnTo>
                  <a:pt x="380" y="56"/>
                </a:lnTo>
                <a:lnTo>
                  <a:pt x="380" y="82"/>
                </a:lnTo>
                <a:lnTo>
                  <a:pt x="384" y="84"/>
                </a:lnTo>
                <a:lnTo>
                  <a:pt x="386" y="74"/>
                </a:lnTo>
                <a:lnTo>
                  <a:pt x="316" y="80"/>
                </a:lnTo>
                <a:lnTo>
                  <a:pt x="318" y="80"/>
                </a:lnTo>
                <a:lnTo>
                  <a:pt x="192" y="49"/>
                </a:lnTo>
                <a:lnTo>
                  <a:pt x="190" y="49"/>
                </a:lnTo>
                <a:lnTo>
                  <a:pt x="119" y="43"/>
                </a:lnTo>
                <a:lnTo>
                  <a:pt x="117" y="43"/>
                </a:lnTo>
                <a:lnTo>
                  <a:pt x="43" y="51"/>
                </a:lnTo>
                <a:lnTo>
                  <a:pt x="16" y="82"/>
                </a:lnTo>
                <a:lnTo>
                  <a:pt x="24" y="87"/>
                </a:lnTo>
                <a:lnTo>
                  <a:pt x="0" y="11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419" name=""/>
          <p:cNvSpPr/>
          <p:nvPr/>
        </p:nvSpPr>
        <p:spPr>
          <a:xfrm>
            <a:off x="5396040" y="3193920"/>
            <a:ext cx="255600" cy="371520"/>
          </a:xfrm>
          <a:custGeom>
            <a:avLst/>
            <a:gdLst/>
            <a:ahLst/>
            <a:rect l="l" t="t" r="r" b="b"/>
            <a:pathLst>
              <a:path w="321" h="467">
                <a:moveTo>
                  <a:pt x="17" y="14"/>
                </a:moveTo>
                <a:lnTo>
                  <a:pt x="9" y="21"/>
                </a:lnTo>
                <a:lnTo>
                  <a:pt x="42" y="47"/>
                </a:lnTo>
                <a:lnTo>
                  <a:pt x="95" y="56"/>
                </a:lnTo>
                <a:lnTo>
                  <a:pt x="135" y="47"/>
                </a:lnTo>
                <a:lnTo>
                  <a:pt x="131" y="47"/>
                </a:lnTo>
                <a:lnTo>
                  <a:pt x="209" y="66"/>
                </a:lnTo>
                <a:lnTo>
                  <a:pt x="288" y="47"/>
                </a:lnTo>
                <a:lnTo>
                  <a:pt x="304" y="41"/>
                </a:lnTo>
                <a:lnTo>
                  <a:pt x="302" y="41"/>
                </a:lnTo>
                <a:lnTo>
                  <a:pt x="312" y="41"/>
                </a:lnTo>
                <a:lnTo>
                  <a:pt x="308" y="33"/>
                </a:lnTo>
                <a:lnTo>
                  <a:pt x="292" y="52"/>
                </a:lnTo>
                <a:lnTo>
                  <a:pt x="292" y="52"/>
                </a:lnTo>
                <a:lnTo>
                  <a:pt x="277" y="83"/>
                </a:lnTo>
                <a:lnTo>
                  <a:pt x="298" y="124"/>
                </a:lnTo>
                <a:lnTo>
                  <a:pt x="298" y="120"/>
                </a:lnTo>
                <a:lnTo>
                  <a:pt x="285" y="136"/>
                </a:lnTo>
                <a:lnTo>
                  <a:pt x="312" y="192"/>
                </a:lnTo>
                <a:lnTo>
                  <a:pt x="312" y="190"/>
                </a:lnTo>
                <a:lnTo>
                  <a:pt x="308" y="351"/>
                </a:lnTo>
                <a:lnTo>
                  <a:pt x="308" y="349"/>
                </a:lnTo>
                <a:lnTo>
                  <a:pt x="267" y="419"/>
                </a:lnTo>
                <a:lnTo>
                  <a:pt x="269" y="419"/>
                </a:lnTo>
                <a:lnTo>
                  <a:pt x="226" y="452"/>
                </a:lnTo>
                <a:lnTo>
                  <a:pt x="228" y="452"/>
                </a:lnTo>
                <a:lnTo>
                  <a:pt x="219" y="454"/>
                </a:lnTo>
                <a:lnTo>
                  <a:pt x="226" y="462"/>
                </a:lnTo>
                <a:lnTo>
                  <a:pt x="226" y="458"/>
                </a:lnTo>
                <a:lnTo>
                  <a:pt x="228" y="456"/>
                </a:lnTo>
                <a:lnTo>
                  <a:pt x="265" y="347"/>
                </a:lnTo>
                <a:lnTo>
                  <a:pt x="259" y="213"/>
                </a:lnTo>
                <a:lnTo>
                  <a:pt x="221" y="111"/>
                </a:lnTo>
                <a:lnTo>
                  <a:pt x="102" y="85"/>
                </a:lnTo>
                <a:lnTo>
                  <a:pt x="104" y="85"/>
                </a:lnTo>
                <a:lnTo>
                  <a:pt x="36" y="62"/>
                </a:lnTo>
                <a:lnTo>
                  <a:pt x="40" y="64"/>
                </a:lnTo>
                <a:lnTo>
                  <a:pt x="17" y="14"/>
                </a:lnTo>
                <a:lnTo>
                  <a:pt x="0" y="0"/>
                </a:lnTo>
                <a:lnTo>
                  <a:pt x="31" y="70"/>
                </a:lnTo>
                <a:lnTo>
                  <a:pt x="100" y="97"/>
                </a:lnTo>
                <a:lnTo>
                  <a:pt x="100" y="97"/>
                </a:lnTo>
                <a:lnTo>
                  <a:pt x="217" y="120"/>
                </a:lnTo>
                <a:lnTo>
                  <a:pt x="211" y="116"/>
                </a:lnTo>
                <a:lnTo>
                  <a:pt x="248" y="215"/>
                </a:lnTo>
                <a:lnTo>
                  <a:pt x="248" y="213"/>
                </a:lnTo>
                <a:lnTo>
                  <a:pt x="256" y="345"/>
                </a:lnTo>
                <a:lnTo>
                  <a:pt x="256" y="345"/>
                </a:lnTo>
                <a:lnTo>
                  <a:pt x="217" y="454"/>
                </a:lnTo>
                <a:lnTo>
                  <a:pt x="219" y="452"/>
                </a:lnTo>
                <a:lnTo>
                  <a:pt x="213" y="467"/>
                </a:lnTo>
                <a:lnTo>
                  <a:pt x="232" y="462"/>
                </a:lnTo>
                <a:lnTo>
                  <a:pt x="277" y="427"/>
                </a:lnTo>
                <a:lnTo>
                  <a:pt x="318" y="353"/>
                </a:lnTo>
                <a:lnTo>
                  <a:pt x="321" y="190"/>
                </a:lnTo>
                <a:lnTo>
                  <a:pt x="296" y="136"/>
                </a:lnTo>
                <a:lnTo>
                  <a:pt x="296" y="140"/>
                </a:lnTo>
                <a:lnTo>
                  <a:pt x="308" y="124"/>
                </a:lnTo>
                <a:lnTo>
                  <a:pt x="287" y="82"/>
                </a:lnTo>
                <a:lnTo>
                  <a:pt x="287" y="85"/>
                </a:lnTo>
                <a:lnTo>
                  <a:pt x="302" y="58"/>
                </a:lnTo>
                <a:lnTo>
                  <a:pt x="302" y="58"/>
                </a:lnTo>
                <a:lnTo>
                  <a:pt x="321" y="31"/>
                </a:lnTo>
                <a:lnTo>
                  <a:pt x="302" y="31"/>
                </a:lnTo>
                <a:lnTo>
                  <a:pt x="285" y="37"/>
                </a:lnTo>
                <a:lnTo>
                  <a:pt x="207" y="54"/>
                </a:lnTo>
                <a:lnTo>
                  <a:pt x="211" y="54"/>
                </a:lnTo>
                <a:lnTo>
                  <a:pt x="133" y="37"/>
                </a:lnTo>
                <a:lnTo>
                  <a:pt x="93" y="45"/>
                </a:lnTo>
                <a:lnTo>
                  <a:pt x="95" y="45"/>
                </a:lnTo>
                <a:lnTo>
                  <a:pt x="46" y="37"/>
                </a:lnTo>
                <a:lnTo>
                  <a:pt x="48" y="37"/>
                </a:lnTo>
                <a:lnTo>
                  <a:pt x="0" y="0"/>
                </a:lnTo>
                <a:lnTo>
                  <a:pt x="17"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20" name=""/>
          <p:cNvSpPr/>
          <p:nvPr/>
        </p:nvSpPr>
        <p:spPr>
          <a:xfrm>
            <a:off x="5151600" y="3430440"/>
            <a:ext cx="90360" cy="144720"/>
          </a:xfrm>
          <a:custGeom>
            <a:avLst/>
            <a:gdLst/>
            <a:ahLst/>
            <a:rect l="l" t="t" r="r" b="b"/>
            <a:pathLst>
              <a:path w="115" h="180">
                <a:moveTo>
                  <a:pt x="115" y="0"/>
                </a:moveTo>
                <a:lnTo>
                  <a:pt x="66" y="66"/>
                </a:lnTo>
                <a:lnTo>
                  <a:pt x="0" y="161"/>
                </a:lnTo>
                <a:lnTo>
                  <a:pt x="66" y="180"/>
                </a:lnTo>
                <a:lnTo>
                  <a:pt x="109" y="101"/>
                </a:lnTo>
                <a:lnTo>
                  <a:pt x="115" y="0"/>
                </a:lnTo>
                <a:close/>
              </a:path>
            </a:pathLst>
          </a:custGeom>
          <a:solidFill>
            <a:srgbClr val="f2b596"/>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21" name=""/>
          <p:cNvSpPr/>
          <p:nvPr/>
        </p:nvSpPr>
        <p:spPr>
          <a:xfrm>
            <a:off x="5156280" y="3440160"/>
            <a:ext cx="77760" cy="123840"/>
          </a:xfrm>
          <a:custGeom>
            <a:avLst/>
            <a:gdLst/>
            <a:ahLst/>
            <a:rect l="l" t="t" r="r" b="b"/>
            <a:pathLst>
              <a:path w="97" h="155">
                <a:moveTo>
                  <a:pt x="97" y="0"/>
                </a:moveTo>
                <a:lnTo>
                  <a:pt x="56" y="58"/>
                </a:lnTo>
                <a:lnTo>
                  <a:pt x="29" y="99"/>
                </a:lnTo>
                <a:lnTo>
                  <a:pt x="0" y="140"/>
                </a:lnTo>
                <a:lnTo>
                  <a:pt x="29" y="148"/>
                </a:lnTo>
                <a:lnTo>
                  <a:pt x="56" y="155"/>
                </a:lnTo>
                <a:lnTo>
                  <a:pt x="93" y="88"/>
                </a:lnTo>
                <a:lnTo>
                  <a:pt x="95" y="45"/>
                </a:lnTo>
                <a:lnTo>
                  <a:pt x="97" y="0"/>
                </a:lnTo>
                <a:close/>
              </a:path>
            </a:pathLst>
          </a:custGeom>
          <a:solidFill>
            <a:srgbClr val="f4bc9b"/>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22" name=""/>
          <p:cNvSpPr/>
          <p:nvPr/>
        </p:nvSpPr>
        <p:spPr>
          <a:xfrm>
            <a:off x="5164200" y="3451320"/>
            <a:ext cx="63360" cy="101520"/>
          </a:xfrm>
          <a:custGeom>
            <a:avLst/>
            <a:gdLst/>
            <a:ahLst/>
            <a:rect l="l" t="t" r="r" b="b"/>
            <a:pathLst>
              <a:path w="79" h="128">
                <a:moveTo>
                  <a:pt x="79" y="0"/>
                </a:moveTo>
                <a:lnTo>
                  <a:pt x="44" y="48"/>
                </a:lnTo>
                <a:lnTo>
                  <a:pt x="0" y="114"/>
                </a:lnTo>
                <a:lnTo>
                  <a:pt x="21" y="122"/>
                </a:lnTo>
                <a:lnTo>
                  <a:pt x="44" y="128"/>
                </a:lnTo>
                <a:lnTo>
                  <a:pt x="60" y="101"/>
                </a:lnTo>
                <a:lnTo>
                  <a:pt x="75" y="74"/>
                </a:lnTo>
                <a:lnTo>
                  <a:pt x="79" y="0"/>
                </a:lnTo>
                <a:close/>
              </a:path>
            </a:pathLst>
          </a:custGeom>
          <a:solidFill>
            <a:srgbClr val="f7c1a3"/>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23" name=""/>
          <p:cNvSpPr/>
          <p:nvPr/>
        </p:nvSpPr>
        <p:spPr>
          <a:xfrm>
            <a:off x="5170320" y="3462480"/>
            <a:ext cx="51120" cy="79200"/>
          </a:xfrm>
          <a:custGeom>
            <a:avLst/>
            <a:gdLst/>
            <a:ahLst/>
            <a:rect l="l" t="t" r="r" b="b"/>
            <a:pathLst>
              <a:path w="64" h="101">
                <a:moveTo>
                  <a:pt x="64" y="0"/>
                </a:moveTo>
                <a:lnTo>
                  <a:pt x="37" y="37"/>
                </a:lnTo>
                <a:lnTo>
                  <a:pt x="18" y="64"/>
                </a:lnTo>
                <a:lnTo>
                  <a:pt x="0" y="92"/>
                </a:lnTo>
                <a:lnTo>
                  <a:pt x="18" y="97"/>
                </a:lnTo>
                <a:lnTo>
                  <a:pt x="37" y="101"/>
                </a:lnTo>
                <a:lnTo>
                  <a:pt x="49" y="80"/>
                </a:lnTo>
                <a:lnTo>
                  <a:pt x="61" y="59"/>
                </a:lnTo>
                <a:lnTo>
                  <a:pt x="64" y="0"/>
                </a:lnTo>
                <a:close/>
              </a:path>
            </a:pathLst>
          </a:custGeom>
          <a:solidFill>
            <a:srgbClr val="f9c6aa"/>
          </a:solidFill>
          <a:ln w="0">
            <a:noFill/>
          </a:ln>
        </p:spPr>
        <p:style>
          <a:lnRef idx="0"/>
          <a:fillRef idx="0"/>
          <a:effectRef idx="0"/>
          <a:fontRef idx="minor"/>
        </p:style>
        <p:txBody>
          <a:bodyPr lIns="90000" rIns="90000" tIns="32400" bIns="32400" anchor="t">
            <a:noAutofit/>
          </a:bodyPr>
          <a:p>
            <a:endParaRPr b="0" lang="en-US" sz="2400" spc="-1" strike="noStrike">
              <a:solidFill>
                <a:srgbClr val="ffff66"/>
              </a:solidFill>
              <a:latin typeface="Times New Roman"/>
            </a:endParaRPr>
          </a:p>
        </p:txBody>
      </p:sp>
      <p:sp>
        <p:nvSpPr>
          <p:cNvPr id="424" name=""/>
          <p:cNvSpPr/>
          <p:nvPr/>
        </p:nvSpPr>
        <p:spPr>
          <a:xfrm>
            <a:off x="5178600" y="3473280"/>
            <a:ext cx="34920" cy="57240"/>
          </a:xfrm>
          <a:custGeom>
            <a:avLst/>
            <a:gdLst/>
            <a:ahLst/>
            <a:rect l="l" t="t" r="r" b="b"/>
            <a:pathLst>
              <a:path w="45" h="74">
                <a:moveTo>
                  <a:pt x="45" y="0"/>
                </a:moveTo>
                <a:lnTo>
                  <a:pt x="35" y="14"/>
                </a:lnTo>
                <a:lnTo>
                  <a:pt x="25" y="27"/>
                </a:lnTo>
                <a:lnTo>
                  <a:pt x="0" y="66"/>
                </a:lnTo>
                <a:lnTo>
                  <a:pt x="25" y="74"/>
                </a:lnTo>
                <a:lnTo>
                  <a:pt x="43" y="43"/>
                </a:lnTo>
                <a:lnTo>
                  <a:pt x="45" y="21"/>
                </a:lnTo>
                <a:lnTo>
                  <a:pt x="45" y="0"/>
                </a:lnTo>
                <a:close/>
              </a:path>
            </a:pathLst>
          </a:custGeom>
          <a:solidFill>
            <a:srgbClr val="fcccb2"/>
          </a:solidFill>
          <a:ln w="0">
            <a:noFill/>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425" name=""/>
          <p:cNvSpPr/>
          <p:nvPr/>
        </p:nvSpPr>
        <p:spPr>
          <a:xfrm>
            <a:off x="5184720" y="3483000"/>
            <a:ext cx="20520" cy="38160"/>
          </a:xfrm>
          <a:custGeom>
            <a:avLst/>
            <a:gdLst/>
            <a:ahLst/>
            <a:rect l="l" t="t" r="r" b="b"/>
            <a:pathLst>
              <a:path w="27" h="46">
                <a:moveTo>
                  <a:pt x="27" y="0"/>
                </a:moveTo>
                <a:lnTo>
                  <a:pt x="17" y="17"/>
                </a:lnTo>
                <a:lnTo>
                  <a:pt x="0" y="42"/>
                </a:lnTo>
                <a:lnTo>
                  <a:pt x="17" y="46"/>
                </a:lnTo>
                <a:lnTo>
                  <a:pt x="27" y="27"/>
                </a:lnTo>
                <a:lnTo>
                  <a:pt x="27" y="0"/>
                </a:lnTo>
                <a:close/>
              </a:path>
            </a:pathLst>
          </a:custGeom>
          <a:solidFill>
            <a:srgbClr val="ffd1ba"/>
          </a:solidFill>
          <a:ln w="0">
            <a:noFill/>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426" name=""/>
          <p:cNvSpPr/>
          <p:nvPr/>
        </p:nvSpPr>
        <p:spPr>
          <a:xfrm>
            <a:off x="5256360" y="2830680"/>
            <a:ext cx="698400" cy="604800"/>
          </a:xfrm>
          <a:custGeom>
            <a:avLst/>
            <a:gdLst/>
            <a:ahLst/>
            <a:rect l="l" t="t" r="r" b="b"/>
            <a:pathLst>
              <a:path w="881" h="762">
                <a:moveTo>
                  <a:pt x="0" y="51"/>
                </a:moveTo>
                <a:lnTo>
                  <a:pt x="91" y="41"/>
                </a:lnTo>
                <a:lnTo>
                  <a:pt x="260" y="53"/>
                </a:lnTo>
                <a:lnTo>
                  <a:pt x="242" y="90"/>
                </a:lnTo>
                <a:lnTo>
                  <a:pt x="237" y="144"/>
                </a:lnTo>
                <a:lnTo>
                  <a:pt x="310" y="126"/>
                </a:lnTo>
                <a:lnTo>
                  <a:pt x="460" y="132"/>
                </a:lnTo>
                <a:lnTo>
                  <a:pt x="570" y="144"/>
                </a:lnTo>
                <a:lnTo>
                  <a:pt x="582" y="235"/>
                </a:lnTo>
                <a:lnTo>
                  <a:pt x="582" y="284"/>
                </a:lnTo>
                <a:lnTo>
                  <a:pt x="636" y="295"/>
                </a:lnTo>
                <a:lnTo>
                  <a:pt x="642" y="454"/>
                </a:lnTo>
                <a:lnTo>
                  <a:pt x="671" y="512"/>
                </a:lnTo>
                <a:lnTo>
                  <a:pt x="673" y="512"/>
                </a:lnTo>
                <a:lnTo>
                  <a:pt x="673" y="514"/>
                </a:lnTo>
                <a:lnTo>
                  <a:pt x="679" y="518"/>
                </a:lnTo>
                <a:lnTo>
                  <a:pt x="687" y="526"/>
                </a:lnTo>
                <a:lnTo>
                  <a:pt x="694" y="536"/>
                </a:lnTo>
                <a:lnTo>
                  <a:pt x="702" y="549"/>
                </a:lnTo>
                <a:lnTo>
                  <a:pt x="712" y="567"/>
                </a:lnTo>
                <a:lnTo>
                  <a:pt x="718" y="586"/>
                </a:lnTo>
                <a:lnTo>
                  <a:pt x="720" y="598"/>
                </a:lnTo>
                <a:lnTo>
                  <a:pt x="721" y="609"/>
                </a:lnTo>
                <a:lnTo>
                  <a:pt x="721" y="627"/>
                </a:lnTo>
                <a:lnTo>
                  <a:pt x="723" y="646"/>
                </a:lnTo>
                <a:lnTo>
                  <a:pt x="721" y="687"/>
                </a:lnTo>
                <a:lnTo>
                  <a:pt x="720" y="728"/>
                </a:lnTo>
                <a:lnTo>
                  <a:pt x="720" y="745"/>
                </a:lnTo>
                <a:lnTo>
                  <a:pt x="718" y="762"/>
                </a:lnTo>
                <a:lnTo>
                  <a:pt x="751" y="741"/>
                </a:lnTo>
                <a:lnTo>
                  <a:pt x="851" y="605"/>
                </a:lnTo>
                <a:lnTo>
                  <a:pt x="877" y="524"/>
                </a:lnTo>
                <a:lnTo>
                  <a:pt x="867" y="512"/>
                </a:lnTo>
                <a:lnTo>
                  <a:pt x="881" y="499"/>
                </a:lnTo>
                <a:lnTo>
                  <a:pt x="881" y="402"/>
                </a:lnTo>
                <a:lnTo>
                  <a:pt x="867" y="320"/>
                </a:lnTo>
                <a:lnTo>
                  <a:pt x="799" y="189"/>
                </a:lnTo>
                <a:lnTo>
                  <a:pt x="708" y="68"/>
                </a:lnTo>
                <a:lnTo>
                  <a:pt x="663" y="30"/>
                </a:lnTo>
                <a:lnTo>
                  <a:pt x="592" y="16"/>
                </a:lnTo>
                <a:lnTo>
                  <a:pt x="398" y="10"/>
                </a:lnTo>
                <a:lnTo>
                  <a:pt x="324" y="0"/>
                </a:lnTo>
                <a:lnTo>
                  <a:pt x="301" y="6"/>
                </a:lnTo>
                <a:lnTo>
                  <a:pt x="68" y="30"/>
                </a:lnTo>
                <a:lnTo>
                  <a:pt x="6" y="49"/>
                </a:lnTo>
                <a:lnTo>
                  <a:pt x="0" y="51"/>
                </a:lnTo>
                <a:close/>
              </a:path>
            </a:pathLst>
          </a:custGeom>
          <a:solidFill>
            <a:srgbClr val="dd562b"/>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27" name=""/>
          <p:cNvSpPr/>
          <p:nvPr/>
        </p:nvSpPr>
        <p:spPr>
          <a:xfrm>
            <a:off x="5745240" y="3252960"/>
            <a:ext cx="357120" cy="523800"/>
          </a:xfrm>
          <a:custGeom>
            <a:avLst/>
            <a:gdLst/>
            <a:ahLst/>
            <a:rect l="l" t="t" r="r" b="b"/>
            <a:pathLst>
              <a:path w="450" h="659">
                <a:moveTo>
                  <a:pt x="0" y="651"/>
                </a:moveTo>
                <a:lnTo>
                  <a:pt x="0" y="659"/>
                </a:lnTo>
                <a:lnTo>
                  <a:pt x="37" y="568"/>
                </a:lnTo>
                <a:lnTo>
                  <a:pt x="99" y="508"/>
                </a:lnTo>
                <a:lnTo>
                  <a:pt x="122" y="599"/>
                </a:lnTo>
                <a:lnTo>
                  <a:pt x="116" y="640"/>
                </a:lnTo>
                <a:lnTo>
                  <a:pt x="176" y="616"/>
                </a:lnTo>
                <a:lnTo>
                  <a:pt x="219" y="452"/>
                </a:lnTo>
                <a:lnTo>
                  <a:pt x="219" y="452"/>
                </a:lnTo>
                <a:lnTo>
                  <a:pt x="219" y="446"/>
                </a:lnTo>
                <a:lnTo>
                  <a:pt x="219" y="440"/>
                </a:lnTo>
                <a:lnTo>
                  <a:pt x="219" y="432"/>
                </a:lnTo>
                <a:lnTo>
                  <a:pt x="221" y="424"/>
                </a:lnTo>
                <a:lnTo>
                  <a:pt x="227" y="415"/>
                </a:lnTo>
                <a:lnTo>
                  <a:pt x="232" y="407"/>
                </a:lnTo>
                <a:lnTo>
                  <a:pt x="242" y="399"/>
                </a:lnTo>
                <a:lnTo>
                  <a:pt x="254" y="393"/>
                </a:lnTo>
                <a:lnTo>
                  <a:pt x="267" y="391"/>
                </a:lnTo>
                <a:lnTo>
                  <a:pt x="281" y="391"/>
                </a:lnTo>
                <a:lnTo>
                  <a:pt x="295" y="391"/>
                </a:lnTo>
                <a:lnTo>
                  <a:pt x="304" y="393"/>
                </a:lnTo>
                <a:lnTo>
                  <a:pt x="314" y="397"/>
                </a:lnTo>
                <a:lnTo>
                  <a:pt x="320" y="397"/>
                </a:lnTo>
                <a:lnTo>
                  <a:pt x="320" y="399"/>
                </a:lnTo>
                <a:lnTo>
                  <a:pt x="322" y="399"/>
                </a:lnTo>
                <a:lnTo>
                  <a:pt x="353" y="399"/>
                </a:lnTo>
                <a:lnTo>
                  <a:pt x="382" y="217"/>
                </a:lnTo>
                <a:lnTo>
                  <a:pt x="384" y="215"/>
                </a:lnTo>
                <a:lnTo>
                  <a:pt x="388" y="213"/>
                </a:lnTo>
                <a:lnTo>
                  <a:pt x="395" y="205"/>
                </a:lnTo>
                <a:lnTo>
                  <a:pt x="403" y="198"/>
                </a:lnTo>
                <a:lnTo>
                  <a:pt x="415" y="190"/>
                </a:lnTo>
                <a:lnTo>
                  <a:pt x="426" y="180"/>
                </a:lnTo>
                <a:lnTo>
                  <a:pt x="450" y="157"/>
                </a:lnTo>
                <a:lnTo>
                  <a:pt x="413" y="48"/>
                </a:lnTo>
                <a:lnTo>
                  <a:pt x="393" y="6"/>
                </a:lnTo>
                <a:lnTo>
                  <a:pt x="357" y="9"/>
                </a:lnTo>
                <a:lnTo>
                  <a:pt x="289" y="0"/>
                </a:lnTo>
                <a:lnTo>
                  <a:pt x="277" y="40"/>
                </a:lnTo>
                <a:lnTo>
                  <a:pt x="264" y="77"/>
                </a:lnTo>
                <a:lnTo>
                  <a:pt x="182" y="198"/>
                </a:lnTo>
                <a:lnTo>
                  <a:pt x="139" y="238"/>
                </a:lnTo>
                <a:lnTo>
                  <a:pt x="114" y="271"/>
                </a:lnTo>
                <a:lnTo>
                  <a:pt x="95" y="291"/>
                </a:lnTo>
                <a:lnTo>
                  <a:pt x="66" y="388"/>
                </a:lnTo>
                <a:lnTo>
                  <a:pt x="11" y="450"/>
                </a:lnTo>
                <a:lnTo>
                  <a:pt x="8" y="630"/>
                </a:lnTo>
                <a:lnTo>
                  <a:pt x="0" y="651"/>
                </a:lnTo>
                <a:close/>
              </a:path>
            </a:pathLst>
          </a:custGeom>
          <a:solidFill>
            <a:srgbClr val="dd562b"/>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28" name=""/>
          <p:cNvSpPr/>
          <p:nvPr/>
        </p:nvSpPr>
        <p:spPr>
          <a:xfrm>
            <a:off x="5735520" y="4621320"/>
            <a:ext cx="333360" cy="1325520"/>
          </a:xfrm>
          <a:custGeom>
            <a:avLst/>
            <a:gdLst/>
            <a:ahLst/>
            <a:rect l="l" t="t" r="r" b="b"/>
            <a:pathLst>
              <a:path w="421" h="1671">
                <a:moveTo>
                  <a:pt x="299" y="0"/>
                </a:moveTo>
                <a:lnTo>
                  <a:pt x="285" y="73"/>
                </a:lnTo>
                <a:lnTo>
                  <a:pt x="225" y="314"/>
                </a:lnTo>
                <a:lnTo>
                  <a:pt x="213" y="725"/>
                </a:lnTo>
                <a:lnTo>
                  <a:pt x="213" y="727"/>
                </a:lnTo>
                <a:lnTo>
                  <a:pt x="213" y="731"/>
                </a:lnTo>
                <a:lnTo>
                  <a:pt x="215" y="736"/>
                </a:lnTo>
                <a:lnTo>
                  <a:pt x="215" y="746"/>
                </a:lnTo>
                <a:lnTo>
                  <a:pt x="217" y="756"/>
                </a:lnTo>
                <a:lnTo>
                  <a:pt x="219" y="769"/>
                </a:lnTo>
                <a:lnTo>
                  <a:pt x="221" y="783"/>
                </a:lnTo>
                <a:lnTo>
                  <a:pt x="221" y="800"/>
                </a:lnTo>
                <a:lnTo>
                  <a:pt x="223" y="818"/>
                </a:lnTo>
                <a:lnTo>
                  <a:pt x="223" y="835"/>
                </a:lnTo>
                <a:lnTo>
                  <a:pt x="223" y="876"/>
                </a:lnTo>
                <a:lnTo>
                  <a:pt x="219" y="919"/>
                </a:lnTo>
                <a:lnTo>
                  <a:pt x="213" y="961"/>
                </a:lnTo>
                <a:lnTo>
                  <a:pt x="210" y="983"/>
                </a:lnTo>
                <a:lnTo>
                  <a:pt x="206" y="1008"/>
                </a:lnTo>
                <a:lnTo>
                  <a:pt x="204" y="1033"/>
                </a:lnTo>
                <a:lnTo>
                  <a:pt x="200" y="1058"/>
                </a:lnTo>
                <a:lnTo>
                  <a:pt x="196" y="1113"/>
                </a:lnTo>
                <a:lnTo>
                  <a:pt x="188" y="1171"/>
                </a:lnTo>
                <a:lnTo>
                  <a:pt x="184" y="1200"/>
                </a:lnTo>
                <a:lnTo>
                  <a:pt x="179" y="1229"/>
                </a:lnTo>
                <a:lnTo>
                  <a:pt x="171" y="1260"/>
                </a:lnTo>
                <a:lnTo>
                  <a:pt x="163" y="1289"/>
                </a:lnTo>
                <a:lnTo>
                  <a:pt x="153" y="1318"/>
                </a:lnTo>
                <a:lnTo>
                  <a:pt x="142" y="1347"/>
                </a:lnTo>
                <a:lnTo>
                  <a:pt x="126" y="1376"/>
                </a:lnTo>
                <a:lnTo>
                  <a:pt x="111" y="1403"/>
                </a:lnTo>
                <a:lnTo>
                  <a:pt x="87" y="1438"/>
                </a:lnTo>
                <a:lnTo>
                  <a:pt x="68" y="1473"/>
                </a:lnTo>
                <a:lnTo>
                  <a:pt x="52" y="1506"/>
                </a:lnTo>
                <a:lnTo>
                  <a:pt x="37" y="1539"/>
                </a:lnTo>
                <a:lnTo>
                  <a:pt x="25" y="1570"/>
                </a:lnTo>
                <a:lnTo>
                  <a:pt x="14" y="1597"/>
                </a:lnTo>
                <a:lnTo>
                  <a:pt x="6" y="1623"/>
                </a:lnTo>
                <a:lnTo>
                  <a:pt x="0" y="1646"/>
                </a:lnTo>
                <a:lnTo>
                  <a:pt x="16" y="1646"/>
                </a:lnTo>
                <a:lnTo>
                  <a:pt x="93" y="1671"/>
                </a:lnTo>
                <a:lnTo>
                  <a:pt x="213" y="1665"/>
                </a:lnTo>
                <a:lnTo>
                  <a:pt x="405" y="1351"/>
                </a:lnTo>
                <a:lnTo>
                  <a:pt x="411" y="1204"/>
                </a:lnTo>
                <a:lnTo>
                  <a:pt x="421" y="1093"/>
                </a:lnTo>
                <a:lnTo>
                  <a:pt x="411" y="853"/>
                </a:lnTo>
                <a:lnTo>
                  <a:pt x="382" y="804"/>
                </a:lnTo>
                <a:lnTo>
                  <a:pt x="359" y="713"/>
                </a:lnTo>
                <a:lnTo>
                  <a:pt x="328" y="630"/>
                </a:lnTo>
                <a:lnTo>
                  <a:pt x="279" y="548"/>
                </a:lnTo>
                <a:lnTo>
                  <a:pt x="272" y="515"/>
                </a:lnTo>
                <a:lnTo>
                  <a:pt x="276" y="510"/>
                </a:lnTo>
                <a:lnTo>
                  <a:pt x="305" y="490"/>
                </a:lnTo>
                <a:lnTo>
                  <a:pt x="289" y="393"/>
                </a:lnTo>
                <a:lnTo>
                  <a:pt x="289" y="224"/>
                </a:lnTo>
                <a:lnTo>
                  <a:pt x="299" y="0"/>
                </a:lnTo>
                <a:close/>
              </a:path>
            </a:pathLst>
          </a:custGeom>
          <a:solidFill>
            <a:srgbClr val="b559b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29" name=""/>
          <p:cNvSpPr/>
          <p:nvPr/>
        </p:nvSpPr>
        <p:spPr>
          <a:xfrm>
            <a:off x="5019840" y="4151160"/>
            <a:ext cx="374400" cy="984240"/>
          </a:xfrm>
          <a:custGeom>
            <a:avLst/>
            <a:gdLst/>
            <a:ahLst/>
            <a:rect l="l" t="t" r="r" b="b"/>
            <a:pathLst>
              <a:path w="472" h="1239">
                <a:moveTo>
                  <a:pt x="78" y="27"/>
                </a:moveTo>
                <a:lnTo>
                  <a:pt x="0" y="574"/>
                </a:lnTo>
                <a:lnTo>
                  <a:pt x="12" y="906"/>
                </a:lnTo>
                <a:lnTo>
                  <a:pt x="60" y="1185"/>
                </a:lnTo>
                <a:lnTo>
                  <a:pt x="109" y="1239"/>
                </a:lnTo>
                <a:lnTo>
                  <a:pt x="214" y="1069"/>
                </a:lnTo>
                <a:lnTo>
                  <a:pt x="334" y="894"/>
                </a:lnTo>
                <a:lnTo>
                  <a:pt x="388" y="954"/>
                </a:lnTo>
                <a:lnTo>
                  <a:pt x="439" y="999"/>
                </a:lnTo>
                <a:lnTo>
                  <a:pt x="439" y="989"/>
                </a:lnTo>
                <a:lnTo>
                  <a:pt x="458" y="816"/>
                </a:lnTo>
                <a:lnTo>
                  <a:pt x="472" y="593"/>
                </a:lnTo>
                <a:lnTo>
                  <a:pt x="433" y="615"/>
                </a:lnTo>
                <a:lnTo>
                  <a:pt x="361" y="677"/>
                </a:lnTo>
                <a:lnTo>
                  <a:pt x="287" y="782"/>
                </a:lnTo>
                <a:lnTo>
                  <a:pt x="216" y="943"/>
                </a:lnTo>
                <a:lnTo>
                  <a:pt x="167" y="1047"/>
                </a:lnTo>
                <a:lnTo>
                  <a:pt x="148" y="1059"/>
                </a:lnTo>
                <a:lnTo>
                  <a:pt x="138" y="1043"/>
                </a:lnTo>
                <a:lnTo>
                  <a:pt x="90" y="888"/>
                </a:lnTo>
                <a:lnTo>
                  <a:pt x="60" y="716"/>
                </a:lnTo>
                <a:lnTo>
                  <a:pt x="51" y="522"/>
                </a:lnTo>
                <a:lnTo>
                  <a:pt x="64" y="272"/>
                </a:lnTo>
                <a:lnTo>
                  <a:pt x="78" y="198"/>
                </a:lnTo>
                <a:lnTo>
                  <a:pt x="123" y="0"/>
                </a:lnTo>
                <a:lnTo>
                  <a:pt x="78" y="27"/>
                </a:lnTo>
                <a:close/>
              </a:path>
            </a:pathLst>
          </a:custGeom>
          <a:solidFill>
            <a:srgbClr val="b559b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30" name=""/>
          <p:cNvSpPr/>
          <p:nvPr/>
        </p:nvSpPr>
        <p:spPr>
          <a:xfrm>
            <a:off x="5392800" y="4149720"/>
            <a:ext cx="706320" cy="1093680"/>
          </a:xfrm>
          <a:custGeom>
            <a:avLst/>
            <a:gdLst/>
            <a:ahLst/>
            <a:rect l="l" t="t" r="r" b="b"/>
            <a:pathLst>
              <a:path w="890" h="1379">
                <a:moveTo>
                  <a:pt x="0" y="941"/>
                </a:moveTo>
                <a:lnTo>
                  <a:pt x="46" y="933"/>
                </a:lnTo>
                <a:lnTo>
                  <a:pt x="112" y="1173"/>
                </a:lnTo>
                <a:lnTo>
                  <a:pt x="161" y="1379"/>
                </a:lnTo>
                <a:lnTo>
                  <a:pt x="312" y="1144"/>
                </a:lnTo>
                <a:lnTo>
                  <a:pt x="312" y="1142"/>
                </a:lnTo>
                <a:lnTo>
                  <a:pt x="314" y="1140"/>
                </a:lnTo>
                <a:lnTo>
                  <a:pt x="318" y="1136"/>
                </a:lnTo>
                <a:lnTo>
                  <a:pt x="322" y="1133"/>
                </a:lnTo>
                <a:lnTo>
                  <a:pt x="327" y="1127"/>
                </a:lnTo>
                <a:lnTo>
                  <a:pt x="333" y="1119"/>
                </a:lnTo>
                <a:lnTo>
                  <a:pt x="341" y="1111"/>
                </a:lnTo>
                <a:lnTo>
                  <a:pt x="349" y="1102"/>
                </a:lnTo>
                <a:lnTo>
                  <a:pt x="366" y="1080"/>
                </a:lnTo>
                <a:lnTo>
                  <a:pt x="388" y="1057"/>
                </a:lnTo>
                <a:lnTo>
                  <a:pt x="409" y="1032"/>
                </a:lnTo>
                <a:lnTo>
                  <a:pt x="432" y="1007"/>
                </a:lnTo>
                <a:lnTo>
                  <a:pt x="477" y="954"/>
                </a:lnTo>
                <a:lnTo>
                  <a:pt x="496" y="927"/>
                </a:lnTo>
                <a:lnTo>
                  <a:pt x="516" y="904"/>
                </a:lnTo>
                <a:lnTo>
                  <a:pt x="533" y="882"/>
                </a:lnTo>
                <a:lnTo>
                  <a:pt x="539" y="873"/>
                </a:lnTo>
                <a:lnTo>
                  <a:pt x="547" y="865"/>
                </a:lnTo>
                <a:lnTo>
                  <a:pt x="550" y="857"/>
                </a:lnTo>
                <a:lnTo>
                  <a:pt x="554" y="851"/>
                </a:lnTo>
                <a:lnTo>
                  <a:pt x="558" y="844"/>
                </a:lnTo>
                <a:lnTo>
                  <a:pt x="560" y="842"/>
                </a:lnTo>
                <a:lnTo>
                  <a:pt x="560" y="838"/>
                </a:lnTo>
                <a:lnTo>
                  <a:pt x="562" y="834"/>
                </a:lnTo>
                <a:lnTo>
                  <a:pt x="564" y="828"/>
                </a:lnTo>
                <a:lnTo>
                  <a:pt x="568" y="822"/>
                </a:lnTo>
                <a:lnTo>
                  <a:pt x="570" y="815"/>
                </a:lnTo>
                <a:lnTo>
                  <a:pt x="574" y="805"/>
                </a:lnTo>
                <a:lnTo>
                  <a:pt x="583" y="784"/>
                </a:lnTo>
                <a:lnTo>
                  <a:pt x="595" y="758"/>
                </a:lnTo>
                <a:lnTo>
                  <a:pt x="607" y="731"/>
                </a:lnTo>
                <a:lnTo>
                  <a:pt x="620" y="698"/>
                </a:lnTo>
                <a:lnTo>
                  <a:pt x="636" y="665"/>
                </a:lnTo>
                <a:lnTo>
                  <a:pt x="651" y="628"/>
                </a:lnTo>
                <a:lnTo>
                  <a:pt x="669" y="592"/>
                </a:lnTo>
                <a:lnTo>
                  <a:pt x="702" y="512"/>
                </a:lnTo>
                <a:lnTo>
                  <a:pt x="739" y="433"/>
                </a:lnTo>
                <a:lnTo>
                  <a:pt x="756" y="392"/>
                </a:lnTo>
                <a:lnTo>
                  <a:pt x="772" y="353"/>
                </a:lnTo>
                <a:lnTo>
                  <a:pt x="781" y="316"/>
                </a:lnTo>
                <a:lnTo>
                  <a:pt x="818" y="214"/>
                </a:lnTo>
                <a:lnTo>
                  <a:pt x="867" y="132"/>
                </a:lnTo>
                <a:lnTo>
                  <a:pt x="872" y="128"/>
                </a:lnTo>
                <a:lnTo>
                  <a:pt x="874" y="124"/>
                </a:lnTo>
                <a:lnTo>
                  <a:pt x="874" y="122"/>
                </a:lnTo>
                <a:lnTo>
                  <a:pt x="890" y="45"/>
                </a:lnTo>
                <a:lnTo>
                  <a:pt x="867" y="31"/>
                </a:lnTo>
                <a:lnTo>
                  <a:pt x="785" y="2"/>
                </a:lnTo>
                <a:lnTo>
                  <a:pt x="709" y="0"/>
                </a:lnTo>
                <a:lnTo>
                  <a:pt x="688" y="109"/>
                </a:lnTo>
                <a:lnTo>
                  <a:pt x="659" y="214"/>
                </a:lnTo>
                <a:lnTo>
                  <a:pt x="597" y="400"/>
                </a:lnTo>
                <a:lnTo>
                  <a:pt x="543" y="524"/>
                </a:lnTo>
                <a:lnTo>
                  <a:pt x="490" y="644"/>
                </a:lnTo>
                <a:lnTo>
                  <a:pt x="438" y="723"/>
                </a:lnTo>
                <a:lnTo>
                  <a:pt x="389" y="813"/>
                </a:lnTo>
                <a:lnTo>
                  <a:pt x="335" y="900"/>
                </a:lnTo>
                <a:lnTo>
                  <a:pt x="164" y="1123"/>
                </a:lnTo>
                <a:lnTo>
                  <a:pt x="141" y="1123"/>
                </a:lnTo>
                <a:lnTo>
                  <a:pt x="128" y="1016"/>
                </a:lnTo>
                <a:lnTo>
                  <a:pt x="79" y="774"/>
                </a:lnTo>
                <a:lnTo>
                  <a:pt x="73" y="747"/>
                </a:lnTo>
                <a:lnTo>
                  <a:pt x="31" y="644"/>
                </a:lnTo>
                <a:lnTo>
                  <a:pt x="21" y="689"/>
                </a:lnTo>
                <a:lnTo>
                  <a:pt x="5" y="848"/>
                </a:lnTo>
                <a:lnTo>
                  <a:pt x="0" y="941"/>
                </a:lnTo>
                <a:close/>
              </a:path>
            </a:pathLst>
          </a:custGeom>
          <a:solidFill>
            <a:srgbClr val="b559b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31" name=""/>
          <p:cNvSpPr/>
          <p:nvPr/>
        </p:nvSpPr>
        <p:spPr>
          <a:xfrm>
            <a:off x="6033960" y="5226120"/>
            <a:ext cx="365400" cy="819000"/>
          </a:xfrm>
          <a:custGeom>
            <a:avLst/>
            <a:gdLst/>
            <a:ahLst/>
            <a:rect l="l" t="t" r="r" b="b"/>
            <a:pathLst>
              <a:path w="460" h="1031">
                <a:moveTo>
                  <a:pt x="138" y="62"/>
                </a:moveTo>
                <a:lnTo>
                  <a:pt x="206" y="120"/>
                </a:lnTo>
                <a:lnTo>
                  <a:pt x="206" y="122"/>
                </a:lnTo>
                <a:lnTo>
                  <a:pt x="206" y="124"/>
                </a:lnTo>
                <a:lnTo>
                  <a:pt x="208" y="128"/>
                </a:lnTo>
                <a:lnTo>
                  <a:pt x="210" y="133"/>
                </a:lnTo>
                <a:lnTo>
                  <a:pt x="210" y="139"/>
                </a:lnTo>
                <a:lnTo>
                  <a:pt x="212" y="147"/>
                </a:lnTo>
                <a:lnTo>
                  <a:pt x="214" y="159"/>
                </a:lnTo>
                <a:lnTo>
                  <a:pt x="216" y="168"/>
                </a:lnTo>
                <a:lnTo>
                  <a:pt x="220" y="192"/>
                </a:lnTo>
                <a:lnTo>
                  <a:pt x="223" y="221"/>
                </a:lnTo>
                <a:lnTo>
                  <a:pt x="227" y="252"/>
                </a:lnTo>
                <a:lnTo>
                  <a:pt x="229" y="285"/>
                </a:lnTo>
                <a:lnTo>
                  <a:pt x="231" y="302"/>
                </a:lnTo>
                <a:lnTo>
                  <a:pt x="231" y="323"/>
                </a:lnTo>
                <a:lnTo>
                  <a:pt x="231" y="345"/>
                </a:lnTo>
                <a:lnTo>
                  <a:pt x="231" y="368"/>
                </a:lnTo>
                <a:lnTo>
                  <a:pt x="227" y="461"/>
                </a:lnTo>
                <a:lnTo>
                  <a:pt x="225" y="482"/>
                </a:lnTo>
                <a:lnTo>
                  <a:pt x="223" y="504"/>
                </a:lnTo>
                <a:lnTo>
                  <a:pt x="221" y="521"/>
                </a:lnTo>
                <a:lnTo>
                  <a:pt x="221" y="537"/>
                </a:lnTo>
                <a:lnTo>
                  <a:pt x="220" y="550"/>
                </a:lnTo>
                <a:lnTo>
                  <a:pt x="220" y="560"/>
                </a:lnTo>
                <a:lnTo>
                  <a:pt x="218" y="566"/>
                </a:lnTo>
                <a:lnTo>
                  <a:pt x="218" y="570"/>
                </a:lnTo>
                <a:lnTo>
                  <a:pt x="218" y="572"/>
                </a:lnTo>
                <a:lnTo>
                  <a:pt x="218" y="577"/>
                </a:lnTo>
                <a:lnTo>
                  <a:pt x="216" y="585"/>
                </a:lnTo>
                <a:lnTo>
                  <a:pt x="214" y="597"/>
                </a:lnTo>
                <a:lnTo>
                  <a:pt x="212" y="610"/>
                </a:lnTo>
                <a:lnTo>
                  <a:pt x="210" y="626"/>
                </a:lnTo>
                <a:lnTo>
                  <a:pt x="202" y="661"/>
                </a:lnTo>
                <a:lnTo>
                  <a:pt x="196" y="696"/>
                </a:lnTo>
                <a:lnTo>
                  <a:pt x="187" y="731"/>
                </a:lnTo>
                <a:lnTo>
                  <a:pt x="183" y="744"/>
                </a:lnTo>
                <a:lnTo>
                  <a:pt x="179" y="758"/>
                </a:lnTo>
                <a:lnTo>
                  <a:pt x="175" y="767"/>
                </a:lnTo>
                <a:lnTo>
                  <a:pt x="169" y="775"/>
                </a:lnTo>
                <a:lnTo>
                  <a:pt x="165" y="779"/>
                </a:lnTo>
                <a:lnTo>
                  <a:pt x="159" y="787"/>
                </a:lnTo>
                <a:lnTo>
                  <a:pt x="154" y="798"/>
                </a:lnTo>
                <a:lnTo>
                  <a:pt x="144" y="812"/>
                </a:lnTo>
                <a:lnTo>
                  <a:pt x="134" y="826"/>
                </a:lnTo>
                <a:lnTo>
                  <a:pt x="124" y="841"/>
                </a:lnTo>
                <a:lnTo>
                  <a:pt x="111" y="859"/>
                </a:lnTo>
                <a:lnTo>
                  <a:pt x="99" y="878"/>
                </a:lnTo>
                <a:lnTo>
                  <a:pt x="47" y="957"/>
                </a:lnTo>
                <a:lnTo>
                  <a:pt x="22" y="996"/>
                </a:lnTo>
                <a:lnTo>
                  <a:pt x="10" y="1014"/>
                </a:lnTo>
                <a:lnTo>
                  <a:pt x="0" y="1031"/>
                </a:lnTo>
                <a:lnTo>
                  <a:pt x="165" y="1029"/>
                </a:lnTo>
                <a:lnTo>
                  <a:pt x="181" y="1020"/>
                </a:lnTo>
                <a:lnTo>
                  <a:pt x="181" y="1004"/>
                </a:lnTo>
                <a:lnTo>
                  <a:pt x="223" y="956"/>
                </a:lnTo>
                <a:lnTo>
                  <a:pt x="305" y="820"/>
                </a:lnTo>
                <a:lnTo>
                  <a:pt x="340" y="783"/>
                </a:lnTo>
                <a:lnTo>
                  <a:pt x="363" y="715"/>
                </a:lnTo>
                <a:lnTo>
                  <a:pt x="379" y="632"/>
                </a:lnTo>
                <a:lnTo>
                  <a:pt x="398" y="492"/>
                </a:lnTo>
                <a:lnTo>
                  <a:pt x="402" y="415"/>
                </a:lnTo>
                <a:lnTo>
                  <a:pt x="460" y="3"/>
                </a:lnTo>
                <a:lnTo>
                  <a:pt x="408" y="0"/>
                </a:lnTo>
                <a:lnTo>
                  <a:pt x="402" y="3"/>
                </a:lnTo>
                <a:lnTo>
                  <a:pt x="330" y="13"/>
                </a:lnTo>
                <a:lnTo>
                  <a:pt x="287" y="33"/>
                </a:lnTo>
                <a:lnTo>
                  <a:pt x="200" y="62"/>
                </a:lnTo>
                <a:lnTo>
                  <a:pt x="142" y="62"/>
                </a:lnTo>
                <a:lnTo>
                  <a:pt x="138" y="62"/>
                </a:lnTo>
                <a:close/>
              </a:path>
            </a:pathLst>
          </a:custGeom>
          <a:solidFill>
            <a:srgbClr val="dba589"/>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432" name=""/>
          <p:cNvSpPr/>
          <p:nvPr/>
        </p:nvSpPr>
        <p:spPr>
          <a:xfrm>
            <a:off x="4349880" y="5189400"/>
            <a:ext cx="549000" cy="857520"/>
          </a:xfrm>
          <a:custGeom>
            <a:avLst/>
            <a:gdLst/>
            <a:ahLst/>
            <a:rect l="l" t="t" r="r" b="b"/>
            <a:pathLst>
              <a:path w="690" h="1078">
                <a:moveTo>
                  <a:pt x="391" y="0"/>
                </a:moveTo>
                <a:lnTo>
                  <a:pt x="395" y="147"/>
                </a:lnTo>
                <a:lnTo>
                  <a:pt x="372" y="487"/>
                </a:lnTo>
                <a:lnTo>
                  <a:pt x="238" y="710"/>
                </a:lnTo>
                <a:lnTo>
                  <a:pt x="238" y="712"/>
                </a:lnTo>
                <a:lnTo>
                  <a:pt x="236" y="714"/>
                </a:lnTo>
                <a:lnTo>
                  <a:pt x="234" y="715"/>
                </a:lnTo>
                <a:lnTo>
                  <a:pt x="230" y="719"/>
                </a:lnTo>
                <a:lnTo>
                  <a:pt x="227" y="725"/>
                </a:lnTo>
                <a:lnTo>
                  <a:pt x="221" y="731"/>
                </a:lnTo>
                <a:lnTo>
                  <a:pt x="209" y="745"/>
                </a:lnTo>
                <a:lnTo>
                  <a:pt x="196" y="760"/>
                </a:lnTo>
                <a:lnTo>
                  <a:pt x="180" y="779"/>
                </a:lnTo>
                <a:lnTo>
                  <a:pt x="145" y="820"/>
                </a:lnTo>
                <a:lnTo>
                  <a:pt x="108" y="863"/>
                </a:lnTo>
                <a:lnTo>
                  <a:pt x="91" y="884"/>
                </a:lnTo>
                <a:lnTo>
                  <a:pt x="75" y="902"/>
                </a:lnTo>
                <a:lnTo>
                  <a:pt x="62" y="919"/>
                </a:lnTo>
                <a:lnTo>
                  <a:pt x="48" y="933"/>
                </a:lnTo>
                <a:lnTo>
                  <a:pt x="42" y="938"/>
                </a:lnTo>
                <a:lnTo>
                  <a:pt x="38" y="944"/>
                </a:lnTo>
                <a:lnTo>
                  <a:pt x="35" y="950"/>
                </a:lnTo>
                <a:lnTo>
                  <a:pt x="33" y="952"/>
                </a:lnTo>
                <a:lnTo>
                  <a:pt x="29" y="960"/>
                </a:lnTo>
                <a:lnTo>
                  <a:pt x="23" y="971"/>
                </a:lnTo>
                <a:lnTo>
                  <a:pt x="19" y="987"/>
                </a:lnTo>
                <a:lnTo>
                  <a:pt x="13" y="1002"/>
                </a:lnTo>
                <a:lnTo>
                  <a:pt x="9" y="1020"/>
                </a:lnTo>
                <a:lnTo>
                  <a:pt x="6" y="1039"/>
                </a:lnTo>
                <a:lnTo>
                  <a:pt x="0" y="1078"/>
                </a:lnTo>
                <a:lnTo>
                  <a:pt x="81" y="1078"/>
                </a:lnTo>
                <a:lnTo>
                  <a:pt x="97" y="1055"/>
                </a:lnTo>
                <a:lnTo>
                  <a:pt x="135" y="1020"/>
                </a:lnTo>
                <a:lnTo>
                  <a:pt x="165" y="991"/>
                </a:lnTo>
                <a:lnTo>
                  <a:pt x="178" y="971"/>
                </a:lnTo>
                <a:lnTo>
                  <a:pt x="211" y="948"/>
                </a:lnTo>
                <a:lnTo>
                  <a:pt x="236" y="909"/>
                </a:lnTo>
                <a:lnTo>
                  <a:pt x="256" y="900"/>
                </a:lnTo>
                <a:lnTo>
                  <a:pt x="256" y="884"/>
                </a:lnTo>
                <a:lnTo>
                  <a:pt x="285" y="842"/>
                </a:lnTo>
                <a:lnTo>
                  <a:pt x="294" y="842"/>
                </a:lnTo>
                <a:lnTo>
                  <a:pt x="343" y="793"/>
                </a:lnTo>
                <a:lnTo>
                  <a:pt x="471" y="638"/>
                </a:lnTo>
                <a:lnTo>
                  <a:pt x="690" y="190"/>
                </a:lnTo>
                <a:lnTo>
                  <a:pt x="690" y="188"/>
                </a:lnTo>
                <a:lnTo>
                  <a:pt x="651" y="169"/>
                </a:lnTo>
                <a:lnTo>
                  <a:pt x="618" y="159"/>
                </a:lnTo>
                <a:lnTo>
                  <a:pt x="518" y="91"/>
                </a:lnTo>
                <a:lnTo>
                  <a:pt x="391" y="0"/>
                </a:lnTo>
                <a:close/>
              </a:path>
            </a:pathLst>
          </a:custGeom>
          <a:solidFill>
            <a:srgbClr val="dba589"/>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Relationship Skills—Main Points </a:t>
            </a:r>
            <a:endParaRPr b="0" lang="en-US" sz="4400" spc="-1" strike="noStrike">
              <a:solidFill>
                <a:srgbClr val="cc00cc"/>
              </a:solidFill>
              <a:latin typeface="Arial"/>
            </a:endParaRPr>
          </a:p>
        </p:txBody>
      </p:sp>
      <p:sp>
        <p:nvSpPr>
          <p:cNvPr id="4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Our sense of our own value affects our relationships</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ood attitudes make for better relationships</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ood habits make for better relationships</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ealing with anger, disappointment, and other emotions is important</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lationships develop in stages</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a:t>
            </a:r>
            <a:r>
              <a:rPr b="0" lang="en-US" sz="4400" spc="-1" strike="noStrike">
                <a:solidFill>
                  <a:srgbClr val="cc00cc"/>
                </a:solidFill>
                <a:latin typeface="Arial"/>
              </a:rPr>
              <a:t>Relationship Skills”: Cognitive Objectives</a:t>
            </a:r>
            <a:endParaRPr b="0" lang="en-US" sz="4400" spc="-1" strike="noStrike">
              <a:solidFill>
                <a:srgbClr val="cc00cc"/>
              </a:solidFill>
              <a:latin typeface="Arial"/>
            </a:endParaRPr>
          </a:p>
        </p:txBody>
      </p:sp>
      <p:sp>
        <p:nvSpPr>
          <p:cNvPr id="436" name="PlaceHolder 2"/>
          <p:cNvSpPr>
            <a:spLocks noGrp="1"/>
          </p:cNvSpPr>
          <p:nvPr>
            <p:ph/>
          </p:nvPr>
        </p:nvSpPr>
        <p:spPr>
          <a:xfrm>
            <a:off x="0" y="2209680"/>
            <a:ext cx="4495680" cy="464832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tudents will understand that relationship skills are related to qualities of good character</a:t>
            </a:r>
            <a:endParaRPr b="0" lang="en-US" sz="3200" spc="-1" strike="noStrike">
              <a:solidFill>
                <a:srgbClr val="ffff66"/>
              </a:solidFill>
              <a:latin typeface="Times New Roman"/>
            </a:endParaRPr>
          </a:p>
        </p:txBody>
      </p:sp>
      <p:pic>
        <p:nvPicPr>
          <p:cNvPr id="437" name="" descr=""/>
          <p:cNvPicPr/>
          <p:nvPr/>
        </p:nvPicPr>
        <p:blipFill>
          <a:blip r:embed="rId1"/>
          <a:stretch/>
        </p:blipFill>
        <p:spPr>
          <a:xfrm>
            <a:off x="4741920" y="1981080"/>
            <a:ext cx="362088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a:t>
            </a:r>
            <a:r>
              <a:rPr b="0" lang="en-US" sz="4400" spc="-1" strike="noStrike">
                <a:solidFill>
                  <a:srgbClr val="cc00cc"/>
                </a:solidFill>
                <a:latin typeface="Arial"/>
              </a:rPr>
              <a:t>Relationship Skills”: Affective Objectives </a:t>
            </a:r>
            <a:endParaRPr b="0" lang="en-US" sz="4400" spc="-1" strike="noStrike">
              <a:solidFill>
                <a:srgbClr val="cc00cc"/>
              </a:solidFill>
              <a:latin typeface="Arial"/>
            </a:endParaRPr>
          </a:p>
        </p:txBody>
      </p:sp>
      <p:sp>
        <p:nvSpPr>
          <p:cNvPr id="439" name="PlaceHolder 2"/>
          <p:cNvSpPr>
            <a:spLocks noGrp="1"/>
          </p:cNvSpPr>
          <p:nvPr>
            <p:ph/>
          </p:nvPr>
        </p:nvSpPr>
        <p:spPr>
          <a:xfrm>
            <a:off x="4571640" y="2743200"/>
            <a:ext cx="380988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tudents will embrace and want to develop the good relationship skills outlined in the chapter</a:t>
            </a:r>
            <a:endParaRPr b="0" lang="en-US" sz="3200" spc="-1" strike="noStrike">
              <a:solidFill>
                <a:srgbClr val="ffff66"/>
              </a:solidFill>
              <a:latin typeface="Times New Roman"/>
            </a:endParaRPr>
          </a:p>
        </p:txBody>
      </p:sp>
      <p:sp>
        <p:nvSpPr>
          <p:cNvPr id="440" name=""/>
          <p:cNvSpPr/>
          <p:nvPr/>
        </p:nvSpPr>
        <p:spPr>
          <a:xfrm>
            <a:off x="914400" y="2362320"/>
            <a:ext cx="3276720" cy="3352680"/>
          </a:xfrm>
          <a:custGeom>
            <a:avLst/>
            <a:gdLst>
              <a:gd name="textAreaLeft" fmla="*/ 770040 w 3276720"/>
              <a:gd name="textAreaRight" fmla="*/ 2504520 w 3276720"/>
              <a:gd name="textAreaTop" fmla="*/ 394200 h 3352680"/>
              <a:gd name="textAreaBottom" fmla="*/ 2103120 h 3352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99cc"/>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a:t>
            </a:r>
            <a:r>
              <a:rPr b="0" lang="en-US" sz="4400" spc="-1" strike="noStrike">
                <a:solidFill>
                  <a:srgbClr val="cc00cc"/>
                </a:solidFill>
                <a:latin typeface="Arial"/>
              </a:rPr>
              <a:t>Relationship Skills”: Behavioral Objectives </a:t>
            </a:r>
            <a:endParaRPr b="0" lang="en-US" sz="4400" spc="-1" strike="noStrike">
              <a:solidFill>
                <a:srgbClr val="cc00cc"/>
              </a:solidFill>
              <a:latin typeface="Arial"/>
            </a:endParaRPr>
          </a:p>
        </p:txBody>
      </p:sp>
      <p:sp>
        <p:nvSpPr>
          <p:cNvPr id="442" name="PlaceHolder 2"/>
          <p:cNvSpPr>
            <a:spLocks noGrp="1"/>
          </p:cNvSpPr>
          <p:nvPr>
            <p:ph/>
          </p:nvPr>
        </p:nvSpPr>
        <p:spPr>
          <a:xfrm>
            <a:off x="685440" y="2209680"/>
            <a:ext cx="3809880" cy="464832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tudents will control emotions, maintain better attitudes and self-concepts, and form better habits</a:t>
            </a:r>
            <a:endParaRPr b="0" lang="en-US" sz="3200" spc="-1" strike="noStrike">
              <a:solidFill>
                <a:srgbClr val="ffff66"/>
              </a:solidFill>
              <a:latin typeface="Times New Roman"/>
            </a:endParaRPr>
          </a:p>
        </p:txBody>
      </p:sp>
      <p:pic>
        <p:nvPicPr>
          <p:cNvPr id="443" name="" descr=""/>
          <p:cNvPicPr/>
          <p:nvPr/>
        </p:nvPicPr>
        <p:blipFill>
          <a:blip r:embed="rId1"/>
          <a:stretch/>
        </p:blipFill>
        <p:spPr>
          <a:xfrm>
            <a:off x="4876920" y="2819520"/>
            <a:ext cx="3809880" cy="243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a:t>
            </a:r>
            <a:r>
              <a:rPr b="0" lang="en-US" sz="4400" spc="-1" strike="noStrike">
                <a:solidFill>
                  <a:srgbClr val="cc00cc"/>
                </a:solidFill>
                <a:latin typeface="Arial"/>
              </a:rPr>
              <a:t>Relationship Skills” Activity: Self-Esteem Test </a:t>
            </a:r>
            <a:endParaRPr b="0" lang="en-US" sz="4400" spc="-1" strike="noStrike">
              <a:solidFill>
                <a:srgbClr val="cc00cc"/>
              </a:solidFill>
              <a:latin typeface="Arial"/>
            </a:endParaRPr>
          </a:p>
        </p:txBody>
      </p:sp>
      <p:sp>
        <p:nvSpPr>
          <p:cNvPr id="445" name=""/>
          <p:cNvSpPr/>
          <p:nvPr/>
        </p:nvSpPr>
        <p:spPr>
          <a:xfrm>
            <a:off x="685800" y="1600200"/>
            <a:ext cx="7620120" cy="4776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 am a person of worth, equal to others</a:t>
            </a:r>
            <a:endParaRPr b="0" lang="en-US" sz="3200" spc="-1" strike="noStrike">
              <a:solidFill>
                <a:srgbClr val="ffff66"/>
              </a:solidFill>
              <a:latin typeface="Times New Roman"/>
            </a:endParaRPr>
          </a:p>
          <a:p>
            <a:pPr marL="457200" indent="-457200">
              <a:spcBef>
                <a:spcPts val="200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 am inclined to feel that I am a failure </a:t>
            </a:r>
            <a:endParaRPr b="0" lang="en-US" sz="3200" spc="-1" strike="noStrike">
              <a:solidFill>
                <a:srgbClr val="ffff66"/>
              </a:solidFill>
              <a:latin typeface="Times New Roman"/>
            </a:endParaRPr>
          </a:p>
          <a:p>
            <a:pPr marL="457200" indent="-457200">
              <a:spcBef>
                <a:spcPts val="200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 am able to do things as well as most other people</a:t>
            </a:r>
            <a:endParaRPr b="0" lang="en-US" sz="3200" spc="-1" strike="noStrike">
              <a:solidFill>
                <a:srgbClr val="ffff66"/>
              </a:solidFill>
              <a:latin typeface="Times New Roman"/>
            </a:endParaRPr>
          </a:p>
          <a:p>
            <a:pPr marL="457200" indent="-457200">
              <a:spcBef>
                <a:spcPts val="200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 feel I do not have much to be proud of </a:t>
            </a:r>
            <a:endParaRPr b="0" lang="en-US" sz="3200" spc="-1" strike="noStrike">
              <a:solidFill>
                <a:srgbClr val="ffff66"/>
              </a:solidFill>
              <a:latin typeface="Times New Roman"/>
            </a:endParaRPr>
          </a:p>
          <a:p>
            <a:pPr marL="457200" indent="-457200">
              <a:spcBef>
                <a:spcPts val="200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 have a number of good qualities</a:t>
            </a:r>
            <a:endParaRPr b="0" lang="en-US" sz="3200" spc="-1" strike="noStrike">
              <a:solidFill>
                <a:srgbClr val="ffff66"/>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cc"/>
                </a:solidFill>
                <a:latin typeface="Arial"/>
              </a:rPr>
              <a:t>Discovering the Real Me</a:t>
            </a:r>
            <a:r>
              <a:rPr b="0" lang="en-US" sz="4400" spc="-1" strike="noStrike">
                <a:solidFill>
                  <a:srgbClr val="cc00cc"/>
                </a:solidFill>
                <a:latin typeface="Arial"/>
              </a:rPr>
              <a:t>:</a:t>
            </a:r>
            <a:br>
              <a:rPr sz="4400"/>
            </a:br>
            <a:r>
              <a:rPr b="0" lang="en-US" sz="4400" spc="-1" strike="noStrike">
                <a:solidFill>
                  <a:srgbClr val="cc00cc"/>
                </a:solidFill>
                <a:latin typeface="Arial"/>
              </a:rPr>
              <a:t>Student Textbook 11: </a:t>
            </a:r>
            <a:r>
              <a:rPr b="0" i="1" lang="en-US" sz="4400" spc="-1" strike="noStrike">
                <a:solidFill>
                  <a:srgbClr val="ff9966"/>
                </a:solidFill>
                <a:latin typeface="Arial"/>
              </a:rPr>
              <a:t>Developing Leadership Skills</a:t>
            </a:r>
            <a:r>
              <a:rPr b="0" i="1" lang="en-US" sz="4400" spc="-1" strike="noStrike">
                <a:solidFill>
                  <a:srgbClr val="ccecff"/>
                </a:solidFill>
                <a:latin typeface="Arial"/>
              </a:rPr>
              <a:t> </a:t>
            </a:r>
            <a:endParaRPr b="0" lang="en-US" sz="4400" spc="-1" strike="noStrike">
              <a:solidFill>
                <a:srgbClr val="cc00cc"/>
              </a:solidFill>
              <a:latin typeface="Arial"/>
            </a:endParaRPr>
          </a:p>
        </p:txBody>
      </p:sp>
      <p:sp>
        <p:nvSpPr>
          <p:cNvPr id="99"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7 original chapters on contemporary topics</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ges 16 to 17 years </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Questions for Reflection and Discussion</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ercises</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ctivities</a:t>
            </a:r>
            <a:endParaRPr b="0" lang="en-US" sz="3200" spc="-1" strike="noStrike">
              <a:solidFill>
                <a:srgbClr val="ffff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 </a:t>
            </a:r>
            <a:endParaRPr b="0" lang="en-US" sz="4400" spc="-1" strike="noStrike">
              <a:solidFill>
                <a:srgbClr val="cc00cc"/>
              </a:solidFill>
              <a:latin typeface="Arial"/>
            </a:endParaRPr>
          </a:p>
        </p:txBody>
      </p:sp>
      <p:sp>
        <p:nvSpPr>
          <p:cNvPr id="447" name=""/>
          <p:cNvSpPr/>
          <p:nvPr/>
        </p:nvSpPr>
        <p:spPr>
          <a:xfrm>
            <a:off x="1295280" y="2133720"/>
            <a:ext cx="3200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448" name=""/>
          <p:cNvSpPr/>
          <p:nvPr/>
        </p:nvSpPr>
        <p:spPr>
          <a:xfrm>
            <a:off x="0" y="547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66"/>
              </a:solidFill>
              <a:latin typeface="Times New Roman"/>
            </a:endParaRPr>
          </a:p>
        </p:txBody>
      </p:sp>
      <p:pic>
        <p:nvPicPr>
          <p:cNvPr id="449" name="" descr=""/>
          <p:cNvPicPr/>
          <p:nvPr/>
        </p:nvPicPr>
        <p:blipFill>
          <a:blip r:embed="rId1"/>
          <a:stretch/>
        </p:blipFill>
        <p:spPr>
          <a:xfrm>
            <a:off x="0" y="0"/>
            <a:ext cx="9144000" cy="6858000"/>
          </a:xfrm>
          <a:prstGeom prst="rect">
            <a:avLst/>
          </a:prstGeom>
          <a:ln w="0">
            <a:noFill/>
          </a:ln>
        </p:spPr>
      </p:pic>
      <p:sp>
        <p:nvSpPr>
          <p:cNvPr id="450" name=""/>
          <p:cNvSpPr/>
          <p:nvPr/>
        </p:nvSpPr>
        <p:spPr>
          <a:xfrm>
            <a:off x="762120" y="380880"/>
            <a:ext cx="7924680" cy="8484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Relationship Skills”:  Habits </a:t>
            </a:r>
            <a:endParaRPr b="0" lang="en-US" sz="3200" spc="-1" strike="noStrike">
              <a:solidFill>
                <a:srgbClr val="ffff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rPr>
              <a:t>GOOD </a:t>
            </a:r>
            <a:r>
              <a:rPr b="0" lang="en-US" sz="3200" spc="-1" strike="noStrike">
                <a:solidFill>
                  <a:srgbClr val="ffff00"/>
                </a:solidFill>
                <a:latin typeface="Times New Roman"/>
              </a:rPr>
              <a:t>                                       </a:t>
            </a:r>
            <a:r>
              <a:rPr b="0" lang="en-US" sz="3200" spc="-1" strike="noStrike" u="sng">
                <a:solidFill>
                  <a:srgbClr val="ffff00"/>
                </a:solidFill>
                <a:uFillTx/>
                <a:latin typeface="Times New Roman"/>
              </a:rPr>
              <a:t>BAD</a:t>
            </a:r>
            <a:endParaRPr b="0" lang="en-US" sz="3200" spc="-1" strike="noStrike">
              <a:solidFill>
                <a:srgbClr val="ffff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sking how your friend is          Never</a:t>
            </a:r>
            <a:endParaRPr b="0" lang="en-US" sz="3200" spc="-1" strike="noStrike">
              <a:solidFill>
                <a:srgbClr val="ffff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returning calls</a:t>
            </a:r>
            <a:endParaRPr b="0" lang="en-US" sz="3200" spc="-1" strike="noStrike">
              <a:solidFill>
                <a:srgbClr val="ffff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nking of healthy things         Always letting</a:t>
            </a:r>
            <a:endParaRPr b="0" lang="en-US" sz="3200" spc="-1" strike="noStrike">
              <a:solidFill>
                <a:srgbClr val="ffff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o do together                              the other pay                                              </a:t>
            </a:r>
            <a:endParaRPr b="0" lang="en-US" sz="3200" spc="-1" strike="noStrike">
              <a:solidFill>
                <a:srgbClr val="ffff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cc"/>
                </a:solidFill>
                <a:latin typeface="Arial"/>
              </a:rPr>
              <a:t>Developing Leadership Skills</a:t>
            </a:r>
            <a:endParaRPr b="0" lang="en-US" sz="4400" spc="-1" strike="noStrike">
              <a:solidFill>
                <a:srgbClr val="cc00cc"/>
              </a:solidFill>
              <a:latin typeface="Arial"/>
            </a:endParaRPr>
          </a:p>
        </p:txBody>
      </p:sp>
      <p:sp>
        <p:nvSpPr>
          <p:cNvPr id="4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aining for life</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haracter-shaping </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timulates discussion and reflection on meaningful life topics</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rmaments for the challenges adolescents face </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joyable for students and teacher</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2235240" y="1006560"/>
            <a:ext cx="4672080" cy="4844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 </a:t>
            </a:r>
            <a:r>
              <a:rPr b="0" lang="en-US" sz="4400" spc="-1" strike="noStrike">
                <a:solidFill>
                  <a:srgbClr val="cc00cc"/>
                </a:solidFill>
                <a:latin typeface="Arial"/>
              </a:rPr>
              <a:t>Topics Covered </a:t>
            </a:r>
            <a:endParaRPr b="0" lang="en-US" sz="4400" spc="-1" strike="noStrike">
              <a:solidFill>
                <a:srgbClr val="cc00cc"/>
              </a:solidFill>
              <a:latin typeface="Arial"/>
            </a:endParaRPr>
          </a:p>
        </p:txBody>
      </p:sp>
      <p:sp>
        <p:nvSpPr>
          <p:cNvPr id="101" name="PlaceHolder 2"/>
          <p:cNvSpPr>
            <a:spLocks noGrp="1"/>
          </p:cNvSpPr>
          <p:nvPr>
            <p:ph/>
          </p:nvPr>
        </p:nvSpPr>
        <p:spPr>
          <a:xfrm>
            <a:off x="0" y="1371240"/>
            <a:ext cx="4495680" cy="472428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lationship and communication skills</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reparation for marriage </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obility and altruism</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itizenship</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vironmental consciousness </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102" name="" descr=""/>
          <p:cNvPicPr/>
          <p:nvPr/>
        </p:nvPicPr>
        <p:blipFill>
          <a:blip r:embed="rId1"/>
          <a:stretch/>
        </p:blipFill>
        <p:spPr>
          <a:xfrm>
            <a:off x="4495680" y="1676520"/>
            <a:ext cx="4419720" cy="441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Teacher’s Manual 11</a:t>
            </a:r>
            <a:endParaRPr b="0" lang="en-US" sz="4400" spc="-1" strike="noStrike">
              <a:solidFill>
                <a:srgbClr val="cc00cc"/>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s advice &amp; instructions to the teacher </a:t>
            </a:r>
            <a:endParaRPr b="0" lang="en-US" sz="3200" spc="-1" strike="noStrike">
              <a:solidFill>
                <a:srgbClr val="ffff66"/>
              </a:solidFill>
              <a:latin typeface="Times New Roman"/>
            </a:endParaRPr>
          </a:p>
          <a:p>
            <a:pPr marL="339480" indent="-3394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roductory section:</a:t>
            </a:r>
            <a:endParaRPr b="0" lang="en-US" sz="3200" spc="-1" strike="noStrike">
              <a:solidFill>
                <a:srgbClr val="ffff66"/>
              </a:solidFill>
              <a:latin typeface="Times New Roman"/>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1. Balanced education </a:t>
            </a:r>
            <a:endParaRPr b="0" lang="en-US" sz="3200" spc="-1" strike="noStrike">
              <a:solidFill>
                <a:srgbClr val="ffff66"/>
              </a:solidFill>
              <a:latin typeface="Times New Roman"/>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2. Teaching methods</a:t>
            </a:r>
            <a:endParaRPr b="0" lang="en-US" sz="3200" spc="-1" strike="noStrike">
              <a:solidFill>
                <a:srgbClr val="ffff66"/>
              </a:solidFill>
              <a:latin typeface="Times New Roman"/>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3. Course requirements &amp; expectations</a:t>
            </a:r>
            <a:endParaRPr b="0" lang="en-US" sz="3200" spc="-1" strike="noStrike">
              <a:solidFill>
                <a:srgbClr val="ffff66"/>
              </a:solidFill>
              <a:latin typeface="Times New Roman"/>
            </a:endParaRPr>
          </a:p>
          <a:p>
            <a:pPr lvl="1" marL="735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4. Ice breakers</a:t>
            </a:r>
            <a:endParaRPr b="0" lang="en-US" sz="3200" spc="-1" strike="noStrike">
              <a:solidFill>
                <a:srgbClr val="ffff66"/>
              </a:solidFill>
              <a:latin typeface="Times New Roman"/>
            </a:endParaRPr>
          </a:p>
          <a:p>
            <a:pPr marL="339480" indent="-3394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wo lesson plans for each chapter</a:t>
            </a:r>
            <a:endParaRPr b="0" lang="en-US" sz="3200" spc="-1" strike="noStrike">
              <a:solidFill>
                <a:srgbClr val="ffff66"/>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Character Education’s Goals</a:t>
            </a:r>
            <a:endParaRPr b="0" lang="en-US" sz="4400" spc="-1" strike="noStrike">
              <a:solidFill>
                <a:srgbClr val="cc00cc"/>
              </a:solidFill>
              <a:latin typeface="Arial"/>
            </a:endParaRPr>
          </a:p>
        </p:txBody>
      </p:sp>
      <p:sp>
        <p:nvSpPr>
          <p:cNvPr id="10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o know the good </a:t>
            </a:r>
            <a:r>
              <a:rPr b="0" lang="en-US" sz="2800" spc="-1" strike="noStrike">
                <a:solidFill>
                  <a:srgbClr val="ffff66"/>
                </a:solidFill>
                <a:latin typeface="Times New Roman"/>
              </a:rPr>
              <a:t>—</a:t>
            </a:r>
            <a:r>
              <a:rPr b="0" lang="en-US" sz="3200" spc="-1" strike="noStrike">
                <a:solidFill>
                  <a:srgbClr val="ffff66"/>
                </a:solidFill>
                <a:latin typeface="Times New Roman"/>
              </a:rPr>
              <a:t> head</a:t>
            </a:r>
            <a:endParaRPr b="0" lang="en-US" sz="3200" spc="-1" strike="noStrike">
              <a:solidFill>
                <a:srgbClr val="ffff66"/>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o care about the good </a:t>
            </a:r>
            <a:r>
              <a:rPr b="0" lang="en-US" sz="2800" spc="-1" strike="noStrike">
                <a:solidFill>
                  <a:srgbClr val="ffff66"/>
                </a:solidFill>
                <a:latin typeface="Times New Roman"/>
              </a:rPr>
              <a:t>—</a:t>
            </a:r>
            <a:r>
              <a:rPr b="0" lang="en-US" sz="3200" spc="-1" strike="noStrike">
                <a:solidFill>
                  <a:srgbClr val="ffff66"/>
                </a:solidFill>
                <a:latin typeface="Times New Roman"/>
              </a:rPr>
              <a:t> heart </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o do the good </a:t>
            </a:r>
            <a:r>
              <a:rPr b="0" lang="en-US" sz="2800" spc="-1" strike="noStrike">
                <a:solidFill>
                  <a:srgbClr val="ffff66"/>
                </a:solidFill>
                <a:latin typeface="Times New Roman"/>
              </a:rPr>
              <a:t>—</a:t>
            </a:r>
            <a:r>
              <a:rPr b="0" lang="en-US" sz="3200" spc="-1" strike="noStrike">
                <a:solidFill>
                  <a:srgbClr val="ffff66"/>
                </a:solidFill>
                <a:latin typeface="Times New Roman"/>
              </a:rPr>
              <a:t> hands</a:t>
            </a:r>
            <a:endParaRPr b="0" lang="en-US" sz="3200" spc="-1" strike="noStrike">
              <a:solidFill>
                <a:srgbClr val="ffff66"/>
              </a:solidFill>
              <a:latin typeface="Times New Roman"/>
            </a:endParaRPr>
          </a:p>
        </p:txBody>
      </p:sp>
      <p:pic>
        <p:nvPicPr>
          <p:cNvPr id="107" name="" descr=""/>
          <p:cNvPicPr/>
          <p:nvPr/>
        </p:nvPicPr>
        <p:blipFill>
          <a:blip r:embed="rId1"/>
          <a:stretch/>
        </p:blipFill>
        <p:spPr>
          <a:xfrm>
            <a:off x="6705720" y="1752480"/>
            <a:ext cx="1371600" cy="1524240"/>
          </a:xfrm>
          <a:prstGeom prst="rect">
            <a:avLst/>
          </a:prstGeom>
          <a:ln w="0">
            <a:noFill/>
          </a:ln>
        </p:spPr>
      </p:pic>
      <p:sp>
        <p:nvSpPr>
          <p:cNvPr id="108" name=""/>
          <p:cNvSpPr/>
          <p:nvPr/>
        </p:nvSpPr>
        <p:spPr>
          <a:xfrm>
            <a:off x="6858000" y="3657600"/>
            <a:ext cx="1219320" cy="1143000"/>
          </a:xfrm>
          <a:custGeom>
            <a:avLst/>
            <a:gdLst>
              <a:gd name="textAreaLeft" fmla="*/ 286560 w 1219320"/>
              <a:gd name="textAreaRight" fmla="*/ 932040 w 1219320"/>
              <a:gd name="textAreaTop" fmla="*/ 134280 h 1143000"/>
              <a:gd name="textAreaBottom" fmla="*/ 717120 h 1143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99cc"/>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109" name="" descr=""/>
          <p:cNvPicPr/>
          <p:nvPr/>
        </p:nvPicPr>
        <p:blipFill>
          <a:blip r:embed="rId2"/>
          <a:stretch/>
        </p:blipFill>
        <p:spPr>
          <a:xfrm>
            <a:off x="6858000" y="5257800"/>
            <a:ext cx="1523880" cy="9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0" name=""/>
          <p:cNvSpPr/>
          <p:nvPr/>
        </p:nvSpPr>
        <p:spPr>
          <a:xfrm>
            <a:off x="914400" y="1523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cc"/>
                </a:solidFill>
                <a:latin typeface="Arial"/>
              </a:rPr>
              <a:t>Each Chapter has Cognitive, Affective, and Behavioral Goals</a:t>
            </a:r>
            <a:endParaRPr b="0" lang="en-US" sz="4000" spc="-1" strike="noStrike">
              <a:solidFill>
                <a:srgbClr val="ffff66"/>
              </a:solidFill>
              <a:latin typeface="Times New Roman"/>
            </a:endParaRPr>
          </a:p>
        </p:txBody>
      </p:sp>
      <p:sp>
        <p:nvSpPr>
          <p:cNvPr id="111" name=""/>
          <p:cNvSpPr/>
          <p:nvPr/>
        </p:nvSpPr>
        <p:spPr>
          <a:xfrm>
            <a:off x="1600200" y="34290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ducating the Head, Heart, and Hands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Sample Chapter 3:  “Taking the Lead in Understanding Each Other”</a:t>
            </a:r>
            <a:endParaRPr b="0" lang="en-US" sz="4400" spc="-1" strike="noStrike">
              <a:solidFill>
                <a:srgbClr val="cc00cc"/>
              </a:solidFill>
              <a:latin typeface="Arial"/>
            </a:endParaRPr>
          </a:p>
        </p:txBody>
      </p:sp>
      <p:sp>
        <p:nvSpPr>
          <p:cNvPr id="113" name=""/>
          <p:cNvSpPr/>
          <p:nvPr/>
        </p:nvSpPr>
        <p:spPr>
          <a:xfrm>
            <a:off x="2292480" y="2527200"/>
            <a:ext cx="2608200" cy="3511800"/>
          </a:xfrm>
          <a:custGeom>
            <a:avLst/>
            <a:gdLst/>
            <a:ahLst/>
            <a:rect l="l" t="t" r="r" b="b"/>
            <a:pathLst>
              <a:path w="3287" h="4424">
                <a:moveTo>
                  <a:pt x="1127" y="7"/>
                </a:moveTo>
                <a:lnTo>
                  <a:pt x="1142" y="1"/>
                </a:lnTo>
                <a:lnTo>
                  <a:pt x="1160" y="1"/>
                </a:lnTo>
                <a:lnTo>
                  <a:pt x="1175" y="0"/>
                </a:lnTo>
                <a:lnTo>
                  <a:pt x="1191" y="1"/>
                </a:lnTo>
                <a:lnTo>
                  <a:pt x="1204" y="1"/>
                </a:lnTo>
                <a:lnTo>
                  <a:pt x="1222" y="5"/>
                </a:lnTo>
                <a:lnTo>
                  <a:pt x="1235" y="11"/>
                </a:lnTo>
                <a:lnTo>
                  <a:pt x="1253" y="17"/>
                </a:lnTo>
                <a:lnTo>
                  <a:pt x="1266" y="21"/>
                </a:lnTo>
                <a:lnTo>
                  <a:pt x="1282" y="27"/>
                </a:lnTo>
                <a:lnTo>
                  <a:pt x="1295" y="31"/>
                </a:lnTo>
                <a:lnTo>
                  <a:pt x="1311" y="36"/>
                </a:lnTo>
                <a:lnTo>
                  <a:pt x="1326" y="40"/>
                </a:lnTo>
                <a:lnTo>
                  <a:pt x="1342" y="44"/>
                </a:lnTo>
                <a:lnTo>
                  <a:pt x="1359" y="46"/>
                </a:lnTo>
                <a:lnTo>
                  <a:pt x="1377" y="50"/>
                </a:lnTo>
                <a:lnTo>
                  <a:pt x="1388" y="58"/>
                </a:lnTo>
                <a:lnTo>
                  <a:pt x="1400" y="63"/>
                </a:lnTo>
                <a:lnTo>
                  <a:pt x="1414" y="67"/>
                </a:lnTo>
                <a:lnTo>
                  <a:pt x="1427" y="73"/>
                </a:lnTo>
                <a:lnTo>
                  <a:pt x="1439" y="77"/>
                </a:lnTo>
                <a:lnTo>
                  <a:pt x="1452" y="81"/>
                </a:lnTo>
                <a:lnTo>
                  <a:pt x="1464" y="87"/>
                </a:lnTo>
                <a:lnTo>
                  <a:pt x="1478" y="96"/>
                </a:lnTo>
                <a:lnTo>
                  <a:pt x="1489" y="102"/>
                </a:lnTo>
                <a:lnTo>
                  <a:pt x="1501" y="110"/>
                </a:lnTo>
                <a:lnTo>
                  <a:pt x="1512" y="116"/>
                </a:lnTo>
                <a:lnTo>
                  <a:pt x="1524" y="124"/>
                </a:lnTo>
                <a:lnTo>
                  <a:pt x="1536" y="129"/>
                </a:lnTo>
                <a:lnTo>
                  <a:pt x="1547" y="137"/>
                </a:lnTo>
                <a:lnTo>
                  <a:pt x="1559" y="145"/>
                </a:lnTo>
                <a:lnTo>
                  <a:pt x="1573" y="153"/>
                </a:lnTo>
                <a:lnTo>
                  <a:pt x="1582" y="159"/>
                </a:lnTo>
                <a:lnTo>
                  <a:pt x="1594" y="168"/>
                </a:lnTo>
                <a:lnTo>
                  <a:pt x="1606" y="176"/>
                </a:lnTo>
                <a:lnTo>
                  <a:pt x="1617" y="186"/>
                </a:lnTo>
                <a:lnTo>
                  <a:pt x="1627" y="193"/>
                </a:lnTo>
                <a:lnTo>
                  <a:pt x="1637" y="203"/>
                </a:lnTo>
                <a:lnTo>
                  <a:pt x="1646" y="215"/>
                </a:lnTo>
                <a:lnTo>
                  <a:pt x="1658" y="226"/>
                </a:lnTo>
                <a:lnTo>
                  <a:pt x="1668" y="232"/>
                </a:lnTo>
                <a:lnTo>
                  <a:pt x="1681" y="238"/>
                </a:lnTo>
                <a:lnTo>
                  <a:pt x="1693" y="244"/>
                </a:lnTo>
                <a:lnTo>
                  <a:pt x="1706" y="254"/>
                </a:lnTo>
                <a:lnTo>
                  <a:pt x="1716" y="263"/>
                </a:lnTo>
                <a:lnTo>
                  <a:pt x="1726" y="275"/>
                </a:lnTo>
                <a:lnTo>
                  <a:pt x="1730" y="286"/>
                </a:lnTo>
                <a:lnTo>
                  <a:pt x="1734" y="304"/>
                </a:lnTo>
                <a:lnTo>
                  <a:pt x="1745" y="323"/>
                </a:lnTo>
                <a:lnTo>
                  <a:pt x="1761" y="345"/>
                </a:lnTo>
                <a:lnTo>
                  <a:pt x="1767" y="354"/>
                </a:lnTo>
                <a:lnTo>
                  <a:pt x="1774" y="364"/>
                </a:lnTo>
                <a:lnTo>
                  <a:pt x="1782" y="376"/>
                </a:lnTo>
                <a:lnTo>
                  <a:pt x="1790" y="387"/>
                </a:lnTo>
                <a:lnTo>
                  <a:pt x="1794" y="397"/>
                </a:lnTo>
                <a:lnTo>
                  <a:pt x="1799" y="409"/>
                </a:lnTo>
                <a:lnTo>
                  <a:pt x="1803" y="420"/>
                </a:lnTo>
                <a:lnTo>
                  <a:pt x="1809" y="432"/>
                </a:lnTo>
                <a:lnTo>
                  <a:pt x="1811" y="444"/>
                </a:lnTo>
                <a:lnTo>
                  <a:pt x="1815" y="455"/>
                </a:lnTo>
                <a:lnTo>
                  <a:pt x="1815" y="469"/>
                </a:lnTo>
                <a:lnTo>
                  <a:pt x="1817" y="484"/>
                </a:lnTo>
                <a:lnTo>
                  <a:pt x="1811" y="490"/>
                </a:lnTo>
                <a:lnTo>
                  <a:pt x="1805" y="496"/>
                </a:lnTo>
                <a:lnTo>
                  <a:pt x="1796" y="500"/>
                </a:lnTo>
                <a:lnTo>
                  <a:pt x="1794" y="509"/>
                </a:lnTo>
                <a:lnTo>
                  <a:pt x="1796" y="517"/>
                </a:lnTo>
                <a:lnTo>
                  <a:pt x="1792" y="527"/>
                </a:lnTo>
                <a:lnTo>
                  <a:pt x="1782" y="519"/>
                </a:lnTo>
                <a:lnTo>
                  <a:pt x="1774" y="509"/>
                </a:lnTo>
                <a:lnTo>
                  <a:pt x="1765" y="498"/>
                </a:lnTo>
                <a:lnTo>
                  <a:pt x="1755" y="490"/>
                </a:lnTo>
                <a:lnTo>
                  <a:pt x="1755" y="504"/>
                </a:lnTo>
                <a:lnTo>
                  <a:pt x="1755" y="519"/>
                </a:lnTo>
                <a:lnTo>
                  <a:pt x="1755" y="533"/>
                </a:lnTo>
                <a:lnTo>
                  <a:pt x="1757" y="548"/>
                </a:lnTo>
                <a:lnTo>
                  <a:pt x="1757" y="562"/>
                </a:lnTo>
                <a:lnTo>
                  <a:pt x="1761" y="577"/>
                </a:lnTo>
                <a:lnTo>
                  <a:pt x="1763" y="591"/>
                </a:lnTo>
                <a:lnTo>
                  <a:pt x="1767" y="606"/>
                </a:lnTo>
                <a:lnTo>
                  <a:pt x="1767" y="620"/>
                </a:lnTo>
                <a:lnTo>
                  <a:pt x="1772" y="636"/>
                </a:lnTo>
                <a:lnTo>
                  <a:pt x="1776" y="649"/>
                </a:lnTo>
                <a:lnTo>
                  <a:pt x="1782" y="665"/>
                </a:lnTo>
                <a:lnTo>
                  <a:pt x="1786" y="676"/>
                </a:lnTo>
                <a:lnTo>
                  <a:pt x="1792" y="692"/>
                </a:lnTo>
                <a:lnTo>
                  <a:pt x="1794" y="705"/>
                </a:lnTo>
                <a:lnTo>
                  <a:pt x="1798" y="723"/>
                </a:lnTo>
                <a:lnTo>
                  <a:pt x="1803" y="740"/>
                </a:lnTo>
                <a:lnTo>
                  <a:pt x="1803" y="762"/>
                </a:lnTo>
                <a:lnTo>
                  <a:pt x="1799" y="771"/>
                </a:lnTo>
                <a:lnTo>
                  <a:pt x="1796" y="783"/>
                </a:lnTo>
                <a:lnTo>
                  <a:pt x="1792" y="793"/>
                </a:lnTo>
                <a:lnTo>
                  <a:pt x="1788" y="802"/>
                </a:lnTo>
                <a:lnTo>
                  <a:pt x="1782" y="814"/>
                </a:lnTo>
                <a:lnTo>
                  <a:pt x="1780" y="826"/>
                </a:lnTo>
                <a:lnTo>
                  <a:pt x="1780" y="837"/>
                </a:lnTo>
                <a:lnTo>
                  <a:pt x="1782" y="851"/>
                </a:lnTo>
                <a:lnTo>
                  <a:pt x="1782" y="862"/>
                </a:lnTo>
                <a:lnTo>
                  <a:pt x="1786" y="874"/>
                </a:lnTo>
                <a:lnTo>
                  <a:pt x="1788" y="886"/>
                </a:lnTo>
                <a:lnTo>
                  <a:pt x="1792" y="899"/>
                </a:lnTo>
                <a:lnTo>
                  <a:pt x="1792" y="913"/>
                </a:lnTo>
                <a:lnTo>
                  <a:pt x="1798" y="928"/>
                </a:lnTo>
                <a:lnTo>
                  <a:pt x="1803" y="942"/>
                </a:lnTo>
                <a:lnTo>
                  <a:pt x="1811" y="957"/>
                </a:lnTo>
                <a:lnTo>
                  <a:pt x="1817" y="971"/>
                </a:lnTo>
                <a:lnTo>
                  <a:pt x="1827" y="986"/>
                </a:lnTo>
                <a:lnTo>
                  <a:pt x="1836" y="1000"/>
                </a:lnTo>
                <a:lnTo>
                  <a:pt x="1846" y="1016"/>
                </a:lnTo>
                <a:lnTo>
                  <a:pt x="1854" y="1029"/>
                </a:lnTo>
                <a:lnTo>
                  <a:pt x="1862" y="1045"/>
                </a:lnTo>
                <a:lnTo>
                  <a:pt x="1867" y="1058"/>
                </a:lnTo>
                <a:lnTo>
                  <a:pt x="1873" y="1074"/>
                </a:lnTo>
                <a:lnTo>
                  <a:pt x="1877" y="1089"/>
                </a:lnTo>
                <a:lnTo>
                  <a:pt x="1879" y="1105"/>
                </a:lnTo>
                <a:lnTo>
                  <a:pt x="1879" y="1120"/>
                </a:lnTo>
                <a:lnTo>
                  <a:pt x="1879" y="1138"/>
                </a:lnTo>
                <a:lnTo>
                  <a:pt x="1871" y="1147"/>
                </a:lnTo>
                <a:lnTo>
                  <a:pt x="1860" y="1155"/>
                </a:lnTo>
                <a:lnTo>
                  <a:pt x="1846" y="1159"/>
                </a:lnTo>
                <a:lnTo>
                  <a:pt x="1832" y="1163"/>
                </a:lnTo>
                <a:lnTo>
                  <a:pt x="1817" y="1165"/>
                </a:lnTo>
                <a:lnTo>
                  <a:pt x="1803" y="1171"/>
                </a:lnTo>
                <a:lnTo>
                  <a:pt x="1792" y="1178"/>
                </a:lnTo>
                <a:lnTo>
                  <a:pt x="1788" y="1196"/>
                </a:lnTo>
                <a:lnTo>
                  <a:pt x="1784" y="1208"/>
                </a:lnTo>
                <a:lnTo>
                  <a:pt x="1782" y="1219"/>
                </a:lnTo>
                <a:lnTo>
                  <a:pt x="1780" y="1233"/>
                </a:lnTo>
                <a:lnTo>
                  <a:pt x="1780" y="1246"/>
                </a:lnTo>
                <a:lnTo>
                  <a:pt x="1780" y="1258"/>
                </a:lnTo>
                <a:lnTo>
                  <a:pt x="1780" y="1271"/>
                </a:lnTo>
                <a:lnTo>
                  <a:pt x="1780" y="1283"/>
                </a:lnTo>
                <a:lnTo>
                  <a:pt x="1780" y="1297"/>
                </a:lnTo>
                <a:lnTo>
                  <a:pt x="1765" y="1304"/>
                </a:lnTo>
                <a:lnTo>
                  <a:pt x="1749" y="1314"/>
                </a:lnTo>
                <a:lnTo>
                  <a:pt x="1734" y="1322"/>
                </a:lnTo>
                <a:lnTo>
                  <a:pt x="1718" y="1330"/>
                </a:lnTo>
                <a:lnTo>
                  <a:pt x="1701" y="1335"/>
                </a:lnTo>
                <a:lnTo>
                  <a:pt x="1687" y="1345"/>
                </a:lnTo>
                <a:lnTo>
                  <a:pt x="1673" y="1357"/>
                </a:lnTo>
                <a:lnTo>
                  <a:pt x="1664" y="1372"/>
                </a:lnTo>
                <a:lnTo>
                  <a:pt x="1668" y="1388"/>
                </a:lnTo>
                <a:lnTo>
                  <a:pt x="1681" y="1399"/>
                </a:lnTo>
                <a:lnTo>
                  <a:pt x="1699" y="1407"/>
                </a:lnTo>
                <a:lnTo>
                  <a:pt x="1718" y="1417"/>
                </a:lnTo>
                <a:lnTo>
                  <a:pt x="1732" y="1423"/>
                </a:lnTo>
                <a:lnTo>
                  <a:pt x="1741" y="1434"/>
                </a:lnTo>
                <a:lnTo>
                  <a:pt x="1739" y="1440"/>
                </a:lnTo>
                <a:lnTo>
                  <a:pt x="1737" y="1448"/>
                </a:lnTo>
                <a:lnTo>
                  <a:pt x="1732" y="1458"/>
                </a:lnTo>
                <a:lnTo>
                  <a:pt x="1722" y="1471"/>
                </a:lnTo>
                <a:lnTo>
                  <a:pt x="1706" y="1475"/>
                </a:lnTo>
                <a:lnTo>
                  <a:pt x="1691" y="1477"/>
                </a:lnTo>
                <a:lnTo>
                  <a:pt x="1683" y="1477"/>
                </a:lnTo>
                <a:lnTo>
                  <a:pt x="1677" y="1481"/>
                </a:lnTo>
                <a:lnTo>
                  <a:pt x="1671" y="1485"/>
                </a:lnTo>
                <a:lnTo>
                  <a:pt x="1670" y="1496"/>
                </a:lnTo>
                <a:lnTo>
                  <a:pt x="1666" y="1514"/>
                </a:lnTo>
                <a:lnTo>
                  <a:pt x="1666" y="1533"/>
                </a:lnTo>
                <a:lnTo>
                  <a:pt x="1666" y="1551"/>
                </a:lnTo>
                <a:lnTo>
                  <a:pt x="1668" y="1572"/>
                </a:lnTo>
                <a:lnTo>
                  <a:pt x="1664" y="1589"/>
                </a:lnTo>
                <a:lnTo>
                  <a:pt x="1658" y="1607"/>
                </a:lnTo>
                <a:lnTo>
                  <a:pt x="1648" y="1622"/>
                </a:lnTo>
                <a:lnTo>
                  <a:pt x="1633" y="1638"/>
                </a:lnTo>
                <a:lnTo>
                  <a:pt x="1613" y="1652"/>
                </a:lnTo>
                <a:lnTo>
                  <a:pt x="1598" y="1650"/>
                </a:lnTo>
                <a:lnTo>
                  <a:pt x="1584" y="1650"/>
                </a:lnTo>
                <a:lnTo>
                  <a:pt x="1571" y="1650"/>
                </a:lnTo>
                <a:lnTo>
                  <a:pt x="1557" y="1650"/>
                </a:lnTo>
                <a:lnTo>
                  <a:pt x="1542" y="1650"/>
                </a:lnTo>
                <a:lnTo>
                  <a:pt x="1528" y="1650"/>
                </a:lnTo>
                <a:lnTo>
                  <a:pt x="1514" y="1652"/>
                </a:lnTo>
                <a:lnTo>
                  <a:pt x="1501" y="1653"/>
                </a:lnTo>
                <a:lnTo>
                  <a:pt x="1485" y="1653"/>
                </a:lnTo>
                <a:lnTo>
                  <a:pt x="1472" y="1653"/>
                </a:lnTo>
                <a:lnTo>
                  <a:pt x="1458" y="1655"/>
                </a:lnTo>
                <a:lnTo>
                  <a:pt x="1447" y="1659"/>
                </a:lnTo>
                <a:lnTo>
                  <a:pt x="1433" y="1661"/>
                </a:lnTo>
                <a:lnTo>
                  <a:pt x="1419" y="1665"/>
                </a:lnTo>
                <a:lnTo>
                  <a:pt x="1408" y="1669"/>
                </a:lnTo>
                <a:lnTo>
                  <a:pt x="1396" y="1675"/>
                </a:lnTo>
                <a:lnTo>
                  <a:pt x="1377" y="1688"/>
                </a:lnTo>
                <a:lnTo>
                  <a:pt x="1357" y="1708"/>
                </a:lnTo>
                <a:lnTo>
                  <a:pt x="1346" y="1716"/>
                </a:lnTo>
                <a:lnTo>
                  <a:pt x="1338" y="1727"/>
                </a:lnTo>
                <a:lnTo>
                  <a:pt x="1332" y="1739"/>
                </a:lnTo>
                <a:lnTo>
                  <a:pt x="1328" y="1750"/>
                </a:lnTo>
                <a:lnTo>
                  <a:pt x="1319" y="1760"/>
                </a:lnTo>
                <a:lnTo>
                  <a:pt x="1315" y="1772"/>
                </a:lnTo>
                <a:lnTo>
                  <a:pt x="1309" y="1783"/>
                </a:lnTo>
                <a:lnTo>
                  <a:pt x="1307" y="1797"/>
                </a:lnTo>
                <a:lnTo>
                  <a:pt x="1305" y="1809"/>
                </a:lnTo>
                <a:lnTo>
                  <a:pt x="1303" y="1822"/>
                </a:lnTo>
                <a:lnTo>
                  <a:pt x="1301" y="1836"/>
                </a:lnTo>
                <a:lnTo>
                  <a:pt x="1299" y="1849"/>
                </a:lnTo>
                <a:lnTo>
                  <a:pt x="1313" y="1857"/>
                </a:lnTo>
                <a:lnTo>
                  <a:pt x="1326" y="1869"/>
                </a:lnTo>
                <a:lnTo>
                  <a:pt x="1336" y="1882"/>
                </a:lnTo>
                <a:lnTo>
                  <a:pt x="1346" y="1896"/>
                </a:lnTo>
                <a:lnTo>
                  <a:pt x="1352" y="1909"/>
                </a:lnTo>
                <a:lnTo>
                  <a:pt x="1359" y="1927"/>
                </a:lnTo>
                <a:lnTo>
                  <a:pt x="1363" y="1944"/>
                </a:lnTo>
                <a:lnTo>
                  <a:pt x="1369" y="1962"/>
                </a:lnTo>
                <a:lnTo>
                  <a:pt x="1371" y="1977"/>
                </a:lnTo>
                <a:lnTo>
                  <a:pt x="1373" y="1995"/>
                </a:lnTo>
                <a:lnTo>
                  <a:pt x="1375" y="2012"/>
                </a:lnTo>
                <a:lnTo>
                  <a:pt x="1379" y="2030"/>
                </a:lnTo>
                <a:lnTo>
                  <a:pt x="1383" y="2045"/>
                </a:lnTo>
                <a:lnTo>
                  <a:pt x="1386" y="2063"/>
                </a:lnTo>
                <a:lnTo>
                  <a:pt x="1392" y="2080"/>
                </a:lnTo>
                <a:lnTo>
                  <a:pt x="1400" y="2098"/>
                </a:lnTo>
                <a:lnTo>
                  <a:pt x="1406" y="2109"/>
                </a:lnTo>
                <a:lnTo>
                  <a:pt x="1414" y="2125"/>
                </a:lnTo>
                <a:lnTo>
                  <a:pt x="1416" y="2136"/>
                </a:lnTo>
                <a:lnTo>
                  <a:pt x="1414" y="2152"/>
                </a:lnTo>
                <a:lnTo>
                  <a:pt x="1419" y="2165"/>
                </a:lnTo>
                <a:lnTo>
                  <a:pt x="1425" y="2181"/>
                </a:lnTo>
                <a:lnTo>
                  <a:pt x="1433" y="2196"/>
                </a:lnTo>
                <a:lnTo>
                  <a:pt x="1441" y="2212"/>
                </a:lnTo>
                <a:lnTo>
                  <a:pt x="1448" y="2225"/>
                </a:lnTo>
                <a:lnTo>
                  <a:pt x="1458" y="2241"/>
                </a:lnTo>
                <a:lnTo>
                  <a:pt x="1466" y="2257"/>
                </a:lnTo>
                <a:lnTo>
                  <a:pt x="1476" y="2272"/>
                </a:lnTo>
                <a:lnTo>
                  <a:pt x="1481" y="2286"/>
                </a:lnTo>
                <a:lnTo>
                  <a:pt x="1491" y="2301"/>
                </a:lnTo>
                <a:lnTo>
                  <a:pt x="1497" y="2317"/>
                </a:lnTo>
                <a:lnTo>
                  <a:pt x="1507" y="2334"/>
                </a:lnTo>
                <a:lnTo>
                  <a:pt x="1512" y="2350"/>
                </a:lnTo>
                <a:lnTo>
                  <a:pt x="1520" y="2365"/>
                </a:lnTo>
                <a:lnTo>
                  <a:pt x="1526" y="2383"/>
                </a:lnTo>
                <a:lnTo>
                  <a:pt x="1532" y="2400"/>
                </a:lnTo>
                <a:lnTo>
                  <a:pt x="1534" y="2414"/>
                </a:lnTo>
                <a:lnTo>
                  <a:pt x="1538" y="2429"/>
                </a:lnTo>
                <a:lnTo>
                  <a:pt x="1543" y="2445"/>
                </a:lnTo>
                <a:lnTo>
                  <a:pt x="1549" y="2460"/>
                </a:lnTo>
                <a:lnTo>
                  <a:pt x="1555" y="2474"/>
                </a:lnTo>
                <a:lnTo>
                  <a:pt x="1561" y="2489"/>
                </a:lnTo>
                <a:lnTo>
                  <a:pt x="1567" y="2505"/>
                </a:lnTo>
                <a:lnTo>
                  <a:pt x="1573" y="2520"/>
                </a:lnTo>
                <a:lnTo>
                  <a:pt x="1578" y="2534"/>
                </a:lnTo>
                <a:lnTo>
                  <a:pt x="1584" y="2549"/>
                </a:lnTo>
                <a:lnTo>
                  <a:pt x="1590" y="2563"/>
                </a:lnTo>
                <a:lnTo>
                  <a:pt x="1596" y="2578"/>
                </a:lnTo>
                <a:lnTo>
                  <a:pt x="1602" y="2592"/>
                </a:lnTo>
                <a:lnTo>
                  <a:pt x="1607" y="2607"/>
                </a:lnTo>
                <a:lnTo>
                  <a:pt x="1613" y="2621"/>
                </a:lnTo>
                <a:lnTo>
                  <a:pt x="1621" y="2637"/>
                </a:lnTo>
                <a:lnTo>
                  <a:pt x="1625" y="2646"/>
                </a:lnTo>
                <a:lnTo>
                  <a:pt x="1631" y="2658"/>
                </a:lnTo>
                <a:lnTo>
                  <a:pt x="1637" y="2670"/>
                </a:lnTo>
                <a:lnTo>
                  <a:pt x="1644" y="2681"/>
                </a:lnTo>
                <a:lnTo>
                  <a:pt x="1650" y="2691"/>
                </a:lnTo>
                <a:lnTo>
                  <a:pt x="1658" y="2702"/>
                </a:lnTo>
                <a:lnTo>
                  <a:pt x="1666" y="2714"/>
                </a:lnTo>
                <a:lnTo>
                  <a:pt x="1675" y="2726"/>
                </a:lnTo>
                <a:lnTo>
                  <a:pt x="1679" y="2737"/>
                </a:lnTo>
                <a:lnTo>
                  <a:pt x="1685" y="2749"/>
                </a:lnTo>
                <a:lnTo>
                  <a:pt x="1691" y="2761"/>
                </a:lnTo>
                <a:lnTo>
                  <a:pt x="1697" y="2772"/>
                </a:lnTo>
                <a:lnTo>
                  <a:pt x="1701" y="2784"/>
                </a:lnTo>
                <a:lnTo>
                  <a:pt x="1706" y="2797"/>
                </a:lnTo>
                <a:lnTo>
                  <a:pt x="1710" y="2811"/>
                </a:lnTo>
                <a:lnTo>
                  <a:pt x="1716" y="2825"/>
                </a:lnTo>
                <a:lnTo>
                  <a:pt x="1718" y="2836"/>
                </a:lnTo>
                <a:lnTo>
                  <a:pt x="1724" y="2848"/>
                </a:lnTo>
                <a:lnTo>
                  <a:pt x="1726" y="2861"/>
                </a:lnTo>
                <a:lnTo>
                  <a:pt x="1732" y="2875"/>
                </a:lnTo>
                <a:lnTo>
                  <a:pt x="1734" y="2887"/>
                </a:lnTo>
                <a:lnTo>
                  <a:pt x="1739" y="2900"/>
                </a:lnTo>
                <a:lnTo>
                  <a:pt x="1741" y="2914"/>
                </a:lnTo>
                <a:lnTo>
                  <a:pt x="1747" y="2927"/>
                </a:lnTo>
                <a:lnTo>
                  <a:pt x="1749" y="2939"/>
                </a:lnTo>
                <a:lnTo>
                  <a:pt x="1753" y="2953"/>
                </a:lnTo>
                <a:lnTo>
                  <a:pt x="1755" y="2966"/>
                </a:lnTo>
                <a:lnTo>
                  <a:pt x="1761" y="2980"/>
                </a:lnTo>
                <a:lnTo>
                  <a:pt x="1763" y="2991"/>
                </a:lnTo>
                <a:lnTo>
                  <a:pt x="1767" y="3005"/>
                </a:lnTo>
                <a:lnTo>
                  <a:pt x="1768" y="3019"/>
                </a:lnTo>
                <a:lnTo>
                  <a:pt x="1774" y="3032"/>
                </a:lnTo>
                <a:lnTo>
                  <a:pt x="1776" y="3044"/>
                </a:lnTo>
                <a:lnTo>
                  <a:pt x="1780" y="3057"/>
                </a:lnTo>
                <a:lnTo>
                  <a:pt x="1784" y="3071"/>
                </a:lnTo>
                <a:lnTo>
                  <a:pt x="1790" y="3084"/>
                </a:lnTo>
                <a:lnTo>
                  <a:pt x="1794" y="3096"/>
                </a:lnTo>
                <a:lnTo>
                  <a:pt x="1798" y="3110"/>
                </a:lnTo>
                <a:lnTo>
                  <a:pt x="1801" y="3123"/>
                </a:lnTo>
                <a:lnTo>
                  <a:pt x="1807" y="3137"/>
                </a:lnTo>
                <a:lnTo>
                  <a:pt x="1821" y="3115"/>
                </a:lnTo>
                <a:lnTo>
                  <a:pt x="1838" y="3096"/>
                </a:lnTo>
                <a:lnTo>
                  <a:pt x="1854" y="3075"/>
                </a:lnTo>
                <a:lnTo>
                  <a:pt x="1871" y="3055"/>
                </a:lnTo>
                <a:lnTo>
                  <a:pt x="1879" y="3044"/>
                </a:lnTo>
                <a:lnTo>
                  <a:pt x="1887" y="3034"/>
                </a:lnTo>
                <a:lnTo>
                  <a:pt x="1895" y="3022"/>
                </a:lnTo>
                <a:lnTo>
                  <a:pt x="1904" y="3013"/>
                </a:lnTo>
                <a:lnTo>
                  <a:pt x="1912" y="3001"/>
                </a:lnTo>
                <a:lnTo>
                  <a:pt x="1920" y="2991"/>
                </a:lnTo>
                <a:lnTo>
                  <a:pt x="1927" y="2980"/>
                </a:lnTo>
                <a:lnTo>
                  <a:pt x="1935" y="2970"/>
                </a:lnTo>
                <a:lnTo>
                  <a:pt x="1943" y="2958"/>
                </a:lnTo>
                <a:lnTo>
                  <a:pt x="1955" y="2956"/>
                </a:lnTo>
                <a:lnTo>
                  <a:pt x="1966" y="2956"/>
                </a:lnTo>
                <a:lnTo>
                  <a:pt x="1980" y="2962"/>
                </a:lnTo>
                <a:lnTo>
                  <a:pt x="1990" y="2945"/>
                </a:lnTo>
                <a:lnTo>
                  <a:pt x="2001" y="2927"/>
                </a:lnTo>
                <a:lnTo>
                  <a:pt x="2011" y="2910"/>
                </a:lnTo>
                <a:lnTo>
                  <a:pt x="2021" y="2892"/>
                </a:lnTo>
                <a:lnTo>
                  <a:pt x="2026" y="2873"/>
                </a:lnTo>
                <a:lnTo>
                  <a:pt x="2034" y="2856"/>
                </a:lnTo>
                <a:lnTo>
                  <a:pt x="2042" y="2836"/>
                </a:lnTo>
                <a:lnTo>
                  <a:pt x="2050" y="2819"/>
                </a:lnTo>
                <a:lnTo>
                  <a:pt x="2054" y="2801"/>
                </a:lnTo>
                <a:lnTo>
                  <a:pt x="2059" y="2786"/>
                </a:lnTo>
                <a:lnTo>
                  <a:pt x="2063" y="2770"/>
                </a:lnTo>
                <a:lnTo>
                  <a:pt x="2069" y="2757"/>
                </a:lnTo>
                <a:lnTo>
                  <a:pt x="2073" y="2739"/>
                </a:lnTo>
                <a:lnTo>
                  <a:pt x="2077" y="2724"/>
                </a:lnTo>
                <a:lnTo>
                  <a:pt x="2081" y="2708"/>
                </a:lnTo>
                <a:lnTo>
                  <a:pt x="2087" y="2695"/>
                </a:lnTo>
                <a:lnTo>
                  <a:pt x="2090" y="2677"/>
                </a:lnTo>
                <a:lnTo>
                  <a:pt x="2096" y="2664"/>
                </a:lnTo>
                <a:lnTo>
                  <a:pt x="2102" y="2648"/>
                </a:lnTo>
                <a:lnTo>
                  <a:pt x="2108" y="2635"/>
                </a:lnTo>
                <a:lnTo>
                  <a:pt x="2114" y="2619"/>
                </a:lnTo>
                <a:lnTo>
                  <a:pt x="2119" y="2606"/>
                </a:lnTo>
                <a:lnTo>
                  <a:pt x="2125" y="2590"/>
                </a:lnTo>
                <a:lnTo>
                  <a:pt x="2135" y="2578"/>
                </a:lnTo>
                <a:lnTo>
                  <a:pt x="2141" y="2567"/>
                </a:lnTo>
                <a:lnTo>
                  <a:pt x="2147" y="2555"/>
                </a:lnTo>
                <a:lnTo>
                  <a:pt x="2152" y="2545"/>
                </a:lnTo>
                <a:lnTo>
                  <a:pt x="2160" y="2536"/>
                </a:lnTo>
                <a:lnTo>
                  <a:pt x="2176" y="2516"/>
                </a:lnTo>
                <a:lnTo>
                  <a:pt x="2193" y="2497"/>
                </a:lnTo>
                <a:lnTo>
                  <a:pt x="2209" y="2478"/>
                </a:lnTo>
                <a:lnTo>
                  <a:pt x="2226" y="2458"/>
                </a:lnTo>
                <a:lnTo>
                  <a:pt x="2242" y="2439"/>
                </a:lnTo>
                <a:lnTo>
                  <a:pt x="2259" y="2421"/>
                </a:lnTo>
                <a:lnTo>
                  <a:pt x="2275" y="2400"/>
                </a:lnTo>
                <a:lnTo>
                  <a:pt x="2290" y="2381"/>
                </a:lnTo>
                <a:lnTo>
                  <a:pt x="2306" y="2359"/>
                </a:lnTo>
                <a:lnTo>
                  <a:pt x="2321" y="2340"/>
                </a:lnTo>
                <a:lnTo>
                  <a:pt x="2327" y="2328"/>
                </a:lnTo>
                <a:lnTo>
                  <a:pt x="2333" y="2317"/>
                </a:lnTo>
                <a:lnTo>
                  <a:pt x="2339" y="2305"/>
                </a:lnTo>
                <a:lnTo>
                  <a:pt x="2344" y="2293"/>
                </a:lnTo>
                <a:lnTo>
                  <a:pt x="2348" y="2282"/>
                </a:lnTo>
                <a:lnTo>
                  <a:pt x="2354" y="2270"/>
                </a:lnTo>
                <a:lnTo>
                  <a:pt x="2360" y="2258"/>
                </a:lnTo>
                <a:lnTo>
                  <a:pt x="2366" y="2247"/>
                </a:lnTo>
                <a:lnTo>
                  <a:pt x="2368" y="2235"/>
                </a:lnTo>
                <a:lnTo>
                  <a:pt x="2372" y="2224"/>
                </a:lnTo>
                <a:lnTo>
                  <a:pt x="2375" y="2212"/>
                </a:lnTo>
                <a:lnTo>
                  <a:pt x="2381" y="2202"/>
                </a:lnTo>
                <a:lnTo>
                  <a:pt x="2393" y="2181"/>
                </a:lnTo>
                <a:lnTo>
                  <a:pt x="2408" y="2163"/>
                </a:lnTo>
                <a:lnTo>
                  <a:pt x="2424" y="2144"/>
                </a:lnTo>
                <a:lnTo>
                  <a:pt x="2443" y="2129"/>
                </a:lnTo>
                <a:lnTo>
                  <a:pt x="2453" y="2123"/>
                </a:lnTo>
                <a:lnTo>
                  <a:pt x="2463" y="2117"/>
                </a:lnTo>
                <a:lnTo>
                  <a:pt x="2474" y="2111"/>
                </a:lnTo>
                <a:lnTo>
                  <a:pt x="2488" y="2107"/>
                </a:lnTo>
                <a:lnTo>
                  <a:pt x="2505" y="2101"/>
                </a:lnTo>
                <a:lnTo>
                  <a:pt x="2523" y="2105"/>
                </a:lnTo>
                <a:lnTo>
                  <a:pt x="2536" y="2113"/>
                </a:lnTo>
                <a:lnTo>
                  <a:pt x="2552" y="2127"/>
                </a:lnTo>
                <a:lnTo>
                  <a:pt x="2558" y="2132"/>
                </a:lnTo>
                <a:lnTo>
                  <a:pt x="2564" y="2144"/>
                </a:lnTo>
                <a:lnTo>
                  <a:pt x="2567" y="2154"/>
                </a:lnTo>
                <a:lnTo>
                  <a:pt x="2571" y="2165"/>
                </a:lnTo>
                <a:lnTo>
                  <a:pt x="2571" y="2175"/>
                </a:lnTo>
                <a:lnTo>
                  <a:pt x="2573" y="2187"/>
                </a:lnTo>
                <a:lnTo>
                  <a:pt x="2571" y="2196"/>
                </a:lnTo>
                <a:lnTo>
                  <a:pt x="2569" y="2206"/>
                </a:lnTo>
                <a:lnTo>
                  <a:pt x="2560" y="2224"/>
                </a:lnTo>
                <a:lnTo>
                  <a:pt x="2552" y="2243"/>
                </a:lnTo>
                <a:lnTo>
                  <a:pt x="2540" y="2262"/>
                </a:lnTo>
                <a:lnTo>
                  <a:pt x="2531" y="2282"/>
                </a:lnTo>
                <a:lnTo>
                  <a:pt x="2519" y="2299"/>
                </a:lnTo>
                <a:lnTo>
                  <a:pt x="2509" y="2319"/>
                </a:lnTo>
                <a:lnTo>
                  <a:pt x="2498" y="2338"/>
                </a:lnTo>
                <a:lnTo>
                  <a:pt x="2488" y="2357"/>
                </a:lnTo>
                <a:lnTo>
                  <a:pt x="2480" y="2367"/>
                </a:lnTo>
                <a:lnTo>
                  <a:pt x="2472" y="2375"/>
                </a:lnTo>
                <a:lnTo>
                  <a:pt x="2465" y="2381"/>
                </a:lnTo>
                <a:lnTo>
                  <a:pt x="2459" y="2388"/>
                </a:lnTo>
                <a:lnTo>
                  <a:pt x="2451" y="2394"/>
                </a:lnTo>
                <a:lnTo>
                  <a:pt x="2445" y="2402"/>
                </a:lnTo>
                <a:lnTo>
                  <a:pt x="2439" y="2412"/>
                </a:lnTo>
                <a:lnTo>
                  <a:pt x="2439" y="2425"/>
                </a:lnTo>
                <a:lnTo>
                  <a:pt x="2438" y="2435"/>
                </a:lnTo>
                <a:lnTo>
                  <a:pt x="2436" y="2447"/>
                </a:lnTo>
                <a:lnTo>
                  <a:pt x="2436" y="2456"/>
                </a:lnTo>
                <a:lnTo>
                  <a:pt x="2436" y="2468"/>
                </a:lnTo>
                <a:lnTo>
                  <a:pt x="2436" y="2478"/>
                </a:lnTo>
                <a:lnTo>
                  <a:pt x="2436" y="2489"/>
                </a:lnTo>
                <a:lnTo>
                  <a:pt x="2436" y="2501"/>
                </a:lnTo>
                <a:lnTo>
                  <a:pt x="2439" y="2512"/>
                </a:lnTo>
                <a:lnTo>
                  <a:pt x="2443" y="2532"/>
                </a:lnTo>
                <a:lnTo>
                  <a:pt x="2453" y="2551"/>
                </a:lnTo>
                <a:lnTo>
                  <a:pt x="2463" y="2571"/>
                </a:lnTo>
                <a:lnTo>
                  <a:pt x="2480" y="2590"/>
                </a:lnTo>
                <a:lnTo>
                  <a:pt x="2496" y="2602"/>
                </a:lnTo>
                <a:lnTo>
                  <a:pt x="2515" y="2613"/>
                </a:lnTo>
                <a:lnTo>
                  <a:pt x="2523" y="2615"/>
                </a:lnTo>
                <a:lnTo>
                  <a:pt x="2533" y="2619"/>
                </a:lnTo>
                <a:lnTo>
                  <a:pt x="2544" y="2621"/>
                </a:lnTo>
                <a:lnTo>
                  <a:pt x="2556" y="2625"/>
                </a:lnTo>
                <a:lnTo>
                  <a:pt x="2573" y="2625"/>
                </a:lnTo>
                <a:lnTo>
                  <a:pt x="2593" y="2627"/>
                </a:lnTo>
                <a:lnTo>
                  <a:pt x="2610" y="2627"/>
                </a:lnTo>
                <a:lnTo>
                  <a:pt x="2631" y="2627"/>
                </a:lnTo>
                <a:lnTo>
                  <a:pt x="2649" y="2621"/>
                </a:lnTo>
                <a:lnTo>
                  <a:pt x="2666" y="2615"/>
                </a:lnTo>
                <a:lnTo>
                  <a:pt x="2682" y="2604"/>
                </a:lnTo>
                <a:lnTo>
                  <a:pt x="2695" y="2590"/>
                </a:lnTo>
                <a:lnTo>
                  <a:pt x="2699" y="2578"/>
                </a:lnTo>
                <a:lnTo>
                  <a:pt x="2705" y="2567"/>
                </a:lnTo>
                <a:lnTo>
                  <a:pt x="2709" y="2555"/>
                </a:lnTo>
                <a:lnTo>
                  <a:pt x="2715" y="2545"/>
                </a:lnTo>
                <a:lnTo>
                  <a:pt x="2717" y="2534"/>
                </a:lnTo>
                <a:lnTo>
                  <a:pt x="2723" y="2522"/>
                </a:lnTo>
                <a:lnTo>
                  <a:pt x="2725" y="2511"/>
                </a:lnTo>
                <a:lnTo>
                  <a:pt x="2730" y="2501"/>
                </a:lnTo>
                <a:lnTo>
                  <a:pt x="2732" y="2489"/>
                </a:lnTo>
                <a:lnTo>
                  <a:pt x="2736" y="2478"/>
                </a:lnTo>
                <a:lnTo>
                  <a:pt x="2742" y="2468"/>
                </a:lnTo>
                <a:lnTo>
                  <a:pt x="2748" y="2458"/>
                </a:lnTo>
                <a:lnTo>
                  <a:pt x="2754" y="2448"/>
                </a:lnTo>
                <a:lnTo>
                  <a:pt x="2761" y="2441"/>
                </a:lnTo>
                <a:lnTo>
                  <a:pt x="2771" y="2431"/>
                </a:lnTo>
                <a:lnTo>
                  <a:pt x="2783" y="2425"/>
                </a:lnTo>
                <a:lnTo>
                  <a:pt x="2794" y="2423"/>
                </a:lnTo>
                <a:lnTo>
                  <a:pt x="2806" y="2425"/>
                </a:lnTo>
                <a:lnTo>
                  <a:pt x="2816" y="2429"/>
                </a:lnTo>
                <a:lnTo>
                  <a:pt x="2822" y="2443"/>
                </a:lnTo>
                <a:lnTo>
                  <a:pt x="2822" y="2454"/>
                </a:lnTo>
                <a:lnTo>
                  <a:pt x="2823" y="2470"/>
                </a:lnTo>
                <a:lnTo>
                  <a:pt x="2823" y="2481"/>
                </a:lnTo>
                <a:lnTo>
                  <a:pt x="2831" y="2497"/>
                </a:lnTo>
                <a:lnTo>
                  <a:pt x="2841" y="2487"/>
                </a:lnTo>
                <a:lnTo>
                  <a:pt x="2853" y="2478"/>
                </a:lnTo>
                <a:lnTo>
                  <a:pt x="2860" y="2466"/>
                </a:lnTo>
                <a:lnTo>
                  <a:pt x="2870" y="2456"/>
                </a:lnTo>
                <a:lnTo>
                  <a:pt x="2876" y="2445"/>
                </a:lnTo>
                <a:lnTo>
                  <a:pt x="2882" y="2433"/>
                </a:lnTo>
                <a:lnTo>
                  <a:pt x="2887" y="2421"/>
                </a:lnTo>
                <a:lnTo>
                  <a:pt x="2895" y="2410"/>
                </a:lnTo>
                <a:lnTo>
                  <a:pt x="2899" y="2398"/>
                </a:lnTo>
                <a:lnTo>
                  <a:pt x="2905" y="2386"/>
                </a:lnTo>
                <a:lnTo>
                  <a:pt x="2911" y="2375"/>
                </a:lnTo>
                <a:lnTo>
                  <a:pt x="2919" y="2365"/>
                </a:lnTo>
                <a:lnTo>
                  <a:pt x="2924" y="2355"/>
                </a:lnTo>
                <a:lnTo>
                  <a:pt x="2936" y="2348"/>
                </a:lnTo>
                <a:lnTo>
                  <a:pt x="2946" y="2340"/>
                </a:lnTo>
                <a:lnTo>
                  <a:pt x="2959" y="2336"/>
                </a:lnTo>
                <a:lnTo>
                  <a:pt x="2965" y="2334"/>
                </a:lnTo>
                <a:lnTo>
                  <a:pt x="2973" y="2332"/>
                </a:lnTo>
                <a:lnTo>
                  <a:pt x="2979" y="2328"/>
                </a:lnTo>
                <a:lnTo>
                  <a:pt x="2984" y="2332"/>
                </a:lnTo>
                <a:lnTo>
                  <a:pt x="2986" y="2348"/>
                </a:lnTo>
                <a:lnTo>
                  <a:pt x="2984" y="2365"/>
                </a:lnTo>
                <a:lnTo>
                  <a:pt x="2981" y="2381"/>
                </a:lnTo>
                <a:lnTo>
                  <a:pt x="2983" y="2398"/>
                </a:lnTo>
                <a:lnTo>
                  <a:pt x="2992" y="2386"/>
                </a:lnTo>
                <a:lnTo>
                  <a:pt x="3004" y="2379"/>
                </a:lnTo>
                <a:lnTo>
                  <a:pt x="3017" y="2369"/>
                </a:lnTo>
                <a:lnTo>
                  <a:pt x="3031" y="2361"/>
                </a:lnTo>
                <a:lnTo>
                  <a:pt x="3043" y="2352"/>
                </a:lnTo>
                <a:lnTo>
                  <a:pt x="3058" y="2346"/>
                </a:lnTo>
                <a:lnTo>
                  <a:pt x="3072" y="2340"/>
                </a:lnTo>
                <a:lnTo>
                  <a:pt x="3087" y="2336"/>
                </a:lnTo>
                <a:lnTo>
                  <a:pt x="3097" y="2336"/>
                </a:lnTo>
                <a:lnTo>
                  <a:pt x="3101" y="2348"/>
                </a:lnTo>
                <a:lnTo>
                  <a:pt x="3099" y="2361"/>
                </a:lnTo>
                <a:lnTo>
                  <a:pt x="3097" y="2375"/>
                </a:lnTo>
                <a:lnTo>
                  <a:pt x="3087" y="2394"/>
                </a:lnTo>
                <a:lnTo>
                  <a:pt x="3078" y="2416"/>
                </a:lnTo>
                <a:lnTo>
                  <a:pt x="3072" y="2425"/>
                </a:lnTo>
                <a:lnTo>
                  <a:pt x="3068" y="2437"/>
                </a:lnTo>
                <a:lnTo>
                  <a:pt x="3064" y="2447"/>
                </a:lnTo>
                <a:lnTo>
                  <a:pt x="3060" y="2458"/>
                </a:lnTo>
                <a:lnTo>
                  <a:pt x="3054" y="2468"/>
                </a:lnTo>
                <a:lnTo>
                  <a:pt x="3048" y="2478"/>
                </a:lnTo>
                <a:lnTo>
                  <a:pt x="3045" y="2489"/>
                </a:lnTo>
                <a:lnTo>
                  <a:pt x="3041" y="2501"/>
                </a:lnTo>
                <a:lnTo>
                  <a:pt x="3035" y="2511"/>
                </a:lnTo>
                <a:lnTo>
                  <a:pt x="3031" y="2520"/>
                </a:lnTo>
                <a:lnTo>
                  <a:pt x="3027" y="2532"/>
                </a:lnTo>
                <a:lnTo>
                  <a:pt x="3023" y="2543"/>
                </a:lnTo>
                <a:lnTo>
                  <a:pt x="3037" y="2547"/>
                </a:lnTo>
                <a:lnTo>
                  <a:pt x="3052" y="2549"/>
                </a:lnTo>
                <a:lnTo>
                  <a:pt x="3066" y="2549"/>
                </a:lnTo>
                <a:lnTo>
                  <a:pt x="3081" y="2549"/>
                </a:lnTo>
                <a:lnTo>
                  <a:pt x="3095" y="2545"/>
                </a:lnTo>
                <a:lnTo>
                  <a:pt x="3111" y="2543"/>
                </a:lnTo>
                <a:lnTo>
                  <a:pt x="3124" y="2542"/>
                </a:lnTo>
                <a:lnTo>
                  <a:pt x="3140" y="2540"/>
                </a:lnTo>
                <a:lnTo>
                  <a:pt x="3151" y="2536"/>
                </a:lnTo>
                <a:lnTo>
                  <a:pt x="3167" y="2534"/>
                </a:lnTo>
                <a:lnTo>
                  <a:pt x="3178" y="2532"/>
                </a:lnTo>
                <a:lnTo>
                  <a:pt x="3194" y="2532"/>
                </a:lnTo>
                <a:lnTo>
                  <a:pt x="3207" y="2532"/>
                </a:lnTo>
                <a:lnTo>
                  <a:pt x="3221" y="2538"/>
                </a:lnTo>
                <a:lnTo>
                  <a:pt x="3235" y="2543"/>
                </a:lnTo>
                <a:lnTo>
                  <a:pt x="3250" y="2553"/>
                </a:lnTo>
                <a:lnTo>
                  <a:pt x="3262" y="2561"/>
                </a:lnTo>
                <a:lnTo>
                  <a:pt x="3273" y="2573"/>
                </a:lnTo>
                <a:lnTo>
                  <a:pt x="3283" y="2582"/>
                </a:lnTo>
                <a:lnTo>
                  <a:pt x="3287" y="2598"/>
                </a:lnTo>
                <a:lnTo>
                  <a:pt x="3275" y="2604"/>
                </a:lnTo>
                <a:lnTo>
                  <a:pt x="3266" y="2607"/>
                </a:lnTo>
                <a:lnTo>
                  <a:pt x="3254" y="2607"/>
                </a:lnTo>
                <a:lnTo>
                  <a:pt x="3242" y="2607"/>
                </a:lnTo>
                <a:lnTo>
                  <a:pt x="3229" y="2607"/>
                </a:lnTo>
                <a:lnTo>
                  <a:pt x="3217" y="2607"/>
                </a:lnTo>
                <a:lnTo>
                  <a:pt x="3206" y="2609"/>
                </a:lnTo>
                <a:lnTo>
                  <a:pt x="3198" y="2617"/>
                </a:lnTo>
                <a:lnTo>
                  <a:pt x="3186" y="2611"/>
                </a:lnTo>
                <a:lnTo>
                  <a:pt x="3175" y="2615"/>
                </a:lnTo>
                <a:lnTo>
                  <a:pt x="3163" y="2621"/>
                </a:lnTo>
                <a:lnTo>
                  <a:pt x="3153" y="2621"/>
                </a:lnTo>
                <a:lnTo>
                  <a:pt x="3136" y="2623"/>
                </a:lnTo>
                <a:lnTo>
                  <a:pt x="3118" y="2629"/>
                </a:lnTo>
                <a:lnTo>
                  <a:pt x="3103" y="2635"/>
                </a:lnTo>
                <a:lnTo>
                  <a:pt x="3087" y="2642"/>
                </a:lnTo>
                <a:lnTo>
                  <a:pt x="3072" y="2648"/>
                </a:lnTo>
                <a:lnTo>
                  <a:pt x="3056" y="2656"/>
                </a:lnTo>
                <a:lnTo>
                  <a:pt x="3039" y="2660"/>
                </a:lnTo>
                <a:lnTo>
                  <a:pt x="3021" y="2666"/>
                </a:lnTo>
                <a:lnTo>
                  <a:pt x="3004" y="2666"/>
                </a:lnTo>
                <a:lnTo>
                  <a:pt x="2986" y="2670"/>
                </a:lnTo>
                <a:lnTo>
                  <a:pt x="2969" y="2673"/>
                </a:lnTo>
                <a:lnTo>
                  <a:pt x="2953" y="2679"/>
                </a:lnTo>
                <a:lnTo>
                  <a:pt x="2936" y="2683"/>
                </a:lnTo>
                <a:lnTo>
                  <a:pt x="2919" y="2689"/>
                </a:lnTo>
                <a:lnTo>
                  <a:pt x="2901" y="2697"/>
                </a:lnTo>
                <a:lnTo>
                  <a:pt x="2886" y="2704"/>
                </a:lnTo>
                <a:lnTo>
                  <a:pt x="2868" y="2710"/>
                </a:lnTo>
                <a:lnTo>
                  <a:pt x="2851" y="2720"/>
                </a:lnTo>
                <a:lnTo>
                  <a:pt x="2833" y="2730"/>
                </a:lnTo>
                <a:lnTo>
                  <a:pt x="2818" y="2741"/>
                </a:lnTo>
                <a:lnTo>
                  <a:pt x="2800" y="2753"/>
                </a:lnTo>
                <a:lnTo>
                  <a:pt x="2787" y="2765"/>
                </a:lnTo>
                <a:lnTo>
                  <a:pt x="2771" y="2778"/>
                </a:lnTo>
                <a:lnTo>
                  <a:pt x="2758" y="2794"/>
                </a:lnTo>
                <a:lnTo>
                  <a:pt x="2742" y="2794"/>
                </a:lnTo>
                <a:lnTo>
                  <a:pt x="2728" y="2794"/>
                </a:lnTo>
                <a:lnTo>
                  <a:pt x="2715" y="2796"/>
                </a:lnTo>
                <a:lnTo>
                  <a:pt x="2703" y="2799"/>
                </a:lnTo>
                <a:lnTo>
                  <a:pt x="2690" y="2801"/>
                </a:lnTo>
                <a:lnTo>
                  <a:pt x="2678" y="2805"/>
                </a:lnTo>
                <a:lnTo>
                  <a:pt x="2664" y="2807"/>
                </a:lnTo>
                <a:lnTo>
                  <a:pt x="2653" y="2813"/>
                </a:lnTo>
                <a:lnTo>
                  <a:pt x="2639" y="2817"/>
                </a:lnTo>
                <a:lnTo>
                  <a:pt x="2628" y="2821"/>
                </a:lnTo>
                <a:lnTo>
                  <a:pt x="2614" y="2825"/>
                </a:lnTo>
                <a:lnTo>
                  <a:pt x="2602" y="2829"/>
                </a:lnTo>
                <a:lnTo>
                  <a:pt x="2589" y="2832"/>
                </a:lnTo>
                <a:lnTo>
                  <a:pt x="2577" y="2836"/>
                </a:lnTo>
                <a:lnTo>
                  <a:pt x="2564" y="2840"/>
                </a:lnTo>
                <a:lnTo>
                  <a:pt x="2552" y="2844"/>
                </a:lnTo>
                <a:lnTo>
                  <a:pt x="2538" y="2844"/>
                </a:lnTo>
                <a:lnTo>
                  <a:pt x="2525" y="2848"/>
                </a:lnTo>
                <a:lnTo>
                  <a:pt x="2511" y="2852"/>
                </a:lnTo>
                <a:lnTo>
                  <a:pt x="2500" y="2858"/>
                </a:lnTo>
                <a:lnTo>
                  <a:pt x="2488" y="2861"/>
                </a:lnTo>
                <a:lnTo>
                  <a:pt x="2476" y="2865"/>
                </a:lnTo>
                <a:lnTo>
                  <a:pt x="2465" y="2871"/>
                </a:lnTo>
                <a:lnTo>
                  <a:pt x="2453" y="2877"/>
                </a:lnTo>
                <a:lnTo>
                  <a:pt x="2439" y="2881"/>
                </a:lnTo>
                <a:lnTo>
                  <a:pt x="2428" y="2887"/>
                </a:lnTo>
                <a:lnTo>
                  <a:pt x="2416" y="2892"/>
                </a:lnTo>
                <a:lnTo>
                  <a:pt x="2405" y="2898"/>
                </a:lnTo>
                <a:lnTo>
                  <a:pt x="2393" y="2902"/>
                </a:lnTo>
                <a:lnTo>
                  <a:pt x="2381" y="2906"/>
                </a:lnTo>
                <a:lnTo>
                  <a:pt x="2370" y="2910"/>
                </a:lnTo>
                <a:lnTo>
                  <a:pt x="2358" y="2914"/>
                </a:lnTo>
                <a:lnTo>
                  <a:pt x="2350" y="2925"/>
                </a:lnTo>
                <a:lnTo>
                  <a:pt x="2343" y="2941"/>
                </a:lnTo>
                <a:lnTo>
                  <a:pt x="2337" y="2953"/>
                </a:lnTo>
                <a:lnTo>
                  <a:pt x="2331" y="2968"/>
                </a:lnTo>
                <a:lnTo>
                  <a:pt x="2323" y="2980"/>
                </a:lnTo>
                <a:lnTo>
                  <a:pt x="2315" y="2995"/>
                </a:lnTo>
                <a:lnTo>
                  <a:pt x="2310" y="3007"/>
                </a:lnTo>
                <a:lnTo>
                  <a:pt x="2304" y="3022"/>
                </a:lnTo>
                <a:lnTo>
                  <a:pt x="2296" y="3034"/>
                </a:lnTo>
                <a:lnTo>
                  <a:pt x="2288" y="3048"/>
                </a:lnTo>
                <a:lnTo>
                  <a:pt x="2280" y="3061"/>
                </a:lnTo>
                <a:lnTo>
                  <a:pt x="2275" y="3075"/>
                </a:lnTo>
                <a:lnTo>
                  <a:pt x="2267" y="3088"/>
                </a:lnTo>
                <a:lnTo>
                  <a:pt x="2259" y="3102"/>
                </a:lnTo>
                <a:lnTo>
                  <a:pt x="2251" y="3115"/>
                </a:lnTo>
                <a:lnTo>
                  <a:pt x="2246" y="3129"/>
                </a:lnTo>
                <a:lnTo>
                  <a:pt x="2259" y="3137"/>
                </a:lnTo>
                <a:lnTo>
                  <a:pt x="2275" y="3145"/>
                </a:lnTo>
                <a:lnTo>
                  <a:pt x="2279" y="3154"/>
                </a:lnTo>
                <a:lnTo>
                  <a:pt x="2277" y="3166"/>
                </a:lnTo>
                <a:lnTo>
                  <a:pt x="2275" y="3178"/>
                </a:lnTo>
                <a:lnTo>
                  <a:pt x="2279" y="3189"/>
                </a:lnTo>
                <a:lnTo>
                  <a:pt x="2263" y="3199"/>
                </a:lnTo>
                <a:lnTo>
                  <a:pt x="2251" y="3216"/>
                </a:lnTo>
                <a:lnTo>
                  <a:pt x="2240" y="3232"/>
                </a:lnTo>
                <a:lnTo>
                  <a:pt x="2230" y="3249"/>
                </a:lnTo>
                <a:lnTo>
                  <a:pt x="2228" y="3247"/>
                </a:lnTo>
                <a:lnTo>
                  <a:pt x="2216" y="3255"/>
                </a:lnTo>
                <a:lnTo>
                  <a:pt x="2209" y="3267"/>
                </a:lnTo>
                <a:lnTo>
                  <a:pt x="2201" y="3278"/>
                </a:lnTo>
                <a:lnTo>
                  <a:pt x="2193" y="3292"/>
                </a:lnTo>
                <a:lnTo>
                  <a:pt x="2185" y="3304"/>
                </a:lnTo>
                <a:lnTo>
                  <a:pt x="2180" y="3317"/>
                </a:lnTo>
                <a:lnTo>
                  <a:pt x="2172" y="3329"/>
                </a:lnTo>
                <a:lnTo>
                  <a:pt x="2166" y="3342"/>
                </a:lnTo>
                <a:lnTo>
                  <a:pt x="2156" y="3356"/>
                </a:lnTo>
                <a:lnTo>
                  <a:pt x="2149" y="3369"/>
                </a:lnTo>
                <a:lnTo>
                  <a:pt x="2139" y="3383"/>
                </a:lnTo>
                <a:lnTo>
                  <a:pt x="2131" y="3399"/>
                </a:lnTo>
                <a:lnTo>
                  <a:pt x="2121" y="3410"/>
                </a:lnTo>
                <a:lnTo>
                  <a:pt x="2112" y="3422"/>
                </a:lnTo>
                <a:lnTo>
                  <a:pt x="2100" y="3433"/>
                </a:lnTo>
                <a:lnTo>
                  <a:pt x="2090" y="3447"/>
                </a:lnTo>
                <a:lnTo>
                  <a:pt x="2083" y="3461"/>
                </a:lnTo>
                <a:lnTo>
                  <a:pt x="2077" y="3474"/>
                </a:lnTo>
                <a:lnTo>
                  <a:pt x="2069" y="3488"/>
                </a:lnTo>
                <a:lnTo>
                  <a:pt x="2063" y="3503"/>
                </a:lnTo>
                <a:lnTo>
                  <a:pt x="2055" y="3517"/>
                </a:lnTo>
                <a:lnTo>
                  <a:pt x="2050" y="3532"/>
                </a:lnTo>
                <a:lnTo>
                  <a:pt x="2042" y="3546"/>
                </a:lnTo>
                <a:lnTo>
                  <a:pt x="2036" y="3561"/>
                </a:lnTo>
                <a:lnTo>
                  <a:pt x="2028" y="3575"/>
                </a:lnTo>
                <a:lnTo>
                  <a:pt x="2023" y="3591"/>
                </a:lnTo>
                <a:lnTo>
                  <a:pt x="2015" y="3604"/>
                </a:lnTo>
                <a:lnTo>
                  <a:pt x="2009" y="3620"/>
                </a:lnTo>
                <a:lnTo>
                  <a:pt x="2001" y="3633"/>
                </a:lnTo>
                <a:lnTo>
                  <a:pt x="1995" y="3649"/>
                </a:lnTo>
                <a:lnTo>
                  <a:pt x="1988" y="3662"/>
                </a:lnTo>
                <a:lnTo>
                  <a:pt x="1982" y="3678"/>
                </a:lnTo>
                <a:lnTo>
                  <a:pt x="1974" y="3689"/>
                </a:lnTo>
                <a:lnTo>
                  <a:pt x="1966" y="3705"/>
                </a:lnTo>
                <a:lnTo>
                  <a:pt x="1959" y="3717"/>
                </a:lnTo>
                <a:lnTo>
                  <a:pt x="1951" y="3732"/>
                </a:lnTo>
                <a:lnTo>
                  <a:pt x="1943" y="3746"/>
                </a:lnTo>
                <a:lnTo>
                  <a:pt x="1935" y="3759"/>
                </a:lnTo>
                <a:lnTo>
                  <a:pt x="1927" y="3773"/>
                </a:lnTo>
                <a:lnTo>
                  <a:pt x="1922" y="3788"/>
                </a:lnTo>
                <a:lnTo>
                  <a:pt x="1912" y="3800"/>
                </a:lnTo>
                <a:lnTo>
                  <a:pt x="1906" y="3815"/>
                </a:lnTo>
                <a:lnTo>
                  <a:pt x="1896" y="3827"/>
                </a:lnTo>
                <a:lnTo>
                  <a:pt x="1891" y="3843"/>
                </a:lnTo>
                <a:lnTo>
                  <a:pt x="1881" y="3854"/>
                </a:lnTo>
                <a:lnTo>
                  <a:pt x="1873" y="3870"/>
                </a:lnTo>
                <a:lnTo>
                  <a:pt x="1865" y="3881"/>
                </a:lnTo>
                <a:lnTo>
                  <a:pt x="1858" y="3897"/>
                </a:lnTo>
                <a:lnTo>
                  <a:pt x="1863" y="3920"/>
                </a:lnTo>
                <a:lnTo>
                  <a:pt x="1862" y="3932"/>
                </a:lnTo>
                <a:lnTo>
                  <a:pt x="1862" y="3947"/>
                </a:lnTo>
                <a:lnTo>
                  <a:pt x="1862" y="3961"/>
                </a:lnTo>
                <a:lnTo>
                  <a:pt x="1862" y="3976"/>
                </a:lnTo>
                <a:lnTo>
                  <a:pt x="1862" y="3990"/>
                </a:lnTo>
                <a:lnTo>
                  <a:pt x="1862" y="4005"/>
                </a:lnTo>
                <a:lnTo>
                  <a:pt x="1862" y="4019"/>
                </a:lnTo>
                <a:lnTo>
                  <a:pt x="1863" y="4035"/>
                </a:lnTo>
                <a:lnTo>
                  <a:pt x="1863" y="4048"/>
                </a:lnTo>
                <a:lnTo>
                  <a:pt x="1863" y="4064"/>
                </a:lnTo>
                <a:lnTo>
                  <a:pt x="1863" y="4079"/>
                </a:lnTo>
                <a:lnTo>
                  <a:pt x="1865" y="4097"/>
                </a:lnTo>
                <a:lnTo>
                  <a:pt x="1865" y="4112"/>
                </a:lnTo>
                <a:lnTo>
                  <a:pt x="1867" y="4128"/>
                </a:lnTo>
                <a:lnTo>
                  <a:pt x="1869" y="4145"/>
                </a:lnTo>
                <a:lnTo>
                  <a:pt x="1871" y="4163"/>
                </a:lnTo>
                <a:lnTo>
                  <a:pt x="1871" y="4178"/>
                </a:lnTo>
                <a:lnTo>
                  <a:pt x="1871" y="4194"/>
                </a:lnTo>
                <a:lnTo>
                  <a:pt x="1873" y="4209"/>
                </a:lnTo>
                <a:lnTo>
                  <a:pt x="1875" y="4227"/>
                </a:lnTo>
                <a:lnTo>
                  <a:pt x="1875" y="4242"/>
                </a:lnTo>
                <a:lnTo>
                  <a:pt x="1875" y="4258"/>
                </a:lnTo>
                <a:lnTo>
                  <a:pt x="1877" y="4275"/>
                </a:lnTo>
                <a:lnTo>
                  <a:pt x="1879" y="4292"/>
                </a:lnTo>
                <a:lnTo>
                  <a:pt x="1879" y="4308"/>
                </a:lnTo>
                <a:lnTo>
                  <a:pt x="1879" y="4323"/>
                </a:lnTo>
                <a:lnTo>
                  <a:pt x="1879" y="4339"/>
                </a:lnTo>
                <a:lnTo>
                  <a:pt x="1881" y="4356"/>
                </a:lnTo>
                <a:lnTo>
                  <a:pt x="1881" y="4372"/>
                </a:lnTo>
                <a:lnTo>
                  <a:pt x="1883" y="4389"/>
                </a:lnTo>
                <a:lnTo>
                  <a:pt x="1883" y="4407"/>
                </a:lnTo>
                <a:lnTo>
                  <a:pt x="1885" y="4424"/>
                </a:lnTo>
                <a:lnTo>
                  <a:pt x="310" y="4424"/>
                </a:lnTo>
                <a:lnTo>
                  <a:pt x="306" y="4407"/>
                </a:lnTo>
                <a:lnTo>
                  <a:pt x="306" y="4389"/>
                </a:lnTo>
                <a:lnTo>
                  <a:pt x="302" y="4372"/>
                </a:lnTo>
                <a:lnTo>
                  <a:pt x="302" y="4355"/>
                </a:lnTo>
                <a:lnTo>
                  <a:pt x="298" y="4337"/>
                </a:lnTo>
                <a:lnTo>
                  <a:pt x="298" y="4320"/>
                </a:lnTo>
                <a:lnTo>
                  <a:pt x="295" y="4302"/>
                </a:lnTo>
                <a:lnTo>
                  <a:pt x="295" y="4287"/>
                </a:lnTo>
                <a:lnTo>
                  <a:pt x="291" y="4269"/>
                </a:lnTo>
                <a:lnTo>
                  <a:pt x="289" y="4252"/>
                </a:lnTo>
                <a:lnTo>
                  <a:pt x="285" y="4234"/>
                </a:lnTo>
                <a:lnTo>
                  <a:pt x="283" y="4219"/>
                </a:lnTo>
                <a:lnTo>
                  <a:pt x="279" y="4201"/>
                </a:lnTo>
                <a:lnTo>
                  <a:pt x="277" y="4186"/>
                </a:lnTo>
                <a:lnTo>
                  <a:pt x="273" y="4168"/>
                </a:lnTo>
                <a:lnTo>
                  <a:pt x="271" y="4153"/>
                </a:lnTo>
                <a:lnTo>
                  <a:pt x="265" y="4135"/>
                </a:lnTo>
                <a:lnTo>
                  <a:pt x="264" y="4118"/>
                </a:lnTo>
                <a:lnTo>
                  <a:pt x="258" y="4100"/>
                </a:lnTo>
                <a:lnTo>
                  <a:pt x="256" y="4085"/>
                </a:lnTo>
                <a:lnTo>
                  <a:pt x="252" y="4068"/>
                </a:lnTo>
                <a:lnTo>
                  <a:pt x="248" y="4052"/>
                </a:lnTo>
                <a:lnTo>
                  <a:pt x="244" y="4035"/>
                </a:lnTo>
                <a:lnTo>
                  <a:pt x="242" y="4019"/>
                </a:lnTo>
                <a:lnTo>
                  <a:pt x="236" y="4002"/>
                </a:lnTo>
                <a:lnTo>
                  <a:pt x="234" y="3984"/>
                </a:lnTo>
                <a:lnTo>
                  <a:pt x="229" y="3967"/>
                </a:lnTo>
                <a:lnTo>
                  <a:pt x="227" y="3951"/>
                </a:lnTo>
                <a:lnTo>
                  <a:pt x="223" y="3934"/>
                </a:lnTo>
                <a:lnTo>
                  <a:pt x="219" y="3918"/>
                </a:lnTo>
                <a:lnTo>
                  <a:pt x="215" y="3903"/>
                </a:lnTo>
                <a:lnTo>
                  <a:pt x="213" y="3887"/>
                </a:lnTo>
                <a:lnTo>
                  <a:pt x="207" y="3866"/>
                </a:lnTo>
                <a:lnTo>
                  <a:pt x="203" y="3846"/>
                </a:lnTo>
                <a:lnTo>
                  <a:pt x="200" y="3825"/>
                </a:lnTo>
                <a:lnTo>
                  <a:pt x="196" y="3808"/>
                </a:lnTo>
                <a:lnTo>
                  <a:pt x="190" y="3786"/>
                </a:lnTo>
                <a:lnTo>
                  <a:pt x="188" y="3767"/>
                </a:lnTo>
                <a:lnTo>
                  <a:pt x="182" y="3746"/>
                </a:lnTo>
                <a:lnTo>
                  <a:pt x="180" y="3728"/>
                </a:lnTo>
                <a:lnTo>
                  <a:pt x="174" y="3707"/>
                </a:lnTo>
                <a:lnTo>
                  <a:pt x="170" y="3687"/>
                </a:lnTo>
                <a:lnTo>
                  <a:pt x="167" y="3668"/>
                </a:lnTo>
                <a:lnTo>
                  <a:pt x="163" y="3649"/>
                </a:lnTo>
                <a:lnTo>
                  <a:pt x="157" y="3629"/>
                </a:lnTo>
                <a:lnTo>
                  <a:pt x="153" y="3610"/>
                </a:lnTo>
                <a:lnTo>
                  <a:pt x="147" y="3591"/>
                </a:lnTo>
                <a:lnTo>
                  <a:pt x="143" y="3573"/>
                </a:lnTo>
                <a:lnTo>
                  <a:pt x="137" y="3560"/>
                </a:lnTo>
                <a:lnTo>
                  <a:pt x="136" y="3546"/>
                </a:lnTo>
                <a:lnTo>
                  <a:pt x="130" y="3532"/>
                </a:lnTo>
                <a:lnTo>
                  <a:pt x="128" y="3521"/>
                </a:lnTo>
                <a:lnTo>
                  <a:pt x="124" y="3507"/>
                </a:lnTo>
                <a:lnTo>
                  <a:pt x="122" y="3496"/>
                </a:lnTo>
                <a:lnTo>
                  <a:pt x="118" y="3482"/>
                </a:lnTo>
                <a:lnTo>
                  <a:pt x="116" y="3470"/>
                </a:lnTo>
                <a:lnTo>
                  <a:pt x="112" y="3457"/>
                </a:lnTo>
                <a:lnTo>
                  <a:pt x="110" y="3443"/>
                </a:lnTo>
                <a:lnTo>
                  <a:pt x="106" y="3432"/>
                </a:lnTo>
                <a:lnTo>
                  <a:pt x="104" y="3420"/>
                </a:lnTo>
                <a:lnTo>
                  <a:pt x="101" y="3406"/>
                </a:lnTo>
                <a:lnTo>
                  <a:pt x="99" y="3393"/>
                </a:lnTo>
                <a:lnTo>
                  <a:pt x="95" y="3381"/>
                </a:lnTo>
                <a:lnTo>
                  <a:pt x="93" y="3369"/>
                </a:lnTo>
                <a:lnTo>
                  <a:pt x="89" y="3356"/>
                </a:lnTo>
                <a:lnTo>
                  <a:pt x="85" y="3342"/>
                </a:lnTo>
                <a:lnTo>
                  <a:pt x="81" y="3329"/>
                </a:lnTo>
                <a:lnTo>
                  <a:pt x="79" y="3317"/>
                </a:lnTo>
                <a:lnTo>
                  <a:pt x="75" y="3304"/>
                </a:lnTo>
                <a:lnTo>
                  <a:pt x="73" y="3292"/>
                </a:lnTo>
                <a:lnTo>
                  <a:pt x="70" y="3278"/>
                </a:lnTo>
                <a:lnTo>
                  <a:pt x="68" y="3267"/>
                </a:lnTo>
                <a:lnTo>
                  <a:pt x="62" y="3253"/>
                </a:lnTo>
                <a:lnTo>
                  <a:pt x="60" y="3242"/>
                </a:lnTo>
                <a:lnTo>
                  <a:pt x="56" y="3228"/>
                </a:lnTo>
                <a:lnTo>
                  <a:pt x="54" y="3216"/>
                </a:lnTo>
                <a:lnTo>
                  <a:pt x="48" y="3205"/>
                </a:lnTo>
                <a:lnTo>
                  <a:pt x="46" y="3193"/>
                </a:lnTo>
                <a:lnTo>
                  <a:pt x="42" y="3181"/>
                </a:lnTo>
                <a:lnTo>
                  <a:pt x="40" y="3170"/>
                </a:lnTo>
                <a:lnTo>
                  <a:pt x="35" y="3152"/>
                </a:lnTo>
                <a:lnTo>
                  <a:pt x="29" y="3139"/>
                </a:lnTo>
                <a:lnTo>
                  <a:pt x="25" y="3121"/>
                </a:lnTo>
                <a:lnTo>
                  <a:pt x="23" y="3108"/>
                </a:lnTo>
                <a:lnTo>
                  <a:pt x="19" y="3092"/>
                </a:lnTo>
                <a:lnTo>
                  <a:pt x="17" y="3077"/>
                </a:lnTo>
                <a:lnTo>
                  <a:pt x="13" y="3061"/>
                </a:lnTo>
                <a:lnTo>
                  <a:pt x="11" y="3048"/>
                </a:lnTo>
                <a:lnTo>
                  <a:pt x="8" y="3030"/>
                </a:lnTo>
                <a:lnTo>
                  <a:pt x="6" y="3015"/>
                </a:lnTo>
                <a:lnTo>
                  <a:pt x="4" y="2999"/>
                </a:lnTo>
                <a:lnTo>
                  <a:pt x="4" y="2986"/>
                </a:lnTo>
                <a:lnTo>
                  <a:pt x="2" y="2968"/>
                </a:lnTo>
                <a:lnTo>
                  <a:pt x="2" y="2953"/>
                </a:lnTo>
                <a:lnTo>
                  <a:pt x="2" y="2937"/>
                </a:lnTo>
                <a:lnTo>
                  <a:pt x="2" y="2924"/>
                </a:lnTo>
                <a:lnTo>
                  <a:pt x="0" y="2906"/>
                </a:lnTo>
                <a:lnTo>
                  <a:pt x="0" y="2892"/>
                </a:lnTo>
                <a:lnTo>
                  <a:pt x="0" y="2875"/>
                </a:lnTo>
                <a:lnTo>
                  <a:pt x="0" y="2861"/>
                </a:lnTo>
                <a:lnTo>
                  <a:pt x="0" y="2846"/>
                </a:lnTo>
                <a:lnTo>
                  <a:pt x="0" y="2830"/>
                </a:lnTo>
                <a:lnTo>
                  <a:pt x="0" y="2815"/>
                </a:lnTo>
                <a:lnTo>
                  <a:pt x="0" y="2801"/>
                </a:lnTo>
                <a:lnTo>
                  <a:pt x="0" y="2784"/>
                </a:lnTo>
                <a:lnTo>
                  <a:pt x="0" y="2770"/>
                </a:lnTo>
                <a:lnTo>
                  <a:pt x="0" y="2755"/>
                </a:lnTo>
                <a:lnTo>
                  <a:pt x="0" y="2741"/>
                </a:lnTo>
                <a:lnTo>
                  <a:pt x="0" y="2726"/>
                </a:lnTo>
                <a:lnTo>
                  <a:pt x="0" y="2712"/>
                </a:lnTo>
                <a:lnTo>
                  <a:pt x="0" y="2697"/>
                </a:lnTo>
                <a:lnTo>
                  <a:pt x="2" y="2683"/>
                </a:lnTo>
                <a:lnTo>
                  <a:pt x="2" y="2666"/>
                </a:lnTo>
                <a:lnTo>
                  <a:pt x="2" y="2648"/>
                </a:lnTo>
                <a:lnTo>
                  <a:pt x="2" y="2631"/>
                </a:lnTo>
                <a:lnTo>
                  <a:pt x="6" y="2613"/>
                </a:lnTo>
                <a:lnTo>
                  <a:pt x="6" y="2596"/>
                </a:lnTo>
                <a:lnTo>
                  <a:pt x="9" y="2578"/>
                </a:lnTo>
                <a:lnTo>
                  <a:pt x="13" y="2561"/>
                </a:lnTo>
                <a:lnTo>
                  <a:pt x="19" y="2545"/>
                </a:lnTo>
                <a:lnTo>
                  <a:pt x="23" y="2528"/>
                </a:lnTo>
                <a:lnTo>
                  <a:pt x="27" y="2511"/>
                </a:lnTo>
                <a:lnTo>
                  <a:pt x="33" y="2493"/>
                </a:lnTo>
                <a:lnTo>
                  <a:pt x="40" y="2478"/>
                </a:lnTo>
                <a:lnTo>
                  <a:pt x="46" y="2460"/>
                </a:lnTo>
                <a:lnTo>
                  <a:pt x="54" y="2447"/>
                </a:lnTo>
                <a:lnTo>
                  <a:pt x="62" y="2431"/>
                </a:lnTo>
                <a:lnTo>
                  <a:pt x="72" y="2417"/>
                </a:lnTo>
                <a:lnTo>
                  <a:pt x="75" y="2406"/>
                </a:lnTo>
                <a:lnTo>
                  <a:pt x="81" y="2394"/>
                </a:lnTo>
                <a:lnTo>
                  <a:pt x="87" y="2383"/>
                </a:lnTo>
                <a:lnTo>
                  <a:pt x="95" y="2373"/>
                </a:lnTo>
                <a:lnTo>
                  <a:pt x="106" y="2353"/>
                </a:lnTo>
                <a:lnTo>
                  <a:pt x="124" y="2338"/>
                </a:lnTo>
                <a:lnTo>
                  <a:pt x="124" y="2328"/>
                </a:lnTo>
                <a:lnTo>
                  <a:pt x="134" y="2309"/>
                </a:lnTo>
                <a:lnTo>
                  <a:pt x="145" y="2291"/>
                </a:lnTo>
                <a:lnTo>
                  <a:pt x="157" y="2274"/>
                </a:lnTo>
                <a:lnTo>
                  <a:pt x="170" y="2258"/>
                </a:lnTo>
                <a:lnTo>
                  <a:pt x="182" y="2241"/>
                </a:lnTo>
                <a:lnTo>
                  <a:pt x="198" y="2227"/>
                </a:lnTo>
                <a:lnTo>
                  <a:pt x="211" y="2212"/>
                </a:lnTo>
                <a:lnTo>
                  <a:pt x="227" y="2198"/>
                </a:lnTo>
                <a:lnTo>
                  <a:pt x="238" y="2181"/>
                </a:lnTo>
                <a:lnTo>
                  <a:pt x="254" y="2167"/>
                </a:lnTo>
                <a:lnTo>
                  <a:pt x="267" y="2152"/>
                </a:lnTo>
                <a:lnTo>
                  <a:pt x="283" y="2138"/>
                </a:lnTo>
                <a:lnTo>
                  <a:pt x="296" y="2123"/>
                </a:lnTo>
                <a:lnTo>
                  <a:pt x="312" y="2109"/>
                </a:lnTo>
                <a:lnTo>
                  <a:pt x="326" y="2094"/>
                </a:lnTo>
                <a:lnTo>
                  <a:pt x="341" y="2080"/>
                </a:lnTo>
                <a:lnTo>
                  <a:pt x="353" y="2066"/>
                </a:lnTo>
                <a:lnTo>
                  <a:pt x="366" y="2053"/>
                </a:lnTo>
                <a:lnTo>
                  <a:pt x="380" y="2039"/>
                </a:lnTo>
                <a:lnTo>
                  <a:pt x="395" y="2028"/>
                </a:lnTo>
                <a:lnTo>
                  <a:pt x="409" y="2014"/>
                </a:lnTo>
                <a:lnTo>
                  <a:pt x="424" y="2001"/>
                </a:lnTo>
                <a:lnTo>
                  <a:pt x="438" y="1989"/>
                </a:lnTo>
                <a:lnTo>
                  <a:pt x="454" y="1977"/>
                </a:lnTo>
                <a:lnTo>
                  <a:pt x="465" y="1964"/>
                </a:lnTo>
                <a:lnTo>
                  <a:pt x="481" y="1950"/>
                </a:lnTo>
                <a:lnTo>
                  <a:pt x="492" y="1939"/>
                </a:lnTo>
                <a:lnTo>
                  <a:pt x="508" y="1927"/>
                </a:lnTo>
                <a:lnTo>
                  <a:pt x="521" y="1913"/>
                </a:lnTo>
                <a:lnTo>
                  <a:pt x="535" y="1902"/>
                </a:lnTo>
                <a:lnTo>
                  <a:pt x="549" y="1892"/>
                </a:lnTo>
                <a:lnTo>
                  <a:pt x="562" y="1882"/>
                </a:lnTo>
                <a:lnTo>
                  <a:pt x="572" y="1871"/>
                </a:lnTo>
                <a:lnTo>
                  <a:pt x="584" y="1859"/>
                </a:lnTo>
                <a:lnTo>
                  <a:pt x="591" y="1847"/>
                </a:lnTo>
                <a:lnTo>
                  <a:pt x="601" y="1836"/>
                </a:lnTo>
                <a:lnTo>
                  <a:pt x="607" y="1822"/>
                </a:lnTo>
                <a:lnTo>
                  <a:pt x="613" y="1811"/>
                </a:lnTo>
                <a:lnTo>
                  <a:pt x="618" y="1797"/>
                </a:lnTo>
                <a:lnTo>
                  <a:pt x="626" y="1785"/>
                </a:lnTo>
                <a:lnTo>
                  <a:pt x="630" y="1770"/>
                </a:lnTo>
                <a:lnTo>
                  <a:pt x="634" y="1758"/>
                </a:lnTo>
                <a:lnTo>
                  <a:pt x="638" y="1743"/>
                </a:lnTo>
                <a:lnTo>
                  <a:pt x="644" y="1731"/>
                </a:lnTo>
                <a:lnTo>
                  <a:pt x="649" y="1717"/>
                </a:lnTo>
                <a:lnTo>
                  <a:pt x="655" y="1704"/>
                </a:lnTo>
                <a:lnTo>
                  <a:pt x="661" y="1690"/>
                </a:lnTo>
                <a:lnTo>
                  <a:pt x="669" y="1679"/>
                </a:lnTo>
                <a:lnTo>
                  <a:pt x="675" y="1669"/>
                </a:lnTo>
                <a:lnTo>
                  <a:pt x="688" y="1663"/>
                </a:lnTo>
                <a:lnTo>
                  <a:pt x="700" y="1661"/>
                </a:lnTo>
                <a:lnTo>
                  <a:pt x="715" y="1659"/>
                </a:lnTo>
                <a:lnTo>
                  <a:pt x="721" y="1640"/>
                </a:lnTo>
                <a:lnTo>
                  <a:pt x="727" y="1621"/>
                </a:lnTo>
                <a:lnTo>
                  <a:pt x="729" y="1601"/>
                </a:lnTo>
                <a:lnTo>
                  <a:pt x="733" y="1584"/>
                </a:lnTo>
                <a:lnTo>
                  <a:pt x="733" y="1562"/>
                </a:lnTo>
                <a:lnTo>
                  <a:pt x="735" y="1545"/>
                </a:lnTo>
                <a:lnTo>
                  <a:pt x="735" y="1524"/>
                </a:lnTo>
                <a:lnTo>
                  <a:pt x="735" y="1506"/>
                </a:lnTo>
                <a:lnTo>
                  <a:pt x="731" y="1485"/>
                </a:lnTo>
                <a:lnTo>
                  <a:pt x="729" y="1465"/>
                </a:lnTo>
                <a:lnTo>
                  <a:pt x="723" y="1448"/>
                </a:lnTo>
                <a:lnTo>
                  <a:pt x="719" y="1430"/>
                </a:lnTo>
                <a:lnTo>
                  <a:pt x="712" y="1413"/>
                </a:lnTo>
                <a:lnTo>
                  <a:pt x="704" y="1396"/>
                </a:lnTo>
                <a:lnTo>
                  <a:pt x="696" y="1378"/>
                </a:lnTo>
                <a:lnTo>
                  <a:pt x="688" y="1365"/>
                </a:lnTo>
                <a:lnTo>
                  <a:pt x="673" y="1357"/>
                </a:lnTo>
                <a:lnTo>
                  <a:pt x="663" y="1349"/>
                </a:lnTo>
                <a:lnTo>
                  <a:pt x="655" y="1339"/>
                </a:lnTo>
                <a:lnTo>
                  <a:pt x="649" y="1330"/>
                </a:lnTo>
                <a:lnTo>
                  <a:pt x="644" y="1316"/>
                </a:lnTo>
                <a:lnTo>
                  <a:pt x="640" y="1304"/>
                </a:lnTo>
                <a:lnTo>
                  <a:pt x="634" y="1293"/>
                </a:lnTo>
                <a:lnTo>
                  <a:pt x="628" y="1285"/>
                </a:lnTo>
                <a:lnTo>
                  <a:pt x="622" y="1291"/>
                </a:lnTo>
                <a:lnTo>
                  <a:pt x="611" y="1281"/>
                </a:lnTo>
                <a:lnTo>
                  <a:pt x="603" y="1271"/>
                </a:lnTo>
                <a:lnTo>
                  <a:pt x="595" y="1260"/>
                </a:lnTo>
                <a:lnTo>
                  <a:pt x="589" y="1250"/>
                </a:lnTo>
                <a:lnTo>
                  <a:pt x="574" y="1229"/>
                </a:lnTo>
                <a:lnTo>
                  <a:pt x="560" y="1211"/>
                </a:lnTo>
                <a:lnTo>
                  <a:pt x="545" y="1194"/>
                </a:lnTo>
                <a:lnTo>
                  <a:pt x="537" y="1175"/>
                </a:lnTo>
                <a:lnTo>
                  <a:pt x="527" y="1155"/>
                </a:lnTo>
                <a:lnTo>
                  <a:pt x="518" y="1138"/>
                </a:lnTo>
                <a:lnTo>
                  <a:pt x="512" y="1140"/>
                </a:lnTo>
                <a:lnTo>
                  <a:pt x="506" y="1140"/>
                </a:lnTo>
                <a:lnTo>
                  <a:pt x="498" y="1130"/>
                </a:lnTo>
                <a:lnTo>
                  <a:pt x="492" y="1120"/>
                </a:lnTo>
                <a:lnTo>
                  <a:pt x="488" y="1109"/>
                </a:lnTo>
                <a:lnTo>
                  <a:pt x="485" y="1099"/>
                </a:lnTo>
                <a:lnTo>
                  <a:pt x="477" y="1078"/>
                </a:lnTo>
                <a:lnTo>
                  <a:pt x="469" y="1060"/>
                </a:lnTo>
                <a:lnTo>
                  <a:pt x="463" y="1058"/>
                </a:lnTo>
                <a:lnTo>
                  <a:pt x="461" y="1062"/>
                </a:lnTo>
                <a:lnTo>
                  <a:pt x="454" y="1050"/>
                </a:lnTo>
                <a:lnTo>
                  <a:pt x="448" y="1039"/>
                </a:lnTo>
                <a:lnTo>
                  <a:pt x="442" y="1027"/>
                </a:lnTo>
                <a:lnTo>
                  <a:pt x="440" y="1016"/>
                </a:lnTo>
                <a:lnTo>
                  <a:pt x="434" y="1004"/>
                </a:lnTo>
                <a:lnTo>
                  <a:pt x="430" y="992"/>
                </a:lnTo>
                <a:lnTo>
                  <a:pt x="423" y="983"/>
                </a:lnTo>
                <a:lnTo>
                  <a:pt x="415" y="977"/>
                </a:lnTo>
                <a:lnTo>
                  <a:pt x="411" y="963"/>
                </a:lnTo>
                <a:lnTo>
                  <a:pt x="409" y="952"/>
                </a:lnTo>
                <a:lnTo>
                  <a:pt x="405" y="940"/>
                </a:lnTo>
                <a:lnTo>
                  <a:pt x="401" y="930"/>
                </a:lnTo>
                <a:lnTo>
                  <a:pt x="395" y="919"/>
                </a:lnTo>
                <a:lnTo>
                  <a:pt x="392" y="907"/>
                </a:lnTo>
                <a:lnTo>
                  <a:pt x="388" y="897"/>
                </a:lnTo>
                <a:lnTo>
                  <a:pt x="384" y="888"/>
                </a:lnTo>
                <a:lnTo>
                  <a:pt x="378" y="876"/>
                </a:lnTo>
                <a:lnTo>
                  <a:pt x="374" y="866"/>
                </a:lnTo>
                <a:lnTo>
                  <a:pt x="370" y="855"/>
                </a:lnTo>
                <a:lnTo>
                  <a:pt x="366" y="845"/>
                </a:lnTo>
                <a:lnTo>
                  <a:pt x="362" y="833"/>
                </a:lnTo>
                <a:lnTo>
                  <a:pt x="360" y="822"/>
                </a:lnTo>
                <a:lnTo>
                  <a:pt x="360" y="810"/>
                </a:lnTo>
                <a:lnTo>
                  <a:pt x="362" y="798"/>
                </a:lnTo>
                <a:lnTo>
                  <a:pt x="349" y="798"/>
                </a:lnTo>
                <a:lnTo>
                  <a:pt x="343" y="787"/>
                </a:lnTo>
                <a:lnTo>
                  <a:pt x="341" y="775"/>
                </a:lnTo>
                <a:lnTo>
                  <a:pt x="341" y="762"/>
                </a:lnTo>
                <a:lnTo>
                  <a:pt x="341" y="750"/>
                </a:lnTo>
                <a:lnTo>
                  <a:pt x="341" y="736"/>
                </a:lnTo>
                <a:lnTo>
                  <a:pt x="341" y="725"/>
                </a:lnTo>
                <a:lnTo>
                  <a:pt x="337" y="713"/>
                </a:lnTo>
                <a:lnTo>
                  <a:pt x="333" y="703"/>
                </a:lnTo>
                <a:lnTo>
                  <a:pt x="337" y="585"/>
                </a:lnTo>
                <a:lnTo>
                  <a:pt x="337" y="570"/>
                </a:lnTo>
                <a:lnTo>
                  <a:pt x="339" y="556"/>
                </a:lnTo>
                <a:lnTo>
                  <a:pt x="341" y="542"/>
                </a:lnTo>
                <a:lnTo>
                  <a:pt x="345" y="529"/>
                </a:lnTo>
                <a:lnTo>
                  <a:pt x="347" y="513"/>
                </a:lnTo>
                <a:lnTo>
                  <a:pt x="353" y="502"/>
                </a:lnTo>
                <a:lnTo>
                  <a:pt x="355" y="486"/>
                </a:lnTo>
                <a:lnTo>
                  <a:pt x="360" y="475"/>
                </a:lnTo>
                <a:lnTo>
                  <a:pt x="362" y="457"/>
                </a:lnTo>
                <a:lnTo>
                  <a:pt x="368" y="445"/>
                </a:lnTo>
                <a:lnTo>
                  <a:pt x="374" y="432"/>
                </a:lnTo>
                <a:lnTo>
                  <a:pt x="384" y="420"/>
                </a:lnTo>
                <a:lnTo>
                  <a:pt x="392" y="407"/>
                </a:lnTo>
                <a:lnTo>
                  <a:pt x="399" y="395"/>
                </a:lnTo>
                <a:lnTo>
                  <a:pt x="407" y="381"/>
                </a:lnTo>
                <a:lnTo>
                  <a:pt x="415" y="370"/>
                </a:lnTo>
                <a:lnTo>
                  <a:pt x="419" y="358"/>
                </a:lnTo>
                <a:lnTo>
                  <a:pt x="426" y="349"/>
                </a:lnTo>
                <a:lnTo>
                  <a:pt x="434" y="341"/>
                </a:lnTo>
                <a:lnTo>
                  <a:pt x="444" y="335"/>
                </a:lnTo>
                <a:lnTo>
                  <a:pt x="461" y="319"/>
                </a:lnTo>
                <a:lnTo>
                  <a:pt x="475" y="304"/>
                </a:lnTo>
                <a:lnTo>
                  <a:pt x="473" y="294"/>
                </a:lnTo>
                <a:lnTo>
                  <a:pt x="471" y="285"/>
                </a:lnTo>
                <a:lnTo>
                  <a:pt x="488" y="271"/>
                </a:lnTo>
                <a:lnTo>
                  <a:pt x="506" y="259"/>
                </a:lnTo>
                <a:lnTo>
                  <a:pt x="523" y="246"/>
                </a:lnTo>
                <a:lnTo>
                  <a:pt x="541" y="234"/>
                </a:lnTo>
                <a:lnTo>
                  <a:pt x="541" y="222"/>
                </a:lnTo>
                <a:lnTo>
                  <a:pt x="630" y="188"/>
                </a:lnTo>
                <a:lnTo>
                  <a:pt x="636" y="170"/>
                </a:lnTo>
                <a:lnTo>
                  <a:pt x="648" y="157"/>
                </a:lnTo>
                <a:lnTo>
                  <a:pt x="657" y="141"/>
                </a:lnTo>
                <a:lnTo>
                  <a:pt x="671" y="129"/>
                </a:lnTo>
                <a:lnTo>
                  <a:pt x="682" y="116"/>
                </a:lnTo>
                <a:lnTo>
                  <a:pt x="698" y="106"/>
                </a:lnTo>
                <a:lnTo>
                  <a:pt x="715" y="96"/>
                </a:lnTo>
                <a:lnTo>
                  <a:pt x="733" y="93"/>
                </a:lnTo>
                <a:lnTo>
                  <a:pt x="744" y="87"/>
                </a:lnTo>
                <a:lnTo>
                  <a:pt x="756" y="81"/>
                </a:lnTo>
                <a:lnTo>
                  <a:pt x="768" y="73"/>
                </a:lnTo>
                <a:lnTo>
                  <a:pt x="781" y="65"/>
                </a:lnTo>
                <a:lnTo>
                  <a:pt x="793" y="58"/>
                </a:lnTo>
                <a:lnTo>
                  <a:pt x="808" y="52"/>
                </a:lnTo>
                <a:lnTo>
                  <a:pt x="822" y="46"/>
                </a:lnTo>
                <a:lnTo>
                  <a:pt x="838" y="46"/>
                </a:lnTo>
                <a:lnTo>
                  <a:pt x="849" y="44"/>
                </a:lnTo>
                <a:lnTo>
                  <a:pt x="863" y="42"/>
                </a:lnTo>
                <a:lnTo>
                  <a:pt x="874" y="40"/>
                </a:lnTo>
                <a:lnTo>
                  <a:pt x="888" y="40"/>
                </a:lnTo>
                <a:lnTo>
                  <a:pt x="902" y="32"/>
                </a:lnTo>
                <a:lnTo>
                  <a:pt x="917" y="27"/>
                </a:lnTo>
                <a:lnTo>
                  <a:pt x="931" y="21"/>
                </a:lnTo>
                <a:lnTo>
                  <a:pt x="950" y="21"/>
                </a:lnTo>
                <a:lnTo>
                  <a:pt x="960" y="19"/>
                </a:lnTo>
                <a:lnTo>
                  <a:pt x="969" y="17"/>
                </a:lnTo>
                <a:lnTo>
                  <a:pt x="981" y="15"/>
                </a:lnTo>
                <a:lnTo>
                  <a:pt x="993" y="15"/>
                </a:lnTo>
                <a:lnTo>
                  <a:pt x="1002" y="11"/>
                </a:lnTo>
                <a:lnTo>
                  <a:pt x="1012" y="9"/>
                </a:lnTo>
                <a:lnTo>
                  <a:pt x="1024" y="5"/>
                </a:lnTo>
                <a:lnTo>
                  <a:pt x="1035" y="5"/>
                </a:lnTo>
                <a:lnTo>
                  <a:pt x="1045" y="1"/>
                </a:lnTo>
                <a:lnTo>
                  <a:pt x="1057" y="0"/>
                </a:lnTo>
                <a:lnTo>
                  <a:pt x="1066" y="0"/>
                </a:lnTo>
                <a:lnTo>
                  <a:pt x="1078" y="0"/>
                </a:lnTo>
                <a:lnTo>
                  <a:pt x="1090" y="0"/>
                </a:lnTo>
                <a:lnTo>
                  <a:pt x="1101" y="0"/>
                </a:lnTo>
                <a:lnTo>
                  <a:pt x="1113" y="1"/>
                </a:lnTo>
                <a:lnTo>
                  <a:pt x="1127"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14" name=""/>
          <p:cNvSpPr/>
          <p:nvPr/>
        </p:nvSpPr>
        <p:spPr>
          <a:xfrm>
            <a:off x="2563920" y="2535120"/>
            <a:ext cx="1139760" cy="1094040"/>
          </a:xfrm>
          <a:custGeom>
            <a:avLst/>
            <a:gdLst/>
            <a:ahLst/>
            <a:rect l="l" t="t" r="r" b="b"/>
            <a:pathLst>
              <a:path w="1437" h="1379">
                <a:moveTo>
                  <a:pt x="809" y="12"/>
                </a:moveTo>
                <a:lnTo>
                  <a:pt x="824" y="6"/>
                </a:lnTo>
                <a:lnTo>
                  <a:pt x="846" y="6"/>
                </a:lnTo>
                <a:lnTo>
                  <a:pt x="851" y="4"/>
                </a:lnTo>
                <a:lnTo>
                  <a:pt x="863" y="4"/>
                </a:lnTo>
                <a:lnTo>
                  <a:pt x="871" y="4"/>
                </a:lnTo>
                <a:lnTo>
                  <a:pt x="881" y="12"/>
                </a:lnTo>
                <a:lnTo>
                  <a:pt x="879" y="22"/>
                </a:lnTo>
                <a:lnTo>
                  <a:pt x="888" y="31"/>
                </a:lnTo>
                <a:lnTo>
                  <a:pt x="902" y="29"/>
                </a:lnTo>
                <a:lnTo>
                  <a:pt x="917" y="29"/>
                </a:lnTo>
                <a:lnTo>
                  <a:pt x="931" y="29"/>
                </a:lnTo>
                <a:lnTo>
                  <a:pt x="947" y="31"/>
                </a:lnTo>
                <a:lnTo>
                  <a:pt x="960" y="31"/>
                </a:lnTo>
                <a:lnTo>
                  <a:pt x="976" y="33"/>
                </a:lnTo>
                <a:lnTo>
                  <a:pt x="991" y="35"/>
                </a:lnTo>
                <a:lnTo>
                  <a:pt x="1009" y="41"/>
                </a:lnTo>
                <a:lnTo>
                  <a:pt x="1024" y="56"/>
                </a:lnTo>
                <a:lnTo>
                  <a:pt x="1045" y="68"/>
                </a:lnTo>
                <a:lnTo>
                  <a:pt x="1057" y="72"/>
                </a:lnTo>
                <a:lnTo>
                  <a:pt x="1069" y="76"/>
                </a:lnTo>
                <a:lnTo>
                  <a:pt x="1080" y="80"/>
                </a:lnTo>
                <a:lnTo>
                  <a:pt x="1092" y="84"/>
                </a:lnTo>
                <a:lnTo>
                  <a:pt x="1104" y="86"/>
                </a:lnTo>
                <a:lnTo>
                  <a:pt x="1115" y="89"/>
                </a:lnTo>
                <a:lnTo>
                  <a:pt x="1127" y="93"/>
                </a:lnTo>
                <a:lnTo>
                  <a:pt x="1138" y="99"/>
                </a:lnTo>
                <a:lnTo>
                  <a:pt x="1158" y="111"/>
                </a:lnTo>
                <a:lnTo>
                  <a:pt x="1177" y="128"/>
                </a:lnTo>
                <a:lnTo>
                  <a:pt x="1191" y="134"/>
                </a:lnTo>
                <a:lnTo>
                  <a:pt x="1204" y="142"/>
                </a:lnTo>
                <a:lnTo>
                  <a:pt x="1218" y="148"/>
                </a:lnTo>
                <a:lnTo>
                  <a:pt x="1234" y="157"/>
                </a:lnTo>
                <a:lnTo>
                  <a:pt x="1245" y="165"/>
                </a:lnTo>
                <a:lnTo>
                  <a:pt x="1257" y="177"/>
                </a:lnTo>
                <a:lnTo>
                  <a:pt x="1266" y="188"/>
                </a:lnTo>
                <a:lnTo>
                  <a:pt x="1278" y="206"/>
                </a:lnTo>
                <a:lnTo>
                  <a:pt x="1288" y="210"/>
                </a:lnTo>
                <a:lnTo>
                  <a:pt x="1298" y="215"/>
                </a:lnTo>
                <a:lnTo>
                  <a:pt x="1309" y="221"/>
                </a:lnTo>
                <a:lnTo>
                  <a:pt x="1321" y="229"/>
                </a:lnTo>
                <a:lnTo>
                  <a:pt x="1330" y="235"/>
                </a:lnTo>
                <a:lnTo>
                  <a:pt x="1340" y="243"/>
                </a:lnTo>
                <a:lnTo>
                  <a:pt x="1352" y="250"/>
                </a:lnTo>
                <a:lnTo>
                  <a:pt x="1363" y="258"/>
                </a:lnTo>
                <a:lnTo>
                  <a:pt x="1363" y="270"/>
                </a:lnTo>
                <a:lnTo>
                  <a:pt x="1348" y="260"/>
                </a:lnTo>
                <a:lnTo>
                  <a:pt x="1332" y="254"/>
                </a:lnTo>
                <a:lnTo>
                  <a:pt x="1317" y="252"/>
                </a:lnTo>
                <a:lnTo>
                  <a:pt x="1303" y="256"/>
                </a:lnTo>
                <a:lnTo>
                  <a:pt x="1309" y="268"/>
                </a:lnTo>
                <a:lnTo>
                  <a:pt x="1317" y="279"/>
                </a:lnTo>
                <a:lnTo>
                  <a:pt x="1327" y="289"/>
                </a:lnTo>
                <a:lnTo>
                  <a:pt x="1338" y="299"/>
                </a:lnTo>
                <a:lnTo>
                  <a:pt x="1348" y="307"/>
                </a:lnTo>
                <a:lnTo>
                  <a:pt x="1360" y="318"/>
                </a:lnTo>
                <a:lnTo>
                  <a:pt x="1369" y="328"/>
                </a:lnTo>
                <a:lnTo>
                  <a:pt x="1381" y="340"/>
                </a:lnTo>
                <a:lnTo>
                  <a:pt x="1393" y="347"/>
                </a:lnTo>
                <a:lnTo>
                  <a:pt x="1402" y="361"/>
                </a:lnTo>
                <a:lnTo>
                  <a:pt x="1408" y="372"/>
                </a:lnTo>
                <a:lnTo>
                  <a:pt x="1414" y="388"/>
                </a:lnTo>
                <a:lnTo>
                  <a:pt x="1416" y="402"/>
                </a:lnTo>
                <a:lnTo>
                  <a:pt x="1422" y="415"/>
                </a:lnTo>
                <a:lnTo>
                  <a:pt x="1427" y="429"/>
                </a:lnTo>
                <a:lnTo>
                  <a:pt x="1437" y="444"/>
                </a:lnTo>
                <a:lnTo>
                  <a:pt x="1426" y="433"/>
                </a:lnTo>
                <a:lnTo>
                  <a:pt x="1414" y="421"/>
                </a:lnTo>
                <a:lnTo>
                  <a:pt x="1400" y="409"/>
                </a:lnTo>
                <a:lnTo>
                  <a:pt x="1389" y="400"/>
                </a:lnTo>
                <a:lnTo>
                  <a:pt x="1373" y="388"/>
                </a:lnTo>
                <a:lnTo>
                  <a:pt x="1360" y="378"/>
                </a:lnTo>
                <a:lnTo>
                  <a:pt x="1344" y="371"/>
                </a:lnTo>
                <a:lnTo>
                  <a:pt x="1330" y="365"/>
                </a:lnTo>
                <a:lnTo>
                  <a:pt x="1329" y="390"/>
                </a:lnTo>
                <a:lnTo>
                  <a:pt x="1317" y="378"/>
                </a:lnTo>
                <a:lnTo>
                  <a:pt x="1307" y="371"/>
                </a:lnTo>
                <a:lnTo>
                  <a:pt x="1296" y="363"/>
                </a:lnTo>
                <a:lnTo>
                  <a:pt x="1286" y="357"/>
                </a:lnTo>
                <a:lnTo>
                  <a:pt x="1274" y="351"/>
                </a:lnTo>
                <a:lnTo>
                  <a:pt x="1263" y="345"/>
                </a:lnTo>
                <a:lnTo>
                  <a:pt x="1251" y="341"/>
                </a:lnTo>
                <a:lnTo>
                  <a:pt x="1239" y="340"/>
                </a:lnTo>
                <a:lnTo>
                  <a:pt x="1235" y="351"/>
                </a:lnTo>
                <a:lnTo>
                  <a:pt x="1243" y="361"/>
                </a:lnTo>
                <a:lnTo>
                  <a:pt x="1251" y="371"/>
                </a:lnTo>
                <a:lnTo>
                  <a:pt x="1253" y="386"/>
                </a:lnTo>
                <a:lnTo>
                  <a:pt x="1237" y="380"/>
                </a:lnTo>
                <a:lnTo>
                  <a:pt x="1222" y="374"/>
                </a:lnTo>
                <a:lnTo>
                  <a:pt x="1206" y="371"/>
                </a:lnTo>
                <a:lnTo>
                  <a:pt x="1193" y="369"/>
                </a:lnTo>
                <a:lnTo>
                  <a:pt x="1177" y="365"/>
                </a:lnTo>
                <a:lnTo>
                  <a:pt x="1162" y="363"/>
                </a:lnTo>
                <a:lnTo>
                  <a:pt x="1146" y="363"/>
                </a:lnTo>
                <a:lnTo>
                  <a:pt x="1133" y="363"/>
                </a:lnTo>
                <a:lnTo>
                  <a:pt x="1115" y="361"/>
                </a:lnTo>
                <a:lnTo>
                  <a:pt x="1102" y="359"/>
                </a:lnTo>
                <a:lnTo>
                  <a:pt x="1084" y="357"/>
                </a:lnTo>
                <a:lnTo>
                  <a:pt x="1071" y="357"/>
                </a:lnTo>
                <a:lnTo>
                  <a:pt x="1053" y="355"/>
                </a:lnTo>
                <a:lnTo>
                  <a:pt x="1040" y="353"/>
                </a:lnTo>
                <a:lnTo>
                  <a:pt x="1022" y="351"/>
                </a:lnTo>
                <a:lnTo>
                  <a:pt x="1009" y="351"/>
                </a:lnTo>
                <a:lnTo>
                  <a:pt x="997" y="361"/>
                </a:lnTo>
                <a:lnTo>
                  <a:pt x="1003" y="371"/>
                </a:lnTo>
                <a:lnTo>
                  <a:pt x="1009" y="380"/>
                </a:lnTo>
                <a:lnTo>
                  <a:pt x="993" y="374"/>
                </a:lnTo>
                <a:lnTo>
                  <a:pt x="979" y="371"/>
                </a:lnTo>
                <a:lnTo>
                  <a:pt x="964" y="367"/>
                </a:lnTo>
                <a:lnTo>
                  <a:pt x="950" y="363"/>
                </a:lnTo>
                <a:lnTo>
                  <a:pt x="935" y="359"/>
                </a:lnTo>
                <a:lnTo>
                  <a:pt x="921" y="355"/>
                </a:lnTo>
                <a:lnTo>
                  <a:pt x="906" y="351"/>
                </a:lnTo>
                <a:lnTo>
                  <a:pt x="892" y="351"/>
                </a:lnTo>
                <a:lnTo>
                  <a:pt x="902" y="371"/>
                </a:lnTo>
                <a:lnTo>
                  <a:pt x="914" y="390"/>
                </a:lnTo>
                <a:lnTo>
                  <a:pt x="919" y="398"/>
                </a:lnTo>
                <a:lnTo>
                  <a:pt x="925" y="407"/>
                </a:lnTo>
                <a:lnTo>
                  <a:pt x="931" y="419"/>
                </a:lnTo>
                <a:lnTo>
                  <a:pt x="939" y="431"/>
                </a:lnTo>
                <a:lnTo>
                  <a:pt x="919" y="415"/>
                </a:lnTo>
                <a:lnTo>
                  <a:pt x="902" y="404"/>
                </a:lnTo>
                <a:lnTo>
                  <a:pt x="883" y="394"/>
                </a:lnTo>
                <a:lnTo>
                  <a:pt x="865" y="388"/>
                </a:lnTo>
                <a:lnTo>
                  <a:pt x="844" y="380"/>
                </a:lnTo>
                <a:lnTo>
                  <a:pt x="824" y="374"/>
                </a:lnTo>
                <a:lnTo>
                  <a:pt x="805" y="367"/>
                </a:lnTo>
                <a:lnTo>
                  <a:pt x="786" y="361"/>
                </a:lnTo>
                <a:lnTo>
                  <a:pt x="784" y="372"/>
                </a:lnTo>
                <a:lnTo>
                  <a:pt x="793" y="380"/>
                </a:lnTo>
                <a:lnTo>
                  <a:pt x="805" y="388"/>
                </a:lnTo>
                <a:lnTo>
                  <a:pt x="815" y="398"/>
                </a:lnTo>
                <a:lnTo>
                  <a:pt x="815" y="409"/>
                </a:lnTo>
                <a:lnTo>
                  <a:pt x="807" y="421"/>
                </a:lnTo>
                <a:lnTo>
                  <a:pt x="795" y="429"/>
                </a:lnTo>
                <a:lnTo>
                  <a:pt x="784" y="436"/>
                </a:lnTo>
                <a:lnTo>
                  <a:pt x="772" y="438"/>
                </a:lnTo>
                <a:lnTo>
                  <a:pt x="760" y="440"/>
                </a:lnTo>
                <a:lnTo>
                  <a:pt x="749" y="444"/>
                </a:lnTo>
                <a:lnTo>
                  <a:pt x="745" y="454"/>
                </a:lnTo>
                <a:lnTo>
                  <a:pt x="755" y="454"/>
                </a:lnTo>
                <a:lnTo>
                  <a:pt x="764" y="456"/>
                </a:lnTo>
                <a:lnTo>
                  <a:pt x="776" y="456"/>
                </a:lnTo>
                <a:lnTo>
                  <a:pt x="787" y="456"/>
                </a:lnTo>
                <a:lnTo>
                  <a:pt x="799" y="452"/>
                </a:lnTo>
                <a:lnTo>
                  <a:pt x="811" y="452"/>
                </a:lnTo>
                <a:lnTo>
                  <a:pt x="822" y="448"/>
                </a:lnTo>
                <a:lnTo>
                  <a:pt x="834" y="448"/>
                </a:lnTo>
                <a:lnTo>
                  <a:pt x="844" y="446"/>
                </a:lnTo>
                <a:lnTo>
                  <a:pt x="855" y="444"/>
                </a:lnTo>
                <a:lnTo>
                  <a:pt x="867" y="444"/>
                </a:lnTo>
                <a:lnTo>
                  <a:pt x="879" y="444"/>
                </a:lnTo>
                <a:lnTo>
                  <a:pt x="890" y="444"/>
                </a:lnTo>
                <a:lnTo>
                  <a:pt x="902" y="446"/>
                </a:lnTo>
                <a:lnTo>
                  <a:pt x="914" y="450"/>
                </a:lnTo>
                <a:lnTo>
                  <a:pt x="925" y="456"/>
                </a:lnTo>
                <a:lnTo>
                  <a:pt x="917" y="473"/>
                </a:lnTo>
                <a:lnTo>
                  <a:pt x="910" y="493"/>
                </a:lnTo>
                <a:lnTo>
                  <a:pt x="900" y="508"/>
                </a:lnTo>
                <a:lnTo>
                  <a:pt x="890" y="524"/>
                </a:lnTo>
                <a:lnTo>
                  <a:pt x="877" y="537"/>
                </a:lnTo>
                <a:lnTo>
                  <a:pt x="863" y="553"/>
                </a:lnTo>
                <a:lnTo>
                  <a:pt x="850" y="566"/>
                </a:lnTo>
                <a:lnTo>
                  <a:pt x="838" y="582"/>
                </a:lnTo>
                <a:lnTo>
                  <a:pt x="822" y="594"/>
                </a:lnTo>
                <a:lnTo>
                  <a:pt x="809" y="609"/>
                </a:lnTo>
                <a:lnTo>
                  <a:pt x="797" y="623"/>
                </a:lnTo>
                <a:lnTo>
                  <a:pt x="787" y="638"/>
                </a:lnTo>
                <a:lnTo>
                  <a:pt x="776" y="654"/>
                </a:lnTo>
                <a:lnTo>
                  <a:pt x="768" y="671"/>
                </a:lnTo>
                <a:lnTo>
                  <a:pt x="764" y="679"/>
                </a:lnTo>
                <a:lnTo>
                  <a:pt x="762" y="689"/>
                </a:lnTo>
                <a:lnTo>
                  <a:pt x="760" y="700"/>
                </a:lnTo>
                <a:lnTo>
                  <a:pt x="760" y="712"/>
                </a:lnTo>
                <a:lnTo>
                  <a:pt x="760" y="725"/>
                </a:lnTo>
                <a:lnTo>
                  <a:pt x="766" y="739"/>
                </a:lnTo>
                <a:lnTo>
                  <a:pt x="782" y="722"/>
                </a:lnTo>
                <a:lnTo>
                  <a:pt x="797" y="706"/>
                </a:lnTo>
                <a:lnTo>
                  <a:pt x="811" y="690"/>
                </a:lnTo>
                <a:lnTo>
                  <a:pt x="828" y="675"/>
                </a:lnTo>
                <a:lnTo>
                  <a:pt x="819" y="689"/>
                </a:lnTo>
                <a:lnTo>
                  <a:pt x="815" y="706"/>
                </a:lnTo>
                <a:lnTo>
                  <a:pt x="809" y="725"/>
                </a:lnTo>
                <a:lnTo>
                  <a:pt x="807" y="745"/>
                </a:lnTo>
                <a:lnTo>
                  <a:pt x="801" y="764"/>
                </a:lnTo>
                <a:lnTo>
                  <a:pt x="799" y="784"/>
                </a:lnTo>
                <a:lnTo>
                  <a:pt x="797" y="803"/>
                </a:lnTo>
                <a:lnTo>
                  <a:pt x="797" y="822"/>
                </a:lnTo>
                <a:lnTo>
                  <a:pt x="786" y="822"/>
                </a:lnTo>
                <a:lnTo>
                  <a:pt x="774" y="824"/>
                </a:lnTo>
                <a:lnTo>
                  <a:pt x="762" y="822"/>
                </a:lnTo>
                <a:lnTo>
                  <a:pt x="753" y="820"/>
                </a:lnTo>
                <a:lnTo>
                  <a:pt x="741" y="817"/>
                </a:lnTo>
                <a:lnTo>
                  <a:pt x="731" y="813"/>
                </a:lnTo>
                <a:lnTo>
                  <a:pt x="720" y="809"/>
                </a:lnTo>
                <a:lnTo>
                  <a:pt x="710" y="807"/>
                </a:lnTo>
                <a:lnTo>
                  <a:pt x="694" y="803"/>
                </a:lnTo>
                <a:lnTo>
                  <a:pt x="679" y="801"/>
                </a:lnTo>
                <a:lnTo>
                  <a:pt x="663" y="801"/>
                </a:lnTo>
                <a:lnTo>
                  <a:pt x="650" y="803"/>
                </a:lnTo>
                <a:lnTo>
                  <a:pt x="634" y="803"/>
                </a:lnTo>
                <a:lnTo>
                  <a:pt x="621" y="809"/>
                </a:lnTo>
                <a:lnTo>
                  <a:pt x="609" y="815"/>
                </a:lnTo>
                <a:lnTo>
                  <a:pt x="599" y="826"/>
                </a:lnTo>
                <a:lnTo>
                  <a:pt x="586" y="842"/>
                </a:lnTo>
                <a:lnTo>
                  <a:pt x="576" y="859"/>
                </a:lnTo>
                <a:lnTo>
                  <a:pt x="568" y="879"/>
                </a:lnTo>
                <a:lnTo>
                  <a:pt x="564" y="900"/>
                </a:lnTo>
                <a:lnTo>
                  <a:pt x="563" y="910"/>
                </a:lnTo>
                <a:lnTo>
                  <a:pt x="563" y="921"/>
                </a:lnTo>
                <a:lnTo>
                  <a:pt x="563" y="931"/>
                </a:lnTo>
                <a:lnTo>
                  <a:pt x="564" y="943"/>
                </a:lnTo>
                <a:lnTo>
                  <a:pt x="568" y="962"/>
                </a:lnTo>
                <a:lnTo>
                  <a:pt x="580" y="981"/>
                </a:lnTo>
                <a:lnTo>
                  <a:pt x="590" y="1001"/>
                </a:lnTo>
                <a:lnTo>
                  <a:pt x="599" y="1022"/>
                </a:lnTo>
                <a:lnTo>
                  <a:pt x="607" y="1041"/>
                </a:lnTo>
                <a:lnTo>
                  <a:pt x="615" y="1063"/>
                </a:lnTo>
                <a:lnTo>
                  <a:pt x="619" y="1082"/>
                </a:lnTo>
                <a:lnTo>
                  <a:pt x="627" y="1103"/>
                </a:lnTo>
                <a:lnTo>
                  <a:pt x="628" y="1113"/>
                </a:lnTo>
                <a:lnTo>
                  <a:pt x="632" y="1125"/>
                </a:lnTo>
                <a:lnTo>
                  <a:pt x="638" y="1135"/>
                </a:lnTo>
                <a:lnTo>
                  <a:pt x="644" y="1146"/>
                </a:lnTo>
                <a:lnTo>
                  <a:pt x="627" y="1150"/>
                </a:lnTo>
                <a:lnTo>
                  <a:pt x="611" y="1160"/>
                </a:lnTo>
                <a:lnTo>
                  <a:pt x="594" y="1169"/>
                </a:lnTo>
                <a:lnTo>
                  <a:pt x="580" y="1185"/>
                </a:lnTo>
                <a:lnTo>
                  <a:pt x="564" y="1199"/>
                </a:lnTo>
                <a:lnTo>
                  <a:pt x="555" y="1216"/>
                </a:lnTo>
                <a:lnTo>
                  <a:pt x="547" y="1233"/>
                </a:lnTo>
                <a:lnTo>
                  <a:pt x="543" y="1251"/>
                </a:lnTo>
                <a:lnTo>
                  <a:pt x="537" y="1266"/>
                </a:lnTo>
                <a:lnTo>
                  <a:pt x="526" y="1286"/>
                </a:lnTo>
                <a:lnTo>
                  <a:pt x="508" y="1305"/>
                </a:lnTo>
                <a:lnTo>
                  <a:pt x="491" y="1326"/>
                </a:lnTo>
                <a:lnTo>
                  <a:pt x="471" y="1342"/>
                </a:lnTo>
                <a:lnTo>
                  <a:pt x="456" y="1359"/>
                </a:lnTo>
                <a:lnTo>
                  <a:pt x="446" y="1371"/>
                </a:lnTo>
                <a:lnTo>
                  <a:pt x="442" y="1379"/>
                </a:lnTo>
                <a:lnTo>
                  <a:pt x="436" y="1371"/>
                </a:lnTo>
                <a:lnTo>
                  <a:pt x="431" y="1363"/>
                </a:lnTo>
                <a:lnTo>
                  <a:pt x="425" y="1359"/>
                </a:lnTo>
                <a:lnTo>
                  <a:pt x="419" y="1367"/>
                </a:lnTo>
                <a:lnTo>
                  <a:pt x="413" y="1359"/>
                </a:lnTo>
                <a:lnTo>
                  <a:pt x="407" y="1348"/>
                </a:lnTo>
                <a:lnTo>
                  <a:pt x="396" y="1330"/>
                </a:lnTo>
                <a:lnTo>
                  <a:pt x="384" y="1311"/>
                </a:lnTo>
                <a:lnTo>
                  <a:pt x="376" y="1299"/>
                </a:lnTo>
                <a:lnTo>
                  <a:pt x="369" y="1288"/>
                </a:lnTo>
                <a:lnTo>
                  <a:pt x="361" y="1276"/>
                </a:lnTo>
                <a:lnTo>
                  <a:pt x="355" y="1264"/>
                </a:lnTo>
                <a:lnTo>
                  <a:pt x="345" y="1251"/>
                </a:lnTo>
                <a:lnTo>
                  <a:pt x="338" y="1239"/>
                </a:lnTo>
                <a:lnTo>
                  <a:pt x="330" y="1226"/>
                </a:lnTo>
                <a:lnTo>
                  <a:pt x="322" y="1214"/>
                </a:lnTo>
                <a:lnTo>
                  <a:pt x="312" y="1199"/>
                </a:lnTo>
                <a:lnTo>
                  <a:pt x="303" y="1185"/>
                </a:lnTo>
                <a:lnTo>
                  <a:pt x="293" y="1171"/>
                </a:lnTo>
                <a:lnTo>
                  <a:pt x="285" y="1160"/>
                </a:lnTo>
                <a:lnTo>
                  <a:pt x="275" y="1148"/>
                </a:lnTo>
                <a:lnTo>
                  <a:pt x="268" y="1136"/>
                </a:lnTo>
                <a:lnTo>
                  <a:pt x="260" y="1125"/>
                </a:lnTo>
                <a:lnTo>
                  <a:pt x="254" y="1115"/>
                </a:lnTo>
                <a:lnTo>
                  <a:pt x="239" y="1096"/>
                </a:lnTo>
                <a:lnTo>
                  <a:pt x="229" y="1082"/>
                </a:lnTo>
                <a:lnTo>
                  <a:pt x="219" y="1071"/>
                </a:lnTo>
                <a:lnTo>
                  <a:pt x="215" y="1067"/>
                </a:lnTo>
                <a:lnTo>
                  <a:pt x="210" y="1078"/>
                </a:lnTo>
                <a:lnTo>
                  <a:pt x="211" y="1090"/>
                </a:lnTo>
                <a:lnTo>
                  <a:pt x="202" y="1074"/>
                </a:lnTo>
                <a:lnTo>
                  <a:pt x="192" y="1061"/>
                </a:lnTo>
                <a:lnTo>
                  <a:pt x="182" y="1047"/>
                </a:lnTo>
                <a:lnTo>
                  <a:pt x="175" y="1036"/>
                </a:lnTo>
                <a:lnTo>
                  <a:pt x="163" y="1022"/>
                </a:lnTo>
                <a:lnTo>
                  <a:pt x="153" y="1010"/>
                </a:lnTo>
                <a:lnTo>
                  <a:pt x="142" y="999"/>
                </a:lnTo>
                <a:lnTo>
                  <a:pt x="132" y="987"/>
                </a:lnTo>
                <a:lnTo>
                  <a:pt x="120" y="974"/>
                </a:lnTo>
                <a:lnTo>
                  <a:pt x="111" y="962"/>
                </a:lnTo>
                <a:lnTo>
                  <a:pt x="101" y="950"/>
                </a:lnTo>
                <a:lnTo>
                  <a:pt x="93" y="939"/>
                </a:lnTo>
                <a:lnTo>
                  <a:pt x="83" y="925"/>
                </a:lnTo>
                <a:lnTo>
                  <a:pt x="76" y="912"/>
                </a:lnTo>
                <a:lnTo>
                  <a:pt x="70" y="898"/>
                </a:lnTo>
                <a:lnTo>
                  <a:pt x="66" y="886"/>
                </a:lnTo>
                <a:lnTo>
                  <a:pt x="64" y="879"/>
                </a:lnTo>
                <a:lnTo>
                  <a:pt x="62" y="869"/>
                </a:lnTo>
                <a:lnTo>
                  <a:pt x="58" y="855"/>
                </a:lnTo>
                <a:lnTo>
                  <a:pt x="56" y="842"/>
                </a:lnTo>
                <a:lnTo>
                  <a:pt x="51" y="822"/>
                </a:lnTo>
                <a:lnTo>
                  <a:pt x="47" y="805"/>
                </a:lnTo>
                <a:lnTo>
                  <a:pt x="41" y="786"/>
                </a:lnTo>
                <a:lnTo>
                  <a:pt x="37" y="768"/>
                </a:lnTo>
                <a:lnTo>
                  <a:pt x="29" y="747"/>
                </a:lnTo>
                <a:lnTo>
                  <a:pt x="23" y="727"/>
                </a:lnTo>
                <a:lnTo>
                  <a:pt x="18" y="708"/>
                </a:lnTo>
                <a:lnTo>
                  <a:pt x="14" y="690"/>
                </a:lnTo>
                <a:lnTo>
                  <a:pt x="8" y="673"/>
                </a:lnTo>
                <a:lnTo>
                  <a:pt x="4" y="659"/>
                </a:lnTo>
                <a:lnTo>
                  <a:pt x="0" y="648"/>
                </a:lnTo>
                <a:lnTo>
                  <a:pt x="0" y="642"/>
                </a:lnTo>
                <a:lnTo>
                  <a:pt x="4" y="632"/>
                </a:lnTo>
                <a:lnTo>
                  <a:pt x="10" y="617"/>
                </a:lnTo>
                <a:lnTo>
                  <a:pt x="14" y="607"/>
                </a:lnTo>
                <a:lnTo>
                  <a:pt x="19" y="597"/>
                </a:lnTo>
                <a:lnTo>
                  <a:pt x="25" y="586"/>
                </a:lnTo>
                <a:lnTo>
                  <a:pt x="31" y="574"/>
                </a:lnTo>
                <a:lnTo>
                  <a:pt x="37" y="559"/>
                </a:lnTo>
                <a:lnTo>
                  <a:pt x="43" y="545"/>
                </a:lnTo>
                <a:lnTo>
                  <a:pt x="49" y="531"/>
                </a:lnTo>
                <a:lnTo>
                  <a:pt x="56" y="518"/>
                </a:lnTo>
                <a:lnTo>
                  <a:pt x="62" y="502"/>
                </a:lnTo>
                <a:lnTo>
                  <a:pt x="72" y="487"/>
                </a:lnTo>
                <a:lnTo>
                  <a:pt x="78" y="471"/>
                </a:lnTo>
                <a:lnTo>
                  <a:pt x="87" y="456"/>
                </a:lnTo>
                <a:lnTo>
                  <a:pt x="93" y="438"/>
                </a:lnTo>
                <a:lnTo>
                  <a:pt x="101" y="421"/>
                </a:lnTo>
                <a:lnTo>
                  <a:pt x="107" y="405"/>
                </a:lnTo>
                <a:lnTo>
                  <a:pt x="115" y="390"/>
                </a:lnTo>
                <a:lnTo>
                  <a:pt x="120" y="374"/>
                </a:lnTo>
                <a:lnTo>
                  <a:pt x="126" y="361"/>
                </a:lnTo>
                <a:lnTo>
                  <a:pt x="132" y="345"/>
                </a:lnTo>
                <a:lnTo>
                  <a:pt x="138" y="334"/>
                </a:lnTo>
                <a:lnTo>
                  <a:pt x="142" y="320"/>
                </a:lnTo>
                <a:lnTo>
                  <a:pt x="146" y="309"/>
                </a:lnTo>
                <a:lnTo>
                  <a:pt x="149" y="299"/>
                </a:lnTo>
                <a:lnTo>
                  <a:pt x="153" y="291"/>
                </a:lnTo>
                <a:lnTo>
                  <a:pt x="157" y="276"/>
                </a:lnTo>
                <a:lnTo>
                  <a:pt x="159" y="268"/>
                </a:lnTo>
                <a:lnTo>
                  <a:pt x="175" y="256"/>
                </a:lnTo>
                <a:lnTo>
                  <a:pt x="194" y="250"/>
                </a:lnTo>
                <a:lnTo>
                  <a:pt x="196" y="258"/>
                </a:lnTo>
                <a:lnTo>
                  <a:pt x="206" y="264"/>
                </a:lnTo>
                <a:lnTo>
                  <a:pt x="211" y="268"/>
                </a:lnTo>
                <a:lnTo>
                  <a:pt x="211" y="279"/>
                </a:lnTo>
                <a:lnTo>
                  <a:pt x="223" y="270"/>
                </a:lnTo>
                <a:lnTo>
                  <a:pt x="237" y="260"/>
                </a:lnTo>
                <a:lnTo>
                  <a:pt x="250" y="250"/>
                </a:lnTo>
                <a:lnTo>
                  <a:pt x="266" y="243"/>
                </a:lnTo>
                <a:lnTo>
                  <a:pt x="279" y="235"/>
                </a:lnTo>
                <a:lnTo>
                  <a:pt x="295" y="231"/>
                </a:lnTo>
                <a:lnTo>
                  <a:pt x="310" y="229"/>
                </a:lnTo>
                <a:lnTo>
                  <a:pt x="328" y="231"/>
                </a:lnTo>
                <a:lnTo>
                  <a:pt x="326" y="243"/>
                </a:lnTo>
                <a:lnTo>
                  <a:pt x="320" y="254"/>
                </a:lnTo>
                <a:lnTo>
                  <a:pt x="310" y="266"/>
                </a:lnTo>
                <a:lnTo>
                  <a:pt x="308" y="281"/>
                </a:lnTo>
                <a:lnTo>
                  <a:pt x="318" y="279"/>
                </a:lnTo>
                <a:lnTo>
                  <a:pt x="330" y="277"/>
                </a:lnTo>
                <a:lnTo>
                  <a:pt x="341" y="274"/>
                </a:lnTo>
                <a:lnTo>
                  <a:pt x="353" y="270"/>
                </a:lnTo>
                <a:lnTo>
                  <a:pt x="365" y="264"/>
                </a:lnTo>
                <a:lnTo>
                  <a:pt x="376" y="262"/>
                </a:lnTo>
                <a:lnTo>
                  <a:pt x="388" y="260"/>
                </a:lnTo>
                <a:lnTo>
                  <a:pt x="402" y="262"/>
                </a:lnTo>
                <a:lnTo>
                  <a:pt x="417" y="256"/>
                </a:lnTo>
                <a:lnTo>
                  <a:pt x="433" y="254"/>
                </a:lnTo>
                <a:lnTo>
                  <a:pt x="450" y="254"/>
                </a:lnTo>
                <a:lnTo>
                  <a:pt x="467" y="254"/>
                </a:lnTo>
                <a:lnTo>
                  <a:pt x="483" y="254"/>
                </a:lnTo>
                <a:lnTo>
                  <a:pt x="500" y="256"/>
                </a:lnTo>
                <a:lnTo>
                  <a:pt x="518" y="256"/>
                </a:lnTo>
                <a:lnTo>
                  <a:pt x="535" y="256"/>
                </a:lnTo>
                <a:lnTo>
                  <a:pt x="533" y="243"/>
                </a:lnTo>
                <a:lnTo>
                  <a:pt x="528" y="235"/>
                </a:lnTo>
                <a:lnTo>
                  <a:pt x="516" y="229"/>
                </a:lnTo>
                <a:lnTo>
                  <a:pt x="506" y="227"/>
                </a:lnTo>
                <a:lnTo>
                  <a:pt x="493" y="221"/>
                </a:lnTo>
                <a:lnTo>
                  <a:pt x="483" y="217"/>
                </a:lnTo>
                <a:lnTo>
                  <a:pt x="477" y="210"/>
                </a:lnTo>
                <a:lnTo>
                  <a:pt x="477" y="198"/>
                </a:lnTo>
                <a:lnTo>
                  <a:pt x="481" y="182"/>
                </a:lnTo>
                <a:lnTo>
                  <a:pt x="495" y="177"/>
                </a:lnTo>
                <a:lnTo>
                  <a:pt x="508" y="169"/>
                </a:lnTo>
                <a:lnTo>
                  <a:pt x="516" y="155"/>
                </a:lnTo>
                <a:lnTo>
                  <a:pt x="499" y="155"/>
                </a:lnTo>
                <a:lnTo>
                  <a:pt x="483" y="157"/>
                </a:lnTo>
                <a:lnTo>
                  <a:pt x="467" y="159"/>
                </a:lnTo>
                <a:lnTo>
                  <a:pt x="452" y="165"/>
                </a:lnTo>
                <a:lnTo>
                  <a:pt x="435" y="169"/>
                </a:lnTo>
                <a:lnTo>
                  <a:pt x="421" y="175"/>
                </a:lnTo>
                <a:lnTo>
                  <a:pt x="405" y="181"/>
                </a:lnTo>
                <a:lnTo>
                  <a:pt x="392" y="186"/>
                </a:lnTo>
                <a:lnTo>
                  <a:pt x="388" y="167"/>
                </a:lnTo>
                <a:lnTo>
                  <a:pt x="396" y="150"/>
                </a:lnTo>
                <a:lnTo>
                  <a:pt x="402" y="132"/>
                </a:lnTo>
                <a:lnTo>
                  <a:pt x="402" y="115"/>
                </a:lnTo>
                <a:lnTo>
                  <a:pt x="405" y="101"/>
                </a:lnTo>
                <a:lnTo>
                  <a:pt x="411" y="91"/>
                </a:lnTo>
                <a:lnTo>
                  <a:pt x="419" y="84"/>
                </a:lnTo>
                <a:lnTo>
                  <a:pt x="429" y="78"/>
                </a:lnTo>
                <a:lnTo>
                  <a:pt x="446" y="64"/>
                </a:lnTo>
                <a:lnTo>
                  <a:pt x="467" y="56"/>
                </a:lnTo>
                <a:lnTo>
                  <a:pt x="483" y="56"/>
                </a:lnTo>
                <a:lnTo>
                  <a:pt x="499" y="54"/>
                </a:lnTo>
                <a:lnTo>
                  <a:pt x="514" y="49"/>
                </a:lnTo>
                <a:lnTo>
                  <a:pt x="530" y="43"/>
                </a:lnTo>
                <a:lnTo>
                  <a:pt x="543" y="35"/>
                </a:lnTo>
                <a:lnTo>
                  <a:pt x="559" y="29"/>
                </a:lnTo>
                <a:lnTo>
                  <a:pt x="574" y="23"/>
                </a:lnTo>
                <a:lnTo>
                  <a:pt x="592" y="25"/>
                </a:lnTo>
                <a:lnTo>
                  <a:pt x="588" y="27"/>
                </a:lnTo>
                <a:lnTo>
                  <a:pt x="590" y="31"/>
                </a:lnTo>
                <a:lnTo>
                  <a:pt x="605" y="27"/>
                </a:lnTo>
                <a:lnTo>
                  <a:pt x="625" y="23"/>
                </a:lnTo>
                <a:lnTo>
                  <a:pt x="644" y="20"/>
                </a:lnTo>
                <a:lnTo>
                  <a:pt x="665" y="16"/>
                </a:lnTo>
                <a:lnTo>
                  <a:pt x="685" y="10"/>
                </a:lnTo>
                <a:lnTo>
                  <a:pt x="706" y="8"/>
                </a:lnTo>
                <a:lnTo>
                  <a:pt x="725" y="6"/>
                </a:lnTo>
                <a:lnTo>
                  <a:pt x="747" y="6"/>
                </a:lnTo>
                <a:lnTo>
                  <a:pt x="753" y="0"/>
                </a:lnTo>
                <a:lnTo>
                  <a:pt x="760" y="12"/>
                </a:lnTo>
                <a:lnTo>
                  <a:pt x="776" y="14"/>
                </a:lnTo>
                <a:lnTo>
                  <a:pt x="791" y="10"/>
                </a:lnTo>
                <a:lnTo>
                  <a:pt x="809" y="12"/>
                </a:lnTo>
                <a:close/>
              </a:path>
            </a:pathLst>
          </a:custGeom>
          <a:solidFill>
            <a:srgbClr val="b34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15" name=""/>
          <p:cNvSpPr/>
          <p:nvPr/>
        </p:nvSpPr>
        <p:spPr>
          <a:xfrm>
            <a:off x="2563920" y="2546280"/>
            <a:ext cx="987480" cy="1082880"/>
          </a:xfrm>
          <a:custGeom>
            <a:avLst/>
            <a:gdLst/>
            <a:ahLst/>
            <a:rect l="l" t="t" r="r" b="b"/>
            <a:pathLst>
              <a:path w="1245" h="1363">
                <a:moveTo>
                  <a:pt x="630" y="17"/>
                </a:moveTo>
                <a:lnTo>
                  <a:pt x="617" y="19"/>
                </a:lnTo>
                <a:lnTo>
                  <a:pt x="605" y="21"/>
                </a:lnTo>
                <a:lnTo>
                  <a:pt x="594" y="23"/>
                </a:lnTo>
                <a:lnTo>
                  <a:pt x="584" y="27"/>
                </a:lnTo>
                <a:lnTo>
                  <a:pt x="564" y="33"/>
                </a:lnTo>
                <a:lnTo>
                  <a:pt x="551" y="42"/>
                </a:lnTo>
                <a:lnTo>
                  <a:pt x="533" y="50"/>
                </a:lnTo>
                <a:lnTo>
                  <a:pt x="522" y="62"/>
                </a:lnTo>
                <a:lnTo>
                  <a:pt x="514" y="68"/>
                </a:lnTo>
                <a:lnTo>
                  <a:pt x="508" y="77"/>
                </a:lnTo>
                <a:lnTo>
                  <a:pt x="502" y="87"/>
                </a:lnTo>
                <a:lnTo>
                  <a:pt x="497" y="99"/>
                </a:lnTo>
                <a:lnTo>
                  <a:pt x="493" y="99"/>
                </a:lnTo>
                <a:lnTo>
                  <a:pt x="502" y="97"/>
                </a:lnTo>
                <a:lnTo>
                  <a:pt x="514" y="97"/>
                </a:lnTo>
                <a:lnTo>
                  <a:pt x="526" y="95"/>
                </a:lnTo>
                <a:lnTo>
                  <a:pt x="539" y="95"/>
                </a:lnTo>
                <a:lnTo>
                  <a:pt x="551" y="93"/>
                </a:lnTo>
                <a:lnTo>
                  <a:pt x="564" y="93"/>
                </a:lnTo>
                <a:lnTo>
                  <a:pt x="578" y="93"/>
                </a:lnTo>
                <a:lnTo>
                  <a:pt x="592" y="93"/>
                </a:lnTo>
                <a:lnTo>
                  <a:pt x="603" y="91"/>
                </a:lnTo>
                <a:lnTo>
                  <a:pt x="617" y="91"/>
                </a:lnTo>
                <a:lnTo>
                  <a:pt x="628" y="91"/>
                </a:lnTo>
                <a:lnTo>
                  <a:pt x="642" y="91"/>
                </a:lnTo>
                <a:lnTo>
                  <a:pt x="654" y="91"/>
                </a:lnTo>
                <a:lnTo>
                  <a:pt x="665" y="93"/>
                </a:lnTo>
                <a:lnTo>
                  <a:pt x="677" y="95"/>
                </a:lnTo>
                <a:lnTo>
                  <a:pt x="691" y="99"/>
                </a:lnTo>
                <a:lnTo>
                  <a:pt x="681" y="108"/>
                </a:lnTo>
                <a:lnTo>
                  <a:pt x="669" y="116"/>
                </a:lnTo>
                <a:lnTo>
                  <a:pt x="656" y="120"/>
                </a:lnTo>
                <a:lnTo>
                  <a:pt x="644" y="124"/>
                </a:lnTo>
                <a:lnTo>
                  <a:pt x="628" y="126"/>
                </a:lnTo>
                <a:lnTo>
                  <a:pt x="615" y="130"/>
                </a:lnTo>
                <a:lnTo>
                  <a:pt x="601" y="134"/>
                </a:lnTo>
                <a:lnTo>
                  <a:pt x="592" y="141"/>
                </a:lnTo>
                <a:lnTo>
                  <a:pt x="588" y="147"/>
                </a:lnTo>
                <a:lnTo>
                  <a:pt x="590" y="161"/>
                </a:lnTo>
                <a:lnTo>
                  <a:pt x="594" y="172"/>
                </a:lnTo>
                <a:lnTo>
                  <a:pt x="601" y="180"/>
                </a:lnTo>
                <a:lnTo>
                  <a:pt x="611" y="184"/>
                </a:lnTo>
                <a:lnTo>
                  <a:pt x="625" y="188"/>
                </a:lnTo>
                <a:lnTo>
                  <a:pt x="640" y="192"/>
                </a:lnTo>
                <a:lnTo>
                  <a:pt x="658" y="196"/>
                </a:lnTo>
                <a:lnTo>
                  <a:pt x="675" y="196"/>
                </a:lnTo>
                <a:lnTo>
                  <a:pt x="692" y="197"/>
                </a:lnTo>
                <a:lnTo>
                  <a:pt x="712" y="199"/>
                </a:lnTo>
                <a:lnTo>
                  <a:pt x="731" y="201"/>
                </a:lnTo>
                <a:lnTo>
                  <a:pt x="749" y="199"/>
                </a:lnTo>
                <a:lnTo>
                  <a:pt x="768" y="199"/>
                </a:lnTo>
                <a:lnTo>
                  <a:pt x="786" y="199"/>
                </a:lnTo>
                <a:lnTo>
                  <a:pt x="805" y="199"/>
                </a:lnTo>
                <a:lnTo>
                  <a:pt x="820" y="199"/>
                </a:lnTo>
                <a:lnTo>
                  <a:pt x="838" y="199"/>
                </a:lnTo>
                <a:lnTo>
                  <a:pt x="853" y="199"/>
                </a:lnTo>
                <a:lnTo>
                  <a:pt x="869" y="199"/>
                </a:lnTo>
                <a:lnTo>
                  <a:pt x="867" y="203"/>
                </a:lnTo>
                <a:lnTo>
                  <a:pt x="865" y="213"/>
                </a:lnTo>
                <a:lnTo>
                  <a:pt x="861" y="221"/>
                </a:lnTo>
                <a:lnTo>
                  <a:pt x="863" y="229"/>
                </a:lnTo>
                <a:lnTo>
                  <a:pt x="867" y="229"/>
                </a:lnTo>
                <a:lnTo>
                  <a:pt x="867" y="238"/>
                </a:lnTo>
                <a:lnTo>
                  <a:pt x="867" y="254"/>
                </a:lnTo>
                <a:lnTo>
                  <a:pt x="867" y="269"/>
                </a:lnTo>
                <a:lnTo>
                  <a:pt x="873" y="287"/>
                </a:lnTo>
                <a:lnTo>
                  <a:pt x="884" y="300"/>
                </a:lnTo>
                <a:lnTo>
                  <a:pt x="902" y="312"/>
                </a:lnTo>
                <a:lnTo>
                  <a:pt x="910" y="316"/>
                </a:lnTo>
                <a:lnTo>
                  <a:pt x="921" y="320"/>
                </a:lnTo>
                <a:lnTo>
                  <a:pt x="933" y="324"/>
                </a:lnTo>
                <a:lnTo>
                  <a:pt x="945" y="327"/>
                </a:lnTo>
                <a:lnTo>
                  <a:pt x="956" y="327"/>
                </a:lnTo>
                <a:lnTo>
                  <a:pt x="968" y="329"/>
                </a:lnTo>
                <a:lnTo>
                  <a:pt x="979" y="329"/>
                </a:lnTo>
                <a:lnTo>
                  <a:pt x="993" y="331"/>
                </a:lnTo>
                <a:lnTo>
                  <a:pt x="1007" y="331"/>
                </a:lnTo>
                <a:lnTo>
                  <a:pt x="1020" y="331"/>
                </a:lnTo>
                <a:lnTo>
                  <a:pt x="1034" y="331"/>
                </a:lnTo>
                <a:lnTo>
                  <a:pt x="1049" y="331"/>
                </a:lnTo>
                <a:lnTo>
                  <a:pt x="1061" y="329"/>
                </a:lnTo>
                <a:lnTo>
                  <a:pt x="1076" y="327"/>
                </a:lnTo>
                <a:lnTo>
                  <a:pt x="1088" y="327"/>
                </a:lnTo>
                <a:lnTo>
                  <a:pt x="1104" y="327"/>
                </a:lnTo>
                <a:lnTo>
                  <a:pt x="1115" y="325"/>
                </a:lnTo>
                <a:lnTo>
                  <a:pt x="1129" y="325"/>
                </a:lnTo>
                <a:lnTo>
                  <a:pt x="1140" y="325"/>
                </a:lnTo>
                <a:lnTo>
                  <a:pt x="1154" y="325"/>
                </a:lnTo>
                <a:lnTo>
                  <a:pt x="1164" y="325"/>
                </a:lnTo>
                <a:lnTo>
                  <a:pt x="1175" y="325"/>
                </a:lnTo>
                <a:lnTo>
                  <a:pt x="1187" y="327"/>
                </a:lnTo>
                <a:lnTo>
                  <a:pt x="1199" y="331"/>
                </a:lnTo>
                <a:lnTo>
                  <a:pt x="1214" y="337"/>
                </a:lnTo>
                <a:lnTo>
                  <a:pt x="1232" y="351"/>
                </a:lnTo>
                <a:lnTo>
                  <a:pt x="1237" y="358"/>
                </a:lnTo>
                <a:lnTo>
                  <a:pt x="1245" y="368"/>
                </a:lnTo>
                <a:lnTo>
                  <a:pt x="1230" y="362"/>
                </a:lnTo>
                <a:lnTo>
                  <a:pt x="1216" y="358"/>
                </a:lnTo>
                <a:lnTo>
                  <a:pt x="1201" y="355"/>
                </a:lnTo>
                <a:lnTo>
                  <a:pt x="1187" y="353"/>
                </a:lnTo>
                <a:lnTo>
                  <a:pt x="1171" y="349"/>
                </a:lnTo>
                <a:lnTo>
                  <a:pt x="1158" y="347"/>
                </a:lnTo>
                <a:lnTo>
                  <a:pt x="1142" y="345"/>
                </a:lnTo>
                <a:lnTo>
                  <a:pt x="1129" y="345"/>
                </a:lnTo>
                <a:lnTo>
                  <a:pt x="1111" y="343"/>
                </a:lnTo>
                <a:lnTo>
                  <a:pt x="1098" y="343"/>
                </a:lnTo>
                <a:lnTo>
                  <a:pt x="1082" y="341"/>
                </a:lnTo>
                <a:lnTo>
                  <a:pt x="1069" y="341"/>
                </a:lnTo>
                <a:lnTo>
                  <a:pt x="1051" y="339"/>
                </a:lnTo>
                <a:lnTo>
                  <a:pt x="1038" y="337"/>
                </a:lnTo>
                <a:lnTo>
                  <a:pt x="1022" y="335"/>
                </a:lnTo>
                <a:lnTo>
                  <a:pt x="1009" y="335"/>
                </a:lnTo>
                <a:lnTo>
                  <a:pt x="997" y="345"/>
                </a:lnTo>
                <a:lnTo>
                  <a:pt x="1003" y="355"/>
                </a:lnTo>
                <a:lnTo>
                  <a:pt x="1009" y="364"/>
                </a:lnTo>
                <a:lnTo>
                  <a:pt x="993" y="358"/>
                </a:lnTo>
                <a:lnTo>
                  <a:pt x="979" y="355"/>
                </a:lnTo>
                <a:lnTo>
                  <a:pt x="964" y="351"/>
                </a:lnTo>
                <a:lnTo>
                  <a:pt x="950" y="347"/>
                </a:lnTo>
                <a:lnTo>
                  <a:pt x="935" y="343"/>
                </a:lnTo>
                <a:lnTo>
                  <a:pt x="921" y="339"/>
                </a:lnTo>
                <a:lnTo>
                  <a:pt x="906" y="335"/>
                </a:lnTo>
                <a:lnTo>
                  <a:pt x="892" y="335"/>
                </a:lnTo>
                <a:lnTo>
                  <a:pt x="902" y="355"/>
                </a:lnTo>
                <a:lnTo>
                  <a:pt x="914" y="374"/>
                </a:lnTo>
                <a:lnTo>
                  <a:pt x="919" y="382"/>
                </a:lnTo>
                <a:lnTo>
                  <a:pt x="925" y="391"/>
                </a:lnTo>
                <a:lnTo>
                  <a:pt x="931" y="403"/>
                </a:lnTo>
                <a:lnTo>
                  <a:pt x="939" y="415"/>
                </a:lnTo>
                <a:lnTo>
                  <a:pt x="919" y="399"/>
                </a:lnTo>
                <a:lnTo>
                  <a:pt x="902" y="388"/>
                </a:lnTo>
                <a:lnTo>
                  <a:pt x="883" y="378"/>
                </a:lnTo>
                <a:lnTo>
                  <a:pt x="865" y="372"/>
                </a:lnTo>
                <a:lnTo>
                  <a:pt x="844" y="364"/>
                </a:lnTo>
                <a:lnTo>
                  <a:pt x="824" y="358"/>
                </a:lnTo>
                <a:lnTo>
                  <a:pt x="805" y="351"/>
                </a:lnTo>
                <a:lnTo>
                  <a:pt x="786" y="345"/>
                </a:lnTo>
                <a:lnTo>
                  <a:pt x="784" y="356"/>
                </a:lnTo>
                <a:lnTo>
                  <a:pt x="793" y="364"/>
                </a:lnTo>
                <a:lnTo>
                  <a:pt x="805" y="372"/>
                </a:lnTo>
                <a:lnTo>
                  <a:pt x="815" y="382"/>
                </a:lnTo>
                <a:lnTo>
                  <a:pt x="815" y="393"/>
                </a:lnTo>
                <a:lnTo>
                  <a:pt x="807" y="405"/>
                </a:lnTo>
                <a:lnTo>
                  <a:pt x="795" y="413"/>
                </a:lnTo>
                <a:lnTo>
                  <a:pt x="784" y="420"/>
                </a:lnTo>
                <a:lnTo>
                  <a:pt x="772" y="422"/>
                </a:lnTo>
                <a:lnTo>
                  <a:pt x="760" y="424"/>
                </a:lnTo>
                <a:lnTo>
                  <a:pt x="749" y="428"/>
                </a:lnTo>
                <a:lnTo>
                  <a:pt x="745" y="438"/>
                </a:lnTo>
                <a:lnTo>
                  <a:pt x="755" y="438"/>
                </a:lnTo>
                <a:lnTo>
                  <a:pt x="764" y="440"/>
                </a:lnTo>
                <a:lnTo>
                  <a:pt x="776" y="440"/>
                </a:lnTo>
                <a:lnTo>
                  <a:pt x="787" y="440"/>
                </a:lnTo>
                <a:lnTo>
                  <a:pt x="799" y="436"/>
                </a:lnTo>
                <a:lnTo>
                  <a:pt x="811" y="436"/>
                </a:lnTo>
                <a:lnTo>
                  <a:pt x="822" y="432"/>
                </a:lnTo>
                <a:lnTo>
                  <a:pt x="834" y="432"/>
                </a:lnTo>
                <a:lnTo>
                  <a:pt x="844" y="430"/>
                </a:lnTo>
                <a:lnTo>
                  <a:pt x="855" y="428"/>
                </a:lnTo>
                <a:lnTo>
                  <a:pt x="867" y="428"/>
                </a:lnTo>
                <a:lnTo>
                  <a:pt x="879" y="428"/>
                </a:lnTo>
                <a:lnTo>
                  <a:pt x="890" y="428"/>
                </a:lnTo>
                <a:lnTo>
                  <a:pt x="902" y="430"/>
                </a:lnTo>
                <a:lnTo>
                  <a:pt x="914" y="434"/>
                </a:lnTo>
                <a:lnTo>
                  <a:pt x="925" y="440"/>
                </a:lnTo>
                <a:lnTo>
                  <a:pt x="919" y="455"/>
                </a:lnTo>
                <a:lnTo>
                  <a:pt x="914" y="471"/>
                </a:lnTo>
                <a:lnTo>
                  <a:pt x="906" y="484"/>
                </a:lnTo>
                <a:lnTo>
                  <a:pt x="898" y="500"/>
                </a:lnTo>
                <a:lnTo>
                  <a:pt x="886" y="512"/>
                </a:lnTo>
                <a:lnTo>
                  <a:pt x="877" y="525"/>
                </a:lnTo>
                <a:lnTo>
                  <a:pt x="865" y="537"/>
                </a:lnTo>
                <a:lnTo>
                  <a:pt x="855" y="550"/>
                </a:lnTo>
                <a:lnTo>
                  <a:pt x="842" y="560"/>
                </a:lnTo>
                <a:lnTo>
                  <a:pt x="830" y="572"/>
                </a:lnTo>
                <a:lnTo>
                  <a:pt x="819" y="583"/>
                </a:lnTo>
                <a:lnTo>
                  <a:pt x="809" y="597"/>
                </a:lnTo>
                <a:lnTo>
                  <a:pt x="797" y="609"/>
                </a:lnTo>
                <a:lnTo>
                  <a:pt x="787" y="620"/>
                </a:lnTo>
                <a:lnTo>
                  <a:pt x="780" y="634"/>
                </a:lnTo>
                <a:lnTo>
                  <a:pt x="774" y="649"/>
                </a:lnTo>
                <a:lnTo>
                  <a:pt x="776" y="630"/>
                </a:lnTo>
                <a:lnTo>
                  <a:pt x="780" y="611"/>
                </a:lnTo>
                <a:lnTo>
                  <a:pt x="784" y="591"/>
                </a:lnTo>
                <a:lnTo>
                  <a:pt x="787" y="574"/>
                </a:lnTo>
                <a:lnTo>
                  <a:pt x="789" y="556"/>
                </a:lnTo>
                <a:lnTo>
                  <a:pt x="791" y="539"/>
                </a:lnTo>
                <a:lnTo>
                  <a:pt x="791" y="521"/>
                </a:lnTo>
                <a:lnTo>
                  <a:pt x="793" y="508"/>
                </a:lnTo>
                <a:lnTo>
                  <a:pt x="789" y="492"/>
                </a:lnTo>
                <a:lnTo>
                  <a:pt x="786" y="481"/>
                </a:lnTo>
                <a:lnTo>
                  <a:pt x="778" y="469"/>
                </a:lnTo>
                <a:lnTo>
                  <a:pt x="770" y="461"/>
                </a:lnTo>
                <a:lnTo>
                  <a:pt x="756" y="452"/>
                </a:lnTo>
                <a:lnTo>
                  <a:pt x="743" y="448"/>
                </a:lnTo>
                <a:lnTo>
                  <a:pt x="733" y="444"/>
                </a:lnTo>
                <a:lnTo>
                  <a:pt x="723" y="444"/>
                </a:lnTo>
                <a:lnTo>
                  <a:pt x="714" y="444"/>
                </a:lnTo>
                <a:lnTo>
                  <a:pt x="704" y="444"/>
                </a:lnTo>
                <a:lnTo>
                  <a:pt x="700" y="438"/>
                </a:lnTo>
                <a:lnTo>
                  <a:pt x="696" y="438"/>
                </a:lnTo>
                <a:lnTo>
                  <a:pt x="696" y="432"/>
                </a:lnTo>
                <a:lnTo>
                  <a:pt x="692" y="428"/>
                </a:lnTo>
                <a:lnTo>
                  <a:pt x="692" y="436"/>
                </a:lnTo>
                <a:lnTo>
                  <a:pt x="694" y="453"/>
                </a:lnTo>
                <a:lnTo>
                  <a:pt x="694" y="469"/>
                </a:lnTo>
                <a:lnTo>
                  <a:pt x="696" y="479"/>
                </a:lnTo>
                <a:lnTo>
                  <a:pt x="687" y="477"/>
                </a:lnTo>
                <a:lnTo>
                  <a:pt x="677" y="475"/>
                </a:lnTo>
                <a:lnTo>
                  <a:pt x="663" y="467"/>
                </a:lnTo>
                <a:lnTo>
                  <a:pt x="656" y="461"/>
                </a:lnTo>
                <a:lnTo>
                  <a:pt x="646" y="455"/>
                </a:lnTo>
                <a:lnTo>
                  <a:pt x="640" y="450"/>
                </a:lnTo>
                <a:lnTo>
                  <a:pt x="627" y="436"/>
                </a:lnTo>
                <a:lnTo>
                  <a:pt x="613" y="422"/>
                </a:lnTo>
                <a:lnTo>
                  <a:pt x="599" y="411"/>
                </a:lnTo>
                <a:lnTo>
                  <a:pt x="584" y="403"/>
                </a:lnTo>
                <a:lnTo>
                  <a:pt x="564" y="395"/>
                </a:lnTo>
                <a:lnTo>
                  <a:pt x="547" y="391"/>
                </a:lnTo>
                <a:lnTo>
                  <a:pt x="535" y="388"/>
                </a:lnTo>
                <a:lnTo>
                  <a:pt x="524" y="386"/>
                </a:lnTo>
                <a:lnTo>
                  <a:pt x="512" y="382"/>
                </a:lnTo>
                <a:lnTo>
                  <a:pt x="500" y="382"/>
                </a:lnTo>
                <a:lnTo>
                  <a:pt x="489" y="380"/>
                </a:lnTo>
                <a:lnTo>
                  <a:pt x="477" y="380"/>
                </a:lnTo>
                <a:lnTo>
                  <a:pt x="466" y="380"/>
                </a:lnTo>
                <a:lnTo>
                  <a:pt x="454" y="380"/>
                </a:lnTo>
                <a:lnTo>
                  <a:pt x="440" y="378"/>
                </a:lnTo>
                <a:lnTo>
                  <a:pt x="429" y="378"/>
                </a:lnTo>
                <a:lnTo>
                  <a:pt x="415" y="378"/>
                </a:lnTo>
                <a:lnTo>
                  <a:pt x="403" y="380"/>
                </a:lnTo>
                <a:lnTo>
                  <a:pt x="392" y="380"/>
                </a:lnTo>
                <a:lnTo>
                  <a:pt x="380" y="380"/>
                </a:lnTo>
                <a:lnTo>
                  <a:pt x="371" y="382"/>
                </a:lnTo>
                <a:lnTo>
                  <a:pt x="361" y="386"/>
                </a:lnTo>
                <a:lnTo>
                  <a:pt x="349" y="386"/>
                </a:lnTo>
                <a:lnTo>
                  <a:pt x="338" y="389"/>
                </a:lnTo>
                <a:lnTo>
                  <a:pt x="328" y="391"/>
                </a:lnTo>
                <a:lnTo>
                  <a:pt x="320" y="395"/>
                </a:lnTo>
                <a:lnTo>
                  <a:pt x="303" y="401"/>
                </a:lnTo>
                <a:lnTo>
                  <a:pt x="291" y="409"/>
                </a:lnTo>
                <a:lnTo>
                  <a:pt x="272" y="420"/>
                </a:lnTo>
                <a:lnTo>
                  <a:pt x="258" y="432"/>
                </a:lnTo>
                <a:lnTo>
                  <a:pt x="244" y="444"/>
                </a:lnTo>
                <a:lnTo>
                  <a:pt x="235" y="457"/>
                </a:lnTo>
                <a:lnTo>
                  <a:pt x="223" y="469"/>
                </a:lnTo>
                <a:lnTo>
                  <a:pt x="217" y="481"/>
                </a:lnTo>
                <a:lnTo>
                  <a:pt x="210" y="494"/>
                </a:lnTo>
                <a:lnTo>
                  <a:pt x="208" y="508"/>
                </a:lnTo>
                <a:lnTo>
                  <a:pt x="202" y="519"/>
                </a:lnTo>
                <a:lnTo>
                  <a:pt x="202" y="533"/>
                </a:lnTo>
                <a:lnTo>
                  <a:pt x="202" y="545"/>
                </a:lnTo>
                <a:lnTo>
                  <a:pt x="202" y="558"/>
                </a:lnTo>
                <a:lnTo>
                  <a:pt x="202" y="568"/>
                </a:lnTo>
                <a:lnTo>
                  <a:pt x="206" y="579"/>
                </a:lnTo>
                <a:lnTo>
                  <a:pt x="210" y="591"/>
                </a:lnTo>
                <a:lnTo>
                  <a:pt x="215" y="603"/>
                </a:lnTo>
                <a:lnTo>
                  <a:pt x="223" y="620"/>
                </a:lnTo>
                <a:lnTo>
                  <a:pt x="235" y="640"/>
                </a:lnTo>
                <a:lnTo>
                  <a:pt x="248" y="653"/>
                </a:lnTo>
                <a:lnTo>
                  <a:pt x="262" y="665"/>
                </a:lnTo>
                <a:lnTo>
                  <a:pt x="274" y="671"/>
                </a:lnTo>
                <a:lnTo>
                  <a:pt x="285" y="674"/>
                </a:lnTo>
                <a:lnTo>
                  <a:pt x="295" y="674"/>
                </a:lnTo>
                <a:lnTo>
                  <a:pt x="305" y="669"/>
                </a:lnTo>
                <a:lnTo>
                  <a:pt x="320" y="665"/>
                </a:lnTo>
                <a:lnTo>
                  <a:pt x="338" y="661"/>
                </a:lnTo>
                <a:lnTo>
                  <a:pt x="353" y="657"/>
                </a:lnTo>
                <a:lnTo>
                  <a:pt x="371" y="655"/>
                </a:lnTo>
                <a:lnTo>
                  <a:pt x="371" y="673"/>
                </a:lnTo>
                <a:lnTo>
                  <a:pt x="371" y="690"/>
                </a:lnTo>
                <a:lnTo>
                  <a:pt x="371" y="706"/>
                </a:lnTo>
                <a:lnTo>
                  <a:pt x="372" y="723"/>
                </a:lnTo>
                <a:lnTo>
                  <a:pt x="372" y="737"/>
                </a:lnTo>
                <a:lnTo>
                  <a:pt x="376" y="752"/>
                </a:lnTo>
                <a:lnTo>
                  <a:pt x="380" y="768"/>
                </a:lnTo>
                <a:lnTo>
                  <a:pt x="386" y="783"/>
                </a:lnTo>
                <a:lnTo>
                  <a:pt x="390" y="795"/>
                </a:lnTo>
                <a:lnTo>
                  <a:pt x="396" y="808"/>
                </a:lnTo>
                <a:lnTo>
                  <a:pt x="402" y="822"/>
                </a:lnTo>
                <a:lnTo>
                  <a:pt x="411" y="837"/>
                </a:lnTo>
                <a:lnTo>
                  <a:pt x="419" y="849"/>
                </a:lnTo>
                <a:lnTo>
                  <a:pt x="431" y="865"/>
                </a:lnTo>
                <a:lnTo>
                  <a:pt x="440" y="878"/>
                </a:lnTo>
                <a:lnTo>
                  <a:pt x="456" y="896"/>
                </a:lnTo>
                <a:lnTo>
                  <a:pt x="469" y="903"/>
                </a:lnTo>
                <a:lnTo>
                  <a:pt x="487" y="903"/>
                </a:lnTo>
                <a:lnTo>
                  <a:pt x="500" y="907"/>
                </a:lnTo>
                <a:lnTo>
                  <a:pt x="510" y="909"/>
                </a:lnTo>
                <a:lnTo>
                  <a:pt x="520" y="911"/>
                </a:lnTo>
                <a:lnTo>
                  <a:pt x="528" y="909"/>
                </a:lnTo>
                <a:lnTo>
                  <a:pt x="537" y="903"/>
                </a:lnTo>
                <a:lnTo>
                  <a:pt x="549" y="892"/>
                </a:lnTo>
                <a:lnTo>
                  <a:pt x="566" y="876"/>
                </a:lnTo>
                <a:lnTo>
                  <a:pt x="563" y="888"/>
                </a:lnTo>
                <a:lnTo>
                  <a:pt x="563" y="899"/>
                </a:lnTo>
                <a:lnTo>
                  <a:pt x="563" y="911"/>
                </a:lnTo>
                <a:lnTo>
                  <a:pt x="564" y="923"/>
                </a:lnTo>
                <a:lnTo>
                  <a:pt x="564" y="932"/>
                </a:lnTo>
                <a:lnTo>
                  <a:pt x="568" y="944"/>
                </a:lnTo>
                <a:lnTo>
                  <a:pt x="572" y="954"/>
                </a:lnTo>
                <a:lnTo>
                  <a:pt x="580" y="965"/>
                </a:lnTo>
                <a:lnTo>
                  <a:pt x="590" y="985"/>
                </a:lnTo>
                <a:lnTo>
                  <a:pt x="599" y="1006"/>
                </a:lnTo>
                <a:lnTo>
                  <a:pt x="607" y="1025"/>
                </a:lnTo>
                <a:lnTo>
                  <a:pt x="615" y="1047"/>
                </a:lnTo>
                <a:lnTo>
                  <a:pt x="619" y="1066"/>
                </a:lnTo>
                <a:lnTo>
                  <a:pt x="627" y="1087"/>
                </a:lnTo>
                <a:lnTo>
                  <a:pt x="628" y="1097"/>
                </a:lnTo>
                <a:lnTo>
                  <a:pt x="632" y="1109"/>
                </a:lnTo>
                <a:lnTo>
                  <a:pt x="638" y="1119"/>
                </a:lnTo>
                <a:lnTo>
                  <a:pt x="644" y="1130"/>
                </a:lnTo>
                <a:lnTo>
                  <a:pt x="627" y="1134"/>
                </a:lnTo>
                <a:lnTo>
                  <a:pt x="611" y="1144"/>
                </a:lnTo>
                <a:lnTo>
                  <a:pt x="594" y="1153"/>
                </a:lnTo>
                <a:lnTo>
                  <a:pt x="580" y="1169"/>
                </a:lnTo>
                <a:lnTo>
                  <a:pt x="564" y="1183"/>
                </a:lnTo>
                <a:lnTo>
                  <a:pt x="555" y="1200"/>
                </a:lnTo>
                <a:lnTo>
                  <a:pt x="547" y="1217"/>
                </a:lnTo>
                <a:lnTo>
                  <a:pt x="543" y="1235"/>
                </a:lnTo>
                <a:lnTo>
                  <a:pt x="537" y="1250"/>
                </a:lnTo>
                <a:lnTo>
                  <a:pt x="526" y="1270"/>
                </a:lnTo>
                <a:lnTo>
                  <a:pt x="508" y="1289"/>
                </a:lnTo>
                <a:lnTo>
                  <a:pt x="491" y="1310"/>
                </a:lnTo>
                <a:lnTo>
                  <a:pt x="471" y="1326"/>
                </a:lnTo>
                <a:lnTo>
                  <a:pt x="456" y="1343"/>
                </a:lnTo>
                <a:lnTo>
                  <a:pt x="446" y="1355"/>
                </a:lnTo>
                <a:lnTo>
                  <a:pt x="442" y="1363"/>
                </a:lnTo>
                <a:lnTo>
                  <a:pt x="436" y="1355"/>
                </a:lnTo>
                <a:lnTo>
                  <a:pt x="431" y="1347"/>
                </a:lnTo>
                <a:lnTo>
                  <a:pt x="425" y="1343"/>
                </a:lnTo>
                <a:lnTo>
                  <a:pt x="419" y="1351"/>
                </a:lnTo>
                <a:lnTo>
                  <a:pt x="411" y="1336"/>
                </a:lnTo>
                <a:lnTo>
                  <a:pt x="403" y="1320"/>
                </a:lnTo>
                <a:lnTo>
                  <a:pt x="390" y="1299"/>
                </a:lnTo>
                <a:lnTo>
                  <a:pt x="378" y="1279"/>
                </a:lnTo>
                <a:lnTo>
                  <a:pt x="371" y="1266"/>
                </a:lnTo>
                <a:lnTo>
                  <a:pt x="363" y="1254"/>
                </a:lnTo>
                <a:lnTo>
                  <a:pt x="355" y="1243"/>
                </a:lnTo>
                <a:lnTo>
                  <a:pt x="347" y="1231"/>
                </a:lnTo>
                <a:lnTo>
                  <a:pt x="338" y="1217"/>
                </a:lnTo>
                <a:lnTo>
                  <a:pt x="332" y="1206"/>
                </a:lnTo>
                <a:lnTo>
                  <a:pt x="322" y="1194"/>
                </a:lnTo>
                <a:lnTo>
                  <a:pt x="316" y="1183"/>
                </a:lnTo>
                <a:lnTo>
                  <a:pt x="307" y="1169"/>
                </a:lnTo>
                <a:lnTo>
                  <a:pt x="299" y="1157"/>
                </a:lnTo>
                <a:lnTo>
                  <a:pt x="289" y="1146"/>
                </a:lnTo>
                <a:lnTo>
                  <a:pt x="281" y="1134"/>
                </a:lnTo>
                <a:lnTo>
                  <a:pt x="266" y="1113"/>
                </a:lnTo>
                <a:lnTo>
                  <a:pt x="252" y="1095"/>
                </a:lnTo>
                <a:lnTo>
                  <a:pt x="239" y="1076"/>
                </a:lnTo>
                <a:lnTo>
                  <a:pt x="229" y="1064"/>
                </a:lnTo>
                <a:lnTo>
                  <a:pt x="219" y="1055"/>
                </a:lnTo>
                <a:lnTo>
                  <a:pt x="215" y="1051"/>
                </a:lnTo>
                <a:lnTo>
                  <a:pt x="210" y="1062"/>
                </a:lnTo>
                <a:lnTo>
                  <a:pt x="211" y="1074"/>
                </a:lnTo>
                <a:lnTo>
                  <a:pt x="202" y="1058"/>
                </a:lnTo>
                <a:lnTo>
                  <a:pt x="192" y="1045"/>
                </a:lnTo>
                <a:lnTo>
                  <a:pt x="182" y="1031"/>
                </a:lnTo>
                <a:lnTo>
                  <a:pt x="175" y="1020"/>
                </a:lnTo>
                <a:lnTo>
                  <a:pt x="163" y="1006"/>
                </a:lnTo>
                <a:lnTo>
                  <a:pt x="153" y="994"/>
                </a:lnTo>
                <a:lnTo>
                  <a:pt x="142" y="983"/>
                </a:lnTo>
                <a:lnTo>
                  <a:pt x="132" y="971"/>
                </a:lnTo>
                <a:lnTo>
                  <a:pt x="120" y="958"/>
                </a:lnTo>
                <a:lnTo>
                  <a:pt x="111" y="946"/>
                </a:lnTo>
                <a:lnTo>
                  <a:pt x="101" y="934"/>
                </a:lnTo>
                <a:lnTo>
                  <a:pt x="93" y="923"/>
                </a:lnTo>
                <a:lnTo>
                  <a:pt x="83" y="909"/>
                </a:lnTo>
                <a:lnTo>
                  <a:pt x="76" y="896"/>
                </a:lnTo>
                <a:lnTo>
                  <a:pt x="70" y="882"/>
                </a:lnTo>
                <a:lnTo>
                  <a:pt x="66" y="870"/>
                </a:lnTo>
                <a:lnTo>
                  <a:pt x="64" y="865"/>
                </a:lnTo>
                <a:lnTo>
                  <a:pt x="62" y="857"/>
                </a:lnTo>
                <a:lnTo>
                  <a:pt x="58" y="845"/>
                </a:lnTo>
                <a:lnTo>
                  <a:pt x="54" y="830"/>
                </a:lnTo>
                <a:lnTo>
                  <a:pt x="49" y="810"/>
                </a:lnTo>
                <a:lnTo>
                  <a:pt x="43" y="791"/>
                </a:lnTo>
                <a:lnTo>
                  <a:pt x="39" y="779"/>
                </a:lnTo>
                <a:lnTo>
                  <a:pt x="37" y="770"/>
                </a:lnTo>
                <a:lnTo>
                  <a:pt x="35" y="758"/>
                </a:lnTo>
                <a:lnTo>
                  <a:pt x="33" y="748"/>
                </a:lnTo>
                <a:lnTo>
                  <a:pt x="27" y="737"/>
                </a:lnTo>
                <a:lnTo>
                  <a:pt x="25" y="725"/>
                </a:lnTo>
                <a:lnTo>
                  <a:pt x="21" y="713"/>
                </a:lnTo>
                <a:lnTo>
                  <a:pt x="19" y="704"/>
                </a:lnTo>
                <a:lnTo>
                  <a:pt x="16" y="692"/>
                </a:lnTo>
                <a:lnTo>
                  <a:pt x="14" y="682"/>
                </a:lnTo>
                <a:lnTo>
                  <a:pt x="10" y="673"/>
                </a:lnTo>
                <a:lnTo>
                  <a:pt x="10" y="665"/>
                </a:lnTo>
                <a:lnTo>
                  <a:pt x="4" y="647"/>
                </a:lnTo>
                <a:lnTo>
                  <a:pt x="2" y="636"/>
                </a:lnTo>
                <a:lnTo>
                  <a:pt x="0" y="628"/>
                </a:lnTo>
                <a:lnTo>
                  <a:pt x="0" y="626"/>
                </a:lnTo>
                <a:lnTo>
                  <a:pt x="2" y="616"/>
                </a:lnTo>
                <a:lnTo>
                  <a:pt x="6" y="609"/>
                </a:lnTo>
                <a:lnTo>
                  <a:pt x="8" y="597"/>
                </a:lnTo>
                <a:lnTo>
                  <a:pt x="12" y="585"/>
                </a:lnTo>
                <a:lnTo>
                  <a:pt x="14" y="570"/>
                </a:lnTo>
                <a:lnTo>
                  <a:pt x="16" y="556"/>
                </a:lnTo>
                <a:lnTo>
                  <a:pt x="18" y="541"/>
                </a:lnTo>
                <a:lnTo>
                  <a:pt x="21" y="527"/>
                </a:lnTo>
                <a:lnTo>
                  <a:pt x="21" y="510"/>
                </a:lnTo>
                <a:lnTo>
                  <a:pt x="25" y="494"/>
                </a:lnTo>
                <a:lnTo>
                  <a:pt x="27" y="477"/>
                </a:lnTo>
                <a:lnTo>
                  <a:pt x="31" y="463"/>
                </a:lnTo>
                <a:lnTo>
                  <a:pt x="33" y="448"/>
                </a:lnTo>
                <a:lnTo>
                  <a:pt x="37" y="434"/>
                </a:lnTo>
                <a:lnTo>
                  <a:pt x="39" y="422"/>
                </a:lnTo>
                <a:lnTo>
                  <a:pt x="45" y="413"/>
                </a:lnTo>
                <a:lnTo>
                  <a:pt x="45" y="407"/>
                </a:lnTo>
                <a:lnTo>
                  <a:pt x="51" y="401"/>
                </a:lnTo>
                <a:lnTo>
                  <a:pt x="56" y="391"/>
                </a:lnTo>
                <a:lnTo>
                  <a:pt x="64" y="382"/>
                </a:lnTo>
                <a:lnTo>
                  <a:pt x="72" y="368"/>
                </a:lnTo>
                <a:lnTo>
                  <a:pt x="82" y="355"/>
                </a:lnTo>
                <a:lnTo>
                  <a:pt x="93" y="341"/>
                </a:lnTo>
                <a:lnTo>
                  <a:pt x="105" y="327"/>
                </a:lnTo>
                <a:lnTo>
                  <a:pt x="115" y="312"/>
                </a:lnTo>
                <a:lnTo>
                  <a:pt x="124" y="298"/>
                </a:lnTo>
                <a:lnTo>
                  <a:pt x="132" y="285"/>
                </a:lnTo>
                <a:lnTo>
                  <a:pt x="142" y="275"/>
                </a:lnTo>
                <a:lnTo>
                  <a:pt x="147" y="263"/>
                </a:lnTo>
                <a:lnTo>
                  <a:pt x="153" y="258"/>
                </a:lnTo>
                <a:lnTo>
                  <a:pt x="157" y="252"/>
                </a:lnTo>
                <a:lnTo>
                  <a:pt x="159" y="252"/>
                </a:lnTo>
                <a:lnTo>
                  <a:pt x="175" y="240"/>
                </a:lnTo>
                <a:lnTo>
                  <a:pt x="194" y="234"/>
                </a:lnTo>
                <a:lnTo>
                  <a:pt x="196" y="242"/>
                </a:lnTo>
                <a:lnTo>
                  <a:pt x="206" y="248"/>
                </a:lnTo>
                <a:lnTo>
                  <a:pt x="211" y="252"/>
                </a:lnTo>
                <a:lnTo>
                  <a:pt x="211" y="263"/>
                </a:lnTo>
                <a:lnTo>
                  <a:pt x="223" y="254"/>
                </a:lnTo>
                <a:lnTo>
                  <a:pt x="237" y="244"/>
                </a:lnTo>
                <a:lnTo>
                  <a:pt x="250" y="234"/>
                </a:lnTo>
                <a:lnTo>
                  <a:pt x="266" y="227"/>
                </a:lnTo>
                <a:lnTo>
                  <a:pt x="279" y="219"/>
                </a:lnTo>
                <a:lnTo>
                  <a:pt x="295" y="215"/>
                </a:lnTo>
                <a:lnTo>
                  <a:pt x="310" y="213"/>
                </a:lnTo>
                <a:lnTo>
                  <a:pt x="328" y="215"/>
                </a:lnTo>
                <a:lnTo>
                  <a:pt x="326" y="227"/>
                </a:lnTo>
                <a:lnTo>
                  <a:pt x="320" y="238"/>
                </a:lnTo>
                <a:lnTo>
                  <a:pt x="310" y="250"/>
                </a:lnTo>
                <a:lnTo>
                  <a:pt x="308" y="265"/>
                </a:lnTo>
                <a:lnTo>
                  <a:pt x="318" y="263"/>
                </a:lnTo>
                <a:lnTo>
                  <a:pt x="330" y="261"/>
                </a:lnTo>
                <a:lnTo>
                  <a:pt x="341" y="258"/>
                </a:lnTo>
                <a:lnTo>
                  <a:pt x="353" y="254"/>
                </a:lnTo>
                <a:lnTo>
                  <a:pt x="365" y="248"/>
                </a:lnTo>
                <a:lnTo>
                  <a:pt x="376" y="246"/>
                </a:lnTo>
                <a:lnTo>
                  <a:pt x="388" y="244"/>
                </a:lnTo>
                <a:lnTo>
                  <a:pt x="402" y="246"/>
                </a:lnTo>
                <a:lnTo>
                  <a:pt x="417" y="240"/>
                </a:lnTo>
                <a:lnTo>
                  <a:pt x="433" y="238"/>
                </a:lnTo>
                <a:lnTo>
                  <a:pt x="450" y="238"/>
                </a:lnTo>
                <a:lnTo>
                  <a:pt x="467" y="238"/>
                </a:lnTo>
                <a:lnTo>
                  <a:pt x="483" y="238"/>
                </a:lnTo>
                <a:lnTo>
                  <a:pt x="500" y="240"/>
                </a:lnTo>
                <a:lnTo>
                  <a:pt x="518" y="240"/>
                </a:lnTo>
                <a:lnTo>
                  <a:pt x="535" y="240"/>
                </a:lnTo>
                <a:lnTo>
                  <a:pt x="533" y="227"/>
                </a:lnTo>
                <a:lnTo>
                  <a:pt x="528" y="219"/>
                </a:lnTo>
                <a:lnTo>
                  <a:pt x="516" y="213"/>
                </a:lnTo>
                <a:lnTo>
                  <a:pt x="506" y="211"/>
                </a:lnTo>
                <a:lnTo>
                  <a:pt x="493" y="205"/>
                </a:lnTo>
                <a:lnTo>
                  <a:pt x="483" y="201"/>
                </a:lnTo>
                <a:lnTo>
                  <a:pt x="477" y="194"/>
                </a:lnTo>
                <a:lnTo>
                  <a:pt x="477" y="182"/>
                </a:lnTo>
                <a:lnTo>
                  <a:pt x="481" y="166"/>
                </a:lnTo>
                <a:lnTo>
                  <a:pt x="495" y="161"/>
                </a:lnTo>
                <a:lnTo>
                  <a:pt x="508" y="153"/>
                </a:lnTo>
                <a:lnTo>
                  <a:pt x="516" y="139"/>
                </a:lnTo>
                <a:lnTo>
                  <a:pt x="499" y="139"/>
                </a:lnTo>
                <a:lnTo>
                  <a:pt x="483" y="141"/>
                </a:lnTo>
                <a:lnTo>
                  <a:pt x="467" y="143"/>
                </a:lnTo>
                <a:lnTo>
                  <a:pt x="452" y="149"/>
                </a:lnTo>
                <a:lnTo>
                  <a:pt x="435" y="153"/>
                </a:lnTo>
                <a:lnTo>
                  <a:pt x="421" y="159"/>
                </a:lnTo>
                <a:lnTo>
                  <a:pt x="405" y="165"/>
                </a:lnTo>
                <a:lnTo>
                  <a:pt x="392" y="170"/>
                </a:lnTo>
                <a:lnTo>
                  <a:pt x="388" y="151"/>
                </a:lnTo>
                <a:lnTo>
                  <a:pt x="396" y="134"/>
                </a:lnTo>
                <a:lnTo>
                  <a:pt x="402" y="116"/>
                </a:lnTo>
                <a:lnTo>
                  <a:pt x="402" y="99"/>
                </a:lnTo>
                <a:lnTo>
                  <a:pt x="405" y="85"/>
                </a:lnTo>
                <a:lnTo>
                  <a:pt x="411" y="75"/>
                </a:lnTo>
                <a:lnTo>
                  <a:pt x="419" y="68"/>
                </a:lnTo>
                <a:lnTo>
                  <a:pt x="429" y="62"/>
                </a:lnTo>
                <a:lnTo>
                  <a:pt x="446" y="48"/>
                </a:lnTo>
                <a:lnTo>
                  <a:pt x="467" y="40"/>
                </a:lnTo>
                <a:lnTo>
                  <a:pt x="483" y="40"/>
                </a:lnTo>
                <a:lnTo>
                  <a:pt x="499" y="38"/>
                </a:lnTo>
                <a:lnTo>
                  <a:pt x="514" y="33"/>
                </a:lnTo>
                <a:lnTo>
                  <a:pt x="530" y="27"/>
                </a:lnTo>
                <a:lnTo>
                  <a:pt x="543" y="19"/>
                </a:lnTo>
                <a:lnTo>
                  <a:pt x="559" y="13"/>
                </a:lnTo>
                <a:lnTo>
                  <a:pt x="574" y="7"/>
                </a:lnTo>
                <a:lnTo>
                  <a:pt x="592" y="9"/>
                </a:lnTo>
                <a:lnTo>
                  <a:pt x="588" y="11"/>
                </a:lnTo>
                <a:lnTo>
                  <a:pt x="590" y="15"/>
                </a:lnTo>
                <a:lnTo>
                  <a:pt x="597" y="13"/>
                </a:lnTo>
                <a:lnTo>
                  <a:pt x="607" y="11"/>
                </a:lnTo>
                <a:lnTo>
                  <a:pt x="619" y="9"/>
                </a:lnTo>
                <a:lnTo>
                  <a:pt x="630" y="7"/>
                </a:lnTo>
                <a:lnTo>
                  <a:pt x="640" y="4"/>
                </a:lnTo>
                <a:lnTo>
                  <a:pt x="652" y="4"/>
                </a:lnTo>
                <a:lnTo>
                  <a:pt x="663" y="0"/>
                </a:lnTo>
                <a:lnTo>
                  <a:pt x="677" y="0"/>
                </a:lnTo>
                <a:lnTo>
                  <a:pt x="659" y="9"/>
                </a:lnTo>
                <a:lnTo>
                  <a:pt x="644" y="13"/>
                </a:lnTo>
                <a:lnTo>
                  <a:pt x="636" y="17"/>
                </a:lnTo>
                <a:lnTo>
                  <a:pt x="630" y="17"/>
                </a:lnTo>
                <a:close/>
              </a:path>
            </a:pathLst>
          </a:custGeom>
          <a:solidFill>
            <a:srgbClr val="8026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16" name=""/>
          <p:cNvSpPr/>
          <p:nvPr/>
        </p:nvSpPr>
        <p:spPr>
          <a:xfrm>
            <a:off x="4160880" y="2681280"/>
            <a:ext cx="2789280" cy="3357720"/>
          </a:xfrm>
          <a:custGeom>
            <a:avLst/>
            <a:gdLst/>
            <a:ahLst/>
            <a:rect l="l" t="t" r="r" b="b"/>
            <a:pathLst>
              <a:path w="3514" h="4231">
                <a:moveTo>
                  <a:pt x="2455" y="35"/>
                </a:moveTo>
                <a:lnTo>
                  <a:pt x="2465" y="37"/>
                </a:lnTo>
                <a:lnTo>
                  <a:pt x="2477" y="41"/>
                </a:lnTo>
                <a:lnTo>
                  <a:pt x="2488" y="45"/>
                </a:lnTo>
                <a:lnTo>
                  <a:pt x="2500" y="49"/>
                </a:lnTo>
                <a:lnTo>
                  <a:pt x="2512" y="51"/>
                </a:lnTo>
                <a:lnTo>
                  <a:pt x="2523" y="55"/>
                </a:lnTo>
                <a:lnTo>
                  <a:pt x="2535" y="57"/>
                </a:lnTo>
                <a:lnTo>
                  <a:pt x="2548" y="61"/>
                </a:lnTo>
                <a:lnTo>
                  <a:pt x="2560" y="61"/>
                </a:lnTo>
                <a:lnTo>
                  <a:pt x="2572" y="64"/>
                </a:lnTo>
                <a:lnTo>
                  <a:pt x="2583" y="66"/>
                </a:lnTo>
                <a:lnTo>
                  <a:pt x="2595" y="72"/>
                </a:lnTo>
                <a:lnTo>
                  <a:pt x="2605" y="76"/>
                </a:lnTo>
                <a:lnTo>
                  <a:pt x="2616" y="82"/>
                </a:lnTo>
                <a:lnTo>
                  <a:pt x="2628" y="88"/>
                </a:lnTo>
                <a:lnTo>
                  <a:pt x="2640" y="97"/>
                </a:lnTo>
                <a:lnTo>
                  <a:pt x="2651" y="97"/>
                </a:lnTo>
                <a:lnTo>
                  <a:pt x="2663" y="103"/>
                </a:lnTo>
                <a:lnTo>
                  <a:pt x="2675" y="109"/>
                </a:lnTo>
                <a:lnTo>
                  <a:pt x="2688" y="119"/>
                </a:lnTo>
                <a:lnTo>
                  <a:pt x="2700" y="126"/>
                </a:lnTo>
                <a:lnTo>
                  <a:pt x="2711" y="136"/>
                </a:lnTo>
                <a:lnTo>
                  <a:pt x="2723" y="144"/>
                </a:lnTo>
                <a:lnTo>
                  <a:pt x="2737" y="152"/>
                </a:lnTo>
                <a:lnTo>
                  <a:pt x="2754" y="159"/>
                </a:lnTo>
                <a:lnTo>
                  <a:pt x="2772" y="167"/>
                </a:lnTo>
                <a:lnTo>
                  <a:pt x="2789" y="175"/>
                </a:lnTo>
                <a:lnTo>
                  <a:pt x="2808" y="183"/>
                </a:lnTo>
                <a:lnTo>
                  <a:pt x="2814" y="192"/>
                </a:lnTo>
                <a:lnTo>
                  <a:pt x="2820" y="204"/>
                </a:lnTo>
                <a:lnTo>
                  <a:pt x="2826" y="214"/>
                </a:lnTo>
                <a:lnTo>
                  <a:pt x="2834" y="223"/>
                </a:lnTo>
                <a:lnTo>
                  <a:pt x="2849" y="243"/>
                </a:lnTo>
                <a:lnTo>
                  <a:pt x="2865" y="264"/>
                </a:lnTo>
                <a:lnTo>
                  <a:pt x="2874" y="276"/>
                </a:lnTo>
                <a:lnTo>
                  <a:pt x="2882" y="291"/>
                </a:lnTo>
                <a:lnTo>
                  <a:pt x="2888" y="307"/>
                </a:lnTo>
                <a:lnTo>
                  <a:pt x="2894" y="324"/>
                </a:lnTo>
                <a:lnTo>
                  <a:pt x="2898" y="340"/>
                </a:lnTo>
                <a:lnTo>
                  <a:pt x="2903" y="355"/>
                </a:lnTo>
                <a:lnTo>
                  <a:pt x="2909" y="371"/>
                </a:lnTo>
                <a:lnTo>
                  <a:pt x="2919" y="388"/>
                </a:lnTo>
                <a:lnTo>
                  <a:pt x="2919" y="404"/>
                </a:lnTo>
                <a:lnTo>
                  <a:pt x="2923" y="419"/>
                </a:lnTo>
                <a:lnTo>
                  <a:pt x="2927" y="435"/>
                </a:lnTo>
                <a:lnTo>
                  <a:pt x="2932" y="452"/>
                </a:lnTo>
                <a:lnTo>
                  <a:pt x="2936" y="466"/>
                </a:lnTo>
                <a:lnTo>
                  <a:pt x="2940" y="483"/>
                </a:lnTo>
                <a:lnTo>
                  <a:pt x="2944" y="497"/>
                </a:lnTo>
                <a:lnTo>
                  <a:pt x="2950" y="514"/>
                </a:lnTo>
                <a:lnTo>
                  <a:pt x="2952" y="532"/>
                </a:lnTo>
                <a:lnTo>
                  <a:pt x="2956" y="549"/>
                </a:lnTo>
                <a:lnTo>
                  <a:pt x="2958" y="569"/>
                </a:lnTo>
                <a:lnTo>
                  <a:pt x="2964" y="588"/>
                </a:lnTo>
                <a:lnTo>
                  <a:pt x="2965" y="607"/>
                </a:lnTo>
                <a:lnTo>
                  <a:pt x="2969" y="629"/>
                </a:lnTo>
                <a:lnTo>
                  <a:pt x="2971" y="648"/>
                </a:lnTo>
                <a:lnTo>
                  <a:pt x="2975" y="669"/>
                </a:lnTo>
                <a:lnTo>
                  <a:pt x="2975" y="681"/>
                </a:lnTo>
                <a:lnTo>
                  <a:pt x="2975" y="697"/>
                </a:lnTo>
                <a:lnTo>
                  <a:pt x="2975" y="710"/>
                </a:lnTo>
                <a:lnTo>
                  <a:pt x="2975" y="726"/>
                </a:lnTo>
                <a:lnTo>
                  <a:pt x="2973" y="741"/>
                </a:lnTo>
                <a:lnTo>
                  <a:pt x="2973" y="757"/>
                </a:lnTo>
                <a:lnTo>
                  <a:pt x="2973" y="772"/>
                </a:lnTo>
                <a:lnTo>
                  <a:pt x="2973" y="790"/>
                </a:lnTo>
                <a:lnTo>
                  <a:pt x="2969" y="805"/>
                </a:lnTo>
                <a:lnTo>
                  <a:pt x="2967" y="821"/>
                </a:lnTo>
                <a:lnTo>
                  <a:pt x="2965" y="836"/>
                </a:lnTo>
                <a:lnTo>
                  <a:pt x="2964" y="854"/>
                </a:lnTo>
                <a:lnTo>
                  <a:pt x="2960" y="869"/>
                </a:lnTo>
                <a:lnTo>
                  <a:pt x="2956" y="885"/>
                </a:lnTo>
                <a:lnTo>
                  <a:pt x="2952" y="900"/>
                </a:lnTo>
                <a:lnTo>
                  <a:pt x="2948" y="916"/>
                </a:lnTo>
                <a:lnTo>
                  <a:pt x="2940" y="929"/>
                </a:lnTo>
                <a:lnTo>
                  <a:pt x="2934" y="945"/>
                </a:lnTo>
                <a:lnTo>
                  <a:pt x="2929" y="960"/>
                </a:lnTo>
                <a:lnTo>
                  <a:pt x="2923" y="976"/>
                </a:lnTo>
                <a:lnTo>
                  <a:pt x="2915" y="989"/>
                </a:lnTo>
                <a:lnTo>
                  <a:pt x="2909" y="1003"/>
                </a:lnTo>
                <a:lnTo>
                  <a:pt x="2903" y="1016"/>
                </a:lnTo>
                <a:lnTo>
                  <a:pt x="2898" y="1030"/>
                </a:lnTo>
                <a:lnTo>
                  <a:pt x="2882" y="1049"/>
                </a:lnTo>
                <a:lnTo>
                  <a:pt x="2868" y="1071"/>
                </a:lnTo>
                <a:lnTo>
                  <a:pt x="2853" y="1090"/>
                </a:lnTo>
                <a:lnTo>
                  <a:pt x="2839" y="1111"/>
                </a:lnTo>
                <a:lnTo>
                  <a:pt x="2841" y="1117"/>
                </a:lnTo>
                <a:lnTo>
                  <a:pt x="2837" y="1123"/>
                </a:lnTo>
                <a:lnTo>
                  <a:pt x="2832" y="1129"/>
                </a:lnTo>
                <a:lnTo>
                  <a:pt x="2832" y="1139"/>
                </a:lnTo>
                <a:lnTo>
                  <a:pt x="2818" y="1152"/>
                </a:lnTo>
                <a:lnTo>
                  <a:pt x="2808" y="1170"/>
                </a:lnTo>
                <a:lnTo>
                  <a:pt x="2799" y="1187"/>
                </a:lnTo>
                <a:lnTo>
                  <a:pt x="2791" y="1205"/>
                </a:lnTo>
                <a:lnTo>
                  <a:pt x="2781" y="1220"/>
                </a:lnTo>
                <a:lnTo>
                  <a:pt x="2773" y="1237"/>
                </a:lnTo>
                <a:lnTo>
                  <a:pt x="2764" y="1255"/>
                </a:lnTo>
                <a:lnTo>
                  <a:pt x="2756" y="1272"/>
                </a:lnTo>
                <a:lnTo>
                  <a:pt x="2748" y="1282"/>
                </a:lnTo>
                <a:lnTo>
                  <a:pt x="2744" y="1294"/>
                </a:lnTo>
                <a:lnTo>
                  <a:pt x="2742" y="1305"/>
                </a:lnTo>
                <a:lnTo>
                  <a:pt x="2742" y="1317"/>
                </a:lnTo>
                <a:lnTo>
                  <a:pt x="2740" y="1329"/>
                </a:lnTo>
                <a:lnTo>
                  <a:pt x="2740" y="1340"/>
                </a:lnTo>
                <a:lnTo>
                  <a:pt x="2742" y="1352"/>
                </a:lnTo>
                <a:lnTo>
                  <a:pt x="2746" y="1364"/>
                </a:lnTo>
                <a:lnTo>
                  <a:pt x="2746" y="1375"/>
                </a:lnTo>
                <a:lnTo>
                  <a:pt x="2750" y="1387"/>
                </a:lnTo>
                <a:lnTo>
                  <a:pt x="2752" y="1398"/>
                </a:lnTo>
                <a:lnTo>
                  <a:pt x="2756" y="1410"/>
                </a:lnTo>
                <a:lnTo>
                  <a:pt x="2756" y="1422"/>
                </a:lnTo>
                <a:lnTo>
                  <a:pt x="2758" y="1433"/>
                </a:lnTo>
                <a:lnTo>
                  <a:pt x="2760" y="1445"/>
                </a:lnTo>
                <a:lnTo>
                  <a:pt x="2762" y="1457"/>
                </a:lnTo>
                <a:lnTo>
                  <a:pt x="2779" y="1462"/>
                </a:lnTo>
                <a:lnTo>
                  <a:pt x="2797" y="1474"/>
                </a:lnTo>
                <a:lnTo>
                  <a:pt x="2814" y="1484"/>
                </a:lnTo>
                <a:lnTo>
                  <a:pt x="2834" y="1495"/>
                </a:lnTo>
                <a:lnTo>
                  <a:pt x="2847" y="1513"/>
                </a:lnTo>
                <a:lnTo>
                  <a:pt x="2859" y="1534"/>
                </a:lnTo>
                <a:lnTo>
                  <a:pt x="2863" y="1544"/>
                </a:lnTo>
                <a:lnTo>
                  <a:pt x="2868" y="1555"/>
                </a:lnTo>
                <a:lnTo>
                  <a:pt x="2872" y="1565"/>
                </a:lnTo>
                <a:lnTo>
                  <a:pt x="2878" y="1577"/>
                </a:lnTo>
                <a:lnTo>
                  <a:pt x="2886" y="1596"/>
                </a:lnTo>
                <a:lnTo>
                  <a:pt x="2898" y="1618"/>
                </a:lnTo>
                <a:lnTo>
                  <a:pt x="2903" y="1625"/>
                </a:lnTo>
                <a:lnTo>
                  <a:pt x="2911" y="1635"/>
                </a:lnTo>
                <a:lnTo>
                  <a:pt x="2919" y="1643"/>
                </a:lnTo>
                <a:lnTo>
                  <a:pt x="2931" y="1652"/>
                </a:lnTo>
                <a:lnTo>
                  <a:pt x="2942" y="1660"/>
                </a:lnTo>
                <a:lnTo>
                  <a:pt x="2956" y="1672"/>
                </a:lnTo>
                <a:lnTo>
                  <a:pt x="2967" y="1682"/>
                </a:lnTo>
                <a:lnTo>
                  <a:pt x="2981" y="1693"/>
                </a:lnTo>
                <a:lnTo>
                  <a:pt x="2993" y="1705"/>
                </a:lnTo>
                <a:lnTo>
                  <a:pt x="3006" y="1716"/>
                </a:lnTo>
                <a:lnTo>
                  <a:pt x="3018" y="1728"/>
                </a:lnTo>
                <a:lnTo>
                  <a:pt x="3031" y="1740"/>
                </a:lnTo>
                <a:lnTo>
                  <a:pt x="3043" y="1749"/>
                </a:lnTo>
                <a:lnTo>
                  <a:pt x="3055" y="1761"/>
                </a:lnTo>
                <a:lnTo>
                  <a:pt x="3068" y="1771"/>
                </a:lnTo>
                <a:lnTo>
                  <a:pt x="3082" y="1782"/>
                </a:lnTo>
                <a:lnTo>
                  <a:pt x="3093" y="1792"/>
                </a:lnTo>
                <a:lnTo>
                  <a:pt x="3109" y="1802"/>
                </a:lnTo>
                <a:lnTo>
                  <a:pt x="3123" y="1809"/>
                </a:lnTo>
                <a:lnTo>
                  <a:pt x="3140" y="1819"/>
                </a:lnTo>
                <a:lnTo>
                  <a:pt x="3157" y="1837"/>
                </a:lnTo>
                <a:lnTo>
                  <a:pt x="3175" y="1854"/>
                </a:lnTo>
                <a:lnTo>
                  <a:pt x="3194" y="1870"/>
                </a:lnTo>
                <a:lnTo>
                  <a:pt x="3214" y="1887"/>
                </a:lnTo>
                <a:lnTo>
                  <a:pt x="3231" y="1903"/>
                </a:lnTo>
                <a:lnTo>
                  <a:pt x="3252" y="1918"/>
                </a:lnTo>
                <a:lnTo>
                  <a:pt x="3270" y="1936"/>
                </a:lnTo>
                <a:lnTo>
                  <a:pt x="3291" y="1953"/>
                </a:lnTo>
                <a:lnTo>
                  <a:pt x="3299" y="1963"/>
                </a:lnTo>
                <a:lnTo>
                  <a:pt x="3307" y="1976"/>
                </a:lnTo>
                <a:lnTo>
                  <a:pt x="3313" y="1990"/>
                </a:lnTo>
                <a:lnTo>
                  <a:pt x="3320" y="2007"/>
                </a:lnTo>
                <a:lnTo>
                  <a:pt x="3324" y="2023"/>
                </a:lnTo>
                <a:lnTo>
                  <a:pt x="3328" y="2040"/>
                </a:lnTo>
                <a:lnTo>
                  <a:pt x="3334" y="2056"/>
                </a:lnTo>
                <a:lnTo>
                  <a:pt x="3342" y="2073"/>
                </a:lnTo>
                <a:lnTo>
                  <a:pt x="3348" y="2091"/>
                </a:lnTo>
                <a:lnTo>
                  <a:pt x="3355" y="2110"/>
                </a:lnTo>
                <a:lnTo>
                  <a:pt x="3363" y="2129"/>
                </a:lnTo>
                <a:lnTo>
                  <a:pt x="3371" y="2149"/>
                </a:lnTo>
                <a:lnTo>
                  <a:pt x="3377" y="2168"/>
                </a:lnTo>
                <a:lnTo>
                  <a:pt x="3382" y="2190"/>
                </a:lnTo>
                <a:lnTo>
                  <a:pt x="3388" y="2209"/>
                </a:lnTo>
                <a:lnTo>
                  <a:pt x="3396" y="2230"/>
                </a:lnTo>
                <a:lnTo>
                  <a:pt x="3402" y="2250"/>
                </a:lnTo>
                <a:lnTo>
                  <a:pt x="3408" y="2271"/>
                </a:lnTo>
                <a:lnTo>
                  <a:pt x="3413" y="2290"/>
                </a:lnTo>
                <a:lnTo>
                  <a:pt x="3419" y="2312"/>
                </a:lnTo>
                <a:lnTo>
                  <a:pt x="3421" y="2321"/>
                </a:lnTo>
                <a:lnTo>
                  <a:pt x="3425" y="2331"/>
                </a:lnTo>
                <a:lnTo>
                  <a:pt x="3427" y="2343"/>
                </a:lnTo>
                <a:lnTo>
                  <a:pt x="3431" y="2354"/>
                </a:lnTo>
                <a:lnTo>
                  <a:pt x="3433" y="2364"/>
                </a:lnTo>
                <a:lnTo>
                  <a:pt x="3437" y="2374"/>
                </a:lnTo>
                <a:lnTo>
                  <a:pt x="3439" y="2385"/>
                </a:lnTo>
                <a:lnTo>
                  <a:pt x="3443" y="2397"/>
                </a:lnTo>
                <a:lnTo>
                  <a:pt x="3444" y="2409"/>
                </a:lnTo>
                <a:lnTo>
                  <a:pt x="3448" y="2422"/>
                </a:lnTo>
                <a:lnTo>
                  <a:pt x="3450" y="2434"/>
                </a:lnTo>
                <a:lnTo>
                  <a:pt x="3454" y="2447"/>
                </a:lnTo>
                <a:lnTo>
                  <a:pt x="3456" y="2459"/>
                </a:lnTo>
                <a:lnTo>
                  <a:pt x="3460" y="2473"/>
                </a:lnTo>
                <a:lnTo>
                  <a:pt x="3462" y="2484"/>
                </a:lnTo>
                <a:lnTo>
                  <a:pt x="3466" y="2498"/>
                </a:lnTo>
                <a:lnTo>
                  <a:pt x="3468" y="2509"/>
                </a:lnTo>
                <a:lnTo>
                  <a:pt x="3470" y="2523"/>
                </a:lnTo>
                <a:lnTo>
                  <a:pt x="3472" y="2535"/>
                </a:lnTo>
                <a:lnTo>
                  <a:pt x="3474" y="2548"/>
                </a:lnTo>
                <a:lnTo>
                  <a:pt x="3476" y="2560"/>
                </a:lnTo>
                <a:lnTo>
                  <a:pt x="3477" y="2575"/>
                </a:lnTo>
                <a:lnTo>
                  <a:pt x="3479" y="2589"/>
                </a:lnTo>
                <a:lnTo>
                  <a:pt x="3483" y="2604"/>
                </a:lnTo>
                <a:lnTo>
                  <a:pt x="3483" y="2616"/>
                </a:lnTo>
                <a:lnTo>
                  <a:pt x="3485" y="2628"/>
                </a:lnTo>
                <a:lnTo>
                  <a:pt x="3487" y="2641"/>
                </a:lnTo>
                <a:lnTo>
                  <a:pt x="3489" y="2655"/>
                </a:lnTo>
                <a:lnTo>
                  <a:pt x="3489" y="2667"/>
                </a:lnTo>
                <a:lnTo>
                  <a:pt x="3491" y="2680"/>
                </a:lnTo>
                <a:lnTo>
                  <a:pt x="3493" y="2694"/>
                </a:lnTo>
                <a:lnTo>
                  <a:pt x="3495" y="2707"/>
                </a:lnTo>
                <a:lnTo>
                  <a:pt x="3495" y="2719"/>
                </a:lnTo>
                <a:lnTo>
                  <a:pt x="3497" y="2732"/>
                </a:lnTo>
                <a:lnTo>
                  <a:pt x="3499" y="2744"/>
                </a:lnTo>
                <a:lnTo>
                  <a:pt x="3501" y="2758"/>
                </a:lnTo>
                <a:lnTo>
                  <a:pt x="3503" y="2769"/>
                </a:lnTo>
                <a:lnTo>
                  <a:pt x="3505" y="2783"/>
                </a:lnTo>
                <a:lnTo>
                  <a:pt x="3507" y="2796"/>
                </a:lnTo>
                <a:lnTo>
                  <a:pt x="3508" y="2810"/>
                </a:lnTo>
                <a:lnTo>
                  <a:pt x="3514" y="2816"/>
                </a:lnTo>
                <a:lnTo>
                  <a:pt x="3512" y="2829"/>
                </a:lnTo>
                <a:lnTo>
                  <a:pt x="3512" y="2847"/>
                </a:lnTo>
                <a:lnTo>
                  <a:pt x="3512" y="2860"/>
                </a:lnTo>
                <a:lnTo>
                  <a:pt x="3512" y="2878"/>
                </a:lnTo>
                <a:lnTo>
                  <a:pt x="3512" y="2891"/>
                </a:lnTo>
                <a:lnTo>
                  <a:pt x="3512" y="2909"/>
                </a:lnTo>
                <a:lnTo>
                  <a:pt x="3512" y="2922"/>
                </a:lnTo>
                <a:lnTo>
                  <a:pt x="3512" y="2940"/>
                </a:lnTo>
                <a:lnTo>
                  <a:pt x="3510" y="2954"/>
                </a:lnTo>
                <a:lnTo>
                  <a:pt x="3510" y="2969"/>
                </a:lnTo>
                <a:lnTo>
                  <a:pt x="3508" y="2985"/>
                </a:lnTo>
                <a:lnTo>
                  <a:pt x="3508" y="3000"/>
                </a:lnTo>
                <a:lnTo>
                  <a:pt x="3507" y="3014"/>
                </a:lnTo>
                <a:lnTo>
                  <a:pt x="3507" y="3031"/>
                </a:lnTo>
                <a:lnTo>
                  <a:pt x="3505" y="3045"/>
                </a:lnTo>
                <a:lnTo>
                  <a:pt x="3505" y="3062"/>
                </a:lnTo>
                <a:lnTo>
                  <a:pt x="3501" y="3076"/>
                </a:lnTo>
                <a:lnTo>
                  <a:pt x="3499" y="3091"/>
                </a:lnTo>
                <a:lnTo>
                  <a:pt x="3497" y="3105"/>
                </a:lnTo>
                <a:lnTo>
                  <a:pt x="3495" y="3122"/>
                </a:lnTo>
                <a:lnTo>
                  <a:pt x="3491" y="3136"/>
                </a:lnTo>
                <a:lnTo>
                  <a:pt x="3491" y="3151"/>
                </a:lnTo>
                <a:lnTo>
                  <a:pt x="3487" y="3165"/>
                </a:lnTo>
                <a:lnTo>
                  <a:pt x="3487" y="3182"/>
                </a:lnTo>
                <a:lnTo>
                  <a:pt x="3483" y="3196"/>
                </a:lnTo>
                <a:lnTo>
                  <a:pt x="3481" y="3211"/>
                </a:lnTo>
                <a:lnTo>
                  <a:pt x="3479" y="3227"/>
                </a:lnTo>
                <a:lnTo>
                  <a:pt x="3477" y="3242"/>
                </a:lnTo>
                <a:lnTo>
                  <a:pt x="3474" y="3256"/>
                </a:lnTo>
                <a:lnTo>
                  <a:pt x="3472" y="3273"/>
                </a:lnTo>
                <a:lnTo>
                  <a:pt x="3470" y="3287"/>
                </a:lnTo>
                <a:lnTo>
                  <a:pt x="3468" y="3304"/>
                </a:lnTo>
                <a:lnTo>
                  <a:pt x="3464" y="3318"/>
                </a:lnTo>
                <a:lnTo>
                  <a:pt x="3460" y="3334"/>
                </a:lnTo>
                <a:lnTo>
                  <a:pt x="3456" y="3351"/>
                </a:lnTo>
                <a:lnTo>
                  <a:pt x="3452" y="3368"/>
                </a:lnTo>
                <a:lnTo>
                  <a:pt x="3446" y="3384"/>
                </a:lnTo>
                <a:lnTo>
                  <a:pt x="3443" y="3401"/>
                </a:lnTo>
                <a:lnTo>
                  <a:pt x="3439" y="3417"/>
                </a:lnTo>
                <a:lnTo>
                  <a:pt x="3439" y="3434"/>
                </a:lnTo>
                <a:lnTo>
                  <a:pt x="3437" y="3432"/>
                </a:lnTo>
                <a:lnTo>
                  <a:pt x="3431" y="3450"/>
                </a:lnTo>
                <a:lnTo>
                  <a:pt x="3429" y="3467"/>
                </a:lnTo>
                <a:lnTo>
                  <a:pt x="3423" y="3485"/>
                </a:lnTo>
                <a:lnTo>
                  <a:pt x="3421" y="3502"/>
                </a:lnTo>
                <a:lnTo>
                  <a:pt x="3417" y="3520"/>
                </a:lnTo>
                <a:lnTo>
                  <a:pt x="3413" y="3537"/>
                </a:lnTo>
                <a:lnTo>
                  <a:pt x="3410" y="3555"/>
                </a:lnTo>
                <a:lnTo>
                  <a:pt x="3408" y="3572"/>
                </a:lnTo>
                <a:lnTo>
                  <a:pt x="3402" y="3589"/>
                </a:lnTo>
                <a:lnTo>
                  <a:pt x="3400" y="3607"/>
                </a:lnTo>
                <a:lnTo>
                  <a:pt x="3394" y="3624"/>
                </a:lnTo>
                <a:lnTo>
                  <a:pt x="3392" y="3642"/>
                </a:lnTo>
                <a:lnTo>
                  <a:pt x="3388" y="3659"/>
                </a:lnTo>
                <a:lnTo>
                  <a:pt x="3384" y="3677"/>
                </a:lnTo>
                <a:lnTo>
                  <a:pt x="3380" y="3694"/>
                </a:lnTo>
                <a:lnTo>
                  <a:pt x="3379" y="3714"/>
                </a:lnTo>
                <a:lnTo>
                  <a:pt x="3373" y="3731"/>
                </a:lnTo>
                <a:lnTo>
                  <a:pt x="3371" y="3748"/>
                </a:lnTo>
                <a:lnTo>
                  <a:pt x="3365" y="3766"/>
                </a:lnTo>
                <a:lnTo>
                  <a:pt x="3363" y="3783"/>
                </a:lnTo>
                <a:lnTo>
                  <a:pt x="3359" y="3801"/>
                </a:lnTo>
                <a:lnTo>
                  <a:pt x="3355" y="3818"/>
                </a:lnTo>
                <a:lnTo>
                  <a:pt x="3351" y="3836"/>
                </a:lnTo>
                <a:lnTo>
                  <a:pt x="3349" y="3853"/>
                </a:lnTo>
                <a:lnTo>
                  <a:pt x="3344" y="3871"/>
                </a:lnTo>
                <a:lnTo>
                  <a:pt x="3342" y="3888"/>
                </a:lnTo>
                <a:lnTo>
                  <a:pt x="3336" y="3906"/>
                </a:lnTo>
                <a:lnTo>
                  <a:pt x="3334" y="3923"/>
                </a:lnTo>
                <a:lnTo>
                  <a:pt x="3330" y="3940"/>
                </a:lnTo>
                <a:lnTo>
                  <a:pt x="3328" y="3958"/>
                </a:lnTo>
                <a:lnTo>
                  <a:pt x="3324" y="3975"/>
                </a:lnTo>
                <a:lnTo>
                  <a:pt x="3322" y="3995"/>
                </a:lnTo>
                <a:lnTo>
                  <a:pt x="3315" y="4006"/>
                </a:lnTo>
                <a:lnTo>
                  <a:pt x="3307" y="4020"/>
                </a:lnTo>
                <a:lnTo>
                  <a:pt x="3301" y="4034"/>
                </a:lnTo>
                <a:lnTo>
                  <a:pt x="3295" y="4047"/>
                </a:lnTo>
                <a:lnTo>
                  <a:pt x="3289" y="4061"/>
                </a:lnTo>
                <a:lnTo>
                  <a:pt x="3284" y="4076"/>
                </a:lnTo>
                <a:lnTo>
                  <a:pt x="3278" y="4090"/>
                </a:lnTo>
                <a:lnTo>
                  <a:pt x="3272" y="4105"/>
                </a:lnTo>
                <a:lnTo>
                  <a:pt x="3264" y="4119"/>
                </a:lnTo>
                <a:lnTo>
                  <a:pt x="3258" y="4132"/>
                </a:lnTo>
                <a:lnTo>
                  <a:pt x="3252" y="4146"/>
                </a:lnTo>
                <a:lnTo>
                  <a:pt x="3247" y="4162"/>
                </a:lnTo>
                <a:lnTo>
                  <a:pt x="3239" y="4173"/>
                </a:lnTo>
                <a:lnTo>
                  <a:pt x="3233" y="4189"/>
                </a:lnTo>
                <a:lnTo>
                  <a:pt x="3225" y="4200"/>
                </a:lnTo>
                <a:lnTo>
                  <a:pt x="3220" y="4216"/>
                </a:lnTo>
                <a:lnTo>
                  <a:pt x="3220" y="4231"/>
                </a:lnTo>
                <a:lnTo>
                  <a:pt x="1627" y="4231"/>
                </a:lnTo>
                <a:lnTo>
                  <a:pt x="1627" y="4229"/>
                </a:lnTo>
                <a:lnTo>
                  <a:pt x="1627" y="4227"/>
                </a:lnTo>
                <a:lnTo>
                  <a:pt x="1633" y="4216"/>
                </a:lnTo>
                <a:lnTo>
                  <a:pt x="1635" y="4204"/>
                </a:lnTo>
                <a:lnTo>
                  <a:pt x="1635" y="4191"/>
                </a:lnTo>
                <a:lnTo>
                  <a:pt x="1645" y="4183"/>
                </a:lnTo>
                <a:lnTo>
                  <a:pt x="1643" y="4169"/>
                </a:lnTo>
                <a:lnTo>
                  <a:pt x="1643" y="4158"/>
                </a:lnTo>
                <a:lnTo>
                  <a:pt x="1643" y="4144"/>
                </a:lnTo>
                <a:lnTo>
                  <a:pt x="1643" y="4132"/>
                </a:lnTo>
                <a:lnTo>
                  <a:pt x="1641" y="4121"/>
                </a:lnTo>
                <a:lnTo>
                  <a:pt x="1641" y="4109"/>
                </a:lnTo>
                <a:lnTo>
                  <a:pt x="1641" y="4098"/>
                </a:lnTo>
                <a:lnTo>
                  <a:pt x="1641" y="4086"/>
                </a:lnTo>
                <a:lnTo>
                  <a:pt x="1639" y="4074"/>
                </a:lnTo>
                <a:lnTo>
                  <a:pt x="1639" y="4063"/>
                </a:lnTo>
                <a:lnTo>
                  <a:pt x="1637" y="4051"/>
                </a:lnTo>
                <a:lnTo>
                  <a:pt x="1637" y="4041"/>
                </a:lnTo>
                <a:lnTo>
                  <a:pt x="1635" y="4030"/>
                </a:lnTo>
                <a:lnTo>
                  <a:pt x="1635" y="4018"/>
                </a:lnTo>
                <a:lnTo>
                  <a:pt x="1635" y="4006"/>
                </a:lnTo>
                <a:lnTo>
                  <a:pt x="1635" y="3997"/>
                </a:lnTo>
                <a:lnTo>
                  <a:pt x="1633" y="3985"/>
                </a:lnTo>
                <a:lnTo>
                  <a:pt x="1631" y="3973"/>
                </a:lnTo>
                <a:lnTo>
                  <a:pt x="1631" y="3962"/>
                </a:lnTo>
                <a:lnTo>
                  <a:pt x="1631" y="3950"/>
                </a:lnTo>
                <a:lnTo>
                  <a:pt x="1629" y="3939"/>
                </a:lnTo>
                <a:lnTo>
                  <a:pt x="1627" y="3927"/>
                </a:lnTo>
                <a:lnTo>
                  <a:pt x="1627" y="3915"/>
                </a:lnTo>
                <a:lnTo>
                  <a:pt x="1627" y="3906"/>
                </a:lnTo>
                <a:lnTo>
                  <a:pt x="1625" y="3892"/>
                </a:lnTo>
                <a:lnTo>
                  <a:pt x="1625" y="3880"/>
                </a:lnTo>
                <a:lnTo>
                  <a:pt x="1623" y="3869"/>
                </a:lnTo>
                <a:lnTo>
                  <a:pt x="1623" y="3857"/>
                </a:lnTo>
                <a:lnTo>
                  <a:pt x="1621" y="3844"/>
                </a:lnTo>
                <a:lnTo>
                  <a:pt x="1621" y="3832"/>
                </a:lnTo>
                <a:lnTo>
                  <a:pt x="1621" y="3820"/>
                </a:lnTo>
                <a:lnTo>
                  <a:pt x="1621" y="3809"/>
                </a:lnTo>
                <a:lnTo>
                  <a:pt x="1620" y="3787"/>
                </a:lnTo>
                <a:lnTo>
                  <a:pt x="1623" y="3770"/>
                </a:lnTo>
                <a:lnTo>
                  <a:pt x="1627" y="3752"/>
                </a:lnTo>
                <a:lnTo>
                  <a:pt x="1633" y="3735"/>
                </a:lnTo>
                <a:lnTo>
                  <a:pt x="1639" y="3716"/>
                </a:lnTo>
                <a:lnTo>
                  <a:pt x="1645" y="3698"/>
                </a:lnTo>
                <a:lnTo>
                  <a:pt x="1649" y="3679"/>
                </a:lnTo>
                <a:lnTo>
                  <a:pt x="1653" y="3661"/>
                </a:lnTo>
                <a:lnTo>
                  <a:pt x="1635" y="3653"/>
                </a:lnTo>
                <a:lnTo>
                  <a:pt x="1618" y="3648"/>
                </a:lnTo>
                <a:lnTo>
                  <a:pt x="1600" y="3640"/>
                </a:lnTo>
                <a:lnTo>
                  <a:pt x="1585" y="3634"/>
                </a:lnTo>
                <a:lnTo>
                  <a:pt x="1567" y="3628"/>
                </a:lnTo>
                <a:lnTo>
                  <a:pt x="1550" y="3622"/>
                </a:lnTo>
                <a:lnTo>
                  <a:pt x="1532" y="3617"/>
                </a:lnTo>
                <a:lnTo>
                  <a:pt x="1517" y="3611"/>
                </a:lnTo>
                <a:lnTo>
                  <a:pt x="1499" y="3603"/>
                </a:lnTo>
                <a:lnTo>
                  <a:pt x="1482" y="3597"/>
                </a:lnTo>
                <a:lnTo>
                  <a:pt x="1464" y="3589"/>
                </a:lnTo>
                <a:lnTo>
                  <a:pt x="1449" y="3584"/>
                </a:lnTo>
                <a:lnTo>
                  <a:pt x="1431" y="3576"/>
                </a:lnTo>
                <a:lnTo>
                  <a:pt x="1416" y="3568"/>
                </a:lnTo>
                <a:lnTo>
                  <a:pt x="1400" y="3560"/>
                </a:lnTo>
                <a:lnTo>
                  <a:pt x="1385" y="3555"/>
                </a:lnTo>
                <a:lnTo>
                  <a:pt x="1369" y="3543"/>
                </a:lnTo>
                <a:lnTo>
                  <a:pt x="1356" y="3535"/>
                </a:lnTo>
                <a:lnTo>
                  <a:pt x="1338" y="3522"/>
                </a:lnTo>
                <a:lnTo>
                  <a:pt x="1327" y="3510"/>
                </a:lnTo>
                <a:lnTo>
                  <a:pt x="1315" y="3504"/>
                </a:lnTo>
                <a:lnTo>
                  <a:pt x="1303" y="3498"/>
                </a:lnTo>
                <a:lnTo>
                  <a:pt x="1292" y="3494"/>
                </a:lnTo>
                <a:lnTo>
                  <a:pt x="1282" y="3493"/>
                </a:lnTo>
                <a:lnTo>
                  <a:pt x="1270" y="3489"/>
                </a:lnTo>
                <a:lnTo>
                  <a:pt x="1261" y="3485"/>
                </a:lnTo>
                <a:lnTo>
                  <a:pt x="1249" y="3481"/>
                </a:lnTo>
                <a:lnTo>
                  <a:pt x="1241" y="3477"/>
                </a:lnTo>
                <a:lnTo>
                  <a:pt x="1230" y="3475"/>
                </a:lnTo>
                <a:lnTo>
                  <a:pt x="1218" y="3473"/>
                </a:lnTo>
                <a:lnTo>
                  <a:pt x="1206" y="3471"/>
                </a:lnTo>
                <a:lnTo>
                  <a:pt x="1195" y="3471"/>
                </a:lnTo>
                <a:lnTo>
                  <a:pt x="1173" y="3467"/>
                </a:lnTo>
                <a:lnTo>
                  <a:pt x="1154" y="3465"/>
                </a:lnTo>
                <a:lnTo>
                  <a:pt x="1133" y="3462"/>
                </a:lnTo>
                <a:lnTo>
                  <a:pt x="1113" y="3458"/>
                </a:lnTo>
                <a:lnTo>
                  <a:pt x="1092" y="3456"/>
                </a:lnTo>
                <a:lnTo>
                  <a:pt x="1073" y="3456"/>
                </a:lnTo>
                <a:lnTo>
                  <a:pt x="1047" y="3415"/>
                </a:lnTo>
                <a:lnTo>
                  <a:pt x="1026" y="3409"/>
                </a:lnTo>
                <a:lnTo>
                  <a:pt x="1007" y="3407"/>
                </a:lnTo>
                <a:lnTo>
                  <a:pt x="987" y="3407"/>
                </a:lnTo>
                <a:lnTo>
                  <a:pt x="970" y="3407"/>
                </a:lnTo>
                <a:lnTo>
                  <a:pt x="950" y="3407"/>
                </a:lnTo>
                <a:lnTo>
                  <a:pt x="931" y="3411"/>
                </a:lnTo>
                <a:lnTo>
                  <a:pt x="912" y="3413"/>
                </a:lnTo>
                <a:lnTo>
                  <a:pt x="894" y="3417"/>
                </a:lnTo>
                <a:lnTo>
                  <a:pt x="875" y="3419"/>
                </a:lnTo>
                <a:lnTo>
                  <a:pt x="855" y="3423"/>
                </a:lnTo>
                <a:lnTo>
                  <a:pt x="836" y="3425"/>
                </a:lnTo>
                <a:lnTo>
                  <a:pt x="819" y="3429"/>
                </a:lnTo>
                <a:lnTo>
                  <a:pt x="799" y="3430"/>
                </a:lnTo>
                <a:lnTo>
                  <a:pt x="780" y="3432"/>
                </a:lnTo>
                <a:lnTo>
                  <a:pt x="760" y="3432"/>
                </a:lnTo>
                <a:lnTo>
                  <a:pt x="743" y="3434"/>
                </a:lnTo>
                <a:lnTo>
                  <a:pt x="743" y="3432"/>
                </a:lnTo>
                <a:lnTo>
                  <a:pt x="724" y="3430"/>
                </a:lnTo>
                <a:lnTo>
                  <a:pt x="704" y="3430"/>
                </a:lnTo>
                <a:lnTo>
                  <a:pt x="685" y="3430"/>
                </a:lnTo>
                <a:lnTo>
                  <a:pt x="667" y="3432"/>
                </a:lnTo>
                <a:lnTo>
                  <a:pt x="650" y="3432"/>
                </a:lnTo>
                <a:lnTo>
                  <a:pt x="632" y="3436"/>
                </a:lnTo>
                <a:lnTo>
                  <a:pt x="615" y="3438"/>
                </a:lnTo>
                <a:lnTo>
                  <a:pt x="597" y="3444"/>
                </a:lnTo>
                <a:lnTo>
                  <a:pt x="578" y="3446"/>
                </a:lnTo>
                <a:lnTo>
                  <a:pt x="561" y="3450"/>
                </a:lnTo>
                <a:lnTo>
                  <a:pt x="541" y="3454"/>
                </a:lnTo>
                <a:lnTo>
                  <a:pt x="524" y="3458"/>
                </a:lnTo>
                <a:lnTo>
                  <a:pt x="504" y="3460"/>
                </a:lnTo>
                <a:lnTo>
                  <a:pt x="487" y="3463"/>
                </a:lnTo>
                <a:lnTo>
                  <a:pt x="469" y="3467"/>
                </a:lnTo>
                <a:lnTo>
                  <a:pt x="452" y="3471"/>
                </a:lnTo>
                <a:lnTo>
                  <a:pt x="438" y="3475"/>
                </a:lnTo>
                <a:lnTo>
                  <a:pt x="425" y="3481"/>
                </a:lnTo>
                <a:lnTo>
                  <a:pt x="411" y="3485"/>
                </a:lnTo>
                <a:lnTo>
                  <a:pt x="398" y="3491"/>
                </a:lnTo>
                <a:lnTo>
                  <a:pt x="382" y="3494"/>
                </a:lnTo>
                <a:lnTo>
                  <a:pt x="371" y="3498"/>
                </a:lnTo>
                <a:lnTo>
                  <a:pt x="357" y="3502"/>
                </a:lnTo>
                <a:lnTo>
                  <a:pt x="345" y="3506"/>
                </a:lnTo>
                <a:lnTo>
                  <a:pt x="334" y="3506"/>
                </a:lnTo>
                <a:lnTo>
                  <a:pt x="324" y="3508"/>
                </a:lnTo>
                <a:lnTo>
                  <a:pt x="312" y="3510"/>
                </a:lnTo>
                <a:lnTo>
                  <a:pt x="303" y="3512"/>
                </a:lnTo>
                <a:lnTo>
                  <a:pt x="291" y="3512"/>
                </a:lnTo>
                <a:lnTo>
                  <a:pt x="281" y="3514"/>
                </a:lnTo>
                <a:lnTo>
                  <a:pt x="270" y="3516"/>
                </a:lnTo>
                <a:lnTo>
                  <a:pt x="260" y="3518"/>
                </a:lnTo>
                <a:lnTo>
                  <a:pt x="248" y="3518"/>
                </a:lnTo>
                <a:lnTo>
                  <a:pt x="239" y="3520"/>
                </a:lnTo>
                <a:lnTo>
                  <a:pt x="227" y="3522"/>
                </a:lnTo>
                <a:lnTo>
                  <a:pt x="217" y="3524"/>
                </a:lnTo>
                <a:lnTo>
                  <a:pt x="196" y="3529"/>
                </a:lnTo>
                <a:lnTo>
                  <a:pt x="177" y="3537"/>
                </a:lnTo>
                <a:lnTo>
                  <a:pt x="167" y="3535"/>
                </a:lnTo>
                <a:lnTo>
                  <a:pt x="159" y="3537"/>
                </a:lnTo>
                <a:lnTo>
                  <a:pt x="151" y="3535"/>
                </a:lnTo>
                <a:lnTo>
                  <a:pt x="149" y="3529"/>
                </a:lnTo>
                <a:lnTo>
                  <a:pt x="149" y="3516"/>
                </a:lnTo>
                <a:lnTo>
                  <a:pt x="151" y="3506"/>
                </a:lnTo>
                <a:lnTo>
                  <a:pt x="142" y="3506"/>
                </a:lnTo>
                <a:lnTo>
                  <a:pt x="132" y="3506"/>
                </a:lnTo>
                <a:lnTo>
                  <a:pt x="122" y="3508"/>
                </a:lnTo>
                <a:lnTo>
                  <a:pt x="115" y="3514"/>
                </a:lnTo>
                <a:lnTo>
                  <a:pt x="103" y="3512"/>
                </a:lnTo>
                <a:lnTo>
                  <a:pt x="93" y="3512"/>
                </a:lnTo>
                <a:lnTo>
                  <a:pt x="82" y="3514"/>
                </a:lnTo>
                <a:lnTo>
                  <a:pt x="70" y="3516"/>
                </a:lnTo>
                <a:lnTo>
                  <a:pt x="58" y="3514"/>
                </a:lnTo>
                <a:lnTo>
                  <a:pt x="51" y="3514"/>
                </a:lnTo>
                <a:lnTo>
                  <a:pt x="43" y="3506"/>
                </a:lnTo>
                <a:lnTo>
                  <a:pt x="39" y="3496"/>
                </a:lnTo>
                <a:lnTo>
                  <a:pt x="43" y="3477"/>
                </a:lnTo>
                <a:lnTo>
                  <a:pt x="29" y="3475"/>
                </a:lnTo>
                <a:lnTo>
                  <a:pt x="16" y="3477"/>
                </a:lnTo>
                <a:lnTo>
                  <a:pt x="2" y="3471"/>
                </a:lnTo>
                <a:lnTo>
                  <a:pt x="0" y="3460"/>
                </a:lnTo>
                <a:lnTo>
                  <a:pt x="2" y="3442"/>
                </a:lnTo>
                <a:lnTo>
                  <a:pt x="10" y="3430"/>
                </a:lnTo>
                <a:lnTo>
                  <a:pt x="20" y="3419"/>
                </a:lnTo>
                <a:lnTo>
                  <a:pt x="35" y="3411"/>
                </a:lnTo>
                <a:lnTo>
                  <a:pt x="47" y="3401"/>
                </a:lnTo>
                <a:lnTo>
                  <a:pt x="62" y="3392"/>
                </a:lnTo>
                <a:lnTo>
                  <a:pt x="76" y="3382"/>
                </a:lnTo>
                <a:lnTo>
                  <a:pt x="89" y="3374"/>
                </a:lnTo>
                <a:lnTo>
                  <a:pt x="84" y="3363"/>
                </a:lnTo>
                <a:lnTo>
                  <a:pt x="82" y="3353"/>
                </a:lnTo>
                <a:lnTo>
                  <a:pt x="82" y="3341"/>
                </a:lnTo>
                <a:lnTo>
                  <a:pt x="87" y="3334"/>
                </a:lnTo>
                <a:lnTo>
                  <a:pt x="99" y="3316"/>
                </a:lnTo>
                <a:lnTo>
                  <a:pt x="111" y="3304"/>
                </a:lnTo>
                <a:lnTo>
                  <a:pt x="124" y="3293"/>
                </a:lnTo>
                <a:lnTo>
                  <a:pt x="140" y="3283"/>
                </a:lnTo>
                <a:lnTo>
                  <a:pt x="153" y="3272"/>
                </a:lnTo>
                <a:lnTo>
                  <a:pt x="171" y="3264"/>
                </a:lnTo>
                <a:lnTo>
                  <a:pt x="188" y="3252"/>
                </a:lnTo>
                <a:lnTo>
                  <a:pt x="206" y="3244"/>
                </a:lnTo>
                <a:lnTo>
                  <a:pt x="221" y="3233"/>
                </a:lnTo>
                <a:lnTo>
                  <a:pt x="237" y="3221"/>
                </a:lnTo>
                <a:lnTo>
                  <a:pt x="254" y="3209"/>
                </a:lnTo>
                <a:lnTo>
                  <a:pt x="272" y="3200"/>
                </a:lnTo>
                <a:lnTo>
                  <a:pt x="289" y="3188"/>
                </a:lnTo>
                <a:lnTo>
                  <a:pt x="307" y="3180"/>
                </a:lnTo>
                <a:lnTo>
                  <a:pt x="324" y="3171"/>
                </a:lnTo>
                <a:lnTo>
                  <a:pt x="341" y="3163"/>
                </a:lnTo>
                <a:lnTo>
                  <a:pt x="359" y="3151"/>
                </a:lnTo>
                <a:lnTo>
                  <a:pt x="376" y="3144"/>
                </a:lnTo>
                <a:lnTo>
                  <a:pt x="396" y="3134"/>
                </a:lnTo>
                <a:lnTo>
                  <a:pt x="415" y="3128"/>
                </a:lnTo>
                <a:lnTo>
                  <a:pt x="433" y="3118"/>
                </a:lnTo>
                <a:lnTo>
                  <a:pt x="452" y="3111"/>
                </a:lnTo>
                <a:lnTo>
                  <a:pt x="471" y="3105"/>
                </a:lnTo>
                <a:lnTo>
                  <a:pt x="491" y="3099"/>
                </a:lnTo>
                <a:lnTo>
                  <a:pt x="504" y="3091"/>
                </a:lnTo>
                <a:lnTo>
                  <a:pt x="520" y="3085"/>
                </a:lnTo>
                <a:lnTo>
                  <a:pt x="533" y="3076"/>
                </a:lnTo>
                <a:lnTo>
                  <a:pt x="549" y="3068"/>
                </a:lnTo>
                <a:lnTo>
                  <a:pt x="563" y="3058"/>
                </a:lnTo>
                <a:lnTo>
                  <a:pt x="576" y="3049"/>
                </a:lnTo>
                <a:lnTo>
                  <a:pt x="590" y="3039"/>
                </a:lnTo>
                <a:lnTo>
                  <a:pt x="603" y="3029"/>
                </a:lnTo>
                <a:lnTo>
                  <a:pt x="613" y="3016"/>
                </a:lnTo>
                <a:lnTo>
                  <a:pt x="625" y="3002"/>
                </a:lnTo>
                <a:lnTo>
                  <a:pt x="630" y="2986"/>
                </a:lnTo>
                <a:lnTo>
                  <a:pt x="638" y="2973"/>
                </a:lnTo>
                <a:lnTo>
                  <a:pt x="640" y="2955"/>
                </a:lnTo>
                <a:lnTo>
                  <a:pt x="644" y="2938"/>
                </a:lnTo>
                <a:lnTo>
                  <a:pt x="644" y="2921"/>
                </a:lnTo>
                <a:lnTo>
                  <a:pt x="644" y="2905"/>
                </a:lnTo>
                <a:lnTo>
                  <a:pt x="640" y="2886"/>
                </a:lnTo>
                <a:lnTo>
                  <a:pt x="638" y="2866"/>
                </a:lnTo>
                <a:lnTo>
                  <a:pt x="632" y="2849"/>
                </a:lnTo>
                <a:lnTo>
                  <a:pt x="629" y="2831"/>
                </a:lnTo>
                <a:lnTo>
                  <a:pt x="623" y="2814"/>
                </a:lnTo>
                <a:lnTo>
                  <a:pt x="617" y="2796"/>
                </a:lnTo>
                <a:lnTo>
                  <a:pt x="611" y="2781"/>
                </a:lnTo>
                <a:lnTo>
                  <a:pt x="607" y="2769"/>
                </a:lnTo>
                <a:lnTo>
                  <a:pt x="601" y="2754"/>
                </a:lnTo>
                <a:lnTo>
                  <a:pt x="596" y="2738"/>
                </a:lnTo>
                <a:lnTo>
                  <a:pt x="592" y="2723"/>
                </a:lnTo>
                <a:lnTo>
                  <a:pt x="592" y="2707"/>
                </a:lnTo>
                <a:lnTo>
                  <a:pt x="590" y="2690"/>
                </a:lnTo>
                <a:lnTo>
                  <a:pt x="592" y="2674"/>
                </a:lnTo>
                <a:lnTo>
                  <a:pt x="594" y="2659"/>
                </a:lnTo>
                <a:lnTo>
                  <a:pt x="599" y="2645"/>
                </a:lnTo>
                <a:lnTo>
                  <a:pt x="609" y="2634"/>
                </a:lnTo>
                <a:lnTo>
                  <a:pt x="625" y="2632"/>
                </a:lnTo>
                <a:lnTo>
                  <a:pt x="642" y="2634"/>
                </a:lnTo>
                <a:lnTo>
                  <a:pt x="658" y="2636"/>
                </a:lnTo>
                <a:lnTo>
                  <a:pt x="663" y="2645"/>
                </a:lnTo>
                <a:lnTo>
                  <a:pt x="669" y="2655"/>
                </a:lnTo>
                <a:lnTo>
                  <a:pt x="675" y="2667"/>
                </a:lnTo>
                <a:lnTo>
                  <a:pt x="681" y="2678"/>
                </a:lnTo>
                <a:lnTo>
                  <a:pt x="687" y="2688"/>
                </a:lnTo>
                <a:lnTo>
                  <a:pt x="693" y="2699"/>
                </a:lnTo>
                <a:lnTo>
                  <a:pt x="698" y="2711"/>
                </a:lnTo>
                <a:lnTo>
                  <a:pt x="704" y="2723"/>
                </a:lnTo>
                <a:lnTo>
                  <a:pt x="708" y="2732"/>
                </a:lnTo>
                <a:lnTo>
                  <a:pt x="714" y="2744"/>
                </a:lnTo>
                <a:lnTo>
                  <a:pt x="720" y="2756"/>
                </a:lnTo>
                <a:lnTo>
                  <a:pt x="725" y="2769"/>
                </a:lnTo>
                <a:lnTo>
                  <a:pt x="729" y="2781"/>
                </a:lnTo>
                <a:lnTo>
                  <a:pt x="733" y="2795"/>
                </a:lnTo>
                <a:lnTo>
                  <a:pt x="737" y="2808"/>
                </a:lnTo>
                <a:lnTo>
                  <a:pt x="741" y="2824"/>
                </a:lnTo>
                <a:lnTo>
                  <a:pt x="743" y="2837"/>
                </a:lnTo>
                <a:lnTo>
                  <a:pt x="749" y="2851"/>
                </a:lnTo>
                <a:lnTo>
                  <a:pt x="755" y="2864"/>
                </a:lnTo>
                <a:lnTo>
                  <a:pt x="766" y="2878"/>
                </a:lnTo>
                <a:lnTo>
                  <a:pt x="774" y="2890"/>
                </a:lnTo>
                <a:lnTo>
                  <a:pt x="786" y="2903"/>
                </a:lnTo>
                <a:lnTo>
                  <a:pt x="797" y="2915"/>
                </a:lnTo>
                <a:lnTo>
                  <a:pt x="809" y="2928"/>
                </a:lnTo>
                <a:lnTo>
                  <a:pt x="821" y="2940"/>
                </a:lnTo>
                <a:lnTo>
                  <a:pt x="832" y="2952"/>
                </a:lnTo>
                <a:lnTo>
                  <a:pt x="844" y="2963"/>
                </a:lnTo>
                <a:lnTo>
                  <a:pt x="857" y="2975"/>
                </a:lnTo>
                <a:lnTo>
                  <a:pt x="867" y="2986"/>
                </a:lnTo>
                <a:lnTo>
                  <a:pt x="879" y="3000"/>
                </a:lnTo>
                <a:lnTo>
                  <a:pt x="886" y="3014"/>
                </a:lnTo>
                <a:lnTo>
                  <a:pt x="896" y="3029"/>
                </a:lnTo>
                <a:lnTo>
                  <a:pt x="902" y="3041"/>
                </a:lnTo>
                <a:lnTo>
                  <a:pt x="910" y="3052"/>
                </a:lnTo>
                <a:lnTo>
                  <a:pt x="917" y="3062"/>
                </a:lnTo>
                <a:lnTo>
                  <a:pt x="927" y="3072"/>
                </a:lnTo>
                <a:lnTo>
                  <a:pt x="937" y="3080"/>
                </a:lnTo>
                <a:lnTo>
                  <a:pt x="949" y="3089"/>
                </a:lnTo>
                <a:lnTo>
                  <a:pt x="960" y="3097"/>
                </a:lnTo>
                <a:lnTo>
                  <a:pt x="972" y="3105"/>
                </a:lnTo>
                <a:lnTo>
                  <a:pt x="983" y="3109"/>
                </a:lnTo>
                <a:lnTo>
                  <a:pt x="995" y="3114"/>
                </a:lnTo>
                <a:lnTo>
                  <a:pt x="1009" y="3120"/>
                </a:lnTo>
                <a:lnTo>
                  <a:pt x="1022" y="3126"/>
                </a:lnTo>
                <a:lnTo>
                  <a:pt x="1034" y="3130"/>
                </a:lnTo>
                <a:lnTo>
                  <a:pt x="1049" y="3134"/>
                </a:lnTo>
                <a:lnTo>
                  <a:pt x="1061" y="3138"/>
                </a:lnTo>
                <a:lnTo>
                  <a:pt x="1077" y="3142"/>
                </a:lnTo>
                <a:lnTo>
                  <a:pt x="1080" y="3130"/>
                </a:lnTo>
                <a:lnTo>
                  <a:pt x="1086" y="3124"/>
                </a:lnTo>
                <a:lnTo>
                  <a:pt x="1094" y="3122"/>
                </a:lnTo>
                <a:lnTo>
                  <a:pt x="1106" y="3122"/>
                </a:lnTo>
                <a:lnTo>
                  <a:pt x="1115" y="3122"/>
                </a:lnTo>
                <a:lnTo>
                  <a:pt x="1125" y="3122"/>
                </a:lnTo>
                <a:lnTo>
                  <a:pt x="1135" y="3122"/>
                </a:lnTo>
                <a:lnTo>
                  <a:pt x="1146" y="3122"/>
                </a:lnTo>
                <a:lnTo>
                  <a:pt x="1158" y="3122"/>
                </a:lnTo>
                <a:lnTo>
                  <a:pt x="1170" y="3124"/>
                </a:lnTo>
                <a:lnTo>
                  <a:pt x="1181" y="3126"/>
                </a:lnTo>
                <a:lnTo>
                  <a:pt x="1193" y="3130"/>
                </a:lnTo>
                <a:lnTo>
                  <a:pt x="1205" y="3130"/>
                </a:lnTo>
                <a:lnTo>
                  <a:pt x="1216" y="3134"/>
                </a:lnTo>
                <a:lnTo>
                  <a:pt x="1228" y="3136"/>
                </a:lnTo>
                <a:lnTo>
                  <a:pt x="1239" y="3140"/>
                </a:lnTo>
                <a:lnTo>
                  <a:pt x="1251" y="3140"/>
                </a:lnTo>
                <a:lnTo>
                  <a:pt x="1263" y="3142"/>
                </a:lnTo>
                <a:lnTo>
                  <a:pt x="1274" y="3142"/>
                </a:lnTo>
                <a:lnTo>
                  <a:pt x="1286" y="3144"/>
                </a:lnTo>
                <a:lnTo>
                  <a:pt x="1298" y="3142"/>
                </a:lnTo>
                <a:lnTo>
                  <a:pt x="1311" y="3142"/>
                </a:lnTo>
                <a:lnTo>
                  <a:pt x="1323" y="3138"/>
                </a:lnTo>
                <a:lnTo>
                  <a:pt x="1336" y="3136"/>
                </a:lnTo>
                <a:lnTo>
                  <a:pt x="1348" y="3130"/>
                </a:lnTo>
                <a:lnTo>
                  <a:pt x="1360" y="3126"/>
                </a:lnTo>
                <a:lnTo>
                  <a:pt x="1371" y="3122"/>
                </a:lnTo>
                <a:lnTo>
                  <a:pt x="1383" y="3122"/>
                </a:lnTo>
                <a:lnTo>
                  <a:pt x="1395" y="3118"/>
                </a:lnTo>
                <a:lnTo>
                  <a:pt x="1406" y="3116"/>
                </a:lnTo>
                <a:lnTo>
                  <a:pt x="1418" y="3116"/>
                </a:lnTo>
                <a:lnTo>
                  <a:pt x="1429" y="3116"/>
                </a:lnTo>
                <a:lnTo>
                  <a:pt x="1441" y="3114"/>
                </a:lnTo>
                <a:lnTo>
                  <a:pt x="1453" y="3114"/>
                </a:lnTo>
                <a:lnTo>
                  <a:pt x="1464" y="3114"/>
                </a:lnTo>
                <a:lnTo>
                  <a:pt x="1478" y="3114"/>
                </a:lnTo>
                <a:lnTo>
                  <a:pt x="1490" y="3114"/>
                </a:lnTo>
                <a:lnTo>
                  <a:pt x="1501" y="3116"/>
                </a:lnTo>
                <a:lnTo>
                  <a:pt x="1513" y="3116"/>
                </a:lnTo>
                <a:lnTo>
                  <a:pt x="1526" y="3118"/>
                </a:lnTo>
                <a:lnTo>
                  <a:pt x="1538" y="3118"/>
                </a:lnTo>
                <a:lnTo>
                  <a:pt x="1550" y="3118"/>
                </a:lnTo>
                <a:lnTo>
                  <a:pt x="1561" y="3118"/>
                </a:lnTo>
                <a:lnTo>
                  <a:pt x="1573" y="3120"/>
                </a:lnTo>
                <a:lnTo>
                  <a:pt x="1585" y="3120"/>
                </a:lnTo>
                <a:lnTo>
                  <a:pt x="1596" y="3122"/>
                </a:lnTo>
                <a:lnTo>
                  <a:pt x="1608" y="3122"/>
                </a:lnTo>
                <a:lnTo>
                  <a:pt x="1621" y="3124"/>
                </a:lnTo>
                <a:lnTo>
                  <a:pt x="1633" y="3124"/>
                </a:lnTo>
                <a:lnTo>
                  <a:pt x="1645" y="3124"/>
                </a:lnTo>
                <a:lnTo>
                  <a:pt x="1656" y="3124"/>
                </a:lnTo>
                <a:lnTo>
                  <a:pt x="1670" y="3124"/>
                </a:lnTo>
                <a:lnTo>
                  <a:pt x="1682" y="3124"/>
                </a:lnTo>
                <a:lnTo>
                  <a:pt x="1693" y="3124"/>
                </a:lnTo>
                <a:lnTo>
                  <a:pt x="1705" y="3124"/>
                </a:lnTo>
                <a:lnTo>
                  <a:pt x="1718" y="3124"/>
                </a:lnTo>
                <a:lnTo>
                  <a:pt x="1728" y="3116"/>
                </a:lnTo>
                <a:lnTo>
                  <a:pt x="1728" y="3101"/>
                </a:lnTo>
                <a:lnTo>
                  <a:pt x="1728" y="3087"/>
                </a:lnTo>
                <a:lnTo>
                  <a:pt x="1728" y="3074"/>
                </a:lnTo>
                <a:lnTo>
                  <a:pt x="1728" y="3060"/>
                </a:lnTo>
                <a:lnTo>
                  <a:pt x="1728" y="3045"/>
                </a:lnTo>
                <a:lnTo>
                  <a:pt x="1728" y="3033"/>
                </a:lnTo>
                <a:lnTo>
                  <a:pt x="1730" y="3017"/>
                </a:lnTo>
                <a:lnTo>
                  <a:pt x="1732" y="3006"/>
                </a:lnTo>
                <a:lnTo>
                  <a:pt x="1732" y="2990"/>
                </a:lnTo>
                <a:lnTo>
                  <a:pt x="1732" y="2977"/>
                </a:lnTo>
                <a:lnTo>
                  <a:pt x="1734" y="2963"/>
                </a:lnTo>
                <a:lnTo>
                  <a:pt x="1736" y="2950"/>
                </a:lnTo>
                <a:lnTo>
                  <a:pt x="1736" y="2936"/>
                </a:lnTo>
                <a:lnTo>
                  <a:pt x="1738" y="2922"/>
                </a:lnTo>
                <a:lnTo>
                  <a:pt x="1740" y="2909"/>
                </a:lnTo>
                <a:lnTo>
                  <a:pt x="1744" y="2897"/>
                </a:lnTo>
                <a:lnTo>
                  <a:pt x="1744" y="2882"/>
                </a:lnTo>
                <a:lnTo>
                  <a:pt x="1746" y="2868"/>
                </a:lnTo>
                <a:lnTo>
                  <a:pt x="1748" y="2855"/>
                </a:lnTo>
                <a:lnTo>
                  <a:pt x="1749" y="2843"/>
                </a:lnTo>
                <a:lnTo>
                  <a:pt x="1749" y="2827"/>
                </a:lnTo>
                <a:lnTo>
                  <a:pt x="1753" y="2814"/>
                </a:lnTo>
                <a:lnTo>
                  <a:pt x="1755" y="2800"/>
                </a:lnTo>
                <a:lnTo>
                  <a:pt x="1759" y="2789"/>
                </a:lnTo>
                <a:lnTo>
                  <a:pt x="1759" y="2775"/>
                </a:lnTo>
                <a:lnTo>
                  <a:pt x="1763" y="2762"/>
                </a:lnTo>
                <a:lnTo>
                  <a:pt x="1765" y="2748"/>
                </a:lnTo>
                <a:lnTo>
                  <a:pt x="1769" y="2736"/>
                </a:lnTo>
                <a:lnTo>
                  <a:pt x="1771" y="2723"/>
                </a:lnTo>
                <a:lnTo>
                  <a:pt x="1775" y="2709"/>
                </a:lnTo>
                <a:lnTo>
                  <a:pt x="1777" y="2698"/>
                </a:lnTo>
                <a:lnTo>
                  <a:pt x="1782" y="2686"/>
                </a:lnTo>
                <a:lnTo>
                  <a:pt x="1782" y="2674"/>
                </a:lnTo>
                <a:lnTo>
                  <a:pt x="1786" y="2663"/>
                </a:lnTo>
                <a:lnTo>
                  <a:pt x="1786" y="2651"/>
                </a:lnTo>
                <a:lnTo>
                  <a:pt x="1790" y="2641"/>
                </a:lnTo>
                <a:lnTo>
                  <a:pt x="1790" y="2630"/>
                </a:lnTo>
                <a:lnTo>
                  <a:pt x="1794" y="2620"/>
                </a:lnTo>
                <a:lnTo>
                  <a:pt x="1794" y="2608"/>
                </a:lnTo>
                <a:lnTo>
                  <a:pt x="1798" y="2599"/>
                </a:lnTo>
                <a:lnTo>
                  <a:pt x="1798" y="2587"/>
                </a:lnTo>
                <a:lnTo>
                  <a:pt x="1800" y="2575"/>
                </a:lnTo>
                <a:lnTo>
                  <a:pt x="1802" y="2564"/>
                </a:lnTo>
                <a:lnTo>
                  <a:pt x="1806" y="2554"/>
                </a:lnTo>
                <a:lnTo>
                  <a:pt x="1806" y="2542"/>
                </a:lnTo>
                <a:lnTo>
                  <a:pt x="1808" y="2533"/>
                </a:lnTo>
                <a:lnTo>
                  <a:pt x="1810" y="2521"/>
                </a:lnTo>
                <a:lnTo>
                  <a:pt x="1813" y="2511"/>
                </a:lnTo>
                <a:lnTo>
                  <a:pt x="1813" y="2500"/>
                </a:lnTo>
                <a:lnTo>
                  <a:pt x="1815" y="2488"/>
                </a:lnTo>
                <a:lnTo>
                  <a:pt x="1817" y="2477"/>
                </a:lnTo>
                <a:lnTo>
                  <a:pt x="1819" y="2467"/>
                </a:lnTo>
                <a:lnTo>
                  <a:pt x="1823" y="2445"/>
                </a:lnTo>
                <a:lnTo>
                  <a:pt x="1829" y="2426"/>
                </a:lnTo>
                <a:lnTo>
                  <a:pt x="1829" y="2414"/>
                </a:lnTo>
                <a:lnTo>
                  <a:pt x="1833" y="2403"/>
                </a:lnTo>
                <a:lnTo>
                  <a:pt x="1835" y="2391"/>
                </a:lnTo>
                <a:lnTo>
                  <a:pt x="1839" y="2382"/>
                </a:lnTo>
                <a:lnTo>
                  <a:pt x="1845" y="2360"/>
                </a:lnTo>
                <a:lnTo>
                  <a:pt x="1852" y="2341"/>
                </a:lnTo>
                <a:lnTo>
                  <a:pt x="1856" y="2323"/>
                </a:lnTo>
                <a:lnTo>
                  <a:pt x="1862" y="2310"/>
                </a:lnTo>
                <a:lnTo>
                  <a:pt x="1866" y="2294"/>
                </a:lnTo>
                <a:lnTo>
                  <a:pt x="1872" y="2281"/>
                </a:lnTo>
                <a:lnTo>
                  <a:pt x="1877" y="2263"/>
                </a:lnTo>
                <a:lnTo>
                  <a:pt x="1883" y="2250"/>
                </a:lnTo>
                <a:lnTo>
                  <a:pt x="1889" y="2234"/>
                </a:lnTo>
                <a:lnTo>
                  <a:pt x="1895" y="2221"/>
                </a:lnTo>
                <a:lnTo>
                  <a:pt x="1901" y="2205"/>
                </a:lnTo>
                <a:lnTo>
                  <a:pt x="1907" y="2191"/>
                </a:lnTo>
                <a:lnTo>
                  <a:pt x="1912" y="2176"/>
                </a:lnTo>
                <a:lnTo>
                  <a:pt x="1918" y="2162"/>
                </a:lnTo>
                <a:lnTo>
                  <a:pt x="1924" y="2147"/>
                </a:lnTo>
                <a:lnTo>
                  <a:pt x="1932" y="2135"/>
                </a:lnTo>
                <a:lnTo>
                  <a:pt x="1940" y="2120"/>
                </a:lnTo>
                <a:lnTo>
                  <a:pt x="1947" y="2108"/>
                </a:lnTo>
                <a:lnTo>
                  <a:pt x="1953" y="2093"/>
                </a:lnTo>
                <a:lnTo>
                  <a:pt x="1961" y="2079"/>
                </a:lnTo>
                <a:lnTo>
                  <a:pt x="1969" y="2064"/>
                </a:lnTo>
                <a:lnTo>
                  <a:pt x="1976" y="2050"/>
                </a:lnTo>
                <a:lnTo>
                  <a:pt x="1984" y="2036"/>
                </a:lnTo>
                <a:lnTo>
                  <a:pt x="1994" y="2023"/>
                </a:lnTo>
                <a:lnTo>
                  <a:pt x="2002" y="2009"/>
                </a:lnTo>
                <a:lnTo>
                  <a:pt x="2011" y="1998"/>
                </a:lnTo>
                <a:lnTo>
                  <a:pt x="2019" y="1984"/>
                </a:lnTo>
                <a:lnTo>
                  <a:pt x="2029" y="1972"/>
                </a:lnTo>
                <a:lnTo>
                  <a:pt x="2038" y="1959"/>
                </a:lnTo>
                <a:lnTo>
                  <a:pt x="2050" y="1947"/>
                </a:lnTo>
                <a:lnTo>
                  <a:pt x="2060" y="1936"/>
                </a:lnTo>
                <a:lnTo>
                  <a:pt x="2071" y="1924"/>
                </a:lnTo>
                <a:lnTo>
                  <a:pt x="2083" y="1912"/>
                </a:lnTo>
                <a:lnTo>
                  <a:pt x="2095" y="1901"/>
                </a:lnTo>
                <a:lnTo>
                  <a:pt x="2108" y="1879"/>
                </a:lnTo>
                <a:lnTo>
                  <a:pt x="2124" y="1862"/>
                </a:lnTo>
                <a:lnTo>
                  <a:pt x="2139" y="1841"/>
                </a:lnTo>
                <a:lnTo>
                  <a:pt x="2155" y="1823"/>
                </a:lnTo>
                <a:lnTo>
                  <a:pt x="2170" y="1802"/>
                </a:lnTo>
                <a:lnTo>
                  <a:pt x="2186" y="1782"/>
                </a:lnTo>
                <a:lnTo>
                  <a:pt x="2203" y="1763"/>
                </a:lnTo>
                <a:lnTo>
                  <a:pt x="2223" y="1746"/>
                </a:lnTo>
                <a:lnTo>
                  <a:pt x="2232" y="1746"/>
                </a:lnTo>
                <a:lnTo>
                  <a:pt x="2230" y="1728"/>
                </a:lnTo>
                <a:lnTo>
                  <a:pt x="2228" y="1714"/>
                </a:lnTo>
                <a:lnTo>
                  <a:pt x="2227" y="1701"/>
                </a:lnTo>
                <a:lnTo>
                  <a:pt x="2223" y="1689"/>
                </a:lnTo>
                <a:lnTo>
                  <a:pt x="2205" y="1676"/>
                </a:lnTo>
                <a:lnTo>
                  <a:pt x="2188" y="1668"/>
                </a:lnTo>
                <a:lnTo>
                  <a:pt x="2168" y="1664"/>
                </a:lnTo>
                <a:lnTo>
                  <a:pt x="2151" y="1662"/>
                </a:lnTo>
                <a:lnTo>
                  <a:pt x="2132" y="1656"/>
                </a:lnTo>
                <a:lnTo>
                  <a:pt x="2114" y="1654"/>
                </a:lnTo>
                <a:lnTo>
                  <a:pt x="2099" y="1652"/>
                </a:lnTo>
                <a:lnTo>
                  <a:pt x="2085" y="1652"/>
                </a:lnTo>
                <a:lnTo>
                  <a:pt x="2068" y="1650"/>
                </a:lnTo>
                <a:lnTo>
                  <a:pt x="2054" y="1650"/>
                </a:lnTo>
                <a:lnTo>
                  <a:pt x="2037" y="1650"/>
                </a:lnTo>
                <a:lnTo>
                  <a:pt x="2023" y="1650"/>
                </a:lnTo>
                <a:lnTo>
                  <a:pt x="2011" y="1649"/>
                </a:lnTo>
                <a:lnTo>
                  <a:pt x="2002" y="1649"/>
                </a:lnTo>
                <a:lnTo>
                  <a:pt x="1990" y="1647"/>
                </a:lnTo>
                <a:lnTo>
                  <a:pt x="1980" y="1647"/>
                </a:lnTo>
                <a:lnTo>
                  <a:pt x="1969" y="1645"/>
                </a:lnTo>
                <a:lnTo>
                  <a:pt x="1957" y="1645"/>
                </a:lnTo>
                <a:lnTo>
                  <a:pt x="1945" y="1645"/>
                </a:lnTo>
                <a:lnTo>
                  <a:pt x="1934" y="1645"/>
                </a:lnTo>
                <a:lnTo>
                  <a:pt x="1922" y="1641"/>
                </a:lnTo>
                <a:lnTo>
                  <a:pt x="1910" y="1639"/>
                </a:lnTo>
                <a:lnTo>
                  <a:pt x="1901" y="1635"/>
                </a:lnTo>
                <a:lnTo>
                  <a:pt x="1893" y="1631"/>
                </a:lnTo>
                <a:lnTo>
                  <a:pt x="1885" y="1623"/>
                </a:lnTo>
                <a:lnTo>
                  <a:pt x="1877" y="1616"/>
                </a:lnTo>
                <a:lnTo>
                  <a:pt x="1872" y="1604"/>
                </a:lnTo>
                <a:lnTo>
                  <a:pt x="1870" y="1594"/>
                </a:lnTo>
                <a:lnTo>
                  <a:pt x="1864" y="1581"/>
                </a:lnTo>
                <a:lnTo>
                  <a:pt x="1864" y="1567"/>
                </a:lnTo>
                <a:lnTo>
                  <a:pt x="1862" y="1554"/>
                </a:lnTo>
                <a:lnTo>
                  <a:pt x="1860" y="1542"/>
                </a:lnTo>
                <a:lnTo>
                  <a:pt x="1856" y="1528"/>
                </a:lnTo>
                <a:lnTo>
                  <a:pt x="1852" y="1517"/>
                </a:lnTo>
                <a:lnTo>
                  <a:pt x="1845" y="1505"/>
                </a:lnTo>
                <a:lnTo>
                  <a:pt x="1837" y="1497"/>
                </a:lnTo>
                <a:lnTo>
                  <a:pt x="1827" y="1478"/>
                </a:lnTo>
                <a:lnTo>
                  <a:pt x="1819" y="1460"/>
                </a:lnTo>
                <a:lnTo>
                  <a:pt x="1815" y="1439"/>
                </a:lnTo>
                <a:lnTo>
                  <a:pt x="1825" y="1422"/>
                </a:lnTo>
                <a:lnTo>
                  <a:pt x="1823" y="1406"/>
                </a:lnTo>
                <a:lnTo>
                  <a:pt x="1819" y="1395"/>
                </a:lnTo>
                <a:lnTo>
                  <a:pt x="1812" y="1383"/>
                </a:lnTo>
                <a:lnTo>
                  <a:pt x="1806" y="1373"/>
                </a:lnTo>
                <a:lnTo>
                  <a:pt x="1796" y="1364"/>
                </a:lnTo>
                <a:lnTo>
                  <a:pt x="1788" y="1354"/>
                </a:lnTo>
                <a:lnTo>
                  <a:pt x="1782" y="1340"/>
                </a:lnTo>
                <a:lnTo>
                  <a:pt x="1781" y="1329"/>
                </a:lnTo>
                <a:lnTo>
                  <a:pt x="1777" y="1313"/>
                </a:lnTo>
                <a:lnTo>
                  <a:pt x="1775" y="1300"/>
                </a:lnTo>
                <a:lnTo>
                  <a:pt x="1771" y="1286"/>
                </a:lnTo>
                <a:lnTo>
                  <a:pt x="1769" y="1272"/>
                </a:lnTo>
                <a:lnTo>
                  <a:pt x="1765" y="1259"/>
                </a:lnTo>
                <a:lnTo>
                  <a:pt x="1765" y="1245"/>
                </a:lnTo>
                <a:lnTo>
                  <a:pt x="1763" y="1230"/>
                </a:lnTo>
                <a:lnTo>
                  <a:pt x="1767" y="1216"/>
                </a:lnTo>
                <a:lnTo>
                  <a:pt x="1757" y="1195"/>
                </a:lnTo>
                <a:lnTo>
                  <a:pt x="1748" y="1175"/>
                </a:lnTo>
                <a:lnTo>
                  <a:pt x="1732" y="1175"/>
                </a:lnTo>
                <a:lnTo>
                  <a:pt x="1722" y="1172"/>
                </a:lnTo>
                <a:lnTo>
                  <a:pt x="1711" y="1162"/>
                </a:lnTo>
                <a:lnTo>
                  <a:pt x="1705" y="1152"/>
                </a:lnTo>
                <a:lnTo>
                  <a:pt x="1695" y="1133"/>
                </a:lnTo>
                <a:lnTo>
                  <a:pt x="1699" y="1113"/>
                </a:lnTo>
                <a:lnTo>
                  <a:pt x="1707" y="1094"/>
                </a:lnTo>
                <a:lnTo>
                  <a:pt x="1718" y="1078"/>
                </a:lnTo>
                <a:lnTo>
                  <a:pt x="1707" y="1061"/>
                </a:lnTo>
                <a:lnTo>
                  <a:pt x="1701" y="1046"/>
                </a:lnTo>
                <a:lnTo>
                  <a:pt x="1697" y="1026"/>
                </a:lnTo>
                <a:lnTo>
                  <a:pt x="1697" y="1011"/>
                </a:lnTo>
                <a:lnTo>
                  <a:pt x="1695" y="989"/>
                </a:lnTo>
                <a:lnTo>
                  <a:pt x="1695" y="970"/>
                </a:lnTo>
                <a:lnTo>
                  <a:pt x="1691" y="949"/>
                </a:lnTo>
                <a:lnTo>
                  <a:pt x="1689" y="929"/>
                </a:lnTo>
                <a:lnTo>
                  <a:pt x="1684" y="908"/>
                </a:lnTo>
                <a:lnTo>
                  <a:pt x="1680" y="888"/>
                </a:lnTo>
                <a:lnTo>
                  <a:pt x="1678" y="869"/>
                </a:lnTo>
                <a:lnTo>
                  <a:pt x="1678" y="850"/>
                </a:lnTo>
                <a:lnTo>
                  <a:pt x="1676" y="832"/>
                </a:lnTo>
                <a:lnTo>
                  <a:pt x="1674" y="817"/>
                </a:lnTo>
                <a:lnTo>
                  <a:pt x="1674" y="799"/>
                </a:lnTo>
                <a:lnTo>
                  <a:pt x="1674" y="782"/>
                </a:lnTo>
                <a:lnTo>
                  <a:pt x="1672" y="762"/>
                </a:lnTo>
                <a:lnTo>
                  <a:pt x="1672" y="745"/>
                </a:lnTo>
                <a:lnTo>
                  <a:pt x="1674" y="728"/>
                </a:lnTo>
                <a:lnTo>
                  <a:pt x="1678" y="714"/>
                </a:lnTo>
                <a:lnTo>
                  <a:pt x="1664" y="702"/>
                </a:lnTo>
                <a:lnTo>
                  <a:pt x="1653" y="691"/>
                </a:lnTo>
                <a:lnTo>
                  <a:pt x="1643" y="677"/>
                </a:lnTo>
                <a:lnTo>
                  <a:pt x="1639" y="664"/>
                </a:lnTo>
                <a:lnTo>
                  <a:pt x="1627" y="650"/>
                </a:lnTo>
                <a:lnTo>
                  <a:pt x="1623" y="636"/>
                </a:lnTo>
                <a:lnTo>
                  <a:pt x="1620" y="621"/>
                </a:lnTo>
                <a:lnTo>
                  <a:pt x="1620" y="609"/>
                </a:lnTo>
                <a:lnTo>
                  <a:pt x="1616" y="594"/>
                </a:lnTo>
                <a:lnTo>
                  <a:pt x="1616" y="580"/>
                </a:lnTo>
                <a:lnTo>
                  <a:pt x="1616" y="567"/>
                </a:lnTo>
                <a:lnTo>
                  <a:pt x="1616" y="553"/>
                </a:lnTo>
                <a:lnTo>
                  <a:pt x="1616" y="539"/>
                </a:lnTo>
                <a:lnTo>
                  <a:pt x="1620" y="526"/>
                </a:lnTo>
                <a:lnTo>
                  <a:pt x="1621" y="512"/>
                </a:lnTo>
                <a:lnTo>
                  <a:pt x="1627" y="501"/>
                </a:lnTo>
                <a:lnTo>
                  <a:pt x="1629" y="487"/>
                </a:lnTo>
                <a:lnTo>
                  <a:pt x="1635" y="474"/>
                </a:lnTo>
                <a:lnTo>
                  <a:pt x="1641" y="462"/>
                </a:lnTo>
                <a:lnTo>
                  <a:pt x="1649" y="450"/>
                </a:lnTo>
                <a:lnTo>
                  <a:pt x="1664" y="429"/>
                </a:lnTo>
                <a:lnTo>
                  <a:pt x="1684" y="411"/>
                </a:lnTo>
                <a:lnTo>
                  <a:pt x="1680" y="390"/>
                </a:lnTo>
                <a:lnTo>
                  <a:pt x="1678" y="371"/>
                </a:lnTo>
                <a:lnTo>
                  <a:pt x="1676" y="351"/>
                </a:lnTo>
                <a:lnTo>
                  <a:pt x="1676" y="334"/>
                </a:lnTo>
                <a:lnTo>
                  <a:pt x="1674" y="315"/>
                </a:lnTo>
                <a:lnTo>
                  <a:pt x="1672" y="297"/>
                </a:lnTo>
                <a:lnTo>
                  <a:pt x="1672" y="280"/>
                </a:lnTo>
                <a:lnTo>
                  <a:pt x="1674" y="262"/>
                </a:lnTo>
                <a:lnTo>
                  <a:pt x="1674" y="245"/>
                </a:lnTo>
                <a:lnTo>
                  <a:pt x="1678" y="227"/>
                </a:lnTo>
                <a:lnTo>
                  <a:pt x="1682" y="210"/>
                </a:lnTo>
                <a:lnTo>
                  <a:pt x="1689" y="194"/>
                </a:lnTo>
                <a:lnTo>
                  <a:pt x="1695" y="177"/>
                </a:lnTo>
                <a:lnTo>
                  <a:pt x="1705" y="161"/>
                </a:lnTo>
                <a:lnTo>
                  <a:pt x="1715" y="146"/>
                </a:lnTo>
                <a:lnTo>
                  <a:pt x="1730" y="132"/>
                </a:lnTo>
                <a:lnTo>
                  <a:pt x="1740" y="119"/>
                </a:lnTo>
                <a:lnTo>
                  <a:pt x="1751" y="107"/>
                </a:lnTo>
                <a:lnTo>
                  <a:pt x="1763" y="97"/>
                </a:lnTo>
                <a:lnTo>
                  <a:pt x="1777" y="88"/>
                </a:lnTo>
                <a:lnTo>
                  <a:pt x="1788" y="78"/>
                </a:lnTo>
                <a:lnTo>
                  <a:pt x="1802" y="70"/>
                </a:lnTo>
                <a:lnTo>
                  <a:pt x="1815" y="64"/>
                </a:lnTo>
                <a:lnTo>
                  <a:pt x="1831" y="61"/>
                </a:lnTo>
                <a:lnTo>
                  <a:pt x="1841" y="55"/>
                </a:lnTo>
                <a:lnTo>
                  <a:pt x="1850" y="51"/>
                </a:lnTo>
                <a:lnTo>
                  <a:pt x="1862" y="45"/>
                </a:lnTo>
                <a:lnTo>
                  <a:pt x="1874" y="41"/>
                </a:lnTo>
                <a:lnTo>
                  <a:pt x="1883" y="35"/>
                </a:lnTo>
                <a:lnTo>
                  <a:pt x="1895" y="31"/>
                </a:lnTo>
                <a:lnTo>
                  <a:pt x="1907" y="26"/>
                </a:lnTo>
                <a:lnTo>
                  <a:pt x="1918" y="22"/>
                </a:lnTo>
                <a:lnTo>
                  <a:pt x="1932" y="22"/>
                </a:lnTo>
                <a:lnTo>
                  <a:pt x="1947" y="22"/>
                </a:lnTo>
                <a:lnTo>
                  <a:pt x="1965" y="20"/>
                </a:lnTo>
                <a:lnTo>
                  <a:pt x="1984" y="18"/>
                </a:lnTo>
                <a:lnTo>
                  <a:pt x="2002" y="14"/>
                </a:lnTo>
                <a:lnTo>
                  <a:pt x="2019" y="14"/>
                </a:lnTo>
                <a:lnTo>
                  <a:pt x="2037" y="12"/>
                </a:lnTo>
                <a:lnTo>
                  <a:pt x="2056" y="14"/>
                </a:lnTo>
                <a:lnTo>
                  <a:pt x="2097" y="2"/>
                </a:lnTo>
                <a:lnTo>
                  <a:pt x="2106" y="0"/>
                </a:lnTo>
                <a:lnTo>
                  <a:pt x="2116" y="0"/>
                </a:lnTo>
                <a:lnTo>
                  <a:pt x="2128" y="0"/>
                </a:lnTo>
                <a:lnTo>
                  <a:pt x="2139" y="0"/>
                </a:lnTo>
                <a:lnTo>
                  <a:pt x="2149" y="0"/>
                </a:lnTo>
                <a:lnTo>
                  <a:pt x="2161" y="0"/>
                </a:lnTo>
                <a:lnTo>
                  <a:pt x="2172" y="0"/>
                </a:lnTo>
                <a:lnTo>
                  <a:pt x="2184" y="0"/>
                </a:lnTo>
                <a:lnTo>
                  <a:pt x="2196" y="0"/>
                </a:lnTo>
                <a:lnTo>
                  <a:pt x="2207" y="0"/>
                </a:lnTo>
                <a:lnTo>
                  <a:pt x="2219" y="0"/>
                </a:lnTo>
                <a:lnTo>
                  <a:pt x="2230" y="0"/>
                </a:lnTo>
                <a:lnTo>
                  <a:pt x="2242" y="0"/>
                </a:lnTo>
                <a:lnTo>
                  <a:pt x="2254" y="0"/>
                </a:lnTo>
                <a:lnTo>
                  <a:pt x="2265" y="0"/>
                </a:lnTo>
                <a:lnTo>
                  <a:pt x="2279" y="2"/>
                </a:lnTo>
                <a:lnTo>
                  <a:pt x="2289" y="2"/>
                </a:lnTo>
                <a:lnTo>
                  <a:pt x="2300" y="2"/>
                </a:lnTo>
                <a:lnTo>
                  <a:pt x="2312" y="2"/>
                </a:lnTo>
                <a:lnTo>
                  <a:pt x="2324" y="4"/>
                </a:lnTo>
                <a:lnTo>
                  <a:pt x="2335" y="4"/>
                </a:lnTo>
                <a:lnTo>
                  <a:pt x="2347" y="6"/>
                </a:lnTo>
                <a:lnTo>
                  <a:pt x="2358" y="8"/>
                </a:lnTo>
                <a:lnTo>
                  <a:pt x="2370" y="12"/>
                </a:lnTo>
                <a:lnTo>
                  <a:pt x="2380" y="12"/>
                </a:lnTo>
                <a:lnTo>
                  <a:pt x="2391" y="14"/>
                </a:lnTo>
                <a:lnTo>
                  <a:pt x="2401" y="16"/>
                </a:lnTo>
                <a:lnTo>
                  <a:pt x="2413" y="20"/>
                </a:lnTo>
                <a:lnTo>
                  <a:pt x="2422" y="22"/>
                </a:lnTo>
                <a:lnTo>
                  <a:pt x="2434" y="26"/>
                </a:lnTo>
                <a:lnTo>
                  <a:pt x="2444" y="29"/>
                </a:lnTo>
                <a:lnTo>
                  <a:pt x="2455"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17" name=""/>
          <p:cNvSpPr/>
          <p:nvPr/>
        </p:nvSpPr>
        <p:spPr>
          <a:xfrm>
            <a:off x="5451480" y="2690640"/>
            <a:ext cx="1066680" cy="919440"/>
          </a:xfrm>
          <a:custGeom>
            <a:avLst/>
            <a:gdLst/>
            <a:ahLst/>
            <a:rect l="l" t="t" r="r" b="b"/>
            <a:pathLst>
              <a:path w="1344" h="1160">
                <a:moveTo>
                  <a:pt x="520" y="12"/>
                </a:moveTo>
                <a:lnTo>
                  <a:pt x="534" y="8"/>
                </a:lnTo>
                <a:lnTo>
                  <a:pt x="549" y="6"/>
                </a:lnTo>
                <a:lnTo>
                  <a:pt x="563" y="4"/>
                </a:lnTo>
                <a:lnTo>
                  <a:pt x="578" y="4"/>
                </a:lnTo>
                <a:lnTo>
                  <a:pt x="592" y="2"/>
                </a:lnTo>
                <a:lnTo>
                  <a:pt x="607" y="2"/>
                </a:lnTo>
                <a:lnTo>
                  <a:pt x="621" y="2"/>
                </a:lnTo>
                <a:lnTo>
                  <a:pt x="636" y="2"/>
                </a:lnTo>
                <a:lnTo>
                  <a:pt x="650" y="2"/>
                </a:lnTo>
                <a:lnTo>
                  <a:pt x="666" y="2"/>
                </a:lnTo>
                <a:lnTo>
                  <a:pt x="679" y="4"/>
                </a:lnTo>
                <a:lnTo>
                  <a:pt x="695" y="8"/>
                </a:lnTo>
                <a:lnTo>
                  <a:pt x="708" y="8"/>
                </a:lnTo>
                <a:lnTo>
                  <a:pt x="724" y="12"/>
                </a:lnTo>
                <a:lnTo>
                  <a:pt x="737" y="16"/>
                </a:lnTo>
                <a:lnTo>
                  <a:pt x="753" y="21"/>
                </a:lnTo>
                <a:lnTo>
                  <a:pt x="770" y="23"/>
                </a:lnTo>
                <a:lnTo>
                  <a:pt x="788" y="29"/>
                </a:lnTo>
                <a:lnTo>
                  <a:pt x="805" y="31"/>
                </a:lnTo>
                <a:lnTo>
                  <a:pt x="825" y="37"/>
                </a:lnTo>
                <a:lnTo>
                  <a:pt x="842" y="39"/>
                </a:lnTo>
                <a:lnTo>
                  <a:pt x="861" y="45"/>
                </a:lnTo>
                <a:lnTo>
                  <a:pt x="879" y="49"/>
                </a:lnTo>
                <a:lnTo>
                  <a:pt x="898" y="58"/>
                </a:lnTo>
                <a:lnTo>
                  <a:pt x="910" y="60"/>
                </a:lnTo>
                <a:lnTo>
                  <a:pt x="925" y="64"/>
                </a:lnTo>
                <a:lnTo>
                  <a:pt x="941" y="66"/>
                </a:lnTo>
                <a:lnTo>
                  <a:pt x="956" y="70"/>
                </a:lnTo>
                <a:lnTo>
                  <a:pt x="970" y="72"/>
                </a:lnTo>
                <a:lnTo>
                  <a:pt x="984" y="78"/>
                </a:lnTo>
                <a:lnTo>
                  <a:pt x="995" y="85"/>
                </a:lnTo>
                <a:lnTo>
                  <a:pt x="1009" y="99"/>
                </a:lnTo>
                <a:lnTo>
                  <a:pt x="1020" y="101"/>
                </a:lnTo>
                <a:lnTo>
                  <a:pt x="1034" y="107"/>
                </a:lnTo>
                <a:lnTo>
                  <a:pt x="1046" y="114"/>
                </a:lnTo>
                <a:lnTo>
                  <a:pt x="1057" y="124"/>
                </a:lnTo>
                <a:lnTo>
                  <a:pt x="1069" y="132"/>
                </a:lnTo>
                <a:lnTo>
                  <a:pt x="1081" y="142"/>
                </a:lnTo>
                <a:lnTo>
                  <a:pt x="1092" y="149"/>
                </a:lnTo>
                <a:lnTo>
                  <a:pt x="1106" y="155"/>
                </a:lnTo>
                <a:lnTo>
                  <a:pt x="1125" y="159"/>
                </a:lnTo>
                <a:lnTo>
                  <a:pt x="1143" y="167"/>
                </a:lnTo>
                <a:lnTo>
                  <a:pt x="1158" y="176"/>
                </a:lnTo>
                <a:lnTo>
                  <a:pt x="1174" y="190"/>
                </a:lnTo>
                <a:lnTo>
                  <a:pt x="1185" y="202"/>
                </a:lnTo>
                <a:lnTo>
                  <a:pt x="1197" y="219"/>
                </a:lnTo>
                <a:lnTo>
                  <a:pt x="1209" y="235"/>
                </a:lnTo>
                <a:lnTo>
                  <a:pt x="1220" y="252"/>
                </a:lnTo>
                <a:lnTo>
                  <a:pt x="1232" y="272"/>
                </a:lnTo>
                <a:lnTo>
                  <a:pt x="1243" y="293"/>
                </a:lnTo>
                <a:lnTo>
                  <a:pt x="1249" y="304"/>
                </a:lnTo>
                <a:lnTo>
                  <a:pt x="1255" y="316"/>
                </a:lnTo>
                <a:lnTo>
                  <a:pt x="1261" y="328"/>
                </a:lnTo>
                <a:lnTo>
                  <a:pt x="1267" y="339"/>
                </a:lnTo>
                <a:lnTo>
                  <a:pt x="1271" y="351"/>
                </a:lnTo>
                <a:lnTo>
                  <a:pt x="1275" y="363"/>
                </a:lnTo>
                <a:lnTo>
                  <a:pt x="1278" y="374"/>
                </a:lnTo>
                <a:lnTo>
                  <a:pt x="1284" y="386"/>
                </a:lnTo>
                <a:lnTo>
                  <a:pt x="1286" y="398"/>
                </a:lnTo>
                <a:lnTo>
                  <a:pt x="1292" y="411"/>
                </a:lnTo>
                <a:lnTo>
                  <a:pt x="1294" y="423"/>
                </a:lnTo>
                <a:lnTo>
                  <a:pt x="1300" y="436"/>
                </a:lnTo>
                <a:lnTo>
                  <a:pt x="1302" y="448"/>
                </a:lnTo>
                <a:lnTo>
                  <a:pt x="1304" y="460"/>
                </a:lnTo>
                <a:lnTo>
                  <a:pt x="1306" y="471"/>
                </a:lnTo>
                <a:lnTo>
                  <a:pt x="1309" y="485"/>
                </a:lnTo>
                <a:lnTo>
                  <a:pt x="1311" y="496"/>
                </a:lnTo>
                <a:lnTo>
                  <a:pt x="1315" y="510"/>
                </a:lnTo>
                <a:lnTo>
                  <a:pt x="1317" y="522"/>
                </a:lnTo>
                <a:lnTo>
                  <a:pt x="1321" y="535"/>
                </a:lnTo>
                <a:lnTo>
                  <a:pt x="1323" y="547"/>
                </a:lnTo>
                <a:lnTo>
                  <a:pt x="1325" y="558"/>
                </a:lnTo>
                <a:lnTo>
                  <a:pt x="1327" y="570"/>
                </a:lnTo>
                <a:lnTo>
                  <a:pt x="1331" y="584"/>
                </a:lnTo>
                <a:lnTo>
                  <a:pt x="1333" y="595"/>
                </a:lnTo>
                <a:lnTo>
                  <a:pt x="1337" y="609"/>
                </a:lnTo>
                <a:lnTo>
                  <a:pt x="1339" y="621"/>
                </a:lnTo>
                <a:lnTo>
                  <a:pt x="1342" y="634"/>
                </a:lnTo>
                <a:lnTo>
                  <a:pt x="1340" y="648"/>
                </a:lnTo>
                <a:lnTo>
                  <a:pt x="1340" y="663"/>
                </a:lnTo>
                <a:lnTo>
                  <a:pt x="1340" y="677"/>
                </a:lnTo>
                <a:lnTo>
                  <a:pt x="1342" y="692"/>
                </a:lnTo>
                <a:lnTo>
                  <a:pt x="1342" y="706"/>
                </a:lnTo>
                <a:lnTo>
                  <a:pt x="1342" y="721"/>
                </a:lnTo>
                <a:lnTo>
                  <a:pt x="1342" y="737"/>
                </a:lnTo>
                <a:lnTo>
                  <a:pt x="1344" y="752"/>
                </a:lnTo>
                <a:lnTo>
                  <a:pt x="1342" y="766"/>
                </a:lnTo>
                <a:lnTo>
                  <a:pt x="1342" y="780"/>
                </a:lnTo>
                <a:lnTo>
                  <a:pt x="1340" y="793"/>
                </a:lnTo>
                <a:lnTo>
                  <a:pt x="1339" y="809"/>
                </a:lnTo>
                <a:lnTo>
                  <a:pt x="1335" y="822"/>
                </a:lnTo>
                <a:lnTo>
                  <a:pt x="1333" y="836"/>
                </a:lnTo>
                <a:lnTo>
                  <a:pt x="1327" y="849"/>
                </a:lnTo>
                <a:lnTo>
                  <a:pt x="1323" y="865"/>
                </a:lnTo>
                <a:lnTo>
                  <a:pt x="1311" y="882"/>
                </a:lnTo>
                <a:lnTo>
                  <a:pt x="1302" y="902"/>
                </a:lnTo>
                <a:lnTo>
                  <a:pt x="1290" y="921"/>
                </a:lnTo>
                <a:lnTo>
                  <a:pt x="1280" y="940"/>
                </a:lnTo>
                <a:lnTo>
                  <a:pt x="1267" y="960"/>
                </a:lnTo>
                <a:lnTo>
                  <a:pt x="1255" y="979"/>
                </a:lnTo>
                <a:lnTo>
                  <a:pt x="1243" y="999"/>
                </a:lnTo>
                <a:lnTo>
                  <a:pt x="1232" y="1018"/>
                </a:lnTo>
                <a:lnTo>
                  <a:pt x="1232" y="1001"/>
                </a:lnTo>
                <a:lnTo>
                  <a:pt x="1236" y="983"/>
                </a:lnTo>
                <a:lnTo>
                  <a:pt x="1238" y="964"/>
                </a:lnTo>
                <a:lnTo>
                  <a:pt x="1242" y="946"/>
                </a:lnTo>
                <a:lnTo>
                  <a:pt x="1243" y="927"/>
                </a:lnTo>
                <a:lnTo>
                  <a:pt x="1247" y="909"/>
                </a:lnTo>
                <a:lnTo>
                  <a:pt x="1249" y="892"/>
                </a:lnTo>
                <a:lnTo>
                  <a:pt x="1253" y="876"/>
                </a:lnTo>
                <a:lnTo>
                  <a:pt x="1249" y="871"/>
                </a:lnTo>
                <a:lnTo>
                  <a:pt x="1243" y="886"/>
                </a:lnTo>
                <a:lnTo>
                  <a:pt x="1238" y="904"/>
                </a:lnTo>
                <a:lnTo>
                  <a:pt x="1232" y="919"/>
                </a:lnTo>
                <a:lnTo>
                  <a:pt x="1228" y="939"/>
                </a:lnTo>
                <a:lnTo>
                  <a:pt x="1220" y="958"/>
                </a:lnTo>
                <a:lnTo>
                  <a:pt x="1214" y="979"/>
                </a:lnTo>
                <a:lnTo>
                  <a:pt x="1209" y="989"/>
                </a:lnTo>
                <a:lnTo>
                  <a:pt x="1207" y="1001"/>
                </a:lnTo>
                <a:lnTo>
                  <a:pt x="1201" y="1010"/>
                </a:lnTo>
                <a:lnTo>
                  <a:pt x="1199" y="1022"/>
                </a:lnTo>
                <a:lnTo>
                  <a:pt x="1189" y="1041"/>
                </a:lnTo>
                <a:lnTo>
                  <a:pt x="1181" y="1061"/>
                </a:lnTo>
                <a:lnTo>
                  <a:pt x="1172" y="1080"/>
                </a:lnTo>
                <a:lnTo>
                  <a:pt x="1164" y="1101"/>
                </a:lnTo>
                <a:lnTo>
                  <a:pt x="1156" y="1115"/>
                </a:lnTo>
                <a:lnTo>
                  <a:pt x="1150" y="1129"/>
                </a:lnTo>
                <a:lnTo>
                  <a:pt x="1141" y="1140"/>
                </a:lnTo>
                <a:lnTo>
                  <a:pt x="1131" y="1152"/>
                </a:lnTo>
                <a:lnTo>
                  <a:pt x="1119" y="1152"/>
                </a:lnTo>
                <a:lnTo>
                  <a:pt x="1114" y="1146"/>
                </a:lnTo>
                <a:lnTo>
                  <a:pt x="1098" y="1160"/>
                </a:lnTo>
                <a:lnTo>
                  <a:pt x="1088" y="1136"/>
                </a:lnTo>
                <a:lnTo>
                  <a:pt x="1088" y="1121"/>
                </a:lnTo>
                <a:lnTo>
                  <a:pt x="1088" y="1105"/>
                </a:lnTo>
                <a:lnTo>
                  <a:pt x="1088" y="1090"/>
                </a:lnTo>
                <a:lnTo>
                  <a:pt x="1088" y="1076"/>
                </a:lnTo>
                <a:lnTo>
                  <a:pt x="1088" y="1061"/>
                </a:lnTo>
                <a:lnTo>
                  <a:pt x="1090" y="1045"/>
                </a:lnTo>
                <a:lnTo>
                  <a:pt x="1090" y="1030"/>
                </a:lnTo>
                <a:lnTo>
                  <a:pt x="1092" y="1016"/>
                </a:lnTo>
                <a:lnTo>
                  <a:pt x="1092" y="999"/>
                </a:lnTo>
                <a:lnTo>
                  <a:pt x="1094" y="983"/>
                </a:lnTo>
                <a:lnTo>
                  <a:pt x="1094" y="968"/>
                </a:lnTo>
                <a:lnTo>
                  <a:pt x="1096" y="952"/>
                </a:lnTo>
                <a:lnTo>
                  <a:pt x="1096" y="935"/>
                </a:lnTo>
                <a:lnTo>
                  <a:pt x="1098" y="919"/>
                </a:lnTo>
                <a:lnTo>
                  <a:pt x="1100" y="904"/>
                </a:lnTo>
                <a:lnTo>
                  <a:pt x="1102" y="890"/>
                </a:lnTo>
                <a:lnTo>
                  <a:pt x="1100" y="876"/>
                </a:lnTo>
                <a:lnTo>
                  <a:pt x="1096" y="865"/>
                </a:lnTo>
                <a:lnTo>
                  <a:pt x="1090" y="853"/>
                </a:lnTo>
                <a:lnTo>
                  <a:pt x="1084" y="844"/>
                </a:lnTo>
                <a:lnTo>
                  <a:pt x="1067" y="822"/>
                </a:lnTo>
                <a:lnTo>
                  <a:pt x="1048" y="803"/>
                </a:lnTo>
                <a:lnTo>
                  <a:pt x="1036" y="799"/>
                </a:lnTo>
                <a:lnTo>
                  <a:pt x="1024" y="797"/>
                </a:lnTo>
                <a:lnTo>
                  <a:pt x="1013" y="793"/>
                </a:lnTo>
                <a:lnTo>
                  <a:pt x="1001" y="793"/>
                </a:lnTo>
                <a:lnTo>
                  <a:pt x="989" y="791"/>
                </a:lnTo>
                <a:lnTo>
                  <a:pt x="978" y="789"/>
                </a:lnTo>
                <a:lnTo>
                  <a:pt x="966" y="787"/>
                </a:lnTo>
                <a:lnTo>
                  <a:pt x="956" y="785"/>
                </a:lnTo>
                <a:lnTo>
                  <a:pt x="945" y="781"/>
                </a:lnTo>
                <a:lnTo>
                  <a:pt x="933" y="778"/>
                </a:lnTo>
                <a:lnTo>
                  <a:pt x="923" y="774"/>
                </a:lnTo>
                <a:lnTo>
                  <a:pt x="914" y="770"/>
                </a:lnTo>
                <a:lnTo>
                  <a:pt x="894" y="756"/>
                </a:lnTo>
                <a:lnTo>
                  <a:pt x="879" y="743"/>
                </a:lnTo>
                <a:lnTo>
                  <a:pt x="871" y="743"/>
                </a:lnTo>
                <a:lnTo>
                  <a:pt x="865" y="741"/>
                </a:lnTo>
                <a:lnTo>
                  <a:pt x="861" y="739"/>
                </a:lnTo>
                <a:lnTo>
                  <a:pt x="859" y="747"/>
                </a:lnTo>
                <a:lnTo>
                  <a:pt x="863" y="756"/>
                </a:lnTo>
                <a:lnTo>
                  <a:pt x="869" y="766"/>
                </a:lnTo>
                <a:lnTo>
                  <a:pt x="875" y="778"/>
                </a:lnTo>
                <a:lnTo>
                  <a:pt x="881" y="789"/>
                </a:lnTo>
                <a:lnTo>
                  <a:pt x="887" y="799"/>
                </a:lnTo>
                <a:lnTo>
                  <a:pt x="892" y="811"/>
                </a:lnTo>
                <a:lnTo>
                  <a:pt x="898" y="822"/>
                </a:lnTo>
                <a:lnTo>
                  <a:pt x="904" y="836"/>
                </a:lnTo>
                <a:lnTo>
                  <a:pt x="887" y="828"/>
                </a:lnTo>
                <a:lnTo>
                  <a:pt x="873" y="818"/>
                </a:lnTo>
                <a:lnTo>
                  <a:pt x="859" y="807"/>
                </a:lnTo>
                <a:lnTo>
                  <a:pt x="848" y="795"/>
                </a:lnTo>
                <a:lnTo>
                  <a:pt x="836" y="781"/>
                </a:lnTo>
                <a:lnTo>
                  <a:pt x="827" y="768"/>
                </a:lnTo>
                <a:lnTo>
                  <a:pt x="815" y="756"/>
                </a:lnTo>
                <a:lnTo>
                  <a:pt x="805" y="748"/>
                </a:lnTo>
                <a:lnTo>
                  <a:pt x="807" y="762"/>
                </a:lnTo>
                <a:lnTo>
                  <a:pt x="809" y="780"/>
                </a:lnTo>
                <a:lnTo>
                  <a:pt x="811" y="795"/>
                </a:lnTo>
                <a:lnTo>
                  <a:pt x="819" y="811"/>
                </a:lnTo>
                <a:lnTo>
                  <a:pt x="799" y="793"/>
                </a:lnTo>
                <a:lnTo>
                  <a:pt x="786" y="776"/>
                </a:lnTo>
                <a:lnTo>
                  <a:pt x="770" y="756"/>
                </a:lnTo>
                <a:lnTo>
                  <a:pt x="759" y="739"/>
                </a:lnTo>
                <a:lnTo>
                  <a:pt x="745" y="719"/>
                </a:lnTo>
                <a:lnTo>
                  <a:pt x="731" y="700"/>
                </a:lnTo>
                <a:lnTo>
                  <a:pt x="718" y="683"/>
                </a:lnTo>
                <a:lnTo>
                  <a:pt x="702" y="669"/>
                </a:lnTo>
                <a:lnTo>
                  <a:pt x="700" y="686"/>
                </a:lnTo>
                <a:lnTo>
                  <a:pt x="704" y="704"/>
                </a:lnTo>
                <a:lnTo>
                  <a:pt x="710" y="721"/>
                </a:lnTo>
                <a:lnTo>
                  <a:pt x="720" y="739"/>
                </a:lnTo>
                <a:lnTo>
                  <a:pt x="728" y="754"/>
                </a:lnTo>
                <a:lnTo>
                  <a:pt x="739" y="772"/>
                </a:lnTo>
                <a:lnTo>
                  <a:pt x="749" y="789"/>
                </a:lnTo>
                <a:lnTo>
                  <a:pt x="761" y="807"/>
                </a:lnTo>
                <a:lnTo>
                  <a:pt x="772" y="811"/>
                </a:lnTo>
                <a:lnTo>
                  <a:pt x="768" y="812"/>
                </a:lnTo>
                <a:lnTo>
                  <a:pt x="770" y="818"/>
                </a:lnTo>
                <a:lnTo>
                  <a:pt x="772" y="822"/>
                </a:lnTo>
                <a:lnTo>
                  <a:pt x="774" y="830"/>
                </a:lnTo>
                <a:lnTo>
                  <a:pt x="805" y="863"/>
                </a:lnTo>
                <a:lnTo>
                  <a:pt x="795" y="855"/>
                </a:lnTo>
                <a:lnTo>
                  <a:pt x="788" y="851"/>
                </a:lnTo>
                <a:lnTo>
                  <a:pt x="778" y="847"/>
                </a:lnTo>
                <a:lnTo>
                  <a:pt x="768" y="851"/>
                </a:lnTo>
                <a:lnTo>
                  <a:pt x="757" y="847"/>
                </a:lnTo>
                <a:lnTo>
                  <a:pt x="745" y="844"/>
                </a:lnTo>
                <a:lnTo>
                  <a:pt x="735" y="838"/>
                </a:lnTo>
                <a:lnTo>
                  <a:pt x="726" y="834"/>
                </a:lnTo>
                <a:lnTo>
                  <a:pt x="704" y="820"/>
                </a:lnTo>
                <a:lnTo>
                  <a:pt x="687" y="805"/>
                </a:lnTo>
                <a:lnTo>
                  <a:pt x="667" y="787"/>
                </a:lnTo>
                <a:lnTo>
                  <a:pt x="648" y="770"/>
                </a:lnTo>
                <a:lnTo>
                  <a:pt x="629" y="754"/>
                </a:lnTo>
                <a:lnTo>
                  <a:pt x="611" y="741"/>
                </a:lnTo>
                <a:lnTo>
                  <a:pt x="602" y="723"/>
                </a:lnTo>
                <a:lnTo>
                  <a:pt x="592" y="712"/>
                </a:lnTo>
                <a:lnTo>
                  <a:pt x="580" y="698"/>
                </a:lnTo>
                <a:lnTo>
                  <a:pt x="571" y="685"/>
                </a:lnTo>
                <a:lnTo>
                  <a:pt x="557" y="667"/>
                </a:lnTo>
                <a:lnTo>
                  <a:pt x="547" y="650"/>
                </a:lnTo>
                <a:lnTo>
                  <a:pt x="538" y="632"/>
                </a:lnTo>
                <a:lnTo>
                  <a:pt x="530" y="615"/>
                </a:lnTo>
                <a:lnTo>
                  <a:pt x="522" y="595"/>
                </a:lnTo>
                <a:lnTo>
                  <a:pt x="514" y="578"/>
                </a:lnTo>
                <a:lnTo>
                  <a:pt x="508" y="560"/>
                </a:lnTo>
                <a:lnTo>
                  <a:pt x="503" y="543"/>
                </a:lnTo>
                <a:lnTo>
                  <a:pt x="497" y="527"/>
                </a:lnTo>
                <a:lnTo>
                  <a:pt x="495" y="516"/>
                </a:lnTo>
                <a:lnTo>
                  <a:pt x="491" y="500"/>
                </a:lnTo>
                <a:lnTo>
                  <a:pt x="489" y="489"/>
                </a:lnTo>
                <a:lnTo>
                  <a:pt x="483" y="475"/>
                </a:lnTo>
                <a:lnTo>
                  <a:pt x="479" y="463"/>
                </a:lnTo>
                <a:lnTo>
                  <a:pt x="474" y="452"/>
                </a:lnTo>
                <a:lnTo>
                  <a:pt x="466" y="446"/>
                </a:lnTo>
                <a:lnTo>
                  <a:pt x="466" y="463"/>
                </a:lnTo>
                <a:lnTo>
                  <a:pt x="468" y="481"/>
                </a:lnTo>
                <a:lnTo>
                  <a:pt x="468" y="496"/>
                </a:lnTo>
                <a:lnTo>
                  <a:pt x="472" y="514"/>
                </a:lnTo>
                <a:lnTo>
                  <a:pt x="472" y="529"/>
                </a:lnTo>
                <a:lnTo>
                  <a:pt x="477" y="547"/>
                </a:lnTo>
                <a:lnTo>
                  <a:pt x="481" y="564"/>
                </a:lnTo>
                <a:lnTo>
                  <a:pt x="489" y="582"/>
                </a:lnTo>
                <a:lnTo>
                  <a:pt x="477" y="572"/>
                </a:lnTo>
                <a:lnTo>
                  <a:pt x="468" y="562"/>
                </a:lnTo>
                <a:lnTo>
                  <a:pt x="458" y="553"/>
                </a:lnTo>
                <a:lnTo>
                  <a:pt x="450" y="543"/>
                </a:lnTo>
                <a:lnTo>
                  <a:pt x="441" y="531"/>
                </a:lnTo>
                <a:lnTo>
                  <a:pt x="433" y="522"/>
                </a:lnTo>
                <a:lnTo>
                  <a:pt x="423" y="510"/>
                </a:lnTo>
                <a:lnTo>
                  <a:pt x="417" y="500"/>
                </a:lnTo>
                <a:lnTo>
                  <a:pt x="410" y="489"/>
                </a:lnTo>
                <a:lnTo>
                  <a:pt x="402" y="477"/>
                </a:lnTo>
                <a:lnTo>
                  <a:pt x="394" y="465"/>
                </a:lnTo>
                <a:lnTo>
                  <a:pt x="386" y="456"/>
                </a:lnTo>
                <a:lnTo>
                  <a:pt x="377" y="444"/>
                </a:lnTo>
                <a:lnTo>
                  <a:pt x="369" y="432"/>
                </a:lnTo>
                <a:lnTo>
                  <a:pt x="361" y="423"/>
                </a:lnTo>
                <a:lnTo>
                  <a:pt x="353" y="413"/>
                </a:lnTo>
                <a:lnTo>
                  <a:pt x="342" y="396"/>
                </a:lnTo>
                <a:lnTo>
                  <a:pt x="330" y="378"/>
                </a:lnTo>
                <a:lnTo>
                  <a:pt x="316" y="361"/>
                </a:lnTo>
                <a:lnTo>
                  <a:pt x="303" y="347"/>
                </a:lnTo>
                <a:lnTo>
                  <a:pt x="285" y="334"/>
                </a:lnTo>
                <a:lnTo>
                  <a:pt x="270" y="324"/>
                </a:lnTo>
                <a:lnTo>
                  <a:pt x="251" y="316"/>
                </a:lnTo>
                <a:lnTo>
                  <a:pt x="231" y="316"/>
                </a:lnTo>
                <a:lnTo>
                  <a:pt x="173" y="312"/>
                </a:lnTo>
                <a:lnTo>
                  <a:pt x="159" y="322"/>
                </a:lnTo>
                <a:lnTo>
                  <a:pt x="148" y="334"/>
                </a:lnTo>
                <a:lnTo>
                  <a:pt x="136" y="345"/>
                </a:lnTo>
                <a:lnTo>
                  <a:pt x="128" y="363"/>
                </a:lnTo>
                <a:lnTo>
                  <a:pt x="121" y="376"/>
                </a:lnTo>
                <a:lnTo>
                  <a:pt x="117" y="394"/>
                </a:lnTo>
                <a:lnTo>
                  <a:pt x="115" y="411"/>
                </a:lnTo>
                <a:lnTo>
                  <a:pt x="117" y="432"/>
                </a:lnTo>
                <a:lnTo>
                  <a:pt x="115" y="446"/>
                </a:lnTo>
                <a:lnTo>
                  <a:pt x="113" y="460"/>
                </a:lnTo>
                <a:lnTo>
                  <a:pt x="107" y="473"/>
                </a:lnTo>
                <a:lnTo>
                  <a:pt x="101" y="489"/>
                </a:lnTo>
                <a:lnTo>
                  <a:pt x="92" y="502"/>
                </a:lnTo>
                <a:lnTo>
                  <a:pt x="86" y="518"/>
                </a:lnTo>
                <a:lnTo>
                  <a:pt x="78" y="531"/>
                </a:lnTo>
                <a:lnTo>
                  <a:pt x="72" y="547"/>
                </a:lnTo>
                <a:lnTo>
                  <a:pt x="68" y="529"/>
                </a:lnTo>
                <a:lnTo>
                  <a:pt x="72" y="512"/>
                </a:lnTo>
                <a:lnTo>
                  <a:pt x="70" y="504"/>
                </a:lnTo>
                <a:lnTo>
                  <a:pt x="68" y="498"/>
                </a:lnTo>
                <a:lnTo>
                  <a:pt x="62" y="493"/>
                </a:lnTo>
                <a:lnTo>
                  <a:pt x="55" y="491"/>
                </a:lnTo>
                <a:lnTo>
                  <a:pt x="45" y="508"/>
                </a:lnTo>
                <a:lnTo>
                  <a:pt x="39" y="527"/>
                </a:lnTo>
                <a:lnTo>
                  <a:pt x="35" y="547"/>
                </a:lnTo>
                <a:lnTo>
                  <a:pt x="37" y="568"/>
                </a:lnTo>
                <a:lnTo>
                  <a:pt x="39" y="588"/>
                </a:lnTo>
                <a:lnTo>
                  <a:pt x="45" y="609"/>
                </a:lnTo>
                <a:lnTo>
                  <a:pt x="51" y="628"/>
                </a:lnTo>
                <a:lnTo>
                  <a:pt x="62" y="650"/>
                </a:lnTo>
                <a:lnTo>
                  <a:pt x="55" y="683"/>
                </a:lnTo>
                <a:lnTo>
                  <a:pt x="35" y="669"/>
                </a:lnTo>
                <a:lnTo>
                  <a:pt x="24" y="653"/>
                </a:lnTo>
                <a:lnTo>
                  <a:pt x="12" y="634"/>
                </a:lnTo>
                <a:lnTo>
                  <a:pt x="6" y="615"/>
                </a:lnTo>
                <a:lnTo>
                  <a:pt x="2" y="603"/>
                </a:lnTo>
                <a:lnTo>
                  <a:pt x="0" y="593"/>
                </a:lnTo>
                <a:lnTo>
                  <a:pt x="0" y="582"/>
                </a:lnTo>
                <a:lnTo>
                  <a:pt x="0" y="572"/>
                </a:lnTo>
                <a:lnTo>
                  <a:pt x="0" y="551"/>
                </a:lnTo>
                <a:lnTo>
                  <a:pt x="6" y="533"/>
                </a:lnTo>
                <a:lnTo>
                  <a:pt x="8" y="516"/>
                </a:lnTo>
                <a:lnTo>
                  <a:pt x="12" y="500"/>
                </a:lnTo>
                <a:lnTo>
                  <a:pt x="16" y="485"/>
                </a:lnTo>
                <a:lnTo>
                  <a:pt x="22" y="471"/>
                </a:lnTo>
                <a:lnTo>
                  <a:pt x="28" y="458"/>
                </a:lnTo>
                <a:lnTo>
                  <a:pt x="35" y="444"/>
                </a:lnTo>
                <a:lnTo>
                  <a:pt x="45" y="432"/>
                </a:lnTo>
                <a:lnTo>
                  <a:pt x="59" y="425"/>
                </a:lnTo>
                <a:lnTo>
                  <a:pt x="68" y="415"/>
                </a:lnTo>
                <a:lnTo>
                  <a:pt x="80" y="407"/>
                </a:lnTo>
                <a:lnTo>
                  <a:pt x="78" y="394"/>
                </a:lnTo>
                <a:lnTo>
                  <a:pt x="78" y="382"/>
                </a:lnTo>
                <a:lnTo>
                  <a:pt x="72" y="370"/>
                </a:lnTo>
                <a:lnTo>
                  <a:pt x="64" y="365"/>
                </a:lnTo>
                <a:lnTo>
                  <a:pt x="59" y="351"/>
                </a:lnTo>
                <a:lnTo>
                  <a:pt x="59" y="339"/>
                </a:lnTo>
                <a:lnTo>
                  <a:pt x="57" y="326"/>
                </a:lnTo>
                <a:lnTo>
                  <a:pt x="59" y="312"/>
                </a:lnTo>
                <a:lnTo>
                  <a:pt x="59" y="299"/>
                </a:lnTo>
                <a:lnTo>
                  <a:pt x="60" y="285"/>
                </a:lnTo>
                <a:lnTo>
                  <a:pt x="60" y="272"/>
                </a:lnTo>
                <a:lnTo>
                  <a:pt x="62" y="260"/>
                </a:lnTo>
                <a:lnTo>
                  <a:pt x="62" y="244"/>
                </a:lnTo>
                <a:lnTo>
                  <a:pt x="62" y="229"/>
                </a:lnTo>
                <a:lnTo>
                  <a:pt x="66" y="213"/>
                </a:lnTo>
                <a:lnTo>
                  <a:pt x="76" y="202"/>
                </a:lnTo>
                <a:lnTo>
                  <a:pt x="78" y="182"/>
                </a:lnTo>
                <a:lnTo>
                  <a:pt x="88" y="165"/>
                </a:lnTo>
                <a:lnTo>
                  <a:pt x="97" y="147"/>
                </a:lnTo>
                <a:lnTo>
                  <a:pt x="111" y="132"/>
                </a:lnTo>
                <a:lnTo>
                  <a:pt x="121" y="116"/>
                </a:lnTo>
                <a:lnTo>
                  <a:pt x="136" y="101"/>
                </a:lnTo>
                <a:lnTo>
                  <a:pt x="150" y="85"/>
                </a:lnTo>
                <a:lnTo>
                  <a:pt x="163" y="78"/>
                </a:lnTo>
                <a:lnTo>
                  <a:pt x="175" y="68"/>
                </a:lnTo>
                <a:lnTo>
                  <a:pt x="187" y="62"/>
                </a:lnTo>
                <a:lnTo>
                  <a:pt x="198" y="56"/>
                </a:lnTo>
                <a:lnTo>
                  <a:pt x="212" y="50"/>
                </a:lnTo>
                <a:lnTo>
                  <a:pt x="223" y="45"/>
                </a:lnTo>
                <a:lnTo>
                  <a:pt x="237" y="39"/>
                </a:lnTo>
                <a:lnTo>
                  <a:pt x="251" y="33"/>
                </a:lnTo>
                <a:lnTo>
                  <a:pt x="266" y="29"/>
                </a:lnTo>
                <a:lnTo>
                  <a:pt x="268" y="35"/>
                </a:lnTo>
                <a:lnTo>
                  <a:pt x="270" y="43"/>
                </a:lnTo>
                <a:lnTo>
                  <a:pt x="256" y="54"/>
                </a:lnTo>
                <a:lnTo>
                  <a:pt x="243" y="66"/>
                </a:lnTo>
                <a:lnTo>
                  <a:pt x="227" y="78"/>
                </a:lnTo>
                <a:lnTo>
                  <a:pt x="216" y="89"/>
                </a:lnTo>
                <a:lnTo>
                  <a:pt x="202" y="101"/>
                </a:lnTo>
                <a:lnTo>
                  <a:pt x="192" y="114"/>
                </a:lnTo>
                <a:lnTo>
                  <a:pt x="183" y="130"/>
                </a:lnTo>
                <a:lnTo>
                  <a:pt x="181" y="149"/>
                </a:lnTo>
                <a:lnTo>
                  <a:pt x="196" y="144"/>
                </a:lnTo>
                <a:lnTo>
                  <a:pt x="214" y="140"/>
                </a:lnTo>
                <a:lnTo>
                  <a:pt x="229" y="130"/>
                </a:lnTo>
                <a:lnTo>
                  <a:pt x="247" y="120"/>
                </a:lnTo>
                <a:lnTo>
                  <a:pt x="262" y="107"/>
                </a:lnTo>
                <a:lnTo>
                  <a:pt x="278" y="95"/>
                </a:lnTo>
                <a:lnTo>
                  <a:pt x="293" y="83"/>
                </a:lnTo>
                <a:lnTo>
                  <a:pt x="311" y="74"/>
                </a:lnTo>
                <a:lnTo>
                  <a:pt x="322" y="64"/>
                </a:lnTo>
                <a:lnTo>
                  <a:pt x="336" y="58"/>
                </a:lnTo>
                <a:lnTo>
                  <a:pt x="349" y="52"/>
                </a:lnTo>
                <a:lnTo>
                  <a:pt x="363" y="49"/>
                </a:lnTo>
                <a:lnTo>
                  <a:pt x="375" y="43"/>
                </a:lnTo>
                <a:lnTo>
                  <a:pt x="388" y="41"/>
                </a:lnTo>
                <a:lnTo>
                  <a:pt x="404" y="37"/>
                </a:lnTo>
                <a:lnTo>
                  <a:pt x="421" y="37"/>
                </a:lnTo>
                <a:lnTo>
                  <a:pt x="429" y="25"/>
                </a:lnTo>
                <a:lnTo>
                  <a:pt x="425" y="16"/>
                </a:lnTo>
                <a:lnTo>
                  <a:pt x="435" y="10"/>
                </a:lnTo>
                <a:lnTo>
                  <a:pt x="446" y="8"/>
                </a:lnTo>
                <a:lnTo>
                  <a:pt x="458" y="4"/>
                </a:lnTo>
                <a:lnTo>
                  <a:pt x="470" y="2"/>
                </a:lnTo>
                <a:lnTo>
                  <a:pt x="479" y="0"/>
                </a:lnTo>
                <a:lnTo>
                  <a:pt x="491" y="0"/>
                </a:lnTo>
                <a:lnTo>
                  <a:pt x="503" y="0"/>
                </a:lnTo>
                <a:lnTo>
                  <a:pt x="514" y="2"/>
                </a:lnTo>
                <a:lnTo>
                  <a:pt x="520" y="12"/>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18" name=""/>
          <p:cNvSpPr/>
          <p:nvPr/>
        </p:nvSpPr>
        <p:spPr>
          <a:xfrm>
            <a:off x="5605560" y="2690640"/>
            <a:ext cx="801720" cy="675000"/>
          </a:xfrm>
          <a:custGeom>
            <a:avLst/>
            <a:gdLst/>
            <a:ahLst/>
            <a:rect l="l" t="t" r="r" b="b"/>
            <a:pathLst>
              <a:path w="1011" h="851">
                <a:moveTo>
                  <a:pt x="584" y="849"/>
                </a:moveTo>
                <a:lnTo>
                  <a:pt x="572" y="840"/>
                </a:lnTo>
                <a:lnTo>
                  <a:pt x="569" y="834"/>
                </a:lnTo>
                <a:lnTo>
                  <a:pt x="557" y="822"/>
                </a:lnTo>
                <a:lnTo>
                  <a:pt x="549" y="811"/>
                </a:lnTo>
                <a:lnTo>
                  <a:pt x="539" y="799"/>
                </a:lnTo>
                <a:lnTo>
                  <a:pt x="534" y="787"/>
                </a:lnTo>
                <a:lnTo>
                  <a:pt x="526" y="774"/>
                </a:lnTo>
                <a:lnTo>
                  <a:pt x="520" y="762"/>
                </a:lnTo>
                <a:lnTo>
                  <a:pt x="514" y="748"/>
                </a:lnTo>
                <a:lnTo>
                  <a:pt x="510" y="737"/>
                </a:lnTo>
                <a:lnTo>
                  <a:pt x="505" y="723"/>
                </a:lnTo>
                <a:lnTo>
                  <a:pt x="499" y="710"/>
                </a:lnTo>
                <a:lnTo>
                  <a:pt x="493" y="696"/>
                </a:lnTo>
                <a:lnTo>
                  <a:pt x="491" y="685"/>
                </a:lnTo>
                <a:lnTo>
                  <a:pt x="485" y="671"/>
                </a:lnTo>
                <a:lnTo>
                  <a:pt x="483" y="657"/>
                </a:lnTo>
                <a:lnTo>
                  <a:pt x="479" y="644"/>
                </a:lnTo>
                <a:lnTo>
                  <a:pt x="477" y="632"/>
                </a:lnTo>
                <a:lnTo>
                  <a:pt x="472" y="617"/>
                </a:lnTo>
                <a:lnTo>
                  <a:pt x="470" y="603"/>
                </a:lnTo>
                <a:lnTo>
                  <a:pt x="466" y="588"/>
                </a:lnTo>
                <a:lnTo>
                  <a:pt x="464" y="576"/>
                </a:lnTo>
                <a:lnTo>
                  <a:pt x="460" y="560"/>
                </a:lnTo>
                <a:lnTo>
                  <a:pt x="458" y="547"/>
                </a:lnTo>
                <a:lnTo>
                  <a:pt x="454" y="531"/>
                </a:lnTo>
                <a:lnTo>
                  <a:pt x="452" y="520"/>
                </a:lnTo>
                <a:lnTo>
                  <a:pt x="448" y="504"/>
                </a:lnTo>
                <a:lnTo>
                  <a:pt x="444" y="491"/>
                </a:lnTo>
                <a:lnTo>
                  <a:pt x="441" y="477"/>
                </a:lnTo>
                <a:lnTo>
                  <a:pt x="439" y="465"/>
                </a:lnTo>
                <a:lnTo>
                  <a:pt x="433" y="452"/>
                </a:lnTo>
                <a:lnTo>
                  <a:pt x="429" y="438"/>
                </a:lnTo>
                <a:lnTo>
                  <a:pt x="425" y="425"/>
                </a:lnTo>
                <a:lnTo>
                  <a:pt x="421" y="413"/>
                </a:lnTo>
                <a:lnTo>
                  <a:pt x="413" y="399"/>
                </a:lnTo>
                <a:lnTo>
                  <a:pt x="406" y="388"/>
                </a:lnTo>
                <a:lnTo>
                  <a:pt x="394" y="376"/>
                </a:lnTo>
                <a:lnTo>
                  <a:pt x="384" y="367"/>
                </a:lnTo>
                <a:lnTo>
                  <a:pt x="371" y="355"/>
                </a:lnTo>
                <a:lnTo>
                  <a:pt x="359" y="343"/>
                </a:lnTo>
                <a:lnTo>
                  <a:pt x="345" y="334"/>
                </a:lnTo>
                <a:lnTo>
                  <a:pt x="334" y="326"/>
                </a:lnTo>
                <a:lnTo>
                  <a:pt x="318" y="314"/>
                </a:lnTo>
                <a:lnTo>
                  <a:pt x="305" y="306"/>
                </a:lnTo>
                <a:lnTo>
                  <a:pt x="289" y="295"/>
                </a:lnTo>
                <a:lnTo>
                  <a:pt x="278" y="287"/>
                </a:lnTo>
                <a:lnTo>
                  <a:pt x="264" y="277"/>
                </a:lnTo>
                <a:lnTo>
                  <a:pt x="250" y="268"/>
                </a:lnTo>
                <a:lnTo>
                  <a:pt x="239" y="258"/>
                </a:lnTo>
                <a:lnTo>
                  <a:pt x="231" y="250"/>
                </a:lnTo>
                <a:lnTo>
                  <a:pt x="237" y="239"/>
                </a:lnTo>
                <a:lnTo>
                  <a:pt x="249" y="231"/>
                </a:lnTo>
                <a:lnTo>
                  <a:pt x="262" y="225"/>
                </a:lnTo>
                <a:lnTo>
                  <a:pt x="280" y="223"/>
                </a:lnTo>
                <a:lnTo>
                  <a:pt x="297" y="219"/>
                </a:lnTo>
                <a:lnTo>
                  <a:pt x="316" y="219"/>
                </a:lnTo>
                <a:lnTo>
                  <a:pt x="326" y="219"/>
                </a:lnTo>
                <a:lnTo>
                  <a:pt x="338" y="219"/>
                </a:lnTo>
                <a:lnTo>
                  <a:pt x="349" y="221"/>
                </a:lnTo>
                <a:lnTo>
                  <a:pt x="361" y="223"/>
                </a:lnTo>
                <a:lnTo>
                  <a:pt x="371" y="223"/>
                </a:lnTo>
                <a:lnTo>
                  <a:pt x="382" y="223"/>
                </a:lnTo>
                <a:lnTo>
                  <a:pt x="392" y="225"/>
                </a:lnTo>
                <a:lnTo>
                  <a:pt x="404" y="227"/>
                </a:lnTo>
                <a:lnTo>
                  <a:pt x="413" y="227"/>
                </a:lnTo>
                <a:lnTo>
                  <a:pt x="425" y="229"/>
                </a:lnTo>
                <a:lnTo>
                  <a:pt x="435" y="231"/>
                </a:lnTo>
                <a:lnTo>
                  <a:pt x="446" y="233"/>
                </a:lnTo>
                <a:lnTo>
                  <a:pt x="464" y="235"/>
                </a:lnTo>
                <a:lnTo>
                  <a:pt x="481" y="237"/>
                </a:lnTo>
                <a:lnTo>
                  <a:pt x="495" y="239"/>
                </a:lnTo>
                <a:lnTo>
                  <a:pt x="508" y="240"/>
                </a:lnTo>
                <a:lnTo>
                  <a:pt x="522" y="246"/>
                </a:lnTo>
                <a:lnTo>
                  <a:pt x="537" y="256"/>
                </a:lnTo>
                <a:lnTo>
                  <a:pt x="549" y="264"/>
                </a:lnTo>
                <a:lnTo>
                  <a:pt x="561" y="275"/>
                </a:lnTo>
                <a:lnTo>
                  <a:pt x="569" y="285"/>
                </a:lnTo>
                <a:lnTo>
                  <a:pt x="578" y="295"/>
                </a:lnTo>
                <a:lnTo>
                  <a:pt x="586" y="306"/>
                </a:lnTo>
                <a:lnTo>
                  <a:pt x="594" y="318"/>
                </a:lnTo>
                <a:lnTo>
                  <a:pt x="598" y="330"/>
                </a:lnTo>
                <a:lnTo>
                  <a:pt x="603" y="341"/>
                </a:lnTo>
                <a:lnTo>
                  <a:pt x="607" y="353"/>
                </a:lnTo>
                <a:lnTo>
                  <a:pt x="613" y="365"/>
                </a:lnTo>
                <a:lnTo>
                  <a:pt x="615" y="376"/>
                </a:lnTo>
                <a:lnTo>
                  <a:pt x="619" y="390"/>
                </a:lnTo>
                <a:lnTo>
                  <a:pt x="621" y="403"/>
                </a:lnTo>
                <a:lnTo>
                  <a:pt x="625" y="417"/>
                </a:lnTo>
                <a:lnTo>
                  <a:pt x="625" y="429"/>
                </a:lnTo>
                <a:lnTo>
                  <a:pt x="629" y="440"/>
                </a:lnTo>
                <a:lnTo>
                  <a:pt x="629" y="454"/>
                </a:lnTo>
                <a:lnTo>
                  <a:pt x="633" y="467"/>
                </a:lnTo>
                <a:lnTo>
                  <a:pt x="634" y="479"/>
                </a:lnTo>
                <a:lnTo>
                  <a:pt x="638" y="491"/>
                </a:lnTo>
                <a:lnTo>
                  <a:pt x="640" y="504"/>
                </a:lnTo>
                <a:lnTo>
                  <a:pt x="646" y="518"/>
                </a:lnTo>
                <a:lnTo>
                  <a:pt x="650" y="529"/>
                </a:lnTo>
                <a:lnTo>
                  <a:pt x="656" y="541"/>
                </a:lnTo>
                <a:lnTo>
                  <a:pt x="662" y="553"/>
                </a:lnTo>
                <a:lnTo>
                  <a:pt x="669" y="566"/>
                </a:lnTo>
                <a:lnTo>
                  <a:pt x="675" y="578"/>
                </a:lnTo>
                <a:lnTo>
                  <a:pt x="687" y="590"/>
                </a:lnTo>
                <a:lnTo>
                  <a:pt x="697" y="601"/>
                </a:lnTo>
                <a:lnTo>
                  <a:pt x="710" y="613"/>
                </a:lnTo>
                <a:lnTo>
                  <a:pt x="722" y="621"/>
                </a:lnTo>
                <a:lnTo>
                  <a:pt x="739" y="628"/>
                </a:lnTo>
                <a:lnTo>
                  <a:pt x="757" y="634"/>
                </a:lnTo>
                <a:lnTo>
                  <a:pt x="772" y="642"/>
                </a:lnTo>
                <a:lnTo>
                  <a:pt x="757" y="624"/>
                </a:lnTo>
                <a:lnTo>
                  <a:pt x="747" y="607"/>
                </a:lnTo>
                <a:lnTo>
                  <a:pt x="735" y="591"/>
                </a:lnTo>
                <a:lnTo>
                  <a:pt x="728" y="576"/>
                </a:lnTo>
                <a:lnTo>
                  <a:pt x="720" y="558"/>
                </a:lnTo>
                <a:lnTo>
                  <a:pt x="714" y="543"/>
                </a:lnTo>
                <a:lnTo>
                  <a:pt x="710" y="527"/>
                </a:lnTo>
                <a:lnTo>
                  <a:pt x="708" y="514"/>
                </a:lnTo>
                <a:lnTo>
                  <a:pt x="704" y="498"/>
                </a:lnTo>
                <a:lnTo>
                  <a:pt x="702" y="483"/>
                </a:lnTo>
                <a:lnTo>
                  <a:pt x="700" y="467"/>
                </a:lnTo>
                <a:lnTo>
                  <a:pt x="700" y="454"/>
                </a:lnTo>
                <a:lnTo>
                  <a:pt x="698" y="438"/>
                </a:lnTo>
                <a:lnTo>
                  <a:pt x="697" y="423"/>
                </a:lnTo>
                <a:lnTo>
                  <a:pt x="695" y="407"/>
                </a:lnTo>
                <a:lnTo>
                  <a:pt x="693" y="394"/>
                </a:lnTo>
                <a:lnTo>
                  <a:pt x="693" y="384"/>
                </a:lnTo>
                <a:lnTo>
                  <a:pt x="695" y="368"/>
                </a:lnTo>
                <a:lnTo>
                  <a:pt x="693" y="357"/>
                </a:lnTo>
                <a:lnTo>
                  <a:pt x="693" y="347"/>
                </a:lnTo>
                <a:lnTo>
                  <a:pt x="691" y="335"/>
                </a:lnTo>
                <a:lnTo>
                  <a:pt x="691" y="324"/>
                </a:lnTo>
                <a:lnTo>
                  <a:pt x="687" y="310"/>
                </a:lnTo>
                <a:lnTo>
                  <a:pt x="687" y="297"/>
                </a:lnTo>
                <a:lnTo>
                  <a:pt x="683" y="285"/>
                </a:lnTo>
                <a:lnTo>
                  <a:pt x="683" y="275"/>
                </a:lnTo>
                <a:lnTo>
                  <a:pt x="679" y="258"/>
                </a:lnTo>
                <a:lnTo>
                  <a:pt x="679" y="248"/>
                </a:lnTo>
                <a:lnTo>
                  <a:pt x="671" y="227"/>
                </a:lnTo>
                <a:lnTo>
                  <a:pt x="665" y="209"/>
                </a:lnTo>
                <a:lnTo>
                  <a:pt x="656" y="192"/>
                </a:lnTo>
                <a:lnTo>
                  <a:pt x="648" y="178"/>
                </a:lnTo>
                <a:lnTo>
                  <a:pt x="636" y="163"/>
                </a:lnTo>
                <a:lnTo>
                  <a:pt x="627" y="151"/>
                </a:lnTo>
                <a:lnTo>
                  <a:pt x="615" y="140"/>
                </a:lnTo>
                <a:lnTo>
                  <a:pt x="605" y="130"/>
                </a:lnTo>
                <a:lnTo>
                  <a:pt x="592" y="118"/>
                </a:lnTo>
                <a:lnTo>
                  <a:pt x="580" y="111"/>
                </a:lnTo>
                <a:lnTo>
                  <a:pt x="569" y="103"/>
                </a:lnTo>
                <a:lnTo>
                  <a:pt x="557" y="97"/>
                </a:lnTo>
                <a:lnTo>
                  <a:pt x="545" y="89"/>
                </a:lnTo>
                <a:lnTo>
                  <a:pt x="536" y="83"/>
                </a:lnTo>
                <a:lnTo>
                  <a:pt x="526" y="80"/>
                </a:lnTo>
                <a:lnTo>
                  <a:pt x="520" y="76"/>
                </a:lnTo>
                <a:lnTo>
                  <a:pt x="530" y="74"/>
                </a:lnTo>
                <a:lnTo>
                  <a:pt x="541" y="72"/>
                </a:lnTo>
                <a:lnTo>
                  <a:pt x="551" y="72"/>
                </a:lnTo>
                <a:lnTo>
                  <a:pt x="563" y="72"/>
                </a:lnTo>
                <a:lnTo>
                  <a:pt x="572" y="72"/>
                </a:lnTo>
                <a:lnTo>
                  <a:pt x="584" y="72"/>
                </a:lnTo>
                <a:lnTo>
                  <a:pt x="594" y="74"/>
                </a:lnTo>
                <a:lnTo>
                  <a:pt x="605" y="78"/>
                </a:lnTo>
                <a:lnTo>
                  <a:pt x="625" y="80"/>
                </a:lnTo>
                <a:lnTo>
                  <a:pt x="646" y="87"/>
                </a:lnTo>
                <a:lnTo>
                  <a:pt x="656" y="89"/>
                </a:lnTo>
                <a:lnTo>
                  <a:pt x="667" y="93"/>
                </a:lnTo>
                <a:lnTo>
                  <a:pt x="677" y="97"/>
                </a:lnTo>
                <a:lnTo>
                  <a:pt x="689" y="103"/>
                </a:lnTo>
                <a:lnTo>
                  <a:pt x="706" y="111"/>
                </a:lnTo>
                <a:lnTo>
                  <a:pt x="726" y="122"/>
                </a:lnTo>
                <a:lnTo>
                  <a:pt x="743" y="134"/>
                </a:lnTo>
                <a:lnTo>
                  <a:pt x="762" y="147"/>
                </a:lnTo>
                <a:lnTo>
                  <a:pt x="780" y="161"/>
                </a:lnTo>
                <a:lnTo>
                  <a:pt x="797" y="176"/>
                </a:lnTo>
                <a:lnTo>
                  <a:pt x="813" y="194"/>
                </a:lnTo>
                <a:lnTo>
                  <a:pt x="830" y="211"/>
                </a:lnTo>
                <a:lnTo>
                  <a:pt x="844" y="229"/>
                </a:lnTo>
                <a:lnTo>
                  <a:pt x="857" y="246"/>
                </a:lnTo>
                <a:lnTo>
                  <a:pt x="869" y="266"/>
                </a:lnTo>
                <a:lnTo>
                  <a:pt x="883" y="287"/>
                </a:lnTo>
                <a:lnTo>
                  <a:pt x="892" y="306"/>
                </a:lnTo>
                <a:lnTo>
                  <a:pt x="904" y="328"/>
                </a:lnTo>
                <a:lnTo>
                  <a:pt x="908" y="339"/>
                </a:lnTo>
                <a:lnTo>
                  <a:pt x="914" y="351"/>
                </a:lnTo>
                <a:lnTo>
                  <a:pt x="920" y="363"/>
                </a:lnTo>
                <a:lnTo>
                  <a:pt x="925" y="374"/>
                </a:lnTo>
                <a:lnTo>
                  <a:pt x="927" y="384"/>
                </a:lnTo>
                <a:lnTo>
                  <a:pt x="931" y="396"/>
                </a:lnTo>
                <a:lnTo>
                  <a:pt x="935" y="407"/>
                </a:lnTo>
                <a:lnTo>
                  <a:pt x="939" y="419"/>
                </a:lnTo>
                <a:lnTo>
                  <a:pt x="941" y="431"/>
                </a:lnTo>
                <a:lnTo>
                  <a:pt x="945" y="442"/>
                </a:lnTo>
                <a:lnTo>
                  <a:pt x="947" y="454"/>
                </a:lnTo>
                <a:lnTo>
                  <a:pt x="951" y="467"/>
                </a:lnTo>
                <a:lnTo>
                  <a:pt x="951" y="479"/>
                </a:lnTo>
                <a:lnTo>
                  <a:pt x="953" y="491"/>
                </a:lnTo>
                <a:lnTo>
                  <a:pt x="954" y="502"/>
                </a:lnTo>
                <a:lnTo>
                  <a:pt x="956" y="516"/>
                </a:lnTo>
                <a:lnTo>
                  <a:pt x="956" y="527"/>
                </a:lnTo>
                <a:lnTo>
                  <a:pt x="958" y="541"/>
                </a:lnTo>
                <a:lnTo>
                  <a:pt x="958" y="555"/>
                </a:lnTo>
                <a:lnTo>
                  <a:pt x="960" y="568"/>
                </a:lnTo>
                <a:lnTo>
                  <a:pt x="966" y="566"/>
                </a:lnTo>
                <a:lnTo>
                  <a:pt x="974" y="560"/>
                </a:lnTo>
                <a:lnTo>
                  <a:pt x="980" y="549"/>
                </a:lnTo>
                <a:lnTo>
                  <a:pt x="985" y="535"/>
                </a:lnTo>
                <a:lnTo>
                  <a:pt x="989" y="518"/>
                </a:lnTo>
                <a:lnTo>
                  <a:pt x="995" y="498"/>
                </a:lnTo>
                <a:lnTo>
                  <a:pt x="997" y="487"/>
                </a:lnTo>
                <a:lnTo>
                  <a:pt x="999" y="477"/>
                </a:lnTo>
                <a:lnTo>
                  <a:pt x="1001" y="467"/>
                </a:lnTo>
                <a:lnTo>
                  <a:pt x="1005" y="458"/>
                </a:lnTo>
                <a:lnTo>
                  <a:pt x="1005" y="446"/>
                </a:lnTo>
                <a:lnTo>
                  <a:pt x="1007" y="434"/>
                </a:lnTo>
                <a:lnTo>
                  <a:pt x="1007" y="423"/>
                </a:lnTo>
                <a:lnTo>
                  <a:pt x="1009" y="413"/>
                </a:lnTo>
                <a:lnTo>
                  <a:pt x="1009" y="392"/>
                </a:lnTo>
                <a:lnTo>
                  <a:pt x="1011" y="374"/>
                </a:lnTo>
                <a:lnTo>
                  <a:pt x="1011" y="355"/>
                </a:lnTo>
                <a:lnTo>
                  <a:pt x="1011" y="341"/>
                </a:lnTo>
                <a:lnTo>
                  <a:pt x="1011" y="330"/>
                </a:lnTo>
                <a:lnTo>
                  <a:pt x="1011" y="326"/>
                </a:lnTo>
                <a:lnTo>
                  <a:pt x="1007" y="308"/>
                </a:lnTo>
                <a:lnTo>
                  <a:pt x="1005" y="291"/>
                </a:lnTo>
                <a:lnTo>
                  <a:pt x="1001" y="273"/>
                </a:lnTo>
                <a:lnTo>
                  <a:pt x="997" y="256"/>
                </a:lnTo>
                <a:lnTo>
                  <a:pt x="989" y="237"/>
                </a:lnTo>
                <a:lnTo>
                  <a:pt x="982" y="219"/>
                </a:lnTo>
                <a:lnTo>
                  <a:pt x="974" y="200"/>
                </a:lnTo>
                <a:lnTo>
                  <a:pt x="966" y="180"/>
                </a:lnTo>
                <a:lnTo>
                  <a:pt x="953" y="171"/>
                </a:lnTo>
                <a:lnTo>
                  <a:pt x="941" y="165"/>
                </a:lnTo>
                <a:lnTo>
                  <a:pt x="927" y="157"/>
                </a:lnTo>
                <a:lnTo>
                  <a:pt x="912" y="155"/>
                </a:lnTo>
                <a:lnTo>
                  <a:pt x="898" y="149"/>
                </a:lnTo>
                <a:lnTo>
                  <a:pt x="887" y="142"/>
                </a:lnTo>
                <a:lnTo>
                  <a:pt x="875" y="132"/>
                </a:lnTo>
                <a:lnTo>
                  <a:pt x="863" y="124"/>
                </a:lnTo>
                <a:lnTo>
                  <a:pt x="852" y="114"/>
                </a:lnTo>
                <a:lnTo>
                  <a:pt x="840" y="107"/>
                </a:lnTo>
                <a:lnTo>
                  <a:pt x="826" y="101"/>
                </a:lnTo>
                <a:lnTo>
                  <a:pt x="815" y="99"/>
                </a:lnTo>
                <a:lnTo>
                  <a:pt x="801" y="85"/>
                </a:lnTo>
                <a:lnTo>
                  <a:pt x="790" y="78"/>
                </a:lnTo>
                <a:lnTo>
                  <a:pt x="776" y="72"/>
                </a:lnTo>
                <a:lnTo>
                  <a:pt x="762" y="70"/>
                </a:lnTo>
                <a:lnTo>
                  <a:pt x="747" y="66"/>
                </a:lnTo>
                <a:lnTo>
                  <a:pt x="731" y="64"/>
                </a:lnTo>
                <a:lnTo>
                  <a:pt x="716" y="60"/>
                </a:lnTo>
                <a:lnTo>
                  <a:pt x="704" y="58"/>
                </a:lnTo>
                <a:lnTo>
                  <a:pt x="685" y="49"/>
                </a:lnTo>
                <a:lnTo>
                  <a:pt x="667" y="45"/>
                </a:lnTo>
                <a:lnTo>
                  <a:pt x="648" y="39"/>
                </a:lnTo>
                <a:lnTo>
                  <a:pt x="631" y="37"/>
                </a:lnTo>
                <a:lnTo>
                  <a:pt x="611" y="31"/>
                </a:lnTo>
                <a:lnTo>
                  <a:pt x="594" y="29"/>
                </a:lnTo>
                <a:lnTo>
                  <a:pt x="576" y="23"/>
                </a:lnTo>
                <a:lnTo>
                  <a:pt x="559" y="21"/>
                </a:lnTo>
                <a:lnTo>
                  <a:pt x="543" y="16"/>
                </a:lnTo>
                <a:lnTo>
                  <a:pt x="530" y="12"/>
                </a:lnTo>
                <a:lnTo>
                  <a:pt x="514" y="8"/>
                </a:lnTo>
                <a:lnTo>
                  <a:pt x="501" y="8"/>
                </a:lnTo>
                <a:lnTo>
                  <a:pt x="485" y="4"/>
                </a:lnTo>
                <a:lnTo>
                  <a:pt x="472" y="2"/>
                </a:lnTo>
                <a:lnTo>
                  <a:pt x="456" y="2"/>
                </a:lnTo>
                <a:lnTo>
                  <a:pt x="442" y="2"/>
                </a:lnTo>
                <a:lnTo>
                  <a:pt x="427" y="2"/>
                </a:lnTo>
                <a:lnTo>
                  <a:pt x="413" y="2"/>
                </a:lnTo>
                <a:lnTo>
                  <a:pt x="398" y="2"/>
                </a:lnTo>
                <a:lnTo>
                  <a:pt x="384" y="4"/>
                </a:lnTo>
                <a:lnTo>
                  <a:pt x="369" y="4"/>
                </a:lnTo>
                <a:lnTo>
                  <a:pt x="355" y="6"/>
                </a:lnTo>
                <a:lnTo>
                  <a:pt x="340" y="8"/>
                </a:lnTo>
                <a:lnTo>
                  <a:pt x="326" y="12"/>
                </a:lnTo>
                <a:lnTo>
                  <a:pt x="320" y="2"/>
                </a:lnTo>
                <a:lnTo>
                  <a:pt x="309" y="0"/>
                </a:lnTo>
                <a:lnTo>
                  <a:pt x="297" y="0"/>
                </a:lnTo>
                <a:lnTo>
                  <a:pt x="285" y="0"/>
                </a:lnTo>
                <a:lnTo>
                  <a:pt x="276" y="2"/>
                </a:lnTo>
                <a:lnTo>
                  <a:pt x="264" y="4"/>
                </a:lnTo>
                <a:lnTo>
                  <a:pt x="252" y="8"/>
                </a:lnTo>
                <a:lnTo>
                  <a:pt x="241" y="10"/>
                </a:lnTo>
                <a:lnTo>
                  <a:pt x="231" y="16"/>
                </a:lnTo>
                <a:lnTo>
                  <a:pt x="235" y="25"/>
                </a:lnTo>
                <a:lnTo>
                  <a:pt x="227" y="37"/>
                </a:lnTo>
                <a:lnTo>
                  <a:pt x="212" y="37"/>
                </a:lnTo>
                <a:lnTo>
                  <a:pt x="198" y="39"/>
                </a:lnTo>
                <a:lnTo>
                  <a:pt x="186" y="41"/>
                </a:lnTo>
                <a:lnTo>
                  <a:pt x="177" y="45"/>
                </a:lnTo>
                <a:lnTo>
                  <a:pt x="165" y="49"/>
                </a:lnTo>
                <a:lnTo>
                  <a:pt x="154" y="52"/>
                </a:lnTo>
                <a:lnTo>
                  <a:pt x="144" y="58"/>
                </a:lnTo>
                <a:lnTo>
                  <a:pt x="134" y="64"/>
                </a:lnTo>
                <a:lnTo>
                  <a:pt x="124" y="74"/>
                </a:lnTo>
                <a:lnTo>
                  <a:pt x="117" y="83"/>
                </a:lnTo>
                <a:lnTo>
                  <a:pt x="109" y="93"/>
                </a:lnTo>
                <a:lnTo>
                  <a:pt x="101" y="103"/>
                </a:lnTo>
                <a:lnTo>
                  <a:pt x="95" y="105"/>
                </a:lnTo>
                <a:lnTo>
                  <a:pt x="91" y="111"/>
                </a:lnTo>
                <a:lnTo>
                  <a:pt x="88" y="114"/>
                </a:lnTo>
                <a:lnTo>
                  <a:pt x="84" y="120"/>
                </a:lnTo>
                <a:lnTo>
                  <a:pt x="78" y="124"/>
                </a:lnTo>
                <a:lnTo>
                  <a:pt x="70" y="134"/>
                </a:lnTo>
                <a:lnTo>
                  <a:pt x="60" y="142"/>
                </a:lnTo>
                <a:lnTo>
                  <a:pt x="55" y="147"/>
                </a:lnTo>
                <a:lnTo>
                  <a:pt x="39" y="155"/>
                </a:lnTo>
                <a:lnTo>
                  <a:pt x="27" y="169"/>
                </a:lnTo>
                <a:lnTo>
                  <a:pt x="16" y="180"/>
                </a:lnTo>
                <a:lnTo>
                  <a:pt x="10" y="198"/>
                </a:lnTo>
                <a:lnTo>
                  <a:pt x="4" y="211"/>
                </a:lnTo>
                <a:lnTo>
                  <a:pt x="2" y="227"/>
                </a:lnTo>
                <a:lnTo>
                  <a:pt x="0" y="240"/>
                </a:lnTo>
                <a:lnTo>
                  <a:pt x="4" y="256"/>
                </a:lnTo>
                <a:lnTo>
                  <a:pt x="6" y="270"/>
                </a:lnTo>
                <a:lnTo>
                  <a:pt x="12" y="285"/>
                </a:lnTo>
                <a:lnTo>
                  <a:pt x="18" y="299"/>
                </a:lnTo>
                <a:lnTo>
                  <a:pt x="26" y="314"/>
                </a:lnTo>
                <a:lnTo>
                  <a:pt x="37" y="316"/>
                </a:lnTo>
                <a:lnTo>
                  <a:pt x="57" y="316"/>
                </a:lnTo>
                <a:lnTo>
                  <a:pt x="76" y="324"/>
                </a:lnTo>
                <a:lnTo>
                  <a:pt x="91" y="334"/>
                </a:lnTo>
                <a:lnTo>
                  <a:pt x="109" y="347"/>
                </a:lnTo>
                <a:lnTo>
                  <a:pt x="122" y="361"/>
                </a:lnTo>
                <a:lnTo>
                  <a:pt x="136" y="378"/>
                </a:lnTo>
                <a:lnTo>
                  <a:pt x="148" y="396"/>
                </a:lnTo>
                <a:lnTo>
                  <a:pt x="159" y="413"/>
                </a:lnTo>
                <a:lnTo>
                  <a:pt x="167" y="423"/>
                </a:lnTo>
                <a:lnTo>
                  <a:pt x="175" y="432"/>
                </a:lnTo>
                <a:lnTo>
                  <a:pt x="183" y="444"/>
                </a:lnTo>
                <a:lnTo>
                  <a:pt x="192" y="456"/>
                </a:lnTo>
                <a:lnTo>
                  <a:pt x="200" y="465"/>
                </a:lnTo>
                <a:lnTo>
                  <a:pt x="208" y="477"/>
                </a:lnTo>
                <a:lnTo>
                  <a:pt x="216" y="489"/>
                </a:lnTo>
                <a:lnTo>
                  <a:pt x="223" y="500"/>
                </a:lnTo>
                <a:lnTo>
                  <a:pt x="229" y="510"/>
                </a:lnTo>
                <a:lnTo>
                  <a:pt x="239" y="522"/>
                </a:lnTo>
                <a:lnTo>
                  <a:pt x="247" y="531"/>
                </a:lnTo>
                <a:lnTo>
                  <a:pt x="256" y="543"/>
                </a:lnTo>
                <a:lnTo>
                  <a:pt x="264" y="553"/>
                </a:lnTo>
                <a:lnTo>
                  <a:pt x="274" y="562"/>
                </a:lnTo>
                <a:lnTo>
                  <a:pt x="283" y="572"/>
                </a:lnTo>
                <a:lnTo>
                  <a:pt x="295" y="582"/>
                </a:lnTo>
                <a:lnTo>
                  <a:pt x="287" y="564"/>
                </a:lnTo>
                <a:lnTo>
                  <a:pt x="283" y="547"/>
                </a:lnTo>
                <a:lnTo>
                  <a:pt x="278" y="529"/>
                </a:lnTo>
                <a:lnTo>
                  <a:pt x="278" y="514"/>
                </a:lnTo>
                <a:lnTo>
                  <a:pt x="274" y="496"/>
                </a:lnTo>
                <a:lnTo>
                  <a:pt x="274" y="481"/>
                </a:lnTo>
                <a:lnTo>
                  <a:pt x="272" y="463"/>
                </a:lnTo>
                <a:lnTo>
                  <a:pt x="272" y="446"/>
                </a:lnTo>
                <a:lnTo>
                  <a:pt x="280" y="452"/>
                </a:lnTo>
                <a:lnTo>
                  <a:pt x="285" y="463"/>
                </a:lnTo>
                <a:lnTo>
                  <a:pt x="289" y="475"/>
                </a:lnTo>
                <a:lnTo>
                  <a:pt x="295" y="489"/>
                </a:lnTo>
                <a:lnTo>
                  <a:pt x="297" y="500"/>
                </a:lnTo>
                <a:lnTo>
                  <a:pt x="301" y="516"/>
                </a:lnTo>
                <a:lnTo>
                  <a:pt x="303" y="527"/>
                </a:lnTo>
                <a:lnTo>
                  <a:pt x="309" y="543"/>
                </a:lnTo>
                <a:lnTo>
                  <a:pt x="313" y="558"/>
                </a:lnTo>
                <a:lnTo>
                  <a:pt x="318" y="574"/>
                </a:lnTo>
                <a:lnTo>
                  <a:pt x="324" y="586"/>
                </a:lnTo>
                <a:lnTo>
                  <a:pt x="330" y="597"/>
                </a:lnTo>
                <a:lnTo>
                  <a:pt x="336" y="611"/>
                </a:lnTo>
                <a:lnTo>
                  <a:pt x="344" y="619"/>
                </a:lnTo>
                <a:lnTo>
                  <a:pt x="347" y="617"/>
                </a:lnTo>
                <a:lnTo>
                  <a:pt x="351" y="613"/>
                </a:lnTo>
                <a:lnTo>
                  <a:pt x="353" y="603"/>
                </a:lnTo>
                <a:lnTo>
                  <a:pt x="357" y="593"/>
                </a:lnTo>
                <a:lnTo>
                  <a:pt x="357" y="578"/>
                </a:lnTo>
                <a:lnTo>
                  <a:pt x="359" y="566"/>
                </a:lnTo>
                <a:lnTo>
                  <a:pt x="361" y="553"/>
                </a:lnTo>
                <a:lnTo>
                  <a:pt x="365" y="547"/>
                </a:lnTo>
                <a:lnTo>
                  <a:pt x="369" y="541"/>
                </a:lnTo>
                <a:lnTo>
                  <a:pt x="377" y="543"/>
                </a:lnTo>
                <a:lnTo>
                  <a:pt x="384" y="551"/>
                </a:lnTo>
                <a:lnTo>
                  <a:pt x="396" y="568"/>
                </a:lnTo>
                <a:lnTo>
                  <a:pt x="400" y="578"/>
                </a:lnTo>
                <a:lnTo>
                  <a:pt x="408" y="597"/>
                </a:lnTo>
                <a:lnTo>
                  <a:pt x="411" y="609"/>
                </a:lnTo>
                <a:lnTo>
                  <a:pt x="415" y="621"/>
                </a:lnTo>
                <a:lnTo>
                  <a:pt x="419" y="634"/>
                </a:lnTo>
                <a:lnTo>
                  <a:pt x="425" y="650"/>
                </a:lnTo>
                <a:lnTo>
                  <a:pt x="427" y="661"/>
                </a:lnTo>
                <a:lnTo>
                  <a:pt x="433" y="675"/>
                </a:lnTo>
                <a:lnTo>
                  <a:pt x="435" y="686"/>
                </a:lnTo>
                <a:lnTo>
                  <a:pt x="441" y="700"/>
                </a:lnTo>
                <a:lnTo>
                  <a:pt x="442" y="710"/>
                </a:lnTo>
                <a:lnTo>
                  <a:pt x="446" y="719"/>
                </a:lnTo>
                <a:lnTo>
                  <a:pt x="448" y="727"/>
                </a:lnTo>
                <a:lnTo>
                  <a:pt x="452" y="735"/>
                </a:lnTo>
                <a:lnTo>
                  <a:pt x="468" y="748"/>
                </a:lnTo>
                <a:lnTo>
                  <a:pt x="483" y="766"/>
                </a:lnTo>
                <a:lnTo>
                  <a:pt x="497" y="783"/>
                </a:lnTo>
                <a:lnTo>
                  <a:pt x="510" y="803"/>
                </a:lnTo>
                <a:lnTo>
                  <a:pt x="522" y="818"/>
                </a:lnTo>
                <a:lnTo>
                  <a:pt x="537" y="832"/>
                </a:lnTo>
                <a:lnTo>
                  <a:pt x="543" y="838"/>
                </a:lnTo>
                <a:lnTo>
                  <a:pt x="553" y="844"/>
                </a:lnTo>
                <a:lnTo>
                  <a:pt x="563" y="847"/>
                </a:lnTo>
                <a:lnTo>
                  <a:pt x="574" y="851"/>
                </a:lnTo>
                <a:lnTo>
                  <a:pt x="578" y="849"/>
                </a:lnTo>
                <a:lnTo>
                  <a:pt x="584" y="849"/>
                </a:lnTo>
                <a:close/>
              </a:path>
            </a:pathLst>
          </a:custGeom>
          <a:solidFill>
            <a:srgbClr val="fad994"/>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19" name=""/>
          <p:cNvSpPr/>
          <p:nvPr/>
        </p:nvSpPr>
        <p:spPr>
          <a:xfrm>
            <a:off x="5451480" y="2712960"/>
            <a:ext cx="212760" cy="519120"/>
          </a:xfrm>
          <a:custGeom>
            <a:avLst/>
            <a:gdLst/>
            <a:ahLst/>
            <a:rect l="l" t="t" r="r" b="b"/>
            <a:pathLst>
              <a:path w="270" h="654">
                <a:moveTo>
                  <a:pt x="181" y="115"/>
                </a:moveTo>
                <a:lnTo>
                  <a:pt x="179" y="115"/>
                </a:lnTo>
                <a:lnTo>
                  <a:pt x="177" y="116"/>
                </a:lnTo>
                <a:lnTo>
                  <a:pt x="161" y="124"/>
                </a:lnTo>
                <a:lnTo>
                  <a:pt x="146" y="142"/>
                </a:lnTo>
                <a:lnTo>
                  <a:pt x="136" y="151"/>
                </a:lnTo>
                <a:lnTo>
                  <a:pt x="128" y="165"/>
                </a:lnTo>
                <a:lnTo>
                  <a:pt x="121" y="179"/>
                </a:lnTo>
                <a:lnTo>
                  <a:pt x="115" y="194"/>
                </a:lnTo>
                <a:lnTo>
                  <a:pt x="107" y="208"/>
                </a:lnTo>
                <a:lnTo>
                  <a:pt x="101" y="223"/>
                </a:lnTo>
                <a:lnTo>
                  <a:pt x="95" y="237"/>
                </a:lnTo>
                <a:lnTo>
                  <a:pt x="95" y="252"/>
                </a:lnTo>
                <a:lnTo>
                  <a:pt x="93" y="264"/>
                </a:lnTo>
                <a:lnTo>
                  <a:pt x="93" y="277"/>
                </a:lnTo>
                <a:lnTo>
                  <a:pt x="97" y="287"/>
                </a:lnTo>
                <a:lnTo>
                  <a:pt x="105" y="297"/>
                </a:lnTo>
                <a:lnTo>
                  <a:pt x="109" y="297"/>
                </a:lnTo>
                <a:lnTo>
                  <a:pt x="121" y="297"/>
                </a:lnTo>
                <a:lnTo>
                  <a:pt x="136" y="297"/>
                </a:lnTo>
                <a:lnTo>
                  <a:pt x="157" y="297"/>
                </a:lnTo>
                <a:lnTo>
                  <a:pt x="146" y="306"/>
                </a:lnTo>
                <a:lnTo>
                  <a:pt x="138" y="318"/>
                </a:lnTo>
                <a:lnTo>
                  <a:pt x="130" y="330"/>
                </a:lnTo>
                <a:lnTo>
                  <a:pt x="124" y="343"/>
                </a:lnTo>
                <a:lnTo>
                  <a:pt x="119" y="355"/>
                </a:lnTo>
                <a:lnTo>
                  <a:pt x="115" y="370"/>
                </a:lnTo>
                <a:lnTo>
                  <a:pt x="115" y="386"/>
                </a:lnTo>
                <a:lnTo>
                  <a:pt x="117" y="403"/>
                </a:lnTo>
                <a:lnTo>
                  <a:pt x="115" y="417"/>
                </a:lnTo>
                <a:lnTo>
                  <a:pt x="113" y="431"/>
                </a:lnTo>
                <a:lnTo>
                  <a:pt x="107" y="444"/>
                </a:lnTo>
                <a:lnTo>
                  <a:pt x="101" y="460"/>
                </a:lnTo>
                <a:lnTo>
                  <a:pt x="92" y="473"/>
                </a:lnTo>
                <a:lnTo>
                  <a:pt x="86" y="489"/>
                </a:lnTo>
                <a:lnTo>
                  <a:pt x="78" y="502"/>
                </a:lnTo>
                <a:lnTo>
                  <a:pt x="72" y="518"/>
                </a:lnTo>
                <a:lnTo>
                  <a:pt x="68" y="500"/>
                </a:lnTo>
                <a:lnTo>
                  <a:pt x="72" y="483"/>
                </a:lnTo>
                <a:lnTo>
                  <a:pt x="70" y="475"/>
                </a:lnTo>
                <a:lnTo>
                  <a:pt x="68" y="469"/>
                </a:lnTo>
                <a:lnTo>
                  <a:pt x="62" y="464"/>
                </a:lnTo>
                <a:lnTo>
                  <a:pt x="55" y="462"/>
                </a:lnTo>
                <a:lnTo>
                  <a:pt x="45" y="479"/>
                </a:lnTo>
                <a:lnTo>
                  <a:pt x="39" y="498"/>
                </a:lnTo>
                <a:lnTo>
                  <a:pt x="35" y="518"/>
                </a:lnTo>
                <a:lnTo>
                  <a:pt x="37" y="539"/>
                </a:lnTo>
                <a:lnTo>
                  <a:pt x="39" y="559"/>
                </a:lnTo>
                <a:lnTo>
                  <a:pt x="45" y="580"/>
                </a:lnTo>
                <a:lnTo>
                  <a:pt x="51" y="599"/>
                </a:lnTo>
                <a:lnTo>
                  <a:pt x="62" y="621"/>
                </a:lnTo>
                <a:lnTo>
                  <a:pt x="55" y="654"/>
                </a:lnTo>
                <a:lnTo>
                  <a:pt x="35" y="640"/>
                </a:lnTo>
                <a:lnTo>
                  <a:pt x="24" y="624"/>
                </a:lnTo>
                <a:lnTo>
                  <a:pt x="12" y="605"/>
                </a:lnTo>
                <a:lnTo>
                  <a:pt x="6" y="586"/>
                </a:lnTo>
                <a:lnTo>
                  <a:pt x="2" y="574"/>
                </a:lnTo>
                <a:lnTo>
                  <a:pt x="0" y="564"/>
                </a:lnTo>
                <a:lnTo>
                  <a:pt x="0" y="553"/>
                </a:lnTo>
                <a:lnTo>
                  <a:pt x="0" y="543"/>
                </a:lnTo>
                <a:lnTo>
                  <a:pt x="0" y="522"/>
                </a:lnTo>
                <a:lnTo>
                  <a:pt x="6" y="504"/>
                </a:lnTo>
                <a:lnTo>
                  <a:pt x="8" y="487"/>
                </a:lnTo>
                <a:lnTo>
                  <a:pt x="12" y="471"/>
                </a:lnTo>
                <a:lnTo>
                  <a:pt x="16" y="456"/>
                </a:lnTo>
                <a:lnTo>
                  <a:pt x="22" y="442"/>
                </a:lnTo>
                <a:lnTo>
                  <a:pt x="28" y="429"/>
                </a:lnTo>
                <a:lnTo>
                  <a:pt x="35" y="415"/>
                </a:lnTo>
                <a:lnTo>
                  <a:pt x="45" y="403"/>
                </a:lnTo>
                <a:lnTo>
                  <a:pt x="59" y="396"/>
                </a:lnTo>
                <a:lnTo>
                  <a:pt x="68" y="386"/>
                </a:lnTo>
                <a:lnTo>
                  <a:pt x="80" y="378"/>
                </a:lnTo>
                <a:lnTo>
                  <a:pt x="78" y="365"/>
                </a:lnTo>
                <a:lnTo>
                  <a:pt x="78" y="353"/>
                </a:lnTo>
                <a:lnTo>
                  <a:pt x="72" y="341"/>
                </a:lnTo>
                <a:lnTo>
                  <a:pt x="64" y="336"/>
                </a:lnTo>
                <a:lnTo>
                  <a:pt x="59" y="322"/>
                </a:lnTo>
                <a:lnTo>
                  <a:pt x="59" y="310"/>
                </a:lnTo>
                <a:lnTo>
                  <a:pt x="57" y="297"/>
                </a:lnTo>
                <a:lnTo>
                  <a:pt x="59" y="283"/>
                </a:lnTo>
                <a:lnTo>
                  <a:pt x="59" y="270"/>
                </a:lnTo>
                <a:lnTo>
                  <a:pt x="60" y="256"/>
                </a:lnTo>
                <a:lnTo>
                  <a:pt x="60" y="243"/>
                </a:lnTo>
                <a:lnTo>
                  <a:pt x="62" y="231"/>
                </a:lnTo>
                <a:lnTo>
                  <a:pt x="62" y="215"/>
                </a:lnTo>
                <a:lnTo>
                  <a:pt x="62" y="200"/>
                </a:lnTo>
                <a:lnTo>
                  <a:pt x="66" y="184"/>
                </a:lnTo>
                <a:lnTo>
                  <a:pt x="76" y="173"/>
                </a:lnTo>
                <a:lnTo>
                  <a:pt x="78" y="153"/>
                </a:lnTo>
                <a:lnTo>
                  <a:pt x="88" y="136"/>
                </a:lnTo>
                <a:lnTo>
                  <a:pt x="97" y="118"/>
                </a:lnTo>
                <a:lnTo>
                  <a:pt x="111" y="103"/>
                </a:lnTo>
                <a:lnTo>
                  <a:pt x="121" y="87"/>
                </a:lnTo>
                <a:lnTo>
                  <a:pt x="136" y="72"/>
                </a:lnTo>
                <a:lnTo>
                  <a:pt x="150" y="56"/>
                </a:lnTo>
                <a:lnTo>
                  <a:pt x="163" y="49"/>
                </a:lnTo>
                <a:lnTo>
                  <a:pt x="175" y="39"/>
                </a:lnTo>
                <a:lnTo>
                  <a:pt x="187" y="33"/>
                </a:lnTo>
                <a:lnTo>
                  <a:pt x="198" y="27"/>
                </a:lnTo>
                <a:lnTo>
                  <a:pt x="212" y="21"/>
                </a:lnTo>
                <a:lnTo>
                  <a:pt x="223" y="16"/>
                </a:lnTo>
                <a:lnTo>
                  <a:pt x="237" y="10"/>
                </a:lnTo>
                <a:lnTo>
                  <a:pt x="251" y="4"/>
                </a:lnTo>
                <a:lnTo>
                  <a:pt x="266" y="0"/>
                </a:lnTo>
                <a:lnTo>
                  <a:pt x="268" y="6"/>
                </a:lnTo>
                <a:lnTo>
                  <a:pt x="270" y="14"/>
                </a:lnTo>
                <a:lnTo>
                  <a:pt x="256" y="25"/>
                </a:lnTo>
                <a:lnTo>
                  <a:pt x="243" y="37"/>
                </a:lnTo>
                <a:lnTo>
                  <a:pt x="229" y="49"/>
                </a:lnTo>
                <a:lnTo>
                  <a:pt x="218" y="60"/>
                </a:lnTo>
                <a:lnTo>
                  <a:pt x="204" y="72"/>
                </a:lnTo>
                <a:lnTo>
                  <a:pt x="192" y="84"/>
                </a:lnTo>
                <a:lnTo>
                  <a:pt x="185" y="97"/>
                </a:lnTo>
                <a:lnTo>
                  <a:pt x="181" y="115"/>
                </a:lnTo>
                <a:close/>
              </a:path>
            </a:pathLst>
          </a:custGeom>
          <a:solidFill>
            <a:srgbClr val="b84a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20" name=""/>
          <p:cNvSpPr/>
          <p:nvPr/>
        </p:nvSpPr>
        <p:spPr>
          <a:xfrm>
            <a:off x="5891040" y="2828880"/>
            <a:ext cx="627120" cy="781200"/>
          </a:xfrm>
          <a:custGeom>
            <a:avLst/>
            <a:gdLst/>
            <a:ahLst/>
            <a:rect l="l" t="t" r="r" b="b"/>
            <a:pathLst>
              <a:path w="789" h="985">
                <a:moveTo>
                  <a:pt x="599" y="0"/>
                </a:moveTo>
                <a:lnTo>
                  <a:pt x="605" y="9"/>
                </a:lnTo>
                <a:lnTo>
                  <a:pt x="613" y="21"/>
                </a:lnTo>
                <a:lnTo>
                  <a:pt x="619" y="29"/>
                </a:lnTo>
                <a:lnTo>
                  <a:pt x="624" y="36"/>
                </a:lnTo>
                <a:lnTo>
                  <a:pt x="632" y="48"/>
                </a:lnTo>
                <a:lnTo>
                  <a:pt x="640" y="60"/>
                </a:lnTo>
                <a:lnTo>
                  <a:pt x="646" y="71"/>
                </a:lnTo>
                <a:lnTo>
                  <a:pt x="654" y="87"/>
                </a:lnTo>
                <a:lnTo>
                  <a:pt x="659" y="98"/>
                </a:lnTo>
                <a:lnTo>
                  <a:pt x="665" y="114"/>
                </a:lnTo>
                <a:lnTo>
                  <a:pt x="669" y="128"/>
                </a:lnTo>
                <a:lnTo>
                  <a:pt x="673" y="143"/>
                </a:lnTo>
                <a:lnTo>
                  <a:pt x="675" y="157"/>
                </a:lnTo>
                <a:lnTo>
                  <a:pt x="677" y="172"/>
                </a:lnTo>
                <a:lnTo>
                  <a:pt x="679" y="186"/>
                </a:lnTo>
                <a:lnTo>
                  <a:pt x="681" y="201"/>
                </a:lnTo>
                <a:lnTo>
                  <a:pt x="681" y="217"/>
                </a:lnTo>
                <a:lnTo>
                  <a:pt x="681" y="232"/>
                </a:lnTo>
                <a:lnTo>
                  <a:pt x="681" y="248"/>
                </a:lnTo>
                <a:lnTo>
                  <a:pt x="683" y="265"/>
                </a:lnTo>
                <a:lnTo>
                  <a:pt x="681" y="281"/>
                </a:lnTo>
                <a:lnTo>
                  <a:pt x="679" y="296"/>
                </a:lnTo>
                <a:lnTo>
                  <a:pt x="677" y="312"/>
                </a:lnTo>
                <a:lnTo>
                  <a:pt x="677" y="329"/>
                </a:lnTo>
                <a:lnTo>
                  <a:pt x="675" y="345"/>
                </a:lnTo>
                <a:lnTo>
                  <a:pt x="675" y="360"/>
                </a:lnTo>
                <a:lnTo>
                  <a:pt x="673" y="376"/>
                </a:lnTo>
                <a:lnTo>
                  <a:pt x="673" y="393"/>
                </a:lnTo>
                <a:lnTo>
                  <a:pt x="671" y="407"/>
                </a:lnTo>
                <a:lnTo>
                  <a:pt x="669" y="424"/>
                </a:lnTo>
                <a:lnTo>
                  <a:pt x="667" y="438"/>
                </a:lnTo>
                <a:lnTo>
                  <a:pt x="667" y="455"/>
                </a:lnTo>
                <a:lnTo>
                  <a:pt x="665" y="469"/>
                </a:lnTo>
                <a:lnTo>
                  <a:pt x="665" y="486"/>
                </a:lnTo>
                <a:lnTo>
                  <a:pt x="665" y="500"/>
                </a:lnTo>
                <a:lnTo>
                  <a:pt x="665" y="517"/>
                </a:lnTo>
                <a:lnTo>
                  <a:pt x="661" y="519"/>
                </a:lnTo>
                <a:lnTo>
                  <a:pt x="656" y="523"/>
                </a:lnTo>
                <a:lnTo>
                  <a:pt x="652" y="519"/>
                </a:lnTo>
                <a:lnTo>
                  <a:pt x="642" y="511"/>
                </a:lnTo>
                <a:lnTo>
                  <a:pt x="632" y="504"/>
                </a:lnTo>
                <a:lnTo>
                  <a:pt x="630" y="502"/>
                </a:lnTo>
                <a:lnTo>
                  <a:pt x="613" y="484"/>
                </a:lnTo>
                <a:lnTo>
                  <a:pt x="601" y="467"/>
                </a:lnTo>
                <a:lnTo>
                  <a:pt x="592" y="447"/>
                </a:lnTo>
                <a:lnTo>
                  <a:pt x="584" y="428"/>
                </a:lnTo>
                <a:lnTo>
                  <a:pt x="578" y="416"/>
                </a:lnTo>
                <a:lnTo>
                  <a:pt x="574" y="405"/>
                </a:lnTo>
                <a:lnTo>
                  <a:pt x="570" y="395"/>
                </a:lnTo>
                <a:lnTo>
                  <a:pt x="566" y="385"/>
                </a:lnTo>
                <a:lnTo>
                  <a:pt x="557" y="368"/>
                </a:lnTo>
                <a:lnTo>
                  <a:pt x="547" y="352"/>
                </a:lnTo>
                <a:lnTo>
                  <a:pt x="533" y="335"/>
                </a:lnTo>
                <a:lnTo>
                  <a:pt x="522" y="319"/>
                </a:lnTo>
                <a:lnTo>
                  <a:pt x="510" y="302"/>
                </a:lnTo>
                <a:lnTo>
                  <a:pt x="498" y="285"/>
                </a:lnTo>
                <a:lnTo>
                  <a:pt x="487" y="265"/>
                </a:lnTo>
                <a:lnTo>
                  <a:pt x="475" y="246"/>
                </a:lnTo>
                <a:lnTo>
                  <a:pt x="464" y="226"/>
                </a:lnTo>
                <a:lnTo>
                  <a:pt x="454" y="207"/>
                </a:lnTo>
                <a:lnTo>
                  <a:pt x="440" y="186"/>
                </a:lnTo>
                <a:lnTo>
                  <a:pt x="429" y="166"/>
                </a:lnTo>
                <a:lnTo>
                  <a:pt x="417" y="145"/>
                </a:lnTo>
                <a:lnTo>
                  <a:pt x="405" y="128"/>
                </a:lnTo>
                <a:lnTo>
                  <a:pt x="392" y="110"/>
                </a:lnTo>
                <a:lnTo>
                  <a:pt x="380" y="93"/>
                </a:lnTo>
                <a:lnTo>
                  <a:pt x="368" y="77"/>
                </a:lnTo>
                <a:lnTo>
                  <a:pt x="357" y="65"/>
                </a:lnTo>
                <a:lnTo>
                  <a:pt x="357" y="75"/>
                </a:lnTo>
                <a:lnTo>
                  <a:pt x="357" y="87"/>
                </a:lnTo>
                <a:lnTo>
                  <a:pt x="359" y="98"/>
                </a:lnTo>
                <a:lnTo>
                  <a:pt x="361" y="110"/>
                </a:lnTo>
                <a:lnTo>
                  <a:pt x="363" y="122"/>
                </a:lnTo>
                <a:lnTo>
                  <a:pt x="367" y="135"/>
                </a:lnTo>
                <a:lnTo>
                  <a:pt x="372" y="149"/>
                </a:lnTo>
                <a:lnTo>
                  <a:pt x="378" y="162"/>
                </a:lnTo>
                <a:lnTo>
                  <a:pt x="382" y="174"/>
                </a:lnTo>
                <a:lnTo>
                  <a:pt x="386" y="188"/>
                </a:lnTo>
                <a:lnTo>
                  <a:pt x="392" y="201"/>
                </a:lnTo>
                <a:lnTo>
                  <a:pt x="398" y="215"/>
                </a:lnTo>
                <a:lnTo>
                  <a:pt x="403" y="228"/>
                </a:lnTo>
                <a:lnTo>
                  <a:pt x="409" y="242"/>
                </a:lnTo>
                <a:lnTo>
                  <a:pt x="415" y="256"/>
                </a:lnTo>
                <a:lnTo>
                  <a:pt x="423" y="271"/>
                </a:lnTo>
                <a:lnTo>
                  <a:pt x="427" y="283"/>
                </a:lnTo>
                <a:lnTo>
                  <a:pt x="432" y="298"/>
                </a:lnTo>
                <a:lnTo>
                  <a:pt x="436" y="310"/>
                </a:lnTo>
                <a:lnTo>
                  <a:pt x="442" y="325"/>
                </a:lnTo>
                <a:lnTo>
                  <a:pt x="446" y="337"/>
                </a:lnTo>
                <a:lnTo>
                  <a:pt x="450" y="352"/>
                </a:lnTo>
                <a:lnTo>
                  <a:pt x="454" y="364"/>
                </a:lnTo>
                <a:lnTo>
                  <a:pt x="458" y="380"/>
                </a:lnTo>
                <a:lnTo>
                  <a:pt x="460" y="391"/>
                </a:lnTo>
                <a:lnTo>
                  <a:pt x="462" y="405"/>
                </a:lnTo>
                <a:lnTo>
                  <a:pt x="462" y="418"/>
                </a:lnTo>
                <a:lnTo>
                  <a:pt x="462" y="432"/>
                </a:lnTo>
                <a:lnTo>
                  <a:pt x="460" y="444"/>
                </a:lnTo>
                <a:lnTo>
                  <a:pt x="460" y="457"/>
                </a:lnTo>
                <a:lnTo>
                  <a:pt x="458" y="469"/>
                </a:lnTo>
                <a:lnTo>
                  <a:pt x="456" y="482"/>
                </a:lnTo>
                <a:lnTo>
                  <a:pt x="452" y="488"/>
                </a:lnTo>
                <a:lnTo>
                  <a:pt x="450" y="498"/>
                </a:lnTo>
                <a:lnTo>
                  <a:pt x="444" y="504"/>
                </a:lnTo>
                <a:lnTo>
                  <a:pt x="438" y="511"/>
                </a:lnTo>
                <a:lnTo>
                  <a:pt x="429" y="510"/>
                </a:lnTo>
                <a:lnTo>
                  <a:pt x="419" y="508"/>
                </a:lnTo>
                <a:lnTo>
                  <a:pt x="407" y="504"/>
                </a:lnTo>
                <a:lnTo>
                  <a:pt x="398" y="502"/>
                </a:lnTo>
                <a:lnTo>
                  <a:pt x="384" y="496"/>
                </a:lnTo>
                <a:lnTo>
                  <a:pt x="372" y="490"/>
                </a:lnTo>
                <a:lnTo>
                  <a:pt x="359" y="484"/>
                </a:lnTo>
                <a:lnTo>
                  <a:pt x="347" y="480"/>
                </a:lnTo>
                <a:lnTo>
                  <a:pt x="334" y="473"/>
                </a:lnTo>
                <a:lnTo>
                  <a:pt x="320" y="465"/>
                </a:lnTo>
                <a:lnTo>
                  <a:pt x="308" y="459"/>
                </a:lnTo>
                <a:lnTo>
                  <a:pt x="297" y="453"/>
                </a:lnTo>
                <a:lnTo>
                  <a:pt x="277" y="442"/>
                </a:lnTo>
                <a:lnTo>
                  <a:pt x="266" y="432"/>
                </a:lnTo>
                <a:lnTo>
                  <a:pt x="248" y="415"/>
                </a:lnTo>
                <a:lnTo>
                  <a:pt x="237" y="399"/>
                </a:lnTo>
                <a:lnTo>
                  <a:pt x="225" y="380"/>
                </a:lnTo>
                <a:lnTo>
                  <a:pt x="219" y="360"/>
                </a:lnTo>
                <a:lnTo>
                  <a:pt x="213" y="349"/>
                </a:lnTo>
                <a:lnTo>
                  <a:pt x="209" y="337"/>
                </a:lnTo>
                <a:lnTo>
                  <a:pt x="206" y="325"/>
                </a:lnTo>
                <a:lnTo>
                  <a:pt x="204" y="316"/>
                </a:lnTo>
                <a:lnTo>
                  <a:pt x="200" y="304"/>
                </a:lnTo>
                <a:lnTo>
                  <a:pt x="200" y="294"/>
                </a:lnTo>
                <a:lnTo>
                  <a:pt x="196" y="283"/>
                </a:lnTo>
                <a:lnTo>
                  <a:pt x="196" y="273"/>
                </a:lnTo>
                <a:lnTo>
                  <a:pt x="192" y="261"/>
                </a:lnTo>
                <a:lnTo>
                  <a:pt x="188" y="250"/>
                </a:lnTo>
                <a:lnTo>
                  <a:pt x="184" y="238"/>
                </a:lnTo>
                <a:lnTo>
                  <a:pt x="182" y="228"/>
                </a:lnTo>
                <a:lnTo>
                  <a:pt x="173" y="207"/>
                </a:lnTo>
                <a:lnTo>
                  <a:pt x="165" y="190"/>
                </a:lnTo>
                <a:lnTo>
                  <a:pt x="151" y="170"/>
                </a:lnTo>
                <a:lnTo>
                  <a:pt x="140" y="155"/>
                </a:lnTo>
                <a:lnTo>
                  <a:pt x="122" y="141"/>
                </a:lnTo>
                <a:lnTo>
                  <a:pt x="105" y="131"/>
                </a:lnTo>
                <a:lnTo>
                  <a:pt x="91" y="126"/>
                </a:lnTo>
                <a:lnTo>
                  <a:pt x="80" y="122"/>
                </a:lnTo>
                <a:lnTo>
                  <a:pt x="64" y="118"/>
                </a:lnTo>
                <a:lnTo>
                  <a:pt x="50" y="114"/>
                </a:lnTo>
                <a:lnTo>
                  <a:pt x="35" y="108"/>
                </a:lnTo>
                <a:lnTo>
                  <a:pt x="21" y="104"/>
                </a:lnTo>
                <a:lnTo>
                  <a:pt x="10" y="97"/>
                </a:lnTo>
                <a:lnTo>
                  <a:pt x="0" y="91"/>
                </a:lnTo>
                <a:lnTo>
                  <a:pt x="4" y="104"/>
                </a:lnTo>
                <a:lnTo>
                  <a:pt x="16" y="120"/>
                </a:lnTo>
                <a:lnTo>
                  <a:pt x="27" y="131"/>
                </a:lnTo>
                <a:lnTo>
                  <a:pt x="43" y="145"/>
                </a:lnTo>
                <a:lnTo>
                  <a:pt x="56" y="157"/>
                </a:lnTo>
                <a:lnTo>
                  <a:pt x="70" y="170"/>
                </a:lnTo>
                <a:lnTo>
                  <a:pt x="81" y="182"/>
                </a:lnTo>
                <a:lnTo>
                  <a:pt x="93" y="197"/>
                </a:lnTo>
                <a:lnTo>
                  <a:pt x="101" y="215"/>
                </a:lnTo>
                <a:lnTo>
                  <a:pt x="111" y="232"/>
                </a:lnTo>
                <a:lnTo>
                  <a:pt x="116" y="250"/>
                </a:lnTo>
                <a:lnTo>
                  <a:pt x="124" y="269"/>
                </a:lnTo>
                <a:lnTo>
                  <a:pt x="128" y="287"/>
                </a:lnTo>
                <a:lnTo>
                  <a:pt x="134" y="306"/>
                </a:lnTo>
                <a:lnTo>
                  <a:pt x="138" y="323"/>
                </a:lnTo>
                <a:lnTo>
                  <a:pt x="144" y="343"/>
                </a:lnTo>
                <a:lnTo>
                  <a:pt x="145" y="360"/>
                </a:lnTo>
                <a:lnTo>
                  <a:pt x="149" y="380"/>
                </a:lnTo>
                <a:lnTo>
                  <a:pt x="151" y="399"/>
                </a:lnTo>
                <a:lnTo>
                  <a:pt x="157" y="418"/>
                </a:lnTo>
                <a:lnTo>
                  <a:pt x="159" y="436"/>
                </a:lnTo>
                <a:lnTo>
                  <a:pt x="163" y="457"/>
                </a:lnTo>
                <a:lnTo>
                  <a:pt x="169" y="477"/>
                </a:lnTo>
                <a:lnTo>
                  <a:pt x="175" y="498"/>
                </a:lnTo>
                <a:lnTo>
                  <a:pt x="176" y="513"/>
                </a:lnTo>
                <a:lnTo>
                  <a:pt x="180" y="531"/>
                </a:lnTo>
                <a:lnTo>
                  <a:pt x="188" y="542"/>
                </a:lnTo>
                <a:lnTo>
                  <a:pt x="200" y="558"/>
                </a:lnTo>
                <a:lnTo>
                  <a:pt x="208" y="570"/>
                </a:lnTo>
                <a:lnTo>
                  <a:pt x="219" y="585"/>
                </a:lnTo>
                <a:lnTo>
                  <a:pt x="227" y="599"/>
                </a:lnTo>
                <a:lnTo>
                  <a:pt x="239" y="612"/>
                </a:lnTo>
                <a:lnTo>
                  <a:pt x="250" y="624"/>
                </a:lnTo>
                <a:lnTo>
                  <a:pt x="264" y="636"/>
                </a:lnTo>
                <a:lnTo>
                  <a:pt x="256" y="620"/>
                </a:lnTo>
                <a:lnTo>
                  <a:pt x="254" y="605"/>
                </a:lnTo>
                <a:lnTo>
                  <a:pt x="252" y="587"/>
                </a:lnTo>
                <a:lnTo>
                  <a:pt x="250" y="573"/>
                </a:lnTo>
                <a:lnTo>
                  <a:pt x="260" y="581"/>
                </a:lnTo>
                <a:lnTo>
                  <a:pt x="272" y="593"/>
                </a:lnTo>
                <a:lnTo>
                  <a:pt x="281" y="606"/>
                </a:lnTo>
                <a:lnTo>
                  <a:pt x="293" y="620"/>
                </a:lnTo>
                <a:lnTo>
                  <a:pt x="304" y="632"/>
                </a:lnTo>
                <a:lnTo>
                  <a:pt x="318" y="643"/>
                </a:lnTo>
                <a:lnTo>
                  <a:pt x="332" y="653"/>
                </a:lnTo>
                <a:lnTo>
                  <a:pt x="349" y="661"/>
                </a:lnTo>
                <a:lnTo>
                  <a:pt x="343" y="647"/>
                </a:lnTo>
                <a:lnTo>
                  <a:pt x="337" y="636"/>
                </a:lnTo>
                <a:lnTo>
                  <a:pt x="332" y="624"/>
                </a:lnTo>
                <a:lnTo>
                  <a:pt x="326" y="614"/>
                </a:lnTo>
                <a:lnTo>
                  <a:pt x="320" y="603"/>
                </a:lnTo>
                <a:lnTo>
                  <a:pt x="314" y="591"/>
                </a:lnTo>
                <a:lnTo>
                  <a:pt x="308" y="581"/>
                </a:lnTo>
                <a:lnTo>
                  <a:pt x="304" y="572"/>
                </a:lnTo>
                <a:lnTo>
                  <a:pt x="306" y="564"/>
                </a:lnTo>
                <a:lnTo>
                  <a:pt x="310" y="566"/>
                </a:lnTo>
                <a:lnTo>
                  <a:pt x="316" y="568"/>
                </a:lnTo>
                <a:lnTo>
                  <a:pt x="324" y="568"/>
                </a:lnTo>
                <a:lnTo>
                  <a:pt x="339" y="581"/>
                </a:lnTo>
                <a:lnTo>
                  <a:pt x="359" y="595"/>
                </a:lnTo>
                <a:lnTo>
                  <a:pt x="368" y="599"/>
                </a:lnTo>
                <a:lnTo>
                  <a:pt x="378" y="603"/>
                </a:lnTo>
                <a:lnTo>
                  <a:pt x="390" y="606"/>
                </a:lnTo>
                <a:lnTo>
                  <a:pt x="401" y="610"/>
                </a:lnTo>
                <a:lnTo>
                  <a:pt x="411" y="612"/>
                </a:lnTo>
                <a:lnTo>
                  <a:pt x="423" y="614"/>
                </a:lnTo>
                <a:lnTo>
                  <a:pt x="434" y="616"/>
                </a:lnTo>
                <a:lnTo>
                  <a:pt x="446" y="618"/>
                </a:lnTo>
                <a:lnTo>
                  <a:pt x="458" y="618"/>
                </a:lnTo>
                <a:lnTo>
                  <a:pt x="469" y="622"/>
                </a:lnTo>
                <a:lnTo>
                  <a:pt x="481" y="624"/>
                </a:lnTo>
                <a:lnTo>
                  <a:pt x="493" y="628"/>
                </a:lnTo>
                <a:lnTo>
                  <a:pt x="512" y="647"/>
                </a:lnTo>
                <a:lnTo>
                  <a:pt x="529" y="669"/>
                </a:lnTo>
                <a:lnTo>
                  <a:pt x="535" y="678"/>
                </a:lnTo>
                <a:lnTo>
                  <a:pt x="541" y="690"/>
                </a:lnTo>
                <a:lnTo>
                  <a:pt x="545" y="701"/>
                </a:lnTo>
                <a:lnTo>
                  <a:pt x="547" y="715"/>
                </a:lnTo>
                <a:lnTo>
                  <a:pt x="545" y="729"/>
                </a:lnTo>
                <a:lnTo>
                  <a:pt x="543" y="744"/>
                </a:lnTo>
                <a:lnTo>
                  <a:pt x="541" y="760"/>
                </a:lnTo>
                <a:lnTo>
                  <a:pt x="541" y="777"/>
                </a:lnTo>
                <a:lnTo>
                  <a:pt x="539" y="793"/>
                </a:lnTo>
                <a:lnTo>
                  <a:pt x="539" y="808"/>
                </a:lnTo>
                <a:lnTo>
                  <a:pt x="537" y="824"/>
                </a:lnTo>
                <a:lnTo>
                  <a:pt x="537" y="841"/>
                </a:lnTo>
                <a:lnTo>
                  <a:pt x="535" y="855"/>
                </a:lnTo>
                <a:lnTo>
                  <a:pt x="535" y="870"/>
                </a:lnTo>
                <a:lnTo>
                  <a:pt x="533" y="886"/>
                </a:lnTo>
                <a:lnTo>
                  <a:pt x="533" y="901"/>
                </a:lnTo>
                <a:lnTo>
                  <a:pt x="533" y="915"/>
                </a:lnTo>
                <a:lnTo>
                  <a:pt x="533" y="930"/>
                </a:lnTo>
                <a:lnTo>
                  <a:pt x="533" y="946"/>
                </a:lnTo>
                <a:lnTo>
                  <a:pt x="533" y="961"/>
                </a:lnTo>
                <a:lnTo>
                  <a:pt x="543" y="985"/>
                </a:lnTo>
                <a:lnTo>
                  <a:pt x="559" y="971"/>
                </a:lnTo>
                <a:lnTo>
                  <a:pt x="564" y="977"/>
                </a:lnTo>
                <a:lnTo>
                  <a:pt x="576" y="977"/>
                </a:lnTo>
                <a:lnTo>
                  <a:pt x="586" y="965"/>
                </a:lnTo>
                <a:lnTo>
                  <a:pt x="595" y="954"/>
                </a:lnTo>
                <a:lnTo>
                  <a:pt x="601" y="940"/>
                </a:lnTo>
                <a:lnTo>
                  <a:pt x="609" y="926"/>
                </a:lnTo>
                <a:lnTo>
                  <a:pt x="617" y="905"/>
                </a:lnTo>
                <a:lnTo>
                  <a:pt x="626" y="886"/>
                </a:lnTo>
                <a:lnTo>
                  <a:pt x="634" y="866"/>
                </a:lnTo>
                <a:lnTo>
                  <a:pt x="644" y="847"/>
                </a:lnTo>
                <a:lnTo>
                  <a:pt x="646" y="835"/>
                </a:lnTo>
                <a:lnTo>
                  <a:pt x="652" y="826"/>
                </a:lnTo>
                <a:lnTo>
                  <a:pt x="654" y="814"/>
                </a:lnTo>
                <a:lnTo>
                  <a:pt x="659" y="804"/>
                </a:lnTo>
                <a:lnTo>
                  <a:pt x="665" y="783"/>
                </a:lnTo>
                <a:lnTo>
                  <a:pt x="673" y="764"/>
                </a:lnTo>
                <a:lnTo>
                  <a:pt x="677" y="744"/>
                </a:lnTo>
                <a:lnTo>
                  <a:pt x="683" y="729"/>
                </a:lnTo>
                <a:lnTo>
                  <a:pt x="688" y="711"/>
                </a:lnTo>
                <a:lnTo>
                  <a:pt x="694" y="696"/>
                </a:lnTo>
                <a:lnTo>
                  <a:pt x="698" y="701"/>
                </a:lnTo>
                <a:lnTo>
                  <a:pt x="694" y="717"/>
                </a:lnTo>
                <a:lnTo>
                  <a:pt x="692" y="734"/>
                </a:lnTo>
                <a:lnTo>
                  <a:pt x="688" y="752"/>
                </a:lnTo>
                <a:lnTo>
                  <a:pt x="687" y="771"/>
                </a:lnTo>
                <a:lnTo>
                  <a:pt x="683" y="789"/>
                </a:lnTo>
                <a:lnTo>
                  <a:pt x="681" y="808"/>
                </a:lnTo>
                <a:lnTo>
                  <a:pt x="677" y="826"/>
                </a:lnTo>
                <a:lnTo>
                  <a:pt x="677" y="843"/>
                </a:lnTo>
                <a:lnTo>
                  <a:pt x="688" y="824"/>
                </a:lnTo>
                <a:lnTo>
                  <a:pt x="700" y="804"/>
                </a:lnTo>
                <a:lnTo>
                  <a:pt x="712" y="785"/>
                </a:lnTo>
                <a:lnTo>
                  <a:pt x="725" y="765"/>
                </a:lnTo>
                <a:lnTo>
                  <a:pt x="735" y="746"/>
                </a:lnTo>
                <a:lnTo>
                  <a:pt x="747" y="727"/>
                </a:lnTo>
                <a:lnTo>
                  <a:pt x="756" y="707"/>
                </a:lnTo>
                <a:lnTo>
                  <a:pt x="768" y="690"/>
                </a:lnTo>
                <a:lnTo>
                  <a:pt x="772" y="674"/>
                </a:lnTo>
                <a:lnTo>
                  <a:pt x="778" y="661"/>
                </a:lnTo>
                <a:lnTo>
                  <a:pt x="780" y="647"/>
                </a:lnTo>
                <a:lnTo>
                  <a:pt x="784" y="634"/>
                </a:lnTo>
                <a:lnTo>
                  <a:pt x="785" y="618"/>
                </a:lnTo>
                <a:lnTo>
                  <a:pt x="787" y="605"/>
                </a:lnTo>
                <a:lnTo>
                  <a:pt x="787" y="591"/>
                </a:lnTo>
                <a:lnTo>
                  <a:pt x="789" y="577"/>
                </a:lnTo>
                <a:lnTo>
                  <a:pt x="787" y="562"/>
                </a:lnTo>
                <a:lnTo>
                  <a:pt x="787" y="546"/>
                </a:lnTo>
                <a:lnTo>
                  <a:pt x="787" y="531"/>
                </a:lnTo>
                <a:lnTo>
                  <a:pt x="787" y="517"/>
                </a:lnTo>
                <a:lnTo>
                  <a:pt x="785" y="502"/>
                </a:lnTo>
                <a:lnTo>
                  <a:pt x="785" y="488"/>
                </a:lnTo>
                <a:lnTo>
                  <a:pt x="785" y="473"/>
                </a:lnTo>
                <a:lnTo>
                  <a:pt x="787" y="459"/>
                </a:lnTo>
                <a:lnTo>
                  <a:pt x="784" y="446"/>
                </a:lnTo>
                <a:lnTo>
                  <a:pt x="782" y="434"/>
                </a:lnTo>
                <a:lnTo>
                  <a:pt x="778" y="420"/>
                </a:lnTo>
                <a:lnTo>
                  <a:pt x="776" y="409"/>
                </a:lnTo>
                <a:lnTo>
                  <a:pt x="772" y="395"/>
                </a:lnTo>
                <a:lnTo>
                  <a:pt x="770" y="383"/>
                </a:lnTo>
                <a:lnTo>
                  <a:pt x="768" y="372"/>
                </a:lnTo>
                <a:lnTo>
                  <a:pt x="766" y="360"/>
                </a:lnTo>
                <a:lnTo>
                  <a:pt x="762" y="347"/>
                </a:lnTo>
                <a:lnTo>
                  <a:pt x="760" y="335"/>
                </a:lnTo>
                <a:lnTo>
                  <a:pt x="756" y="321"/>
                </a:lnTo>
                <a:lnTo>
                  <a:pt x="754" y="310"/>
                </a:lnTo>
                <a:lnTo>
                  <a:pt x="751" y="296"/>
                </a:lnTo>
                <a:lnTo>
                  <a:pt x="749" y="285"/>
                </a:lnTo>
                <a:lnTo>
                  <a:pt x="747" y="273"/>
                </a:lnTo>
                <a:lnTo>
                  <a:pt x="745" y="261"/>
                </a:lnTo>
                <a:lnTo>
                  <a:pt x="739" y="248"/>
                </a:lnTo>
                <a:lnTo>
                  <a:pt x="737" y="236"/>
                </a:lnTo>
                <a:lnTo>
                  <a:pt x="731" y="223"/>
                </a:lnTo>
                <a:lnTo>
                  <a:pt x="729" y="211"/>
                </a:lnTo>
                <a:lnTo>
                  <a:pt x="723" y="199"/>
                </a:lnTo>
                <a:lnTo>
                  <a:pt x="720" y="188"/>
                </a:lnTo>
                <a:lnTo>
                  <a:pt x="716" y="176"/>
                </a:lnTo>
                <a:lnTo>
                  <a:pt x="712" y="164"/>
                </a:lnTo>
                <a:lnTo>
                  <a:pt x="706" y="153"/>
                </a:lnTo>
                <a:lnTo>
                  <a:pt x="700" y="141"/>
                </a:lnTo>
                <a:lnTo>
                  <a:pt x="694" y="129"/>
                </a:lnTo>
                <a:lnTo>
                  <a:pt x="688" y="118"/>
                </a:lnTo>
                <a:lnTo>
                  <a:pt x="677" y="97"/>
                </a:lnTo>
                <a:lnTo>
                  <a:pt x="665" y="77"/>
                </a:lnTo>
                <a:lnTo>
                  <a:pt x="657" y="65"/>
                </a:lnTo>
                <a:lnTo>
                  <a:pt x="650" y="54"/>
                </a:lnTo>
                <a:lnTo>
                  <a:pt x="642" y="44"/>
                </a:lnTo>
                <a:lnTo>
                  <a:pt x="634" y="34"/>
                </a:lnTo>
                <a:lnTo>
                  <a:pt x="617" y="15"/>
                </a:lnTo>
                <a:lnTo>
                  <a:pt x="599" y="0"/>
                </a:lnTo>
                <a:close/>
              </a:path>
            </a:pathLst>
          </a:custGeom>
          <a:solidFill>
            <a:srgbClr val="b83b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21" name=""/>
          <p:cNvSpPr/>
          <p:nvPr/>
        </p:nvSpPr>
        <p:spPr>
          <a:xfrm>
            <a:off x="2906640" y="2847960"/>
            <a:ext cx="865440" cy="1139760"/>
          </a:xfrm>
          <a:custGeom>
            <a:avLst/>
            <a:gdLst/>
            <a:ahLst/>
            <a:rect l="l" t="t" r="r" b="b"/>
            <a:pathLst>
              <a:path w="1089" h="1435">
                <a:moveTo>
                  <a:pt x="721" y="6"/>
                </a:moveTo>
                <a:lnTo>
                  <a:pt x="731" y="9"/>
                </a:lnTo>
                <a:lnTo>
                  <a:pt x="742" y="8"/>
                </a:lnTo>
                <a:lnTo>
                  <a:pt x="754" y="6"/>
                </a:lnTo>
                <a:lnTo>
                  <a:pt x="766" y="9"/>
                </a:lnTo>
                <a:lnTo>
                  <a:pt x="781" y="21"/>
                </a:lnTo>
                <a:lnTo>
                  <a:pt x="799" y="33"/>
                </a:lnTo>
                <a:lnTo>
                  <a:pt x="814" y="42"/>
                </a:lnTo>
                <a:lnTo>
                  <a:pt x="832" y="54"/>
                </a:lnTo>
                <a:lnTo>
                  <a:pt x="837" y="39"/>
                </a:lnTo>
                <a:lnTo>
                  <a:pt x="837" y="21"/>
                </a:lnTo>
                <a:lnTo>
                  <a:pt x="851" y="21"/>
                </a:lnTo>
                <a:lnTo>
                  <a:pt x="865" y="27"/>
                </a:lnTo>
                <a:lnTo>
                  <a:pt x="876" y="35"/>
                </a:lnTo>
                <a:lnTo>
                  <a:pt x="890" y="46"/>
                </a:lnTo>
                <a:lnTo>
                  <a:pt x="901" y="58"/>
                </a:lnTo>
                <a:lnTo>
                  <a:pt x="913" y="72"/>
                </a:lnTo>
                <a:lnTo>
                  <a:pt x="925" y="83"/>
                </a:lnTo>
                <a:lnTo>
                  <a:pt x="938" y="97"/>
                </a:lnTo>
                <a:lnTo>
                  <a:pt x="948" y="85"/>
                </a:lnTo>
                <a:lnTo>
                  <a:pt x="954" y="73"/>
                </a:lnTo>
                <a:lnTo>
                  <a:pt x="956" y="85"/>
                </a:lnTo>
                <a:lnTo>
                  <a:pt x="960" y="101"/>
                </a:lnTo>
                <a:lnTo>
                  <a:pt x="963" y="114"/>
                </a:lnTo>
                <a:lnTo>
                  <a:pt x="967" y="132"/>
                </a:lnTo>
                <a:lnTo>
                  <a:pt x="969" y="147"/>
                </a:lnTo>
                <a:lnTo>
                  <a:pt x="971" y="163"/>
                </a:lnTo>
                <a:lnTo>
                  <a:pt x="973" y="178"/>
                </a:lnTo>
                <a:lnTo>
                  <a:pt x="977" y="196"/>
                </a:lnTo>
                <a:lnTo>
                  <a:pt x="979" y="211"/>
                </a:lnTo>
                <a:lnTo>
                  <a:pt x="983" y="227"/>
                </a:lnTo>
                <a:lnTo>
                  <a:pt x="985" y="242"/>
                </a:lnTo>
                <a:lnTo>
                  <a:pt x="989" y="258"/>
                </a:lnTo>
                <a:lnTo>
                  <a:pt x="993" y="273"/>
                </a:lnTo>
                <a:lnTo>
                  <a:pt x="996" y="289"/>
                </a:lnTo>
                <a:lnTo>
                  <a:pt x="1002" y="304"/>
                </a:lnTo>
                <a:lnTo>
                  <a:pt x="1008" y="322"/>
                </a:lnTo>
                <a:lnTo>
                  <a:pt x="1010" y="341"/>
                </a:lnTo>
                <a:lnTo>
                  <a:pt x="1008" y="360"/>
                </a:lnTo>
                <a:lnTo>
                  <a:pt x="1000" y="378"/>
                </a:lnTo>
                <a:lnTo>
                  <a:pt x="994" y="397"/>
                </a:lnTo>
                <a:lnTo>
                  <a:pt x="989" y="417"/>
                </a:lnTo>
                <a:lnTo>
                  <a:pt x="989" y="438"/>
                </a:lnTo>
                <a:lnTo>
                  <a:pt x="989" y="448"/>
                </a:lnTo>
                <a:lnTo>
                  <a:pt x="989" y="459"/>
                </a:lnTo>
                <a:lnTo>
                  <a:pt x="991" y="469"/>
                </a:lnTo>
                <a:lnTo>
                  <a:pt x="994" y="481"/>
                </a:lnTo>
                <a:lnTo>
                  <a:pt x="998" y="498"/>
                </a:lnTo>
                <a:lnTo>
                  <a:pt x="1006" y="517"/>
                </a:lnTo>
                <a:lnTo>
                  <a:pt x="1014" y="537"/>
                </a:lnTo>
                <a:lnTo>
                  <a:pt x="1024" y="556"/>
                </a:lnTo>
                <a:lnTo>
                  <a:pt x="1031" y="574"/>
                </a:lnTo>
                <a:lnTo>
                  <a:pt x="1041" y="591"/>
                </a:lnTo>
                <a:lnTo>
                  <a:pt x="1051" y="609"/>
                </a:lnTo>
                <a:lnTo>
                  <a:pt x="1060" y="628"/>
                </a:lnTo>
                <a:lnTo>
                  <a:pt x="1068" y="645"/>
                </a:lnTo>
                <a:lnTo>
                  <a:pt x="1076" y="663"/>
                </a:lnTo>
                <a:lnTo>
                  <a:pt x="1082" y="682"/>
                </a:lnTo>
                <a:lnTo>
                  <a:pt x="1089" y="704"/>
                </a:lnTo>
                <a:lnTo>
                  <a:pt x="1088" y="717"/>
                </a:lnTo>
                <a:lnTo>
                  <a:pt x="1080" y="729"/>
                </a:lnTo>
                <a:lnTo>
                  <a:pt x="1066" y="735"/>
                </a:lnTo>
                <a:lnTo>
                  <a:pt x="1053" y="740"/>
                </a:lnTo>
                <a:lnTo>
                  <a:pt x="1043" y="740"/>
                </a:lnTo>
                <a:lnTo>
                  <a:pt x="1043" y="735"/>
                </a:lnTo>
                <a:lnTo>
                  <a:pt x="1031" y="733"/>
                </a:lnTo>
                <a:lnTo>
                  <a:pt x="1022" y="735"/>
                </a:lnTo>
                <a:lnTo>
                  <a:pt x="1012" y="739"/>
                </a:lnTo>
                <a:lnTo>
                  <a:pt x="1006" y="746"/>
                </a:lnTo>
                <a:lnTo>
                  <a:pt x="987" y="758"/>
                </a:lnTo>
                <a:lnTo>
                  <a:pt x="969" y="766"/>
                </a:lnTo>
                <a:lnTo>
                  <a:pt x="948" y="752"/>
                </a:lnTo>
                <a:lnTo>
                  <a:pt x="952" y="731"/>
                </a:lnTo>
                <a:lnTo>
                  <a:pt x="948" y="713"/>
                </a:lnTo>
                <a:lnTo>
                  <a:pt x="942" y="713"/>
                </a:lnTo>
                <a:lnTo>
                  <a:pt x="934" y="725"/>
                </a:lnTo>
                <a:lnTo>
                  <a:pt x="927" y="739"/>
                </a:lnTo>
                <a:lnTo>
                  <a:pt x="919" y="752"/>
                </a:lnTo>
                <a:lnTo>
                  <a:pt x="911" y="768"/>
                </a:lnTo>
                <a:lnTo>
                  <a:pt x="901" y="779"/>
                </a:lnTo>
                <a:lnTo>
                  <a:pt x="894" y="795"/>
                </a:lnTo>
                <a:lnTo>
                  <a:pt x="886" y="806"/>
                </a:lnTo>
                <a:lnTo>
                  <a:pt x="878" y="822"/>
                </a:lnTo>
                <a:lnTo>
                  <a:pt x="894" y="826"/>
                </a:lnTo>
                <a:lnTo>
                  <a:pt x="911" y="822"/>
                </a:lnTo>
                <a:lnTo>
                  <a:pt x="923" y="810"/>
                </a:lnTo>
                <a:lnTo>
                  <a:pt x="938" y="806"/>
                </a:lnTo>
                <a:lnTo>
                  <a:pt x="954" y="801"/>
                </a:lnTo>
                <a:lnTo>
                  <a:pt x="967" y="791"/>
                </a:lnTo>
                <a:lnTo>
                  <a:pt x="989" y="791"/>
                </a:lnTo>
                <a:lnTo>
                  <a:pt x="987" y="801"/>
                </a:lnTo>
                <a:lnTo>
                  <a:pt x="987" y="812"/>
                </a:lnTo>
                <a:lnTo>
                  <a:pt x="985" y="824"/>
                </a:lnTo>
                <a:lnTo>
                  <a:pt x="985" y="835"/>
                </a:lnTo>
                <a:lnTo>
                  <a:pt x="983" y="847"/>
                </a:lnTo>
                <a:lnTo>
                  <a:pt x="983" y="859"/>
                </a:lnTo>
                <a:lnTo>
                  <a:pt x="983" y="872"/>
                </a:lnTo>
                <a:lnTo>
                  <a:pt x="987" y="886"/>
                </a:lnTo>
                <a:lnTo>
                  <a:pt x="969" y="896"/>
                </a:lnTo>
                <a:lnTo>
                  <a:pt x="950" y="903"/>
                </a:lnTo>
                <a:lnTo>
                  <a:pt x="930" y="911"/>
                </a:lnTo>
                <a:lnTo>
                  <a:pt x="913" y="921"/>
                </a:lnTo>
                <a:lnTo>
                  <a:pt x="894" y="930"/>
                </a:lnTo>
                <a:lnTo>
                  <a:pt x="880" y="944"/>
                </a:lnTo>
                <a:lnTo>
                  <a:pt x="874" y="950"/>
                </a:lnTo>
                <a:lnTo>
                  <a:pt x="870" y="960"/>
                </a:lnTo>
                <a:lnTo>
                  <a:pt x="868" y="969"/>
                </a:lnTo>
                <a:lnTo>
                  <a:pt x="870" y="983"/>
                </a:lnTo>
                <a:lnTo>
                  <a:pt x="884" y="996"/>
                </a:lnTo>
                <a:lnTo>
                  <a:pt x="901" y="1008"/>
                </a:lnTo>
                <a:lnTo>
                  <a:pt x="917" y="1018"/>
                </a:lnTo>
                <a:lnTo>
                  <a:pt x="938" y="1027"/>
                </a:lnTo>
                <a:lnTo>
                  <a:pt x="946" y="1035"/>
                </a:lnTo>
                <a:lnTo>
                  <a:pt x="942" y="1049"/>
                </a:lnTo>
                <a:lnTo>
                  <a:pt x="925" y="1055"/>
                </a:lnTo>
                <a:lnTo>
                  <a:pt x="905" y="1058"/>
                </a:lnTo>
                <a:lnTo>
                  <a:pt x="896" y="1058"/>
                </a:lnTo>
                <a:lnTo>
                  <a:pt x="888" y="1062"/>
                </a:lnTo>
                <a:lnTo>
                  <a:pt x="882" y="1068"/>
                </a:lnTo>
                <a:lnTo>
                  <a:pt x="878" y="1080"/>
                </a:lnTo>
                <a:lnTo>
                  <a:pt x="872" y="1097"/>
                </a:lnTo>
                <a:lnTo>
                  <a:pt x="874" y="1115"/>
                </a:lnTo>
                <a:lnTo>
                  <a:pt x="874" y="1134"/>
                </a:lnTo>
                <a:lnTo>
                  <a:pt x="878" y="1153"/>
                </a:lnTo>
                <a:lnTo>
                  <a:pt x="876" y="1169"/>
                </a:lnTo>
                <a:lnTo>
                  <a:pt x="874" y="1186"/>
                </a:lnTo>
                <a:lnTo>
                  <a:pt x="865" y="1200"/>
                </a:lnTo>
                <a:lnTo>
                  <a:pt x="851" y="1216"/>
                </a:lnTo>
                <a:lnTo>
                  <a:pt x="837" y="1229"/>
                </a:lnTo>
                <a:lnTo>
                  <a:pt x="709" y="1227"/>
                </a:lnTo>
                <a:lnTo>
                  <a:pt x="692" y="1217"/>
                </a:lnTo>
                <a:lnTo>
                  <a:pt x="676" y="1210"/>
                </a:lnTo>
                <a:lnTo>
                  <a:pt x="661" y="1202"/>
                </a:lnTo>
                <a:lnTo>
                  <a:pt x="645" y="1196"/>
                </a:lnTo>
                <a:lnTo>
                  <a:pt x="628" y="1188"/>
                </a:lnTo>
                <a:lnTo>
                  <a:pt x="612" y="1183"/>
                </a:lnTo>
                <a:lnTo>
                  <a:pt x="595" y="1179"/>
                </a:lnTo>
                <a:lnTo>
                  <a:pt x="579" y="1175"/>
                </a:lnTo>
                <a:lnTo>
                  <a:pt x="576" y="1181"/>
                </a:lnTo>
                <a:lnTo>
                  <a:pt x="576" y="1190"/>
                </a:lnTo>
                <a:lnTo>
                  <a:pt x="581" y="1202"/>
                </a:lnTo>
                <a:lnTo>
                  <a:pt x="585" y="1214"/>
                </a:lnTo>
                <a:lnTo>
                  <a:pt x="591" y="1225"/>
                </a:lnTo>
                <a:lnTo>
                  <a:pt x="591" y="1237"/>
                </a:lnTo>
                <a:lnTo>
                  <a:pt x="593" y="1248"/>
                </a:lnTo>
                <a:lnTo>
                  <a:pt x="591" y="1260"/>
                </a:lnTo>
                <a:lnTo>
                  <a:pt x="585" y="1272"/>
                </a:lnTo>
                <a:lnTo>
                  <a:pt x="568" y="1289"/>
                </a:lnTo>
                <a:lnTo>
                  <a:pt x="556" y="1307"/>
                </a:lnTo>
                <a:lnTo>
                  <a:pt x="543" y="1326"/>
                </a:lnTo>
                <a:lnTo>
                  <a:pt x="535" y="1347"/>
                </a:lnTo>
                <a:lnTo>
                  <a:pt x="525" y="1367"/>
                </a:lnTo>
                <a:lnTo>
                  <a:pt x="521" y="1388"/>
                </a:lnTo>
                <a:lnTo>
                  <a:pt x="517" y="1400"/>
                </a:lnTo>
                <a:lnTo>
                  <a:pt x="515" y="1411"/>
                </a:lnTo>
                <a:lnTo>
                  <a:pt x="514" y="1423"/>
                </a:lnTo>
                <a:lnTo>
                  <a:pt x="514" y="1435"/>
                </a:lnTo>
                <a:lnTo>
                  <a:pt x="498" y="1433"/>
                </a:lnTo>
                <a:lnTo>
                  <a:pt x="482" y="1431"/>
                </a:lnTo>
                <a:lnTo>
                  <a:pt x="467" y="1427"/>
                </a:lnTo>
                <a:lnTo>
                  <a:pt x="451" y="1425"/>
                </a:lnTo>
                <a:lnTo>
                  <a:pt x="436" y="1421"/>
                </a:lnTo>
                <a:lnTo>
                  <a:pt x="422" y="1417"/>
                </a:lnTo>
                <a:lnTo>
                  <a:pt x="407" y="1413"/>
                </a:lnTo>
                <a:lnTo>
                  <a:pt x="395" y="1409"/>
                </a:lnTo>
                <a:lnTo>
                  <a:pt x="384" y="1404"/>
                </a:lnTo>
                <a:lnTo>
                  <a:pt x="372" y="1400"/>
                </a:lnTo>
                <a:lnTo>
                  <a:pt x="360" y="1396"/>
                </a:lnTo>
                <a:lnTo>
                  <a:pt x="351" y="1392"/>
                </a:lnTo>
                <a:lnTo>
                  <a:pt x="339" y="1386"/>
                </a:lnTo>
                <a:lnTo>
                  <a:pt x="329" y="1382"/>
                </a:lnTo>
                <a:lnTo>
                  <a:pt x="318" y="1380"/>
                </a:lnTo>
                <a:lnTo>
                  <a:pt x="308" y="1380"/>
                </a:lnTo>
                <a:lnTo>
                  <a:pt x="289" y="1373"/>
                </a:lnTo>
                <a:lnTo>
                  <a:pt x="271" y="1369"/>
                </a:lnTo>
                <a:lnTo>
                  <a:pt x="254" y="1365"/>
                </a:lnTo>
                <a:lnTo>
                  <a:pt x="236" y="1363"/>
                </a:lnTo>
                <a:lnTo>
                  <a:pt x="219" y="1359"/>
                </a:lnTo>
                <a:lnTo>
                  <a:pt x="205" y="1355"/>
                </a:lnTo>
                <a:lnTo>
                  <a:pt x="190" y="1349"/>
                </a:lnTo>
                <a:lnTo>
                  <a:pt x="176" y="1345"/>
                </a:lnTo>
                <a:lnTo>
                  <a:pt x="161" y="1340"/>
                </a:lnTo>
                <a:lnTo>
                  <a:pt x="149" y="1336"/>
                </a:lnTo>
                <a:lnTo>
                  <a:pt x="133" y="1330"/>
                </a:lnTo>
                <a:lnTo>
                  <a:pt x="122" y="1326"/>
                </a:lnTo>
                <a:lnTo>
                  <a:pt x="106" y="1320"/>
                </a:lnTo>
                <a:lnTo>
                  <a:pt x="93" y="1314"/>
                </a:lnTo>
                <a:lnTo>
                  <a:pt x="79" y="1309"/>
                </a:lnTo>
                <a:lnTo>
                  <a:pt x="66" y="1305"/>
                </a:lnTo>
                <a:lnTo>
                  <a:pt x="52" y="1299"/>
                </a:lnTo>
                <a:lnTo>
                  <a:pt x="38" y="1295"/>
                </a:lnTo>
                <a:lnTo>
                  <a:pt x="25" y="1291"/>
                </a:lnTo>
                <a:lnTo>
                  <a:pt x="11" y="1289"/>
                </a:lnTo>
                <a:lnTo>
                  <a:pt x="0" y="1281"/>
                </a:lnTo>
                <a:lnTo>
                  <a:pt x="0" y="1272"/>
                </a:lnTo>
                <a:lnTo>
                  <a:pt x="2" y="1262"/>
                </a:lnTo>
                <a:lnTo>
                  <a:pt x="3" y="1252"/>
                </a:lnTo>
                <a:lnTo>
                  <a:pt x="7" y="1237"/>
                </a:lnTo>
                <a:lnTo>
                  <a:pt x="11" y="1223"/>
                </a:lnTo>
                <a:lnTo>
                  <a:pt x="13" y="1210"/>
                </a:lnTo>
                <a:lnTo>
                  <a:pt x="15" y="1196"/>
                </a:lnTo>
                <a:lnTo>
                  <a:pt x="15" y="1181"/>
                </a:lnTo>
                <a:lnTo>
                  <a:pt x="15" y="1165"/>
                </a:lnTo>
                <a:lnTo>
                  <a:pt x="15" y="1150"/>
                </a:lnTo>
                <a:lnTo>
                  <a:pt x="17" y="1136"/>
                </a:lnTo>
                <a:lnTo>
                  <a:pt x="17" y="1119"/>
                </a:lnTo>
                <a:lnTo>
                  <a:pt x="17" y="1105"/>
                </a:lnTo>
                <a:lnTo>
                  <a:pt x="19" y="1089"/>
                </a:lnTo>
                <a:lnTo>
                  <a:pt x="25" y="1078"/>
                </a:lnTo>
                <a:lnTo>
                  <a:pt x="29" y="1066"/>
                </a:lnTo>
                <a:lnTo>
                  <a:pt x="38" y="1055"/>
                </a:lnTo>
                <a:lnTo>
                  <a:pt x="48" y="1045"/>
                </a:lnTo>
                <a:lnTo>
                  <a:pt x="64" y="1039"/>
                </a:lnTo>
                <a:lnTo>
                  <a:pt x="75" y="1022"/>
                </a:lnTo>
                <a:lnTo>
                  <a:pt x="89" y="1006"/>
                </a:lnTo>
                <a:lnTo>
                  <a:pt x="97" y="987"/>
                </a:lnTo>
                <a:lnTo>
                  <a:pt x="104" y="969"/>
                </a:lnTo>
                <a:lnTo>
                  <a:pt x="108" y="948"/>
                </a:lnTo>
                <a:lnTo>
                  <a:pt x="112" y="929"/>
                </a:lnTo>
                <a:lnTo>
                  <a:pt x="116" y="907"/>
                </a:lnTo>
                <a:lnTo>
                  <a:pt x="122" y="888"/>
                </a:lnTo>
                <a:lnTo>
                  <a:pt x="126" y="866"/>
                </a:lnTo>
                <a:lnTo>
                  <a:pt x="131" y="847"/>
                </a:lnTo>
                <a:lnTo>
                  <a:pt x="137" y="830"/>
                </a:lnTo>
                <a:lnTo>
                  <a:pt x="147" y="814"/>
                </a:lnTo>
                <a:lnTo>
                  <a:pt x="159" y="797"/>
                </a:lnTo>
                <a:lnTo>
                  <a:pt x="174" y="785"/>
                </a:lnTo>
                <a:lnTo>
                  <a:pt x="180" y="779"/>
                </a:lnTo>
                <a:lnTo>
                  <a:pt x="192" y="775"/>
                </a:lnTo>
                <a:lnTo>
                  <a:pt x="201" y="771"/>
                </a:lnTo>
                <a:lnTo>
                  <a:pt x="215" y="770"/>
                </a:lnTo>
                <a:lnTo>
                  <a:pt x="225" y="773"/>
                </a:lnTo>
                <a:lnTo>
                  <a:pt x="236" y="777"/>
                </a:lnTo>
                <a:lnTo>
                  <a:pt x="248" y="781"/>
                </a:lnTo>
                <a:lnTo>
                  <a:pt x="259" y="785"/>
                </a:lnTo>
                <a:lnTo>
                  <a:pt x="271" y="783"/>
                </a:lnTo>
                <a:lnTo>
                  <a:pt x="283" y="783"/>
                </a:lnTo>
                <a:lnTo>
                  <a:pt x="294" y="779"/>
                </a:lnTo>
                <a:lnTo>
                  <a:pt x="306" y="775"/>
                </a:lnTo>
                <a:lnTo>
                  <a:pt x="308" y="791"/>
                </a:lnTo>
                <a:lnTo>
                  <a:pt x="310" y="806"/>
                </a:lnTo>
                <a:lnTo>
                  <a:pt x="312" y="822"/>
                </a:lnTo>
                <a:lnTo>
                  <a:pt x="316" y="839"/>
                </a:lnTo>
                <a:lnTo>
                  <a:pt x="316" y="855"/>
                </a:lnTo>
                <a:lnTo>
                  <a:pt x="320" y="870"/>
                </a:lnTo>
                <a:lnTo>
                  <a:pt x="320" y="888"/>
                </a:lnTo>
                <a:lnTo>
                  <a:pt x="323" y="905"/>
                </a:lnTo>
                <a:lnTo>
                  <a:pt x="323" y="921"/>
                </a:lnTo>
                <a:lnTo>
                  <a:pt x="327" y="936"/>
                </a:lnTo>
                <a:lnTo>
                  <a:pt x="327" y="952"/>
                </a:lnTo>
                <a:lnTo>
                  <a:pt x="331" y="969"/>
                </a:lnTo>
                <a:lnTo>
                  <a:pt x="333" y="985"/>
                </a:lnTo>
                <a:lnTo>
                  <a:pt x="337" y="1000"/>
                </a:lnTo>
                <a:lnTo>
                  <a:pt x="341" y="1018"/>
                </a:lnTo>
                <a:lnTo>
                  <a:pt x="347" y="1035"/>
                </a:lnTo>
                <a:lnTo>
                  <a:pt x="360" y="1045"/>
                </a:lnTo>
                <a:lnTo>
                  <a:pt x="378" y="1057"/>
                </a:lnTo>
                <a:lnTo>
                  <a:pt x="395" y="1066"/>
                </a:lnTo>
                <a:lnTo>
                  <a:pt x="413" y="1076"/>
                </a:lnTo>
                <a:lnTo>
                  <a:pt x="430" y="1084"/>
                </a:lnTo>
                <a:lnTo>
                  <a:pt x="448" y="1093"/>
                </a:lnTo>
                <a:lnTo>
                  <a:pt x="465" y="1101"/>
                </a:lnTo>
                <a:lnTo>
                  <a:pt x="484" y="1113"/>
                </a:lnTo>
                <a:lnTo>
                  <a:pt x="492" y="1111"/>
                </a:lnTo>
                <a:lnTo>
                  <a:pt x="500" y="1105"/>
                </a:lnTo>
                <a:lnTo>
                  <a:pt x="494" y="1091"/>
                </a:lnTo>
                <a:lnTo>
                  <a:pt x="484" y="1086"/>
                </a:lnTo>
                <a:lnTo>
                  <a:pt x="473" y="1080"/>
                </a:lnTo>
                <a:lnTo>
                  <a:pt x="463" y="1074"/>
                </a:lnTo>
                <a:lnTo>
                  <a:pt x="448" y="1055"/>
                </a:lnTo>
                <a:lnTo>
                  <a:pt x="432" y="1039"/>
                </a:lnTo>
                <a:lnTo>
                  <a:pt x="418" y="1020"/>
                </a:lnTo>
                <a:lnTo>
                  <a:pt x="409" y="1002"/>
                </a:lnTo>
                <a:lnTo>
                  <a:pt x="399" y="983"/>
                </a:lnTo>
                <a:lnTo>
                  <a:pt x="389" y="963"/>
                </a:lnTo>
                <a:lnTo>
                  <a:pt x="380" y="944"/>
                </a:lnTo>
                <a:lnTo>
                  <a:pt x="372" y="927"/>
                </a:lnTo>
                <a:lnTo>
                  <a:pt x="362" y="907"/>
                </a:lnTo>
                <a:lnTo>
                  <a:pt x="356" y="888"/>
                </a:lnTo>
                <a:lnTo>
                  <a:pt x="351" y="866"/>
                </a:lnTo>
                <a:lnTo>
                  <a:pt x="351" y="847"/>
                </a:lnTo>
                <a:lnTo>
                  <a:pt x="347" y="828"/>
                </a:lnTo>
                <a:lnTo>
                  <a:pt x="345" y="810"/>
                </a:lnTo>
                <a:lnTo>
                  <a:pt x="339" y="791"/>
                </a:lnTo>
                <a:lnTo>
                  <a:pt x="333" y="775"/>
                </a:lnTo>
                <a:lnTo>
                  <a:pt x="333" y="764"/>
                </a:lnTo>
                <a:lnTo>
                  <a:pt x="329" y="756"/>
                </a:lnTo>
                <a:lnTo>
                  <a:pt x="320" y="750"/>
                </a:lnTo>
                <a:lnTo>
                  <a:pt x="314" y="750"/>
                </a:lnTo>
                <a:lnTo>
                  <a:pt x="302" y="748"/>
                </a:lnTo>
                <a:lnTo>
                  <a:pt x="292" y="754"/>
                </a:lnTo>
                <a:lnTo>
                  <a:pt x="283" y="762"/>
                </a:lnTo>
                <a:lnTo>
                  <a:pt x="275" y="770"/>
                </a:lnTo>
                <a:lnTo>
                  <a:pt x="263" y="764"/>
                </a:lnTo>
                <a:lnTo>
                  <a:pt x="252" y="760"/>
                </a:lnTo>
                <a:lnTo>
                  <a:pt x="240" y="752"/>
                </a:lnTo>
                <a:lnTo>
                  <a:pt x="228" y="746"/>
                </a:lnTo>
                <a:lnTo>
                  <a:pt x="219" y="729"/>
                </a:lnTo>
                <a:lnTo>
                  <a:pt x="213" y="713"/>
                </a:lnTo>
                <a:lnTo>
                  <a:pt x="207" y="696"/>
                </a:lnTo>
                <a:lnTo>
                  <a:pt x="203" y="678"/>
                </a:lnTo>
                <a:lnTo>
                  <a:pt x="197" y="659"/>
                </a:lnTo>
                <a:lnTo>
                  <a:pt x="192" y="640"/>
                </a:lnTo>
                <a:lnTo>
                  <a:pt x="184" y="622"/>
                </a:lnTo>
                <a:lnTo>
                  <a:pt x="178" y="607"/>
                </a:lnTo>
                <a:lnTo>
                  <a:pt x="170" y="591"/>
                </a:lnTo>
                <a:lnTo>
                  <a:pt x="162" y="578"/>
                </a:lnTo>
                <a:lnTo>
                  <a:pt x="157" y="564"/>
                </a:lnTo>
                <a:lnTo>
                  <a:pt x="155" y="550"/>
                </a:lnTo>
                <a:lnTo>
                  <a:pt x="151" y="535"/>
                </a:lnTo>
                <a:lnTo>
                  <a:pt x="151" y="523"/>
                </a:lnTo>
                <a:lnTo>
                  <a:pt x="151" y="508"/>
                </a:lnTo>
                <a:lnTo>
                  <a:pt x="157" y="496"/>
                </a:lnTo>
                <a:lnTo>
                  <a:pt x="159" y="483"/>
                </a:lnTo>
                <a:lnTo>
                  <a:pt x="162" y="471"/>
                </a:lnTo>
                <a:lnTo>
                  <a:pt x="168" y="457"/>
                </a:lnTo>
                <a:lnTo>
                  <a:pt x="176" y="448"/>
                </a:lnTo>
                <a:lnTo>
                  <a:pt x="182" y="436"/>
                </a:lnTo>
                <a:lnTo>
                  <a:pt x="194" y="430"/>
                </a:lnTo>
                <a:lnTo>
                  <a:pt x="205" y="424"/>
                </a:lnTo>
                <a:lnTo>
                  <a:pt x="221" y="426"/>
                </a:lnTo>
                <a:lnTo>
                  <a:pt x="236" y="424"/>
                </a:lnTo>
                <a:lnTo>
                  <a:pt x="254" y="424"/>
                </a:lnTo>
                <a:lnTo>
                  <a:pt x="269" y="430"/>
                </a:lnTo>
                <a:lnTo>
                  <a:pt x="281" y="446"/>
                </a:lnTo>
                <a:lnTo>
                  <a:pt x="289" y="448"/>
                </a:lnTo>
                <a:lnTo>
                  <a:pt x="296" y="457"/>
                </a:lnTo>
                <a:lnTo>
                  <a:pt x="300" y="465"/>
                </a:lnTo>
                <a:lnTo>
                  <a:pt x="308" y="475"/>
                </a:lnTo>
                <a:lnTo>
                  <a:pt x="318" y="471"/>
                </a:lnTo>
                <a:lnTo>
                  <a:pt x="327" y="471"/>
                </a:lnTo>
                <a:lnTo>
                  <a:pt x="337" y="473"/>
                </a:lnTo>
                <a:lnTo>
                  <a:pt x="349" y="479"/>
                </a:lnTo>
                <a:lnTo>
                  <a:pt x="366" y="486"/>
                </a:lnTo>
                <a:lnTo>
                  <a:pt x="387" y="496"/>
                </a:lnTo>
                <a:lnTo>
                  <a:pt x="393" y="485"/>
                </a:lnTo>
                <a:lnTo>
                  <a:pt x="395" y="475"/>
                </a:lnTo>
                <a:lnTo>
                  <a:pt x="393" y="459"/>
                </a:lnTo>
                <a:lnTo>
                  <a:pt x="395" y="446"/>
                </a:lnTo>
                <a:lnTo>
                  <a:pt x="397" y="432"/>
                </a:lnTo>
                <a:lnTo>
                  <a:pt x="401" y="419"/>
                </a:lnTo>
                <a:lnTo>
                  <a:pt x="405" y="403"/>
                </a:lnTo>
                <a:lnTo>
                  <a:pt x="409" y="390"/>
                </a:lnTo>
                <a:lnTo>
                  <a:pt x="411" y="374"/>
                </a:lnTo>
                <a:lnTo>
                  <a:pt x="413" y="362"/>
                </a:lnTo>
                <a:lnTo>
                  <a:pt x="417" y="341"/>
                </a:lnTo>
                <a:lnTo>
                  <a:pt x="422" y="322"/>
                </a:lnTo>
                <a:lnTo>
                  <a:pt x="428" y="302"/>
                </a:lnTo>
                <a:lnTo>
                  <a:pt x="436" y="285"/>
                </a:lnTo>
                <a:lnTo>
                  <a:pt x="442" y="267"/>
                </a:lnTo>
                <a:lnTo>
                  <a:pt x="451" y="250"/>
                </a:lnTo>
                <a:lnTo>
                  <a:pt x="459" y="232"/>
                </a:lnTo>
                <a:lnTo>
                  <a:pt x="469" y="215"/>
                </a:lnTo>
                <a:lnTo>
                  <a:pt x="477" y="198"/>
                </a:lnTo>
                <a:lnTo>
                  <a:pt x="486" y="180"/>
                </a:lnTo>
                <a:lnTo>
                  <a:pt x="496" y="163"/>
                </a:lnTo>
                <a:lnTo>
                  <a:pt x="506" y="145"/>
                </a:lnTo>
                <a:lnTo>
                  <a:pt x="515" y="128"/>
                </a:lnTo>
                <a:lnTo>
                  <a:pt x="525" y="110"/>
                </a:lnTo>
                <a:lnTo>
                  <a:pt x="535" y="93"/>
                </a:lnTo>
                <a:lnTo>
                  <a:pt x="545" y="75"/>
                </a:lnTo>
                <a:lnTo>
                  <a:pt x="552" y="79"/>
                </a:lnTo>
                <a:lnTo>
                  <a:pt x="562" y="83"/>
                </a:lnTo>
                <a:lnTo>
                  <a:pt x="572" y="81"/>
                </a:lnTo>
                <a:lnTo>
                  <a:pt x="576" y="75"/>
                </a:lnTo>
                <a:lnTo>
                  <a:pt x="574" y="62"/>
                </a:lnTo>
                <a:lnTo>
                  <a:pt x="570" y="52"/>
                </a:lnTo>
                <a:lnTo>
                  <a:pt x="562" y="42"/>
                </a:lnTo>
                <a:lnTo>
                  <a:pt x="558" y="33"/>
                </a:lnTo>
                <a:lnTo>
                  <a:pt x="535" y="9"/>
                </a:lnTo>
                <a:lnTo>
                  <a:pt x="546" y="9"/>
                </a:lnTo>
                <a:lnTo>
                  <a:pt x="560" y="11"/>
                </a:lnTo>
                <a:lnTo>
                  <a:pt x="574" y="15"/>
                </a:lnTo>
                <a:lnTo>
                  <a:pt x="587" y="21"/>
                </a:lnTo>
                <a:lnTo>
                  <a:pt x="599" y="25"/>
                </a:lnTo>
                <a:lnTo>
                  <a:pt x="612" y="31"/>
                </a:lnTo>
                <a:lnTo>
                  <a:pt x="626" y="35"/>
                </a:lnTo>
                <a:lnTo>
                  <a:pt x="642" y="40"/>
                </a:lnTo>
                <a:lnTo>
                  <a:pt x="649" y="29"/>
                </a:lnTo>
                <a:lnTo>
                  <a:pt x="645" y="21"/>
                </a:lnTo>
                <a:lnTo>
                  <a:pt x="636" y="9"/>
                </a:lnTo>
                <a:lnTo>
                  <a:pt x="630" y="2"/>
                </a:lnTo>
                <a:lnTo>
                  <a:pt x="640" y="0"/>
                </a:lnTo>
                <a:lnTo>
                  <a:pt x="651" y="0"/>
                </a:lnTo>
                <a:lnTo>
                  <a:pt x="663" y="0"/>
                </a:lnTo>
                <a:lnTo>
                  <a:pt x="674" y="0"/>
                </a:lnTo>
                <a:lnTo>
                  <a:pt x="686" y="0"/>
                </a:lnTo>
                <a:lnTo>
                  <a:pt x="698" y="2"/>
                </a:lnTo>
                <a:lnTo>
                  <a:pt x="709" y="4"/>
                </a:lnTo>
                <a:lnTo>
                  <a:pt x="721" y="6"/>
                </a:lnTo>
                <a:close/>
              </a:path>
            </a:pathLst>
          </a:custGeom>
          <a:solidFill>
            <a:srgbClr val="ffb39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22" name=""/>
          <p:cNvSpPr/>
          <p:nvPr/>
        </p:nvSpPr>
        <p:spPr>
          <a:xfrm>
            <a:off x="3567240" y="2865600"/>
            <a:ext cx="142920" cy="266400"/>
          </a:xfrm>
          <a:custGeom>
            <a:avLst/>
            <a:gdLst/>
            <a:ahLst/>
            <a:rect l="l" t="t" r="r" b="b"/>
            <a:pathLst>
              <a:path w="180" h="336">
                <a:moveTo>
                  <a:pt x="0" y="33"/>
                </a:moveTo>
                <a:lnTo>
                  <a:pt x="1" y="47"/>
                </a:lnTo>
                <a:lnTo>
                  <a:pt x="5" y="62"/>
                </a:lnTo>
                <a:lnTo>
                  <a:pt x="7" y="76"/>
                </a:lnTo>
                <a:lnTo>
                  <a:pt x="13" y="91"/>
                </a:lnTo>
                <a:lnTo>
                  <a:pt x="15" y="105"/>
                </a:lnTo>
                <a:lnTo>
                  <a:pt x="21" y="120"/>
                </a:lnTo>
                <a:lnTo>
                  <a:pt x="27" y="136"/>
                </a:lnTo>
                <a:lnTo>
                  <a:pt x="33" y="151"/>
                </a:lnTo>
                <a:lnTo>
                  <a:pt x="36" y="165"/>
                </a:lnTo>
                <a:lnTo>
                  <a:pt x="42" y="178"/>
                </a:lnTo>
                <a:lnTo>
                  <a:pt x="48" y="192"/>
                </a:lnTo>
                <a:lnTo>
                  <a:pt x="56" y="208"/>
                </a:lnTo>
                <a:lnTo>
                  <a:pt x="62" y="219"/>
                </a:lnTo>
                <a:lnTo>
                  <a:pt x="69" y="231"/>
                </a:lnTo>
                <a:lnTo>
                  <a:pt x="77" y="242"/>
                </a:lnTo>
                <a:lnTo>
                  <a:pt x="87" y="254"/>
                </a:lnTo>
                <a:lnTo>
                  <a:pt x="100" y="272"/>
                </a:lnTo>
                <a:lnTo>
                  <a:pt x="114" y="289"/>
                </a:lnTo>
                <a:lnTo>
                  <a:pt x="128" y="303"/>
                </a:lnTo>
                <a:lnTo>
                  <a:pt x="143" y="316"/>
                </a:lnTo>
                <a:lnTo>
                  <a:pt x="153" y="324"/>
                </a:lnTo>
                <a:lnTo>
                  <a:pt x="164" y="332"/>
                </a:lnTo>
                <a:lnTo>
                  <a:pt x="172" y="334"/>
                </a:lnTo>
                <a:lnTo>
                  <a:pt x="178" y="336"/>
                </a:lnTo>
                <a:lnTo>
                  <a:pt x="180" y="318"/>
                </a:lnTo>
                <a:lnTo>
                  <a:pt x="176" y="301"/>
                </a:lnTo>
                <a:lnTo>
                  <a:pt x="170" y="283"/>
                </a:lnTo>
                <a:lnTo>
                  <a:pt x="164" y="268"/>
                </a:lnTo>
                <a:lnTo>
                  <a:pt x="161" y="252"/>
                </a:lnTo>
                <a:lnTo>
                  <a:pt x="157" y="237"/>
                </a:lnTo>
                <a:lnTo>
                  <a:pt x="153" y="221"/>
                </a:lnTo>
                <a:lnTo>
                  <a:pt x="151" y="206"/>
                </a:lnTo>
                <a:lnTo>
                  <a:pt x="147" y="190"/>
                </a:lnTo>
                <a:lnTo>
                  <a:pt x="145" y="175"/>
                </a:lnTo>
                <a:lnTo>
                  <a:pt x="141" y="157"/>
                </a:lnTo>
                <a:lnTo>
                  <a:pt x="139" y="142"/>
                </a:lnTo>
                <a:lnTo>
                  <a:pt x="137" y="126"/>
                </a:lnTo>
                <a:lnTo>
                  <a:pt x="135" y="111"/>
                </a:lnTo>
                <a:lnTo>
                  <a:pt x="131" y="93"/>
                </a:lnTo>
                <a:lnTo>
                  <a:pt x="128" y="80"/>
                </a:lnTo>
                <a:lnTo>
                  <a:pt x="124" y="64"/>
                </a:lnTo>
                <a:lnTo>
                  <a:pt x="122" y="52"/>
                </a:lnTo>
                <a:lnTo>
                  <a:pt x="116" y="64"/>
                </a:lnTo>
                <a:lnTo>
                  <a:pt x="106" y="76"/>
                </a:lnTo>
                <a:lnTo>
                  <a:pt x="93" y="62"/>
                </a:lnTo>
                <a:lnTo>
                  <a:pt x="81" y="51"/>
                </a:lnTo>
                <a:lnTo>
                  <a:pt x="69" y="37"/>
                </a:lnTo>
                <a:lnTo>
                  <a:pt x="58" y="25"/>
                </a:lnTo>
                <a:lnTo>
                  <a:pt x="44" y="14"/>
                </a:lnTo>
                <a:lnTo>
                  <a:pt x="33" y="6"/>
                </a:lnTo>
                <a:lnTo>
                  <a:pt x="19" y="0"/>
                </a:lnTo>
                <a:lnTo>
                  <a:pt x="5" y="0"/>
                </a:lnTo>
                <a:lnTo>
                  <a:pt x="5" y="18"/>
                </a:lnTo>
                <a:lnTo>
                  <a:pt x="0" y="33"/>
                </a:lnTo>
                <a:close/>
              </a:path>
            </a:pathLst>
          </a:custGeom>
          <a:solidFill>
            <a:srgbClr val="ffded6"/>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23" name=""/>
          <p:cNvSpPr/>
          <p:nvPr/>
        </p:nvSpPr>
        <p:spPr>
          <a:xfrm>
            <a:off x="2906640" y="3459240"/>
            <a:ext cx="249480" cy="460440"/>
          </a:xfrm>
          <a:custGeom>
            <a:avLst/>
            <a:gdLst/>
            <a:ahLst/>
            <a:rect l="l" t="t" r="r" b="b"/>
            <a:pathLst>
              <a:path w="314" h="579">
                <a:moveTo>
                  <a:pt x="314" y="58"/>
                </a:moveTo>
                <a:lnTo>
                  <a:pt x="314" y="58"/>
                </a:lnTo>
                <a:lnTo>
                  <a:pt x="298" y="69"/>
                </a:lnTo>
                <a:lnTo>
                  <a:pt x="287" y="81"/>
                </a:lnTo>
                <a:lnTo>
                  <a:pt x="275" y="95"/>
                </a:lnTo>
                <a:lnTo>
                  <a:pt x="265" y="110"/>
                </a:lnTo>
                <a:lnTo>
                  <a:pt x="254" y="124"/>
                </a:lnTo>
                <a:lnTo>
                  <a:pt x="246" y="139"/>
                </a:lnTo>
                <a:lnTo>
                  <a:pt x="238" y="153"/>
                </a:lnTo>
                <a:lnTo>
                  <a:pt x="232" y="168"/>
                </a:lnTo>
                <a:lnTo>
                  <a:pt x="225" y="182"/>
                </a:lnTo>
                <a:lnTo>
                  <a:pt x="219" y="197"/>
                </a:lnTo>
                <a:lnTo>
                  <a:pt x="213" y="213"/>
                </a:lnTo>
                <a:lnTo>
                  <a:pt x="209" y="230"/>
                </a:lnTo>
                <a:lnTo>
                  <a:pt x="203" y="246"/>
                </a:lnTo>
                <a:lnTo>
                  <a:pt x="201" y="263"/>
                </a:lnTo>
                <a:lnTo>
                  <a:pt x="197" y="281"/>
                </a:lnTo>
                <a:lnTo>
                  <a:pt x="195" y="298"/>
                </a:lnTo>
                <a:lnTo>
                  <a:pt x="192" y="314"/>
                </a:lnTo>
                <a:lnTo>
                  <a:pt x="190" y="331"/>
                </a:lnTo>
                <a:lnTo>
                  <a:pt x="186" y="349"/>
                </a:lnTo>
                <a:lnTo>
                  <a:pt x="186" y="366"/>
                </a:lnTo>
                <a:lnTo>
                  <a:pt x="184" y="383"/>
                </a:lnTo>
                <a:lnTo>
                  <a:pt x="184" y="401"/>
                </a:lnTo>
                <a:lnTo>
                  <a:pt x="184" y="418"/>
                </a:lnTo>
                <a:lnTo>
                  <a:pt x="184" y="436"/>
                </a:lnTo>
                <a:lnTo>
                  <a:pt x="182" y="453"/>
                </a:lnTo>
                <a:lnTo>
                  <a:pt x="182" y="471"/>
                </a:lnTo>
                <a:lnTo>
                  <a:pt x="182" y="488"/>
                </a:lnTo>
                <a:lnTo>
                  <a:pt x="182" y="506"/>
                </a:lnTo>
                <a:lnTo>
                  <a:pt x="182" y="523"/>
                </a:lnTo>
                <a:lnTo>
                  <a:pt x="182" y="542"/>
                </a:lnTo>
                <a:lnTo>
                  <a:pt x="182" y="560"/>
                </a:lnTo>
                <a:lnTo>
                  <a:pt x="182" y="579"/>
                </a:lnTo>
                <a:lnTo>
                  <a:pt x="170" y="573"/>
                </a:lnTo>
                <a:lnTo>
                  <a:pt x="159" y="570"/>
                </a:lnTo>
                <a:lnTo>
                  <a:pt x="149" y="566"/>
                </a:lnTo>
                <a:lnTo>
                  <a:pt x="139" y="562"/>
                </a:lnTo>
                <a:lnTo>
                  <a:pt x="128" y="558"/>
                </a:lnTo>
                <a:lnTo>
                  <a:pt x="116" y="554"/>
                </a:lnTo>
                <a:lnTo>
                  <a:pt x="106" y="550"/>
                </a:lnTo>
                <a:lnTo>
                  <a:pt x="97" y="546"/>
                </a:lnTo>
                <a:lnTo>
                  <a:pt x="85" y="541"/>
                </a:lnTo>
                <a:lnTo>
                  <a:pt x="75" y="537"/>
                </a:lnTo>
                <a:lnTo>
                  <a:pt x="64" y="533"/>
                </a:lnTo>
                <a:lnTo>
                  <a:pt x="54" y="531"/>
                </a:lnTo>
                <a:lnTo>
                  <a:pt x="42" y="525"/>
                </a:lnTo>
                <a:lnTo>
                  <a:pt x="33" y="523"/>
                </a:lnTo>
                <a:lnTo>
                  <a:pt x="21" y="519"/>
                </a:lnTo>
                <a:lnTo>
                  <a:pt x="11" y="519"/>
                </a:lnTo>
                <a:lnTo>
                  <a:pt x="0" y="511"/>
                </a:lnTo>
                <a:lnTo>
                  <a:pt x="0" y="502"/>
                </a:lnTo>
                <a:lnTo>
                  <a:pt x="2" y="492"/>
                </a:lnTo>
                <a:lnTo>
                  <a:pt x="3" y="482"/>
                </a:lnTo>
                <a:lnTo>
                  <a:pt x="7" y="467"/>
                </a:lnTo>
                <a:lnTo>
                  <a:pt x="11" y="453"/>
                </a:lnTo>
                <a:lnTo>
                  <a:pt x="13" y="440"/>
                </a:lnTo>
                <a:lnTo>
                  <a:pt x="15" y="426"/>
                </a:lnTo>
                <a:lnTo>
                  <a:pt x="15" y="411"/>
                </a:lnTo>
                <a:lnTo>
                  <a:pt x="15" y="395"/>
                </a:lnTo>
                <a:lnTo>
                  <a:pt x="15" y="380"/>
                </a:lnTo>
                <a:lnTo>
                  <a:pt x="17" y="366"/>
                </a:lnTo>
                <a:lnTo>
                  <a:pt x="17" y="349"/>
                </a:lnTo>
                <a:lnTo>
                  <a:pt x="17" y="335"/>
                </a:lnTo>
                <a:lnTo>
                  <a:pt x="19" y="319"/>
                </a:lnTo>
                <a:lnTo>
                  <a:pt x="25" y="308"/>
                </a:lnTo>
                <a:lnTo>
                  <a:pt x="29" y="296"/>
                </a:lnTo>
                <a:lnTo>
                  <a:pt x="38" y="285"/>
                </a:lnTo>
                <a:lnTo>
                  <a:pt x="48" y="275"/>
                </a:lnTo>
                <a:lnTo>
                  <a:pt x="64" y="269"/>
                </a:lnTo>
                <a:lnTo>
                  <a:pt x="75" y="252"/>
                </a:lnTo>
                <a:lnTo>
                  <a:pt x="89" y="236"/>
                </a:lnTo>
                <a:lnTo>
                  <a:pt x="97" y="217"/>
                </a:lnTo>
                <a:lnTo>
                  <a:pt x="104" y="199"/>
                </a:lnTo>
                <a:lnTo>
                  <a:pt x="108" y="178"/>
                </a:lnTo>
                <a:lnTo>
                  <a:pt x="112" y="159"/>
                </a:lnTo>
                <a:lnTo>
                  <a:pt x="116" y="137"/>
                </a:lnTo>
                <a:lnTo>
                  <a:pt x="122" y="118"/>
                </a:lnTo>
                <a:lnTo>
                  <a:pt x="126" y="96"/>
                </a:lnTo>
                <a:lnTo>
                  <a:pt x="131" y="77"/>
                </a:lnTo>
                <a:lnTo>
                  <a:pt x="137" y="60"/>
                </a:lnTo>
                <a:lnTo>
                  <a:pt x="147" y="44"/>
                </a:lnTo>
                <a:lnTo>
                  <a:pt x="159" y="27"/>
                </a:lnTo>
                <a:lnTo>
                  <a:pt x="174" y="15"/>
                </a:lnTo>
                <a:lnTo>
                  <a:pt x="180" y="9"/>
                </a:lnTo>
                <a:lnTo>
                  <a:pt x="192" y="5"/>
                </a:lnTo>
                <a:lnTo>
                  <a:pt x="201" y="1"/>
                </a:lnTo>
                <a:lnTo>
                  <a:pt x="215" y="0"/>
                </a:lnTo>
                <a:lnTo>
                  <a:pt x="223" y="1"/>
                </a:lnTo>
                <a:lnTo>
                  <a:pt x="234" y="5"/>
                </a:lnTo>
                <a:lnTo>
                  <a:pt x="246" y="9"/>
                </a:lnTo>
                <a:lnTo>
                  <a:pt x="258" y="13"/>
                </a:lnTo>
                <a:lnTo>
                  <a:pt x="269" y="13"/>
                </a:lnTo>
                <a:lnTo>
                  <a:pt x="281" y="13"/>
                </a:lnTo>
                <a:lnTo>
                  <a:pt x="292" y="9"/>
                </a:lnTo>
                <a:lnTo>
                  <a:pt x="306" y="5"/>
                </a:lnTo>
                <a:lnTo>
                  <a:pt x="308" y="17"/>
                </a:lnTo>
                <a:lnTo>
                  <a:pt x="310" y="31"/>
                </a:lnTo>
                <a:lnTo>
                  <a:pt x="312" y="42"/>
                </a:lnTo>
                <a:lnTo>
                  <a:pt x="314" y="58"/>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24" name=""/>
          <p:cNvSpPr/>
          <p:nvPr/>
        </p:nvSpPr>
        <p:spPr>
          <a:xfrm>
            <a:off x="3062160" y="2973240"/>
            <a:ext cx="378000" cy="1014480"/>
          </a:xfrm>
          <a:custGeom>
            <a:avLst/>
            <a:gdLst/>
            <a:ahLst/>
            <a:rect l="l" t="t" r="r" b="b"/>
            <a:pathLst>
              <a:path w="478" h="1278">
                <a:moveTo>
                  <a:pt x="307" y="0"/>
                </a:moveTo>
                <a:lnTo>
                  <a:pt x="305" y="11"/>
                </a:lnTo>
                <a:lnTo>
                  <a:pt x="305" y="23"/>
                </a:lnTo>
                <a:lnTo>
                  <a:pt x="303" y="35"/>
                </a:lnTo>
                <a:lnTo>
                  <a:pt x="303" y="48"/>
                </a:lnTo>
                <a:lnTo>
                  <a:pt x="301" y="60"/>
                </a:lnTo>
                <a:lnTo>
                  <a:pt x="301" y="72"/>
                </a:lnTo>
                <a:lnTo>
                  <a:pt x="301" y="83"/>
                </a:lnTo>
                <a:lnTo>
                  <a:pt x="301" y="95"/>
                </a:lnTo>
                <a:lnTo>
                  <a:pt x="301" y="114"/>
                </a:lnTo>
                <a:lnTo>
                  <a:pt x="301" y="134"/>
                </a:lnTo>
                <a:lnTo>
                  <a:pt x="301" y="151"/>
                </a:lnTo>
                <a:lnTo>
                  <a:pt x="303" y="170"/>
                </a:lnTo>
                <a:lnTo>
                  <a:pt x="303" y="184"/>
                </a:lnTo>
                <a:lnTo>
                  <a:pt x="303" y="200"/>
                </a:lnTo>
                <a:lnTo>
                  <a:pt x="305" y="215"/>
                </a:lnTo>
                <a:lnTo>
                  <a:pt x="309" y="231"/>
                </a:lnTo>
                <a:lnTo>
                  <a:pt x="309" y="242"/>
                </a:lnTo>
                <a:lnTo>
                  <a:pt x="313" y="256"/>
                </a:lnTo>
                <a:lnTo>
                  <a:pt x="315" y="269"/>
                </a:lnTo>
                <a:lnTo>
                  <a:pt x="320" y="283"/>
                </a:lnTo>
                <a:lnTo>
                  <a:pt x="322" y="295"/>
                </a:lnTo>
                <a:lnTo>
                  <a:pt x="326" y="306"/>
                </a:lnTo>
                <a:lnTo>
                  <a:pt x="332" y="318"/>
                </a:lnTo>
                <a:lnTo>
                  <a:pt x="338" y="331"/>
                </a:lnTo>
                <a:lnTo>
                  <a:pt x="344" y="343"/>
                </a:lnTo>
                <a:lnTo>
                  <a:pt x="350" y="355"/>
                </a:lnTo>
                <a:lnTo>
                  <a:pt x="357" y="368"/>
                </a:lnTo>
                <a:lnTo>
                  <a:pt x="365" y="384"/>
                </a:lnTo>
                <a:lnTo>
                  <a:pt x="371" y="397"/>
                </a:lnTo>
                <a:lnTo>
                  <a:pt x="381" y="413"/>
                </a:lnTo>
                <a:lnTo>
                  <a:pt x="388" y="428"/>
                </a:lnTo>
                <a:lnTo>
                  <a:pt x="398" y="446"/>
                </a:lnTo>
                <a:lnTo>
                  <a:pt x="408" y="463"/>
                </a:lnTo>
                <a:lnTo>
                  <a:pt x="419" y="483"/>
                </a:lnTo>
                <a:lnTo>
                  <a:pt x="425" y="492"/>
                </a:lnTo>
                <a:lnTo>
                  <a:pt x="431" y="504"/>
                </a:lnTo>
                <a:lnTo>
                  <a:pt x="437" y="516"/>
                </a:lnTo>
                <a:lnTo>
                  <a:pt x="445" y="527"/>
                </a:lnTo>
                <a:lnTo>
                  <a:pt x="445" y="539"/>
                </a:lnTo>
                <a:lnTo>
                  <a:pt x="445" y="554"/>
                </a:lnTo>
                <a:lnTo>
                  <a:pt x="443" y="568"/>
                </a:lnTo>
                <a:lnTo>
                  <a:pt x="443" y="583"/>
                </a:lnTo>
                <a:lnTo>
                  <a:pt x="441" y="599"/>
                </a:lnTo>
                <a:lnTo>
                  <a:pt x="439" y="614"/>
                </a:lnTo>
                <a:lnTo>
                  <a:pt x="437" y="630"/>
                </a:lnTo>
                <a:lnTo>
                  <a:pt x="437" y="647"/>
                </a:lnTo>
                <a:lnTo>
                  <a:pt x="433" y="663"/>
                </a:lnTo>
                <a:lnTo>
                  <a:pt x="431" y="678"/>
                </a:lnTo>
                <a:lnTo>
                  <a:pt x="427" y="694"/>
                </a:lnTo>
                <a:lnTo>
                  <a:pt x="425" y="711"/>
                </a:lnTo>
                <a:lnTo>
                  <a:pt x="421" y="729"/>
                </a:lnTo>
                <a:lnTo>
                  <a:pt x="419" y="746"/>
                </a:lnTo>
                <a:lnTo>
                  <a:pt x="415" y="764"/>
                </a:lnTo>
                <a:lnTo>
                  <a:pt x="415" y="781"/>
                </a:lnTo>
                <a:lnTo>
                  <a:pt x="412" y="799"/>
                </a:lnTo>
                <a:lnTo>
                  <a:pt x="410" y="816"/>
                </a:lnTo>
                <a:lnTo>
                  <a:pt x="410" y="834"/>
                </a:lnTo>
                <a:lnTo>
                  <a:pt x="410" y="851"/>
                </a:lnTo>
                <a:lnTo>
                  <a:pt x="410" y="868"/>
                </a:lnTo>
                <a:lnTo>
                  <a:pt x="410" y="886"/>
                </a:lnTo>
                <a:lnTo>
                  <a:pt x="412" y="903"/>
                </a:lnTo>
                <a:lnTo>
                  <a:pt x="417" y="921"/>
                </a:lnTo>
                <a:lnTo>
                  <a:pt x="419" y="936"/>
                </a:lnTo>
                <a:lnTo>
                  <a:pt x="423" y="954"/>
                </a:lnTo>
                <a:lnTo>
                  <a:pt x="429" y="969"/>
                </a:lnTo>
                <a:lnTo>
                  <a:pt x="437" y="987"/>
                </a:lnTo>
                <a:lnTo>
                  <a:pt x="443" y="1002"/>
                </a:lnTo>
                <a:lnTo>
                  <a:pt x="454" y="1020"/>
                </a:lnTo>
                <a:lnTo>
                  <a:pt x="464" y="1037"/>
                </a:lnTo>
                <a:lnTo>
                  <a:pt x="478" y="1055"/>
                </a:lnTo>
                <a:lnTo>
                  <a:pt x="466" y="1049"/>
                </a:lnTo>
                <a:lnTo>
                  <a:pt x="454" y="1043"/>
                </a:lnTo>
                <a:lnTo>
                  <a:pt x="443" y="1037"/>
                </a:lnTo>
                <a:lnTo>
                  <a:pt x="431" y="1033"/>
                </a:lnTo>
                <a:lnTo>
                  <a:pt x="419" y="1027"/>
                </a:lnTo>
                <a:lnTo>
                  <a:pt x="408" y="1024"/>
                </a:lnTo>
                <a:lnTo>
                  <a:pt x="396" y="1020"/>
                </a:lnTo>
                <a:lnTo>
                  <a:pt x="384" y="1018"/>
                </a:lnTo>
                <a:lnTo>
                  <a:pt x="381" y="1024"/>
                </a:lnTo>
                <a:lnTo>
                  <a:pt x="381" y="1033"/>
                </a:lnTo>
                <a:lnTo>
                  <a:pt x="386" y="1045"/>
                </a:lnTo>
                <a:lnTo>
                  <a:pt x="390" y="1057"/>
                </a:lnTo>
                <a:lnTo>
                  <a:pt x="396" y="1068"/>
                </a:lnTo>
                <a:lnTo>
                  <a:pt x="396" y="1080"/>
                </a:lnTo>
                <a:lnTo>
                  <a:pt x="398" y="1091"/>
                </a:lnTo>
                <a:lnTo>
                  <a:pt x="396" y="1103"/>
                </a:lnTo>
                <a:lnTo>
                  <a:pt x="390" y="1115"/>
                </a:lnTo>
                <a:lnTo>
                  <a:pt x="373" y="1132"/>
                </a:lnTo>
                <a:lnTo>
                  <a:pt x="361" y="1150"/>
                </a:lnTo>
                <a:lnTo>
                  <a:pt x="348" y="1169"/>
                </a:lnTo>
                <a:lnTo>
                  <a:pt x="340" y="1190"/>
                </a:lnTo>
                <a:lnTo>
                  <a:pt x="330" y="1210"/>
                </a:lnTo>
                <a:lnTo>
                  <a:pt x="326" y="1231"/>
                </a:lnTo>
                <a:lnTo>
                  <a:pt x="322" y="1243"/>
                </a:lnTo>
                <a:lnTo>
                  <a:pt x="320" y="1254"/>
                </a:lnTo>
                <a:lnTo>
                  <a:pt x="319" y="1266"/>
                </a:lnTo>
                <a:lnTo>
                  <a:pt x="319" y="1278"/>
                </a:lnTo>
                <a:lnTo>
                  <a:pt x="305" y="1276"/>
                </a:lnTo>
                <a:lnTo>
                  <a:pt x="291" y="1276"/>
                </a:lnTo>
                <a:lnTo>
                  <a:pt x="278" y="1274"/>
                </a:lnTo>
                <a:lnTo>
                  <a:pt x="264" y="1272"/>
                </a:lnTo>
                <a:lnTo>
                  <a:pt x="270" y="1252"/>
                </a:lnTo>
                <a:lnTo>
                  <a:pt x="276" y="1235"/>
                </a:lnTo>
                <a:lnTo>
                  <a:pt x="284" y="1216"/>
                </a:lnTo>
                <a:lnTo>
                  <a:pt x="291" y="1198"/>
                </a:lnTo>
                <a:lnTo>
                  <a:pt x="297" y="1179"/>
                </a:lnTo>
                <a:lnTo>
                  <a:pt x="303" y="1159"/>
                </a:lnTo>
                <a:lnTo>
                  <a:pt x="309" y="1140"/>
                </a:lnTo>
                <a:lnTo>
                  <a:pt x="315" y="1121"/>
                </a:lnTo>
                <a:lnTo>
                  <a:pt x="315" y="1109"/>
                </a:lnTo>
                <a:lnTo>
                  <a:pt x="317" y="1099"/>
                </a:lnTo>
                <a:lnTo>
                  <a:pt x="317" y="1088"/>
                </a:lnTo>
                <a:lnTo>
                  <a:pt x="319" y="1078"/>
                </a:lnTo>
                <a:lnTo>
                  <a:pt x="319" y="1066"/>
                </a:lnTo>
                <a:lnTo>
                  <a:pt x="319" y="1057"/>
                </a:lnTo>
                <a:lnTo>
                  <a:pt x="317" y="1045"/>
                </a:lnTo>
                <a:lnTo>
                  <a:pt x="317" y="1035"/>
                </a:lnTo>
                <a:lnTo>
                  <a:pt x="313" y="1024"/>
                </a:lnTo>
                <a:lnTo>
                  <a:pt x="311" y="1014"/>
                </a:lnTo>
                <a:lnTo>
                  <a:pt x="307" y="1002"/>
                </a:lnTo>
                <a:lnTo>
                  <a:pt x="303" y="993"/>
                </a:lnTo>
                <a:lnTo>
                  <a:pt x="291" y="971"/>
                </a:lnTo>
                <a:lnTo>
                  <a:pt x="280" y="952"/>
                </a:lnTo>
                <a:lnTo>
                  <a:pt x="284" y="952"/>
                </a:lnTo>
                <a:lnTo>
                  <a:pt x="289" y="956"/>
                </a:lnTo>
                <a:lnTo>
                  <a:pt x="297" y="954"/>
                </a:lnTo>
                <a:lnTo>
                  <a:pt x="305" y="948"/>
                </a:lnTo>
                <a:lnTo>
                  <a:pt x="299" y="934"/>
                </a:lnTo>
                <a:lnTo>
                  <a:pt x="289" y="929"/>
                </a:lnTo>
                <a:lnTo>
                  <a:pt x="278" y="923"/>
                </a:lnTo>
                <a:lnTo>
                  <a:pt x="268" y="917"/>
                </a:lnTo>
                <a:lnTo>
                  <a:pt x="253" y="898"/>
                </a:lnTo>
                <a:lnTo>
                  <a:pt x="237" y="882"/>
                </a:lnTo>
                <a:lnTo>
                  <a:pt x="223" y="863"/>
                </a:lnTo>
                <a:lnTo>
                  <a:pt x="214" y="845"/>
                </a:lnTo>
                <a:lnTo>
                  <a:pt x="204" y="826"/>
                </a:lnTo>
                <a:lnTo>
                  <a:pt x="194" y="806"/>
                </a:lnTo>
                <a:lnTo>
                  <a:pt x="185" y="787"/>
                </a:lnTo>
                <a:lnTo>
                  <a:pt x="177" y="770"/>
                </a:lnTo>
                <a:lnTo>
                  <a:pt x="167" y="750"/>
                </a:lnTo>
                <a:lnTo>
                  <a:pt x="161" y="731"/>
                </a:lnTo>
                <a:lnTo>
                  <a:pt x="156" y="709"/>
                </a:lnTo>
                <a:lnTo>
                  <a:pt x="156" y="690"/>
                </a:lnTo>
                <a:lnTo>
                  <a:pt x="152" y="671"/>
                </a:lnTo>
                <a:lnTo>
                  <a:pt x="150" y="653"/>
                </a:lnTo>
                <a:lnTo>
                  <a:pt x="144" y="634"/>
                </a:lnTo>
                <a:lnTo>
                  <a:pt x="138" y="618"/>
                </a:lnTo>
                <a:lnTo>
                  <a:pt x="138" y="607"/>
                </a:lnTo>
                <a:lnTo>
                  <a:pt x="134" y="599"/>
                </a:lnTo>
                <a:lnTo>
                  <a:pt x="125" y="593"/>
                </a:lnTo>
                <a:lnTo>
                  <a:pt x="119" y="593"/>
                </a:lnTo>
                <a:lnTo>
                  <a:pt x="107" y="591"/>
                </a:lnTo>
                <a:lnTo>
                  <a:pt x="97" y="597"/>
                </a:lnTo>
                <a:lnTo>
                  <a:pt x="88" y="605"/>
                </a:lnTo>
                <a:lnTo>
                  <a:pt x="80" y="613"/>
                </a:lnTo>
                <a:lnTo>
                  <a:pt x="68" y="607"/>
                </a:lnTo>
                <a:lnTo>
                  <a:pt x="57" y="603"/>
                </a:lnTo>
                <a:lnTo>
                  <a:pt x="74" y="597"/>
                </a:lnTo>
                <a:lnTo>
                  <a:pt x="88" y="593"/>
                </a:lnTo>
                <a:lnTo>
                  <a:pt x="90" y="589"/>
                </a:lnTo>
                <a:lnTo>
                  <a:pt x="95" y="587"/>
                </a:lnTo>
                <a:lnTo>
                  <a:pt x="94" y="574"/>
                </a:lnTo>
                <a:lnTo>
                  <a:pt x="94" y="566"/>
                </a:lnTo>
                <a:lnTo>
                  <a:pt x="92" y="560"/>
                </a:lnTo>
                <a:lnTo>
                  <a:pt x="92" y="554"/>
                </a:lnTo>
                <a:lnTo>
                  <a:pt x="84" y="543"/>
                </a:lnTo>
                <a:lnTo>
                  <a:pt x="70" y="533"/>
                </a:lnTo>
                <a:lnTo>
                  <a:pt x="70" y="531"/>
                </a:lnTo>
                <a:lnTo>
                  <a:pt x="45" y="502"/>
                </a:lnTo>
                <a:lnTo>
                  <a:pt x="45" y="492"/>
                </a:lnTo>
                <a:lnTo>
                  <a:pt x="37" y="487"/>
                </a:lnTo>
                <a:lnTo>
                  <a:pt x="33" y="479"/>
                </a:lnTo>
                <a:lnTo>
                  <a:pt x="31" y="467"/>
                </a:lnTo>
                <a:lnTo>
                  <a:pt x="30" y="463"/>
                </a:lnTo>
                <a:lnTo>
                  <a:pt x="26" y="463"/>
                </a:lnTo>
                <a:lnTo>
                  <a:pt x="16" y="450"/>
                </a:lnTo>
                <a:lnTo>
                  <a:pt x="10" y="438"/>
                </a:lnTo>
                <a:lnTo>
                  <a:pt x="4" y="426"/>
                </a:lnTo>
                <a:lnTo>
                  <a:pt x="4" y="417"/>
                </a:lnTo>
                <a:lnTo>
                  <a:pt x="0" y="397"/>
                </a:lnTo>
                <a:lnTo>
                  <a:pt x="4" y="380"/>
                </a:lnTo>
                <a:lnTo>
                  <a:pt x="6" y="360"/>
                </a:lnTo>
                <a:lnTo>
                  <a:pt x="12" y="343"/>
                </a:lnTo>
                <a:lnTo>
                  <a:pt x="12" y="333"/>
                </a:lnTo>
                <a:lnTo>
                  <a:pt x="14" y="324"/>
                </a:lnTo>
                <a:lnTo>
                  <a:pt x="16" y="312"/>
                </a:lnTo>
                <a:lnTo>
                  <a:pt x="18" y="302"/>
                </a:lnTo>
                <a:lnTo>
                  <a:pt x="31" y="298"/>
                </a:lnTo>
                <a:lnTo>
                  <a:pt x="49" y="291"/>
                </a:lnTo>
                <a:lnTo>
                  <a:pt x="64" y="283"/>
                </a:lnTo>
                <a:lnTo>
                  <a:pt x="80" y="279"/>
                </a:lnTo>
                <a:lnTo>
                  <a:pt x="82" y="283"/>
                </a:lnTo>
                <a:lnTo>
                  <a:pt x="86" y="289"/>
                </a:lnTo>
                <a:lnTo>
                  <a:pt x="94" y="291"/>
                </a:lnTo>
                <a:lnTo>
                  <a:pt x="101" y="300"/>
                </a:lnTo>
                <a:lnTo>
                  <a:pt x="105" y="308"/>
                </a:lnTo>
                <a:lnTo>
                  <a:pt x="113" y="318"/>
                </a:lnTo>
                <a:lnTo>
                  <a:pt x="123" y="314"/>
                </a:lnTo>
                <a:lnTo>
                  <a:pt x="132" y="314"/>
                </a:lnTo>
                <a:lnTo>
                  <a:pt x="142" y="316"/>
                </a:lnTo>
                <a:lnTo>
                  <a:pt x="154" y="322"/>
                </a:lnTo>
                <a:lnTo>
                  <a:pt x="171" y="329"/>
                </a:lnTo>
                <a:lnTo>
                  <a:pt x="192" y="339"/>
                </a:lnTo>
                <a:lnTo>
                  <a:pt x="198" y="328"/>
                </a:lnTo>
                <a:lnTo>
                  <a:pt x="200" y="318"/>
                </a:lnTo>
                <a:lnTo>
                  <a:pt x="198" y="302"/>
                </a:lnTo>
                <a:lnTo>
                  <a:pt x="200" y="289"/>
                </a:lnTo>
                <a:lnTo>
                  <a:pt x="202" y="275"/>
                </a:lnTo>
                <a:lnTo>
                  <a:pt x="206" y="262"/>
                </a:lnTo>
                <a:lnTo>
                  <a:pt x="210" y="246"/>
                </a:lnTo>
                <a:lnTo>
                  <a:pt x="214" y="233"/>
                </a:lnTo>
                <a:lnTo>
                  <a:pt x="216" y="217"/>
                </a:lnTo>
                <a:lnTo>
                  <a:pt x="218" y="205"/>
                </a:lnTo>
                <a:lnTo>
                  <a:pt x="220" y="190"/>
                </a:lnTo>
                <a:lnTo>
                  <a:pt x="223" y="176"/>
                </a:lnTo>
                <a:lnTo>
                  <a:pt x="227" y="163"/>
                </a:lnTo>
                <a:lnTo>
                  <a:pt x="233" y="149"/>
                </a:lnTo>
                <a:lnTo>
                  <a:pt x="237" y="136"/>
                </a:lnTo>
                <a:lnTo>
                  <a:pt x="243" y="122"/>
                </a:lnTo>
                <a:lnTo>
                  <a:pt x="249" y="110"/>
                </a:lnTo>
                <a:lnTo>
                  <a:pt x="255" y="99"/>
                </a:lnTo>
                <a:lnTo>
                  <a:pt x="260" y="85"/>
                </a:lnTo>
                <a:lnTo>
                  <a:pt x="266" y="72"/>
                </a:lnTo>
                <a:lnTo>
                  <a:pt x="272" y="58"/>
                </a:lnTo>
                <a:lnTo>
                  <a:pt x="280" y="46"/>
                </a:lnTo>
                <a:lnTo>
                  <a:pt x="286" y="35"/>
                </a:lnTo>
                <a:lnTo>
                  <a:pt x="291" y="23"/>
                </a:lnTo>
                <a:lnTo>
                  <a:pt x="299" y="11"/>
                </a:lnTo>
                <a:lnTo>
                  <a:pt x="307" y="0"/>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25" name=""/>
          <p:cNvSpPr/>
          <p:nvPr/>
        </p:nvSpPr>
        <p:spPr>
          <a:xfrm>
            <a:off x="3286080" y="3708360"/>
            <a:ext cx="1800" cy="1800"/>
          </a:xfrm>
          <a:custGeom>
            <a:avLst/>
            <a:gdLst/>
            <a:ahLst/>
            <a:rect l="l" t="t" r="r" b="b"/>
            <a:pathLst>
              <a:path w="2" h="0">
                <a:moveTo>
                  <a:pt x="0" y="0"/>
                </a:moveTo>
                <a:lnTo>
                  <a:pt x="2" y="0"/>
                </a:lnTo>
                <a:lnTo>
                  <a:pt x="0" y="0"/>
                </a:lnTo>
                <a:close/>
              </a:path>
            </a:pathLst>
          </a:custGeom>
          <a:solidFill>
            <a:srgbClr val="cc2e17"/>
          </a:solidFill>
          <a:ln w="0">
            <a:noFill/>
          </a:ln>
        </p:spPr>
        <p:style>
          <a:lnRef idx="0"/>
          <a:fillRef idx="0"/>
          <a:effectRef idx="0"/>
          <a:fontRef idx="minor"/>
        </p:style>
        <p:txBody>
          <a:bodyPr lIns="90000" rIns="90000" tIns="-45000" bIns="-45000" anchor="t">
            <a:noAutofit/>
          </a:bodyPr>
          <a:p>
            <a:endParaRPr b="0" lang="en-US" sz="2400" spc="-1" strike="noStrike">
              <a:solidFill>
                <a:srgbClr val="ffff66"/>
              </a:solidFill>
              <a:latin typeface="Times New Roman"/>
            </a:endParaRPr>
          </a:p>
        </p:txBody>
      </p:sp>
      <p:sp>
        <p:nvSpPr>
          <p:cNvPr id="126" name=""/>
          <p:cNvSpPr/>
          <p:nvPr/>
        </p:nvSpPr>
        <p:spPr>
          <a:xfrm>
            <a:off x="3094200" y="3116160"/>
            <a:ext cx="196560" cy="592200"/>
          </a:xfrm>
          <a:custGeom>
            <a:avLst/>
            <a:gdLst/>
            <a:ahLst/>
            <a:rect l="l" t="t" r="r" b="b"/>
            <a:pathLst>
              <a:path w="248" h="747">
                <a:moveTo>
                  <a:pt x="186" y="8"/>
                </a:moveTo>
                <a:lnTo>
                  <a:pt x="182" y="21"/>
                </a:lnTo>
                <a:lnTo>
                  <a:pt x="181" y="35"/>
                </a:lnTo>
                <a:lnTo>
                  <a:pt x="179" y="49"/>
                </a:lnTo>
                <a:lnTo>
                  <a:pt x="179" y="62"/>
                </a:lnTo>
                <a:lnTo>
                  <a:pt x="177" y="72"/>
                </a:lnTo>
                <a:lnTo>
                  <a:pt x="177" y="84"/>
                </a:lnTo>
                <a:lnTo>
                  <a:pt x="177" y="95"/>
                </a:lnTo>
                <a:lnTo>
                  <a:pt x="177" y="107"/>
                </a:lnTo>
                <a:lnTo>
                  <a:pt x="177" y="126"/>
                </a:lnTo>
                <a:lnTo>
                  <a:pt x="179" y="146"/>
                </a:lnTo>
                <a:lnTo>
                  <a:pt x="181" y="163"/>
                </a:lnTo>
                <a:lnTo>
                  <a:pt x="186" y="182"/>
                </a:lnTo>
                <a:lnTo>
                  <a:pt x="190" y="200"/>
                </a:lnTo>
                <a:lnTo>
                  <a:pt x="196" y="217"/>
                </a:lnTo>
                <a:lnTo>
                  <a:pt x="202" y="237"/>
                </a:lnTo>
                <a:lnTo>
                  <a:pt x="208" y="258"/>
                </a:lnTo>
                <a:lnTo>
                  <a:pt x="210" y="268"/>
                </a:lnTo>
                <a:lnTo>
                  <a:pt x="214" y="279"/>
                </a:lnTo>
                <a:lnTo>
                  <a:pt x="217" y="291"/>
                </a:lnTo>
                <a:lnTo>
                  <a:pt x="223" y="305"/>
                </a:lnTo>
                <a:lnTo>
                  <a:pt x="227" y="318"/>
                </a:lnTo>
                <a:lnTo>
                  <a:pt x="231" y="334"/>
                </a:lnTo>
                <a:lnTo>
                  <a:pt x="235" y="347"/>
                </a:lnTo>
                <a:lnTo>
                  <a:pt x="241" y="365"/>
                </a:lnTo>
                <a:lnTo>
                  <a:pt x="243" y="376"/>
                </a:lnTo>
                <a:lnTo>
                  <a:pt x="245" y="388"/>
                </a:lnTo>
                <a:lnTo>
                  <a:pt x="246" y="400"/>
                </a:lnTo>
                <a:lnTo>
                  <a:pt x="248" y="411"/>
                </a:lnTo>
                <a:lnTo>
                  <a:pt x="248" y="423"/>
                </a:lnTo>
                <a:lnTo>
                  <a:pt x="248" y="436"/>
                </a:lnTo>
                <a:lnTo>
                  <a:pt x="248" y="450"/>
                </a:lnTo>
                <a:lnTo>
                  <a:pt x="248" y="464"/>
                </a:lnTo>
                <a:lnTo>
                  <a:pt x="245" y="475"/>
                </a:lnTo>
                <a:lnTo>
                  <a:pt x="243" y="487"/>
                </a:lnTo>
                <a:lnTo>
                  <a:pt x="241" y="500"/>
                </a:lnTo>
                <a:lnTo>
                  <a:pt x="239" y="514"/>
                </a:lnTo>
                <a:lnTo>
                  <a:pt x="235" y="526"/>
                </a:lnTo>
                <a:lnTo>
                  <a:pt x="235" y="537"/>
                </a:lnTo>
                <a:lnTo>
                  <a:pt x="231" y="551"/>
                </a:lnTo>
                <a:lnTo>
                  <a:pt x="231" y="564"/>
                </a:lnTo>
                <a:lnTo>
                  <a:pt x="227" y="576"/>
                </a:lnTo>
                <a:lnTo>
                  <a:pt x="225" y="588"/>
                </a:lnTo>
                <a:lnTo>
                  <a:pt x="221" y="599"/>
                </a:lnTo>
                <a:lnTo>
                  <a:pt x="221" y="611"/>
                </a:lnTo>
                <a:lnTo>
                  <a:pt x="217" y="623"/>
                </a:lnTo>
                <a:lnTo>
                  <a:pt x="217" y="634"/>
                </a:lnTo>
                <a:lnTo>
                  <a:pt x="217" y="646"/>
                </a:lnTo>
                <a:lnTo>
                  <a:pt x="217" y="659"/>
                </a:lnTo>
                <a:lnTo>
                  <a:pt x="217" y="669"/>
                </a:lnTo>
                <a:lnTo>
                  <a:pt x="217" y="681"/>
                </a:lnTo>
                <a:lnTo>
                  <a:pt x="217" y="692"/>
                </a:lnTo>
                <a:lnTo>
                  <a:pt x="221" y="704"/>
                </a:lnTo>
                <a:lnTo>
                  <a:pt x="223" y="714"/>
                </a:lnTo>
                <a:lnTo>
                  <a:pt x="227" y="725"/>
                </a:lnTo>
                <a:lnTo>
                  <a:pt x="233" y="735"/>
                </a:lnTo>
                <a:lnTo>
                  <a:pt x="241" y="747"/>
                </a:lnTo>
                <a:lnTo>
                  <a:pt x="233" y="741"/>
                </a:lnTo>
                <a:lnTo>
                  <a:pt x="227" y="737"/>
                </a:lnTo>
                <a:lnTo>
                  <a:pt x="212" y="718"/>
                </a:lnTo>
                <a:lnTo>
                  <a:pt x="196" y="702"/>
                </a:lnTo>
                <a:lnTo>
                  <a:pt x="182" y="683"/>
                </a:lnTo>
                <a:lnTo>
                  <a:pt x="173" y="665"/>
                </a:lnTo>
                <a:lnTo>
                  <a:pt x="163" y="646"/>
                </a:lnTo>
                <a:lnTo>
                  <a:pt x="153" y="626"/>
                </a:lnTo>
                <a:lnTo>
                  <a:pt x="144" y="607"/>
                </a:lnTo>
                <a:lnTo>
                  <a:pt x="136" y="590"/>
                </a:lnTo>
                <a:lnTo>
                  <a:pt x="126" y="570"/>
                </a:lnTo>
                <a:lnTo>
                  <a:pt x="120" y="551"/>
                </a:lnTo>
                <a:lnTo>
                  <a:pt x="115" y="529"/>
                </a:lnTo>
                <a:lnTo>
                  <a:pt x="115" y="510"/>
                </a:lnTo>
                <a:lnTo>
                  <a:pt x="111" y="491"/>
                </a:lnTo>
                <a:lnTo>
                  <a:pt x="109" y="473"/>
                </a:lnTo>
                <a:lnTo>
                  <a:pt x="103" y="454"/>
                </a:lnTo>
                <a:lnTo>
                  <a:pt x="97" y="438"/>
                </a:lnTo>
                <a:lnTo>
                  <a:pt x="97" y="427"/>
                </a:lnTo>
                <a:lnTo>
                  <a:pt x="93" y="419"/>
                </a:lnTo>
                <a:lnTo>
                  <a:pt x="84" y="413"/>
                </a:lnTo>
                <a:lnTo>
                  <a:pt x="78" y="413"/>
                </a:lnTo>
                <a:lnTo>
                  <a:pt x="60" y="415"/>
                </a:lnTo>
                <a:lnTo>
                  <a:pt x="47" y="427"/>
                </a:lnTo>
                <a:lnTo>
                  <a:pt x="23" y="427"/>
                </a:lnTo>
                <a:lnTo>
                  <a:pt x="22" y="425"/>
                </a:lnTo>
                <a:lnTo>
                  <a:pt x="20" y="423"/>
                </a:lnTo>
                <a:lnTo>
                  <a:pt x="33" y="415"/>
                </a:lnTo>
                <a:lnTo>
                  <a:pt x="47" y="413"/>
                </a:lnTo>
                <a:lnTo>
                  <a:pt x="49" y="409"/>
                </a:lnTo>
                <a:lnTo>
                  <a:pt x="54" y="407"/>
                </a:lnTo>
                <a:lnTo>
                  <a:pt x="53" y="394"/>
                </a:lnTo>
                <a:lnTo>
                  <a:pt x="53" y="384"/>
                </a:lnTo>
                <a:lnTo>
                  <a:pt x="51" y="378"/>
                </a:lnTo>
                <a:lnTo>
                  <a:pt x="51" y="372"/>
                </a:lnTo>
                <a:lnTo>
                  <a:pt x="62" y="355"/>
                </a:lnTo>
                <a:lnTo>
                  <a:pt x="68" y="336"/>
                </a:lnTo>
                <a:lnTo>
                  <a:pt x="68" y="322"/>
                </a:lnTo>
                <a:lnTo>
                  <a:pt x="68" y="310"/>
                </a:lnTo>
                <a:lnTo>
                  <a:pt x="66" y="299"/>
                </a:lnTo>
                <a:lnTo>
                  <a:pt x="64" y="287"/>
                </a:lnTo>
                <a:lnTo>
                  <a:pt x="58" y="274"/>
                </a:lnTo>
                <a:lnTo>
                  <a:pt x="54" y="262"/>
                </a:lnTo>
                <a:lnTo>
                  <a:pt x="49" y="250"/>
                </a:lnTo>
                <a:lnTo>
                  <a:pt x="45" y="239"/>
                </a:lnTo>
                <a:lnTo>
                  <a:pt x="33" y="219"/>
                </a:lnTo>
                <a:lnTo>
                  <a:pt x="22" y="208"/>
                </a:lnTo>
                <a:lnTo>
                  <a:pt x="10" y="196"/>
                </a:lnTo>
                <a:lnTo>
                  <a:pt x="4" y="186"/>
                </a:lnTo>
                <a:lnTo>
                  <a:pt x="0" y="175"/>
                </a:lnTo>
                <a:lnTo>
                  <a:pt x="0" y="165"/>
                </a:lnTo>
                <a:lnTo>
                  <a:pt x="0" y="151"/>
                </a:lnTo>
                <a:lnTo>
                  <a:pt x="2" y="140"/>
                </a:lnTo>
                <a:lnTo>
                  <a:pt x="2" y="128"/>
                </a:lnTo>
                <a:lnTo>
                  <a:pt x="4" y="116"/>
                </a:lnTo>
                <a:lnTo>
                  <a:pt x="8" y="116"/>
                </a:lnTo>
                <a:lnTo>
                  <a:pt x="8" y="113"/>
                </a:lnTo>
                <a:lnTo>
                  <a:pt x="8" y="111"/>
                </a:lnTo>
                <a:lnTo>
                  <a:pt x="23" y="103"/>
                </a:lnTo>
                <a:lnTo>
                  <a:pt x="39" y="99"/>
                </a:lnTo>
                <a:lnTo>
                  <a:pt x="41" y="103"/>
                </a:lnTo>
                <a:lnTo>
                  <a:pt x="45" y="109"/>
                </a:lnTo>
                <a:lnTo>
                  <a:pt x="53" y="111"/>
                </a:lnTo>
                <a:lnTo>
                  <a:pt x="60" y="120"/>
                </a:lnTo>
                <a:lnTo>
                  <a:pt x="64" y="128"/>
                </a:lnTo>
                <a:lnTo>
                  <a:pt x="72" y="138"/>
                </a:lnTo>
                <a:lnTo>
                  <a:pt x="82" y="134"/>
                </a:lnTo>
                <a:lnTo>
                  <a:pt x="91" y="134"/>
                </a:lnTo>
                <a:lnTo>
                  <a:pt x="101" y="136"/>
                </a:lnTo>
                <a:lnTo>
                  <a:pt x="113" y="142"/>
                </a:lnTo>
                <a:lnTo>
                  <a:pt x="130" y="149"/>
                </a:lnTo>
                <a:lnTo>
                  <a:pt x="151" y="159"/>
                </a:lnTo>
                <a:lnTo>
                  <a:pt x="157" y="148"/>
                </a:lnTo>
                <a:lnTo>
                  <a:pt x="159" y="138"/>
                </a:lnTo>
                <a:lnTo>
                  <a:pt x="157" y="122"/>
                </a:lnTo>
                <a:lnTo>
                  <a:pt x="159" y="109"/>
                </a:lnTo>
                <a:lnTo>
                  <a:pt x="161" y="95"/>
                </a:lnTo>
                <a:lnTo>
                  <a:pt x="165" y="82"/>
                </a:lnTo>
                <a:lnTo>
                  <a:pt x="169" y="66"/>
                </a:lnTo>
                <a:lnTo>
                  <a:pt x="173" y="53"/>
                </a:lnTo>
                <a:lnTo>
                  <a:pt x="175" y="37"/>
                </a:lnTo>
                <a:lnTo>
                  <a:pt x="177" y="25"/>
                </a:lnTo>
                <a:lnTo>
                  <a:pt x="181" y="12"/>
                </a:lnTo>
                <a:lnTo>
                  <a:pt x="184" y="0"/>
                </a:lnTo>
                <a:lnTo>
                  <a:pt x="186" y="6"/>
                </a:lnTo>
                <a:lnTo>
                  <a:pt x="186" y="8"/>
                </a:lnTo>
                <a:close/>
              </a:path>
            </a:pathLst>
          </a:custGeom>
          <a:solidFill>
            <a:srgbClr val="cc2e17"/>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27" name=""/>
          <p:cNvSpPr/>
          <p:nvPr/>
        </p:nvSpPr>
        <p:spPr>
          <a:xfrm>
            <a:off x="3581280" y="3492360"/>
            <a:ext cx="63720" cy="86040"/>
          </a:xfrm>
          <a:custGeom>
            <a:avLst/>
            <a:gdLst/>
            <a:ahLst/>
            <a:rect l="l" t="t" r="r" b="b"/>
            <a:pathLst>
              <a:path w="79" h="109">
                <a:moveTo>
                  <a:pt x="79" y="0"/>
                </a:moveTo>
                <a:lnTo>
                  <a:pt x="62" y="8"/>
                </a:lnTo>
                <a:lnTo>
                  <a:pt x="50" y="18"/>
                </a:lnTo>
                <a:lnTo>
                  <a:pt x="39" y="29"/>
                </a:lnTo>
                <a:lnTo>
                  <a:pt x="31" y="43"/>
                </a:lnTo>
                <a:lnTo>
                  <a:pt x="19" y="56"/>
                </a:lnTo>
                <a:lnTo>
                  <a:pt x="14" y="72"/>
                </a:lnTo>
                <a:lnTo>
                  <a:pt x="6" y="89"/>
                </a:lnTo>
                <a:lnTo>
                  <a:pt x="0" y="109"/>
                </a:lnTo>
                <a:lnTo>
                  <a:pt x="0" y="91"/>
                </a:lnTo>
                <a:lnTo>
                  <a:pt x="0" y="80"/>
                </a:lnTo>
                <a:lnTo>
                  <a:pt x="2" y="66"/>
                </a:lnTo>
                <a:lnTo>
                  <a:pt x="6" y="56"/>
                </a:lnTo>
                <a:lnTo>
                  <a:pt x="10" y="45"/>
                </a:lnTo>
                <a:lnTo>
                  <a:pt x="15" y="33"/>
                </a:lnTo>
                <a:lnTo>
                  <a:pt x="21" y="22"/>
                </a:lnTo>
                <a:lnTo>
                  <a:pt x="29" y="12"/>
                </a:lnTo>
                <a:lnTo>
                  <a:pt x="39" y="16"/>
                </a:lnTo>
                <a:lnTo>
                  <a:pt x="54" y="12"/>
                </a:lnTo>
                <a:lnTo>
                  <a:pt x="66" y="4"/>
                </a:lnTo>
                <a:lnTo>
                  <a:pt x="79" y="0"/>
                </a:lnTo>
                <a:close/>
              </a:path>
            </a:pathLst>
          </a:custGeom>
          <a:solidFill>
            <a:srgbClr val="e66e5c"/>
          </a:solidFill>
          <a:ln w="0">
            <a:noFill/>
          </a:ln>
        </p:spPr>
        <p:style>
          <a:lnRef idx="0"/>
          <a:fillRef idx="0"/>
          <a:effectRef idx="0"/>
          <a:fontRef idx="minor"/>
        </p:style>
        <p:txBody>
          <a:bodyPr lIns="90000" rIns="90000" tIns="39240" bIns="39240" anchor="t">
            <a:noAutofit/>
          </a:bodyPr>
          <a:p>
            <a:endParaRPr b="0" lang="en-US" sz="2400" spc="-1" strike="noStrike">
              <a:solidFill>
                <a:srgbClr val="ffff66"/>
              </a:solidFill>
              <a:latin typeface="Times New Roman"/>
            </a:endParaRPr>
          </a:p>
        </p:txBody>
      </p:sp>
      <p:sp>
        <p:nvSpPr>
          <p:cNvPr id="128" name=""/>
          <p:cNvSpPr/>
          <p:nvPr/>
        </p:nvSpPr>
        <p:spPr>
          <a:xfrm>
            <a:off x="3427560" y="3124080"/>
            <a:ext cx="255600" cy="357480"/>
          </a:xfrm>
          <a:custGeom>
            <a:avLst/>
            <a:gdLst/>
            <a:ahLst/>
            <a:rect l="l" t="t" r="r" b="b"/>
            <a:pathLst>
              <a:path w="324" h="450">
                <a:moveTo>
                  <a:pt x="289" y="370"/>
                </a:moveTo>
                <a:lnTo>
                  <a:pt x="277" y="364"/>
                </a:lnTo>
                <a:lnTo>
                  <a:pt x="274" y="357"/>
                </a:lnTo>
                <a:lnTo>
                  <a:pt x="272" y="343"/>
                </a:lnTo>
                <a:lnTo>
                  <a:pt x="275" y="328"/>
                </a:lnTo>
                <a:lnTo>
                  <a:pt x="275" y="316"/>
                </a:lnTo>
                <a:lnTo>
                  <a:pt x="279" y="306"/>
                </a:lnTo>
                <a:lnTo>
                  <a:pt x="281" y="295"/>
                </a:lnTo>
                <a:lnTo>
                  <a:pt x="285" y="285"/>
                </a:lnTo>
                <a:lnTo>
                  <a:pt x="289" y="271"/>
                </a:lnTo>
                <a:lnTo>
                  <a:pt x="293" y="260"/>
                </a:lnTo>
                <a:lnTo>
                  <a:pt x="297" y="248"/>
                </a:lnTo>
                <a:lnTo>
                  <a:pt x="303" y="236"/>
                </a:lnTo>
                <a:lnTo>
                  <a:pt x="305" y="221"/>
                </a:lnTo>
                <a:lnTo>
                  <a:pt x="308" y="207"/>
                </a:lnTo>
                <a:lnTo>
                  <a:pt x="312" y="194"/>
                </a:lnTo>
                <a:lnTo>
                  <a:pt x="316" y="180"/>
                </a:lnTo>
                <a:lnTo>
                  <a:pt x="318" y="165"/>
                </a:lnTo>
                <a:lnTo>
                  <a:pt x="320" y="153"/>
                </a:lnTo>
                <a:lnTo>
                  <a:pt x="322" y="138"/>
                </a:lnTo>
                <a:lnTo>
                  <a:pt x="324" y="126"/>
                </a:lnTo>
                <a:lnTo>
                  <a:pt x="324" y="110"/>
                </a:lnTo>
                <a:lnTo>
                  <a:pt x="324" y="97"/>
                </a:lnTo>
                <a:lnTo>
                  <a:pt x="322" y="85"/>
                </a:lnTo>
                <a:lnTo>
                  <a:pt x="320" y="74"/>
                </a:lnTo>
                <a:lnTo>
                  <a:pt x="316" y="60"/>
                </a:lnTo>
                <a:lnTo>
                  <a:pt x="312" y="48"/>
                </a:lnTo>
                <a:lnTo>
                  <a:pt x="306" y="39"/>
                </a:lnTo>
                <a:lnTo>
                  <a:pt x="301" y="29"/>
                </a:lnTo>
                <a:lnTo>
                  <a:pt x="293" y="17"/>
                </a:lnTo>
                <a:lnTo>
                  <a:pt x="277" y="11"/>
                </a:lnTo>
                <a:lnTo>
                  <a:pt x="266" y="8"/>
                </a:lnTo>
                <a:lnTo>
                  <a:pt x="254" y="6"/>
                </a:lnTo>
                <a:lnTo>
                  <a:pt x="241" y="4"/>
                </a:lnTo>
                <a:lnTo>
                  <a:pt x="227" y="4"/>
                </a:lnTo>
                <a:lnTo>
                  <a:pt x="211" y="2"/>
                </a:lnTo>
                <a:lnTo>
                  <a:pt x="198" y="0"/>
                </a:lnTo>
                <a:lnTo>
                  <a:pt x="184" y="0"/>
                </a:lnTo>
                <a:lnTo>
                  <a:pt x="173" y="0"/>
                </a:lnTo>
                <a:lnTo>
                  <a:pt x="159" y="0"/>
                </a:lnTo>
                <a:lnTo>
                  <a:pt x="149" y="0"/>
                </a:lnTo>
                <a:lnTo>
                  <a:pt x="142" y="2"/>
                </a:lnTo>
                <a:lnTo>
                  <a:pt x="138" y="4"/>
                </a:lnTo>
                <a:lnTo>
                  <a:pt x="130" y="4"/>
                </a:lnTo>
                <a:lnTo>
                  <a:pt x="114" y="11"/>
                </a:lnTo>
                <a:lnTo>
                  <a:pt x="103" y="15"/>
                </a:lnTo>
                <a:lnTo>
                  <a:pt x="93" y="21"/>
                </a:lnTo>
                <a:lnTo>
                  <a:pt x="82" y="27"/>
                </a:lnTo>
                <a:lnTo>
                  <a:pt x="70" y="33"/>
                </a:lnTo>
                <a:lnTo>
                  <a:pt x="56" y="37"/>
                </a:lnTo>
                <a:lnTo>
                  <a:pt x="45" y="43"/>
                </a:lnTo>
                <a:lnTo>
                  <a:pt x="33" y="48"/>
                </a:lnTo>
                <a:lnTo>
                  <a:pt x="23" y="54"/>
                </a:lnTo>
                <a:lnTo>
                  <a:pt x="6" y="60"/>
                </a:lnTo>
                <a:lnTo>
                  <a:pt x="0" y="66"/>
                </a:lnTo>
                <a:lnTo>
                  <a:pt x="14" y="70"/>
                </a:lnTo>
                <a:lnTo>
                  <a:pt x="33" y="79"/>
                </a:lnTo>
                <a:lnTo>
                  <a:pt x="50" y="85"/>
                </a:lnTo>
                <a:lnTo>
                  <a:pt x="66" y="89"/>
                </a:lnTo>
                <a:lnTo>
                  <a:pt x="72" y="97"/>
                </a:lnTo>
                <a:lnTo>
                  <a:pt x="70" y="106"/>
                </a:lnTo>
                <a:lnTo>
                  <a:pt x="60" y="114"/>
                </a:lnTo>
                <a:lnTo>
                  <a:pt x="50" y="124"/>
                </a:lnTo>
                <a:lnTo>
                  <a:pt x="35" y="130"/>
                </a:lnTo>
                <a:lnTo>
                  <a:pt x="23" y="136"/>
                </a:lnTo>
                <a:lnTo>
                  <a:pt x="16" y="141"/>
                </a:lnTo>
                <a:lnTo>
                  <a:pt x="14" y="147"/>
                </a:lnTo>
                <a:lnTo>
                  <a:pt x="18" y="147"/>
                </a:lnTo>
                <a:lnTo>
                  <a:pt x="27" y="149"/>
                </a:lnTo>
                <a:lnTo>
                  <a:pt x="37" y="149"/>
                </a:lnTo>
                <a:lnTo>
                  <a:pt x="50" y="151"/>
                </a:lnTo>
                <a:lnTo>
                  <a:pt x="64" y="151"/>
                </a:lnTo>
                <a:lnTo>
                  <a:pt x="82" y="151"/>
                </a:lnTo>
                <a:lnTo>
                  <a:pt x="99" y="151"/>
                </a:lnTo>
                <a:lnTo>
                  <a:pt x="116" y="151"/>
                </a:lnTo>
                <a:lnTo>
                  <a:pt x="132" y="151"/>
                </a:lnTo>
                <a:lnTo>
                  <a:pt x="149" y="151"/>
                </a:lnTo>
                <a:lnTo>
                  <a:pt x="165" y="151"/>
                </a:lnTo>
                <a:lnTo>
                  <a:pt x="182" y="153"/>
                </a:lnTo>
                <a:lnTo>
                  <a:pt x="196" y="155"/>
                </a:lnTo>
                <a:lnTo>
                  <a:pt x="210" y="159"/>
                </a:lnTo>
                <a:lnTo>
                  <a:pt x="221" y="165"/>
                </a:lnTo>
                <a:lnTo>
                  <a:pt x="231" y="172"/>
                </a:lnTo>
                <a:lnTo>
                  <a:pt x="248" y="188"/>
                </a:lnTo>
                <a:lnTo>
                  <a:pt x="262" y="205"/>
                </a:lnTo>
                <a:lnTo>
                  <a:pt x="270" y="221"/>
                </a:lnTo>
                <a:lnTo>
                  <a:pt x="275" y="236"/>
                </a:lnTo>
                <a:lnTo>
                  <a:pt x="275" y="250"/>
                </a:lnTo>
                <a:lnTo>
                  <a:pt x="274" y="264"/>
                </a:lnTo>
                <a:lnTo>
                  <a:pt x="268" y="277"/>
                </a:lnTo>
                <a:lnTo>
                  <a:pt x="264" y="293"/>
                </a:lnTo>
                <a:lnTo>
                  <a:pt x="254" y="304"/>
                </a:lnTo>
                <a:lnTo>
                  <a:pt x="244" y="318"/>
                </a:lnTo>
                <a:lnTo>
                  <a:pt x="235" y="331"/>
                </a:lnTo>
                <a:lnTo>
                  <a:pt x="227" y="349"/>
                </a:lnTo>
                <a:lnTo>
                  <a:pt x="219" y="364"/>
                </a:lnTo>
                <a:lnTo>
                  <a:pt x="215" y="382"/>
                </a:lnTo>
                <a:lnTo>
                  <a:pt x="213" y="390"/>
                </a:lnTo>
                <a:lnTo>
                  <a:pt x="213" y="399"/>
                </a:lnTo>
                <a:lnTo>
                  <a:pt x="213" y="411"/>
                </a:lnTo>
                <a:lnTo>
                  <a:pt x="215" y="423"/>
                </a:lnTo>
                <a:lnTo>
                  <a:pt x="219" y="432"/>
                </a:lnTo>
                <a:lnTo>
                  <a:pt x="225" y="442"/>
                </a:lnTo>
                <a:lnTo>
                  <a:pt x="229" y="446"/>
                </a:lnTo>
                <a:lnTo>
                  <a:pt x="233" y="450"/>
                </a:lnTo>
                <a:lnTo>
                  <a:pt x="237" y="450"/>
                </a:lnTo>
                <a:lnTo>
                  <a:pt x="244" y="444"/>
                </a:lnTo>
                <a:lnTo>
                  <a:pt x="254" y="424"/>
                </a:lnTo>
                <a:lnTo>
                  <a:pt x="266" y="407"/>
                </a:lnTo>
                <a:lnTo>
                  <a:pt x="277" y="388"/>
                </a:lnTo>
                <a:lnTo>
                  <a:pt x="289" y="370"/>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29" name=""/>
          <p:cNvSpPr/>
          <p:nvPr/>
        </p:nvSpPr>
        <p:spPr>
          <a:xfrm>
            <a:off x="3471840" y="3135240"/>
            <a:ext cx="196920" cy="144360"/>
          </a:xfrm>
          <a:custGeom>
            <a:avLst/>
            <a:gdLst/>
            <a:ahLst/>
            <a:rect l="l" t="t" r="r" b="b"/>
            <a:pathLst>
              <a:path w="249" h="183">
                <a:moveTo>
                  <a:pt x="154" y="121"/>
                </a:moveTo>
                <a:lnTo>
                  <a:pt x="136" y="117"/>
                </a:lnTo>
                <a:lnTo>
                  <a:pt x="119" y="117"/>
                </a:lnTo>
                <a:lnTo>
                  <a:pt x="107" y="117"/>
                </a:lnTo>
                <a:lnTo>
                  <a:pt x="97" y="119"/>
                </a:lnTo>
                <a:lnTo>
                  <a:pt x="86" y="121"/>
                </a:lnTo>
                <a:lnTo>
                  <a:pt x="76" y="123"/>
                </a:lnTo>
                <a:lnTo>
                  <a:pt x="64" y="123"/>
                </a:lnTo>
                <a:lnTo>
                  <a:pt x="53" y="125"/>
                </a:lnTo>
                <a:lnTo>
                  <a:pt x="41" y="126"/>
                </a:lnTo>
                <a:lnTo>
                  <a:pt x="31" y="128"/>
                </a:lnTo>
                <a:lnTo>
                  <a:pt x="14" y="130"/>
                </a:lnTo>
                <a:lnTo>
                  <a:pt x="0" y="132"/>
                </a:lnTo>
                <a:lnTo>
                  <a:pt x="14" y="119"/>
                </a:lnTo>
                <a:lnTo>
                  <a:pt x="27" y="107"/>
                </a:lnTo>
                <a:lnTo>
                  <a:pt x="37" y="97"/>
                </a:lnTo>
                <a:lnTo>
                  <a:pt x="43" y="88"/>
                </a:lnTo>
                <a:lnTo>
                  <a:pt x="43" y="78"/>
                </a:lnTo>
                <a:lnTo>
                  <a:pt x="37" y="70"/>
                </a:lnTo>
                <a:lnTo>
                  <a:pt x="29" y="64"/>
                </a:lnTo>
                <a:lnTo>
                  <a:pt x="24" y="61"/>
                </a:lnTo>
                <a:lnTo>
                  <a:pt x="14" y="57"/>
                </a:lnTo>
                <a:lnTo>
                  <a:pt x="4" y="53"/>
                </a:lnTo>
                <a:lnTo>
                  <a:pt x="14" y="47"/>
                </a:lnTo>
                <a:lnTo>
                  <a:pt x="27" y="43"/>
                </a:lnTo>
                <a:lnTo>
                  <a:pt x="41" y="39"/>
                </a:lnTo>
                <a:lnTo>
                  <a:pt x="57" y="35"/>
                </a:lnTo>
                <a:lnTo>
                  <a:pt x="70" y="31"/>
                </a:lnTo>
                <a:lnTo>
                  <a:pt x="86" y="28"/>
                </a:lnTo>
                <a:lnTo>
                  <a:pt x="97" y="22"/>
                </a:lnTo>
                <a:lnTo>
                  <a:pt x="109" y="18"/>
                </a:lnTo>
                <a:lnTo>
                  <a:pt x="115" y="12"/>
                </a:lnTo>
                <a:lnTo>
                  <a:pt x="128" y="6"/>
                </a:lnTo>
                <a:lnTo>
                  <a:pt x="144" y="2"/>
                </a:lnTo>
                <a:lnTo>
                  <a:pt x="163" y="0"/>
                </a:lnTo>
                <a:lnTo>
                  <a:pt x="181" y="0"/>
                </a:lnTo>
                <a:lnTo>
                  <a:pt x="200" y="6"/>
                </a:lnTo>
                <a:lnTo>
                  <a:pt x="216" y="14"/>
                </a:lnTo>
                <a:lnTo>
                  <a:pt x="233" y="31"/>
                </a:lnTo>
                <a:lnTo>
                  <a:pt x="243" y="49"/>
                </a:lnTo>
                <a:lnTo>
                  <a:pt x="249" y="66"/>
                </a:lnTo>
                <a:lnTo>
                  <a:pt x="249" y="74"/>
                </a:lnTo>
                <a:lnTo>
                  <a:pt x="249" y="86"/>
                </a:lnTo>
                <a:lnTo>
                  <a:pt x="247" y="95"/>
                </a:lnTo>
                <a:lnTo>
                  <a:pt x="247" y="111"/>
                </a:lnTo>
                <a:lnTo>
                  <a:pt x="241" y="121"/>
                </a:lnTo>
                <a:lnTo>
                  <a:pt x="241" y="126"/>
                </a:lnTo>
                <a:lnTo>
                  <a:pt x="239" y="130"/>
                </a:lnTo>
                <a:lnTo>
                  <a:pt x="239" y="134"/>
                </a:lnTo>
                <a:lnTo>
                  <a:pt x="237" y="138"/>
                </a:lnTo>
                <a:lnTo>
                  <a:pt x="237" y="148"/>
                </a:lnTo>
                <a:lnTo>
                  <a:pt x="235" y="154"/>
                </a:lnTo>
                <a:lnTo>
                  <a:pt x="233" y="161"/>
                </a:lnTo>
                <a:lnTo>
                  <a:pt x="231" y="169"/>
                </a:lnTo>
                <a:lnTo>
                  <a:pt x="229" y="183"/>
                </a:lnTo>
                <a:lnTo>
                  <a:pt x="227" y="173"/>
                </a:lnTo>
                <a:lnTo>
                  <a:pt x="225" y="163"/>
                </a:lnTo>
                <a:lnTo>
                  <a:pt x="221" y="152"/>
                </a:lnTo>
                <a:lnTo>
                  <a:pt x="219" y="144"/>
                </a:lnTo>
                <a:lnTo>
                  <a:pt x="212" y="132"/>
                </a:lnTo>
                <a:lnTo>
                  <a:pt x="206" y="126"/>
                </a:lnTo>
                <a:lnTo>
                  <a:pt x="192" y="121"/>
                </a:lnTo>
                <a:lnTo>
                  <a:pt x="181" y="123"/>
                </a:lnTo>
                <a:lnTo>
                  <a:pt x="192" y="105"/>
                </a:lnTo>
                <a:lnTo>
                  <a:pt x="202" y="95"/>
                </a:lnTo>
                <a:lnTo>
                  <a:pt x="204" y="86"/>
                </a:lnTo>
                <a:lnTo>
                  <a:pt x="206" y="80"/>
                </a:lnTo>
                <a:lnTo>
                  <a:pt x="202" y="70"/>
                </a:lnTo>
                <a:lnTo>
                  <a:pt x="198" y="62"/>
                </a:lnTo>
                <a:lnTo>
                  <a:pt x="179" y="61"/>
                </a:lnTo>
                <a:lnTo>
                  <a:pt x="161" y="59"/>
                </a:lnTo>
                <a:lnTo>
                  <a:pt x="144" y="61"/>
                </a:lnTo>
                <a:lnTo>
                  <a:pt x="128" y="70"/>
                </a:lnTo>
                <a:lnTo>
                  <a:pt x="113" y="84"/>
                </a:lnTo>
                <a:lnTo>
                  <a:pt x="103" y="97"/>
                </a:lnTo>
                <a:lnTo>
                  <a:pt x="103" y="101"/>
                </a:lnTo>
                <a:lnTo>
                  <a:pt x="111" y="107"/>
                </a:lnTo>
                <a:lnTo>
                  <a:pt x="115" y="107"/>
                </a:lnTo>
                <a:lnTo>
                  <a:pt x="122" y="109"/>
                </a:lnTo>
                <a:lnTo>
                  <a:pt x="134" y="109"/>
                </a:lnTo>
                <a:lnTo>
                  <a:pt x="148" y="111"/>
                </a:lnTo>
                <a:lnTo>
                  <a:pt x="150" y="115"/>
                </a:lnTo>
                <a:lnTo>
                  <a:pt x="154" y="121"/>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30" name=""/>
          <p:cNvSpPr/>
          <p:nvPr/>
        </p:nvSpPr>
        <p:spPr>
          <a:xfrm>
            <a:off x="3533760" y="3141720"/>
            <a:ext cx="112680" cy="57240"/>
          </a:xfrm>
          <a:custGeom>
            <a:avLst/>
            <a:gdLst/>
            <a:ahLst/>
            <a:rect l="l" t="t" r="r" b="b"/>
            <a:pathLst>
              <a:path w="141" h="74">
                <a:moveTo>
                  <a:pt x="141" y="37"/>
                </a:moveTo>
                <a:lnTo>
                  <a:pt x="138" y="20"/>
                </a:lnTo>
                <a:lnTo>
                  <a:pt x="130" y="10"/>
                </a:lnTo>
                <a:lnTo>
                  <a:pt x="118" y="2"/>
                </a:lnTo>
                <a:lnTo>
                  <a:pt x="106" y="0"/>
                </a:lnTo>
                <a:lnTo>
                  <a:pt x="91" y="0"/>
                </a:lnTo>
                <a:lnTo>
                  <a:pt x="77" y="4"/>
                </a:lnTo>
                <a:lnTo>
                  <a:pt x="64" y="8"/>
                </a:lnTo>
                <a:lnTo>
                  <a:pt x="54" y="18"/>
                </a:lnTo>
                <a:lnTo>
                  <a:pt x="44" y="27"/>
                </a:lnTo>
                <a:lnTo>
                  <a:pt x="29" y="47"/>
                </a:lnTo>
                <a:lnTo>
                  <a:pt x="13" y="62"/>
                </a:lnTo>
                <a:lnTo>
                  <a:pt x="0" y="70"/>
                </a:lnTo>
                <a:lnTo>
                  <a:pt x="0" y="74"/>
                </a:lnTo>
                <a:lnTo>
                  <a:pt x="10" y="72"/>
                </a:lnTo>
                <a:lnTo>
                  <a:pt x="19" y="68"/>
                </a:lnTo>
                <a:lnTo>
                  <a:pt x="21" y="66"/>
                </a:lnTo>
                <a:lnTo>
                  <a:pt x="25" y="66"/>
                </a:lnTo>
                <a:lnTo>
                  <a:pt x="33" y="60"/>
                </a:lnTo>
                <a:lnTo>
                  <a:pt x="48" y="54"/>
                </a:lnTo>
                <a:lnTo>
                  <a:pt x="56" y="51"/>
                </a:lnTo>
                <a:lnTo>
                  <a:pt x="68" y="49"/>
                </a:lnTo>
                <a:lnTo>
                  <a:pt x="77" y="45"/>
                </a:lnTo>
                <a:lnTo>
                  <a:pt x="89" y="45"/>
                </a:lnTo>
                <a:lnTo>
                  <a:pt x="106" y="39"/>
                </a:lnTo>
                <a:lnTo>
                  <a:pt x="124" y="37"/>
                </a:lnTo>
                <a:lnTo>
                  <a:pt x="136" y="35"/>
                </a:lnTo>
                <a:lnTo>
                  <a:pt x="141" y="37"/>
                </a:lnTo>
                <a:close/>
              </a:path>
            </a:pathLst>
          </a:custGeom>
          <a:solidFill>
            <a:srgbClr val="ffb39e"/>
          </a:solidFill>
          <a:ln w="0">
            <a:noFill/>
          </a:ln>
        </p:spPr>
        <p:style>
          <a:lnRef idx="0"/>
          <a:fillRef idx="0"/>
          <a:effectRef idx="0"/>
          <a:fontRef idx="minor"/>
        </p:style>
        <p:txBody>
          <a:bodyPr lIns="90000" rIns="90000" tIns="10440" bIns="10440" anchor="t">
            <a:noAutofit/>
          </a:bodyPr>
          <a:p>
            <a:endParaRPr b="0" lang="en-US" sz="2400" spc="-1" strike="noStrike">
              <a:solidFill>
                <a:srgbClr val="ffff66"/>
              </a:solidFill>
              <a:latin typeface="Times New Roman"/>
            </a:endParaRPr>
          </a:p>
        </p:txBody>
      </p:sp>
      <p:sp>
        <p:nvSpPr>
          <p:cNvPr id="131" name=""/>
          <p:cNvSpPr/>
          <p:nvPr/>
        </p:nvSpPr>
        <p:spPr>
          <a:xfrm>
            <a:off x="6124680" y="2849400"/>
            <a:ext cx="210960" cy="352440"/>
          </a:xfrm>
          <a:custGeom>
            <a:avLst/>
            <a:gdLst/>
            <a:ahLst/>
            <a:rect l="l" t="t" r="r" b="b"/>
            <a:pathLst>
              <a:path w="265" h="444">
                <a:moveTo>
                  <a:pt x="39" y="21"/>
                </a:moveTo>
                <a:lnTo>
                  <a:pt x="42" y="19"/>
                </a:lnTo>
                <a:lnTo>
                  <a:pt x="54" y="25"/>
                </a:lnTo>
                <a:lnTo>
                  <a:pt x="68" y="37"/>
                </a:lnTo>
                <a:lnTo>
                  <a:pt x="77" y="50"/>
                </a:lnTo>
                <a:lnTo>
                  <a:pt x="87" y="68"/>
                </a:lnTo>
                <a:lnTo>
                  <a:pt x="95" y="83"/>
                </a:lnTo>
                <a:lnTo>
                  <a:pt x="105" y="101"/>
                </a:lnTo>
                <a:lnTo>
                  <a:pt x="114" y="114"/>
                </a:lnTo>
                <a:lnTo>
                  <a:pt x="128" y="128"/>
                </a:lnTo>
                <a:lnTo>
                  <a:pt x="132" y="133"/>
                </a:lnTo>
                <a:lnTo>
                  <a:pt x="139" y="135"/>
                </a:lnTo>
                <a:lnTo>
                  <a:pt x="147" y="135"/>
                </a:lnTo>
                <a:lnTo>
                  <a:pt x="155" y="137"/>
                </a:lnTo>
                <a:lnTo>
                  <a:pt x="170" y="149"/>
                </a:lnTo>
                <a:lnTo>
                  <a:pt x="184" y="165"/>
                </a:lnTo>
                <a:lnTo>
                  <a:pt x="196" y="180"/>
                </a:lnTo>
                <a:lnTo>
                  <a:pt x="209" y="197"/>
                </a:lnTo>
                <a:lnTo>
                  <a:pt x="209" y="201"/>
                </a:lnTo>
                <a:lnTo>
                  <a:pt x="205" y="205"/>
                </a:lnTo>
                <a:lnTo>
                  <a:pt x="198" y="207"/>
                </a:lnTo>
                <a:lnTo>
                  <a:pt x="196" y="209"/>
                </a:lnTo>
                <a:lnTo>
                  <a:pt x="196" y="219"/>
                </a:lnTo>
                <a:lnTo>
                  <a:pt x="198" y="230"/>
                </a:lnTo>
                <a:lnTo>
                  <a:pt x="200" y="240"/>
                </a:lnTo>
                <a:lnTo>
                  <a:pt x="203" y="252"/>
                </a:lnTo>
                <a:lnTo>
                  <a:pt x="211" y="271"/>
                </a:lnTo>
                <a:lnTo>
                  <a:pt x="223" y="292"/>
                </a:lnTo>
                <a:lnTo>
                  <a:pt x="231" y="312"/>
                </a:lnTo>
                <a:lnTo>
                  <a:pt x="240" y="331"/>
                </a:lnTo>
                <a:lnTo>
                  <a:pt x="244" y="341"/>
                </a:lnTo>
                <a:lnTo>
                  <a:pt x="248" y="351"/>
                </a:lnTo>
                <a:lnTo>
                  <a:pt x="252" y="362"/>
                </a:lnTo>
                <a:lnTo>
                  <a:pt x="256" y="374"/>
                </a:lnTo>
                <a:lnTo>
                  <a:pt x="258" y="391"/>
                </a:lnTo>
                <a:lnTo>
                  <a:pt x="262" y="411"/>
                </a:lnTo>
                <a:lnTo>
                  <a:pt x="264" y="428"/>
                </a:lnTo>
                <a:lnTo>
                  <a:pt x="265" y="444"/>
                </a:lnTo>
                <a:lnTo>
                  <a:pt x="258" y="428"/>
                </a:lnTo>
                <a:lnTo>
                  <a:pt x="256" y="415"/>
                </a:lnTo>
                <a:lnTo>
                  <a:pt x="254" y="401"/>
                </a:lnTo>
                <a:lnTo>
                  <a:pt x="252" y="389"/>
                </a:lnTo>
                <a:lnTo>
                  <a:pt x="248" y="391"/>
                </a:lnTo>
                <a:lnTo>
                  <a:pt x="240" y="378"/>
                </a:lnTo>
                <a:lnTo>
                  <a:pt x="233" y="364"/>
                </a:lnTo>
                <a:lnTo>
                  <a:pt x="223" y="353"/>
                </a:lnTo>
                <a:lnTo>
                  <a:pt x="215" y="341"/>
                </a:lnTo>
                <a:lnTo>
                  <a:pt x="203" y="329"/>
                </a:lnTo>
                <a:lnTo>
                  <a:pt x="192" y="320"/>
                </a:lnTo>
                <a:lnTo>
                  <a:pt x="180" y="310"/>
                </a:lnTo>
                <a:lnTo>
                  <a:pt x="170" y="302"/>
                </a:lnTo>
                <a:lnTo>
                  <a:pt x="170" y="312"/>
                </a:lnTo>
                <a:lnTo>
                  <a:pt x="172" y="324"/>
                </a:lnTo>
                <a:lnTo>
                  <a:pt x="174" y="335"/>
                </a:lnTo>
                <a:lnTo>
                  <a:pt x="178" y="349"/>
                </a:lnTo>
                <a:lnTo>
                  <a:pt x="178" y="360"/>
                </a:lnTo>
                <a:lnTo>
                  <a:pt x="180" y="372"/>
                </a:lnTo>
                <a:lnTo>
                  <a:pt x="182" y="384"/>
                </a:lnTo>
                <a:lnTo>
                  <a:pt x="184" y="397"/>
                </a:lnTo>
                <a:lnTo>
                  <a:pt x="178" y="380"/>
                </a:lnTo>
                <a:lnTo>
                  <a:pt x="174" y="364"/>
                </a:lnTo>
                <a:lnTo>
                  <a:pt x="169" y="349"/>
                </a:lnTo>
                <a:lnTo>
                  <a:pt x="165" y="333"/>
                </a:lnTo>
                <a:lnTo>
                  <a:pt x="157" y="318"/>
                </a:lnTo>
                <a:lnTo>
                  <a:pt x="151" y="302"/>
                </a:lnTo>
                <a:lnTo>
                  <a:pt x="145" y="287"/>
                </a:lnTo>
                <a:lnTo>
                  <a:pt x="139" y="273"/>
                </a:lnTo>
                <a:lnTo>
                  <a:pt x="132" y="256"/>
                </a:lnTo>
                <a:lnTo>
                  <a:pt x="124" y="242"/>
                </a:lnTo>
                <a:lnTo>
                  <a:pt x="116" y="227"/>
                </a:lnTo>
                <a:lnTo>
                  <a:pt x="108" y="213"/>
                </a:lnTo>
                <a:lnTo>
                  <a:pt x="99" y="197"/>
                </a:lnTo>
                <a:lnTo>
                  <a:pt x="91" y="184"/>
                </a:lnTo>
                <a:lnTo>
                  <a:pt x="83" y="170"/>
                </a:lnTo>
                <a:lnTo>
                  <a:pt x="75" y="159"/>
                </a:lnTo>
                <a:lnTo>
                  <a:pt x="62" y="143"/>
                </a:lnTo>
                <a:lnTo>
                  <a:pt x="48" y="130"/>
                </a:lnTo>
                <a:lnTo>
                  <a:pt x="33" y="116"/>
                </a:lnTo>
                <a:lnTo>
                  <a:pt x="23" y="102"/>
                </a:lnTo>
                <a:lnTo>
                  <a:pt x="31" y="91"/>
                </a:lnTo>
                <a:lnTo>
                  <a:pt x="31" y="79"/>
                </a:lnTo>
                <a:lnTo>
                  <a:pt x="19" y="68"/>
                </a:lnTo>
                <a:lnTo>
                  <a:pt x="31" y="66"/>
                </a:lnTo>
                <a:lnTo>
                  <a:pt x="44" y="77"/>
                </a:lnTo>
                <a:lnTo>
                  <a:pt x="56" y="89"/>
                </a:lnTo>
                <a:lnTo>
                  <a:pt x="72" y="97"/>
                </a:lnTo>
                <a:lnTo>
                  <a:pt x="66" y="79"/>
                </a:lnTo>
                <a:lnTo>
                  <a:pt x="60" y="66"/>
                </a:lnTo>
                <a:lnTo>
                  <a:pt x="50" y="54"/>
                </a:lnTo>
                <a:lnTo>
                  <a:pt x="41" y="42"/>
                </a:lnTo>
                <a:lnTo>
                  <a:pt x="29" y="31"/>
                </a:lnTo>
                <a:lnTo>
                  <a:pt x="17" y="21"/>
                </a:lnTo>
                <a:lnTo>
                  <a:pt x="6" y="9"/>
                </a:lnTo>
                <a:lnTo>
                  <a:pt x="0" y="0"/>
                </a:lnTo>
                <a:lnTo>
                  <a:pt x="11" y="0"/>
                </a:lnTo>
                <a:lnTo>
                  <a:pt x="23" y="4"/>
                </a:lnTo>
                <a:lnTo>
                  <a:pt x="31" y="9"/>
                </a:lnTo>
                <a:lnTo>
                  <a:pt x="39"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32" name=""/>
          <p:cNvSpPr/>
          <p:nvPr/>
        </p:nvSpPr>
        <p:spPr>
          <a:xfrm>
            <a:off x="5910120" y="2928960"/>
            <a:ext cx="122400" cy="277920"/>
          </a:xfrm>
          <a:custGeom>
            <a:avLst/>
            <a:gdLst/>
            <a:ahLst/>
            <a:rect l="l" t="t" r="r" b="b"/>
            <a:pathLst>
              <a:path w="155" h="351">
                <a:moveTo>
                  <a:pt x="140" y="133"/>
                </a:moveTo>
                <a:lnTo>
                  <a:pt x="138" y="145"/>
                </a:lnTo>
                <a:lnTo>
                  <a:pt x="138" y="159"/>
                </a:lnTo>
                <a:lnTo>
                  <a:pt x="140" y="172"/>
                </a:lnTo>
                <a:lnTo>
                  <a:pt x="142" y="188"/>
                </a:lnTo>
                <a:lnTo>
                  <a:pt x="142" y="199"/>
                </a:lnTo>
                <a:lnTo>
                  <a:pt x="146" y="213"/>
                </a:lnTo>
                <a:lnTo>
                  <a:pt x="146" y="226"/>
                </a:lnTo>
                <a:lnTo>
                  <a:pt x="150" y="242"/>
                </a:lnTo>
                <a:lnTo>
                  <a:pt x="150" y="254"/>
                </a:lnTo>
                <a:lnTo>
                  <a:pt x="152" y="267"/>
                </a:lnTo>
                <a:lnTo>
                  <a:pt x="153" y="281"/>
                </a:lnTo>
                <a:lnTo>
                  <a:pt x="155" y="294"/>
                </a:lnTo>
                <a:lnTo>
                  <a:pt x="153" y="308"/>
                </a:lnTo>
                <a:lnTo>
                  <a:pt x="153" y="321"/>
                </a:lnTo>
                <a:lnTo>
                  <a:pt x="153" y="335"/>
                </a:lnTo>
                <a:lnTo>
                  <a:pt x="153" y="351"/>
                </a:lnTo>
                <a:lnTo>
                  <a:pt x="146" y="333"/>
                </a:lnTo>
                <a:lnTo>
                  <a:pt x="140" y="316"/>
                </a:lnTo>
                <a:lnTo>
                  <a:pt x="136" y="296"/>
                </a:lnTo>
                <a:lnTo>
                  <a:pt x="134" y="279"/>
                </a:lnTo>
                <a:lnTo>
                  <a:pt x="132" y="259"/>
                </a:lnTo>
                <a:lnTo>
                  <a:pt x="130" y="242"/>
                </a:lnTo>
                <a:lnTo>
                  <a:pt x="128" y="225"/>
                </a:lnTo>
                <a:lnTo>
                  <a:pt x="128" y="209"/>
                </a:lnTo>
                <a:lnTo>
                  <a:pt x="122" y="192"/>
                </a:lnTo>
                <a:lnTo>
                  <a:pt x="117" y="178"/>
                </a:lnTo>
                <a:lnTo>
                  <a:pt x="109" y="162"/>
                </a:lnTo>
                <a:lnTo>
                  <a:pt x="103" y="149"/>
                </a:lnTo>
                <a:lnTo>
                  <a:pt x="95" y="133"/>
                </a:lnTo>
                <a:lnTo>
                  <a:pt x="88" y="120"/>
                </a:lnTo>
                <a:lnTo>
                  <a:pt x="82" y="104"/>
                </a:lnTo>
                <a:lnTo>
                  <a:pt x="78" y="93"/>
                </a:lnTo>
                <a:lnTo>
                  <a:pt x="74" y="95"/>
                </a:lnTo>
                <a:lnTo>
                  <a:pt x="62" y="81"/>
                </a:lnTo>
                <a:lnTo>
                  <a:pt x="53" y="69"/>
                </a:lnTo>
                <a:lnTo>
                  <a:pt x="43" y="58"/>
                </a:lnTo>
                <a:lnTo>
                  <a:pt x="33" y="46"/>
                </a:lnTo>
                <a:lnTo>
                  <a:pt x="24" y="34"/>
                </a:lnTo>
                <a:lnTo>
                  <a:pt x="14" y="23"/>
                </a:lnTo>
                <a:lnTo>
                  <a:pt x="6" y="11"/>
                </a:lnTo>
                <a:lnTo>
                  <a:pt x="0" y="0"/>
                </a:lnTo>
                <a:lnTo>
                  <a:pt x="20" y="9"/>
                </a:lnTo>
                <a:lnTo>
                  <a:pt x="41" y="21"/>
                </a:lnTo>
                <a:lnTo>
                  <a:pt x="60" y="36"/>
                </a:lnTo>
                <a:lnTo>
                  <a:pt x="82" y="54"/>
                </a:lnTo>
                <a:lnTo>
                  <a:pt x="97" y="71"/>
                </a:lnTo>
                <a:lnTo>
                  <a:pt x="115" y="93"/>
                </a:lnTo>
                <a:lnTo>
                  <a:pt x="126" y="112"/>
                </a:lnTo>
                <a:lnTo>
                  <a:pt x="140"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33" name=""/>
          <p:cNvSpPr/>
          <p:nvPr/>
        </p:nvSpPr>
        <p:spPr>
          <a:xfrm>
            <a:off x="5500800" y="2955960"/>
            <a:ext cx="785880" cy="1025640"/>
          </a:xfrm>
          <a:custGeom>
            <a:avLst/>
            <a:gdLst/>
            <a:ahLst/>
            <a:rect l="l" t="t" r="r" b="b"/>
            <a:pathLst>
              <a:path w="991" h="1292">
                <a:moveTo>
                  <a:pt x="291" y="132"/>
                </a:moveTo>
                <a:lnTo>
                  <a:pt x="297" y="142"/>
                </a:lnTo>
                <a:lnTo>
                  <a:pt x="305" y="152"/>
                </a:lnTo>
                <a:lnTo>
                  <a:pt x="313" y="163"/>
                </a:lnTo>
                <a:lnTo>
                  <a:pt x="320" y="175"/>
                </a:lnTo>
                <a:lnTo>
                  <a:pt x="328" y="185"/>
                </a:lnTo>
                <a:lnTo>
                  <a:pt x="338" y="196"/>
                </a:lnTo>
                <a:lnTo>
                  <a:pt x="346" y="206"/>
                </a:lnTo>
                <a:lnTo>
                  <a:pt x="355" y="218"/>
                </a:lnTo>
                <a:lnTo>
                  <a:pt x="373" y="237"/>
                </a:lnTo>
                <a:lnTo>
                  <a:pt x="394" y="258"/>
                </a:lnTo>
                <a:lnTo>
                  <a:pt x="404" y="266"/>
                </a:lnTo>
                <a:lnTo>
                  <a:pt x="415" y="274"/>
                </a:lnTo>
                <a:lnTo>
                  <a:pt x="427" y="282"/>
                </a:lnTo>
                <a:lnTo>
                  <a:pt x="439" y="291"/>
                </a:lnTo>
                <a:lnTo>
                  <a:pt x="452" y="307"/>
                </a:lnTo>
                <a:lnTo>
                  <a:pt x="466" y="328"/>
                </a:lnTo>
                <a:lnTo>
                  <a:pt x="477" y="348"/>
                </a:lnTo>
                <a:lnTo>
                  <a:pt x="491" y="367"/>
                </a:lnTo>
                <a:lnTo>
                  <a:pt x="507" y="386"/>
                </a:lnTo>
                <a:lnTo>
                  <a:pt x="524" y="406"/>
                </a:lnTo>
                <a:lnTo>
                  <a:pt x="543" y="423"/>
                </a:lnTo>
                <a:lnTo>
                  <a:pt x="565" y="443"/>
                </a:lnTo>
                <a:lnTo>
                  <a:pt x="584" y="458"/>
                </a:lnTo>
                <a:lnTo>
                  <a:pt x="605" y="476"/>
                </a:lnTo>
                <a:lnTo>
                  <a:pt x="625" y="493"/>
                </a:lnTo>
                <a:lnTo>
                  <a:pt x="646" y="510"/>
                </a:lnTo>
                <a:lnTo>
                  <a:pt x="658" y="514"/>
                </a:lnTo>
                <a:lnTo>
                  <a:pt x="669" y="520"/>
                </a:lnTo>
                <a:lnTo>
                  <a:pt x="681" y="524"/>
                </a:lnTo>
                <a:lnTo>
                  <a:pt x="695" y="530"/>
                </a:lnTo>
                <a:lnTo>
                  <a:pt x="706" y="534"/>
                </a:lnTo>
                <a:lnTo>
                  <a:pt x="718" y="540"/>
                </a:lnTo>
                <a:lnTo>
                  <a:pt x="730" y="541"/>
                </a:lnTo>
                <a:lnTo>
                  <a:pt x="741" y="545"/>
                </a:lnTo>
                <a:lnTo>
                  <a:pt x="745" y="549"/>
                </a:lnTo>
                <a:lnTo>
                  <a:pt x="755" y="555"/>
                </a:lnTo>
                <a:lnTo>
                  <a:pt x="765" y="561"/>
                </a:lnTo>
                <a:lnTo>
                  <a:pt x="774" y="567"/>
                </a:lnTo>
                <a:lnTo>
                  <a:pt x="782" y="569"/>
                </a:lnTo>
                <a:lnTo>
                  <a:pt x="794" y="574"/>
                </a:lnTo>
                <a:lnTo>
                  <a:pt x="801" y="576"/>
                </a:lnTo>
                <a:lnTo>
                  <a:pt x="813" y="572"/>
                </a:lnTo>
                <a:lnTo>
                  <a:pt x="815" y="561"/>
                </a:lnTo>
                <a:lnTo>
                  <a:pt x="813" y="551"/>
                </a:lnTo>
                <a:lnTo>
                  <a:pt x="811" y="541"/>
                </a:lnTo>
                <a:lnTo>
                  <a:pt x="817" y="536"/>
                </a:lnTo>
                <a:lnTo>
                  <a:pt x="813" y="524"/>
                </a:lnTo>
                <a:lnTo>
                  <a:pt x="803" y="516"/>
                </a:lnTo>
                <a:lnTo>
                  <a:pt x="794" y="507"/>
                </a:lnTo>
                <a:lnTo>
                  <a:pt x="792" y="497"/>
                </a:lnTo>
                <a:lnTo>
                  <a:pt x="809" y="507"/>
                </a:lnTo>
                <a:lnTo>
                  <a:pt x="829" y="518"/>
                </a:lnTo>
                <a:lnTo>
                  <a:pt x="838" y="522"/>
                </a:lnTo>
                <a:lnTo>
                  <a:pt x="848" y="526"/>
                </a:lnTo>
                <a:lnTo>
                  <a:pt x="860" y="528"/>
                </a:lnTo>
                <a:lnTo>
                  <a:pt x="871" y="530"/>
                </a:lnTo>
                <a:lnTo>
                  <a:pt x="875" y="524"/>
                </a:lnTo>
                <a:lnTo>
                  <a:pt x="875" y="518"/>
                </a:lnTo>
                <a:lnTo>
                  <a:pt x="871" y="510"/>
                </a:lnTo>
                <a:lnTo>
                  <a:pt x="873" y="505"/>
                </a:lnTo>
                <a:lnTo>
                  <a:pt x="879" y="493"/>
                </a:lnTo>
                <a:lnTo>
                  <a:pt x="889" y="485"/>
                </a:lnTo>
                <a:lnTo>
                  <a:pt x="900" y="477"/>
                </a:lnTo>
                <a:lnTo>
                  <a:pt x="912" y="474"/>
                </a:lnTo>
                <a:lnTo>
                  <a:pt x="924" y="470"/>
                </a:lnTo>
                <a:lnTo>
                  <a:pt x="935" y="472"/>
                </a:lnTo>
                <a:lnTo>
                  <a:pt x="947" y="474"/>
                </a:lnTo>
                <a:lnTo>
                  <a:pt x="960" y="479"/>
                </a:lnTo>
                <a:lnTo>
                  <a:pt x="970" y="485"/>
                </a:lnTo>
                <a:lnTo>
                  <a:pt x="980" y="497"/>
                </a:lnTo>
                <a:lnTo>
                  <a:pt x="984" y="509"/>
                </a:lnTo>
                <a:lnTo>
                  <a:pt x="989" y="522"/>
                </a:lnTo>
                <a:lnTo>
                  <a:pt x="989" y="536"/>
                </a:lnTo>
                <a:lnTo>
                  <a:pt x="991" y="553"/>
                </a:lnTo>
                <a:lnTo>
                  <a:pt x="989" y="569"/>
                </a:lnTo>
                <a:lnTo>
                  <a:pt x="988" y="584"/>
                </a:lnTo>
                <a:lnTo>
                  <a:pt x="982" y="598"/>
                </a:lnTo>
                <a:lnTo>
                  <a:pt x="980" y="615"/>
                </a:lnTo>
                <a:lnTo>
                  <a:pt x="976" y="631"/>
                </a:lnTo>
                <a:lnTo>
                  <a:pt x="974" y="648"/>
                </a:lnTo>
                <a:lnTo>
                  <a:pt x="970" y="664"/>
                </a:lnTo>
                <a:lnTo>
                  <a:pt x="968" y="681"/>
                </a:lnTo>
                <a:lnTo>
                  <a:pt x="964" y="697"/>
                </a:lnTo>
                <a:lnTo>
                  <a:pt x="962" y="714"/>
                </a:lnTo>
                <a:lnTo>
                  <a:pt x="957" y="728"/>
                </a:lnTo>
                <a:lnTo>
                  <a:pt x="951" y="743"/>
                </a:lnTo>
                <a:lnTo>
                  <a:pt x="943" y="757"/>
                </a:lnTo>
                <a:lnTo>
                  <a:pt x="935" y="770"/>
                </a:lnTo>
                <a:lnTo>
                  <a:pt x="924" y="780"/>
                </a:lnTo>
                <a:lnTo>
                  <a:pt x="912" y="790"/>
                </a:lnTo>
                <a:lnTo>
                  <a:pt x="898" y="797"/>
                </a:lnTo>
                <a:lnTo>
                  <a:pt x="883" y="805"/>
                </a:lnTo>
                <a:lnTo>
                  <a:pt x="867" y="807"/>
                </a:lnTo>
                <a:lnTo>
                  <a:pt x="852" y="809"/>
                </a:lnTo>
                <a:lnTo>
                  <a:pt x="838" y="813"/>
                </a:lnTo>
                <a:lnTo>
                  <a:pt x="832" y="828"/>
                </a:lnTo>
                <a:lnTo>
                  <a:pt x="829" y="840"/>
                </a:lnTo>
                <a:lnTo>
                  <a:pt x="827" y="852"/>
                </a:lnTo>
                <a:lnTo>
                  <a:pt x="825" y="863"/>
                </a:lnTo>
                <a:lnTo>
                  <a:pt x="823" y="875"/>
                </a:lnTo>
                <a:lnTo>
                  <a:pt x="819" y="887"/>
                </a:lnTo>
                <a:lnTo>
                  <a:pt x="819" y="898"/>
                </a:lnTo>
                <a:lnTo>
                  <a:pt x="815" y="910"/>
                </a:lnTo>
                <a:lnTo>
                  <a:pt x="815" y="922"/>
                </a:lnTo>
                <a:lnTo>
                  <a:pt x="811" y="931"/>
                </a:lnTo>
                <a:lnTo>
                  <a:pt x="809" y="943"/>
                </a:lnTo>
                <a:lnTo>
                  <a:pt x="807" y="953"/>
                </a:lnTo>
                <a:lnTo>
                  <a:pt x="805" y="964"/>
                </a:lnTo>
                <a:lnTo>
                  <a:pt x="801" y="974"/>
                </a:lnTo>
                <a:lnTo>
                  <a:pt x="799" y="986"/>
                </a:lnTo>
                <a:lnTo>
                  <a:pt x="796" y="997"/>
                </a:lnTo>
                <a:lnTo>
                  <a:pt x="794" y="1009"/>
                </a:lnTo>
                <a:lnTo>
                  <a:pt x="774" y="1022"/>
                </a:lnTo>
                <a:lnTo>
                  <a:pt x="757" y="1040"/>
                </a:lnTo>
                <a:lnTo>
                  <a:pt x="741" y="1057"/>
                </a:lnTo>
                <a:lnTo>
                  <a:pt x="726" y="1077"/>
                </a:lnTo>
                <a:lnTo>
                  <a:pt x="708" y="1094"/>
                </a:lnTo>
                <a:lnTo>
                  <a:pt x="693" y="1112"/>
                </a:lnTo>
                <a:lnTo>
                  <a:pt x="675" y="1127"/>
                </a:lnTo>
                <a:lnTo>
                  <a:pt x="658" y="1145"/>
                </a:lnTo>
                <a:lnTo>
                  <a:pt x="646" y="1154"/>
                </a:lnTo>
                <a:lnTo>
                  <a:pt x="637" y="1164"/>
                </a:lnTo>
                <a:lnTo>
                  <a:pt x="625" y="1174"/>
                </a:lnTo>
                <a:lnTo>
                  <a:pt x="615" y="1185"/>
                </a:lnTo>
                <a:lnTo>
                  <a:pt x="604" y="1193"/>
                </a:lnTo>
                <a:lnTo>
                  <a:pt x="592" y="1203"/>
                </a:lnTo>
                <a:lnTo>
                  <a:pt x="580" y="1212"/>
                </a:lnTo>
                <a:lnTo>
                  <a:pt x="569" y="1222"/>
                </a:lnTo>
                <a:lnTo>
                  <a:pt x="555" y="1230"/>
                </a:lnTo>
                <a:lnTo>
                  <a:pt x="543" y="1238"/>
                </a:lnTo>
                <a:lnTo>
                  <a:pt x="530" y="1245"/>
                </a:lnTo>
                <a:lnTo>
                  <a:pt x="518" y="1253"/>
                </a:lnTo>
                <a:lnTo>
                  <a:pt x="505" y="1257"/>
                </a:lnTo>
                <a:lnTo>
                  <a:pt x="491" y="1263"/>
                </a:lnTo>
                <a:lnTo>
                  <a:pt x="477" y="1267"/>
                </a:lnTo>
                <a:lnTo>
                  <a:pt x="466" y="1272"/>
                </a:lnTo>
                <a:lnTo>
                  <a:pt x="448" y="1274"/>
                </a:lnTo>
                <a:lnTo>
                  <a:pt x="431" y="1280"/>
                </a:lnTo>
                <a:lnTo>
                  <a:pt x="415" y="1284"/>
                </a:lnTo>
                <a:lnTo>
                  <a:pt x="402" y="1288"/>
                </a:lnTo>
                <a:lnTo>
                  <a:pt x="384" y="1290"/>
                </a:lnTo>
                <a:lnTo>
                  <a:pt x="369" y="1292"/>
                </a:lnTo>
                <a:lnTo>
                  <a:pt x="353" y="1292"/>
                </a:lnTo>
                <a:lnTo>
                  <a:pt x="338" y="1290"/>
                </a:lnTo>
                <a:lnTo>
                  <a:pt x="318" y="1284"/>
                </a:lnTo>
                <a:lnTo>
                  <a:pt x="301" y="1284"/>
                </a:lnTo>
                <a:lnTo>
                  <a:pt x="284" y="1284"/>
                </a:lnTo>
                <a:lnTo>
                  <a:pt x="266" y="1284"/>
                </a:lnTo>
                <a:lnTo>
                  <a:pt x="249" y="1282"/>
                </a:lnTo>
                <a:lnTo>
                  <a:pt x="231" y="1278"/>
                </a:lnTo>
                <a:lnTo>
                  <a:pt x="216" y="1271"/>
                </a:lnTo>
                <a:lnTo>
                  <a:pt x="204" y="1257"/>
                </a:lnTo>
                <a:lnTo>
                  <a:pt x="198" y="1245"/>
                </a:lnTo>
                <a:lnTo>
                  <a:pt x="196" y="1236"/>
                </a:lnTo>
                <a:lnTo>
                  <a:pt x="192" y="1224"/>
                </a:lnTo>
                <a:lnTo>
                  <a:pt x="192" y="1214"/>
                </a:lnTo>
                <a:lnTo>
                  <a:pt x="190" y="1203"/>
                </a:lnTo>
                <a:lnTo>
                  <a:pt x="189" y="1191"/>
                </a:lnTo>
                <a:lnTo>
                  <a:pt x="187" y="1179"/>
                </a:lnTo>
                <a:lnTo>
                  <a:pt x="187" y="1170"/>
                </a:lnTo>
                <a:lnTo>
                  <a:pt x="194" y="1170"/>
                </a:lnTo>
                <a:lnTo>
                  <a:pt x="204" y="1176"/>
                </a:lnTo>
                <a:lnTo>
                  <a:pt x="220" y="1176"/>
                </a:lnTo>
                <a:lnTo>
                  <a:pt x="235" y="1176"/>
                </a:lnTo>
                <a:lnTo>
                  <a:pt x="247" y="1170"/>
                </a:lnTo>
                <a:lnTo>
                  <a:pt x="256" y="1158"/>
                </a:lnTo>
                <a:lnTo>
                  <a:pt x="253" y="1146"/>
                </a:lnTo>
                <a:lnTo>
                  <a:pt x="241" y="1143"/>
                </a:lnTo>
                <a:lnTo>
                  <a:pt x="225" y="1139"/>
                </a:lnTo>
                <a:lnTo>
                  <a:pt x="212" y="1137"/>
                </a:lnTo>
                <a:lnTo>
                  <a:pt x="196" y="1137"/>
                </a:lnTo>
                <a:lnTo>
                  <a:pt x="183" y="1145"/>
                </a:lnTo>
                <a:lnTo>
                  <a:pt x="171" y="1133"/>
                </a:lnTo>
                <a:lnTo>
                  <a:pt x="159" y="1123"/>
                </a:lnTo>
                <a:lnTo>
                  <a:pt x="150" y="1110"/>
                </a:lnTo>
                <a:lnTo>
                  <a:pt x="150" y="1094"/>
                </a:lnTo>
                <a:lnTo>
                  <a:pt x="165" y="1094"/>
                </a:lnTo>
                <a:lnTo>
                  <a:pt x="187" y="1094"/>
                </a:lnTo>
                <a:lnTo>
                  <a:pt x="196" y="1094"/>
                </a:lnTo>
                <a:lnTo>
                  <a:pt x="208" y="1094"/>
                </a:lnTo>
                <a:lnTo>
                  <a:pt x="218" y="1094"/>
                </a:lnTo>
                <a:lnTo>
                  <a:pt x="229" y="1096"/>
                </a:lnTo>
                <a:lnTo>
                  <a:pt x="247" y="1090"/>
                </a:lnTo>
                <a:lnTo>
                  <a:pt x="266" y="1084"/>
                </a:lnTo>
                <a:lnTo>
                  <a:pt x="280" y="1071"/>
                </a:lnTo>
                <a:lnTo>
                  <a:pt x="291" y="1055"/>
                </a:lnTo>
                <a:lnTo>
                  <a:pt x="293" y="1036"/>
                </a:lnTo>
                <a:lnTo>
                  <a:pt x="289" y="1018"/>
                </a:lnTo>
                <a:lnTo>
                  <a:pt x="280" y="1003"/>
                </a:lnTo>
                <a:lnTo>
                  <a:pt x="266" y="993"/>
                </a:lnTo>
                <a:lnTo>
                  <a:pt x="256" y="982"/>
                </a:lnTo>
                <a:lnTo>
                  <a:pt x="247" y="978"/>
                </a:lnTo>
                <a:lnTo>
                  <a:pt x="235" y="976"/>
                </a:lnTo>
                <a:lnTo>
                  <a:pt x="223" y="976"/>
                </a:lnTo>
                <a:lnTo>
                  <a:pt x="206" y="970"/>
                </a:lnTo>
                <a:lnTo>
                  <a:pt x="190" y="970"/>
                </a:lnTo>
                <a:lnTo>
                  <a:pt x="175" y="970"/>
                </a:lnTo>
                <a:lnTo>
                  <a:pt x="163" y="974"/>
                </a:lnTo>
                <a:lnTo>
                  <a:pt x="150" y="972"/>
                </a:lnTo>
                <a:lnTo>
                  <a:pt x="138" y="972"/>
                </a:lnTo>
                <a:lnTo>
                  <a:pt x="125" y="966"/>
                </a:lnTo>
                <a:lnTo>
                  <a:pt x="113" y="958"/>
                </a:lnTo>
                <a:lnTo>
                  <a:pt x="107" y="943"/>
                </a:lnTo>
                <a:lnTo>
                  <a:pt x="107" y="927"/>
                </a:lnTo>
                <a:lnTo>
                  <a:pt x="105" y="912"/>
                </a:lnTo>
                <a:lnTo>
                  <a:pt x="105" y="896"/>
                </a:lnTo>
                <a:lnTo>
                  <a:pt x="103" y="879"/>
                </a:lnTo>
                <a:lnTo>
                  <a:pt x="101" y="865"/>
                </a:lnTo>
                <a:lnTo>
                  <a:pt x="97" y="852"/>
                </a:lnTo>
                <a:lnTo>
                  <a:pt x="94" y="842"/>
                </a:lnTo>
                <a:lnTo>
                  <a:pt x="105" y="844"/>
                </a:lnTo>
                <a:lnTo>
                  <a:pt x="117" y="850"/>
                </a:lnTo>
                <a:lnTo>
                  <a:pt x="126" y="856"/>
                </a:lnTo>
                <a:lnTo>
                  <a:pt x="136" y="869"/>
                </a:lnTo>
                <a:lnTo>
                  <a:pt x="134" y="887"/>
                </a:lnTo>
                <a:lnTo>
                  <a:pt x="136" y="904"/>
                </a:lnTo>
                <a:lnTo>
                  <a:pt x="136" y="918"/>
                </a:lnTo>
                <a:lnTo>
                  <a:pt x="126" y="933"/>
                </a:lnTo>
                <a:lnTo>
                  <a:pt x="138" y="941"/>
                </a:lnTo>
                <a:lnTo>
                  <a:pt x="152" y="943"/>
                </a:lnTo>
                <a:lnTo>
                  <a:pt x="158" y="931"/>
                </a:lnTo>
                <a:lnTo>
                  <a:pt x="163" y="922"/>
                </a:lnTo>
                <a:lnTo>
                  <a:pt x="165" y="910"/>
                </a:lnTo>
                <a:lnTo>
                  <a:pt x="167" y="898"/>
                </a:lnTo>
                <a:lnTo>
                  <a:pt x="167" y="887"/>
                </a:lnTo>
                <a:lnTo>
                  <a:pt x="167" y="875"/>
                </a:lnTo>
                <a:lnTo>
                  <a:pt x="167" y="863"/>
                </a:lnTo>
                <a:lnTo>
                  <a:pt x="169" y="854"/>
                </a:lnTo>
                <a:lnTo>
                  <a:pt x="177" y="852"/>
                </a:lnTo>
                <a:lnTo>
                  <a:pt x="187" y="858"/>
                </a:lnTo>
                <a:lnTo>
                  <a:pt x="198" y="856"/>
                </a:lnTo>
                <a:lnTo>
                  <a:pt x="210" y="850"/>
                </a:lnTo>
                <a:lnTo>
                  <a:pt x="218" y="842"/>
                </a:lnTo>
                <a:lnTo>
                  <a:pt x="227" y="836"/>
                </a:lnTo>
                <a:lnTo>
                  <a:pt x="235" y="828"/>
                </a:lnTo>
                <a:lnTo>
                  <a:pt x="245" y="827"/>
                </a:lnTo>
                <a:lnTo>
                  <a:pt x="256" y="830"/>
                </a:lnTo>
                <a:lnTo>
                  <a:pt x="272" y="842"/>
                </a:lnTo>
                <a:lnTo>
                  <a:pt x="280" y="854"/>
                </a:lnTo>
                <a:lnTo>
                  <a:pt x="287" y="869"/>
                </a:lnTo>
                <a:lnTo>
                  <a:pt x="295" y="877"/>
                </a:lnTo>
                <a:lnTo>
                  <a:pt x="311" y="873"/>
                </a:lnTo>
                <a:lnTo>
                  <a:pt x="305" y="858"/>
                </a:lnTo>
                <a:lnTo>
                  <a:pt x="301" y="846"/>
                </a:lnTo>
                <a:lnTo>
                  <a:pt x="295" y="834"/>
                </a:lnTo>
                <a:lnTo>
                  <a:pt x="291" y="823"/>
                </a:lnTo>
                <a:lnTo>
                  <a:pt x="284" y="811"/>
                </a:lnTo>
                <a:lnTo>
                  <a:pt x="276" y="799"/>
                </a:lnTo>
                <a:lnTo>
                  <a:pt x="268" y="790"/>
                </a:lnTo>
                <a:lnTo>
                  <a:pt x="260" y="782"/>
                </a:lnTo>
                <a:lnTo>
                  <a:pt x="247" y="764"/>
                </a:lnTo>
                <a:lnTo>
                  <a:pt x="231" y="751"/>
                </a:lnTo>
                <a:lnTo>
                  <a:pt x="214" y="741"/>
                </a:lnTo>
                <a:lnTo>
                  <a:pt x="198" y="745"/>
                </a:lnTo>
                <a:lnTo>
                  <a:pt x="206" y="764"/>
                </a:lnTo>
                <a:lnTo>
                  <a:pt x="220" y="786"/>
                </a:lnTo>
                <a:lnTo>
                  <a:pt x="223" y="795"/>
                </a:lnTo>
                <a:lnTo>
                  <a:pt x="225" y="807"/>
                </a:lnTo>
                <a:lnTo>
                  <a:pt x="223" y="817"/>
                </a:lnTo>
                <a:lnTo>
                  <a:pt x="218" y="828"/>
                </a:lnTo>
                <a:lnTo>
                  <a:pt x="196" y="830"/>
                </a:lnTo>
                <a:lnTo>
                  <a:pt x="177" y="830"/>
                </a:lnTo>
                <a:lnTo>
                  <a:pt x="158" y="825"/>
                </a:lnTo>
                <a:lnTo>
                  <a:pt x="138" y="821"/>
                </a:lnTo>
                <a:lnTo>
                  <a:pt x="117" y="815"/>
                </a:lnTo>
                <a:lnTo>
                  <a:pt x="99" y="811"/>
                </a:lnTo>
                <a:lnTo>
                  <a:pt x="78" y="811"/>
                </a:lnTo>
                <a:lnTo>
                  <a:pt x="61" y="817"/>
                </a:lnTo>
                <a:lnTo>
                  <a:pt x="49" y="815"/>
                </a:lnTo>
                <a:lnTo>
                  <a:pt x="39" y="809"/>
                </a:lnTo>
                <a:lnTo>
                  <a:pt x="31" y="801"/>
                </a:lnTo>
                <a:lnTo>
                  <a:pt x="30" y="792"/>
                </a:lnTo>
                <a:lnTo>
                  <a:pt x="31" y="776"/>
                </a:lnTo>
                <a:lnTo>
                  <a:pt x="35" y="763"/>
                </a:lnTo>
                <a:lnTo>
                  <a:pt x="37" y="749"/>
                </a:lnTo>
                <a:lnTo>
                  <a:pt x="43" y="737"/>
                </a:lnTo>
                <a:lnTo>
                  <a:pt x="47" y="722"/>
                </a:lnTo>
                <a:lnTo>
                  <a:pt x="53" y="708"/>
                </a:lnTo>
                <a:lnTo>
                  <a:pt x="59" y="695"/>
                </a:lnTo>
                <a:lnTo>
                  <a:pt x="64" y="683"/>
                </a:lnTo>
                <a:lnTo>
                  <a:pt x="68" y="669"/>
                </a:lnTo>
                <a:lnTo>
                  <a:pt x="74" y="656"/>
                </a:lnTo>
                <a:lnTo>
                  <a:pt x="80" y="642"/>
                </a:lnTo>
                <a:lnTo>
                  <a:pt x="86" y="629"/>
                </a:lnTo>
                <a:lnTo>
                  <a:pt x="90" y="615"/>
                </a:lnTo>
                <a:lnTo>
                  <a:pt x="95" y="602"/>
                </a:lnTo>
                <a:lnTo>
                  <a:pt x="99" y="588"/>
                </a:lnTo>
                <a:lnTo>
                  <a:pt x="105" y="576"/>
                </a:lnTo>
                <a:lnTo>
                  <a:pt x="103" y="563"/>
                </a:lnTo>
                <a:lnTo>
                  <a:pt x="107" y="551"/>
                </a:lnTo>
                <a:lnTo>
                  <a:pt x="111" y="540"/>
                </a:lnTo>
                <a:lnTo>
                  <a:pt x="113" y="528"/>
                </a:lnTo>
                <a:lnTo>
                  <a:pt x="105" y="510"/>
                </a:lnTo>
                <a:lnTo>
                  <a:pt x="94" y="497"/>
                </a:lnTo>
                <a:lnTo>
                  <a:pt x="76" y="485"/>
                </a:lnTo>
                <a:lnTo>
                  <a:pt x="62" y="476"/>
                </a:lnTo>
                <a:lnTo>
                  <a:pt x="45" y="472"/>
                </a:lnTo>
                <a:lnTo>
                  <a:pt x="31" y="462"/>
                </a:lnTo>
                <a:lnTo>
                  <a:pt x="16" y="452"/>
                </a:lnTo>
                <a:lnTo>
                  <a:pt x="2" y="445"/>
                </a:lnTo>
                <a:lnTo>
                  <a:pt x="0" y="423"/>
                </a:lnTo>
                <a:lnTo>
                  <a:pt x="2" y="404"/>
                </a:lnTo>
                <a:lnTo>
                  <a:pt x="2" y="384"/>
                </a:lnTo>
                <a:lnTo>
                  <a:pt x="10" y="369"/>
                </a:lnTo>
                <a:lnTo>
                  <a:pt x="10" y="353"/>
                </a:lnTo>
                <a:lnTo>
                  <a:pt x="12" y="340"/>
                </a:lnTo>
                <a:lnTo>
                  <a:pt x="14" y="326"/>
                </a:lnTo>
                <a:lnTo>
                  <a:pt x="18" y="313"/>
                </a:lnTo>
                <a:lnTo>
                  <a:pt x="20" y="297"/>
                </a:lnTo>
                <a:lnTo>
                  <a:pt x="24" y="286"/>
                </a:lnTo>
                <a:lnTo>
                  <a:pt x="26" y="270"/>
                </a:lnTo>
                <a:lnTo>
                  <a:pt x="31" y="258"/>
                </a:lnTo>
                <a:lnTo>
                  <a:pt x="33" y="245"/>
                </a:lnTo>
                <a:lnTo>
                  <a:pt x="37" y="231"/>
                </a:lnTo>
                <a:lnTo>
                  <a:pt x="41" y="218"/>
                </a:lnTo>
                <a:lnTo>
                  <a:pt x="47" y="206"/>
                </a:lnTo>
                <a:lnTo>
                  <a:pt x="49" y="192"/>
                </a:lnTo>
                <a:lnTo>
                  <a:pt x="53" y="179"/>
                </a:lnTo>
                <a:lnTo>
                  <a:pt x="57" y="167"/>
                </a:lnTo>
                <a:lnTo>
                  <a:pt x="62" y="156"/>
                </a:lnTo>
                <a:lnTo>
                  <a:pt x="62" y="150"/>
                </a:lnTo>
                <a:lnTo>
                  <a:pt x="62" y="146"/>
                </a:lnTo>
                <a:lnTo>
                  <a:pt x="62" y="136"/>
                </a:lnTo>
                <a:lnTo>
                  <a:pt x="66" y="127"/>
                </a:lnTo>
                <a:lnTo>
                  <a:pt x="68" y="113"/>
                </a:lnTo>
                <a:lnTo>
                  <a:pt x="72" y="99"/>
                </a:lnTo>
                <a:lnTo>
                  <a:pt x="78" y="84"/>
                </a:lnTo>
                <a:lnTo>
                  <a:pt x="86" y="70"/>
                </a:lnTo>
                <a:lnTo>
                  <a:pt x="92" y="55"/>
                </a:lnTo>
                <a:lnTo>
                  <a:pt x="99" y="41"/>
                </a:lnTo>
                <a:lnTo>
                  <a:pt x="109" y="28"/>
                </a:lnTo>
                <a:lnTo>
                  <a:pt x="121" y="18"/>
                </a:lnTo>
                <a:lnTo>
                  <a:pt x="132" y="8"/>
                </a:lnTo>
                <a:lnTo>
                  <a:pt x="146" y="4"/>
                </a:lnTo>
                <a:lnTo>
                  <a:pt x="161" y="0"/>
                </a:lnTo>
                <a:lnTo>
                  <a:pt x="179" y="4"/>
                </a:lnTo>
                <a:lnTo>
                  <a:pt x="196" y="8"/>
                </a:lnTo>
                <a:lnTo>
                  <a:pt x="216" y="20"/>
                </a:lnTo>
                <a:lnTo>
                  <a:pt x="229" y="33"/>
                </a:lnTo>
                <a:lnTo>
                  <a:pt x="243" y="53"/>
                </a:lnTo>
                <a:lnTo>
                  <a:pt x="254" y="72"/>
                </a:lnTo>
                <a:lnTo>
                  <a:pt x="266" y="94"/>
                </a:lnTo>
                <a:lnTo>
                  <a:pt x="278" y="113"/>
                </a:lnTo>
                <a:lnTo>
                  <a:pt x="291" y="132"/>
                </a:lnTo>
                <a:close/>
              </a:path>
            </a:pathLst>
          </a:custGeom>
          <a:solidFill>
            <a:srgbClr val="ffb39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34" name=""/>
          <p:cNvSpPr/>
          <p:nvPr/>
        </p:nvSpPr>
        <p:spPr>
          <a:xfrm>
            <a:off x="5878440" y="3303720"/>
            <a:ext cx="363600" cy="630000"/>
          </a:xfrm>
          <a:custGeom>
            <a:avLst/>
            <a:gdLst/>
            <a:ahLst/>
            <a:rect l="l" t="t" r="r" b="b"/>
            <a:pathLst>
              <a:path w="458" h="793">
                <a:moveTo>
                  <a:pt x="78" y="0"/>
                </a:moveTo>
                <a:lnTo>
                  <a:pt x="94" y="9"/>
                </a:lnTo>
                <a:lnTo>
                  <a:pt x="103" y="21"/>
                </a:lnTo>
                <a:lnTo>
                  <a:pt x="107" y="31"/>
                </a:lnTo>
                <a:lnTo>
                  <a:pt x="113" y="42"/>
                </a:lnTo>
                <a:lnTo>
                  <a:pt x="117" y="52"/>
                </a:lnTo>
                <a:lnTo>
                  <a:pt x="121" y="64"/>
                </a:lnTo>
                <a:lnTo>
                  <a:pt x="121" y="73"/>
                </a:lnTo>
                <a:lnTo>
                  <a:pt x="123" y="85"/>
                </a:lnTo>
                <a:lnTo>
                  <a:pt x="123" y="97"/>
                </a:lnTo>
                <a:lnTo>
                  <a:pt x="125" y="108"/>
                </a:lnTo>
                <a:lnTo>
                  <a:pt x="121" y="118"/>
                </a:lnTo>
                <a:lnTo>
                  <a:pt x="119" y="130"/>
                </a:lnTo>
                <a:lnTo>
                  <a:pt x="117" y="141"/>
                </a:lnTo>
                <a:lnTo>
                  <a:pt x="115" y="153"/>
                </a:lnTo>
                <a:lnTo>
                  <a:pt x="109" y="165"/>
                </a:lnTo>
                <a:lnTo>
                  <a:pt x="105" y="176"/>
                </a:lnTo>
                <a:lnTo>
                  <a:pt x="101" y="188"/>
                </a:lnTo>
                <a:lnTo>
                  <a:pt x="97" y="199"/>
                </a:lnTo>
                <a:lnTo>
                  <a:pt x="90" y="209"/>
                </a:lnTo>
                <a:lnTo>
                  <a:pt x="84" y="221"/>
                </a:lnTo>
                <a:lnTo>
                  <a:pt x="78" y="232"/>
                </a:lnTo>
                <a:lnTo>
                  <a:pt x="72" y="244"/>
                </a:lnTo>
                <a:lnTo>
                  <a:pt x="64" y="254"/>
                </a:lnTo>
                <a:lnTo>
                  <a:pt x="59" y="265"/>
                </a:lnTo>
                <a:lnTo>
                  <a:pt x="53" y="277"/>
                </a:lnTo>
                <a:lnTo>
                  <a:pt x="47" y="289"/>
                </a:lnTo>
                <a:lnTo>
                  <a:pt x="41" y="298"/>
                </a:lnTo>
                <a:lnTo>
                  <a:pt x="35" y="310"/>
                </a:lnTo>
                <a:lnTo>
                  <a:pt x="30" y="320"/>
                </a:lnTo>
                <a:lnTo>
                  <a:pt x="24" y="331"/>
                </a:lnTo>
                <a:lnTo>
                  <a:pt x="18" y="341"/>
                </a:lnTo>
                <a:lnTo>
                  <a:pt x="12" y="353"/>
                </a:lnTo>
                <a:lnTo>
                  <a:pt x="8" y="364"/>
                </a:lnTo>
                <a:lnTo>
                  <a:pt x="6" y="376"/>
                </a:lnTo>
                <a:lnTo>
                  <a:pt x="4" y="382"/>
                </a:lnTo>
                <a:lnTo>
                  <a:pt x="2" y="393"/>
                </a:lnTo>
                <a:lnTo>
                  <a:pt x="0" y="407"/>
                </a:lnTo>
                <a:lnTo>
                  <a:pt x="0" y="422"/>
                </a:lnTo>
                <a:lnTo>
                  <a:pt x="0" y="436"/>
                </a:lnTo>
                <a:lnTo>
                  <a:pt x="0" y="451"/>
                </a:lnTo>
                <a:lnTo>
                  <a:pt x="2" y="463"/>
                </a:lnTo>
                <a:lnTo>
                  <a:pt x="6" y="477"/>
                </a:lnTo>
                <a:lnTo>
                  <a:pt x="8" y="492"/>
                </a:lnTo>
                <a:lnTo>
                  <a:pt x="14" y="510"/>
                </a:lnTo>
                <a:lnTo>
                  <a:pt x="20" y="525"/>
                </a:lnTo>
                <a:lnTo>
                  <a:pt x="28" y="543"/>
                </a:lnTo>
                <a:lnTo>
                  <a:pt x="33" y="556"/>
                </a:lnTo>
                <a:lnTo>
                  <a:pt x="43" y="572"/>
                </a:lnTo>
                <a:lnTo>
                  <a:pt x="49" y="587"/>
                </a:lnTo>
                <a:lnTo>
                  <a:pt x="59" y="605"/>
                </a:lnTo>
                <a:lnTo>
                  <a:pt x="64" y="620"/>
                </a:lnTo>
                <a:lnTo>
                  <a:pt x="70" y="640"/>
                </a:lnTo>
                <a:lnTo>
                  <a:pt x="72" y="647"/>
                </a:lnTo>
                <a:lnTo>
                  <a:pt x="76" y="657"/>
                </a:lnTo>
                <a:lnTo>
                  <a:pt x="78" y="669"/>
                </a:lnTo>
                <a:lnTo>
                  <a:pt x="82" y="680"/>
                </a:lnTo>
                <a:lnTo>
                  <a:pt x="82" y="692"/>
                </a:lnTo>
                <a:lnTo>
                  <a:pt x="84" y="704"/>
                </a:lnTo>
                <a:lnTo>
                  <a:pt x="84" y="715"/>
                </a:lnTo>
                <a:lnTo>
                  <a:pt x="86" y="731"/>
                </a:lnTo>
                <a:lnTo>
                  <a:pt x="84" y="744"/>
                </a:lnTo>
                <a:lnTo>
                  <a:pt x="84" y="760"/>
                </a:lnTo>
                <a:lnTo>
                  <a:pt x="84" y="775"/>
                </a:lnTo>
                <a:lnTo>
                  <a:pt x="84" y="793"/>
                </a:lnTo>
                <a:lnTo>
                  <a:pt x="96" y="781"/>
                </a:lnTo>
                <a:lnTo>
                  <a:pt x="109" y="771"/>
                </a:lnTo>
                <a:lnTo>
                  <a:pt x="121" y="760"/>
                </a:lnTo>
                <a:lnTo>
                  <a:pt x="134" y="750"/>
                </a:lnTo>
                <a:lnTo>
                  <a:pt x="146" y="738"/>
                </a:lnTo>
                <a:lnTo>
                  <a:pt x="158" y="727"/>
                </a:lnTo>
                <a:lnTo>
                  <a:pt x="169" y="715"/>
                </a:lnTo>
                <a:lnTo>
                  <a:pt x="181" y="706"/>
                </a:lnTo>
                <a:lnTo>
                  <a:pt x="198" y="688"/>
                </a:lnTo>
                <a:lnTo>
                  <a:pt x="216" y="673"/>
                </a:lnTo>
                <a:lnTo>
                  <a:pt x="231" y="655"/>
                </a:lnTo>
                <a:lnTo>
                  <a:pt x="249" y="638"/>
                </a:lnTo>
                <a:lnTo>
                  <a:pt x="264" y="618"/>
                </a:lnTo>
                <a:lnTo>
                  <a:pt x="280" y="601"/>
                </a:lnTo>
                <a:lnTo>
                  <a:pt x="297" y="583"/>
                </a:lnTo>
                <a:lnTo>
                  <a:pt x="317" y="570"/>
                </a:lnTo>
                <a:lnTo>
                  <a:pt x="319" y="558"/>
                </a:lnTo>
                <a:lnTo>
                  <a:pt x="322" y="547"/>
                </a:lnTo>
                <a:lnTo>
                  <a:pt x="324" y="535"/>
                </a:lnTo>
                <a:lnTo>
                  <a:pt x="328" y="525"/>
                </a:lnTo>
                <a:lnTo>
                  <a:pt x="330" y="514"/>
                </a:lnTo>
                <a:lnTo>
                  <a:pt x="332" y="504"/>
                </a:lnTo>
                <a:lnTo>
                  <a:pt x="334" y="492"/>
                </a:lnTo>
                <a:lnTo>
                  <a:pt x="338" y="483"/>
                </a:lnTo>
                <a:lnTo>
                  <a:pt x="338" y="471"/>
                </a:lnTo>
                <a:lnTo>
                  <a:pt x="342" y="459"/>
                </a:lnTo>
                <a:lnTo>
                  <a:pt x="342" y="448"/>
                </a:lnTo>
                <a:lnTo>
                  <a:pt x="346" y="436"/>
                </a:lnTo>
                <a:lnTo>
                  <a:pt x="348" y="424"/>
                </a:lnTo>
                <a:lnTo>
                  <a:pt x="350" y="413"/>
                </a:lnTo>
                <a:lnTo>
                  <a:pt x="352" y="401"/>
                </a:lnTo>
                <a:lnTo>
                  <a:pt x="355" y="389"/>
                </a:lnTo>
                <a:lnTo>
                  <a:pt x="361" y="374"/>
                </a:lnTo>
                <a:lnTo>
                  <a:pt x="375" y="370"/>
                </a:lnTo>
                <a:lnTo>
                  <a:pt x="390" y="368"/>
                </a:lnTo>
                <a:lnTo>
                  <a:pt x="406" y="366"/>
                </a:lnTo>
                <a:lnTo>
                  <a:pt x="408" y="364"/>
                </a:lnTo>
                <a:lnTo>
                  <a:pt x="412" y="364"/>
                </a:lnTo>
                <a:lnTo>
                  <a:pt x="402" y="351"/>
                </a:lnTo>
                <a:lnTo>
                  <a:pt x="396" y="339"/>
                </a:lnTo>
                <a:lnTo>
                  <a:pt x="392" y="329"/>
                </a:lnTo>
                <a:lnTo>
                  <a:pt x="394" y="324"/>
                </a:lnTo>
                <a:lnTo>
                  <a:pt x="398" y="314"/>
                </a:lnTo>
                <a:lnTo>
                  <a:pt x="410" y="308"/>
                </a:lnTo>
                <a:lnTo>
                  <a:pt x="416" y="308"/>
                </a:lnTo>
                <a:lnTo>
                  <a:pt x="416" y="300"/>
                </a:lnTo>
                <a:lnTo>
                  <a:pt x="419" y="294"/>
                </a:lnTo>
                <a:lnTo>
                  <a:pt x="421" y="285"/>
                </a:lnTo>
                <a:lnTo>
                  <a:pt x="425" y="275"/>
                </a:lnTo>
                <a:lnTo>
                  <a:pt x="427" y="261"/>
                </a:lnTo>
                <a:lnTo>
                  <a:pt x="431" y="250"/>
                </a:lnTo>
                <a:lnTo>
                  <a:pt x="435" y="236"/>
                </a:lnTo>
                <a:lnTo>
                  <a:pt x="441" y="225"/>
                </a:lnTo>
                <a:lnTo>
                  <a:pt x="443" y="211"/>
                </a:lnTo>
                <a:lnTo>
                  <a:pt x="447" y="197"/>
                </a:lnTo>
                <a:lnTo>
                  <a:pt x="448" y="186"/>
                </a:lnTo>
                <a:lnTo>
                  <a:pt x="452" y="176"/>
                </a:lnTo>
                <a:lnTo>
                  <a:pt x="454" y="161"/>
                </a:lnTo>
                <a:lnTo>
                  <a:pt x="456" y="155"/>
                </a:lnTo>
                <a:lnTo>
                  <a:pt x="452" y="155"/>
                </a:lnTo>
                <a:lnTo>
                  <a:pt x="443" y="143"/>
                </a:lnTo>
                <a:lnTo>
                  <a:pt x="439" y="128"/>
                </a:lnTo>
                <a:lnTo>
                  <a:pt x="439" y="110"/>
                </a:lnTo>
                <a:lnTo>
                  <a:pt x="441" y="102"/>
                </a:lnTo>
                <a:lnTo>
                  <a:pt x="447" y="83"/>
                </a:lnTo>
                <a:lnTo>
                  <a:pt x="454" y="66"/>
                </a:lnTo>
                <a:lnTo>
                  <a:pt x="458" y="48"/>
                </a:lnTo>
                <a:lnTo>
                  <a:pt x="458" y="33"/>
                </a:lnTo>
                <a:lnTo>
                  <a:pt x="439" y="33"/>
                </a:lnTo>
                <a:lnTo>
                  <a:pt x="423" y="40"/>
                </a:lnTo>
                <a:lnTo>
                  <a:pt x="406" y="50"/>
                </a:lnTo>
                <a:lnTo>
                  <a:pt x="396" y="66"/>
                </a:lnTo>
                <a:lnTo>
                  <a:pt x="394" y="71"/>
                </a:lnTo>
                <a:lnTo>
                  <a:pt x="398" y="79"/>
                </a:lnTo>
                <a:lnTo>
                  <a:pt x="398" y="85"/>
                </a:lnTo>
                <a:lnTo>
                  <a:pt x="394" y="91"/>
                </a:lnTo>
                <a:lnTo>
                  <a:pt x="383" y="89"/>
                </a:lnTo>
                <a:lnTo>
                  <a:pt x="371" y="87"/>
                </a:lnTo>
                <a:lnTo>
                  <a:pt x="361" y="83"/>
                </a:lnTo>
                <a:lnTo>
                  <a:pt x="352" y="79"/>
                </a:lnTo>
                <a:lnTo>
                  <a:pt x="332" y="68"/>
                </a:lnTo>
                <a:lnTo>
                  <a:pt x="315" y="58"/>
                </a:lnTo>
                <a:lnTo>
                  <a:pt x="317" y="68"/>
                </a:lnTo>
                <a:lnTo>
                  <a:pt x="326" y="77"/>
                </a:lnTo>
                <a:lnTo>
                  <a:pt x="336" y="85"/>
                </a:lnTo>
                <a:lnTo>
                  <a:pt x="340" y="97"/>
                </a:lnTo>
                <a:lnTo>
                  <a:pt x="334" y="102"/>
                </a:lnTo>
                <a:lnTo>
                  <a:pt x="336" y="112"/>
                </a:lnTo>
                <a:lnTo>
                  <a:pt x="338" y="122"/>
                </a:lnTo>
                <a:lnTo>
                  <a:pt x="336" y="133"/>
                </a:lnTo>
                <a:lnTo>
                  <a:pt x="324" y="137"/>
                </a:lnTo>
                <a:lnTo>
                  <a:pt x="317" y="135"/>
                </a:lnTo>
                <a:lnTo>
                  <a:pt x="305" y="130"/>
                </a:lnTo>
                <a:lnTo>
                  <a:pt x="297" y="128"/>
                </a:lnTo>
                <a:lnTo>
                  <a:pt x="288" y="122"/>
                </a:lnTo>
                <a:lnTo>
                  <a:pt x="278" y="116"/>
                </a:lnTo>
                <a:lnTo>
                  <a:pt x="268" y="110"/>
                </a:lnTo>
                <a:lnTo>
                  <a:pt x="264" y="106"/>
                </a:lnTo>
                <a:lnTo>
                  <a:pt x="253" y="102"/>
                </a:lnTo>
                <a:lnTo>
                  <a:pt x="241" y="101"/>
                </a:lnTo>
                <a:lnTo>
                  <a:pt x="229" y="95"/>
                </a:lnTo>
                <a:lnTo>
                  <a:pt x="218" y="91"/>
                </a:lnTo>
                <a:lnTo>
                  <a:pt x="204" y="85"/>
                </a:lnTo>
                <a:lnTo>
                  <a:pt x="192" y="81"/>
                </a:lnTo>
                <a:lnTo>
                  <a:pt x="181" y="75"/>
                </a:lnTo>
                <a:lnTo>
                  <a:pt x="169" y="71"/>
                </a:lnTo>
                <a:lnTo>
                  <a:pt x="158" y="62"/>
                </a:lnTo>
                <a:lnTo>
                  <a:pt x="148" y="52"/>
                </a:lnTo>
                <a:lnTo>
                  <a:pt x="136" y="42"/>
                </a:lnTo>
                <a:lnTo>
                  <a:pt x="127" y="35"/>
                </a:lnTo>
                <a:lnTo>
                  <a:pt x="115" y="25"/>
                </a:lnTo>
                <a:lnTo>
                  <a:pt x="103" y="17"/>
                </a:lnTo>
                <a:lnTo>
                  <a:pt x="94" y="7"/>
                </a:lnTo>
                <a:lnTo>
                  <a:pt x="84" y="0"/>
                </a:lnTo>
                <a:lnTo>
                  <a:pt x="80" y="0"/>
                </a:lnTo>
                <a:lnTo>
                  <a:pt x="78" y="0"/>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35" name=""/>
          <p:cNvSpPr/>
          <p:nvPr/>
        </p:nvSpPr>
        <p:spPr>
          <a:xfrm>
            <a:off x="6022800" y="3336840"/>
            <a:ext cx="195480" cy="319320"/>
          </a:xfrm>
          <a:custGeom>
            <a:avLst/>
            <a:gdLst/>
            <a:ahLst/>
            <a:rect l="l" t="t" r="r" b="b"/>
            <a:pathLst>
              <a:path w="244" h="404">
                <a:moveTo>
                  <a:pt x="0" y="37"/>
                </a:moveTo>
                <a:lnTo>
                  <a:pt x="11" y="57"/>
                </a:lnTo>
                <a:lnTo>
                  <a:pt x="23" y="78"/>
                </a:lnTo>
                <a:lnTo>
                  <a:pt x="31" y="97"/>
                </a:lnTo>
                <a:lnTo>
                  <a:pt x="41" y="119"/>
                </a:lnTo>
                <a:lnTo>
                  <a:pt x="46" y="138"/>
                </a:lnTo>
                <a:lnTo>
                  <a:pt x="52" y="159"/>
                </a:lnTo>
                <a:lnTo>
                  <a:pt x="52" y="171"/>
                </a:lnTo>
                <a:lnTo>
                  <a:pt x="56" y="183"/>
                </a:lnTo>
                <a:lnTo>
                  <a:pt x="56" y="194"/>
                </a:lnTo>
                <a:lnTo>
                  <a:pt x="60" y="206"/>
                </a:lnTo>
                <a:lnTo>
                  <a:pt x="60" y="216"/>
                </a:lnTo>
                <a:lnTo>
                  <a:pt x="60" y="227"/>
                </a:lnTo>
                <a:lnTo>
                  <a:pt x="60" y="239"/>
                </a:lnTo>
                <a:lnTo>
                  <a:pt x="60" y="251"/>
                </a:lnTo>
                <a:lnTo>
                  <a:pt x="60" y="262"/>
                </a:lnTo>
                <a:lnTo>
                  <a:pt x="60" y="274"/>
                </a:lnTo>
                <a:lnTo>
                  <a:pt x="60" y="285"/>
                </a:lnTo>
                <a:lnTo>
                  <a:pt x="60" y="299"/>
                </a:lnTo>
                <a:lnTo>
                  <a:pt x="58" y="311"/>
                </a:lnTo>
                <a:lnTo>
                  <a:pt x="58" y="322"/>
                </a:lnTo>
                <a:lnTo>
                  <a:pt x="58" y="336"/>
                </a:lnTo>
                <a:lnTo>
                  <a:pt x="58" y="349"/>
                </a:lnTo>
                <a:lnTo>
                  <a:pt x="56" y="361"/>
                </a:lnTo>
                <a:lnTo>
                  <a:pt x="56" y="375"/>
                </a:lnTo>
                <a:lnTo>
                  <a:pt x="56" y="388"/>
                </a:lnTo>
                <a:lnTo>
                  <a:pt x="56" y="404"/>
                </a:lnTo>
                <a:lnTo>
                  <a:pt x="62" y="396"/>
                </a:lnTo>
                <a:lnTo>
                  <a:pt x="70" y="388"/>
                </a:lnTo>
                <a:lnTo>
                  <a:pt x="77" y="377"/>
                </a:lnTo>
                <a:lnTo>
                  <a:pt x="87" y="365"/>
                </a:lnTo>
                <a:lnTo>
                  <a:pt x="97" y="348"/>
                </a:lnTo>
                <a:lnTo>
                  <a:pt x="108" y="332"/>
                </a:lnTo>
                <a:lnTo>
                  <a:pt x="120" y="316"/>
                </a:lnTo>
                <a:lnTo>
                  <a:pt x="132" y="301"/>
                </a:lnTo>
                <a:lnTo>
                  <a:pt x="141" y="284"/>
                </a:lnTo>
                <a:lnTo>
                  <a:pt x="153" y="268"/>
                </a:lnTo>
                <a:lnTo>
                  <a:pt x="163" y="252"/>
                </a:lnTo>
                <a:lnTo>
                  <a:pt x="174" y="241"/>
                </a:lnTo>
                <a:lnTo>
                  <a:pt x="184" y="229"/>
                </a:lnTo>
                <a:lnTo>
                  <a:pt x="196" y="221"/>
                </a:lnTo>
                <a:lnTo>
                  <a:pt x="207" y="216"/>
                </a:lnTo>
                <a:lnTo>
                  <a:pt x="219" y="216"/>
                </a:lnTo>
                <a:lnTo>
                  <a:pt x="219" y="200"/>
                </a:lnTo>
                <a:lnTo>
                  <a:pt x="219" y="187"/>
                </a:lnTo>
                <a:lnTo>
                  <a:pt x="221" y="171"/>
                </a:lnTo>
                <a:lnTo>
                  <a:pt x="223" y="157"/>
                </a:lnTo>
                <a:lnTo>
                  <a:pt x="225" y="142"/>
                </a:lnTo>
                <a:lnTo>
                  <a:pt x="229" y="128"/>
                </a:lnTo>
                <a:lnTo>
                  <a:pt x="231" y="115"/>
                </a:lnTo>
                <a:lnTo>
                  <a:pt x="234" y="103"/>
                </a:lnTo>
                <a:lnTo>
                  <a:pt x="234" y="88"/>
                </a:lnTo>
                <a:lnTo>
                  <a:pt x="238" y="74"/>
                </a:lnTo>
                <a:lnTo>
                  <a:pt x="238" y="61"/>
                </a:lnTo>
                <a:lnTo>
                  <a:pt x="242" y="49"/>
                </a:lnTo>
                <a:lnTo>
                  <a:pt x="242" y="35"/>
                </a:lnTo>
                <a:lnTo>
                  <a:pt x="244" y="24"/>
                </a:lnTo>
                <a:lnTo>
                  <a:pt x="244" y="12"/>
                </a:lnTo>
                <a:lnTo>
                  <a:pt x="244" y="0"/>
                </a:lnTo>
                <a:lnTo>
                  <a:pt x="227" y="10"/>
                </a:lnTo>
                <a:lnTo>
                  <a:pt x="213" y="26"/>
                </a:lnTo>
                <a:lnTo>
                  <a:pt x="211" y="31"/>
                </a:lnTo>
                <a:lnTo>
                  <a:pt x="215" y="39"/>
                </a:lnTo>
                <a:lnTo>
                  <a:pt x="215" y="45"/>
                </a:lnTo>
                <a:lnTo>
                  <a:pt x="211" y="51"/>
                </a:lnTo>
                <a:lnTo>
                  <a:pt x="200" y="49"/>
                </a:lnTo>
                <a:lnTo>
                  <a:pt x="188" y="47"/>
                </a:lnTo>
                <a:lnTo>
                  <a:pt x="178" y="43"/>
                </a:lnTo>
                <a:lnTo>
                  <a:pt x="169" y="39"/>
                </a:lnTo>
                <a:lnTo>
                  <a:pt x="149" y="28"/>
                </a:lnTo>
                <a:lnTo>
                  <a:pt x="132" y="18"/>
                </a:lnTo>
                <a:lnTo>
                  <a:pt x="134" y="28"/>
                </a:lnTo>
                <a:lnTo>
                  <a:pt x="143" y="37"/>
                </a:lnTo>
                <a:lnTo>
                  <a:pt x="153" y="45"/>
                </a:lnTo>
                <a:lnTo>
                  <a:pt x="157" y="57"/>
                </a:lnTo>
                <a:lnTo>
                  <a:pt x="151" y="62"/>
                </a:lnTo>
                <a:lnTo>
                  <a:pt x="153" y="72"/>
                </a:lnTo>
                <a:lnTo>
                  <a:pt x="155" y="82"/>
                </a:lnTo>
                <a:lnTo>
                  <a:pt x="153" y="93"/>
                </a:lnTo>
                <a:lnTo>
                  <a:pt x="141" y="97"/>
                </a:lnTo>
                <a:lnTo>
                  <a:pt x="134" y="95"/>
                </a:lnTo>
                <a:lnTo>
                  <a:pt x="122" y="90"/>
                </a:lnTo>
                <a:lnTo>
                  <a:pt x="114" y="88"/>
                </a:lnTo>
                <a:lnTo>
                  <a:pt x="105" y="82"/>
                </a:lnTo>
                <a:lnTo>
                  <a:pt x="95" y="76"/>
                </a:lnTo>
                <a:lnTo>
                  <a:pt x="85" y="70"/>
                </a:lnTo>
                <a:lnTo>
                  <a:pt x="81" y="66"/>
                </a:lnTo>
                <a:lnTo>
                  <a:pt x="62" y="61"/>
                </a:lnTo>
                <a:lnTo>
                  <a:pt x="42" y="55"/>
                </a:lnTo>
                <a:lnTo>
                  <a:pt x="31" y="49"/>
                </a:lnTo>
                <a:lnTo>
                  <a:pt x="19" y="45"/>
                </a:lnTo>
                <a:lnTo>
                  <a:pt x="9" y="41"/>
                </a:lnTo>
                <a:lnTo>
                  <a:pt x="0" y="37"/>
                </a:lnTo>
                <a:close/>
              </a:path>
            </a:pathLst>
          </a:custGeom>
          <a:solidFill>
            <a:srgbClr val="cc2e17"/>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36" name=""/>
          <p:cNvSpPr/>
          <p:nvPr/>
        </p:nvSpPr>
        <p:spPr>
          <a:xfrm>
            <a:off x="5692680" y="3613320"/>
            <a:ext cx="85680" cy="120600"/>
          </a:xfrm>
          <a:custGeom>
            <a:avLst/>
            <a:gdLst/>
            <a:ahLst/>
            <a:rect l="l" t="t" r="r" b="b"/>
            <a:pathLst>
              <a:path w="108" h="152">
                <a:moveTo>
                  <a:pt x="56" y="8"/>
                </a:moveTo>
                <a:lnTo>
                  <a:pt x="68" y="16"/>
                </a:lnTo>
                <a:lnTo>
                  <a:pt x="81" y="30"/>
                </a:lnTo>
                <a:lnTo>
                  <a:pt x="87" y="39"/>
                </a:lnTo>
                <a:lnTo>
                  <a:pt x="93" y="53"/>
                </a:lnTo>
                <a:lnTo>
                  <a:pt x="97" y="70"/>
                </a:lnTo>
                <a:lnTo>
                  <a:pt x="101" y="88"/>
                </a:lnTo>
                <a:lnTo>
                  <a:pt x="103" y="105"/>
                </a:lnTo>
                <a:lnTo>
                  <a:pt x="107" y="123"/>
                </a:lnTo>
                <a:lnTo>
                  <a:pt x="107" y="136"/>
                </a:lnTo>
                <a:lnTo>
                  <a:pt x="108" y="152"/>
                </a:lnTo>
                <a:lnTo>
                  <a:pt x="108" y="152"/>
                </a:lnTo>
                <a:lnTo>
                  <a:pt x="105" y="140"/>
                </a:lnTo>
                <a:lnTo>
                  <a:pt x="97" y="123"/>
                </a:lnTo>
                <a:lnTo>
                  <a:pt x="91" y="113"/>
                </a:lnTo>
                <a:lnTo>
                  <a:pt x="85" y="103"/>
                </a:lnTo>
                <a:lnTo>
                  <a:pt x="77" y="92"/>
                </a:lnTo>
                <a:lnTo>
                  <a:pt x="72" y="82"/>
                </a:lnTo>
                <a:lnTo>
                  <a:pt x="62" y="70"/>
                </a:lnTo>
                <a:lnTo>
                  <a:pt x="54" y="59"/>
                </a:lnTo>
                <a:lnTo>
                  <a:pt x="44" y="47"/>
                </a:lnTo>
                <a:lnTo>
                  <a:pt x="37" y="35"/>
                </a:lnTo>
                <a:lnTo>
                  <a:pt x="17" y="16"/>
                </a:lnTo>
                <a:lnTo>
                  <a:pt x="0" y="0"/>
                </a:lnTo>
                <a:lnTo>
                  <a:pt x="11" y="0"/>
                </a:lnTo>
                <a:lnTo>
                  <a:pt x="29" y="14"/>
                </a:lnTo>
                <a:lnTo>
                  <a:pt x="37" y="26"/>
                </a:lnTo>
                <a:lnTo>
                  <a:pt x="44" y="41"/>
                </a:lnTo>
                <a:lnTo>
                  <a:pt x="52" y="49"/>
                </a:lnTo>
                <a:lnTo>
                  <a:pt x="68" y="45"/>
                </a:lnTo>
                <a:lnTo>
                  <a:pt x="62" y="26"/>
                </a:lnTo>
                <a:lnTo>
                  <a:pt x="56" y="8"/>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37" name=""/>
          <p:cNvSpPr/>
          <p:nvPr/>
        </p:nvSpPr>
        <p:spPr>
          <a:xfrm>
            <a:off x="5621400" y="3328920"/>
            <a:ext cx="290520" cy="246240"/>
          </a:xfrm>
          <a:custGeom>
            <a:avLst/>
            <a:gdLst/>
            <a:ahLst/>
            <a:rect l="l" t="t" r="r" b="b"/>
            <a:pathLst>
              <a:path w="364" h="310">
                <a:moveTo>
                  <a:pt x="40" y="42"/>
                </a:moveTo>
                <a:lnTo>
                  <a:pt x="40" y="39"/>
                </a:lnTo>
                <a:lnTo>
                  <a:pt x="44" y="37"/>
                </a:lnTo>
                <a:lnTo>
                  <a:pt x="48" y="27"/>
                </a:lnTo>
                <a:lnTo>
                  <a:pt x="60" y="17"/>
                </a:lnTo>
                <a:lnTo>
                  <a:pt x="73" y="9"/>
                </a:lnTo>
                <a:lnTo>
                  <a:pt x="81" y="6"/>
                </a:lnTo>
                <a:lnTo>
                  <a:pt x="81" y="6"/>
                </a:lnTo>
                <a:lnTo>
                  <a:pt x="87" y="0"/>
                </a:lnTo>
                <a:lnTo>
                  <a:pt x="99" y="0"/>
                </a:lnTo>
                <a:lnTo>
                  <a:pt x="108" y="0"/>
                </a:lnTo>
                <a:lnTo>
                  <a:pt x="122" y="4"/>
                </a:lnTo>
                <a:lnTo>
                  <a:pt x="133" y="4"/>
                </a:lnTo>
                <a:lnTo>
                  <a:pt x="145" y="7"/>
                </a:lnTo>
                <a:lnTo>
                  <a:pt x="155" y="9"/>
                </a:lnTo>
                <a:lnTo>
                  <a:pt x="163" y="13"/>
                </a:lnTo>
                <a:lnTo>
                  <a:pt x="180" y="15"/>
                </a:lnTo>
                <a:lnTo>
                  <a:pt x="197" y="19"/>
                </a:lnTo>
                <a:lnTo>
                  <a:pt x="215" y="21"/>
                </a:lnTo>
                <a:lnTo>
                  <a:pt x="234" y="25"/>
                </a:lnTo>
                <a:lnTo>
                  <a:pt x="252" y="27"/>
                </a:lnTo>
                <a:lnTo>
                  <a:pt x="269" y="31"/>
                </a:lnTo>
                <a:lnTo>
                  <a:pt x="287" y="35"/>
                </a:lnTo>
                <a:lnTo>
                  <a:pt x="306" y="40"/>
                </a:lnTo>
                <a:lnTo>
                  <a:pt x="308" y="40"/>
                </a:lnTo>
                <a:lnTo>
                  <a:pt x="316" y="44"/>
                </a:lnTo>
                <a:lnTo>
                  <a:pt x="325" y="48"/>
                </a:lnTo>
                <a:lnTo>
                  <a:pt x="337" y="54"/>
                </a:lnTo>
                <a:lnTo>
                  <a:pt x="355" y="64"/>
                </a:lnTo>
                <a:lnTo>
                  <a:pt x="364" y="73"/>
                </a:lnTo>
                <a:lnTo>
                  <a:pt x="353" y="71"/>
                </a:lnTo>
                <a:lnTo>
                  <a:pt x="343" y="71"/>
                </a:lnTo>
                <a:lnTo>
                  <a:pt x="331" y="71"/>
                </a:lnTo>
                <a:lnTo>
                  <a:pt x="322" y="73"/>
                </a:lnTo>
                <a:lnTo>
                  <a:pt x="310" y="73"/>
                </a:lnTo>
                <a:lnTo>
                  <a:pt x="300" y="77"/>
                </a:lnTo>
                <a:lnTo>
                  <a:pt x="291" y="81"/>
                </a:lnTo>
                <a:lnTo>
                  <a:pt x="287" y="87"/>
                </a:lnTo>
                <a:lnTo>
                  <a:pt x="281" y="93"/>
                </a:lnTo>
                <a:lnTo>
                  <a:pt x="287" y="102"/>
                </a:lnTo>
                <a:lnTo>
                  <a:pt x="296" y="114"/>
                </a:lnTo>
                <a:lnTo>
                  <a:pt x="312" y="126"/>
                </a:lnTo>
                <a:lnTo>
                  <a:pt x="304" y="130"/>
                </a:lnTo>
                <a:lnTo>
                  <a:pt x="296" y="135"/>
                </a:lnTo>
                <a:lnTo>
                  <a:pt x="285" y="137"/>
                </a:lnTo>
                <a:lnTo>
                  <a:pt x="275" y="141"/>
                </a:lnTo>
                <a:lnTo>
                  <a:pt x="261" y="141"/>
                </a:lnTo>
                <a:lnTo>
                  <a:pt x="248" y="141"/>
                </a:lnTo>
                <a:lnTo>
                  <a:pt x="234" y="141"/>
                </a:lnTo>
                <a:lnTo>
                  <a:pt x="221" y="141"/>
                </a:lnTo>
                <a:lnTo>
                  <a:pt x="203" y="139"/>
                </a:lnTo>
                <a:lnTo>
                  <a:pt x="188" y="137"/>
                </a:lnTo>
                <a:lnTo>
                  <a:pt x="172" y="137"/>
                </a:lnTo>
                <a:lnTo>
                  <a:pt x="161" y="137"/>
                </a:lnTo>
                <a:lnTo>
                  <a:pt x="145" y="137"/>
                </a:lnTo>
                <a:lnTo>
                  <a:pt x="133" y="141"/>
                </a:lnTo>
                <a:lnTo>
                  <a:pt x="120" y="145"/>
                </a:lnTo>
                <a:lnTo>
                  <a:pt x="112" y="151"/>
                </a:lnTo>
                <a:lnTo>
                  <a:pt x="99" y="155"/>
                </a:lnTo>
                <a:lnTo>
                  <a:pt x="87" y="161"/>
                </a:lnTo>
                <a:lnTo>
                  <a:pt x="79" y="166"/>
                </a:lnTo>
                <a:lnTo>
                  <a:pt x="73" y="174"/>
                </a:lnTo>
                <a:lnTo>
                  <a:pt x="68" y="182"/>
                </a:lnTo>
                <a:lnTo>
                  <a:pt x="64" y="192"/>
                </a:lnTo>
                <a:lnTo>
                  <a:pt x="62" y="201"/>
                </a:lnTo>
                <a:lnTo>
                  <a:pt x="64" y="213"/>
                </a:lnTo>
                <a:lnTo>
                  <a:pt x="64" y="223"/>
                </a:lnTo>
                <a:lnTo>
                  <a:pt x="68" y="234"/>
                </a:lnTo>
                <a:lnTo>
                  <a:pt x="71" y="246"/>
                </a:lnTo>
                <a:lnTo>
                  <a:pt x="77" y="258"/>
                </a:lnTo>
                <a:lnTo>
                  <a:pt x="81" y="269"/>
                </a:lnTo>
                <a:lnTo>
                  <a:pt x="87" y="283"/>
                </a:lnTo>
                <a:lnTo>
                  <a:pt x="95" y="296"/>
                </a:lnTo>
                <a:lnTo>
                  <a:pt x="104" y="310"/>
                </a:lnTo>
                <a:lnTo>
                  <a:pt x="93" y="294"/>
                </a:lnTo>
                <a:lnTo>
                  <a:pt x="77" y="281"/>
                </a:lnTo>
                <a:lnTo>
                  <a:pt x="62" y="271"/>
                </a:lnTo>
                <a:lnTo>
                  <a:pt x="46" y="273"/>
                </a:lnTo>
                <a:lnTo>
                  <a:pt x="38" y="258"/>
                </a:lnTo>
                <a:lnTo>
                  <a:pt x="31" y="244"/>
                </a:lnTo>
                <a:lnTo>
                  <a:pt x="25" y="229"/>
                </a:lnTo>
                <a:lnTo>
                  <a:pt x="19" y="215"/>
                </a:lnTo>
                <a:lnTo>
                  <a:pt x="13" y="199"/>
                </a:lnTo>
                <a:lnTo>
                  <a:pt x="7" y="186"/>
                </a:lnTo>
                <a:lnTo>
                  <a:pt x="4" y="170"/>
                </a:lnTo>
                <a:lnTo>
                  <a:pt x="4" y="157"/>
                </a:lnTo>
                <a:lnTo>
                  <a:pt x="0" y="141"/>
                </a:lnTo>
                <a:lnTo>
                  <a:pt x="0" y="128"/>
                </a:lnTo>
                <a:lnTo>
                  <a:pt x="0" y="112"/>
                </a:lnTo>
                <a:lnTo>
                  <a:pt x="5" y="99"/>
                </a:lnTo>
                <a:lnTo>
                  <a:pt x="9" y="83"/>
                </a:lnTo>
                <a:lnTo>
                  <a:pt x="17" y="70"/>
                </a:lnTo>
                <a:lnTo>
                  <a:pt x="27" y="54"/>
                </a:lnTo>
                <a:lnTo>
                  <a:pt x="40" y="42"/>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38" name=""/>
          <p:cNvSpPr/>
          <p:nvPr/>
        </p:nvSpPr>
        <p:spPr>
          <a:xfrm>
            <a:off x="5645160" y="3348000"/>
            <a:ext cx="216000" cy="135000"/>
          </a:xfrm>
          <a:custGeom>
            <a:avLst/>
            <a:gdLst/>
            <a:ahLst/>
            <a:rect l="l" t="t" r="r" b="b"/>
            <a:pathLst>
              <a:path w="271" h="169">
                <a:moveTo>
                  <a:pt x="71" y="99"/>
                </a:moveTo>
                <a:lnTo>
                  <a:pt x="71" y="99"/>
                </a:lnTo>
                <a:lnTo>
                  <a:pt x="83" y="97"/>
                </a:lnTo>
                <a:lnTo>
                  <a:pt x="97" y="95"/>
                </a:lnTo>
                <a:lnTo>
                  <a:pt x="87" y="85"/>
                </a:lnTo>
                <a:lnTo>
                  <a:pt x="79" y="76"/>
                </a:lnTo>
                <a:lnTo>
                  <a:pt x="73" y="64"/>
                </a:lnTo>
                <a:lnTo>
                  <a:pt x="81" y="54"/>
                </a:lnTo>
                <a:lnTo>
                  <a:pt x="93" y="48"/>
                </a:lnTo>
                <a:lnTo>
                  <a:pt x="110" y="48"/>
                </a:lnTo>
                <a:lnTo>
                  <a:pt x="126" y="48"/>
                </a:lnTo>
                <a:lnTo>
                  <a:pt x="139" y="52"/>
                </a:lnTo>
                <a:lnTo>
                  <a:pt x="149" y="52"/>
                </a:lnTo>
                <a:lnTo>
                  <a:pt x="163" y="54"/>
                </a:lnTo>
                <a:lnTo>
                  <a:pt x="174" y="56"/>
                </a:lnTo>
                <a:lnTo>
                  <a:pt x="184" y="66"/>
                </a:lnTo>
                <a:lnTo>
                  <a:pt x="184" y="70"/>
                </a:lnTo>
                <a:lnTo>
                  <a:pt x="178" y="76"/>
                </a:lnTo>
                <a:lnTo>
                  <a:pt x="170" y="79"/>
                </a:lnTo>
                <a:lnTo>
                  <a:pt x="161" y="83"/>
                </a:lnTo>
                <a:lnTo>
                  <a:pt x="141" y="87"/>
                </a:lnTo>
                <a:lnTo>
                  <a:pt x="134" y="91"/>
                </a:lnTo>
                <a:lnTo>
                  <a:pt x="143" y="93"/>
                </a:lnTo>
                <a:lnTo>
                  <a:pt x="163" y="95"/>
                </a:lnTo>
                <a:lnTo>
                  <a:pt x="172" y="95"/>
                </a:lnTo>
                <a:lnTo>
                  <a:pt x="184" y="95"/>
                </a:lnTo>
                <a:lnTo>
                  <a:pt x="192" y="95"/>
                </a:lnTo>
                <a:lnTo>
                  <a:pt x="199" y="97"/>
                </a:lnTo>
                <a:lnTo>
                  <a:pt x="211" y="97"/>
                </a:lnTo>
                <a:lnTo>
                  <a:pt x="225" y="99"/>
                </a:lnTo>
                <a:lnTo>
                  <a:pt x="238" y="101"/>
                </a:lnTo>
                <a:lnTo>
                  <a:pt x="254" y="103"/>
                </a:lnTo>
                <a:lnTo>
                  <a:pt x="244" y="93"/>
                </a:lnTo>
                <a:lnTo>
                  <a:pt x="238" y="83"/>
                </a:lnTo>
                <a:lnTo>
                  <a:pt x="232" y="74"/>
                </a:lnTo>
                <a:lnTo>
                  <a:pt x="232" y="64"/>
                </a:lnTo>
                <a:lnTo>
                  <a:pt x="234" y="52"/>
                </a:lnTo>
                <a:lnTo>
                  <a:pt x="242" y="46"/>
                </a:lnTo>
                <a:lnTo>
                  <a:pt x="254" y="41"/>
                </a:lnTo>
                <a:lnTo>
                  <a:pt x="271" y="41"/>
                </a:lnTo>
                <a:lnTo>
                  <a:pt x="265" y="37"/>
                </a:lnTo>
                <a:lnTo>
                  <a:pt x="256" y="33"/>
                </a:lnTo>
                <a:lnTo>
                  <a:pt x="240" y="29"/>
                </a:lnTo>
                <a:lnTo>
                  <a:pt x="225" y="25"/>
                </a:lnTo>
                <a:lnTo>
                  <a:pt x="207" y="19"/>
                </a:lnTo>
                <a:lnTo>
                  <a:pt x="192" y="15"/>
                </a:lnTo>
                <a:lnTo>
                  <a:pt x="180" y="12"/>
                </a:lnTo>
                <a:lnTo>
                  <a:pt x="176" y="12"/>
                </a:lnTo>
                <a:lnTo>
                  <a:pt x="161" y="6"/>
                </a:lnTo>
                <a:lnTo>
                  <a:pt x="145" y="2"/>
                </a:lnTo>
                <a:lnTo>
                  <a:pt x="126" y="0"/>
                </a:lnTo>
                <a:lnTo>
                  <a:pt x="106" y="2"/>
                </a:lnTo>
                <a:lnTo>
                  <a:pt x="95" y="2"/>
                </a:lnTo>
                <a:lnTo>
                  <a:pt x="83" y="2"/>
                </a:lnTo>
                <a:lnTo>
                  <a:pt x="73" y="2"/>
                </a:lnTo>
                <a:lnTo>
                  <a:pt x="64" y="4"/>
                </a:lnTo>
                <a:lnTo>
                  <a:pt x="46" y="8"/>
                </a:lnTo>
                <a:lnTo>
                  <a:pt x="33" y="15"/>
                </a:lnTo>
                <a:lnTo>
                  <a:pt x="27" y="17"/>
                </a:lnTo>
                <a:lnTo>
                  <a:pt x="23" y="25"/>
                </a:lnTo>
                <a:lnTo>
                  <a:pt x="13" y="35"/>
                </a:lnTo>
                <a:lnTo>
                  <a:pt x="7" y="52"/>
                </a:lnTo>
                <a:lnTo>
                  <a:pt x="4" y="60"/>
                </a:lnTo>
                <a:lnTo>
                  <a:pt x="2" y="72"/>
                </a:lnTo>
                <a:lnTo>
                  <a:pt x="0" y="81"/>
                </a:lnTo>
                <a:lnTo>
                  <a:pt x="0" y="97"/>
                </a:lnTo>
                <a:lnTo>
                  <a:pt x="0" y="110"/>
                </a:lnTo>
                <a:lnTo>
                  <a:pt x="4" y="128"/>
                </a:lnTo>
                <a:lnTo>
                  <a:pt x="4" y="136"/>
                </a:lnTo>
                <a:lnTo>
                  <a:pt x="7" y="145"/>
                </a:lnTo>
                <a:lnTo>
                  <a:pt x="9" y="157"/>
                </a:lnTo>
                <a:lnTo>
                  <a:pt x="15" y="169"/>
                </a:lnTo>
                <a:lnTo>
                  <a:pt x="15" y="153"/>
                </a:lnTo>
                <a:lnTo>
                  <a:pt x="15" y="141"/>
                </a:lnTo>
                <a:lnTo>
                  <a:pt x="15" y="130"/>
                </a:lnTo>
                <a:lnTo>
                  <a:pt x="19" y="124"/>
                </a:lnTo>
                <a:lnTo>
                  <a:pt x="23" y="110"/>
                </a:lnTo>
                <a:lnTo>
                  <a:pt x="31" y="105"/>
                </a:lnTo>
                <a:lnTo>
                  <a:pt x="37" y="99"/>
                </a:lnTo>
                <a:lnTo>
                  <a:pt x="48" y="99"/>
                </a:lnTo>
                <a:lnTo>
                  <a:pt x="58" y="97"/>
                </a:lnTo>
                <a:lnTo>
                  <a:pt x="71" y="99"/>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39" name=""/>
          <p:cNvSpPr/>
          <p:nvPr/>
        </p:nvSpPr>
        <p:spPr>
          <a:xfrm>
            <a:off x="5700600" y="3351240"/>
            <a:ext cx="109800" cy="41400"/>
          </a:xfrm>
          <a:custGeom>
            <a:avLst/>
            <a:gdLst/>
            <a:ahLst/>
            <a:rect l="l" t="t" r="r" b="b"/>
            <a:pathLst>
              <a:path w="137" h="50">
                <a:moveTo>
                  <a:pt x="0" y="33"/>
                </a:moveTo>
                <a:lnTo>
                  <a:pt x="3" y="23"/>
                </a:lnTo>
                <a:lnTo>
                  <a:pt x="9" y="15"/>
                </a:lnTo>
                <a:lnTo>
                  <a:pt x="15" y="6"/>
                </a:lnTo>
                <a:lnTo>
                  <a:pt x="23" y="4"/>
                </a:lnTo>
                <a:lnTo>
                  <a:pt x="36" y="0"/>
                </a:lnTo>
                <a:lnTo>
                  <a:pt x="54" y="4"/>
                </a:lnTo>
                <a:lnTo>
                  <a:pt x="69" y="8"/>
                </a:lnTo>
                <a:lnTo>
                  <a:pt x="85" y="17"/>
                </a:lnTo>
                <a:lnTo>
                  <a:pt x="93" y="23"/>
                </a:lnTo>
                <a:lnTo>
                  <a:pt x="110" y="35"/>
                </a:lnTo>
                <a:lnTo>
                  <a:pt x="126" y="44"/>
                </a:lnTo>
                <a:lnTo>
                  <a:pt x="135" y="50"/>
                </a:lnTo>
                <a:lnTo>
                  <a:pt x="137" y="50"/>
                </a:lnTo>
                <a:lnTo>
                  <a:pt x="120" y="50"/>
                </a:lnTo>
                <a:lnTo>
                  <a:pt x="102" y="50"/>
                </a:lnTo>
                <a:lnTo>
                  <a:pt x="83" y="46"/>
                </a:lnTo>
                <a:lnTo>
                  <a:pt x="65" y="44"/>
                </a:lnTo>
                <a:lnTo>
                  <a:pt x="48" y="39"/>
                </a:lnTo>
                <a:lnTo>
                  <a:pt x="31" y="35"/>
                </a:lnTo>
                <a:lnTo>
                  <a:pt x="13" y="33"/>
                </a:lnTo>
                <a:lnTo>
                  <a:pt x="0" y="33"/>
                </a:lnTo>
                <a:close/>
              </a:path>
            </a:pathLst>
          </a:custGeom>
          <a:solidFill>
            <a:srgbClr val="ffb39e"/>
          </a:solidFill>
          <a:ln w="0">
            <a:noFill/>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140" name=""/>
          <p:cNvSpPr/>
          <p:nvPr/>
        </p:nvSpPr>
        <p:spPr>
          <a:xfrm>
            <a:off x="6421320" y="2959200"/>
            <a:ext cx="38160" cy="263520"/>
          </a:xfrm>
          <a:custGeom>
            <a:avLst/>
            <a:gdLst/>
            <a:ahLst/>
            <a:rect l="l" t="t" r="r" b="b"/>
            <a:pathLst>
              <a:path w="49" h="332">
                <a:moveTo>
                  <a:pt x="47" y="111"/>
                </a:moveTo>
                <a:lnTo>
                  <a:pt x="47" y="130"/>
                </a:lnTo>
                <a:lnTo>
                  <a:pt x="47" y="152"/>
                </a:lnTo>
                <a:lnTo>
                  <a:pt x="47" y="171"/>
                </a:lnTo>
                <a:lnTo>
                  <a:pt x="49" y="190"/>
                </a:lnTo>
                <a:lnTo>
                  <a:pt x="47" y="208"/>
                </a:lnTo>
                <a:lnTo>
                  <a:pt x="47" y="229"/>
                </a:lnTo>
                <a:lnTo>
                  <a:pt x="45" y="239"/>
                </a:lnTo>
                <a:lnTo>
                  <a:pt x="45" y="251"/>
                </a:lnTo>
                <a:lnTo>
                  <a:pt x="45" y="262"/>
                </a:lnTo>
                <a:lnTo>
                  <a:pt x="45" y="274"/>
                </a:lnTo>
                <a:lnTo>
                  <a:pt x="39" y="289"/>
                </a:lnTo>
                <a:lnTo>
                  <a:pt x="35" y="305"/>
                </a:lnTo>
                <a:lnTo>
                  <a:pt x="23" y="318"/>
                </a:lnTo>
                <a:lnTo>
                  <a:pt x="14" y="332"/>
                </a:lnTo>
                <a:lnTo>
                  <a:pt x="4" y="320"/>
                </a:lnTo>
                <a:lnTo>
                  <a:pt x="6" y="305"/>
                </a:lnTo>
                <a:lnTo>
                  <a:pt x="6" y="289"/>
                </a:lnTo>
                <a:lnTo>
                  <a:pt x="10" y="276"/>
                </a:lnTo>
                <a:lnTo>
                  <a:pt x="10" y="262"/>
                </a:lnTo>
                <a:lnTo>
                  <a:pt x="14" y="249"/>
                </a:lnTo>
                <a:lnTo>
                  <a:pt x="14" y="233"/>
                </a:lnTo>
                <a:lnTo>
                  <a:pt x="16" y="221"/>
                </a:lnTo>
                <a:lnTo>
                  <a:pt x="18" y="206"/>
                </a:lnTo>
                <a:lnTo>
                  <a:pt x="20" y="194"/>
                </a:lnTo>
                <a:lnTo>
                  <a:pt x="20" y="179"/>
                </a:lnTo>
                <a:lnTo>
                  <a:pt x="20" y="165"/>
                </a:lnTo>
                <a:lnTo>
                  <a:pt x="20" y="152"/>
                </a:lnTo>
                <a:lnTo>
                  <a:pt x="20" y="140"/>
                </a:lnTo>
                <a:lnTo>
                  <a:pt x="18" y="126"/>
                </a:lnTo>
                <a:lnTo>
                  <a:pt x="16" y="113"/>
                </a:lnTo>
                <a:lnTo>
                  <a:pt x="14" y="99"/>
                </a:lnTo>
                <a:lnTo>
                  <a:pt x="14" y="88"/>
                </a:lnTo>
                <a:lnTo>
                  <a:pt x="8" y="70"/>
                </a:lnTo>
                <a:lnTo>
                  <a:pt x="4" y="53"/>
                </a:lnTo>
                <a:lnTo>
                  <a:pt x="0" y="35"/>
                </a:lnTo>
                <a:lnTo>
                  <a:pt x="4" y="18"/>
                </a:lnTo>
                <a:lnTo>
                  <a:pt x="8" y="10"/>
                </a:lnTo>
                <a:lnTo>
                  <a:pt x="12" y="0"/>
                </a:lnTo>
                <a:lnTo>
                  <a:pt x="18" y="12"/>
                </a:lnTo>
                <a:lnTo>
                  <a:pt x="23" y="24"/>
                </a:lnTo>
                <a:lnTo>
                  <a:pt x="29" y="37"/>
                </a:lnTo>
                <a:lnTo>
                  <a:pt x="35" y="53"/>
                </a:lnTo>
                <a:lnTo>
                  <a:pt x="39" y="66"/>
                </a:lnTo>
                <a:lnTo>
                  <a:pt x="43" y="82"/>
                </a:lnTo>
                <a:lnTo>
                  <a:pt x="45" y="95"/>
                </a:lnTo>
                <a:lnTo>
                  <a:pt x="47"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41" name=""/>
          <p:cNvSpPr/>
          <p:nvPr/>
        </p:nvSpPr>
        <p:spPr>
          <a:xfrm>
            <a:off x="3459240" y="3108240"/>
            <a:ext cx="230040" cy="55800"/>
          </a:xfrm>
          <a:custGeom>
            <a:avLst/>
            <a:gdLst/>
            <a:ahLst/>
            <a:rect l="l" t="t" r="r" b="b"/>
            <a:pathLst>
              <a:path w="291" h="70">
                <a:moveTo>
                  <a:pt x="291" y="0"/>
                </a:moveTo>
                <a:lnTo>
                  <a:pt x="291" y="16"/>
                </a:lnTo>
                <a:lnTo>
                  <a:pt x="285" y="31"/>
                </a:lnTo>
                <a:lnTo>
                  <a:pt x="275" y="47"/>
                </a:lnTo>
                <a:lnTo>
                  <a:pt x="267" y="64"/>
                </a:lnTo>
                <a:lnTo>
                  <a:pt x="258" y="61"/>
                </a:lnTo>
                <a:lnTo>
                  <a:pt x="250" y="55"/>
                </a:lnTo>
                <a:lnTo>
                  <a:pt x="244" y="45"/>
                </a:lnTo>
                <a:lnTo>
                  <a:pt x="238" y="41"/>
                </a:lnTo>
                <a:lnTo>
                  <a:pt x="219" y="33"/>
                </a:lnTo>
                <a:lnTo>
                  <a:pt x="200" y="30"/>
                </a:lnTo>
                <a:lnTo>
                  <a:pt x="180" y="28"/>
                </a:lnTo>
                <a:lnTo>
                  <a:pt x="161" y="30"/>
                </a:lnTo>
                <a:lnTo>
                  <a:pt x="139" y="31"/>
                </a:lnTo>
                <a:lnTo>
                  <a:pt x="120" y="35"/>
                </a:lnTo>
                <a:lnTo>
                  <a:pt x="103" y="41"/>
                </a:lnTo>
                <a:lnTo>
                  <a:pt x="87" y="49"/>
                </a:lnTo>
                <a:lnTo>
                  <a:pt x="75" y="53"/>
                </a:lnTo>
                <a:lnTo>
                  <a:pt x="64" y="57"/>
                </a:lnTo>
                <a:lnTo>
                  <a:pt x="52" y="61"/>
                </a:lnTo>
                <a:lnTo>
                  <a:pt x="42" y="64"/>
                </a:lnTo>
                <a:lnTo>
                  <a:pt x="31" y="66"/>
                </a:lnTo>
                <a:lnTo>
                  <a:pt x="19" y="68"/>
                </a:lnTo>
                <a:lnTo>
                  <a:pt x="9" y="68"/>
                </a:lnTo>
                <a:lnTo>
                  <a:pt x="0" y="70"/>
                </a:lnTo>
                <a:lnTo>
                  <a:pt x="2" y="63"/>
                </a:lnTo>
                <a:lnTo>
                  <a:pt x="11" y="61"/>
                </a:lnTo>
                <a:lnTo>
                  <a:pt x="19" y="57"/>
                </a:lnTo>
                <a:lnTo>
                  <a:pt x="29" y="55"/>
                </a:lnTo>
                <a:lnTo>
                  <a:pt x="46" y="43"/>
                </a:lnTo>
                <a:lnTo>
                  <a:pt x="66" y="31"/>
                </a:lnTo>
                <a:lnTo>
                  <a:pt x="85" y="20"/>
                </a:lnTo>
                <a:lnTo>
                  <a:pt x="106" y="12"/>
                </a:lnTo>
                <a:lnTo>
                  <a:pt x="114" y="6"/>
                </a:lnTo>
                <a:lnTo>
                  <a:pt x="124" y="4"/>
                </a:lnTo>
                <a:lnTo>
                  <a:pt x="136" y="0"/>
                </a:lnTo>
                <a:lnTo>
                  <a:pt x="147" y="0"/>
                </a:lnTo>
                <a:lnTo>
                  <a:pt x="157" y="0"/>
                </a:lnTo>
                <a:lnTo>
                  <a:pt x="169" y="2"/>
                </a:lnTo>
                <a:lnTo>
                  <a:pt x="182" y="4"/>
                </a:lnTo>
                <a:lnTo>
                  <a:pt x="196" y="10"/>
                </a:lnTo>
                <a:lnTo>
                  <a:pt x="207" y="12"/>
                </a:lnTo>
                <a:lnTo>
                  <a:pt x="219" y="12"/>
                </a:lnTo>
                <a:lnTo>
                  <a:pt x="231" y="10"/>
                </a:lnTo>
                <a:lnTo>
                  <a:pt x="242" y="10"/>
                </a:lnTo>
                <a:lnTo>
                  <a:pt x="254" y="6"/>
                </a:lnTo>
                <a:lnTo>
                  <a:pt x="265" y="4"/>
                </a:lnTo>
                <a:lnTo>
                  <a:pt x="277" y="0"/>
                </a:lnTo>
                <a:lnTo>
                  <a:pt x="291"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66"/>
              </a:solidFill>
              <a:latin typeface="Times New Roman"/>
            </a:endParaRPr>
          </a:p>
        </p:txBody>
      </p:sp>
      <p:sp>
        <p:nvSpPr>
          <p:cNvPr id="142" name=""/>
          <p:cNvSpPr/>
          <p:nvPr/>
        </p:nvSpPr>
        <p:spPr>
          <a:xfrm>
            <a:off x="3516480" y="3160800"/>
            <a:ext cx="133200" cy="81000"/>
          </a:xfrm>
          <a:custGeom>
            <a:avLst/>
            <a:gdLst/>
            <a:ahLst/>
            <a:rect l="l" t="t" r="r" b="b"/>
            <a:pathLst>
              <a:path w="168" h="101">
                <a:moveTo>
                  <a:pt x="168" y="12"/>
                </a:moveTo>
                <a:lnTo>
                  <a:pt x="162" y="22"/>
                </a:lnTo>
                <a:lnTo>
                  <a:pt x="161" y="33"/>
                </a:lnTo>
                <a:lnTo>
                  <a:pt x="161" y="43"/>
                </a:lnTo>
                <a:lnTo>
                  <a:pt x="162" y="55"/>
                </a:lnTo>
                <a:lnTo>
                  <a:pt x="164" y="64"/>
                </a:lnTo>
                <a:lnTo>
                  <a:pt x="166" y="76"/>
                </a:lnTo>
                <a:lnTo>
                  <a:pt x="166" y="86"/>
                </a:lnTo>
                <a:lnTo>
                  <a:pt x="168" y="97"/>
                </a:lnTo>
                <a:lnTo>
                  <a:pt x="161" y="99"/>
                </a:lnTo>
                <a:lnTo>
                  <a:pt x="155" y="101"/>
                </a:lnTo>
                <a:lnTo>
                  <a:pt x="153" y="88"/>
                </a:lnTo>
                <a:lnTo>
                  <a:pt x="149" y="76"/>
                </a:lnTo>
                <a:lnTo>
                  <a:pt x="145" y="64"/>
                </a:lnTo>
                <a:lnTo>
                  <a:pt x="143" y="53"/>
                </a:lnTo>
                <a:lnTo>
                  <a:pt x="135" y="60"/>
                </a:lnTo>
                <a:lnTo>
                  <a:pt x="131" y="70"/>
                </a:lnTo>
                <a:lnTo>
                  <a:pt x="124" y="80"/>
                </a:lnTo>
                <a:lnTo>
                  <a:pt x="114" y="84"/>
                </a:lnTo>
                <a:lnTo>
                  <a:pt x="108" y="66"/>
                </a:lnTo>
                <a:lnTo>
                  <a:pt x="104" y="49"/>
                </a:lnTo>
                <a:lnTo>
                  <a:pt x="100" y="39"/>
                </a:lnTo>
                <a:lnTo>
                  <a:pt x="98" y="33"/>
                </a:lnTo>
                <a:lnTo>
                  <a:pt x="91" y="28"/>
                </a:lnTo>
                <a:lnTo>
                  <a:pt x="83" y="26"/>
                </a:lnTo>
                <a:lnTo>
                  <a:pt x="64" y="37"/>
                </a:lnTo>
                <a:lnTo>
                  <a:pt x="44" y="49"/>
                </a:lnTo>
                <a:lnTo>
                  <a:pt x="23" y="55"/>
                </a:lnTo>
                <a:lnTo>
                  <a:pt x="5" y="60"/>
                </a:lnTo>
                <a:lnTo>
                  <a:pt x="0" y="47"/>
                </a:lnTo>
                <a:lnTo>
                  <a:pt x="9" y="45"/>
                </a:lnTo>
                <a:lnTo>
                  <a:pt x="23" y="45"/>
                </a:lnTo>
                <a:lnTo>
                  <a:pt x="38" y="41"/>
                </a:lnTo>
                <a:lnTo>
                  <a:pt x="50" y="29"/>
                </a:lnTo>
                <a:lnTo>
                  <a:pt x="65" y="20"/>
                </a:lnTo>
                <a:lnTo>
                  <a:pt x="79" y="12"/>
                </a:lnTo>
                <a:lnTo>
                  <a:pt x="97" y="6"/>
                </a:lnTo>
                <a:lnTo>
                  <a:pt x="114" y="0"/>
                </a:lnTo>
                <a:lnTo>
                  <a:pt x="131" y="2"/>
                </a:lnTo>
                <a:lnTo>
                  <a:pt x="149" y="4"/>
                </a:lnTo>
                <a:lnTo>
                  <a:pt x="168" y="1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66"/>
              </a:solidFill>
              <a:latin typeface="Times New Roman"/>
            </a:endParaRPr>
          </a:p>
        </p:txBody>
      </p:sp>
      <p:sp>
        <p:nvSpPr>
          <p:cNvPr id="143" name=""/>
          <p:cNvSpPr/>
          <p:nvPr/>
        </p:nvSpPr>
        <p:spPr>
          <a:xfrm>
            <a:off x="3044880" y="3233880"/>
            <a:ext cx="49320" cy="114120"/>
          </a:xfrm>
          <a:custGeom>
            <a:avLst/>
            <a:gdLst/>
            <a:ahLst/>
            <a:rect l="l" t="t" r="r" b="b"/>
            <a:pathLst>
              <a:path w="62" h="145">
                <a:moveTo>
                  <a:pt x="35" y="54"/>
                </a:moveTo>
                <a:lnTo>
                  <a:pt x="62" y="56"/>
                </a:lnTo>
                <a:lnTo>
                  <a:pt x="60" y="73"/>
                </a:lnTo>
                <a:lnTo>
                  <a:pt x="58" y="93"/>
                </a:lnTo>
                <a:lnTo>
                  <a:pt x="56" y="102"/>
                </a:lnTo>
                <a:lnTo>
                  <a:pt x="56" y="114"/>
                </a:lnTo>
                <a:lnTo>
                  <a:pt x="56" y="124"/>
                </a:lnTo>
                <a:lnTo>
                  <a:pt x="62" y="135"/>
                </a:lnTo>
                <a:lnTo>
                  <a:pt x="54" y="141"/>
                </a:lnTo>
                <a:lnTo>
                  <a:pt x="47" y="145"/>
                </a:lnTo>
                <a:lnTo>
                  <a:pt x="35" y="127"/>
                </a:lnTo>
                <a:lnTo>
                  <a:pt x="23" y="110"/>
                </a:lnTo>
                <a:lnTo>
                  <a:pt x="14" y="93"/>
                </a:lnTo>
                <a:lnTo>
                  <a:pt x="6" y="75"/>
                </a:lnTo>
                <a:lnTo>
                  <a:pt x="0" y="56"/>
                </a:lnTo>
                <a:lnTo>
                  <a:pt x="0" y="36"/>
                </a:lnTo>
                <a:lnTo>
                  <a:pt x="2" y="17"/>
                </a:lnTo>
                <a:lnTo>
                  <a:pt x="12" y="0"/>
                </a:lnTo>
                <a:lnTo>
                  <a:pt x="21" y="7"/>
                </a:lnTo>
                <a:lnTo>
                  <a:pt x="25" y="21"/>
                </a:lnTo>
                <a:lnTo>
                  <a:pt x="27" y="36"/>
                </a:lnTo>
                <a:lnTo>
                  <a:pt x="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44" name=""/>
          <p:cNvSpPr/>
          <p:nvPr/>
        </p:nvSpPr>
        <p:spPr>
          <a:xfrm>
            <a:off x="3106800" y="3243240"/>
            <a:ext cx="52200" cy="152280"/>
          </a:xfrm>
          <a:custGeom>
            <a:avLst/>
            <a:gdLst/>
            <a:ahLst/>
            <a:rect l="l" t="t" r="r" b="b"/>
            <a:pathLst>
              <a:path w="66" h="192">
                <a:moveTo>
                  <a:pt x="48" y="64"/>
                </a:moveTo>
                <a:lnTo>
                  <a:pt x="58" y="78"/>
                </a:lnTo>
                <a:lnTo>
                  <a:pt x="64" y="97"/>
                </a:lnTo>
                <a:lnTo>
                  <a:pt x="66" y="115"/>
                </a:lnTo>
                <a:lnTo>
                  <a:pt x="62" y="136"/>
                </a:lnTo>
                <a:lnTo>
                  <a:pt x="58" y="146"/>
                </a:lnTo>
                <a:lnTo>
                  <a:pt x="52" y="155"/>
                </a:lnTo>
                <a:lnTo>
                  <a:pt x="44" y="161"/>
                </a:lnTo>
                <a:lnTo>
                  <a:pt x="38" y="169"/>
                </a:lnTo>
                <a:lnTo>
                  <a:pt x="19" y="177"/>
                </a:lnTo>
                <a:lnTo>
                  <a:pt x="6" y="192"/>
                </a:lnTo>
                <a:lnTo>
                  <a:pt x="2" y="186"/>
                </a:lnTo>
                <a:lnTo>
                  <a:pt x="2" y="179"/>
                </a:lnTo>
                <a:lnTo>
                  <a:pt x="7" y="179"/>
                </a:lnTo>
                <a:lnTo>
                  <a:pt x="15" y="173"/>
                </a:lnTo>
                <a:lnTo>
                  <a:pt x="21" y="165"/>
                </a:lnTo>
                <a:lnTo>
                  <a:pt x="31" y="161"/>
                </a:lnTo>
                <a:lnTo>
                  <a:pt x="35" y="144"/>
                </a:lnTo>
                <a:lnTo>
                  <a:pt x="35" y="126"/>
                </a:lnTo>
                <a:lnTo>
                  <a:pt x="33" y="111"/>
                </a:lnTo>
                <a:lnTo>
                  <a:pt x="29" y="95"/>
                </a:lnTo>
                <a:lnTo>
                  <a:pt x="23" y="80"/>
                </a:lnTo>
                <a:lnTo>
                  <a:pt x="17" y="64"/>
                </a:lnTo>
                <a:lnTo>
                  <a:pt x="13" y="49"/>
                </a:lnTo>
                <a:lnTo>
                  <a:pt x="11" y="33"/>
                </a:lnTo>
                <a:lnTo>
                  <a:pt x="7" y="25"/>
                </a:lnTo>
                <a:lnTo>
                  <a:pt x="4" y="20"/>
                </a:lnTo>
                <a:lnTo>
                  <a:pt x="0" y="12"/>
                </a:lnTo>
                <a:lnTo>
                  <a:pt x="2" y="6"/>
                </a:lnTo>
                <a:lnTo>
                  <a:pt x="9" y="6"/>
                </a:lnTo>
                <a:lnTo>
                  <a:pt x="17" y="0"/>
                </a:lnTo>
                <a:lnTo>
                  <a:pt x="23" y="16"/>
                </a:lnTo>
                <a:lnTo>
                  <a:pt x="29" y="33"/>
                </a:lnTo>
                <a:lnTo>
                  <a:pt x="35" y="49"/>
                </a:lnTo>
                <a:lnTo>
                  <a:pt x="48"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45" name=""/>
          <p:cNvSpPr/>
          <p:nvPr/>
        </p:nvSpPr>
        <p:spPr>
          <a:xfrm>
            <a:off x="5653080" y="3314880"/>
            <a:ext cx="255600" cy="66600"/>
          </a:xfrm>
          <a:custGeom>
            <a:avLst/>
            <a:gdLst/>
            <a:ahLst/>
            <a:rect l="l" t="t" r="r" b="b"/>
            <a:pathLst>
              <a:path w="322" h="84">
                <a:moveTo>
                  <a:pt x="125" y="24"/>
                </a:moveTo>
                <a:lnTo>
                  <a:pt x="138" y="24"/>
                </a:lnTo>
                <a:lnTo>
                  <a:pt x="156" y="25"/>
                </a:lnTo>
                <a:lnTo>
                  <a:pt x="173" y="25"/>
                </a:lnTo>
                <a:lnTo>
                  <a:pt x="190" y="25"/>
                </a:lnTo>
                <a:lnTo>
                  <a:pt x="208" y="22"/>
                </a:lnTo>
                <a:lnTo>
                  <a:pt x="225" y="20"/>
                </a:lnTo>
                <a:lnTo>
                  <a:pt x="241" y="18"/>
                </a:lnTo>
                <a:lnTo>
                  <a:pt x="256" y="16"/>
                </a:lnTo>
                <a:lnTo>
                  <a:pt x="260" y="25"/>
                </a:lnTo>
                <a:lnTo>
                  <a:pt x="270" y="35"/>
                </a:lnTo>
                <a:lnTo>
                  <a:pt x="280" y="41"/>
                </a:lnTo>
                <a:lnTo>
                  <a:pt x="291" y="49"/>
                </a:lnTo>
                <a:lnTo>
                  <a:pt x="301" y="55"/>
                </a:lnTo>
                <a:lnTo>
                  <a:pt x="311" y="62"/>
                </a:lnTo>
                <a:lnTo>
                  <a:pt x="317" y="70"/>
                </a:lnTo>
                <a:lnTo>
                  <a:pt x="322" y="84"/>
                </a:lnTo>
                <a:lnTo>
                  <a:pt x="305" y="76"/>
                </a:lnTo>
                <a:lnTo>
                  <a:pt x="287" y="72"/>
                </a:lnTo>
                <a:lnTo>
                  <a:pt x="270" y="66"/>
                </a:lnTo>
                <a:lnTo>
                  <a:pt x="256" y="58"/>
                </a:lnTo>
                <a:lnTo>
                  <a:pt x="243" y="58"/>
                </a:lnTo>
                <a:lnTo>
                  <a:pt x="231" y="60"/>
                </a:lnTo>
                <a:lnTo>
                  <a:pt x="218" y="58"/>
                </a:lnTo>
                <a:lnTo>
                  <a:pt x="206" y="58"/>
                </a:lnTo>
                <a:lnTo>
                  <a:pt x="192" y="55"/>
                </a:lnTo>
                <a:lnTo>
                  <a:pt x="181" y="53"/>
                </a:lnTo>
                <a:lnTo>
                  <a:pt x="167" y="49"/>
                </a:lnTo>
                <a:lnTo>
                  <a:pt x="156" y="47"/>
                </a:lnTo>
                <a:lnTo>
                  <a:pt x="142" y="41"/>
                </a:lnTo>
                <a:lnTo>
                  <a:pt x="130" y="39"/>
                </a:lnTo>
                <a:lnTo>
                  <a:pt x="117" y="35"/>
                </a:lnTo>
                <a:lnTo>
                  <a:pt x="105" y="33"/>
                </a:lnTo>
                <a:lnTo>
                  <a:pt x="92" y="29"/>
                </a:lnTo>
                <a:lnTo>
                  <a:pt x="80" y="29"/>
                </a:lnTo>
                <a:lnTo>
                  <a:pt x="68" y="29"/>
                </a:lnTo>
                <a:lnTo>
                  <a:pt x="57" y="31"/>
                </a:lnTo>
                <a:lnTo>
                  <a:pt x="37" y="37"/>
                </a:lnTo>
                <a:lnTo>
                  <a:pt x="26" y="49"/>
                </a:lnTo>
                <a:lnTo>
                  <a:pt x="12" y="62"/>
                </a:lnTo>
                <a:lnTo>
                  <a:pt x="0" y="74"/>
                </a:lnTo>
                <a:lnTo>
                  <a:pt x="0" y="57"/>
                </a:lnTo>
                <a:lnTo>
                  <a:pt x="8" y="43"/>
                </a:lnTo>
                <a:lnTo>
                  <a:pt x="18" y="27"/>
                </a:lnTo>
                <a:lnTo>
                  <a:pt x="30" y="16"/>
                </a:lnTo>
                <a:lnTo>
                  <a:pt x="37" y="6"/>
                </a:lnTo>
                <a:lnTo>
                  <a:pt x="49" y="2"/>
                </a:lnTo>
                <a:lnTo>
                  <a:pt x="61" y="0"/>
                </a:lnTo>
                <a:lnTo>
                  <a:pt x="74" y="4"/>
                </a:lnTo>
                <a:lnTo>
                  <a:pt x="86" y="6"/>
                </a:lnTo>
                <a:lnTo>
                  <a:pt x="99" y="12"/>
                </a:lnTo>
                <a:lnTo>
                  <a:pt x="111" y="18"/>
                </a:lnTo>
                <a:lnTo>
                  <a:pt x="125"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66"/>
              </a:solidFill>
              <a:latin typeface="Times New Roman"/>
            </a:endParaRPr>
          </a:p>
        </p:txBody>
      </p:sp>
      <p:sp>
        <p:nvSpPr>
          <p:cNvPr id="146" name=""/>
          <p:cNvSpPr/>
          <p:nvPr/>
        </p:nvSpPr>
        <p:spPr>
          <a:xfrm>
            <a:off x="5500800" y="3330720"/>
            <a:ext cx="54000" cy="63360"/>
          </a:xfrm>
          <a:custGeom>
            <a:avLst/>
            <a:gdLst/>
            <a:ahLst/>
            <a:rect l="l" t="t" r="r" b="b"/>
            <a:pathLst>
              <a:path w="68" h="79">
                <a:moveTo>
                  <a:pt x="68" y="42"/>
                </a:moveTo>
                <a:lnTo>
                  <a:pt x="66" y="52"/>
                </a:lnTo>
                <a:lnTo>
                  <a:pt x="68" y="64"/>
                </a:lnTo>
                <a:lnTo>
                  <a:pt x="64" y="73"/>
                </a:lnTo>
                <a:lnTo>
                  <a:pt x="57" y="79"/>
                </a:lnTo>
                <a:lnTo>
                  <a:pt x="35" y="77"/>
                </a:lnTo>
                <a:lnTo>
                  <a:pt x="18" y="75"/>
                </a:lnTo>
                <a:lnTo>
                  <a:pt x="10" y="71"/>
                </a:lnTo>
                <a:lnTo>
                  <a:pt x="6" y="68"/>
                </a:lnTo>
                <a:lnTo>
                  <a:pt x="4" y="58"/>
                </a:lnTo>
                <a:lnTo>
                  <a:pt x="6" y="48"/>
                </a:lnTo>
                <a:lnTo>
                  <a:pt x="6" y="35"/>
                </a:lnTo>
                <a:lnTo>
                  <a:pt x="4" y="23"/>
                </a:lnTo>
                <a:lnTo>
                  <a:pt x="0" y="11"/>
                </a:lnTo>
                <a:lnTo>
                  <a:pt x="2" y="0"/>
                </a:lnTo>
                <a:lnTo>
                  <a:pt x="20" y="4"/>
                </a:lnTo>
                <a:lnTo>
                  <a:pt x="37" y="15"/>
                </a:lnTo>
                <a:lnTo>
                  <a:pt x="53" y="29"/>
                </a:lnTo>
                <a:lnTo>
                  <a:pt x="68" y="42"/>
                </a:lnTo>
                <a:close/>
              </a:path>
            </a:pathLst>
          </a:custGeom>
          <a:solidFill>
            <a:srgbClr val="e66e5c"/>
          </a:solidFill>
          <a:ln w="0">
            <a:noFill/>
          </a:ln>
        </p:spPr>
        <p:style>
          <a:lnRef idx="0"/>
          <a:fillRef idx="0"/>
          <a:effectRef idx="0"/>
          <a:fontRef idx="minor"/>
        </p:style>
        <p:txBody>
          <a:bodyPr lIns="90000" rIns="90000" tIns="16560" bIns="16560" anchor="t">
            <a:noAutofit/>
          </a:bodyPr>
          <a:p>
            <a:endParaRPr b="0" lang="en-US" sz="2400" spc="-1" strike="noStrike">
              <a:solidFill>
                <a:srgbClr val="ffff66"/>
              </a:solidFill>
              <a:latin typeface="Times New Roman"/>
            </a:endParaRPr>
          </a:p>
        </p:txBody>
      </p:sp>
      <p:sp>
        <p:nvSpPr>
          <p:cNvPr id="147" name=""/>
          <p:cNvSpPr/>
          <p:nvPr/>
        </p:nvSpPr>
        <p:spPr>
          <a:xfrm>
            <a:off x="5692680" y="3370320"/>
            <a:ext cx="125640" cy="50760"/>
          </a:xfrm>
          <a:custGeom>
            <a:avLst/>
            <a:gdLst/>
            <a:ahLst/>
            <a:rect l="l" t="t" r="r" b="b"/>
            <a:pathLst>
              <a:path w="159" h="64">
                <a:moveTo>
                  <a:pt x="159" y="33"/>
                </a:moveTo>
                <a:lnTo>
                  <a:pt x="155" y="43"/>
                </a:lnTo>
                <a:lnTo>
                  <a:pt x="138" y="33"/>
                </a:lnTo>
                <a:lnTo>
                  <a:pt x="120" y="31"/>
                </a:lnTo>
                <a:lnTo>
                  <a:pt x="103" y="29"/>
                </a:lnTo>
                <a:lnTo>
                  <a:pt x="85" y="29"/>
                </a:lnTo>
                <a:lnTo>
                  <a:pt x="74" y="35"/>
                </a:lnTo>
                <a:lnTo>
                  <a:pt x="68" y="47"/>
                </a:lnTo>
                <a:lnTo>
                  <a:pt x="60" y="54"/>
                </a:lnTo>
                <a:lnTo>
                  <a:pt x="50" y="56"/>
                </a:lnTo>
                <a:lnTo>
                  <a:pt x="41" y="45"/>
                </a:lnTo>
                <a:lnTo>
                  <a:pt x="35" y="33"/>
                </a:lnTo>
                <a:lnTo>
                  <a:pt x="25" y="41"/>
                </a:lnTo>
                <a:lnTo>
                  <a:pt x="21" y="54"/>
                </a:lnTo>
                <a:lnTo>
                  <a:pt x="15" y="64"/>
                </a:lnTo>
                <a:lnTo>
                  <a:pt x="4" y="62"/>
                </a:lnTo>
                <a:lnTo>
                  <a:pt x="0" y="43"/>
                </a:lnTo>
                <a:lnTo>
                  <a:pt x="0" y="27"/>
                </a:lnTo>
                <a:lnTo>
                  <a:pt x="4" y="12"/>
                </a:lnTo>
                <a:lnTo>
                  <a:pt x="17" y="4"/>
                </a:lnTo>
                <a:lnTo>
                  <a:pt x="25" y="0"/>
                </a:lnTo>
                <a:lnTo>
                  <a:pt x="41" y="2"/>
                </a:lnTo>
                <a:lnTo>
                  <a:pt x="58" y="6"/>
                </a:lnTo>
                <a:lnTo>
                  <a:pt x="75" y="8"/>
                </a:lnTo>
                <a:lnTo>
                  <a:pt x="93" y="12"/>
                </a:lnTo>
                <a:lnTo>
                  <a:pt x="108" y="14"/>
                </a:lnTo>
                <a:lnTo>
                  <a:pt x="126" y="19"/>
                </a:lnTo>
                <a:lnTo>
                  <a:pt x="141" y="23"/>
                </a:lnTo>
                <a:lnTo>
                  <a:pt x="159" y="3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148" name=""/>
          <p:cNvSpPr/>
          <p:nvPr/>
        </p:nvSpPr>
        <p:spPr>
          <a:xfrm>
            <a:off x="6175440" y="3370320"/>
            <a:ext cx="61920" cy="169920"/>
          </a:xfrm>
          <a:custGeom>
            <a:avLst/>
            <a:gdLst/>
            <a:ahLst/>
            <a:rect l="l" t="t" r="r" b="b"/>
            <a:pathLst>
              <a:path w="77" h="213">
                <a:moveTo>
                  <a:pt x="52" y="70"/>
                </a:moveTo>
                <a:lnTo>
                  <a:pt x="48" y="70"/>
                </a:lnTo>
                <a:lnTo>
                  <a:pt x="46" y="72"/>
                </a:lnTo>
                <a:lnTo>
                  <a:pt x="52" y="85"/>
                </a:lnTo>
                <a:lnTo>
                  <a:pt x="64" y="95"/>
                </a:lnTo>
                <a:lnTo>
                  <a:pt x="73" y="103"/>
                </a:lnTo>
                <a:lnTo>
                  <a:pt x="77" y="118"/>
                </a:lnTo>
                <a:lnTo>
                  <a:pt x="75" y="130"/>
                </a:lnTo>
                <a:lnTo>
                  <a:pt x="75" y="144"/>
                </a:lnTo>
                <a:lnTo>
                  <a:pt x="75" y="157"/>
                </a:lnTo>
                <a:lnTo>
                  <a:pt x="75" y="171"/>
                </a:lnTo>
                <a:lnTo>
                  <a:pt x="72" y="182"/>
                </a:lnTo>
                <a:lnTo>
                  <a:pt x="66" y="194"/>
                </a:lnTo>
                <a:lnTo>
                  <a:pt x="58" y="204"/>
                </a:lnTo>
                <a:lnTo>
                  <a:pt x="46" y="213"/>
                </a:lnTo>
                <a:lnTo>
                  <a:pt x="35" y="213"/>
                </a:lnTo>
                <a:lnTo>
                  <a:pt x="31" y="209"/>
                </a:lnTo>
                <a:lnTo>
                  <a:pt x="27" y="204"/>
                </a:lnTo>
                <a:lnTo>
                  <a:pt x="19" y="204"/>
                </a:lnTo>
                <a:lnTo>
                  <a:pt x="23" y="194"/>
                </a:lnTo>
                <a:lnTo>
                  <a:pt x="33" y="192"/>
                </a:lnTo>
                <a:lnTo>
                  <a:pt x="41" y="188"/>
                </a:lnTo>
                <a:lnTo>
                  <a:pt x="46" y="178"/>
                </a:lnTo>
                <a:lnTo>
                  <a:pt x="44" y="167"/>
                </a:lnTo>
                <a:lnTo>
                  <a:pt x="39" y="159"/>
                </a:lnTo>
                <a:lnTo>
                  <a:pt x="25" y="157"/>
                </a:lnTo>
                <a:lnTo>
                  <a:pt x="13" y="157"/>
                </a:lnTo>
                <a:lnTo>
                  <a:pt x="4" y="153"/>
                </a:lnTo>
                <a:lnTo>
                  <a:pt x="0" y="146"/>
                </a:lnTo>
                <a:lnTo>
                  <a:pt x="6" y="128"/>
                </a:lnTo>
                <a:lnTo>
                  <a:pt x="17" y="113"/>
                </a:lnTo>
                <a:lnTo>
                  <a:pt x="25" y="97"/>
                </a:lnTo>
                <a:lnTo>
                  <a:pt x="19" y="82"/>
                </a:lnTo>
                <a:lnTo>
                  <a:pt x="19" y="66"/>
                </a:lnTo>
                <a:lnTo>
                  <a:pt x="23" y="54"/>
                </a:lnTo>
                <a:lnTo>
                  <a:pt x="29" y="45"/>
                </a:lnTo>
                <a:lnTo>
                  <a:pt x="37" y="35"/>
                </a:lnTo>
                <a:lnTo>
                  <a:pt x="52" y="18"/>
                </a:lnTo>
                <a:lnTo>
                  <a:pt x="70" y="0"/>
                </a:lnTo>
                <a:lnTo>
                  <a:pt x="70" y="18"/>
                </a:lnTo>
                <a:lnTo>
                  <a:pt x="60" y="33"/>
                </a:lnTo>
                <a:lnTo>
                  <a:pt x="54" y="39"/>
                </a:lnTo>
                <a:lnTo>
                  <a:pt x="50" y="49"/>
                </a:lnTo>
                <a:lnTo>
                  <a:pt x="48" y="58"/>
                </a:lnTo>
                <a:lnTo>
                  <a:pt x="52"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49" name=""/>
          <p:cNvSpPr/>
          <p:nvPr/>
        </p:nvSpPr>
        <p:spPr>
          <a:xfrm>
            <a:off x="6246720" y="3384720"/>
            <a:ext cx="17640" cy="56880"/>
          </a:xfrm>
          <a:custGeom>
            <a:avLst/>
            <a:gdLst/>
            <a:ahLst/>
            <a:rect l="l" t="t" r="r" b="b"/>
            <a:pathLst>
              <a:path w="21" h="71">
                <a:moveTo>
                  <a:pt x="19" y="64"/>
                </a:moveTo>
                <a:lnTo>
                  <a:pt x="12" y="71"/>
                </a:lnTo>
                <a:lnTo>
                  <a:pt x="0" y="71"/>
                </a:lnTo>
                <a:lnTo>
                  <a:pt x="0" y="52"/>
                </a:lnTo>
                <a:lnTo>
                  <a:pt x="2" y="34"/>
                </a:lnTo>
                <a:lnTo>
                  <a:pt x="6" y="17"/>
                </a:lnTo>
                <a:lnTo>
                  <a:pt x="12" y="0"/>
                </a:lnTo>
                <a:lnTo>
                  <a:pt x="16" y="11"/>
                </a:lnTo>
                <a:lnTo>
                  <a:pt x="21" y="29"/>
                </a:lnTo>
                <a:lnTo>
                  <a:pt x="19" y="46"/>
                </a:lnTo>
                <a:lnTo>
                  <a:pt x="19" y="6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66"/>
              </a:solidFill>
              <a:latin typeface="Times New Roman"/>
            </a:endParaRPr>
          </a:p>
        </p:txBody>
      </p:sp>
      <p:sp>
        <p:nvSpPr>
          <p:cNvPr id="150" name=""/>
          <p:cNvSpPr/>
          <p:nvPr/>
        </p:nvSpPr>
        <p:spPr>
          <a:xfrm>
            <a:off x="5514840" y="3421080"/>
            <a:ext cx="34920" cy="96840"/>
          </a:xfrm>
          <a:custGeom>
            <a:avLst/>
            <a:gdLst/>
            <a:ahLst/>
            <a:rect l="l" t="t" r="r" b="b"/>
            <a:pathLst>
              <a:path w="42" h="122">
                <a:moveTo>
                  <a:pt x="42" y="37"/>
                </a:moveTo>
                <a:lnTo>
                  <a:pt x="41" y="45"/>
                </a:lnTo>
                <a:lnTo>
                  <a:pt x="41" y="56"/>
                </a:lnTo>
                <a:lnTo>
                  <a:pt x="37" y="66"/>
                </a:lnTo>
                <a:lnTo>
                  <a:pt x="35" y="78"/>
                </a:lnTo>
                <a:lnTo>
                  <a:pt x="31" y="87"/>
                </a:lnTo>
                <a:lnTo>
                  <a:pt x="27" y="99"/>
                </a:lnTo>
                <a:lnTo>
                  <a:pt x="23" y="111"/>
                </a:lnTo>
                <a:lnTo>
                  <a:pt x="21" y="122"/>
                </a:lnTo>
                <a:lnTo>
                  <a:pt x="11" y="114"/>
                </a:lnTo>
                <a:lnTo>
                  <a:pt x="4" y="107"/>
                </a:lnTo>
                <a:lnTo>
                  <a:pt x="4" y="91"/>
                </a:lnTo>
                <a:lnTo>
                  <a:pt x="0" y="76"/>
                </a:lnTo>
                <a:lnTo>
                  <a:pt x="0" y="64"/>
                </a:lnTo>
                <a:lnTo>
                  <a:pt x="0" y="52"/>
                </a:lnTo>
                <a:lnTo>
                  <a:pt x="2" y="43"/>
                </a:lnTo>
                <a:lnTo>
                  <a:pt x="6" y="35"/>
                </a:lnTo>
                <a:lnTo>
                  <a:pt x="11" y="16"/>
                </a:lnTo>
                <a:lnTo>
                  <a:pt x="23" y="0"/>
                </a:lnTo>
                <a:lnTo>
                  <a:pt x="31" y="6"/>
                </a:lnTo>
                <a:lnTo>
                  <a:pt x="35" y="18"/>
                </a:lnTo>
                <a:lnTo>
                  <a:pt x="35" y="27"/>
                </a:lnTo>
                <a:lnTo>
                  <a:pt x="42" y="37"/>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51" name=""/>
          <p:cNvSpPr/>
          <p:nvPr/>
        </p:nvSpPr>
        <p:spPr>
          <a:xfrm>
            <a:off x="5886360" y="3524400"/>
            <a:ext cx="73080" cy="144360"/>
          </a:xfrm>
          <a:custGeom>
            <a:avLst/>
            <a:gdLst/>
            <a:ahLst/>
            <a:rect l="l" t="t" r="r" b="b"/>
            <a:pathLst>
              <a:path w="91" h="182">
                <a:moveTo>
                  <a:pt x="91" y="0"/>
                </a:moveTo>
                <a:lnTo>
                  <a:pt x="82" y="15"/>
                </a:lnTo>
                <a:lnTo>
                  <a:pt x="70" y="29"/>
                </a:lnTo>
                <a:lnTo>
                  <a:pt x="58" y="43"/>
                </a:lnTo>
                <a:lnTo>
                  <a:pt x="54" y="62"/>
                </a:lnTo>
                <a:lnTo>
                  <a:pt x="51" y="76"/>
                </a:lnTo>
                <a:lnTo>
                  <a:pt x="47" y="89"/>
                </a:lnTo>
                <a:lnTo>
                  <a:pt x="41" y="103"/>
                </a:lnTo>
                <a:lnTo>
                  <a:pt x="37" y="118"/>
                </a:lnTo>
                <a:lnTo>
                  <a:pt x="31" y="130"/>
                </a:lnTo>
                <a:lnTo>
                  <a:pt x="27" y="145"/>
                </a:lnTo>
                <a:lnTo>
                  <a:pt x="23" y="157"/>
                </a:lnTo>
                <a:lnTo>
                  <a:pt x="22" y="173"/>
                </a:lnTo>
                <a:lnTo>
                  <a:pt x="16" y="178"/>
                </a:lnTo>
                <a:lnTo>
                  <a:pt x="8" y="182"/>
                </a:lnTo>
                <a:lnTo>
                  <a:pt x="0" y="167"/>
                </a:lnTo>
                <a:lnTo>
                  <a:pt x="0" y="151"/>
                </a:lnTo>
                <a:lnTo>
                  <a:pt x="0" y="134"/>
                </a:lnTo>
                <a:lnTo>
                  <a:pt x="6" y="120"/>
                </a:lnTo>
                <a:lnTo>
                  <a:pt x="10" y="101"/>
                </a:lnTo>
                <a:lnTo>
                  <a:pt x="16" y="83"/>
                </a:lnTo>
                <a:lnTo>
                  <a:pt x="22" y="64"/>
                </a:lnTo>
                <a:lnTo>
                  <a:pt x="33" y="47"/>
                </a:lnTo>
                <a:lnTo>
                  <a:pt x="43" y="29"/>
                </a:lnTo>
                <a:lnTo>
                  <a:pt x="56" y="15"/>
                </a:lnTo>
                <a:lnTo>
                  <a:pt x="72" y="4"/>
                </a:lnTo>
                <a:lnTo>
                  <a:pt x="91" y="0"/>
                </a:lnTo>
                <a:close/>
              </a:path>
            </a:pathLst>
          </a:custGeom>
          <a:solidFill>
            <a:srgbClr val="cc2e17"/>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52" name=""/>
          <p:cNvSpPr/>
          <p:nvPr/>
        </p:nvSpPr>
        <p:spPr>
          <a:xfrm>
            <a:off x="5905440" y="3529080"/>
            <a:ext cx="459000" cy="823680"/>
          </a:xfrm>
          <a:custGeom>
            <a:avLst/>
            <a:gdLst/>
            <a:ahLst/>
            <a:rect l="l" t="t" r="r" b="b"/>
            <a:pathLst>
              <a:path w="578" h="1037">
                <a:moveTo>
                  <a:pt x="493" y="48"/>
                </a:moveTo>
                <a:lnTo>
                  <a:pt x="489" y="66"/>
                </a:lnTo>
                <a:lnTo>
                  <a:pt x="489" y="85"/>
                </a:lnTo>
                <a:lnTo>
                  <a:pt x="487" y="105"/>
                </a:lnTo>
                <a:lnTo>
                  <a:pt x="487" y="126"/>
                </a:lnTo>
                <a:lnTo>
                  <a:pt x="485" y="145"/>
                </a:lnTo>
                <a:lnTo>
                  <a:pt x="485" y="167"/>
                </a:lnTo>
                <a:lnTo>
                  <a:pt x="483" y="176"/>
                </a:lnTo>
                <a:lnTo>
                  <a:pt x="483" y="188"/>
                </a:lnTo>
                <a:lnTo>
                  <a:pt x="483" y="198"/>
                </a:lnTo>
                <a:lnTo>
                  <a:pt x="483" y="209"/>
                </a:lnTo>
                <a:lnTo>
                  <a:pt x="493" y="211"/>
                </a:lnTo>
                <a:lnTo>
                  <a:pt x="499" y="221"/>
                </a:lnTo>
                <a:lnTo>
                  <a:pt x="501" y="231"/>
                </a:lnTo>
                <a:lnTo>
                  <a:pt x="512" y="236"/>
                </a:lnTo>
                <a:lnTo>
                  <a:pt x="514" y="250"/>
                </a:lnTo>
                <a:lnTo>
                  <a:pt x="518" y="265"/>
                </a:lnTo>
                <a:lnTo>
                  <a:pt x="522" y="281"/>
                </a:lnTo>
                <a:lnTo>
                  <a:pt x="528" y="296"/>
                </a:lnTo>
                <a:lnTo>
                  <a:pt x="530" y="312"/>
                </a:lnTo>
                <a:lnTo>
                  <a:pt x="534" y="327"/>
                </a:lnTo>
                <a:lnTo>
                  <a:pt x="538" y="343"/>
                </a:lnTo>
                <a:lnTo>
                  <a:pt x="543" y="360"/>
                </a:lnTo>
                <a:lnTo>
                  <a:pt x="547" y="374"/>
                </a:lnTo>
                <a:lnTo>
                  <a:pt x="551" y="390"/>
                </a:lnTo>
                <a:lnTo>
                  <a:pt x="555" y="405"/>
                </a:lnTo>
                <a:lnTo>
                  <a:pt x="561" y="423"/>
                </a:lnTo>
                <a:lnTo>
                  <a:pt x="565" y="438"/>
                </a:lnTo>
                <a:lnTo>
                  <a:pt x="569" y="454"/>
                </a:lnTo>
                <a:lnTo>
                  <a:pt x="573" y="469"/>
                </a:lnTo>
                <a:lnTo>
                  <a:pt x="578" y="486"/>
                </a:lnTo>
                <a:lnTo>
                  <a:pt x="576" y="506"/>
                </a:lnTo>
                <a:lnTo>
                  <a:pt x="575" y="527"/>
                </a:lnTo>
                <a:lnTo>
                  <a:pt x="567" y="545"/>
                </a:lnTo>
                <a:lnTo>
                  <a:pt x="561" y="564"/>
                </a:lnTo>
                <a:lnTo>
                  <a:pt x="549" y="580"/>
                </a:lnTo>
                <a:lnTo>
                  <a:pt x="540" y="595"/>
                </a:lnTo>
                <a:lnTo>
                  <a:pt x="526" y="609"/>
                </a:lnTo>
                <a:lnTo>
                  <a:pt x="512" y="624"/>
                </a:lnTo>
                <a:lnTo>
                  <a:pt x="495" y="636"/>
                </a:lnTo>
                <a:lnTo>
                  <a:pt x="478" y="647"/>
                </a:lnTo>
                <a:lnTo>
                  <a:pt x="460" y="659"/>
                </a:lnTo>
                <a:lnTo>
                  <a:pt x="445" y="673"/>
                </a:lnTo>
                <a:lnTo>
                  <a:pt x="427" y="682"/>
                </a:lnTo>
                <a:lnTo>
                  <a:pt x="410" y="694"/>
                </a:lnTo>
                <a:lnTo>
                  <a:pt x="392" y="704"/>
                </a:lnTo>
                <a:lnTo>
                  <a:pt x="379" y="715"/>
                </a:lnTo>
                <a:lnTo>
                  <a:pt x="361" y="723"/>
                </a:lnTo>
                <a:lnTo>
                  <a:pt x="344" y="733"/>
                </a:lnTo>
                <a:lnTo>
                  <a:pt x="328" y="740"/>
                </a:lnTo>
                <a:lnTo>
                  <a:pt x="315" y="750"/>
                </a:lnTo>
                <a:lnTo>
                  <a:pt x="297" y="758"/>
                </a:lnTo>
                <a:lnTo>
                  <a:pt x="284" y="768"/>
                </a:lnTo>
                <a:lnTo>
                  <a:pt x="266" y="775"/>
                </a:lnTo>
                <a:lnTo>
                  <a:pt x="253" y="787"/>
                </a:lnTo>
                <a:lnTo>
                  <a:pt x="235" y="799"/>
                </a:lnTo>
                <a:lnTo>
                  <a:pt x="218" y="810"/>
                </a:lnTo>
                <a:lnTo>
                  <a:pt x="200" y="824"/>
                </a:lnTo>
                <a:lnTo>
                  <a:pt x="183" y="839"/>
                </a:lnTo>
                <a:lnTo>
                  <a:pt x="165" y="853"/>
                </a:lnTo>
                <a:lnTo>
                  <a:pt x="150" y="868"/>
                </a:lnTo>
                <a:lnTo>
                  <a:pt x="134" y="884"/>
                </a:lnTo>
                <a:lnTo>
                  <a:pt x="121" y="901"/>
                </a:lnTo>
                <a:lnTo>
                  <a:pt x="103" y="917"/>
                </a:lnTo>
                <a:lnTo>
                  <a:pt x="90" y="934"/>
                </a:lnTo>
                <a:lnTo>
                  <a:pt x="74" y="952"/>
                </a:lnTo>
                <a:lnTo>
                  <a:pt x="61" y="969"/>
                </a:lnTo>
                <a:lnTo>
                  <a:pt x="45" y="985"/>
                </a:lnTo>
                <a:lnTo>
                  <a:pt x="33" y="1002"/>
                </a:lnTo>
                <a:lnTo>
                  <a:pt x="18" y="1020"/>
                </a:lnTo>
                <a:lnTo>
                  <a:pt x="6" y="1037"/>
                </a:lnTo>
                <a:lnTo>
                  <a:pt x="0" y="1029"/>
                </a:lnTo>
                <a:lnTo>
                  <a:pt x="4" y="1014"/>
                </a:lnTo>
                <a:lnTo>
                  <a:pt x="8" y="998"/>
                </a:lnTo>
                <a:lnTo>
                  <a:pt x="12" y="981"/>
                </a:lnTo>
                <a:lnTo>
                  <a:pt x="16" y="967"/>
                </a:lnTo>
                <a:lnTo>
                  <a:pt x="18" y="950"/>
                </a:lnTo>
                <a:lnTo>
                  <a:pt x="24" y="936"/>
                </a:lnTo>
                <a:lnTo>
                  <a:pt x="30" y="923"/>
                </a:lnTo>
                <a:lnTo>
                  <a:pt x="39" y="913"/>
                </a:lnTo>
                <a:lnTo>
                  <a:pt x="37" y="899"/>
                </a:lnTo>
                <a:lnTo>
                  <a:pt x="37" y="888"/>
                </a:lnTo>
                <a:lnTo>
                  <a:pt x="37" y="874"/>
                </a:lnTo>
                <a:lnTo>
                  <a:pt x="39" y="861"/>
                </a:lnTo>
                <a:lnTo>
                  <a:pt x="39" y="847"/>
                </a:lnTo>
                <a:lnTo>
                  <a:pt x="41" y="834"/>
                </a:lnTo>
                <a:lnTo>
                  <a:pt x="43" y="822"/>
                </a:lnTo>
                <a:lnTo>
                  <a:pt x="45" y="810"/>
                </a:lnTo>
                <a:lnTo>
                  <a:pt x="61" y="806"/>
                </a:lnTo>
                <a:lnTo>
                  <a:pt x="61" y="785"/>
                </a:lnTo>
                <a:lnTo>
                  <a:pt x="61" y="766"/>
                </a:lnTo>
                <a:lnTo>
                  <a:pt x="61" y="744"/>
                </a:lnTo>
                <a:lnTo>
                  <a:pt x="61" y="725"/>
                </a:lnTo>
                <a:lnTo>
                  <a:pt x="59" y="704"/>
                </a:lnTo>
                <a:lnTo>
                  <a:pt x="59" y="686"/>
                </a:lnTo>
                <a:lnTo>
                  <a:pt x="55" y="667"/>
                </a:lnTo>
                <a:lnTo>
                  <a:pt x="53" y="651"/>
                </a:lnTo>
                <a:lnTo>
                  <a:pt x="49" y="638"/>
                </a:lnTo>
                <a:lnTo>
                  <a:pt x="45" y="624"/>
                </a:lnTo>
                <a:lnTo>
                  <a:pt x="41" y="613"/>
                </a:lnTo>
                <a:lnTo>
                  <a:pt x="41" y="601"/>
                </a:lnTo>
                <a:lnTo>
                  <a:pt x="41" y="587"/>
                </a:lnTo>
                <a:lnTo>
                  <a:pt x="43" y="576"/>
                </a:lnTo>
                <a:lnTo>
                  <a:pt x="47" y="564"/>
                </a:lnTo>
                <a:lnTo>
                  <a:pt x="55" y="556"/>
                </a:lnTo>
                <a:lnTo>
                  <a:pt x="68" y="541"/>
                </a:lnTo>
                <a:lnTo>
                  <a:pt x="82" y="527"/>
                </a:lnTo>
                <a:lnTo>
                  <a:pt x="95" y="510"/>
                </a:lnTo>
                <a:lnTo>
                  <a:pt x="105" y="494"/>
                </a:lnTo>
                <a:lnTo>
                  <a:pt x="121" y="479"/>
                </a:lnTo>
                <a:lnTo>
                  <a:pt x="136" y="463"/>
                </a:lnTo>
                <a:lnTo>
                  <a:pt x="152" y="448"/>
                </a:lnTo>
                <a:lnTo>
                  <a:pt x="167" y="434"/>
                </a:lnTo>
                <a:lnTo>
                  <a:pt x="183" y="419"/>
                </a:lnTo>
                <a:lnTo>
                  <a:pt x="198" y="405"/>
                </a:lnTo>
                <a:lnTo>
                  <a:pt x="216" y="390"/>
                </a:lnTo>
                <a:lnTo>
                  <a:pt x="237" y="378"/>
                </a:lnTo>
                <a:lnTo>
                  <a:pt x="264" y="376"/>
                </a:lnTo>
                <a:lnTo>
                  <a:pt x="266" y="388"/>
                </a:lnTo>
                <a:lnTo>
                  <a:pt x="270" y="403"/>
                </a:lnTo>
                <a:lnTo>
                  <a:pt x="272" y="417"/>
                </a:lnTo>
                <a:lnTo>
                  <a:pt x="274" y="432"/>
                </a:lnTo>
                <a:lnTo>
                  <a:pt x="274" y="448"/>
                </a:lnTo>
                <a:lnTo>
                  <a:pt x="276" y="463"/>
                </a:lnTo>
                <a:lnTo>
                  <a:pt x="276" y="479"/>
                </a:lnTo>
                <a:lnTo>
                  <a:pt x="282" y="494"/>
                </a:lnTo>
                <a:lnTo>
                  <a:pt x="287" y="488"/>
                </a:lnTo>
                <a:lnTo>
                  <a:pt x="295" y="485"/>
                </a:lnTo>
                <a:lnTo>
                  <a:pt x="293" y="465"/>
                </a:lnTo>
                <a:lnTo>
                  <a:pt x="293" y="446"/>
                </a:lnTo>
                <a:lnTo>
                  <a:pt x="293" y="428"/>
                </a:lnTo>
                <a:lnTo>
                  <a:pt x="295" y="411"/>
                </a:lnTo>
                <a:lnTo>
                  <a:pt x="295" y="393"/>
                </a:lnTo>
                <a:lnTo>
                  <a:pt x="299" y="376"/>
                </a:lnTo>
                <a:lnTo>
                  <a:pt x="301" y="359"/>
                </a:lnTo>
                <a:lnTo>
                  <a:pt x="305" y="341"/>
                </a:lnTo>
                <a:lnTo>
                  <a:pt x="307" y="324"/>
                </a:lnTo>
                <a:lnTo>
                  <a:pt x="311" y="306"/>
                </a:lnTo>
                <a:lnTo>
                  <a:pt x="315" y="289"/>
                </a:lnTo>
                <a:lnTo>
                  <a:pt x="320" y="271"/>
                </a:lnTo>
                <a:lnTo>
                  <a:pt x="322" y="254"/>
                </a:lnTo>
                <a:lnTo>
                  <a:pt x="326" y="238"/>
                </a:lnTo>
                <a:lnTo>
                  <a:pt x="330" y="223"/>
                </a:lnTo>
                <a:lnTo>
                  <a:pt x="336" y="207"/>
                </a:lnTo>
                <a:lnTo>
                  <a:pt x="338" y="190"/>
                </a:lnTo>
                <a:lnTo>
                  <a:pt x="346" y="176"/>
                </a:lnTo>
                <a:lnTo>
                  <a:pt x="351" y="161"/>
                </a:lnTo>
                <a:lnTo>
                  <a:pt x="361" y="149"/>
                </a:lnTo>
                <a:lnTo>
                  <a:pt x="371" y="136"/>
                </a:lnTo>
                <a:lnTo>
                  <a:pt x="381" y="124"/>
                </a:lnTo>
                <a:lnTo>
                  <a:pt x="392" y="112"/>
                </a:lnTo>
                <a:lnTo>
                  <a:pt x="404" y="101"/>
                </a:lnTo>
                <a:lnTo>
                  <a:pt x="414" y="87"/>
                </a:lnTo>
                <a:lnTo>
                  <a:pt x="423" y="75"/>
                </a:lnTo>
                <a:lnTo>
                  <a:pt x="433" y="64"/>
                </a:lnTo>
                <a:lnTo>
                  <a:pt x="445" y="52"/>
                </a:lnTo>
                <a:lnTo>
                  <a:pt x="452" y="39"/>
                </a:lnTo>
                <a:lnTo>
                  <a:pt x="462" y="27"/>
                </a:lnTo>
                <a:lnTo>
                  <a:pt x="470" y="13"/>
                </a:lnTo>
                <a:lnTo>
                  <a:pt x="478" y="0"/>
                </a:lnTo>
                <a:lnTo>
                  <a:pt x="483" y="8"/>
                </a:lnTo>
                <a:lnTo>
                  <a:pt x="489" y="19"/>
                </a:lnTo>
                <a:lnTo>
                  <a:pt x="491" y="33"/>
                </a:lnTo>
                <a:lnTo>
                  <a:pt x="493" y="48"/>
                </a:lnTo>
                <a:close/>
              </a:path>
            </a:pathLst>
          </a:custGeom>
          <a:solidFill>
            <a:srgbClr val="ffb39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53" name=""/>
          <p:cNvSpPr/>
          <p:nvPr/>
        </p:nvSpPr>
        <p:spPr>
          <a:xfrm>
            <a:off x="5634000" y="3745080"/>
            <a:ext cx="47520" cy="12600"/>
          </a:xfrm>
          <a:custGeom>
            <a:avLst/>
            <a:gdLst/>
            <a:ahLst/>
            <a:rect l="l" t="t" r="r" b="b"/>
            <a:pathLst>
              <a:path w="60" h="18">
                <a:moveTo>
                  <a:pt x="60" y="4"/>
                </a:moveTo>
                <a:lnTo>
                  <a:pt x="56" y="12"/>
                </a:lnTo>
                <a:lnTo>
                  <a:pt x="47" y="16"/>
                </a:lnTo>
                <a:lnTo>
                  <a:pt x="31" y="16"/>
                </a:lnTo>
                <a:lnTo>
                  <a:pt x="20" y="18"/>
                </a:lnTo>
                <a:lnTo>
                  <a:pt x="8" y="14"/>
                </a:lnTo>
                <a:lnTo>
                  <a:pt x="0" y="4"/>
                </a:lnTo>
                <a:lnTo>
                  <a:pt x="16" y="0"/>
                </a:lnTo>
                <a:lnTo>
                  <a:pt x="29" y="0"/>
                </a:lnTo>
                <a:lnTo>
                  <a:pt x="43" y="0"/>
                </a:lnTo>
                <a:lnTo>
                  <a:pt x="60" y="4"/>
                </a:lnTo>
                <a:close/>
              </a:path>
            </a:pathLst>
          </a:custGeom>
          <a:solidFill>
            <a:srgbClr val="ff6666"/>
          </a:solidFill>
          <a:ln w="0">
            <a:noFill/>
          </a:ln>
        </p:spPr>
        <p:style>
          <a:lnRef idx="0"/>
          <a:fillRef idx="0"/>
          <a:effectRef idx="0"/>
          <a:fontRef idx="minor"/>
        </p:style>
        <p:txBody>
          <a:bodyPr lIns="90000" rIns="90000" tIns="-34200" bIns="-34200" anchor="t">
            <a:noAutofit/>
          </a:bodyPr>
          <a:p>
            <a:endParaRPr b="0" lang="en-US" sz="2400" spc="-1" strike="noStrike">
              <a:solidFill>
                <a:srgbClr val="ffff66"/>
              </a:solidFill>
              <a:latin typeface="Times New Roman"/>
            </a:endParaRPr>
          </a:p>
        </p:txBody>
      </p:sp>
      <p:sp>
        <p:nvSpPr>
          <p:cNvPr id="154" name=""/>
          <p:cNvSpPr/>
          <p:nvPr/>
        </p:nvSpPr>
        <p:spPr>
          <a:xfrm>
            <a:off x="5624640" y="3781440"/>
            <a:ext cx="71280" cy="30240"/>
          </a:xfrm>
          <a:custGeom>
            <a:avLst/>
            <a:gdLst/>
            <a:ahLst/>
            <a:rect l="l" t="t" r="r" b="b"/>
            <a:pathLst>
              <a:path w="89" h="39">
                <a:moveTo>
                  <a:pt x="89" y="27"/>
                </a:moveTo>
                <a:lnTo>
                  <a:pt x="85" y="33"/>
                </a:lnTo>
                <a:lnTo>
                  <a:pt x="79" y="39"/>
                </a:lnTo>
                <a:lnTo>
                  <a:pt x="0" y="35"/>
                </a:lnTo>
                <a:lnTo>
                  <a:pt x="3" y="27"/>
                </a:lnTo>
                <a:lnTo>
                  <a:pt x="13" y="19"/>
                </a:lnTo>
                <a:lnTo>
                  <a:pt x="19" y="9"/>
                </a:lnTo>
                <a:lnTo>
                  <a:pt x="21" y="0"/>
                </a:lnTo>
                <a:lnTo>
                  <a:pt x="29" y="0"/>
                </a:lnTo>
                <a:lnTo>
                  <a:pt x="40" y="2"/>
                </a:lnTo>
                <a:lnTo>
                  <a:pt x="50" y="2"/>
                </a:lnTo>
                <a:lnTo>
                  <a:pt x="62" y="2"/>
                </a:lnTo>
                <a:lnTo>
                  <a:pt x="69" y="2"/>
                </a:lnTo>
                <a:lnTo>
                  <a:pt x="79" y="8"/>
                </a:lnTo>
                <a:lnTo>
                  <a:pt x="83" y="13"/>
                </a:lnTo>
                <a:lnTo>
                  <a:pt x="89" y="27"/>
                </a:lnTo>
                <a:close/>
              </a:path>
            </a:pathLst>
          </a:custGeom>
          <a:solidFill>
            <a:srgbClr val="ff6666"/>
          </a:solidFill>
          <a:ln w="0">
            <a:noFill/>
          </a:ln>
        </p:spPr>
        <p:style>
          <a:lnRef idx="0"/>
          <a:fillRef idx="0"/>
          <a:effectRef idx="0"/>
          <a:fontRef idx="minor"/>
        </p:style>
        <p:txBody>
          <a:bodyPr lIns="90000" rIns="90000" tIns="-16560" bIns="-16560" anchor="t">
            <a:noAutofit/>
          </a:bodyPr>
          <a:p>
            <a:endParaRPr b="0" lang="en-US" sz="2400" spc="-1" strike="noStrike">
              <a:solidFill>
                <a:srgbClr val="ffff66"/>
              </a:solidFill>
              <a:latin typeface="Times New Roman"/>
            </a:endParaRPr>
          </a:p>
        </p:txBody>
      </p:sp>
      <p:sp>
        <p:nvSpPr>
          <p:cNvPr id="155" name=""/>
          <p:cNvSpPr/>
          <p:nvPr/>
        </p:nvSpPr>
        <p:spPr>
          <a:xfrm>
            <a:off x="5867280" y="3855960"/>
            <a:ext cx="595440" cy="785880"/>
          </a:xfrm>
          <a:custGeom>
            <a:avLst/>
            <a:gdLst/>
            <a:ahLst/>
            <a:rect l="l" t="t" r="r" b="b"/>
            <a:pathLst>
              <a:path w="749" h="989">
                <a:moveTo>
                  <a:pt x="702" y="87"/>
                </a:moveTo>
                <a:lnTo>
                  <a:pt x="706" y="93"/>
                </a:lnTo>
                <a:lnTo>
                  <a:pt x="712" y="101"/>
                </a:lnTo>
                <a:lnTo>
                  <a:pt x="716" y="110"/>
                </a:lnTo>
                <a:lnTo>
                  <a:pt x="721" y="122"/>
                </a:lnTo>
                <a:lnTo>
                  <a:pt x="725" y="134"/>
                </a:lnTo>
                <a:lnTo>
                  <a:pt x="731" y="147"/>
                </a:lnTo>
                <a:lnTo>
                  <a:pt x="737" y="159"/>
                </a:lnTo>
                <a:lnTo>
                  <a:pt x="743" y="174"/>
                </a:lnTo>
                <a:lnTo>
                  <a:pt x="745" y="186"/>
                </a:lnTo>
                <a:lnTo>
                  <a:pt x="749" y="200"/>
                </a:lnTo>
                <a:lnTo>
                  <a:pt x="749" y="211"/>
                </a:lnTo>
                <a:lnTo>
                  <a:pt x="749" y="223"/>
                </a:lnTo>
                <a:lnTo>
                  <a:pt x="745" y="232"/>
                </a:lnTo>
                <a:lnTo>
                  <a:pt x="741" y="244"/>
                </a:lnTo>
                <a:lnTo>
                  <a:pt x="735" y="252"/>
                </a:lnTo>
                <a:lnTo>
                  <a:pt x="727" y="260"/>
                </a:lnTo>
                <a:lnTo>
                  <a:pt x="716" y="264"/>
                </a:lnTo>
                <a:lnTo>
                  <a:pt x="704" y="269"/>
                </a:lnTo>
                <a:lnTo>
                  <a:pt x="694" y="275"/>
                </a:lnTo>
                <a:lnTo>
                  <a:pt x="685" y="281"/>
                </a:lnTo>
                <a:lnTo>
                  <a:pt x="663" y="293"/>
                </a:lnTo>
                <a:lnTo>
                  <a:pt x="644" y="306"/>
                </a:lnTo>
                <a:lnTo>
                  <a:pt x="622" y="318"/>
                </a:lnTo>
                <a:lnTo>
                  <a:pt x="603" y="331"/>
                </a:lnTo>
                <a:lnTo>
                  <a:pt x="586" y="345"/>
                </a:lnTo>
                <a:lnTo>
                  <a:pt x="568" y="360"/>
                </a:lnTo>
                <a:lnTo>
                  <a:pt x="551" y="372"/>
                </a:lnTo>
                <a:lnTo>
                  <a:pt x="533" y="386"/>
                </a:lnTo>
                <a:lnTo>
                  <a:pt x="516" y="399"/>
                </a:lnTo>
                <a:lnTo>
                  <a:pt x="500" y="415"/>
                </a:lnTo>
                <a:lnTo>
                  <a:pt x="483" y="428"/>
                </a:lnTo>
                <a:lnTo>
                  <a:pt x="467" y="444"/>
                </a:lnTo>
                <a:lnTo>
                  <a:pt x="452" y="457"/>
                </a:lnTo>
                <a:lnTo>
                  <a:pt x="438" y="475"/>
                </a:lnTo>
                <a:lnTo>
                  <a:pt x="421" y="488"/>
                </a:lnTo>
                <a:lnTo>
                  <a:pt x="407" y="504"/>
                </a:lnTo>
                <a:lnTo>
                  <a:pt x="392" y="519"/>
                </a:lnTo>
                <a:lnTo>
                  <a:pt x="378" y="537"/>
                </a:lnTo>
                <a:lnTo>
                  <a:pt x="363" y="552"/>
                </a:lnTo>
                <a:lnTo>
                  <a:pt x="349" y="568"/>
                </a:lnTo>
                <a:lnTo>
                  <a:pt x="333" y="585"/>
                </a:lnTo>
                <a:lnTo>
                  <a:pt x="322" y="603"/>
                </a:lnTo>
                <a:lnTo>
                  <a:pt x="306" y="618"/>
                </a:lnTo>
                <a:lnTo>
                  <a:pt x="293" y="634"/>
                </a:lnTo>
                <a:lnTo>
                  <a:pt x="279" y="651"/>
                </a:lnTo>
                <a:lnTo>
                  <a:pt x="268" y="669"/>
                </a:lnTo>
                <a:lnTo>
                  <a:pt x="254" y="686"/>
                </a:lnTo>
                <a:lnTo>
                  <a:pt x="240" y="704"/>
                </a:lnTo>
                <a:lnTo>
                  <a:pt x="229" y="721"/>
                </a:lnTo>
                <a:lnTo>
                  <a:pt x="217" y="739"/>
                </a:lnTo>
                <a:lnTo>
                  <a:pt x="205" y="756"/>
                </a:lnTo>
                <a:lnTo>
                  <a:pt x="194" y="773"/>
                </a:lnTo>
                <a:lnTo>
                  <a:pt x="182" y="791"/>
                </a:lnTo>
                <a:lnTo>
                  <a:pt x="171" y="808"/>
                </a:lnTo>
                <a:lnTo>
                  <a:pt x="159" y="826"/>
                </a:lnTo>
                <a:lnTo>
                  <a:pt x="149" y="843"/>
                </a:lnTo>
                <a:lnTo>
                  <a:pt x="140" y="861"/>
                </a:lnTo>
                <a:lnTo>
                  <a:pt x="132" y="880"/>
                </a:lnTo>
                <a:lnTo>
                  <a:pt x="124" y="892"/>
                </a:lnTo>
                <a:lnTo>
                  <a:pt x="118" y="905"/>
                </a:lnTo>
                <a:lnTo>
                  <a:pt x="112" y="919"/>
                </a:lnTo>
                <a:lnTo>
                  <a:pt x="107" y="934"/>
                </a:lnTo>
                <a:lnTo>
                  <a:pt x="99" y="946"/>
                </a:lnTo>
                <a:lnTo>
                  <a:pt x="93" y="962"/>
                </a:lnTo>
                <a:lnTo>
                  <a:pt x="87" y="973"/>
                </a:lnTo>
                <a:lnTo>
                  <a:pt x="81" y="989"/>
                </a:lnTo>
                <a:lnTo>
                  <a:pt x="76" y="971"/>
                </a:lnTo>
                <a:lnTo>
                  <a:pt x="70" y="954"/>
                </a:lnTo>
                <a:lnTo>
                  <a:pt x="64" y="936"/>
                </a:lnTo>
                <a:lnTo>
                  <a:pt x="60" y="921"/>
                </a:lnTo>
                <a:lnTo>
                  <a:pt x="54" y="903"/>
                </a:lnTo>
                <a:lnTo>
                  <a:pt x="48" y="888"/>
                </a:lnTo>
                <a:lnTo>
                  <a:pt x="45" y="872"/>
                </a:lnTo>
                <a:lnTo>
                  <a:pt x="41" y="857"/>
                </a:lnTo>
                <a:lnTo>
                  <a:pt x="35" y="839"/>
                </a:lnTo>
                <a:lnTo>
                  <a:pt x="29" y="822"/>
                </a:lnTo>
                <a:lnTo>
                  <a:pt x="23" y="804"/>
                </a:lnTo>
                <a:lnTo>
                  <a:pt x="19" y="789"/>
                </a:lnTo>
                <a:lnTo>
                  <a:pt x="13" y="772"/>
                </a:lnTo>
                <a:lnTo>
                  <a:pt x="10" y="756"/>
                </a:lnTo>
                <a:lnTo>
                  <a:pt x="4" y="741"/>
                </a:lnTo>
                <a:lnTo>
                  <a:pt x="0" y="725"/>
                </a:lnTo>
                <a:lnTo>
                  <a:pt x="6" y="711"/>
                </a:lnTo>
                <a:lnTo>
                  <a:pt x="12" y="700"/>
                </a:lnTo>
                <a:lnTo>
                  <a:pt x="17" y="688"/>
                </a:lnTo>
                <a:lnTo>
                  <a:pt x="25" y="678"/>
                </a:lnTo>
                <a:lnTo>
                  <a:pt x="41" y="657"/>
                </a:lnTo>
                <a:lnTo>
                  <a:pt x="58" y="638"/>
                </a:lnTo>
                <a:lnTo>
                  <a:pt x="74" y="616"/>
                </a:lnTo>
                <a:lnTo>
                  <a:pt x="91" y="597"/>
                </a:lnTo>
                <a:lnTo>
                  <a:pt x="110" y="578"/>
                </a:lnTo>
                <a:lnTo>
                  <a:pt x="130" y="558"/>
                </a:lnTo>
                <a:lnTo>
                  <a:pt x="140" y="545"/>
                </a:lnTo>
                <a:lnTo>
                  <a:pt x="151" y="533"/>
                </a:lnTo>
                <a:lnTo>
                  <a:pt x="163" y="521"/>
                </a:lnTo>
                <a:lnTo>
                  <a:pt x="174" y="510"/>
                </a:lnTo>
                <a:lnTo>
                  <a:pt x="186" y="498"/>
                </a:lnTo>
                <a:lnTo>
                  <a:pt x="198" y="486"/>
                </a:lnTo>
                <a:lnTo>
                  <a:pt x="209" y="475"/>
                </a:lnTo>
                <a:lnTo>
                  <a:pt x="223" y="465"/>
                </a:lnTo>
                <a:lnTo>
                  <a:pt x="235" y="454"/>
                </a:lnTo>
                <a:lnTo>
                  <a:pt x="248" y="442"/>
                </a:lnTo>
                <a:lnTo>
                  <a:pt x="262" y="430"/>
                </a:lnTo>
                <a:lnTo>
                  <a:pt x="275" y="421"/>
                </a:lnTo>
                <a:lnTo>
                  <a:pt x="287" y="409"/>
                </a:lnTo>
                <a:lnTo>
                  <a:pt x="301" y="399"/>
                </a:lnTo>
                <a:lnTo>
                  <a:pt x="314" y="390"/>
                </a:lnTo>
                <a:lnTo>
                  <a:pt x="328" y="380"/>
                </a:lnTo>
                <a:lnTo>
                  <a:pt x="339" y="368"/>
                </a:lnTo>
                <a:lnTo>
                  <a:pt x="355" y="360"/>
                </a:lnTo>
                <a:lnTo>
                  <a:pt x="368" y="351"/>
                </a:lnTo>
                <a:lnTo>
                  <a:pt x="384" y="343"/>
                </a:lnTo>
                <a:lnTo>
                  <a:pt x="397" y="333"/>
                </a:lnTo>
                <a:lnTo>
                  <a:pt x="413" y="326"/>
                </a:lnTo>
                <a:lnTo>
                  <a:pt x="427" y="318"/>
                </a:lnTo>
                <a:lnTo>
                  <a:pt x="444" y="310"/>
                </a:lnTo>
                <a:lnTo>
                  <a:pt x="461" y="296"/>
                </a:lnTo>
                <a:lnTo>
                  <a:pt x="479" y="283"/>
                </a:lnTo>
                <a:lnTo>
                  <a:pt x="494" y="269"/>
                </a:lnTo>
                <a:lnTo>
                  <a:pt x="514" y="258"/>
                </a:lnTo>
                <a:lnTo>
                  <a:pt x="531" y="242"/>
                </a:lnTo>
                <a:lnTo>
                  <a:pt x="551" y="227"/>
                </a:lnTo>
                <a:lnTo>
                  <a:pt x="568" y="209"/>
                </a:lnTo>
                <a:lnTo>
                  <a:pt x="588" y="194"/>
                </a:lnTo>
                <a:lnTo>
                  <a:pt x="601" y="174"/>
                </a:lnTo>
                <a:lnTo>
                  <a:pt x="617" y="155"/>
                </a:lnTo>
                <a:lnTo>
                  <a:pt x="621" y="143"/>
                </a:lnTo>
                <a:lnTo>
                  <a:pt x="626" y="134"/>
                </a:lnTo>
                <a:lnTo>
                  <a:pt x="630" y="122"/>
                </a:lnTo>
                <a:lnTo>
                  <a:pt x="636" y="112"/>
                </a:lnTo>
                <a:lnTo>
                  <a:pt x="636" y="101"/>
                </a:lnTo>
                <a:lnTo>
                  <a:pt x="638" y="91"/>
                </a:lnTo>
                <a:lnTo>
                  <a:pt x="640" y="79"/>
                </a:lnTo>
                <a:lnTo>
                  <a:pt x="642" y="68"/>
                </a:lnTo>
                <a:lnTo>
                  <a:pt x="640" y="56"/>
                </a:lnTo>
                <a:lnTo>
                  <a:pt x="638" y="44"/>
                </a:lnTo>
                <a:lnTo>
                  <a:pt x="634" y="33"/>
                </a:lnTo>
                <a:lnTo>
                  <a:pt x="630" y="27"/>
                </a:lnTo>
                <a:lnTo>
                  <a:pt x="621" y="0"/>
                </a:lnTo>
                <a:lnTo>
                  <a:pt x="632" y="0"/>
                </a:lnTo>
                <a:lnTo>
                  <a:pt x="644" y="8"/>
                </a:lnTo>
                <a:lnTo>
                  <a:pt x="655" y="17"/>
                </a:lnTo>
                <a:lnTo>
                  <a:pt x="669" y="35"/>
                </a:lnTo>
                <a:lnTo>
                  <a:pt x="679" y="50"/>
                </a:lnTo>
                <a:lnTo>
                  <a:pt x="688" y="66"/>
                </a:lnTo>
                <a:lnTo>
                  <a:pt x="694" y="77"/>
                </a:lnTo>
                <a:lnTo>
                  <a:pt x="702" y="87"/>
                </a:lnTo>
                <a:close/>
              </a:path>
            </a:pathLst>
          </a:custGeom>
          <a:solidFill>
            <a:srgbClr val="7afff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56" name=""/>
          <p:cNvSpPr/>
          <p:nvPr/>
        </p:nvSpPr>
        <p:spPr>
          <a:xfrm>
            <a:off x="3400560" y="5670720"/>
            <a:ext cx="377640" cy="368280"/>
          </a:xfrm>
          <a:custGeom>
            <a:avLst/>
            <a:gdLst/>
            <a:ahLst/>
            <a:rect l="l" t="t" r="r" b="b"/>
            <a:pathLst>
              <a:path w="475" h="463">
                <a:moveTo>
                  <a:pt x="0" y="463"/>
                </a:moveTo>
                <a:lnTo>
                  <a:pt x="8" y="457"/>
                </a:lnTo>
                <a:lnTo>
                  <a:pt x="18" y="456"/>
                </a:lnTo>
                <a:lnTo>
                  <a:pt x="14" y="452"/>
                </a:lnTo>
                <a:lnTo>
                  <a:pt x="23" y="444"/>
                </a:lnTo>
                <a:lnTo>
                  <a:pt x="35" y="436"/>
                </a:lnTo>
                <a:lnTo>
                  <a:pt x="45" y="428"/>
                </a:lnTo>
                <a:lnTo>
                  <a:pt x="56" y="421"/>
                </a:lnTo>
                <a:lnTo>
                  <a:pt x="66" y="411"/>
                </a:lnTo>
                <a:lnTo>
                  <a:pt x="78" y="405"/>
                </a:lnTo>
                <a:lnTo>
                  <a:pt x="89" y="395"/>
                </a:lnTo>
                <a:lnTo>
                  <a:pt x="101" y="390"/>
                </a:lnTo>
                <a:lnTo>
                  <a:pt x="111" y="380"/>
                </a:lnTo>
                <a:lnTo>
                  <a:pt x="122" y="372"/>
                </a:lnTo>
                <a:lnTo>
                  <a:pt x="132" y="362"/>
                </a:lnTo>
                <a:lnTo>
                  <a:pt x="144" y="357"/>
                </a:lnTo>
                <a:lnTo>
                  <a:pt x="155" y="347"/>
                </a:lnTo>
                <a:lnTo>
                  <a:pt x="167" y="341"/>
                </a:lnTo>
                <a:lnTo>
                  <a:pt x="179" y="335"/>
                </a:lnTo>
                <a:lnTo>
                  <a:pt x="192" y="330"/>
                </a:lnTo>
                <a:lnTo>
                  <a:pt x="190" y="326"/>
                </a:lnTo>
                <a:lnTo>
                  <a:pt x="202" y="316"/>
                </a:lnTo>
                <a:lnTo>
                  <a:pt x="213" y="308"/>
                </a:lnTo>
                <a:lnTo>
                  <a:pt x="225" y="298"/>
                </a:lnTo>
                <a:lnTo>
                  <a:pt x="239" y="289"/>
                </a:lnTo>
                <a:lnTo>
                  <a:pt x="248" y="275"/>
                </a:lnTo>
                <a:lnTo>
                  <a:pt x="260" y="264"/>
                </a:lnTo>
                <a:lnTo>
                  <a:pt x="270" y="252"/>
                </a:lnTo>
                <a:lnTo>
                  <a:pt x="281" y="240"/>
                </a:lnTo>
                <a:lnTo>
                  <a:pt x="291" y="225"/>
                </a:lnTo>
                <a:lnTo>
                  <a:pt x="301" y="211"/>
                </a:lnTo>
                <a:lnTo>
                  <a:pt x="310" y="196"/>
                </a:lnTo>
                <a:lnTo>
                  <a:pt x="320" y="182"/>
                </a:lnTo>
                <a:lnTo>
                  <a:pt x="328" y="167"/>
                </a:lnTo>
                <a:lnTo>
                  <a:pt x="338" y="151"/>
                </a:lnTo>
                <a:lnTo>
                  <a:pt x="345" y="136"/>
                </a:lnTo>
                <a:lnTo>
                  <a:pt x="355" y="122"/>
                </a:lnTo>
                <a:lnTo>
                  <a:pt x="361" y="105"/>
                </a:lnTo>
                <a:lnTo>
                  <a:pt x="369" y="89"/>
                </a:lnTo>
                <a:lnTo>
                  <a:pt x="376" y="74"/>
                </a:lnTo>
                <a:lnTo>
                  <a:pt x="384" y="58"/>
                </a:lnTo>
                <a:lnTo>
                  <a:pt x="392" y="41"/>
                </a:lnTo>
                <a:lnTo>
                  <a:pt x="402" y="27"/>
                </a:lnTo>
                <a:lnTo>
                  <a:pt x="411" y="12"/>
                </a:lnTo>
                <a:lnTo>
                  <a:pt x="423" y="0"/>
                </a:lnTo>
                <a:lnTo>
                  <a:pt x="429" y="6"/>
                </a:lnTo>
                <a:lnTo>
                  <a:pt x="429" y="23"/>
                </a:lnTo>
                <a:lnTo>
                  <a:pt x="431" y="43"/>
                </a:lnTo>
                <a:lnTo>
                  <a:pt x="429" y="60"/>
                </a:lnTo>
                <a:lnTo>
                  <a:pt x="429" y="79"/>
                </a:lnTo>
                <a:lnTo>
                  <a:pt x="425" y="97"/>
                </a:lnTo>
                <a:lnTo>
                  <a:pt x="423" y="116"/>
                </a:lnTo>
                <a:lnTo>
                  <a:pt x="421" y="134"/>
                </a:lnTo>
                <a:lnTo>
                  <a:pt x="419" y="153"/>
                </a:lnTo>
                <a:lnTo>
                  <a:pt x="413" y="171"/>
                </a:lnTo>
                <a:lnTo>
                  <a:pt x="409" y="190"/>
                </a:lnTo>
                <a:lnTo>
                  <a:pt x="405" y="209"/>
                </a:lnTo>
                <a:lnTo>
                  <a:pt x="403" y="229"/>
                </a:lnTo>
                <a:lnTo>
                  <a:pt x="398" y="246"/>
                </a:lnTo>
                <a:lnTo>
                  <a:pt x="396" y="266"/>
                </a:lnTo>
                <a:lnTo>
                  <a:pt x="396" y="285"/>
                </a:lnTo>
                <a:lnTo>
                  <a:pt x="396" y="306"/>
                </a:lnTo>
                <a:lnTo>
                  <a:pt x="409" y="306"/>
                </a:lnTo>
                <a:lnTo>
                  <a:pt x="411" y="293"/>
                </a:lnTo>
                <a:lnTo>
                  <a:pt x="415" y="279"/>
                </a:lnTo>
                <a:lnTo>
                  <a:pt x="419" y="267"/>
                </a:lnTo>
                <a:lnTo>
                  <a:pt x="425" y="256"/>
                </a:lnTo>
                <a:lnTo>
                  <a:pt x="429" y="244"/>
                </a:lnTo>
                <a:lnTo>
                  <a:pt x="433" y="233"/>
                </a:lnTo>
                <a:lnTo>
                  <a:pt x="436" y="221"/>
                </a:lnTo>
                <a:lnTo>
                  <a:pt x="440" y="209"/>
                </a:lnTo>
                <a:lnTo>
                  <a:pt x="446" y="215"/>
                </a:lnTo>
                <a:lnTo>
                  <a:pt x="446" y="233"/>
                </a:lnTo>
                <a:lnTo>
                  <a:pt x="448" y="254"/>
                </a:lnTo>
                <a:lnTo>
                  <a:pt x="448" y="266"/>
                </a:lnTo>
                <a:lnTo>
                  <a:pt x="448" y="277"/>
                </a:lnTo>
                <a:lnTo>
                  <a:pt x="448" y="289"/>
                </a:lnTo>
                <a:lnTo>
                  <a:pt x="450" y="300"/>
                </a:lnTo>
                <a:lnTo>
                  <a:pt x="450" y="310"/>
                </a:lnTo>
                <a:lnTo>
                  <a:pt x="450" y="322"/>
                </a:lnTo>
                <a:lnTo>
                  <a:pt x="450" y="333"/>
                </a:lnTo>
                <a:lnTo>
                  <a:pt x="450" y="345"/>
                </a:lnTo>
                <a:lnTo>
                  <a:pt x="450" y="355"/>
                </a:lnTo>
                <a:lnTo>
                  <a:pt x="452" y="366"/>
                </a:lnTo>
                <a:lnTo>
                  <a:pt x="452" y="376"/>
                </a:lnTo>
                <a:lnTo>
                  <a:pt x="454" y="388"/>
                </a:lnTo>
                <a:lnTo>
                  <a:pt x="464" y="392"/>
                </a:lnTo>
                <a:lnTo>
                  <a:pt x="475" y="388"/>
                </a:lnTo>
                <a:lnTo>
                  <a:pt x="475" y="463"/>
                </a:lnTo>
                <a:lnTo>
                  <a:pt x="0" y="46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57" name=""/>
          <p:cNvSpPr/>
          <p:nvPr/>
        </p:nvSpPr>
        <p:spPr>
          <a:xfrm>
            <a:off x="2309760" y="3859200"/>
            <a:ext cx="1778040" cy="2179800"/>
          </a:xfrm>
          <a:custGeom>
            <a:avLst/>
            <a:gdLst/>
            <a:ahLst/>
            <a:rect l="l" t="t" r="r" b="b"/>
            <a:pathLst>
              <a:path w="2240" h="2745">
                <a:moveTo>
                  <a:pt x="756" y="25"/>
                </a:moveTo>
                <a:lnTo>
                  <a:pt x="770" y="31"/>
                </a:lnTo>
                <a:lnTo>
                  <a:pt x="786" y="37"/>
                </a:lnTo>
                <a:lnTo>
                  <a:pt x="799" y="42"/>
                </a:lnTo>
                <a:lnTo>
                  <a:pt x="817" y="50"/>
                </a:lnTo>
                <a:lnTo>
                  <a:pt x="832" y="56"/>
                </a:lnTo>
                <a:lnTo>
                  <a:pt x="848" y="64"/>
                </a:lnTo>
                <a:lnTo>
                  <a:pt x="863" y="69"/>
                </a:lnTo>
                <a:lnTo>
                  <a:pt x="881" y="77"/>
                </a:lnTo>
                <a:lnTo>
                  <a:pt x="900" y="83"/>
                </a:lnTo>
                <a:lnTo>
                  <a:pt x="921" y="89"/>
                </a:lnTo>
                <a:lnTo>
                  <a:pt x="931" y="91"/>
                </a:lnTo>
                <a:lnTo>
                  <a:pt x="943" y="93"/>
                </a:lnTo>
                <a:lnTo>
                  <a:pt x="952" y="95"/>
                </a:lnTo>
                <a:lnTo>
                  <a:pt x="964" y="97"/>
                </a:lnTo>
                <a:lnTo>
                  <a:pt x="962" y="95"/>
                </a:lnTo>
                <a:lnTo>
                  <a:pt x="979" y="101"/>
                </a:lnTo>
                <a:lnTo>
                  <a:pt x="997" y="106"/>
                </a:lnTo>
                <a:lnTo>
                  <a:pt x="1014" y="112"/>
                </a:lnTo>
                <a:lnTo>
                  <a:pt x="1034" y="118"/>
                </a:lnTo>
                <a:lnTo>
                  <a:pt x="1051" y="122"/>
                </a:lnTo>
                <a:lnTo>
                  <a:pt x="1071" y="128"/>
                </a:lnTo>
                <a:lnTo>
                  <a:pt x="1090" y="133"/>
                </a:lnTo>
                <a:lnTo>
                  <a:pt x="1109" y="139"/>
                </a:lnTo>
                <a:lnTo>
                  <a:pt x="1127" y="143"/>
                </a:lnTo>
                <a:lnTo>
                  <a:pt x="1146" y="149"/>
                </a:lnTo>
                <a:lnTo>
                  <a:pt x="1166" y="153"/>
                </a:lnTo>
                <a:lnTo>
                  <a:pt x="1185" y="159"/>
                </a:lnTo>
                <a:lnTo>
                  <a:pt x="1203" y="164"/>
                </a:lnTo>
                <a:lnTo>
                  <a:pt x="1224" y="170"/>
                </a:lnTo>
                <a:lnTo>
                  <a:pt x="1241" y="176"/>
                </a:lnTo>
                <a:lnTo>
                  <a:pt x="1263" y="182"/>
                </a:lnTo>
                <a:lnTo>
                  <a:pt x="1280" y="190"/>
                </a:lnTo>
                <a:lnTo>
                  <a:pt x="1294" y="203"/>
                </a:lnTo>
                <a:lnTo>
                  <a:pt x="1305" y="215"/>
                </a:lnTo>
                <a:lnTo>
                  <a:pt x="1315" y="232"/>
                </a:lnTo>
                <a:lnTo>
                  <a:pt x="1319" y="248"/>
                </a:lnTo>
                <a:lnTo>
                  <a:pt x="1325" y="265"/>
                </a:lnTo>
                <a:lnTo>
                  <a:pt x="1329" y="285"/>
                </a:lnTo>
                <a:lnTo>
                  <a:pt x="1332" y="306"/>
                </a:lnTo>
                <a:lnTo>
                  <a:pt x="1332" y="323"/>
                </a:lnTo>
                <a:lnTo>
                  <a:pt x="1334" y="345"/>
                </a:lnTo>
                <a:lnTo>
                  <a:pt x="1336" y="364"/>
                </a:lnTo>
                <a:lnTo>
                  <a:pt x="1342" y="386"/>
                </a:lnTo>
                <a:lnTo>
                  <a:pt x="1346" y="403"/>
                </a:lnTo>
                <a:lnTo>
                  <a:pt x="1352" y="422"/>
                </a:lnTo>
                <a:lnTo>
                  <a:pt x="1360" y="440"/>
                </a:lnTo>
                <a:lnTo>
                  <a:pt x="1373" y="459"/>
                </a:lnTo>
                <a:lnTo>
                  <a:pt x="1354" y="450"/>
                </a:lnTo>
                <a:lnTo>
                  <a:pt x="1336" y="442"/>
                </a:lnTo>
                <a:lnTo>
                  <a:pt x="1317" y="432"/>
                </a:lnTo>
                <a:lnTo>
                  <a:pt x="1299" y="426"/>
                </a:lnTo>
                <a:lnTo>
                  <a:pt x="1280" y="417"/>
                </a:lnTo>
                <a:lnTo>
                  <a:pt x="1263" y="409"/>
                </a:lnTo>
                <a:lnTo>
                  <a:pt x="1245" y="401"/>
                </a:lnTo>
                <a:lnTo>
                  <a:pt x="1228" y="395"/>
                </a:lnTo>
                <a:lnTo>
                  <a:pt x="1208" y="386"/>
                </a:lnTo>
                <a:lnTo>
                  <a:pt x="1191" y="378"/>
                </a:lnTo>
                <a:lnTo>
                  <a:pt x="1173" y="368"/>
                </a:lnTo>
                <a:lnTo>
                  <a:pt x="1156" y="360"/>
                </a:lnTo>
                <a:lnTo>
                  <a:pt x="1139" y="351"/>
                </a:lnTo>
                <a:lnTo>
                  <a:pt x="1121" y="341"/>
                </a:lnTo>
                <a:lnTo>
                  <a:pt x="1106" y="331"/>
                </a:lnTo>
                <a:lnTo>
                  <a:pt x="1090" y="323"/>
                </a:lnTo>
                <a:lnTo>
                  <a:pt x="1075" y="318"/>
                </a:lnTo>
                <a:lnTo>
                  <a:pt x="1061" y="312"/>
                </a:lnTo>
                <a:lnTo>
                  <a:pt x="1045" y="308"/>
                </a:lnTo>
                <a:lnTo>
                  <a:pt x="1034" y="314"/>
                </a:lnTo>
                <a:lnTo>
                  <a:pt x="1051" y="325"/>
                </a:lnTo>
                <a:lnTo>
                  <a:pt x="1071" y="339"/>
                </a:lnTo>
                <a:lnTo>
                  <a:pt x="1090" y="349"/>
                </a:lnTo>
                <a:lnTo>
                  <a:pt x="1111" y="360"/>
                </a:lnTo>
                <a:lnTo>
                  <a:pt x="1131" y="370"/>
                </a:lnTo>
                <a:lnTo>
                  <a:pt x="1150" y="382"/>
                </a:lnTo>
                <a:lnTo>
                  <a:pt x="1170" y="395"/>
                </a:lnTo>
                <a:lnTo>
                  <a:pt x="1191" y="411"/>
                </a:lnTo>
                <a:lnTo>
                  <a:pt x="1204" y="413"/>
                </a:lnTo>
                <a:lnTo>
                  <a:pt x="1218" y="419"/>
                </a:lnTo>
                <a:lnTo>
                  <a:pt x="1232" y="424"/>
                </a:lnTo>
                <a:lnTo>
                  <a:pt x="1245" y="428"/>
                </a:lnTo>
                <a:lnTo>
                  <a:pt x="1255" y="438"/>
                </a:lnTo>
                <a:lnTo>
                  <a:pt x="1267" y="446"/>
                </a:lnTo>
                <a:lnTo>
                  <a:pt x="1272" y="446"/>
                </a:lnTo>
                <a:lnTo>
                  <a:pt x="1280" y="450"/>
                </a:lnTo>
                <a:lnTo>
                  <a:pt x="1288" y="451"/>
                </a:lnTo>
                <a:lnTo>
                  <a:pt x="1298" y="450"/>
                </a:lnTo>
                <a:lnTo>
                  <a:pt x="1294" y="450"/>
                </a:lnTo>
                <a:lnTo>
                  <a:pt x="1292" y="453"/>
                </a:lnTo>
                <a:lnTo>
                  <a:pt x="1311" y="465"/>
                </a:lnTo>
                <a:lnTo>
                  <a:pt x="1332" y="479"/>
                </a:lnTo>
                <a:lnTo>
                  <a:pt x="1352" y="492"/>
                </a:lnTo>
                <a:lnTo>
                  <a:pt x="1371" y="508"/>
                </a:lnTo>
                <a:lnTo>
                  <a:pt x="1387" y="523"/>
                </a:lnTo>
                <a:lnTo>
                  <a:pt x="1404" y="543"/>
                </a:lnTo>
                <a:lnTo>
                  <a:pt x="1410" y="552"/>
                </a:lnTo>
                <a:lnTo>
                  <a:pt x="1416" y="562"/>
                </a:lnTo>
                <a:lnTo>
                  <a:pt x="1422" y="574"/>
                </a:lnTo>
                <a:lnTo>
                  <a:pt x="1427" y="587"/>
                </a:lnTo>
                <a:lnTo>
                  <a:pt x="1431" y="599"/>
                </a:lnTo>
                <a:lnTo>
                  <a:pt x="1435" y="612"/>
                </a:lnTo>
                <a:lnTo>
                  <a:pt x="1439" y="626"/>
                </a:lnTo>
                <a:lnTo>
                  <a:pt x="1445" y="641"/>
                </a:lnTo>
                <a:lnTo>
                  <a:pt x="1445" y="655"/>
                </a:lnTo>
                <a:lnTo>
                  <a:pt x="1447" y="671"/>
                </a:lnTo>
                <a:lnTo>
                  <a:pt x="1443" y="686"/>
                </a:lnTo>
                <a:lnTo>
                  <a:pt x="1439" y="702"/>
                </a:lnTo>
                <a:lnTo>
                  <a:pt x="1422" y="696"/>
                </a:lnTo>
                <a:lnTo>
                  <a:pt x="1408" y="690"/>
                </a:lnTo>
                <a:lnTo>
                  <a:pt x="1395" y="684"/>
                </a:lnTo>
                <a:lnTo>
                  <a:pt x="1381" y="684"/>
                </a:lnTo>
                <a:lnTo>
                  <a:pt x="1393" y="700"/>
                </a:lnTo>
                <a:lnTo>
                  <a:pt x="1410" y="715"/>
                </a:lnTo>
                <a:lnTo>
                  <a:pt x="1427" y="729"/>
                </a:lnTo>
                <a:lnTo>
                  <a:pt x="1445" y="746"/>
                </a:lnTo>
                <a:lnTo>
                  <a:pt x="1451" y="756"/>
                </a:lnTo>
                <a:lnTo>
                  <a:pt x="1460" y="768"/>
                </a:lnTo>
                <a:lnTo>
                  <a:pt x="1468" y="779"/>
                </a:lnTo>
                <a:lnTo>
                  <a:pt x="1478" y="791"/>
                </a:lnTo>
                <a:lnTo>
                  <a:pt x="1486" y="802"/>
                </a:lnTo>
                <a:lnTo>
                  <a:pt x="1495" y="814"/>
                </a:lnTo>
                <a:lnTo>
                  <a:pt x="1505" y="826"/>
                </a:lnTo>
                <a:lnTo>
                  <a:pt x="1515" y="837"/>
                </a:lnTo>
                <a:lnTo>
                  <a:pt x="1522" y="847"/>
                </a:lnTo>
                <a:lnTo>
                  <a:pt x="1530" y="859"/>
                </a:lnTo>
                <a:lnTo>
                  <a:pt x="1538" y="870"/>
                </a:lnTo>
                <a:lnTo>
                  <a:pt x="1548" y="884"/>
                </a:lnTo>
                <a:lnTo>
                  <a:pt x="1552" y="896"/>
                </a:lnTo>
                <a:lnTo>
                  <a:pt x="1557" y="907"/>
                </a:lnTo>
                <a:lnTo>
                  <a:pt x="1563" y="921"/>
                </a:lnTo>
                <a:lnTo>
                  <a:pt x="1569" y="936"/>
                </a:lnTo>
                <a:lnTo>
                  <a:pt x="1577" y="956"/>
                </a:lnTo>
                <a:lnTo>
                  <a:pt x="1586" y="977"/>
                </a:lnTo>
                <a:lnTo>
                  <a:pt x="1590" y="987"/>
                </a:lnTo>
                <a:lnTo>
                  <a:pt x="1596" y="998"/>
                </a:lnTo>
                <a:lnTo>
                  <a:pt x="1600" y="1010"/>
                </a:lnTo>
                <a:lnTo>
                  <a:pt x="1606" y="1022"/>
                </a:lnTo>
                <a:lnTo>
                  <a:pt x="1610" y="1031"/>
                </a:lnTo>
                <a:lnTo>
                  <a:pt x="1614" y="1043"/>
                </a:lnTo>
                <a:lnTo>
                  <a:pt x="1618" y="1054"/>
                </a:lnTo>
                <a:lnTo>
                  <a:pt x="1623" y="1066"/>
                </a:lnTo>
                <a:lnTo>
                  <a:pt x="1627" y="1076"/>
                </a:lnTo>
                <a:lnTo>
                  <a:pt x="1631" y="1087"/>
                </a:lnTo>
                <a:lnTo>
                  <a:pt x="1635" y="1099"/>
                </a:lnTo>
                <a:lnTo>
                  <a:pt x="1641" y="1111"/>
                </a:lnTo>
                <a:lnTo>
                  <a:pt x="1649" y="1130"/>
                </a:lnTo>
                <a:lnTo>
                  <a:pt x="1656" y="1151"/>
                </a:lnTo>
                <a:lnTo>
                  <a:pt x="1660" y="1161"/>
                </a:lnTo>
                <a:lnTo>
                  <a:pt x="1664" y="1173"/>
                </a:lnTo>
                <a:lnTo>
                  <a:pt x="1668" y="1184"/>
                </a:lnTo>
                <a:lnTo>
                  <a:pt x="1674" y="1196"/>
                </a:lnTo>
                <a:lnTo>
                  <a:pt x="1678" y="1206"/>
                </a:lnTo>
                <a:lnTo>
                  <a:pt x="1682" y="1217"/>
                </a:lnTo>
                <a:lnTo>
                  <a:pt x="1685" y="1227"/>
                </a:lnTo>
                <a:lnTo>
                  <a:pt x="1689" y="1239"/>
                </a:lnTo>
                <a:lnTo>
                  <a:pt x="1693" y="1248"/>
                </a:lnTo>
                <a:lnTo>
                  <a:pt x="1697" y="1260"/>
                </a:lnTo>
                <a:lnTo>
                  <a:pt x="1701" y="1272"/>
                </a:lnTo>
                <a:lnTo>
                  <a:pt x="1707" y="1283"/>
                </a:lnTo>
                <a:lnTo>
                  <a:pt x="1709" y="1293"/>
                </a:lnTo>
                <a:lnTo>
                  <a:pt x="1713" y="1305"/>
                </a:lnTo>
                <a:lnTo>
                  <a:pt x="1714" y="1314"/>
                </a:lnTo>
                <a:lnTo>
                  <a:pt x="1718" y="1326"/>
                </a:lnTo>
                <a:lnTo>
                  <a:pt x="1720" y="1336"/>
                </a:lnTo>
                <a:lnTo>
                  <a:pt x="1724" y="1347"/>
                </a:lnTo>
                <a:lnTo>
                  <a:pt x="1726" y="1359"/>
                </a:lnTo>
                <a:lnTo>
                  <a:pt x="1730" y="1371"/>
                </a:lnTo>
                <a:lnTo>
                  <a:pt x="1732" y="1382"/>
                </a:lnTo>
                <a:lnTo>
                  <a:pt x="1734" y="1394"/>
                </a:lnTo>
                <a:lnTo>
                  <a:pt x="1736" y="1405"/>
                </a:lnTo>
                <a:lnTo>
                  <a:pt x="1738" y="1417"/>
                </a:lnTo>
                <a:lnTo>
                  <a:pt x="1740" y="1429"/>
                </a:lnTo>
                <a:lnTo>
                  <a:pt x="1742" y="1440"/>
                </a:lnTo>
                <a:lnTo>
                  <a:pt x="1744" y="1452"/>
                </a:lnTo>
                <a:lnTo>
                  <a:pt x="1746" y="1464"/>
                </a:lnTo>
                <a:lnTo>
                  <a:pt x="1746" y="1477"/>
                </a:lnTo>
                <a:lnTo>
                  <a:pt x="1746" y="1495"/>
                </a:lnTo>
                <a:lnTo>
                  <a:pt x="1744" y="1508"/>
                </a:lnTo>
                <a:lnTo>
                  <a:pt x="1740" y="1522"/>
                </a:lnTo>
                <a:lnTo>
                  <a:pt x="1722" y="1535"/>
                </a:lnTo>
                <a:lnTo>
                  <a:pt x="1707" y="1551"/>
                </a:lnTo>
                <a:lnTo>
                  <a:pt x="1691" y="1564"/>
                </a:lnTo>
                <a:lnTo>
                  <a:pt x="1676" y="1580"/>
                </a:lnTo>
                <a:lnTo>
                  <a:pt x="1658" y="1592"/>
                </a:lnTo>
                <a:lnTo>
                  <a:pt x="1641" y="1605"/>
                </a:lnTo>
                <a:lnTo>
                  <a:pt x="1623" y="1619"/>
                </a:lnTo>
                <a:lnTo>
                  <a:pt x="1608" y="1634"/>
                </a:lnTo>
                <a:lnTo>
                  <a:pt x="1590" y="1648"/>
                </a:lnTo>
                <a:lnTo>
                  <a:pt x="1573" y="1663"/>
                </a:lnTo>
                <a:lnTo>
                  <a:pt x="1557" y="1677"/>
                </a:lnTo>
                <a:lnTo>
                  <a:pt x="1542" y="1694"/>
                </a:lnTo>
                <a:lnTo>
                  <a:pt x="1524" y="1710"/>
                </a:lnTo>
                <a:lnTo>
                  <a:pt x="1511" y="1727"/>
                </a:lnTo>
                <a:lnTo>
                  <a:pt x="1499" y="1745"/>
                </a:lnTo>
                <a:lnTo>
                  <a:pt x="1488" y="1766"/>
                </a:lnTo>
                <a:lnTo>
                  <a:pt x="1478" y="1778"/>
                </a:lnTo>
                <a:lnTo>
                  <a:pt x="1468" y="1791"/>
                </a:lnTo>
                <a:lnTo>
                  <a:pt x="1457" y="1803"/>
                </a:lnTo>
                <a:lnTo>
                  <a:pt x="1445" y="1817"/>
                </a:lnTo>
                <a:lnTo>
                  <a:pt x="1429" y="1824"/>
                </a:lnTo>
                <a:lnTo>
                  <a:pt x="1416" y="1832"/>
                </a:lnTo>
                <a:lnTo>
                  <a:pt x="1400" y="1836"/>
                </a:lnTo>
                <a:lnTo>
                  <a:pt x="1387" y="1836"/>
                </a:lnTo>
                <a:lnTo>
                  <a:pt x="1379" y="1846"/>
                </a:lnTo>
                <a:lnTo>
                  <a:pt x="1379" y="1855"/>
                </a:lnTo>
                <a:lnTo>
                  <a:pt x="1367" y="1857"/>
                </a:lnTo>
                <a:lnTo>
                  <a:pt x="1358" y="1863"/>
                </a:lnTo>
                <a:lnTo>
                  <a:pt x="1348" y="1871"/>
                </a:lnTo>
                <a:lnTo>
                  <a:pt x="1342" y="1882"/>
                </a:lnTo>
                <a:lnTo>
                  <a:pt x="1332" y="1875"/>
                </a:lnTo>
                <a:lnTo>
                  <a:pt x="1327" y="1859"/>
                </a:lnTo>
                <a:lnTo>
                  <a:pt x="1325" y="1848"/>
                </a:lnTo>
                <a:lnTo>
                  <a:pt x="1321" y="1832"/>
                </a:lnTo>
                <a:lnTo>
                  <a:pt x="1321" y="1820"/>
                </a:lnTo>
                <a:lnTo>
                  <a:pt x="1317" y="1807"/>
                </a:lnTo>
                <a:lnTo>
                  <a:pt x="1315" y="1793"/>
                </a:lnTo>
                <a:lnTo>
                  <a:pt x="1311" y="1780"/>
                </a:lnTo>
                <a:lnTo>
                  <a:pt x="1309" y="1768"/>
                </a:lnTo>
                <a:lnTo>
                  <a:pt x="1305" y="1754"/>
                </a:lnTo>
                <a:lnTo>
                  <a:pt x="1301" y="1743"/>
                </a:lnTo>
                <a:lnTo>
                  <a:pt x="1296" y="1731"/>
                </a:lnTo>
                <a:lnTo>
                  <a:pt x="1292" y="1720"/>
                </a:lnTo>
                <a:lnTo>
                  <a:pt x="1286" y="1708"/>
                </a:lnTo>
                <a:lnTo>
                  <a:pt x="1280" y="1696"/>
                </a:lnTo>
                <a:lnTo>
                  <a:pt x="1272" y="1685"/>
                </a:lnTo>
                <a:lnTo>
                  <a:pt x="1265" y="1677"/>
                </a:lnTo>
                <a:lnTo>
                  <a:pt x="1247" y="1658"/>
                </a:lnTo>
                <a:lnTo>
                  <a:pt x="1234" y="1638"/>
                </a:lnTo>
                <a:lnTo>
                  <a:pt x="1220" y="1619"/>
                </a:lnTo>
                <a:lnTo>
                  <a:pt x="1208" y="1599"/>
                </a:lnTo>
                <a:lnTo>
                  <a:pt x="1197" y="1578"/>
                </a:lnTo>
                <a:lnTo>
                  <a:pt x="1187" y="1559"/>
                </a:lnTo>
                <a:lnTo>
                  <a:pt x="1177" y="1537"/>
                </a:lnTo>
                <a:lnTo>
                  <a:pt x="1170" y="1518"/>
                </a:lnTo>
                <a:lnTo>
                  <a:pt x="1170" y="1502"/>
                </a:lnTo>
                <a:lnTo>
                  <a:pt x="1171" y="1489"/>
                </a:lnTo>
                <a:lnTo>
                  <a:pt x="1173" y="1475"/>
                </a:lnTo>
                <a:lnTo>
                  <a:pt x="1175" y="1464"/>
                </a:lnTo>
                <a:lnTo>
                  <a:pt x="1175" y="1448"/>
                </a:lnTo>
                <a:lnTo>
                  <a:pt x="1179" y="1435"/>
                </a:lnTo>
                <a:lnTo>
                  <a:pt x="1179" y="1421"/>
                </a:lnTo>
                <a:lnTo>
                  <a:pt x="1183" y="1409"/>
                </a:lnTo>
                <a:lnTo>
                  <a:pt x="1183" y="1394"/>
                </a:lnTo>
                <a:lnTo>
                  <a:pt x="1185" y="1382"/>
                </a:lnTo>
                <a:lnTo>
                  <a:pt x="1187" y="1367"/>
                </a:lnTo>
                <a:lnTo>
                  <a:pt x="1191" y="1355"/>
                </a:lnTo>
                <a:lnTo>
                  <a:pt x="1191" y="1341"/>
                </a:lnTo>
                <a:lnTo>
                  <a:pt x="1193" y="1328"/>
                </a:lnTo>
                <a:lnTo>
                  <a:pt x="1195" y="1314"/>
                </a:lnTo>
                <a:lnTo>
                  <a:pt x="1199" y="1303"/>
                </a:lnTo>
                <a:lnTo>
                  <a:pt x="1201" y="1283"/>
                </a:lnTo>
                <a:lnTo>
                  <a:pt x="1206" y="1266"/>
                </a:lnTo>
                <a:lnTo>
                  <a:pt x="1210" y="1246"/>
                </a:lnTo>
                <a:lnTo>
                  <a:pt x="1214" y="1229"/>
                </a:lnTo>
                <a:lnTo>
                  <a:pt x="1214" y="1213"/>
                </a:lnTo>
                <a:lnTo>
                  <a:pt x="1214" y="1200"/>
                </a:lnTo>
                <a:lnTo>
                  <a:pt x="1214" y="1184"/>
                </a:lnTo>
                <a:lnTo>
                  <a:pt x="1216" y="1171"/>
                </a:lnTo>
                <a:lnTo>
                  <a:pt x="1214" y="1155"/>
                </a:lnTo>
                <a:lnTo>
                  <a:pt x="1212" y="1142"/>
                </a:lnTo>
                <a:lnTo>
                  <a:pt x="1206" y="1130"/>
                </a:lnTo>
                <a:lnTo>
                  <a:pt x="1201" y="1118"/>
                </a:lnTo>
                <a:lnTo>
                  <a:pt x="1193" y="1118"/>
                </a:lnTo>
                <a:lnTo>
                  <a:pt x="1191" y="1126"/>
                </a:lnTo>
                <a:lnTo>
                  <a:pt x="1189" y="1134"/>
                </a:lnTo>
                <a:lnTo>
                  <a:pt x="1189" y="1144"/>
                </a:lnTo>
                <a:lnTo>
                  <a:pt x="1185" y="1161"/>
                </a:lnTo>
                <a:lnTo>
                  <a:pt x="1181" y="1182"/>
                </a:lnTo>
                <a:lnTo>
                  <a:pt x="1177" y="1202"/>
                </a:lnTo>
                <a:lnTo>
                  <a:pt x="1175" y="1223"/>
                </a:lnTo>
                <a:lnTo>
                  <a:pt x="1170" y="1243"/>
                </a:lnTo>
                <a:lnTo>
                  <a:pt x="1166" y="1264"/>
                </a:lnTo>
                <a:lnTo>
                  <a:pt x="1162" y="1274"/>
                </a:lnTo>
                <a:lnTo>
                  <a:pt x="1160" y="1285"/>
                </a:lnTo>
                <a:lnTo>
                  <a:pt x="1158" y="1295"/>
                </a:lnTo>
                <a:lnTo>
                  <a:pt x="1156" y="1307"/>
                </a:lnTo>
                <a:lnTo>
                  <a:pt x="1150" y="1316"/>
                </a:lnTo>
                <a:lnTo>
                  <a:pt x="1146" y="1328"/>
                </a:lnTo>
                <a:lnTo>
                  <a:pt x="1140" y="1340"/>
                </a:lnTo>
                <a:lnTo>
                  <a:pt x="1139" y="1351"/>
                </a:lnTo>
                <a:lnTo>
                  <a:pt x="1133" y="1361"/>
                </a:lnTo>
                <a:lnTo>
                  <a:pt x="1127" y="1371"/>
                </a:lnTo>
                <a:lnTo>
                  <a:pt x="1119" y="1378"/>
                </a:lnTo>
                <a:lnTo>
                  <a:pt x="1109" y="1388"/>
                </a:lnTo>
                <a:lnTo>
                  <a:pt x="1092" y="1369"/>
                </a:lnTo>
                <a:lnTo>
                  <a:pt x="1080" y="1351"/>
                </a:lnTo>
                <a:lnTo>
                  <a:pt x="1069" y="1330"/>
                </a:lnTo>
                <a:lnTo>
                  <a:pt x="1063" y="1310"/>
                </a:lnTo>
                <a:lnTo>
                  <a:pt x="1057" y="1299"/>
                </a:lnTo>
                <a:lnTo>
                  <a:pt x="1055" y="1287"/>
                </a:lnTo>
                <a:lnTo>
                  <a:pt x="1051" y="1276"/>
                </a:lnTo>
                <a:lnTo>
                  <a:pt x="1049" y="1266"/>
                </a:lnTo>
                <a:lnTo>
                  <a:pt x="1045" y="1254"/>
                </a:lnTo>
                <a:lnTo>
                  <a:pt x="1043" y="1243"/>
                </a:lnTo>
                <a:lnTo>
                  <a:pt x="1042" y="1233"/>
                </a:lnTo>
                <a:lnTo>
                  <a:pt x="1040" y="1223"/>
                </a:lnTo>
                <a:lnTo>
                  <a:pt x="1034" y="1204"/>
                </a:lnTo>
                <a:lnTo>
                  <a:pt x="1030" y="1186"/>
                </a:lnTo>
                <a:lnTo>
                  <a:pt x="1028" y="1169"/>
                </a:lnTo>
                <a:lnTo>
                  <a:pt x="1028" y="1151"/>
                </a:lnTo>
                <a:lnTo>
                  <a:pt x="1026" y="1134"/>
                </a:lnTo>
                <a:lnTo>
                  <a:pt x="1024" y="1117"/>
                </a:lnTo>
                <a:lnTo>
                  <a:pt x="1022" y="1099"/>
                </a:lnTo>
                <a:lnTo>
                  <a:pt x="1022" y="1082"/>
                </a:lnTo>
                <a:lnTo>
                  <a:pt x="1014" y="1072"/>
                </a:lnTo>
                <a:lnTo>
                  <a:pt x="1012" y="1056"/>
                </a:lnTo>
                <a:lnTo>
                  <a:pt x="1012" y="1041"/>
                </a:lnTo>
                <a:lnTo>
                  <a:pt x="1011" y="1025"/>
                </a:lnTo>
                <a:lnTo>
                  <a:pt x="1011" y="1012"/>
                </a:lnTo>
                <a:lnTo>
                  <a:pt x="1009" y="994"/>
                </a:lnTo>
                <a:lnTo>
                  <a:pt x="1009" y="979"/>
                </a:lnTo>
                <a:lnTo>
                  <a:pt x="1009" y="961"/>
                </a:lnTo>
                <a:lnTo>
                  <a:pt x="1009" y="946"/>
                </a:lnTo>
                <a:lnTo>
                  <a:pt x="1005" y="928"/>
                </a:lnTo>
                <a:lnTo>
                  <a:pt x="1003" y="913"/>
                </a:lnTo>
                <a:lnTo>
                  <a:pt x="999" y="897"/>
                </a:lnTo>
                <a:lnTo>
                  <a:pt x="997" y="882"/>
                </a:lnTo>
                <a:lnTo>
                  <a:pt x="991" y="866"/>
                </a:lnTo>
                <a:lnTo>
                  <a:pt x="985" y="853"/>
                </a:lnTo>
                <a:lnTo>
                  <a:pt x="979" y="841"/>
                </a:lnTo>
                <a:lnTo>
                  <a:pt x="974" y="830"/>
                </a:lnTo>
                <a:lnTo>
                  <a:pt x="983" y="828"/>
                </a:lnTo>
                <a:lnTo>
                  <a:pt x="993" y="830"/>
                </a:lnTo>
                <a:lnTo>
                  <a:pt x="1003" y="830"/>
                </a:lnTo>
                <a:lnTo>
                  <a:pt x="1016" y="832"/>
                </a:lnTo>
                <a:lnTo>
                  <a:pt x="1028" y="843"/>
                </a:lnTo>
                <a:lnTo>
                  <a:pt x="1042" y="857"/>
                </a:lnTo>
                <a:lnTo>
                  <a:pt x="1053" y="868"/>
                </a:lnTo>
                <a:lnTo>
                  <a:pt x="1067" y="880"/>
                </a:lnTo>
                <a:lnTo>
                  <a:pt x="1071" y="859"/>
                </a:lnTo>
                <a:lnTo>
                  <a:pt x="1065" y="843"/>
                </a:lnTo>
                <a:lnTo>
                  <a:pt x="1051" y="828"/>
                </a:lnTo>
                <a:lnTo>
                  <a:pt x="1040" y="816"/>
                </a:lnTo>
                <a:lnTo>
                  <a:pt x="1022" y="799"/>
                </a:lnTo>
                <a:lnTo>
                  <a:pt x="1009" y="783"/>
                </a:lnTo>
                <a:lnTo>
                  <a:pt x="995" y="768"/>
                </a:lnTo>
                <a:lnTo>
                  <a:pt x="981" y="752"/>
                </a:lnTo>
                <a:lnTo>
                  <a:pt x="968" y="737"/>
                </a:lnTo>
                <a:lnTo>
                  <a:pt x="956" y="721"/>
                </a:lnTo>
                <a:lnTo>
                  <a:pt x="943" y="705"/>
                </a:lnTo>
                <a:lnTo>
                  <a:pt x="931" y="692"/>
                </a:lnTo>
                <a:lnTo>
                  <a:pt x="915" y="676"/>
                </a:lnTo>
                <a:lnTo>
                  <a:pt x="902" y="663"/>
                </a:lnTo>
                <a:lnTo>
                  <a:pt x="886" y="647"/>
                </a:lnTo>
                <a:lnTo>
                  <a:pt x="873" y="636"/>
                </a:lnTo>
                <a:lnTo>
                  <a:pt x="857" y="622"/>
                </a:lnTo>
                <a:lnTo>
                  <a:pt x="842" y="610"/>
                </a:lnTo>
                <a:lnTo>
                  <a:pt x="824" y="599"/>
                </a:lnTo>
                <a:lnTo>
                  <a:pt x="807" y="587"/>
                </a:lnTo>
                <a:lnTo>
                  <a:pt x="787" y="574"/>
                </a:lnTo>
                <a:lnTo>
                  <a:pt x="768" y="562"/>
                </a:lnTo>
                <a:lnTo>
                  <a:pt x="747" y="558"/>
                </a:lnTo>
                <a:lnTo>
                  <a:pt x="731" y="566"/>
                </a:lnTo>
                <a:lnTo>
                  <a:pt x="735" y="578"/>
                </a:lnTo>
                <a:lnTo>
                  <a:pt x="741" y="589"/>
                </a:lnTo>
                <a:lnTo>
                  <a:pt x="747" y="601"/>
                </a:lnTo>
                <a:lnTo>
                  <a:pt x="755" y="614"/>
                </a:lnTo>
                <a:lnTo>
                  <a:pt x="760" y="626"/>
                </a:lnTo>
                <a:lnTo>
                  <a:pt x="768" y="640"/>
                </a:lnTo>
                <a:lnTo>
                  <a:pt x="776" y="651"/>
                </a:lnTo>
                <a:lnTo>
                  <a:pt x="784" y="665"/>
                </a:lnTo>
                <a:lnTo>
                  <a:pt x="793" y="676"/>
                </a:lnTo>
                <a:lnTo>
                  <a:pt x="803" y="688"/>
                </a:lnTo>
                <a:lnTo>
                  <a:pt x="813" y="700"/>
                </a:lnTo>
                <a:lnTo>
                  <a:pt x="824" y="713"/>
                </a:lnTo>
                <a:lnTo>
                  <a:pt x="828" y="709"/>
                </a:lnTo>
                <a:lnTo>
                  <a:pt x="834" y="725"/>
                </a:lnTo>
                <a:lnTo>
                  <a:pt x="844" y="740"/>
                </a:lnTo>
                <a:lnTo>
                  <a:pt x="851" y="752"/>
                </a:lnTo>
                <a:lnTo>
                  <a:pt x="863" y="766"/>
                </a:lnTo>
                <a:lnTo>
                  <a:pt x="873" y="777"/>
                </a:lnTo>
                <a:lnTo>
                  <a:pt x="883" y="791"/>
                </a:lnTo>
                <a:lnTo>
                  <a:pt x="892" y="804"/>
                </a:lnTo>
                <a:lnTo>
                  <a:pt x="904" y="822"/>
                </a:lnTo>
                <a:lnTo>
                  <a:pt x="912" y="839"/>
                </a:lnTo>
                <a:lnTo>
                  <a:pt x="921" y="859"/>
                </a:lnTo>
                <a:lnTo>
                  <a:pt x="929" y="876"/>
                </a:lnTo>
                <a:lnTo>
                  <a:pt x="939" y="896"/>
                </a:lnTo>
                <a:lnTo>
                  <a:pt x="947" y="913"/>
                </a:lnTo>
                <a:lnTo>
                  <a:pt x="954" y="934"/>
                </a:lnTo>
                <a:lnTo>
                  <a:pt x="956" y="944"/>
                </a:lnTo>
                <a:lnTo>
                  <a:pt x="960" y="956"/>
                </a:lnTo>
                <a:lnTo>
                  <a:pt x="964" y="967"/>
                </a:lnTo>
                <a:lnTo>
                  <a:pt x="968" y="979"/>
                </a:lnTo>
                <a:lnTo>
                  <a:pt x="968" y="991"/>
                </a:lnTo>
                <a:lnTo>
                  <a:pt x="970" y="1002"/>
                </a:lnTo>
                <a:lnTo>
                  <a:pt x="972" y="1014"/>
                </a:lnTo>
                <a:lnTo>
                  <a:pt x="974" y="1027"/>
                </a:lnTo>
                <a:lnTo>
                  <a:pt x="976" y="1039"/>
                </a:lnTo>
                <a:lnTo>
                  <a:pt x="978" y="1051"/>
                </a:lnTo>
                <a:lnTo>
                  <a:pt x="979" y="1064"/>
                </a:lnTo>
                <a:lnTo>
                  <a:pt x="981" y="1078"/>
                </a:lnTo>
                <a:lnTo>
                  <a:pt x="981" y="1089"/>
                </a:lnTo>
                <a:lnTo>
                  <a:pt x="983" y="1103"/>
                </a:lnTo>
                <a:lnTo>
                  <a:pt x="983" y="1117"/>
                </a:lnTo>
                <a:lnTo>
                  <a:pt x="985" y="1130"/>
                </a:lnTo>
                <a:lnTo>
                  <a:pt x="985" y="1142"/>
                </a:lnTo>
                <a:lnTo>
                  <a:pt x="987" y="1155"/>
                </a:lnTo>
                <a:lnTo>
                  <a:pt x="987" y="1169"/>
                </a:lnTo>
                <a:lnTo>
                  <a:pt x="989" y="1182"/>
                </a:lnTo>
                <a:lnTo>
                  <a:pt x="978" y="1169"/>
                </a:lnTo>
                <a:lnTo>
                  <a:pt x="972" y="1157"/>
                </a:lnTo>
                <a:lnTo>
                  <a:pt x="966" y="1146"/>
                </a:lnTo>
                <a:lnTo>
                  <a:pt x="960" y="1134"/>
                </a:lnTo>
                <a:lnTo>
                  <a:pt x="954" y="1120"/>
                </a:lnTo>
                <a:lnTo>
                  <a:pt x="950" y="1109"/>
                </a:lnTo>
                <a:lnTo>
                  <a:pt x="945" y="1095"/>
                </a:lnTo>
                <a:lnTo>
                  <a:pt x="939" y="1082"/>
                </a:lnTo>
                <a:lnTo>
                  <a:pt x="933" y="1068"/>
                </a:lnTo>
                <a:lnTo>
                  <a:pt x="929" y="1056"/>
                </a:lnTo>
                <a:lnTo>
                  <a:pt x="925" y="1043"/>
                </a:lnTo>
                <a:lnTo>
                  <a:pt x="925" y="1029"/>
                </a:lnTo>
                <a:lnTo>
                  <a:pt x="917" y="1018"/>
                </a:lnTo>
                <a:lnTo>
                  <a:pt x="914" y="1008"/>
                </a:lnTo>
                <a:lnTo>
                  <a:pt x="910" y="998"/>
                </a:lnTo>
                <a:lnTo>
                  <a:pt x="908" y="989"/>
                </a:lnTo>
                <a:lnTo>
                  <a:pt x="902" y="967"/>
                </a:lnTo>
                <a:lnTo>
                  <a:pt x="892" y="952"/>
                </a:lnTo>
                <a:lnTo>
                  <a:pt x="883" y="961"/>
                </a:lnTo>
                <a:lnTo>
                  <a:pt x="883" y="975"/>
                </a:lnTo>
                <a:lnTo>
                  <a:pt x="886" y="989"/>
                </a:lnTo>
                <a:lnTo>
                  <a:pt x="892" y="1004"/>
                </a:lnTo>
                <a:lnTo>
                  <a:pt x="894" y="1016"/>
                </a:lnTo>
                <a:lnTo>
                  <a:pt x="898" y="1031"/>
                </a:lnTo>
                <a:lnTo>
                  <a:pt x="900" y="1045"/>
                </a:lnTo>
                <a:lnTo>
                  <a:pt x="904" y="1060"/>
                </a:lnTo>
                <a:lnTo>
                  <a:pt x="908" y="1072"/>
                </a:lnTo>
                <a:lnTo>
                  <a:pt x="912" y="1087"/>
                </a:lnTo>
                <a:lnTo>
                  <a:pt x="915" y="1101"/>
                </a:lnTo>
                <a:lnTo>
                  <a:pt x="921" y="1117"/>
                </a:lnTo>
                <a:lnTo>
                  <a:pt x="925" y="1128"/>
                </a:lnTo>
                <a:lnTo>
                  <a:pt x="929" y="1142"/>
                </a:lnTo>
                <a:lnTo>
                  <a:pt x="935" y="1155"/>
                </a:lnTo>
                <a:lnTo>
                  <a:pt x="941" y="1169"/>
                </a:lnTo>
                <a:lnTo>
                  <a:pt x="947" y="1181"/>
                </a:lnTo>
                <a:lnTo>
                  <a:pt x="952" y="1194"/>
                </a:lnTo>
                <a:lnTo>
                  <a:pt x="958" y="1208"/>
                </a:lnTo>
                <a:lnTo>
                  <a:pt x="968" y="1221"/>
                </a:lnTo>
                <a:lnTo>
                  <a:pt x="976" y="1239"/>
                </a:lnTo>
                <a:lnTo>
                  <a:pt x="987" y="1258"/>
                </a:lnTo>
                <a:lnTo>
                  <a:pt x="999" y="1274"/>
                </a:lnTo>
                <a:lnTo>
                  <a:pt x="1016" y="1291"/>
                </a:lnTo>
                <a:lnTo>
                  <a:pt x="1018" y="1307"/>
                </a:lnTo>
                <a:lnTo>
                  <a:pt x="1026" y="1324"/>
                </a:lnTo>
                <a:lnTo>
                  <a:pt x="1032" y="1340"/>
                </a:lnTo>
                <a:lnTo>
                  <a:pt x="1042" y="1357"/>
                </a:lnTo>
                <a:lnTo>
                  <a:pt x="1049" y="1372"/>
                </a:lnTo>
                <a:lnTo>
                  <a:pt x="1061" y="1388"/>
                </a:lnTo>
                <a:lnTo>
                  <a:pt x="1073" y="1405"/>
                </a:lnTo>
                <a:lnTo>
                  <a:pt x="1084" y="1423"/>
                </a:lnTo>
                <a:lnTo>
                  <a:pt x="1094" y="1438"/>
                </a:lnTo>
                <a:lnTo>
                  <a:pt x="1106" y="1454"/>
                </a:lnTo>
                <a:lnTo>
                  <a:pt x="1115" y="1471"/>
                </a:lnTo>
                <a:lnTo>
                  <a:pt x="1125" y="1489"/>
                </a:lnTo>
                <a:lnTo>
                  <a:pt x="1131" y="1506"/>
                </a:lnTo>
                <a:lnTo>
                  <a:pt x="1139" y="1524"/>
                </a:lnTo>
                <a:lnTo>
                  <a:pt x="1140" y="1533"/>
                </a:lnTo>
                <a:lnTo>
                  <a:pt x="1144" y="1543"/>
                </a:lnTo>
                <a:lnTo>
                  <a:pt x="1146" y="1555"/>
                </a:lnTo>
                <a:lnTo>
                  <a:pt x="1148" y="1566"/>
                </a:lnTo>
                <a:lnTo>
                  <a:pt x="1139" y="1570"/>
                </a:lnTo>
                <a:lnTo>
                  <a:pt x="1129" y="1572"/>
                </a:lnTo>
                <a:lnTo>
                  <a:pt x="1117" y="1570"/>
                </a:lnTo>
                <a:lnTo>
                  <a:pt x="1109" y="1568"/>
                </a:lnTo>
                <a:lnTo>
                  <a:pt x="1092" y="1561"/>
                </a:lnTo>
                <a:lnTo>
                  <a:pt x="1075" y="1555"/>
                </a:lnTo>
                <a:lnTo>
                  <a:pt x="1057" y="1549"/>
                </a:lnTo>
                <a:lnTo>
                  <a:pt x="1040" y="1545"/>
                </a:lnTo>
                <a:lnTo>
                  <a:pt x="1032" y="1551"/>
                </a:lnTo>
                <a:lnTo>
                  <a:pt x="1030" y="1561"/>
                </a:lnTo>
                <a:lnTo>
                  <a:pt x="1042" y="1564"/>
                </a:lnTo>
                <a:lnTo>
                  <a:pt x="1053" y="1570"/>
                </a:lnTo>
                <a:lnTo>
                  <a:pt x="1065" y="1576"/>
                </a:lnTo>
                <a:lnTo>
                  <a:pt x="1078" y="1582"/>
                </a:lnTo>
                <a:lnTo>
                  <a:pt x="1090" y="1586"/>
                </a:lnTo>
                <a:lnTo>
                  <a:pt x="1102" y="1592"/>
                </a:lnTo>
                <a:lnTo>
                  <a:pt x="1113" y="1597"/>
                </a:lnTo>
                <a:lnTo>
                  <a:pt x="1127" y="1603"/>
                </a:lnTo>
                <a:lnTo>
                  <a:pt x="1139" y="1607"/>
                </a:lnTo>
                <a:lnTo>
                  <a:pt x="1150" y="1613"/>
                </a:lnTo>
                <a:lnTo>
                  <a:pt x="1162" y="1619"/>
                </a:lnTo>
                <a:lnTo>
                  <a:pt x="1173" y="1627"/>
                </a:lnTo>
                <a:lnTo>
                  <a:pt x="1183" y="1632"/>
                </a:lnTo>
                <a:lnTo>
                  <a:pt x="1195" y="1642"/>
                </a:lnTo>
                <a:lnTo>
                  <a:pt x="1204" y="1652"/>
                </a:lnTo>
                <a:lnTo>
                  <a:pt x="1214" y="1663"/>
                </a:lnTo>
                <a:lnTo>
                  <a:pt x="1224" y="1677"/>
                </a:lnTo>
                <a:lnTo>
                  <a:pt x="1235" y="1692"/>
                </a:lnTo>
                <a:lnTo>
                  <a:pt x="1247" y="1706"/>
                </a:lnTo>
                <a:lnTo>
                  <a:pt x="1261" y="1722"/>
                </a:lnTo>
                <a:lnTo>
                  <a:pt x="1268" y="1735"/>
                </a:lnTo>
                <a:lnTo>
                  <a:pt x="1278" y="1751"/>
                </a:lnTo>
                <a:lnTo>
                  <a:pt x="1286" y="1768"/>
                </a:lnTo>
                <a:lnTo>
                  <a:pt x="1292" y="1786"/>
                </a:lnTo>
                <a:lnTo>
                  <a:pt x="1292" y="1797"/>
                </a:lnTo>
                <a:lnTo>
                  <a:pt x="1294" y="1813"/>
                </a:lnTo>
                <a:lnTo>
                  <a:pt x="1296" y="1826"/>
                </a:lnTo>
                <a:lnTo>
                  <a:pt x="1298" y="1842"/>
                </a:lnTo>
                <a:lnTo>
                  <a:pt x="1298" y="1853"/>
                </a:lnTo>
                <a:lnTo>
                  <a:pt x="1299" y="1869"/>
                </a:lnTo>
                <a:lnTo>
                  <a:pt x="1301" y="1882"/>
                </a:lnTo>
                <a:lnTo>
                  <a:pt x="1303" y="1898"/>
                </a:lnTo>
                <a:lnTo>
                  <a:pt x="1303" y="1912"/>
                </a:lnTo>
                <a:lnTo>
                  <a:pt x="1303" y="1927"/>
                </a:lnTo>
                <a:lnTo>
                  <a:pt x="1303" y="1941"/>
                </a:lnTo>
                <a:lnTo>
                  <a:pt x="1303" y="1956"/>
                </a:lnTo>
                <a:lnTo>
                  <a:pt x="1303" y="1970"/>
                </a:lnTo>
                <a:lnTo>
                  <a:pt x="1303" y="1985"/>
                </a:lnTo>
                <a:lnTo>
                  <a:pt x="1303" y="1999"/>
                </a:lnTo>
                <a:lnTo>
                  <a:pt x="1305" y="2014"/>
                </a:lnTo>
                <a:lnTo>
                  <a:pt x="1303" y="2026"/>
                </a:lnTo>
                <a:lnTo>
                  <a:pt x="1303" y="2041"/>
                </a:lnTo>
                <a:lnTo>
                  <a:pt x="1301" y="2055"/>
                </a:lnTo>
                <a:lnTo>
                  <a:pt x="1301" y="2071"/>
                </a:lnTo>
                <a:lnTo>
                  <a:pt x="1301" y="2084"/>
                </a:lnTo>
                <a:lnTo>
                  <a:pt x="1301" y="2100"/>
                </a:lnTo>
                <a:lnTo>
                  <a:pt x="1301" y="2113"/>
                </a:lnTo>
                <a:lnTo>
                  <a:pt x="1301" y="2129"/>
                </a:lnTo>
                <a:lnTo>
                  <a:pt x="1301" y="2140"/>
                </a:lnTo>
                <a:lnTo>
                  <a:pt x="1301" y="2156"/>
                </a:lnTo>
                <a:lnTo>
                  <a:pt x="1301" y="2169"/>
                </a:lnTo>
                <a:lnTo>
                  <a:pt x="1301" y="2185"/>
                </a:lnTo>
                <a:lnTo>
                  <a:pt x="1301" y="2199"/>
                </a:lnTo>
                <a:lnTo>
                  <a:pt x="1303" y="2214"/>
                </a:lnTo>
                <a:lnTo>
                  <a:pt x="1305" y="2228"/>
                </a:lnTo>
                <a:lnTo>
                  <a:pt x="1307" y="2243"/>
                </a:lnTo>
                <a:lnTo>
                  <a:pt x="1309" y="2224"/>
                </a:lnTo>
                <a:lnTo>
                  <a:pt x="1319" y="2208"/>
                </a:lnTo>
                <a:lnTo>
                  <a:pt x="1327" y="2191"/>
                </a:lnTo>
                <a:lnTo>
                  <a:pt x="1336" y="2175"/>
                </a:lnTo>
                <a:lnTo>
                  <a:pt x="1332" y="2156"/>
                </a:lnTo>
                <a:lnTo>
                  <a:pt x="1332" y="2138"/>
                </a:lnTo>
                <a:lnTo>
                  <a:pt x="1332" y="2123"/>
                </a:lnTo>
                <a:lnTo>
                  <a:pt x="1334" y="2107"/>
                </a:lnTo>
                <a:lnTo>
                  <a:pt x="1336" y="2090"/>
                </a:lnTo>
                <a:lnTo>
                  <a:pt x="1338" y="2074"/>
                </a:lnTo>
                <a:lnTo>
                  <a:pt x="1340" y="2059"/>
                </a:lnTo>
                <a:lnTo>
                  <a:pt x="1344" y="2043"/>
                </a:lnTo>
                <a:lnTo>
                  <a:pt x="1344" y="2032"/>
                </a:lnTo>
                <a:lnTo>
                  <a:pt x="1344" y="2020"/>
                </a:lnTo>
                <a:lnTo>
                  <a:pt x="1346" y="2008"/>
                </a:lnTo>
                <a:lnTo>
                  <a:pt x="1348" y="1999"/>
                </a:lnTo>
                <a:lnTo>
                  <a:pt x="1348" y="1987"/>
                </a:lnTo>
                <a:lnTo>
                  <a:pt x="1352" y="1977"/>
                </a:lnTo>
                <a:lnTo>
                  <a:pt x="1354" y="1966"/>
                </a:lnTo>
                <a:lnTo>
                  <a:pt x="1358" y="1956"/>
                </a:lnTo>
                <a:lnTo>
                  <a:pt x="1362" y="1935"/>
                </a:lnTo>
                <a:lnTo>
                  <a:pt x="1367" y="1915"/>
                </a:lnTo>
                <a:lnTo>
                  <a:pt x="1373" y="1894"/>
                </a:lnTo>
                <a:lnTo>
                  <a:pt x="1383" y="1877"/>
                </a:lnTo>
                <a:lnTo>
                  <a:pt x="1391" y="1865"/>
                </a:lnTo>
                <a:lnTo>
                  <a:pt x="1402" y="1863"/>
                </a:lnTo>
                <a:lnTo>
                  <a:pt x="1414" y="1863"/>
                </a:lnTo>
                <a:lnTo>
                  <a:pt x="1427" y="1865"/>
                </a:lnTo>
                <a:lnTo>
                  <a:pt x="1426" y="1879"/>
                </a:lnTo>
                <a:lnTo>
                  <a:pt x="1426" y="1892"/>
                </a:lnTo>
                <a:lnTo>
                  <a:pt x="1426" y="1906"/>
                </a:lnTo>
                <a:lnTo>
                  <a:pt x="1426" y="1921"/>
                </a:lnTo>
                <a:lnTo>
                  <a:pt x="1424" y="1935"/>
                </a:lnTo>
                <a:lnTo>
                  <a:pt x="1422" y="1950"/>
                </a:lnTo>
                <a:lnTo>
                  <a:pt x="1420" y="1964"/>
                </a:lnTo>
                <a:lnTo>
                  <a:pt x="1420" y="1979"/>
                </a:lnTo>
                <a:lnTo>
                  <a:pt x="1418" y="1991"/>
                </a:lnTo>
                <a:lnTo>
                  <a:pt x="1416" y="2007"/>
                </a:lnTo>
                <a:lnTo>
                  <a:pt x="1414" y="2020"/>
                </a:lnTo>
                <a:lnTo>
                  <a:pt x="1414" y="2036"/>
                </a:lnTo>
                <a:lnTo>
                  <a:pt x="1412" y="2049"/>
                </a:lnTo>
                <a:lnTo>
                  <a:pt x="1412" y="2065"/>
                </a:lnTo>
                <a:lnTo>
                  <a:pt x="1412" y="2078"/>
                </a:lnTo>
                <a:lnTo>
                  <a:pt x="1414" y="2094"/>
                </a:lnTo>
                <a:lnTo>
                  <a:pt x="1422" y="2094"/>
                </a:lnTo>
                <a:lnTo>
                  <a:pt x="1431" y="2088"/>
                </a:lnTo>
                <a:lnTo>
                  <a:pt x="1431" y="2072"/>
                </a:lnTo>
                <a:lnTo>
                  <a:pt x="1433" y="2059"/>
                </a:lnTo>
                <a:lnTo>
                  <a:pt x="1435" y="2047"/>
                </a:lnTo>
                <a:lnTo>
                  <a:pt x="1439" y="2036"/>
                </a:lnTo>
                <a:lnTo>
                  <a:pt x="1439" y="2024"/>
                </a:lnTo>
                <a:lnTo>
                  <a:pt x="1443" y="2012"/>
                </a:lnTo>
                <a:lnTo>
                  <a:pt x="1445" y="2001"/>
                </a:lnTo>
                <a:lnTo>
                  <a:pt x="1449" y="1989"/>
                </a:lnTo>
                <a:lnTo>
                  <a:pt x="1451" y="1976"/>
                </a:lnTo>
                <a:lnTo>
                  <a:pt x="1453" y="1964"/>
                </a:lnTo>
                <a:lnTo>
                  <a:pt x="1455" y="1952"/>
                </a:lnTo>
                <a:lnTo>
                  <a:pt x="1458" y="1941"/>
                </a:lnTo>
                <a:lnTo>
                  <a:pt x="1460" y="1929"/>
                </a:lnTo>
                <a:lnTo>
                  <a:pt x="1464" y="1917"/>
                </a:lnTo>
                <a:lnTo>
                  <a:pt x="1466" y="1906"/>
                </a:lnTo>
                <a:lnTo>
                  <a:pt x="1470" y="1894"/>
                </a:lnTo>
                <a:lnTo>
                  <a:pt x="1480" y="1877"/>
                </a:lnTo>
                <a:lnTo>
                  <a:pt x="1486" y="1859"/>
                </a:lnTo>
                <a:lnTo>
                  <a:pt x="1490" y="1840"/>
                </a:lnTo>
                <a:lnTo>
                  <a:pt x="1501" y="1822"/>
                </a:lnTo>
                <a:lnTo>
                  <a:pt x="1505" y="1811"/>
                </a:lnTo>
                <a:lnTo>
                  <a:pt x="1509" y="1799"/>
                </a:lnTo>
                <a:lnTo>
                  <a:pt x="1515" y="1789"/>
                </a:lnTo>
                <a:lnTo>
                  <a:pt x="1521" y="1780"/>
                </a:lnTo>
                <a:lnTo>
                  <a:pt x="1530" y="1758"/>
                </a:lnTo>
                <a:lnTo>
                  <a:pt x="1542" y="1739"/>
                </a:lnTo>
                <a:lnTo>
                  <a:pt x="1554" y="1718"/>
                </a:lnTo>
                <a:lnTo>
                  <a:pt x="1565" y="1698"/>
                </a:lnTo>
                <a:lnTo>
                  <a:pt x="1577" y="1681"/>
                </a:lnTo>
                <a:lnTo>
                  <a:pt x="1594" y="1663"/>
                </a:lnTo>
                <a:lnTo>
                  <a:pt x="1610" y="1650"/>
                </a:lnTo>
                <a:lnTo>
                  <a:pt x="1625" y="1638"/>
                </a:lnTo>
                <a:lnTo>
                  <a:pt x="1641" y="1625"/>
                </a:lnTo>
                <a:lnTo>
                  <a:pt x="1658" y="1613"/>
                </a:lnTo>
                <a:lnTo>
                  <a:pt x="1674" y="1599"/>
                </a:lnTo>
                <a:lnTo>
                  <a:pt x="1689" y="1586"/>
                </a:lnTo>
                <a:lnTo>
                  <a:pt x="1705" y="1572"/>
                </a:lnTo>
                <a:lnTo>
                  <a:pt x="1722" y="1561"/>
                </a:lnTo>
                <a:lnTo>
                  <a:pt x="1726" y="1549"/>
                </a:lnTo>
                <a:lnTo>
                  <a:pt x="1734" y="1543"/>
                </a:lnTo>
                <a:lnTo>
                  <a:pt x="1740" y="1535"/>
                </a:lnTo>
                <a:lnTo>
                  <a:pt x="1749" y="1531"/>
                </a:lnTo>
                <a:lnTo>
                  <a:pt x="1755" y="1526"/>
                </a:lnTo>
                <a:lnTo>
                  <a:pt x="1763" y="1520"/>
                </a:lnTo>
                <a:lnTo>
                  <a:pt x="1767" y="1512"/>
                </a:lnTo>
                <a:lnTo>
                  <a:pt x="1773" y="1504"/>
                </a:lnTo>
                <a:lnTo>
                  <a:pt x="1780" y="1499"/>
                </a:lnTo>
                <a:lnTo>
                  <a:pt x="1788" y="1491"/>
                </a:lnTo>
                <a:lnTo>
                  <a:pt x="1794" y="1481"/>
                </a:lnTo>
                <a:lnTo>
                  <a:pt x="1802" y="1471"/>
                </a:lnTo>
                <a:lnTo>
                  <a:pt x="1808" y="1462"/>
                </a:lnTo>
                <a:lnTo>
                  <a:pt x="1815" y="1458"/>
                </a:lnTo>
                <a:lnTo>
                  <a:pt x="1823" y="1458"/>
                </a:lnTo>
                <a:lnTo>
                  <a:pt x="1837" y="1464"/>
                </a:lnTo>
                <a:lnTo>
                  <a:pt x="1852" y="1473"/>
                </a:lnTo>
                <a:lnTo>
                  <a:pt x="1870" y="1487"/>
                </a:lnTo>
                <a:lnTo>
                  <a:pt x="1883" y="1497"/>
                </a:lnTo>
                <a:lnTo>
                  <a:pt x="1901" y="1506"/>
                </a:lnTo>
                <a:lnTo>
                  <a:pt x="1905" y="1510"/>
                </a:lnTo>
                <a:lnTo>
                  <a:pt x="1910" y="1520"/>
                </a:lnTo>
                <a:lnTo>
                  <a:pt x="1916" y="1524"/>
                </a:lnTo>
                <a:lnTo>
                  <a:pt x="1928" y="1524"/>
                </a:lnTo>
                <a:lnTo>
                  <a:pt x="1922" y="1508"/>
                </a:lnTo>
                <a:lnTo>
                  <a:pt x="1916" y="1497"/>
                </a:lnTo>
                <a:lnTo>
                  <a:pt x="1906" y="1485"/>
                </a:lnTo>
                <a:lnTo>
                  <a:pt x="1897" y="1475"/>
                </a:lnTo>
                <a:lnTo>
                  <a:pt x="1885" y="1464"/>
                </a:lnTo>
                <a:lnTo>
                  <a:pt x="1877" y="1452"/>
                </a:lnTo>
                <a:lnTo>
                  <a:pt x="1870" y="1438"/>
                </a:lnTo>
                <a:lnTo>
                  <a:pt x="1870" y="1425"/>
                </a:lnTo>
                <a:lnTo>
                  <a:pt x="1870" y="1409"/>
                </a:lnTo>
                <a:lnTo>
                  <a:pt x="1872" y="1398"/>
                </a:lnTo>
                <a:lnTo>
                  <a:pt x="1875" y="1384"/>
                </a:lnTo>
                <a:lnTo>
                  <a:pt x="1881" y="1372"/>
                </a:lnTo>
                <a:lnTo>
                  <a:pt x="1885" y="1361"/>
                </a:lnTo>
                <a:lnTo>
                  <a:pt x="1891" y="1351"/>
                </a:lnTo>
                <a:lnTo>
                  <a:pt x="1899" y="1341"/>
                </a:lnTo>
                <a:lnTo>
                  <a:pt x="1906" y="1338"/>
                </a:lnTo>
                <a:lnTo>
                  <a:pt x="1914" y="1326"/>
                </a:lnTo>
                <a:lnTo>
                  <a:pt x="1922" y="1314"/>
                </a:lnTo>
                <a:lnTo>
                  <a:pt x="1928" y="1301"/>
                </a:lnTo>
                <a:lnTo>
                  <a:pt x="1934" y="1291"/>
                </a:lnTo>
                <a:lnTo>
                  <a:pt x="1945" y="1297"/>
                </a:lnTo>
                <a:lnTo>
                  <a:pt x="1957" y="1305"/>
                </a:lnTo>
                <a:lnTo>
                  <a:pt x="1970" y="1312"/>
                </a:lnTo>
                <a:lnTo>
                  <a:pt x="1984" y="1320"/>
                </a:lnTo>
                <a:lnTo>
                  <a:pt x="1996" y="1326"/>
                </a:lnTo>
                <a:lnTo>
                  <a:pt x="2007" y="1334"/>
                </a:lnTo>
                <a:lnTo>
                  <a:pt x="2021" y="1340"/>
                </a:lnTo>
                <a:lnTo>
                  <a:pt x="2034" y="1345"/>
                </a:lnTo>
                <a:lnTo>
                  <a:pt x="2038" y="1357"/>
                </a:lnTo>
                <a:lnTo>
                  <a:pt x="2054" y="1369"/>
                </a:lnTo>
                <a:lnTo>
                  <a:pt x="2069" y="1376"/>
                </a:lnTo>
                <a:lnTo>
                  <a:pt x="2085" y="1388"/>
                </a:lnTo>
                <a:lnTo>
                  <a:pt x="2093" y="1394"/>
                </a:lnTo>
                <a:lnTo>
                  <a:pt x="2104" y="1400"/>
                </a:lnTo>
                <a:lnTo>
                  <a:pt x="2116" y="1404"/>
                </a:lnTo>
                <a:lnTo>
                  <a:pt x="2131" y="1409"/>
                </a:lnTo>
                <a:lnTo>
                  <a:pt x="2139" y="1421"/>
                </a:lnTo>
                <a:lnTo>
                  <a:pt x="2153" y="1433"/>
                </a:lnTo>
                <a:lnTo>
                  <a:pt x="2164" y="1440"/>
                </a:lnTo>
                <a:lnTo>
                  <a:pt x="2180" y="1450"/>
                </a:lnTo>
                <a:lnTo>
                  <a:pt x="2194" y="1456"/>
                </a:lnTo>
                <a:lnTo>
                  <a:pt x="2209" y="1464"/>
                </a:lnTo>
                <a:lnTo>
                  <a:pt x="2225" y="1471"/>
                </a:lnTo>
                <a:lnTo>
                  <a:pt x="2240" y="1479"/>
                </a:lnTo>
                <a:lnTo>
                  <a:pt x="2230" y="1497"/>
                </a:lnTo>
                <a:lnTo>
                  <a:pt x="2221" y="1514"/>
                </a:lnTo>
                <a:lnTo>
                  <a:pt x="2209" y="1531"/>
                </a:lnTo>
                <a:lnTo>
                  <a:pt x="2199" y="1549"/>
                </a:lnTo>
                <a:lnTo>
                  <a:pt x="2188" y="1566"/>
                </a:lnTo>
                <a:lnTo>
                  <a:pt x="2176" y="1584"/>
                </a:lnTo>
                <a:lnTo>
                  <a:pt x="2164" y="1601"/>
                </a:lnTo>
                <a:lnTo>
                  <a:pt x="2155" y="1619"/>
                </a:lnTo>
                <a:lnTo>
                  <a:pt x="2141" y="1634"/>
                </a:lnTo>
                <a:lnTo>
                  <a:pt x="2130" y="1652"/>
                </a:lnTo>
                <a:lnTo>
                  <a:pt x="2118" y="1669"/>
                </a:lnTo>
                <a:lnTo>
                  <a:pt x="2106" y="1687"/>
                </a:lnTo>
                <a:lnTo>
                  <a:pt x="2095" y="1704"/>
                </a:lnTo>
                <a:lnTo>
                  <a:pt x="2083" y="1722"/>
                </a:lnTo>
                <a:lnTo>
                  <a:pt x="2071" y="1739"/>
                </a:lnTo>
                <a:lnTo>
                  <a:pt x="2062" y="1758"/>
                </a:lnTo>
                <a:lnTo>
                  <a:pt x="2058" y="1743"/>
                </a:lnTo>
                <a:lnTo>
                  <a:pt x="2060" y="1727"/>
                </a:lnTo>
                <a:lnTo>
                  <a:pt x="2056" y="1710"/>
                </a:lnTo>
                <a:lnTo>
                  <a:pt x="2048" y="1698"/>
                </a:lnTo>
                <a:lnTo>
                  <a:pt x="2038" y="1704"/>
                </a:lnTo>
                <a:lnTo>
                  <a:pt x="2033" y="1714"/>
                </a:lnTo>
                <a:lnTo>
                  <a:pt x="2027" y="1723"/>
                </a:lnTo>
                <a:lnTo>
                  <a:pt x="2027" y="1735"/>
                </a:lnTo>
                <a:lnTo>
                  <a:pt x="2025" y="1745"/>
                </a:lnTo>
                <a:lnTo>
                  <a:pt x="2025" y="1756"/>
                </a:lnTo>
                <a:lnTo>
                  <a:pt x="2023" y="1768"/>
                </a:lnTo>
                <a:lnTo>
                  <a:pt x="2023" y="1780"/>
                </a:lnTo>
                <a:lnTo>
                  <a:pt x="2019" y="1791"/>
                </a:lnTo>
                <a:lnTo>
                  <a:pt x="2015" y="1803"/>
                </a:lnTo>
                <a:lnTo>
                  <a:pt x="2011" y="1815"/>
                </a:lnTo>
                <a:lnTo>
                  <a:pt x="2009" y="1826"/>
                </a:lnTo>
                <a:lnTo>
                  <a:pt x="2003" y="1838"/>
                </a:lnTo>
                <a:lnTo>
                  <a:pt x="2000" y="1849"/>
                </a:lnTo>
                <a:lnTo>
                  <a:pt x="1996" y="1861"/>
                </a:lnTo>
                <a:lnTo>
                  <a:pt x="1992" y="1873"/>
                </a:lnTo>
                <a:lnTo>
                  <a:pt x="1986" y="1882"/>
                </a:lnTo>
                <a:lnTo>
                  <a:pt x="1982" y="1894"/>
                </a:lnTo>
                <a:lnTo>
                  <a:pt x="1976" y="1906"/>
                </a:lnTo>
                <a:lnTo>
                  <a:pt x="1972" y="1917"/>
                </a:lnTo>
                <a:lnTo>
                  <a:pt x="1967" y="1927"/>
                </a:lnTo>
                <a:lnTo>
                  <a:pt x="1961" y="1939"/>
                </a:lnTo>
                <a:lnTo>
                  <a:pt x="1955" y="1950"/>
                </a:lnTo>
                <a:lnTo>
                  <a:pt x="1951" y="1962"/>
                </a:lnTo>
                <a:lnTo>
                  <a:pt x="1943" y="1972"/>
                </a:lnTo>
                <a:lnTo>
                  <a:pt x="1938" y="1981"/>
                </a:lnTo>
                <a:lnTo>
                  <a:pt x="1932" y="1993"/>
                </a:lnTo>
                <a:lnTo>
                  <a:pt x="1926" y="2005"/>
                </a:lnTo>
                <a:lnTo>
                  <a:pt x="1920" y="2014"/>
                </a:lnTo>
                <a:lnTo>
                  <a:pt x="1914" y="2024"/>
                </a:lnTo>
                <a:lnTo>
                  <a:pt x="1908" y="2036"/>
                </a:lnTo>
                <a:lnTo>
                  <a:pt x="1903" y="2047"/>
                </a:lnTo>
                <a:lnTo>
                  <a:pt x="1895" y="2057"/>
                </a:lnTo>
                <a:lnTo>
                  <a:pt x="1889" y="2069"/>
                </a:lnTo>
                <a:lnTo>
                  <a:pt x="1883" y="2078"/>
                </a:lnTo>
                <a:lnTo>
                  <a:pt x="1877" y="2090"/>
                </a:lnTo>
                <a:lnTo>
                  <a:pt x="1872" y="2100"/>
                </a:lnTo>
                <a:lnTo>
                  <a:pt x="1866" y="2111"/>
                </a:lnTo>
                <a:lnTo>
                  <a:pt x="1860" y="2123"/>
                </a:lnTo>
                <a:lnTo>
                  <a:pt x="1856" y="2135"/>
                </a:lnTo>
                <a:lnTo>
                  <a:pt x="1841" y="2133"/>
                </a:lnTo>
                <a:lnTo>
                  <a:pt x="1837" y="2121"/>
                </a:lnTo>
                <a:lnTo>
                  <a:pt x="1837" y="2103"/>
                </a:lnTo>
                <a:lnTo>
                  <a:pt x="1839" y="2088"/>
                </a:lnTo>
                <a:lnTo>
                  <a:pt x="1842" y="2071"/>
                </a:lnTo>
                <a:lnTo>
                  <a:pt x="1848" y="2055"/>
                </a:lnTo>
                <a:lnTo>
                  <a:pt x="1850" y="2038"/>
                </a:lnTo>
                <a:lnTo>
                  <a:pt x="1852" y="2022"/>
                </a:lnTo>
                <a:lnTo>
                  <a:pt x="1850" y="2007"/>
                </a:lnTo>
                <a:lnTo>
                  <a:pt x="1848" y="1991"/>
                </a:lnTo>
                <a:lnTo>
                  <a:pt x="1837" y="1993"/>
                </a:lnTo>
                <a:lnTo>
                  <a:pt x="1831" y="2003"/>
                </a:lnTo>
                <a:lnTo>
                  <a:pt x="1829" y="2012"/>
                </a:lnTo>
                <a:lnTo>
                  <a:pt x="1829" y="2024"/>
                </a:lnTo>
                <a:lnTo>
                  <a:pt x="1821" y="2041"/>
                </a:lnTo>
                <a:lnTo>
                  <a:pt x="1813" y="2059"/>
                </a:lnTo>
                <a:lnTo>
                  <a:pt x="1808" y="2074"/>
                </a:lnTo>
                <a:lnTo>
                  <a:pt x="1804" y="2094"/>
                </a:lnTo>
                <a:lnTo>
                  <a:pt x="1800" y="2111"/>
                </a:lnTo>
                <a:lnTo>
                  <a:pt x="1796" y="2129"/>
                </a:lnTo>
                <a:lnTo>
                  <a:pt x="1792" y="2146"/>
                </a:lnTo>
                <a:lnTo>
                  <a:pt x="1790" y="2166"/>
                </a:lnTo>
                <a:lnTo>
                  <a:pt x="1784" y="2183"/>
                </a:lnTo>
                <a:lnTo>
                  <a:pt x="1780" y="2200"/>
                </a:lnTo>
                <a:lnTo>
                  <a:pt x="1777" y="2218"/>
                </a:lnTo>
                <a:lnTo>
                  <a:pt x="1773" y="2237"/>
                </a:lnTo>
                <a:lnTo>
                  <a:pt x="1767" y="2255"/>
                </a:lnTo>
                <a:lnTo>
                  <a:pt x="1761" y="2272"/>
                </a:lnTo>
                <a:lnTo>
                  <a:pt x="1755" y="2290"/>
                </a:lnTo>
                <a:lnTo>
                  <a:pt x="1751" y="2307"/>
                </a:lnTo>
                <a:lnTo>
                  <a:pt x="1744" y="2325"/>
                </a:lnTo>
                <a:lnTo>
                  <a:pt x="1738" y="2342"/>
                </a:lnTo>
                <a:lnTo>
                  <a:pt x="1732" y="2359"/>
                </a:lnTo>
                <a:lnTo>
                  <a:pt x="1726" y="2377"/>
                </a:lnTo>
                <a:lnTo>
                  <a:pt x="1716" y="2392"/>
                </a:lnTo>
                <a:lnTo>
                  <a:pt x="1709" y="2408"/>
                </a:lnTo>
                <a:lnTo>
                  <a:pt x="1699" y="2423"/>
                </a:lnTo>
                <a:lnTo>
                  <a:pt x="1691" y="2441"/>
                </a:lnTo>
                <a:lnTo>
                  <a:pt x="1682" y="2454"/>
                </a:lnTo>
                <a:lnTo>
                  <a:pt x="1672" y="2470"/>
                </a:lnTo>
                <a:lnTo>
                  <a:pt x="1660" y="2485"/>
                </a:lnTo>
                <a:lnTo>
                  <a:pt x="1650" y="2501"/>
                </a:lnTo>
                <a:lnTo>
                  <a:pt x="1637" y="2515"/>
                </a:lnTo>
                <a:lnTo>
                  <a:pt x="1625" y="2528"/>
                </a:lnTo>
                <a:lnTo>
                  <a:pt x="1614" y="2542"/>
                </a:lnTo>
                <a:lnTo>
                  <a:pt x="1602" y="2557"/>
                </a:lnTo>
                <a:lnTo>
                  <a:pt x="1586" y="2569"/>
                </a:lnTo>
                <a:lnTo>
                  <a:pt x="1573" y="2582"/>
                </a:lnTo>
                <a:lnTo>
                  <a:pt x="1557" y="2594"/>
                </a:lnTo>
                <a:lnTo>
                  <a:pt x="1544" y="2608"/>
                </a:lnTo>
                <a:lnTo>
                  <a:pt x="1530" y="2613"/>
                </a:lnTo>
                <a:lnTo>
                  <a:pt x="1519" y="2623"/>
                </a:lnTo>
                <a:lnTo>
                  <a:pt x="1507" y="2631"/>
                </a:lnTo>
                <a:lnTo>
                  <a:pt x="1495" y="2641"/>
                </a:lnTo>
                <a:lnTo>
                  <a:pt x="1484" y="2648"/>
                </a:lnTo>
                <a:lnTo>
                  <a:pt x="1472" y="2658"/>
                </a:lnTo>
                <a:lnTo>
                  <a:pt x="1460" y="2668"/>
                </a:lnTo>
                <a:lnTo>
                  <a:pt x="1449" y="2677"/>
                </a:lnTo>
                <a:lnTo>
                  <a:pt x="1435" y="2685"/>
                </a:lnTo>
                <a:lnTo>
                  <a:pt x="1424" y="2693"/>
                </a:lnTo>
                <a:lnTo>
                  <a:pt x="1412" y="2701"/>
                </a:lnTo>
                <a:lnTo>
                  <a:pt x="1400" y="2710"/>
                </a:lnTo>
                <a:lnTo>
                  <a:pt x="1389" y="2718"/>
                </a:lnTo>
                <a:lnTo>
                  <a:pt x="1377" y="2728"/>
                </a:lnTo>
                <a:lnTo>
                  <a:pt x="1365" y="2736"/>
                </a:lnTo>
                <a:lnTo>
                  <a:pt x="1354" y="2745"/>
                </a:lnTo>
                <a:lnTo>
                  <a:pt x="1098" y="2745"/>
                </a:lnTo>
                <a:lnTo>
                  <a:pt x="1080" y="2728"/>
                </a:lnTo>
                <a:lnTo>
                  <a:pt x="1067" y="2712"/>
                </a:lnTo>
                <a:lnTo>
                  <a:pt x="1053" y="2695"/>
                </a:lnTo>
                <a:lnTo>
                  <a:pt x="1042" y="2677"/>
                </a:lnTo>
                <a:lnTo>
                  <a:pt x="1030" y="2664"/>
                </a:lnTo>
                <a:lnTo>
                  <a:pt x="1022" y="2650"/>
                </a:lnTo>
                <a:lnTo>
                  <a:pt x="1016" y="2637"/>
                </a:lnTo>
                <a:lnTo>
                  <a:pt x="1011" y="2623"/>
                </a:lnTo>
                <a:lnTo>
                  <a:pt x="1003" y="2608"/>
                </a:lnTo>
                <a:lnTo>
                  <a:pt x="995" y="2594"/>
                </a:lnTo>
                <a:lnTo>
                  <a:pt x="987" y="2580"/>
                </a:lnTo>
                <a:lnTo>
                  <a:pt x="981" y="2569"/>
                </a:lnTo>
                <a:lnTo>
                  <a:pt x="974" y="2557"/>
                </a:lnTo>
                <a:lnTo>
                  <a:pt x="966" y="2546"/>
                </a:lnTo>
                <a:lnTo>
                  <a:pt x="960" y="2534"/>
                </a:lnTo>
                <a:lnTo>
                  <a:pt x="954" y="2522"/>
                </a:lnTo>
                <a:lnTo>
                  <a:pt x="948" y="2509"/>
                </a:lnTo>
                <a:lnTo>
                  <a:pt x="943" y="2497"/>
                </a:lnTo>
                <a:lnTo>
                  <a:pt x="937" y="2485"/>
                </a:lnTo>
                <a:lnTo>
                  <a:pt x="933" y="2474"/>
                </a:lnTo>
                <a:lnTo>
                  <a:pt x="927" y="2460"/>
                </a:lnTo>
                <a:lnTo>
                  <a:pt x="921" y="2447"/>
                </a:lnTo>
                <a:lnTo>
                  <a:pt x="917" y="2433"/>
                </a:lnTo>
                <a:lnTo>
                  <a:pt x="914" y="2421"/>
                </a:lnTo>
                <a:lnTo>
                  <a:pt x="910" y="2408"/>
                </a:lnTo>
                <a:lnTo>
                  <a:pt x="906" y="2396"/>
                </a:lnTo>
                <a:lnTo>
                  <a:pt x="902" y="2383"/>
                </a:lnTo>
                <a:lnTo>
                  <a:pt x="900" y="2371"/>
                </a:lnTo>
                <a:lnTo>
                  <a:pt x="892" y="2361"/>
                </a:lnTo>
                <a:lnTo>
                  <a:pt x="888" y="2352"/>
                </a:lnTo>
                <a:lnTo>
                  <a:pt x="883" y="2344"/>
                </a:lnTo>
                <a:lnTo>
                  <a:pt x="873" y="2344"/>
                </a:lnTo>
                <a:lnTo>
                  <a:pt x="873" y="2359"/>
                </a:lnTo>
                <a:lnTo>
                  <a:pt x="877" y="2375"/>
                </a:lnTo>
                <a:lnTo>
                  <a:pt x="883" y="2390"/>
                </a:lnTo>
                <a:lnTo>
                  <a:pt x="888" y="2408"/>
                </a:lnTo>
                <a:lnTo>
                  <a:pt x="892" y="2421"/>
                </a:lnTo>
                <a:lnTo>
                  <a:pt x="898" y="2439"/>
                </a:lnTo>
                <a:lnTo>
                  <a:pt x="904" y="2453"/>
                </a:lnTo>
                <a:lnTo>
                  <a:pt x="912" y="2470"/>
                </a:lnTo>
                <a:lnTo>
                  <a:pt x="915" y="2484"/>
                </a:lnTo>
                <a:lnTo>
                  <a:pt x="921" y="2499"/>
                </a:lnTo>
                <a:lnTo>
                  <a:pt x="927" y="2515"/>
                </a:lnTo>
                <a:lnTo>
                  <a:pt x="933" y="2530"/>
                </a:lnTo>
                <a:lnTo>
                  <a:pt x="935" y="2546"/>
                </a:lnTo>
                <a:lnTo>
                  <a:pt x="939" y="2561"/>
                </a:lnTo>
                <a:lnTo>
                  <a:pt x="941" y="2579"/>
                </a:lnTo>
                <a:lnTo>
                  <a:pt x="943" y="2596"/>
                </a:lnTo>
                <a:lnTo>
                  <a:pt x="923" y="2594"/>
                </a:lnTo>
                <a:lnTo>
                  <a:pt x="906" y="2592"/>
                </a:lnTo>
                <a:lnTo>
                  <a:pt x="888" y="2586"/>
                </a:lnTo>
                <a:lnTo>
                  <a:pt x="873" y="2580"/>
                </a:lnTo>
                <a:lnTo>
                  <a:pt x="855" y="2569"/>
                </a:lnTo>
                <a:lnTo>
                  <a:pt x="842" y="2559"/>
                </a:lnTo>
                <a:lnTo>
                  <a:pt x="826" y="2548"/>
                </a:lnTo>
                <a:lnTo>
                  <a:pt x="813" y="2538"/>
                </a:lnTo>
                <a:lnTo>
                  <a:pt x="799" y="2520"/>
                </a:lnTo>
                <a:lnTo>
                  <a:pt x="787" y="2507"/>
                </a:lnTo>
                <a:lnTo>
                  <a:pt x="772" y="2493"/>
                </a:lnTo>
                <a:lnTo>
                  <a:pt x="758" y="2480"/>
                </a:lnTo>
                <a:lnTo>
                  <a:pt x="756" y="2484"/>
                </a:lnTo>
                <a:lnTo>
                  <a:pt x="741" y="2466"/>
                </a:lnTo>
                <a:lnTo>
                  <a:pt x="727" y="2451"/>
                </a:lnTo>
                <a:lnTo>
                  <a:pt x="714" y="2433"/>
                </a:lnTo>
                <a:lnTo>
                  <a:pt x="700" y="2418"/>
                </a:lnTo>
                <a:lnTo>
                  <a:pt x="685" y="2400"/>
                </a:lnTo>
                <a:lnTo>
                  <a:pt x="669" y="2385"/>
                </a:lnTo>
                <a:lnTo>
                  <a:pt x="654" y="2369"/>
                </a:lnTo>
                <a:lnTo>
                  <a:pt x="640" y="2358"/>
                </a:lnTo>
                <a:lnTo>
                  <a:pt x="640" y="2350"/>
                </a:lnTo>
                <a:lnTo>
                  <a:pt x="621" y="2332"/>
                </a:lnTo>
                <a:lnTo>
                  <a:pt x="603" y="2315"/>
                </a:lnTo>
                <a:lnTo>
                  <a:pt x="588" y="2295"/>
                </a:lnTo>
                <a:lnTo>
                  <a:pt x="574" y="2276"/>
                </a:lnTo>
                <a:lnTo>
                  <a:pt x="561" y="2257"/>
                </a:lnTo>
                <a:lnTo>
                  <a:pt x="547" y="2237"/>
                </a:lnTo>
                <a:lnTo>
                  <a:pt x="531" y="2220"/>
                </a:lnTo>
                <a:lnTo>
                  <a:pt x="516" y="2204"/>
                </a:lnTo>
                <a:lnTo>
                  <a:pt x="510" y="2189"/>
                </a:lnTo>
                <a:lnTo>
                  <a:pt x="506" y="2175"/>
                </a:lnTo>
                <a:lnTo>
                  <a:pt x="499" y="2162"/>
                </a:lnTo>
                <a:lnTo>
                  <a:pt x="491" y="2150"/>
                </a:lnTo>
                <a:lnTo>
                  <a:pt x="481" y="2136"/>
                </a:lnTo>
                <a:lnTo>
                  <a:pt x="473" y="2125"/>
                </a:lnTo>
                <a:lnTo>
                  <a:pt x="466" y="2111"/>
                </a:lnTo>
                <a:lnTo>
                  <a:pt x="460" y="2100"/>
                </a:lnTo>
                <a:lnTo>
                  <a:pt x="450" y="2080"/>
                </a:lnTo>
                <a:lnTo>
                  <a:pt x="442" y="2063"/>
                </a:lnTo>
                <a:lnTo>
                  <a:pt x="435" y="2043"/>
                </a:lnTo>
                <a:lnTo>
                  <a:pt x="427" y="2026"/>
                </a:lnTo>
                <a:lnTo>
                  <a:pt x="419" y="2007"/>
                </a:lnTo>
                <a:lnTo>
                  <a:pt x="411" y="1989"/>
                </a:lnTo>
                <a:lnTo>
                  <a:pt x="403" y="1972"/>
                </a:lnTo>
                <a:lnTo>
                  <a:pt x="398" y="1954"/>
                </a:lnTo>
                <a:lnTo>
                  <a:pt x="390" y="1935"/>
                </a:lnTo>
                <a:lnTo>
                  <a:pt x="384" y="1917"/>
                </a:lnTo>
                <a:lnTo>
                  <a:pt x="376" y="1898"/>
                </a:lnTo>
                <a:lnTo>
                  <a:pt x="371" y="1881"/>
                </a:lnTo>
                <a:lnTo>
                  <a:pt x="365" y="1861"/>
                </a:lnTo>
                <a:lnTo>
                  <a:pt x="359" y="1844"/>
                </a:lnTo>
                <a:lnTo>
                  <a:pt x="353" y="1824"/>
                </a:lnTo>
                <a:lnTo>
                  <a:pt x="349" y="1807"/>
                </a:lnTo>
                <a:lnTo>
                  <a:pt x="343" y="1786"/>
                </a:lnTo>
                <a:lnTo>
                  <a:pt x="338" y="1768"/>
                </a:lnTo>
                <a:lnTo>
                  <a:pt x="334" y="1747"/>
                </a:lnTo>
                <a:lnTo>
                  <a:pt x="330" y="1729"/>
                </a:lnTo>
                <a:lnTo>
                  <a:pt x="324" y="1708"/>
                </a:lnTo>
                <a:lnTo>
                  <a:pt x="322" y="1690"/>
                </a:lnTo>
                <a:lnTo>
                  <a:pt x="318" y="1669"/>
                </a:lnTo>
                <a:lnTo>
                  <a:pt x="316" y="1652"/>
                </a:lnTo>
                <a:lnTo>
                  <a:pt x="312" y="1630"/>
                </a:lnTo>
                <a:lnTo>
                  <a:pt x="310" y="1611"/>
                </a:lnTo>
                <a:lnTo>
                  <a:pt x="308" y="1590"/>
                </a:lnTo>
                <a:lnTo>
                  <a:pt x="308" y="1570"/>
                </a:lnTo>
                <a:lnTo>
                  <a:pt x="307" y="1549"/>
                </a:lnTo>
                <a:lnTo>
                  <a:pt x="307" y="1530"/>
                </a:lnTo>
                <a:lnTo>
                  <a:pt x="307" y="1510"/>
                </a:lnTo>
                <a:lnTo>
                  <a:pt x="308" y="1491"/>
                </a:lnTo>
                <a:lnTo>
                  <a:pt x="301" y="1479"/>
                </a:lnTo>
                <a:lnTo>
                  <a:pt x="299" y="1469"/>
                </a:lnTo>
                <a:lnTo>
                  <a:pt x="295" y="1458"/>
                </a:lnTo>
                <a:lnTo>
                  <a:pt x="289" y="1452"/>
                </a:lnTo>
                <a:lnTo>
                  <a:pt x="281" y="1460"/>
                </a:lnTo>
                <a:lnTo>
                  <a:pt x="277" y="1667"/>
                </a:lnTo>
                <a:lnTo>
                  <a:pt x="270" y="1685"/>
                </a:lnTo>
                <a:lnTo>
                  <a:pt x="260" y="1667"/>
                </a:lnTo>
                <a:lnTo>
                  <a:pt x="252" y="1650"/>
                </a:lnTo>
                <a:lnTo>
                  <a:pt x="243" y="1632"/>
                </a:lnTo>
                <a:lnTo>
                  <a:pt x="235" y="1617"/>
                </a:lnTo>
                <a:lnTo>
                  <a:pt x="227" y="1599"/>
                </a:lnTo>
                <a:lnTo>
                  <a:pt x="219" y="1584"/>
                </a:lnTo>
                <a:lnTo>
                  <a:pt x="211" y="1566"/>
                </a:lnTo>
                <a:lnTo>
                  <a:pt x="206" y="1551"/>
                </a:lnTo>
                <a:lnTo>
                  <a:pt x="198" y="1533"/>
                </a:lnTo>
                <a:lnTo>
                  <a:pt x="190" y="1518"/>
                </a:lnTo>
                <a:lnTo>
                  <a:pt x="182" y="1500"/>
                </a:lnTo>
                <a:lnTo>
                  <a:pt x="177" y="1485"/>
                </a:lnTo>
                <a:lnTo>
                  <a:pt x="171" y="1468"/>
                </a:lnTo>
                <a:lnTo>
                  <a:pt x="165" y="1452"/>
                </a:lnTo>
                <a:lnTo>
                  <a:pt x="159" y="1435"/>
                </a:lnTo>
                <a:lnTo>
                  <a:pt x="153" y="1419"/>
                </a:lnTo>
                <a:lnTo>
                  <a:pt x="147" y="1407"/>
                </a:lnTo>
                <a:lnTo>
                  <a:pt x="146" y="1396"/>
                </a:lnTo>
                <a:lnTo>
                  <a:pt x="140" y="1384"/>
                </a:lnTo>
                <a:lnTo>
                  <a:pt x="138" y="1374"/>
                </a:lnTo>
                <a:lnTo>
                  <a:pt x="134" y="1363"/>
                </a:lnTo>
                <a:lnTo>
                  <a:pt x="132" y="1353"/>
                </a:lnTo>
                <a:lnTo>
                  <a:pt x="128" y="1341"/>
                </a:lnTo>
                <a:lnTo>
                  <a:pt x="128" y="1332"/>
                </a:lnTo>
                <a:lnTo>
                  <a:pt x="124" y="1320"/>
                </a:lnTo>
                <a:lnTo>
                  <a:pt x="122" y="1310"/>
                </a:lnTo>
                <a:lnTo>
                  <a:pt x="118" y="1299"/>
                </a:lnTo>
                <a:lnTo>
                  <a:pt x="116" y="1289"/>
                </a:lnTo>
                <a:lnTo>
                  <a:pt x="115" y="1277"/>
                </a:lnTo>
                <a:lnTo>
                  <a:pt x="113" y="1268"/>
                </a:lnTo>
                <a:lnTo>
                  <a:pt x="111" y="1256"/>
                </a:lnTo>
                <a:lnTo>
                  <a:pt x="111" y="1246"/>
                </a:lnTo>
                <a:lnTo>
                  <a:pt x="107" y="1235"/>
                </a:lnTo>
                <a:lnTo>
                  <a:pt x="105" y="1223"/>
                </a:lnTo>
                <a:lnTo>
                  <a:pt x="103" y="1212"/>
                </a:lnTo>
                <a:lnTo>
                  <a:pt x="103" y="1202"/>
                </a:lnTo>
                <a:lnTo>
                  <a:pt x="101" y="1190"/>
                </a:lnTo>
                <a:lnTo>
                  <a:pt x="99" y="1181"/>
                </a:lnTo>
                <a:lnTo>
                  <a:pt x="97" y="1169"/>
                </a:lnTo>
                <a:lnTo>
                  <a:pt x="97" y="1159"/>
                </a:lnTo>
                <a:lnTo>
                  <a:pt x="95" y="1148"/>
                </a:lnTo>
                <a:lnTo>
                  <a:pt x="93" y="1138"/>
                </a:lnTo>
                <a:lnTo>
                  <a:pt x="93" y="1126"/>
                </a:lnTo>
                <a:lnTo>
                  <a:pt x="93" y="1117"/>
                </a:lnTo>
                <a:lnTo>
                  <a:pt x="91" y="1105"/>
                </a:lnTo>
                <a:lnTo>
                  <a:pt x="89" y="1095"/>
                </a:lnTo>
                <a:lnTo>
                  <a:pt x="89" y="1084"/>
                </a:lnTo>
                <a:lnTo>
                  <a:pt x="89" y="1074"/>
                </a:lnTo>
                <a:lnTo>
                  <a:pt x="87" y="1012"/>
                </a:lnTo>
                <a:lnTo>
                  <a:pt x="76" y="1016"/>
                </a:lnTo>
                <a:lnTo>
                  <a:pt x="74" y="1027"/>
                </a:lnTo>
                <a:lnTo>
                  <a:pt x="70" y="1037"/>
                </a:lnTo>
                <a:lnTo>
                  <a:pt x="66" y="1049"/>
                </a:lnTo>
                <a:lnTo>
                  <a:pt x="62" y="1060"/>
                </a:lnTo>
                <a:lnTo>
                  <a:pt x="60" y="1076"/>
                </a:lnTo>
                <a:lnTo>
                  <a:pt x="58" y="1087"/>
                </a:lnTo>
                <a:lnTo>
                  <a:pt x="58" y="1103"/>
                </a:lnTo>
                <a:lnTo>
                  <a:pt x="56" y="1117"/>
                </a:lnTo>
                <a:lnTo>
                  <a:pt x="54" y="1130"/>
                </a:lnTo>
                <a:lnTo>
                  <a:pt x="52" y="1144"/>
                </a:lnTo>
                <a:lnTo>
                  <a:pt x="52" y="1159"/>
                </a:lnTo>
                <a:lnTo>
                  <a:pt x="51" y="1171"/>
                </a:lnTo>
                <a:lnTo>
                  <a:pt x="51" y="1186"/>
                </a:lnTo>
                <a:lnTo>
                  <a:pt x="51" y="1198"/>
                </a:lnTo>
                <a:lnTo>
                  <a:pt x="51" y="1213"/>
                </a:lnTo>
                <a:lnTo>
                  <a:pt x="51" y="1227"/>
                </a:lnTo>
                <a:lnTo>
                  <a:pt x="51" y="1241"/>
                </a:lnTo>
                <a:lnTo>
                  <a:pt x="51" y="1254"/>
                </a:lnTo>
                <a:lnTo>
                  <a:pt x="51" y="1270"/>
                </a:lnTo>
                <a:lnTo>
                  <a:pt x="51" y="1281"/>
                </a:lnTo>
                <a:lnTo>
                  <a:pt x="51" y="1295"/>
                </a:lnTo>
                <a:lnTo>
                  <a:pt x="51" y="1309"/>
                </a:lnTo>
                <a:lnTo>
                  <a:pt x="51" y="1322"/>
                </a:lnTo>
                <a:lnTo>
                  <a:pt x="51" y="1336"/>
                </a:lnTo>
                <a:lnTo>
                  <a:pt x="51" y="1349"/>
                </a:lnTo>
                <a:lnTo>
                  <a:pt x="51" y="1363"/>
                </a:lnTo>
                <a:lnTo>
                  <a:pt x="52" y="1378"/>
                </a:lnTo>
                <a:lnTo>
                  <a:pt x="52" y="1390"/>
                </a:lnTo>
                <a:lnTo>
                  <a:pt x="52" y="1405"/>
                </a:lnTo>
                <a:lnTo>
                  <a:pt x="52" y="1417"/>
                </a:lnTo>
                <a:lnTo>
                  <a:pt x="52" y="1433"/>
                </a:lnTo>
                <a:lnTo>
                  <a:pt x="52" y="1446"/>
                </a:lnTo>
                <a:lnTo>
                  <a:pt x="54" y="1462"/>
                </a:lnTo>
                <a:lnTo>
                  <a:pt x="54" y="1475"/>
                </a:lnTo>
                <a:lnTo>
                  <a:pt x="56" y="1491"/>
                </a:lnTo>
                <a:lnTo>
                  <a:pt x="62" y="1493"/>
                </a:lnTo>
                <a:lnTo>
                  <a:pt x="72" y="1493"/>
                </a:lnTo>
                <a:lnTo>
                  <a:pt x="72" y="1481"/>
                </a:lnTo>
                <a:lnTo>
                  <a:pt x="76" y="1469"/>
                </a:lnTo>
                <a:lnTo>
                  <a:pt x="78" y="1458"/>
                </a:lnTo>
                <a:lnTo>
                  <a:pt x="83" y="1446"/>
                </a:lnTo>
                <a:lnTo>
                  <a:pt x="85" y="1435"/>
                </a:lnTo>
                <a:lnTo>
                  <a:pt x="89" y="1423"/>
                </a:lnTo>
                <a:lnTo>
                  <a:pt x="91" y="1411"/>
                </a:lnTo>
                <a:lnTo>
                  <a:pt x="95" y="1402"/>
                </a:lnTo>
                <a:lnTo>
                  <a:pt x="99" y="1411"/>
                </a:lnTo>
                <a:lnTo>
                  <a:pt x="105" y="1423"/>
                </a:lnTo>
                <a:lnTo>
                  <a:pt x="109" y="1435"/>
                </a:lnTo>
                <a:lnTo>
                  <a:pt x="115" y="1446"/>
                </a:lnTo>
                <a:lnTo>
                  <a:pt x="120" y="1458"/>
                </a:lnTo>
                <a:lnTo>
                  <a:pt x="126" y="1469"/>
                </a:lnTo>
                <a:lnTo>
                  <a:pt x="132" y="1481"/>
                </a:lnTo>
                <a:lnTo>
                  <a:pt x="138" y="1493"/>
                </a:lnTo>
                <a:lnTo>
                  <a:pt x="144" y="1502"/>
                </a:lnTo>
                <a:lnTo>
                  <a:pt x="149" y="1514"/>
                </a:lnTo>
                <a:lnTo>
                  <a:pt x="155" y="1526"/>
                </a:lnTo>
                <a:lnTo>
                  <a:pt x="161" y="1537"/>
                </a:lnTo>
                <a:lnTo>
                  <a:pt x="167" y="1549"/>
                </a:lnTo>
                <a:lnTo>
                  <a:pt x="173" y="1561"/>
                </a:lnTo>
                <a:lnTo>
                  <a:pt x="179" y="1572"/>
                </a:lnTo>
                <a:lnTo>
                  <a:pt x="184" y="1584"/>
                </a:lnTo>
                <a:lnTo>
                  <a:pt x="190" y="1594"/>
                </a:lnTo>
                <a:lnTo>
                  <a:pt x="196" y="1605"/>
                </a:lnTo>
                <a:lnTo>
                  <a:pt x="202" y="1617"/>
                </a:lnTo>
                <a:lnTo>
                  <a:pt x="208" y="1628"/>
                </a:lnTo>
                <a:lnTo>
                  <a:pt x="213" y="1640"/>
                </a:lnTo>
                <a:lnTo>
                  <a:pt x="219" y="1652"/>
                </a:lnTo>
                <a:lnTo>
                  <a:pt x="225" y="1663"/>
                </a:lnTo>
                <a:lnTo>
                  <a:pt x="231" y="1675"/>
                </a:lnTo>
                <a:lnTo>
                  <a:pt x="237" y="1685"/>
                </a:lnTo>
                <a:lnTo>
                  <a:pt x="243" y="1696"/>
                </a:lnTo>
                <a:lnTo>
                  <a:pt x="248" y="1708"/>
                </a:lnTo>
                <a:lnTo>
                  <a:pt x="256" y="1720"/>
                </a:lnTo>
                <a:lnTo>
                  <a:pt x="262" y="1731"/>
                </a:lnTo>
                <a:lnTo>
                  <a:pt x="268" y="1743"/>
                </a:lnTo>
                <a:lnTo>
                  <a:pt x="274" y="1754"/>
                </a:lnTo>
                <a:lnTo>
                  <a:pt x="281" y="1766"/>
                </a:lnTo>
                <a:lnTo>
                  <a:pt x="287" y="1776"/>
                </a:lnTo>
                <a:lnTo>
                  <a:pt x="293" y="1787"/>
                </a:lnTo>
                <a:lnTo>
                  <a:pt x="299" y="1799"/>
                </a:lnTo>
                <a:lnTo>
                  <a:pt x="305" y="1811"/>
                </a:lnTo>
                <a:lnTo>
                  <a:pt x="310" y="1820"/>
                </a:lnTo>
                <a:lnTo>
                  <a:pt x="316" y="1832"/>
                </a:lnTo>
                <a:lnTo>
                  <a:pt x="322" y="1844"/>
                </a:lnTo>
                <a:lnTo>
                  <a:pt x="328" y="1855"/>
                </a:lnTo>
                <a:lnTo>
                  <a:pt x="334" y="1867"/>
                </a:lnTo>
                <a:lnTo>
                  <a:pt x="339" y="1879"/>
                </a:lnTo>
                <a:lnTo>
                  <a:pt x="345" y="1890"/>
                </a:lnTo>
                <a:lnTo>
                  <a:pt x="351" y="1902"/>
                </a:lnTo>
                <a:lnTo>
                  <a:pt x="357" y="1913"/>
                </a:lnTo>
                <a:lnTo>
                  <a:pt x="363" y="1925"/>
                </a:lnTo>
                <a:lnTo>
                  <a:pt x="369" y="1937"/>
                </a:lnTo>
                <a:lnTo>
                  <a:pt x="374" y="1948"/>
                </a:lnTo>
                <a:lnTo>
                  <a:pt x="378" y="1958"/>
                </a:lnTo>
                <a:lnTo>
                  <a:pt x="384" y="1970"/>
                </a:lnTo>
                <a:lnTo>
                  <a:pt x="390" y="1981"/>
                </a:lnTo>
                <a:lnTo>
                  <a:pt x="396" y="1993"/>
                </a:lnTo>
                <a:lnTo>
                  <a:pt x="402" y="2005"/>
                </a:lnTo>
                <a:lnTo>
                  <a:pt x="407" y="2016"/>
                </a:lnTo>
                <a:lnTo>
                  <a:pt x="413" y="2028"/>
                </a:lnTo>
                <a:lnTo>
                  <a:pt x="419" y="2040"/>
                </a:lnTo>
                <a:lnTo>
                  <a:pt x="423" y="2051"/>
                </a:lnTo>
                <a:lnTo>
                  <a:pt x="429" y="2063"/>
                </a:lnTo>
                <a:lnTo>
                  <a:pt x="435" y="2074"/>
                </a:lnTo>
                <a:lnTo>
                  <a:pt x="440" y="2086"/>
                </a:lnTo>
                <a:lnTo>
                  <a:pt x="444" y="2098"/>
                </a:lnTo>
                <a:lnTo>
                  <a:pt x="450" y="2109"/>
                </a:lnTo>
                <a:lnTo>
                  <a:pt x="456" y="2121"/>
                </a:lnTo>
                <a:lnTo>
                  <a:pt x="462" y="2135"/>
                </a:lnTo>
                <a:lnTo>
                  <a:pt x="469" y="2148"/>
                </a:lnTo>
                <a:lnTo>
                  <a:pt x="479" y="2164"/>
                </a:lnTo>
                <a:lnTo>
                  <a:pt x="489" y="2179"/>
                </a:lnTo>
                <a:lnTo>
                  <a:pt x="500" y="2195"/>
                </a:lnTo>
                <a:lnTo>
                  <a:pt x="510" y="2208"/>
                </a:lnTo>
                <a:lnTo>
                  <a:pt x="520" y="2224"/>
                </a:lnTo>
                <a:lnTo>
                  <a:pt x="530" y="2237"/>
                </a:lnTo>
                <a:lnTo>
                  <a:pt x="541" y="2253"/>
                </a:lnTo>
                <a:lnTo>
                  <a:pt x="551" y="2266"/>
                </a:lnTo>
                <a:lnTo>
                  <a:pt x="563" y="2280"/>
                </a:lnTo>
                <a:lnTo>
                  <a:pt x="574" y="2294"/>
                </a:lnTo>
                <a:lnTo>
                  <a:pt x="586" y="2309"/>
                </a:lnTo>
                <a:lnTo>
                  <a:pt x="597" y="2323"/>
                </a:lnTo>
                <a:lnTo>
                  <a:pt x="609" y="2336"/>
                </a:lnTo>
                <a:lnTo>
                  <a:pt x="621" y="2350"/>
                </a:lnTo>
                <a:lnTo>
                  <a:pt x="632" y="2365"/>
                </a:lnTo>
                <a:lnTo>
                  <a:pt x="644" y="2377"/>
                </a:lnTo>
                <a:lnTo>
                  <a:pt x="656" y="2390"/>
                </a:lnTo>
                <a:lnTo>
                  <a:pt x="667" y="2402"/>
                </a:lnTo>
                <a:lnTo>
                  <a:pt x="679" y="2416"/>
                </a:lnTo>
                <a:lnTo>
                  <a:pt x="691" y="2427"/>
                </a:lnTo>
                <a:lnTo>
                  <a:pt x="702" y="2441"/>
                </a:lnTo>
                <a:lnTo>
                  <a:pt x="714" y="2454"/>
                </a:lnTo>
                <a:lnTo>
                  <a:pt x="727" y="2468"/>
                </a:lnTo>
                <a:lnTo>
                  <a:pt x="739" y="2480"/>
                </a:lnTo>
                <a:lnTo>
                  <a:pt x="751" y="2491"/>
                </a:lnTo>
                <a:lnTo>
                  <a:pt x="762" y="2505"/>
                </a:lnTo>
                <a:lnTo>
                  <a:pt x="776" y="2518"/>
                </a:lnTo>
                <a:lnTo>
                  <a:pt x="787" y="2530"/>
                </a:lnTo>
                <a:lnTo>
                  <a:pt x="801" y="2542"/>
                </a:lnTo>
                <a:lnTo>
                  <a:pt x="815" y="2555"/>
                </a:lnTo>
                <a:lnTo>
                  <a:pt x="828" y="2569"/>
                </a:lnTo>
                <a:lnTo>
                  <a:pt x="838" y="2577"/>
                </a:lnTo>
                <a:lnTo>
                  <a:pt x="850" y="2586"/>
                </a:lnTo>
                <a:lnTo>
                  <a:pt x="861" y="2596"/>
                </a:lnTo>
                <a:lnTo>
                  <a:pt x="873" y="2608"/>
                </a:lnTo>
                <a:lnTo>
                  <a:pt x="884" y="2615"/>
                </a:lnTo>
                <a:lnTo>
                  <a:pt x="896" y="2625"/>
                </a:lnTo>
                <a:lnTo>
                  <a:pt x="908" y="2635"/>
                </a:lnTo>
                <a:lnTo>
                  <a:pt x="919" y="2646"/>
                </a:lnTo>
                <a:lnTo>
                  <a:pt x="929" y="2654"/>
                </a:lnTo>
                <a:lnTo>
                  <a:pt x="941" y="2664"/>
                </a:lnTo>
                <a:lnTo>
                  <a:pt x="952" y="2674"/>
                </a:lnTo>
                <a:lnTo>
                  <a:pt x="964" y="2683"/>
                </a:lnTo>
                <a:lnTo>
                  <a:pt x="976" y="2691"/>
                </a:lnTo>
                <a:lnTo>
                  <a:pt x="987" y="2699"/>
                </a:lnTo>
                <a:lnTo>
                  <a:pt x="999" y="2707"/>
                </a:lnTo>
                <a:lnTo>
                  <a:pt x="1011" y="2716"/>
                </a:lnTo>
                <a:lnTo>
                  <a:pt x="1024" y="2732"/>
                </a:lnTo>
                <a:lnTo>
                  <a:pt x="1042" y="2745"/>
                </a:lnTo>
                <a:lnTo>
                  <a:pt x="316" y="2745"/>
                </a:lnTo>
                <a:lnTo>
                  <a:pt x="314" y="2734"/>
                </a:lnTo>
                <a:lnTo>
                  <a:pt x="312" y="2722"/>
                </a:lnTo>
                <a:lnTo>
                  <a:pt x="310" y="2710"/>
                </a:lnTo>
                <a:lnTo>
                  <a:pt x="308" y="2699"/>
                </a:lnTo>
                <a:lnTo>
                  <a:pt x="305" y="2687"/>
                </a:lnTo>
                <a:lnTo>
                  <a:pt x="305" y="2676"/>
                </a:lnTo>
                <a:lnTo>
                  <a:pt x="303" y="2664"/>
                </a:lnTo>
                <a:lnTo>
                  <a:pt x="303" y="2654"/>
                </a:lnTo>
                <a:lnTo>
                  <a:pt x="301" y="2643"/>
                </a:lnTo>
                <a:lnTo>
                  <a:pt x="299" y="2631"/>
                </a:lnTo>
                <a:lnTo>
                  <a:pt x="299" y="2619"/>
                </a:lnTo>
                <a:lnTo>
                  <a:pt x="303" y="2610"/>
                </a:lnTo>
                <a:lnTo>
                  <a:pt x="308" y="2588"/>
                </a:lnTo>
                <a:lnTo>
                  <a:pt x="320" y="2569"/>
                </a:lnTo>
                <a:lnTo>
                  <a:pt x="328" y="2575"/>
                </a:lnTo>
                <a:lnTo>
                  <a:pt x="341" y="2590"/>
                </a:lnTo>
                <a:lnTo>
                  <a:pt x="357" y="2608"/>
                </a:lnTo>
                <a:lnTo>
                  <a:pt x="371" y="2625"/>
                </a:lnTo>
                <a:lnTo>
                  <a:pt x="386" y="2643"/>
                </a:lnTo>
                <a:lnTo>
                  <a:pt x="398" y="2660"/>
                </a:lnTo>
                <a:lnTo>
                  <a:pt x="411" y="2677"/>
                </a:lnTo>
                <a:lnTo>
                  <a:pt x="425" y="2693"/>
                </a:lnTo>
                <a:lnTo>
                  <a:pt x="442" y="2710"/>
                </a:lnTo>
                <a:lnTo>
                  <a:pt x="442" y="2695"/>
                </a:lnTo>
                <a:lnTo>
                  <a:pt x="442" y="2683"/>
                </a:lnTo>
                <a:lnTo>
                  <a:pt x="436" y="2672"/>
                </a:lnTo>
                <a:lnTo>
                  <a:pt x="433" y="2660"/>
                </a:lnTo>
                <a:lnTo>
                  <a:pt x="419" y="2639"/>
                </a:lnTo>
                <a:lnTo>
                  <a:pt x="409" y="2619"/>
                </a:lnTo>
                <a:lnTo>
                  <a:pt x="402" y="2606"/>
                </a:lnTo>
                <a:lnTo>
                  <a:pt x="396" y="2592"/>
                </a:lnTo>
                <a:lnTo>
                  <a:pt x="388" y="2579"/>
                </a:lnTo>
                <a:lnTo>
                  <a:pt x="382" y="2567"/>
                </a:lnTo>
                <a:lnTo>
                  <a:pt x="374" y="2553"/>
                </a:lnTo>
                <a:lnTo>
                  <a:pt x="369" y="2540"/>
                </a:lnTo>
                <a:lnTo>
                  <a:pt x="363" y="2526"/>
                </a:lnTo>
                <a:lnTo>
                  <a:pt x="357" y="2515"/>
                </a:lnTo>
                <a:lnTo>
                  <a:pt x="351" y="2501"/>
                </a:lnTo>
                <a:lnTo>
                  <a:pt x="345" y="2487"/>
                </a:lnTo>
                <a:lnTo>
                  <a:pt x="339" y="2474"/>
                </a:lnTo>
                <a:lnTo>
                  <a:pt x="334" y="2462"/>
                </a:lnTo>
                <a:lnTo>
                  <a:pt x="328" y="2449"/>
                </a:lnTo>
                <a:lnTo>
                  <a:pt x="322" y="2437"/>
                </a:lnTo>
                <a:lnTo>
                  <a:pt x="316" y="2423"/>
                </a:lnTo>
                <a:lnTo>
                  <a:pt x="310" y="2412"/>
                </a:lnTo>
                <a:lnTo>
                  <a:pt x="305" y="2398"/>
                </a:lnTo>
                <a:lnTo>
                  <a:pt x="299" y="2385"/>
                </a:lnTo>
                <a:lnTo>
                  <a:pt x="293" y="2371"/>
                </a:lnTo>
                <a:lnTo>
                  <a:pt x="287" y="2358"/>
                </a:lnTo>
                <a:lnTo>
                  <a:pt x="281" y="2344"/>
                </a:lnTo>
                <a:lnTo>
                  <a:pt x="275" y="2330"/>
                </a:lnTo>
                <a:lnTo>
                  <a:pt x="270" y="2317"/>
                </a:lnTo>
                <a:lnTo>
                  <a:pt x="266" y="2305"/>
                </a:lnTo>
                <a:lnTo>
                  <a:pt x="260" y="2292"/>
                </a:lnTo>
                <a:lnTo>
                  <a:pt x="254" y="2278"/>
                </a:lnTo>
                <a:lnTo>
                  <a:pt x="248" y="2264"/>
                </a:lnTo>
                <a:lnTo>
                  <a:pt x="244" y="2253"/>
                </a:lnTo>
                <a:lnTo>
                  <a:pt x="239" y="2239"/>
                </a:lnTo>
                <a:lnTo>
                  <a:pt x="235" y="2226"/>
                </a:lnTo>
                <a:lnTo>
                  <a:pt x="231" y="2212"/>
                </a:lnTo>
                <a:lnTo>
                  <a:pt x="229" y="2200"/>
                </a:lnTo>
                <a:lnTo>
                  <a:pt x="223" y="2189"/>
                </a:lnTo>
                <a:lnTo>
                  <a:pt x="219" y="2177"/>
                </a:lnTo>
                <a:lnTo>
                  <a:pt x="215" y="2166"/>
                </a:lnTo>
                <a:lnTo>
                  <a:pt x="211" y="2154"/>
                </a:lnTo>
                <a:lnTo>
                  <a:pt x="208" y="2142"/>
                </a:lnTo>
                <a:lnTo>
                  <a:pt x="204" y="2131"/>
                </a:lnTo>
                <a:lnTo>
                  <a:pt x="200" y="2119"/>
                </a:lnTo>
                <a:lnTo>
                  <a:pt x="198" y="2107"/>
                </a:lnTo>
                <a:lnTo>
                  <a:pt x="194" y="2096"/>
                </a:lnTo>
                <a:lnTo>
                  <a:pt x="190" y="2084"/>
                </a:lnTo>
                <a:lnTo>
                  <a:pt x="186" y="2072"/>
                </a:lnTo>
                <a:lnTo>
                  <a:pt x="184" y="2061"/>
                </a:lnTo>
                <a:lnTo>
                  <a:pt x="180" y="2049"/>
                </a:lnTo>
                <a:lnTo>
                  <a:pt x="179" y="2038"/>
                </a:lnTo>
                <a:lnTo>
                  <a:pt x="175" y="2026"/>
                </a:lnTo>
                <a:lnTo>
                  <a:pt x="173" y="2016"/>
                </a:lnTo>
                <a:lnTo>
                  <a:pt x="169" y="2005"/>
                </a:lnTo>
                <a:lnTo>
                  <a:pt x="167" y="1993"/>
                </a:lnTo>
                <a:lnTo>
                  <a:pt x="163" y="1981"/>
                </a:lnTo>
                <a:lnTo>
                  <a:pt x="161" y="1970"/>
                </a:lnTo>
                <a:lnTo>
                  <a:pt x="157" y="1958"/>
                </a:lnTo>
                <a:lnTo>
                  <a:pt x="155" y="1946"/>
                </a:lnTo>
                <a:lnTo>
                  <a:pt x="151" y="1935"/>
                </a:lnTo>
                <a:lnTo>
                  <a:pt x="149" y="1923"/>
                </a:lnTo>
                <a:lnTo>
                  <a:pt x="146" y="1912"/>
                </a:lnTo>
                <a:lnTo>
                  <a:pt x="144" y="1900"/>
                </a:lnTo>
                <a:lnTo>
                  <a:pt x="140" y="1888"/>
                </a:lnTo>
                <a:lnTo>
                  <a:pt x="138" y="1877"/>
                </a:lnTo>
                <a:lnTo>
                  <a:pt x="134" y="1865"/>
                </a:lnTo>
                <a:lnTo>
                  <a:pt x="132" y="1853"/>
                </a:lnTo>
                <a:lnTo>
                  <a:pt x="128" y="1842"/>
                </a:lnTo>
                <a:lnTo>
                  <a:pt x="126" y="1832"/>
                </a:lnTo>
                <a:lnTo>
                  <a:pt x="122" y="1820"/>
                </a:lnTo>
                <a:lnTo>
                  <a:pt x="120" y="1809"/>
                </a:lnTo>
                <a:lnTo>
                  <a:pt x="116" y="1797"/>
                </a:lnTo>
                <a:lnTo>
                  <a:pt x="115" y="1786"/>
                </a:lnTo>
                <a:lnTo>
                  <a:pt x="111" y="1774"/>
                </a:lnTo>
                <a:lnTo>
                  <a:pt x="109" y="1762"/>
                </a:lnTo>
                <a:lnTo>
                  <a:pt x="105" y="1751"/>
                </a:lnTo>
                <a:lnTo>
                  <a:pt x="103" y="1739"/>
                </a:lnTo>
                <a:lnTo>
                  <a:pt x="99" y="1727"/>
                </a:lnTo>
                <a:lnTo>
                  <a:pt x="97" y="1716"/>
                </a:lnTo>
                <a:lnTo>
                  <a:pt x="93" y="1704"/>
                </a:lnTo>
                <a:lnTo>
                  <a:pt x="91" y="1692"/>
                </a:lnTo>
                <a:lnTo>
                  <a:pt x="87" y="1681"/>
                </a:lnTo>
                <a:lnTo>
                  <a:pt x="85" y="1669"/>
                </a:lnTo>
                <a:lnTo>
                  <a:pt x="83" y="1658"/>
                </a:lnTo>
                <a:lnTo>
                  <a:pt x="82" y="1646"/>
                </a:lnTo>
                <a:lnTo>
                  <a:pt x="78" y="1634"/>
                </a:lnTo>
                <a:lnTo>
                  <a:pt x="74" y="1623"/>
                </a:lnTo>
                <a:lnTo>
                  <a:pt x="70" y="1611"/>
                </a:lnTo>
                <a:lnTo>
                  <a:pt x="68" y="1599"/>
                </a:lnTo>
                <a:lnTo>
                  <a:pt x="64" y="1588"/>
                </a:lnTo>
                <a:lnTo>
                  <a:pt x="62" y="1576"/>
                </a:lnTo>
                <a:lnTo>
                  <a:pt x="58" y="1564"/>
                </a:lnTo>
                <a:lnTo>
                  <a:pt x="56" y="1555"/>
                </a:lnTo>
                <a:lnTo>
                  <a:pt x="52" y="1543"/>
                </a:lnTo>
                <a:lnTo>
                  <a:pt x="49" y="1531"/>
                </a:lnTo>
                <a:lnTo>
                  <a:pt x="45" y="1520"/>
                </a:lnTo>
                <a:lnTo>
                  <a:pt x="43" y="1508"/>
                </a:lnTo>
                <a:lnTo>
                  <a:pt x="39" y="1497"/>
                </a:lnTo>
                <a:lnTo>
                  <a:pt x="37" y="1485"/>
                </a:lnTo>
                <a:lnTo>
                  <a:pt x="33" y="1473"/>
                </a:lnTo>
                <a:lnTo>
                  <a:pt x="31" y="1464"/>
                </a:lnTo>
                <a:lnTo>
                  <a:pt x="25" y="1452"/>
                </a:lnTo>
                <a:lnTo>
                  <a:pt x="23" y="1440"/>
                </a:lnTo>
                <a:lnTo>
                  <a:pt x="19" y="1429"/>
                </a:lnTo>
                <a:lnTo>
                  <a:pt x="18" y="1419"/>
                </a:lnTo>
                <a:lnTo>
                  <a:pt x="16" y="1407"/>
                </a:lnTo>
                <a:lnTo>
                  <a:pt x="14" y="1396"/>
                </a:lnTo>
                <a:lnTo>
                  <a:pt x="12" y="1384"/>
                </a:lnTo>
                <a:lnTo>
                  <a:pt x="12" y="1374"/>
                </a:lnTo>
                <a:lnTo>
                  <a:pt x="10" y="1363"/>
                </a:lnTo>
                <a:lnTo>
                  <a:pt x="8" y="1351"/>
                </a:lnTo>
                <a:lnTo>
                  <a:pt x="6" y="1340"/>
                </a:lnTo>
                <a:lnTo>
                  <a:pt x="6" y="1330"/>
                </a:lnTo>
                <a:lnTo>
                  <a:pt x="6" y="1318"/>
                </a:lnTo>
                <a:lnTo>
                  <a:pt x="6" y="1309"/>
                </a:lnTo>
                <a:lnTo>
                  <a:pt x="6" y="1297"/>
                </a:lnTo>
                <a:lnTo>
                  <a:pt x="6" y="1287"/>
                </a:lnTo>
                <a:lnTo>
                  <a:pt x="4" y="1276"/>
                </a:lnTo>
                <a:lnTo>
                  <a:pt x="4" y="1264"/>
                </a:lnTo>
                <a:lnTo>
                  <a:pt x="4" y="1252"/>
                </a:lnTo>
                <a:lnTo>
                  <a:pt x="4" y="1241"/>
                </a:lnTo>
                <a:lnTo>
                  <a:pt x="4" y="1229"/>
                </a:lnTo>
                <a:lnTo>
                  <a:pt x="4" y="1217"/>
                </a:lnTo>
                <a:lnTo>
                  <a:pt x="4" y="1206"/>
                </a:lnTo>
                <a:lnTo>
                  <a:pt x="4" y="1196"/>
                </a:lnTo>
                <a:lnTo>
                  <a:pt x="4" y="1184"/>
                </a:lnTo>
                <a:lnTo>
                  <a:pt x="4" y="1173"/>
                </a:lnTo>
                <a:lnTo>
                  <a:pt x="4" y="1161"/>
                </a:lnTo>
                <a:lnTo>
                  <a:pt x="4" y="1150"/>
                </a:lnTo>
                <a:lnTo>
                  <a:pt x="4" y="1138"/>
                </a:lnTo>
                <a:lnTo>
                  <a:pt x="4" y="1126"/>
                </a:lnTo>
                <a:lnTo>
                  <a:pt x="4" y="1115"/>
                </a:lnTo>
                <a:lnTo>
                  <a:pt x="6" y="1105"/>
                </a:lnTo>
                <a:lnTo>
                  <a:pt x="4" y="1091"/>
                </a:lnTo>
                <a:lnTo>
                  <a:pt x="2" y="1080"/>
                </a:lnTo>
                <a:lnTo>
                  <a:pt x="0" y="1068"/>
                </a:lnTo>
                <a:lnTo>
                  <a:pt x="0" y="1056"/>
                </a:lnTo>
                <a:lnTo>
                  <a:pt x="0" y="1045"/>
                </a:lnTo>
                <a:lnTo>
                  <a:pt x="0" y="1033"/>
                </a:lnTo>
                <a:lnTo>
                  <a:pt x="0" y="1022"/>
                </a:lnTo>
                <a:lnTo>
                  <a:pt x="0" y="1010"/>
                </a:lnTo>
                <a:lnTo>
                  <a:pt x="0" y="996"/>
                </a:lnTo>
                <a:lnTo>
                  <a:pt x="0" y="985"/>
                </a:lnTo>
                <a:lnTo>
                  <a:pt x="0" y="973"/>
                </a:lnTo>
                <a:lnTo>
                  <a:pt x="0" y="961"/>
                </a:lnTo>
                <a:lnTo>
                  <a:pt x="0" y="950"/>
                </a:lnTo>
                <a:lnTo>
                  <a:pt x="2" y="938"/>
                </a:lnTo>
                <a:lnTo>
                  <a:pt x="4" y="927"/>
                </a:lnTo>
                <a:lnTo>
                  <a:pt x="6" y="915"/>
                </a:lnTo>
                <a:lnTo>
                  <a:pt x="10" y="915"/>
                </a:lnTo>
                <a:lnTo>
                  <a:pt x="14" y="913"/>
                </a:lnTo>
                <a:lnTo>
                  <a:pt x="8" y="907"/>
                </a:lnTo>
                <a:lnTo>
                  <a:pt x="12" y="897"/>
                </a:lnTo>
                <a:lnTo>
                  <a:pt x="14" y="888"/>
                </a:lnTo>
                <a:lnTo>
                  <a:pt x="14" y="878"/>
                </a:lnTo>
                <a:lnTo>
                  <a:pt x="16" y="870"/>
                </a:lnTo>
                <a:lnTo>
                  <a:pt x="19" y="874"/>
                </a:lnTo>
                <a:lnTo>
                  <a:pt x="19" y="859"/>
                </a:lnTo>
                <a:lnTo>
                  <a:pt x="23" y="845"/>
                </a:lnTo>
                <a:lnTo>
                  <a:pt x="27" y="832"/>
                </a:lnTo>
                <a:lnTo>
                  <a:pt x="33" y="820"/>
                </a:lnTo>
                <a:lnTo>
                  <a:pt x="37" y="806"/>
                </a:lnTo>
                <a:lnTo>
                  <a:pt x="43" y="795"/>
                </a:lnTo>
                <a:lnTo>
                  <a:pt x="49" y="783"/>
                </a:lnTo>
                <a:lnTo>
                  <a:pt x="56" y="771"/>
                </a:lnTo>
                <a:lnTo>
                  <a:pt x="62" y="750"/>
                </a:lnTo>
                <a:lnTo>
                  <a:pt x="72" y="731"/>
                </a:lnTo>
                <a:lnTo>
                  <a:pt x="80" y="709"/>
                </a:lnTo>
                <a:lnTo>
                  <a:pt x="89" y="692"/>
                </a:lnTo>
                <a:lnTo>
                  <a:pt x="99" y="673"/>
                </a:lnTo>
                <a:lnTo>
                  <a:pt x="111" y="655"/>
                </a:lnTo>
                <a:lnTo>
                  <a:pt x="122" y="638"/>
                </a:lnTo>
                <a:lnTo>
                  <a:pt x="136" y="620"/>
                </a:lnTo>
                <a:lnTo>
                  <a:pt x="149" y="601"/>
                </a:lnTo>
                <a:lnTo>
                  <a:pt x="165" y="583"/>
                </a:lnTo>
                <a:lnTo>
                  <a:pt x="179" y="566"/>
                </a:lnTo>
                <a:lnTo>
                  <a:pt x="194" y="550"/>
                </a:lnTo>
                <a:lnTo>
                  <a:pt x="208" y="533"/>
                </a:lnTo>
                <a:lnTo>
                  <a:pt x="225" y="519"/>
                </a:lnTo>
                <a:lnTo>
                  <a:pt x="239" y="502"/>
                </a:lnTo>
                <a:lnTo>
                  <a:pt x="256" y="488"/>
                </a:lnTo>
                <a:lnTo>
                  <a:pt x="268" y="482"/>
                </a:lnTo>
                <a:lnTo>
                  <a:pt x="279" y="479"/>
                </a:lnTo>
                <a:lnTo>
                  <a:pt x="291" y="473"/>
                </a:lnTo>
                <a:lnTo>
                  <a:pt x="303" y="467"/>
                </a:lnTo>
                <a:lnTo>
                  <a:pt x="312" y="461"/>
                </a:lnTo>
                <a:lnTo>
                  <a:pt x="324" y="455"/>
                </a:lnTo>
                <a:lnTo>
                  <a:pt x="336" y="450"/>
                </a:lnTo>
                <a:lnTo>
                  <a:pt x="349" y="446"/>
                </a:lnTo>
                <a:lnTo>
                  <a:pt x="367" y="436"/>
                </a:lnTo>
                <a:lnTo>
                  <a:pt x="386" y="428"/>
                </a:lnTo>
                <a:lnTo>
                  <a:pt x="405" y="422"/>
                </a:lnTo>
                <a:lnTo>
                  <a:pt x="425" y="417"/>
                </a:lnTo>
                <a:lnTo>
                  <a:pt x="442" y="409"/>
                </a:lnTo>
                <a:lnTo>
                  <a:pt x="462" y="403"/>
                </a:lnTo>
                <a:lnTo>
                  <a:pt x="481" y="397"/>
                </a:lnTo>
                <a:lnTo>
                  <a:pt x="502" y="393"/>
                </a:lnTo>
                <a:lnTo>
                  <a:pt x="502" y="384"/>
                </a:lnTo>
                <a:lnTo>
                  <a:pt x="506" y="376"/>
                </a:lnTo>
                <a:lnTo>
                  <a:pt x="495" y="368"/>
                </a:lnTo>
                <a:lnTo>
                  <a:pt x="485" y="364"/>
                </a:lnTo>
                <a:lnTo>
                  <a:pt x="473" y="360"/>
                </a:lnTo>
                <a:lnTo>
                  <a:pt x="464" y="358"/>
                </a:lnTo>
                <a:lnTo>
                  <a:pt x="452" y="353"/>
                </a:lnTo>
                <a:lnTo>
                  <a:pt x="448" y="349"/>
                </a:lnTo>
                <a:lnTo>
                  <a:pt x="448" y="341"/>
                </a:lnTo>
                <a:lnTo>
                  <a:pt x="454" y="331"/>
                </a:lnTo>
                <a:lnTo>
                  <a:pt x="460" y="322"/>
                </a:lnTo>
                <a:lnTo>
                  <a:pt x="469" y="316"/>
                </a:lnTo>
                <a:lnTo>
                  <a:pt x="481" y="310"/>
                </a:lnTo>
                <a:lnTo>
                  <a:pt x="493" y="306"/>
                </a:lnTo>
                <a:lnTo>
                  <a:pt x="504" y="302"/>
                </a:lnTo>
                <a:lnTo>
                  <a:pt x="516" y="300"/>
                </a:lnTo>
                <a:lnTo>
                  <a:pt x="528" y="296"/>
                </a:lnTo>
                <a:lnTo>
                  <a:pt x="539" y="292"/>
                </a:lnTo>
                <a:lnTo>
                  <a:pt x="557" y="281"/>
                </a:lnTo>
                <a:lnTo>
                  <a:pt x="574" y="277"/>
                </a:lnTo>
                <a:lnTo>
                  <a:pt x="592" y="273"/>
                </a:lnTo>
                <a:lnTo>
                  <a:pt x="611" y="273"/>
                </a:lnTo>
                <a:lnTo>
                  <a:pt x="628" y="273"/>
                </a:lnTo>
                <a:lnTo>
                  <a:pt x="650" y="275"/>
                </a:lnTo>
                <a:lnTo>
                  <a:pt x="659" y="275"/>
                </a:lnTo>
                <a:lnTo>
                  <a:pt x="669" y="277"/>
                </a:lnTo>
                <a:lnTo>
                  <a:pt x="681" y="277"/>
                </a:lnTo>
                <a:lnTo>
                  <a:pt x="692" y="279"/>
                </a:lnTo>
                <a:lnTo>
                  <a:pt x="712" y="277"/>
                </a:lnTo>
                <a:lnTo>
                  <a:pt x="733" y="277"/>
                </a:lnTo>
                <a:lnTo>
                  <a:pt x="743" y="277"/>
                </a:lnTo>
                <a:lnTo>
                  <a:pt x="755" y="279"/>
                </a:lnTo>
                <a:lnTo>
                  <a:pt x="766" y="281"/>
                </a:lnTo>
                <a:lnTo>
                  <a:pt x="778" y="283"/>
                </a:lnTo>
                <a:lnTo>
                  <a:pt x="787" y="283"/>
                </a:lnTo>
                <a:lnTo>
                  <a:pt x="799" y="285"/>
                </a:lnTo>
                <a:lnTo>
                  <a:pt x="811" y="287"/>
                </a:lnTo>
                <a:lnTo>
                  <a:pt x="822" y="289"/>
                </a:lnTo>
                <a:lnTo>
                  <a:pt x="832" y="291"/>
                </a:lnTo>
                <a:lnTo>
                  <a:pt x="844" y="292"/>
                </a:lnTo>
                <a:lnTo>
                  <a:pt x="855" y="294"/>
                </a:lnTo>
                <a:lnTo>
                  <a:pt x="867" y="298"/>
                </a:lnTo>
                <a:lnTo>
                  <a:pt x="871" y="291"/>
                </a:lnTo>
                <a:lnTo>
                  <a:pt x="873" y="283"/>
                </a:lnTo>
                <a:lnTo>
                  <a:pt x="859" y="275"/>
                </a:lnTo>
                <a:lnTo>
                  <a:pt x="848" y="269"/>
                </a:lnTo>
                <a:lnTo>
                  <a:pt x="836" y="263"/>
                </a:lnTo>
                <a:lnTo>
                  <a:pt x="824" y="261"/>
                </a:lnTo>
                <a:lnTo>
                  <a:pt x="811" y="258"/>
                </a:lnTo>
                <a:lnTo>
                  <a:pt x="799" y="256"/>
                </a:lnTo>
                <a:lnTo>
                  <a:pt x="786" y="252"/>
                </a:lnTo>
                <a:lnTo>
                  <a:pt x="774" y="252"/>
                </a:lnTo>
                <a:lnTo>
                  <a:pt x="760" y="250"/>
                </a:lnTo>
                <a:lnTo>
                  <a:pt x="749" y="248"/>
                </a:lnTo>
                <a:lnTo>
                  <a:pt x="735" y="246"/>
                </a:lnTo>
                <a:lnTo>
                  <a:pt x="723" y="246"/>
                </a:lnTo>
                <a:lnTo>
                  <a:pt x="710" y="242"/>
                </a:lnTo>
                <a:lnTo>
                  <a:pt x="698" y="240"/>
                </a:lnTo>
                <a:lnTo>
                  <a:pt x="687" y="236"/>
                </a:lnTo>
                <a:lnTo>
                  <a:pt x="675" y="234"/>
                </a:lnTo>
                <a:lnTo>
                  <a:pt x="658" y="228"/>
                </a:lnTo>
                <a:lnTo>
                  <a:pt x="644" y="228"/>
                </a:lnTo>
                <a:lnTo>
                  <a:pt x="628" y="228"/>
                </a:lnTo>
                <a:lnTo>
                  <a:pt x="615" y="232"/>
                </a:lnTo>
                <a:lnTo>
                  <a:pt x="601" y="230"/>
                </a:lnTo>
                <a:lnTo>
                  <a:pt x="588" y="230"/>
                </a:lnTo>
                <a:lnTo>
                  <a:pt x="576" y="225"/>
                </a:lnTo>
                <a:lnTo>
                  <a:pt x="564" y="217"/>
                </a:lnTo>
                <a:lnTo>
                  <a:pt x="564" y="203"/>
                </a:lnTo>
                <a:lnTo>
                  <a:pt x="570" y="192"/>
                </a:lnTo>
                <a:lnTo>
                  <a:pt x="580" y="182"/>
                </a:lnTo>
                <a:lnTo>
                  <a:pt x="586" y="170"/>
                </a:lnTo>
                <a:lnTo>
                  <a:pt x="595" y="163"/>
                </a:lnTo>
                <a:lnTo>
                  <a:pt x="601" y="151"/>
                </a:lnTo>
                <a:lnTo>
                  <a:pt x="609" y="141"/>
                </a:lnTo>
                <a:lnTo>
                  <a:pt x="613" y="130"/>
                </a:lnTo>
                <a:lnTo>
                  <a:pt x="617" y="120"/>
                </a:lnTo>
                <a:lnTo>
                  <a:pt x="621" y="108"/>
                </a:lnTo>
                <a:lnTo>
                  <a:pt x="627" y="99"/>
                </a:lnTo>
                <a:lnTo>
                  <a:pt x="630" y="89"/>
                </a:lnTo>
                <a:lnTo>
                  <a:pt x="634" y="79"/>
                </a:lnTo>
                <a:lnTo>
                  <a:pt x="636" y="68"/>
                </a:lnTo>
                <a:lnTo>
                  <a:pt x="638" y="56"/>
                </a:lnTo>
                <a:lnTo>
                  <a:pt x="640" y="46"/>
                </a:lnTo>
                <a:lnTo>
                  <a:pt x="644" y="37"/>
                </a:lnTo>
                <a:lnTo>
                  <a:pt x="648" y="27"/>
                </a:lnTo>
                <a:lnTo>
                  <a:pt x="656" y="17"/>
                </a:lnTo>
                <a:lnTo>
                  <a:pt x="665" y="6"/>
                </a:lnTo>
                <a:lnTo>
                  <a:pt x="677" y="0"/>
                </a:lnTo>
                <a:lnTo>
                  <a:pt x="687" y="0"/>
                </a:lnTo>
                <a:lnTo>
                  <a:pt x="698" y="2"/>
                </a:lnTo>
                <a:lnTo>
                  <a:pt x="708" y="6"/>
                </a:lnTo>
                <a:lnTo>
                  <a:pt x="720" y="11"/>
                </a:lnTo>
                <a:lnTo>
                  <a:pt x="737" y="19"/>
                </a:lnTo>
                <a:lnTo>
                  <a:pt x="756" y="25"/>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58" name=""/>
          <p:cNvSpPr/>
          <p:nvPr/>
        </p:nvSpPr>
        <p:spPr>
          <a:xfrm>
            <a:off x="3173400" y="3970440"/>
            <a:ext cx="225360" cy="253800"/>
          </a:xfrm>
          <a:custGeom>
            <a:avLst/>
            <a:gdLst/>
            <a:ahLst/>
            <a:rect l="l" t="t" r="r" b="b"/>
            <a:pathLst>
              <a:path w="285" h="320">
                <a:moveTo>
                  <a:pt x="0" y="184"/>
                </a:moveTo>
                <a:lnTo>
                  <a:pt x="4" y="183"/>
                </a:lnTo>
                <a:lnTo>
                  <a:pt x="16" y="183"/>
                </a:lnTo>
                <a:lnTo>
                  <a:pt x="27" y="181"/>
                </a:lnTo>
                <a:lnTo>
                  <a:pt x="43" y="181"/>
                </a:lnTo>
                <a:lnTo>
                  <a:pt x="54" y="181"/>
                </a:lnTo>
                <a:lnTo>
                  <a:pt x="66" y="181"/>
                </a:lnTo>
                <a:lnTo>
                  <a:pt x="74" y="181"/>
                </a:lnTo>
                <a:lnTo>
                  <a:pt x="80" y="181"/>
                </a:lnTo>
                <a:lnTo>
                  <a:pt x="97" y="171"/>
                </a:lnTo>
                <a:lnTo>
                  <a:pt x="109" y="161"/>
                </a:lnTo>
                <a:lnTo>
                  <a:pt x="115" y="152"/>
                </a:lnTo>
                <a:lnTo>
                  <a:pt x="120" y="142"/>
                </a:lnTo>
                <a:lnTo>
                  <a:pt x="118" y="130"/>
                </a:lnTo>
                <a:lnTo>
                  <a:pt x="116" y="119"/>
                </a:lnTo>
                <a:lnTo>
                  <a:pt x="111" y="107"/>
                </a:lnTo>
                <a:lnTo>
                  <a:pt x="105" y="97"/>
                </a:lnTo>
                <a:lnTo>
                  <a:pt x="93" y="84"/>
                </a:lnTo>
                <a:lnTo>
                  <a:pt x="83" y="72"/>
                </a:lnTo>
                <a:lnTo>
                  <a:pt x="72" y="60"/>
                </a:lnTo>
                <a:lnTo>
                  <a:pt x="60" y="49"/>
                </a:lnTo>
                <a:lnTo>
                  <a:pt x="49" y="35"/>
                </a:lnTo>
                <a:lnTo>
                  <a:pt x="37" y="24"/>
                </a:lnTo>
                <a:lnTo>
                  <a:pt x="27" y="12"/>
                </a:lnTo>
                <a:lnTo>
                  <a:pt x="21" y="0"/>
                </a:lnTo>
                <a:lnTo>
                  <a:pt x="39" y="4"/>
                </a:lnTo>
                <a:lnTo>
                  <a:pt x="58" y="10"/>
                </a:lnTo>
                <a:lnTo>
                  <a:pt x="78" y="14"/>
                </a:lnTo>
                <a:lnTo>
                  <a:pt x="97" y="20"/>
                </a:lnTo>
                <a:lnTo>
                  <a:pt x="115" y="25"/>
                </a:lnTo>
                <a:lnTo>
                  <a:pt x="134" y="31"/>
                </a:lnTo>
                <a:lnTo>
                  <a:pt x="153" y="37"/>
                </a:lnTo>
                <a:lnTo>
                  <a:pt x="175" y="43"/>
                </a:lnTo>
                <a:lnTo>
                  <a:pt x="192" y="51"/>
                </a:lnTo>
                <a:lnTo>
                  <a:pt x="206" y="64"/>
                </a:lnTo>
                <a:lnTo>
                  <a:pt x="217" y="76"/>
                </a:lnTo>
                <a:lnTo>
                  <a:pt x="227" y="93"/>
                </a:lnTo>
                <a:lnTo>
                  <a:pt x="231" y="109"/>
                </a:lnTo>
                <a:lnTo>
                  <a:pt x="237" y="126"/>
                </a:lnTo>
                <a:lnTo>
                  <a:pt x="241" y="146"/>
                </a:lnTo>
                <a:lnTo>
                  <a:pt x="244" y="167"/>
                </a:lnTo>
                <a:lnTo>
                  <a:pt x="244" y="184"/>
                </a:lnTo>
                <a:lnTo>
                  <a:pt x="246" y="206"/>
                </a:lnTo>
                <a:lnTo>
                  <a:pt x="248" y="225"/>
                </a:lnTo>
                <a:lnTo>
                  <a:pt x="254" y="247"/>
                </a:lnTo>
                <a:lnTo>
                  <a:pt x="258" y="264"/>
                </a:lnTo>
                <a:lnTo>
                  <a:pt x="264" y="283"/>
                </a:lnTo>
                <a:lnTo>
                  <a:pt x="272" y="301"/>
                </a:lnTo>
                <a:lnTo>
                  <a:pt x="285" y="320"/>
                </a:lnTo>
                <a:lnTo>
                  <a:pt x="266" y="311"/>
                </a:lnTo>
                <a:lnTo>
                  <a:pt x="248" y="303"/>
                </a:lnTo>
                <a:lnTo>
                  <a:pt x="229" y="293"/>
                </a:lnTo>
                <a:lnTo>
                  <a:pt x="211" y="287"/>
                </a:lnTo>
                <a:lnTo>
                  <a:pt x="192" y="278"/>
                </a:lnTo>
                <a:lnTo>
                  <a:pt x="175" y="270"/>
                </a:lnTo>
                <a:lnTo>
                  <a:pt x="157" y="262"/>
                </a:lnTo>
                <a:lnTo>
                  <a:pt x="140" y="256"/>
                </a:lnTo>
                <a:lnTo>
                  <a:pt x="120" y="247"/>
                </a:lnTo>
                <a:lnTo>
                  <a:pt x="103" y="239"/>
                </a:lnTo>
                <a:lnTo>
                  <a:pt x="85" y="229"/>
                </a:lnTo>
                <a:lnTo>
                  <a:pt x="68" y="221"/>
                </a:lnTo>
                <a:lnTo>
                  <a:pt x="51" y="212"/>
                </a:lnTo>
                <a:lnTo>
                  <a:pt x="33" y="202"/>
                </a:lnTo>
                <a:lnTo>
                  <a:pt x="18" y="192"/>
                </a:lnTo>
                <a:lnTo>
                  <a:pt x="2" y="184"/>
                </a:lnTo>
                <a:lnTo>
                  <a:pt x="0" y="18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59" name=""/>
          <p:cNvSpPr/>
          <p:nvPr/>
        </p:nvSpPr>
        <p:spPr>
          <a:xfrm>
            <a:off x="3125880" y="4108320"/>
            <a:ext cx="568080" cy="965160"/>
          </a:xfrm>
          <a:custGeom>
            <a:avLst/>
            <a:gdLst/>
            <a:ahLst/>
            <a:rect l="l" t="t" r="r" b="b"/>
            <a:pathLst>
              <a:path w="716" h="1216">
                <a:moveTo>
                  <a:pt x="706" y="1210"/>
                </a:moveTo>
                <a:lnTo>
                  <a:pt x="684" y="1214"/>
                </a:lnTo>
                <a:lnTo>
                  <a:pt x="669" y="1216"/>
                </a:lnTo>
                <a:lnTo>
                  <a:pt x="653" y="1214"/>
                </a:lnTo>
                <a:lnTo>
                  <a:pt x="642" y="1214"/>
                </a:lnTo>
                <a:lnTo>
                  <a:pt x="628" y="1208"/>
                </a:lnTo>
                <a:lnTo>
                  <a:pt x="619" y="1204"/>
                </a:lnTo>
                <a:lnTo>
                  <a:pt x="609" y="1196"/>
                </a:lnTo>
                <a:lnTo>
                  <a:pt x="601" y="1188"/>
                </a:lnTo>
                <a:lnTo>
                  <a:pt x="591" y="1177"/>
                </a:lnTo>
                <a:lnTo>
                  <a:pt x="586" y="1165"/>
                </a:lnTo>
                <a:lnTo>
                  <a:pt x="578" y="1152"/>
                </a:lnTo>
                <a:lnTo>
                  <a:pt x="572" y="1140"/>
                </a:lnTo>
                <a:lnTo>
                  <a:pt x="564" y="1124"/>
                </a:lnTo>
                <a:lnTo>
                  <a:pt x="556" y="1111"/>
                </a:lnTo>
                <a:lnTo>
                  <a:pt x="547" y="1095"/>
                </a:lnTo>
                <a:lnTo>
                  <a:pt x="539" y="1082"/>
                </a:lnTo>
                <a:lnTo>
                  <a:pt x="522" y="1062"/>
                </a:lnTo>
                <a:lnTo>
                  <a:pt x="508" y="1045"/>
                </a:lnTo>
                <a:lnTo>
                  <a:pt x="494" y="1024"/>
                </a:lnTo>
                <a:lnTo>
                  <a:pt x="483" y="1004"/>
                </a:lnTo>
                <a:lnTo>
                  <a:pt x="477" y="993"/>
                </a:lnTo>
                <a:lnTo>
                  <a:pt x="471" y="983"/>
                </a:lnTo>
                <a:lnTo>
                  <a:pt x="465" y="971"/>
                </a:lnTo>
                <a:lnTo>
                  <a:pt x="461" y="962"/>
                </a:lnTo>
                <a:lnTo>
                  <a:pt x="456" y="950"/>
                </a:lnTo>
                <a:lnTo>
                  <a:pt x="452" y="938"/>
                </a:lnTo>
                <a:lnTo>
                  <a:pt x="448" y="927"/>
                </a:lnTo>
                <a:lnTo>
                  <a:pt x="446" y="917"/>
                </a:lnTo>
                <a:lnTo>
                  <a:pt x="440" y="903"/>
                </a:lnTo>
                <a:lnTo>
                  <a:pt x="438" y="892"/>
                </a:lnTo>
                <a:lnTo>
                  <a:pt x="434" y="880"/>
                </a:lnTo>
                <a:lnTo>
                  <a:pt x="432" y="868"/>
                </a:lnTo>
                <a:lnTo>
                  <a:pt x="428" y="855"/>
                </a:lnTo>
                <a:lnTo>
                  <a:pt x="427" y="843"/>
                </a:lnTo>
                <a:lnTo>
                  <a:pt x="423" y="830"/>
                </a:lnTo>
                <a:lnTo>
                  <a:pt x="421" y="818"/>
                </a:lnTo>
                <a:lnTo>
                  <a:pt x="417" y="804"/>
                </a:lnTo>
                <a:lnTo>
                  <a:pt x="415" y="791"/>
                </a:lnTo>
                <a:lnTo>
                  <a:pt x="413" y="779"/>
                </a:lnTo>
                <a:lnTo>
                  <a:pt x="411" y="768"/>
                </a:lnTo>
                <a:lnTo>
                  <a:pt x="407" y="754"/>
                </a:lnTo>
                <a:lnTo>
                  <a:pt x="407" y="740"/>
                </a:lnTo>
                <a:lnTo>
                  <a:pt x="403" y="729"/>
                </a:lnTo>
                <a:lnTo>
                  <a:pt x="403" y="717"/>
                </a:lnTo>
                <a:lnTo>
                  <a:pt x="399" y="704"/>
                </a:lnTo>
                <a:lnTo>
                  <a:pt x="397" y="690"/>
                </a:lnTo>
                <a:lnTo>
                  <a:pt x="394" y="677"/>
                </a:lnTo>
                <a:lnTo>
                  <a:pt x="392" y="665"/>
                </a:lnTo>
                <a:lnTo>
                  <a:pt x="388" y="651"/>
                </a:lnTo>
                <a:lnTo>
                  <a:pt x="386" y="638"/>
                </a:lnTo>
                <a:lnTo>
                  <a:pt x="382" y="624"/>
                </a:lnTo>
                <a:lnTo>
                  <a:pt x="380" y="613"/>
                </a:lnTo>
                <a:lnTo>
                  <a:pt x="376" y="599"/>
                </a:lnTo>
                <a:lnTo>
                  <a:pt x="372" y="585"/>
                </a:lnTo>
                <a:lnTo>
                  <a:pt x="368" y="572"/>
                </a:lnTo>
                <a:lnTo>
                  <a:pt x="366" y="560"/>
                </a:lnTo>
                <a:lnTo>
                  <a:pt x="361" y="547"/>
                </a:lnTo>
                <a:lnTo>
                  <a:pt x="359" y="535"/>
                </a:lnTo>
                <a:lnTo>
                  <a:pt x="353" y="523"/>
                </a:lnTo>
                <a:lnTo>
                  <a:pt x="351" y="512"/>
                </a:lnTo>
                <a:lnTo>
                  <a:pt x="345" y="498"/>
                </a:lnTo>
                <a:lnTo>
                  <a:pt x="339" y="486"/>
                </a:lnTo>
                <a:lnTo>
                  <a:pt x="333" y="475"/>
                </a:lnTo>
                <a:lnTo>
                  <a:pt x="330" y="463"/>
                </a:lnTo>
                <a:lnTo>
                  <a:pt x="324" y="452"/>
                </a:lnTo>
                <a:lnTo>
                  <a:pt x="318" y="440"/>
                </a:lnTo>
                <a:lnTo>
                  <a:pt x="312" y="430"/>
                </a:lnTo>
                <a:lnTo>
                  <a:pt x="306" y="421"/>
                </a:lnTo>
                <a:lnTo>
                  <a:pt x="297" y="409"/>
                </a:lnTo>
                <a:lnTo>
                  <a:pt x="291" y="397"/>
                </a:lnTo>
                <a:lnTo>
                  <a:pt x="281" y="388"/>
                </a:lnTo>
                <a:lnTo>
                  <a:pt x="275" y="378"/>
                </a:lnTo>
                <a:lnTo>
                  <a:pt x="258" y="360"/>
                </a:lnTo>
                <a:lnTo>
                  <a:pt x="240" y="343"/>
                </a:lnTo>
                <a:lnTo>
                  <a:pt x="231" y="335"/>
                </a:lnTo>
                <a:lnTo>
                  <a:pt x="217" y="324"/>
                </a:lnTo>
                <a:lnTo>
                  <a:pt x="200" y="310"/>
                </a:lnTo>
                <a:lnTo>
                  <a:pt x="184" y="298"/>
                </a:lnTo>
                <a:lnTo>
                  <a:pt x="171" y="283"/>
                </a:lnTo>
                <a:lnTo>
                  <a:pt x="167" y="273"/>
                </a:lnTo>
                <a:lnTo>
                  <a:pt x="167" y="267"/>
                </a:lnTo>
                <a:lnTo>
                  <a:pt x="174" y="265"/>
                </a:lnTo>
                <a:lnTo>
                  <a:pt x="182" y="264"/>
                </a:lnTo>
                <a:lnTo>
                  <a:pt x="196" y="264"/>
                </a:lnTo>
                <a:lnTo>
                  <a:pt x="207" y="262"/>
                </a:lnTo>
                <a:lnTo>
                  <a:pt x="221" y="262"/>
                </a:lnTo>
                <a:lnTo>
                  <a:pt x="231" y="260"/>
                </a:lnTo>
                <a:lnTo>
                  <a:pt x="240" y="256"/>
                </a:lnTo>
                <a:lnTo>
                  <a:pt x="240" y="248"/>
                </a:lnTo>
                <a:lnTo>
                  <a:pt x="238" y="238"/>
                </a:lnTo>
                <a:lnTo>
                  <a:pt x="233" y="232"/>
                </a:lnTo>
                <a:lnTo>
                  <a:pt x="227" y="227"/>
                </a:lnTo>
                <a:lnTo>
                  <a:pt x="219" y="219"/>
                </a:lnTo>
                <a:lnTo>
                  <a:pt x="209" y="213"/>
                </a:lnTo>
                <a:lnTo>
                  <a:pt x="198" y="209"/>
                </a:lnTo>
                <a:lnTo>
                  <a:pt x="188" y="203"/>
                </a:lnTo>
                <a:lnTo>
                  <a:pt x="173" y="194"/>
                </a:lnTo>
                <a:lnTo>
                  <a:pt x="159" y="184"/>
                </a:lnTo>
                <a:lnTo>
                  <a:pt x="141" y="168"/>
                </a:lnTo>
                <a:lnTo>
                  <a:pt x="124" y="153"/>
                </a:lnTo>
                <a:lnTo>
                  <a:pt x="107" y="136"/>
                </a:lnTo>
                <a:lnTo>
                  <a:pt x="89" y="120"/>
                </a:lnTo>
                <a:lnTo>
                  <a:pt x="72" y="101"/>
                </a:lnTo>
                <a:lnTo>
                  <a:pt x="54" y="81"/>
                </a:lnTo>
                <a:lnTo>
                  <a:pt x="39" y="64"/>
                </a:lnTo>
                <a:lnTo>
                  <a:pt x="27" y="48"/>
                </a:lnTo>
                <a:lnTo>
                  <a:pt x="13" y="31"/>
                </a:lnTo>
                <a:lnTo>
                  <a:pt x="6" y="19"/>
                </a:lnTo>
                <a:lnTo>
                  <a:pt x="0" y="8"/>
                </a:lnTo>
                <a:lnTo>
                  <a:pt x="0" y="0"/>
                </a:lnTo>
                <a:lnTo>
                  <a:pt x="4" y="0"/>
                </a:lnTo>
                <a:lnTo>
                  <a:pt x="21" y="11"/>
                </a:lnTo>
                <a:lnTo>
                  <a:pt x="41" y="25"/>
                </a:lnTo>
                <a:lnTo>
                  <a:pt x="60" y="35"/>
                </a:lnTo>
                <a:lnTo>
                  <a:pt x="81" y="46"/>
                </a:lnTo>
                <a:lnTo>
                  <a:pt x="101" y="56"/>
                </a:lnTo>
                <a:lnTo>
                  <a:pt x="120" y="68"/>
                </a:lnTo>
                <a:lnTo>
                  <a:pt x="140" y="81"/>
                </a:lnTo>
                <a:lnTo>
                  <a:pt x="161" y="97"/>
                </a:lnTo>
                <a:lnTo>
                  <a:pt x="174" y="99"/>
                </a:lnTo>
                <a:lnTo>
                  <a:pt x="188" y="105"/>
                </a:lnTo>
                <a:lnTo>
                  <a:pt x="202" y="110"/>
                </a:lnTo>
                <a:lnTo>
                  <a:pt x="215" y="114"/>
                </a:lnTo>
                <a:lnTo>
                  <a:pt x="225" y="124"/>
                </a:lnTo>
                <a:lnTo>
                  <a:pt x="237" y="132"/>
                </a:lnTo>
                <a:lnTo>
                  <a:pt x="242" y="132"/>
                </a:lnTo>
                <a:lnTo>
                  <a:pt x="250" y="136"/>
                </a:lnTo>
                <a:lnTo>
                  <a:pt x="258" y="137"/>
                </a:lnTo>
                <a:lnTo>
                  <a:pt x="268" y="136"/>
                </a:lnTo>
                <a:lnTo>
                  <a:pt x="264" y="136"/>
                </a:lnTo>
                <a:lnTo>
                  <a:pt x="262" y="139"/>
                </a:lnTo>
                <a:lnTo>
                  <a:pt x="281" y="151"/>
                </a:lnTo>
                <a:lnTo>
                  <a:pt x="302" y="165"/>
                </a:lnTo>
                <a:lnTo>
                  <a:pt x="322" y="178"/>
                </a:lnTo>
                <a:lnTo>
                  <a:pt x="341" y="194"/>
                </a:lnTo>
                <a:lnTo>
                  <a:pt x="357" y="209"/>
                </a:lnTo>
                <a:lnTo>
                  <a:pt x="374" y="229"/>
                </a:lnTo>
                <a:lnTo>
                  <a:pt x="380" y="238"/>
                </a:lnTo>
                <a:lnTo>
                  <a:pt x="386" y="248"/>
                </a:lnTo>
                <a:lnTo>
                  <a:pt x="392" y="260"/>
                </a:lnTo>
                <a:lnTo>
                  <a:pt x="397" y="273"/>
                </a:lnTo>
                <a:lnTo>
                  <a:pt x="401" y="285"/>
                </a:lnTo>
                <a:lnTo>
                  <a:pt x="405" y="298"/>
                </a:lnTo>
                <a:lnTo>
                  <a:pt x="409" y="312"/>
                </a:lnTo>
                <a:lnTo>
                  <a:pt x="415" y="327"/>
                </a:lnTo>
                <a:lnTo>
                  <a:pt x="415" y="341"/>
                </a:lnTo>
                <a:lnTo>
                  <a:pt x="417" y="357"/>
                </a:lnTo>
                <a:lnTo>
                  <a:pt x="413" y="372"/>
                </a:lnTo>
                <a:lnTo>
                  <a:pt x="409" y="388"/>
                </a:lnTo>
                <a:lnTo>
                  <a:pt x="392" y="382"/>
                </a:lnTo>
                <a:lnTo>
                  <a:pt x="378" y="376"/>
                </a:lnTo>
                <a:lnTo>
                  <a:pt x="365" y="370"/>
                </a:lnTo>
                <a:lnTo>
                  <a:pt x="351" y="370"/>
                </a:lnTo>
                <a:lnTo>
                  <a:pt x="363" y="386"/>
                </a:lnTo>
                <a:lnTo>
                  <a:pt x="380" y="401"/>
                </a:lnTo>
                <a:lnTo>
                  <a:pt x="397" y="415"/>
                </a:lnTo>
                <a:lnTo>
                  <a:pt x="415" y="432"/>
                </a:lnTo>
                <a:lnTo>
                  <a:pt x="421" y="442"/>
                </a:lnTo>
                <a:lnTo>
                  <a:pt x="430" y="454"/>
                </a:lnTo>
                <a:lnTo>
                  <a:pt x="438" y="465"/>
                </a:lnTo>
                <a:lnTo>
                  <a:pt x="448" y="477"/>
                </a:lnTo>
                <a:lnTo>
                  <a:pt x="456" y="488"/>
                </a:lnTo>
                <a:lnTo>
                  <a:pt x="465" y="500"/>
                </a:lnTo>
                <a:lnTo>
                  <a:pt x="475" y="512"/>
                </a:lnTo>
                <a:lnTo>
                  <a:pt x="485" y="523"/>
                </a:lnTo>
                <a:lnTo>
                  <a:pt x="492" y="533"/>
                </a:lnTo>
                <a:lnTo>
                  <a:pt x="500" y="545"/>
                </a:lnTo>
                <a:lnTo>
                  <a:pt x="508" y="556"/>
                </a:lnTo>
                <a:lnTo>
                  <a:pt x="518" y="570"/>
                </a:lnTo>
                <a:lnTo>
                  <a:pt x="522" y="582"/>
                </a:lnTo>
                <a:lnTo>
                  <a:pt x="527" y="593"/>
                </a:lnTo>
                <a:lnTo>
                  <a:pt x="533" y="607"/>
                </a:lnTo>
                <a:lnTo>
                  <a:pt x="539" y="622"/>
                </a:lnTo>
                <a:lnTo>
                  <a:pt x="547" y="642"/>
                </a:lnTo>
                <a:lnTo>
                  <a:pt x="556" y="663"/>
                </a:lnTo>
                <a:lnTo>
                  <a:pt x="560" y="673"/>
                </a:lnTo>
                <a:lnTo>
                  <a:pt x="566" y="684"/>
                </a:lnTo>
                <a:lnTo>
                  <a:pt x="570" y="696"/>
                </a:lnTo>
                <a:lnTo>
                  <a:pt x="576" y="708"/>
                </a:lnTo>
                <a:lnTo>
                  <a:pt x="580" y="717"/>
                </a:lnTo>
                <a:lnTo>
                  <a:pt x="584" y="729"/>
                </a:lnTo>
                <a:lnTo>
                  <a:pt x="588" y="740"/>
                </a:lnTo>
                <a:lnTo>
                  <a:pt x="593" y="752"/>
                </a:lnTo>
                <a:lnTo>
                  <a:pt x="597" y="762"/>
                </a:lnTo>
                <a:lnTo>
                  <a:pt x="601" y="773"/>
                </a:lnTo>
                <a:lnTo>
                  <a:pt x="605" y="785"/>
                </a:lnTo>
                <a:lnTo>
                  <a:pt x="611" y="797"/>
                </a:lnTo>
                <a:lnTo>
                  <a:pt x="619" y="816"/>
                </a:lnTo>
                <a:lnTo>
                  <a:pt x="626" y="837"/>
                </a:lnTo>
                <a:lnTo>
                  <a:pt x="630" y="847"/>
                </a:lnTo>
                <a:lnTo>
                  <a:pt x="634" y="859"/>
                </a:lnTo>
                <a:lnTo>
                  <a:pt x="638" y="870"/>
                </a:lnTo>
                <a:lnTo>
                  <a:pt x="644" y="882"/>
                </a:lnTo>
                <a:lnTo>
                  <a:pt x="648" y="892"/>
                </a:lnTo>
                <a:lnTo>
                  <a:pt x="652" y="903"/>
                </a:lnTo>
                <a:lnTo>
                  <a:pt x="655" y="913"/>
                </a:lnTo>
                <a:lnTo>
                  <a:pt x="659" y="925"/>
                </a:lnTo>
                <a:lnTo>
                  <a:pt x="663" y="934"/>
                </a:lnTo>
                <a:lnTo>
                  <a:pt x="667" y="946"/>
                </a:lnTo>
                <a:lnTo>
                  <a:pt x="671" y="958"/>
                </a:lnTo>
                <a:lnTo>
                  <a:pt x="677" y="969"/>
                </a:lnTo>
                <a:lnTo>
                  <a:pt x="679" y="979"/>
                </a:lnTo>
                <a:lnTo>
                  <a:pt x="683" y="991"/>
                </a:lnTo>
                <a:lnTo>
                  <a:pt x="684" y="1000"/>
                </a:lnTo>
                <a:lnTo>
                  <a:pt x="688" y="1012"/>
                </a:lnTo>
                <a:lnTo>
                  <a:pt x="690" y="1022"/>
                </a:lnTo>
                <a:lnTo>
                  <a:pt x="694" y="1033"/>
                </a:lnTo>
                <a:lnTo>
                  <a:pt x="696" y="1045"/>
                </a:lnTo>
                <a:lnTo>
                  <a:pt x="700" y="1057"/>
                </a:lnTo>
                <a:lnTo>
                  <a:pt x="702" y="1068"/>
                </a:lnTo>
                <a:lnTo>
                  <a:pt x="704" y="1080"/>
                </a:lnTo>
                <a:lnTo>
                  <a:pt x="706" y="1091"/>
                </a:lnTo>
                <a:lnTo>
                  <a:pt x="708" y="1103"/>
                </a:lnTo>
                <a:lnTo>
                  <a:pt x="710" y="1115"/>
                </a:lnTo>
                <a:lnTo>
                  <a:pt x="712" y="1126"/>
                </a:lnTo>
                <a:lnTo>
                  <a:pt x="714" y="1138"/>
                </a:lnTo>
                <a:lnTo>
                  <a:pt x="716" y="1150"/>
                </a:lnTo>
                <a:lnTo>
                  <a:pt x="716" y="1163"/>
                </a:lnTo>
                <a:lnTo>
                  <a:pt x="716" y="1181"/>
                </a:lnTo>
                <a:lnTo>
                  <a:pt x="714" y="1194"/>
                </a:lnTo>
                <a:lnTo>
                  <a:pt x="710" y="1208"/>
                </a:lnTo>
                <a:lnTo>
                  <a:pt x="708" y="1208"/>
                </a:lnTo>
                <a:lnTo>
                  <a:pt x="706" y="121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60" name=""/>
          <p:cNvSpPr/>
          <p:nvPr/>
        </p:nvSpPr>
        <p:spPr>
          <a:xfrm>
            <a:off x="3114720" y="4881600"/>
            <a:ext cx="3240" cy="9360"/>
          </a:xfrm>
          <a:custGeom>
            <a:avLst/>
            <a:gdLst/>
            <a:ahLst/>
            <a:rect l="l" t="t" r="r" b="b"/>
            <a:pathLst>
              <a:path w="4" h="12">
                <a:moveTo>
                  <a:pt x="4" y="12"/>
                </a:moveTo>
                <a:lnTo>
                  <a:pt x="2" y="6"/>
                </a:lnTo>
                <a:lnTo>
                  <a:pt x="0" y="0"/>
                </a:lnTo>
                <a:lnTo>
                  <a:pt x="2" y="4"/>
                </a:lnTo>
                <a:lnTo>
                  <a:pt x="2" y="6"/>
                </a:lnTo>
                <a:lnTo>
                  <a:pt x="4" y="12"/>
                </a:lnTo>
                <a:close/>
              </a:path>
            </a:pathLst>
          </a:custGeom>
          <a:solidFill>
            <a:srgbClr val="eb03eb"/>
          </a:solidFill>
          <a:ln w="0">
            <a:noFill/>
          </a:ln>
        </p:spPr>
        <p:style>
          <a:lnRef idx="0"/>
          <a:fillRef idx="0"/>
          <a:effectRef idx="0"/>
          <a:fontRef idx="minor"/>
        </p:style>
        <p:txBody>
          <a:bodyPr lIns="90000" rIns="90000" tIns="-37440" bIns="-37440" anchor="t">
            <a:noAutofit/>
          </a:bodyPr>
          <a:p>
            <a:endParaRPr b="0" lang="en-US" sz="2400" spc="-1" strike="noStrike">
              <a:solidFill>
                <a:srgbClr val="ffff66"/>
              </a:solidFill>
              <a:latin typeface="Times New Roman"/>
            </a:endParaRPr>
          </a:p>
        </p:txBody>
      </p:sp>
      <p:sp>
        <p:nvSpPr>
          <p:cNvPr id="161" name=""/>
          <p:cNvSpPr/>
          <p:nvPr/>
        </p:nvSpPr>
        <p:spPr>
          <a:xfrm>
            <a:off x="3306600" y="5221440"/>
            <a:ext cx="17640" cy="25200"/>
          </a:xfrm>
          <a:custGeom>
            <a:avLst/>
            <a:gdLst/>
            <a:ahLst/>
            <a:rect l="l" t="t" r="r" b="b"/>
            <a:pathLst>
              <a:path w="21" h="31">
                <a:moveTo>
                  <a:pt x="21" y="31"/>
                </a:moveTo>
                <a:lnTo>
                  <a:pt x="10" y="15"/>
                </a:lnTo>
                <a:lnTo>
                  <a:pt x="0" y="0"/>
                </a:lnTo>
                <a:lnTo>
                  <a:pt x="10" y="15"/>
                </a:lnTo>
                <a:lnTo>
                  <a:pt x="21" y="31"/>
                </a:lnTo>
                <a:close/>
              </a:path>
            </a:pathLst>
          </a:custGeom>
          <a:solidFill>
            <a:srgbClr val="eb03eb"/>
          </a:solidFill>
          <a:ln w="0">
            <a:noFill/>
          </a:ln>
        </p:spPr>
        <p:style>
          <a:lnRef idx="0"/>
          <a:fillRef idx="0"/>
          <a:effectRef idx="0"/>
          <a:fontRef idx="minor"/>
        </p:style>
        <p:txBody>
          <a:bodyPr lIns="90000" rIns="90000" tIns="-21600" bIns="-21600" anchor="t">
            <a:noAutofit/>
          </a:bodyPr>
          <a:p>
            <a:endParaRPr b="0" lang="en-US" sz="2400" spc="-1" strike="noStrike">
              <a:solidFill>
                <a:srgbClr val="ffff66"/>
              </a:solidFill>
              <a:latin typeface="Times New Roman"/>
            </a:endParaRPr>
          </a:p>
        </p:txBody>
      </p:sp>
      <p:sp>
        <p:nvSpPr>
          <p:cNvPr id="162" name=""/>
          <p:cNvSpPr/>
          <p:nvPr/>
        </p:nvSpPr>
        <p:spPr>
          <a:xfrm>
            <a:off x="3408480" y="5340240"/>
            <a:ext cx="14040" cy="9720"/>
          </a:xfrm>
          <a:custGeom>
            <a:avLst/>
            <a:gdLst/>
            <a:ahLst/>
            <a:rect l="l" t="t" r="r" b="b"/>
            <a:pathLst>
              <a:path w="17" h="12">
                <a:moveTo>
                  <a:pt x="17" y="0"/>
                </a:moveTo>
                <a:lnTo>
                  <a:pt x="8" y="6"/>
                </a:lnTo>
                <a:lnTo>
                  <a:pt x="0" y="12"/>
                </a:lnTo>
                <a:lnTo>
                  <a:pt x="6" y="2"/>
                </a:lnTo>
                <a:lnTo>
                  <a:pt x="17" y="0"/>
                </a:lnTo>
                <a:close/>
              </a:path>
            </a:pathLst>
          </a:custGeom>
          <a:solidFill>
            <a:srgbClr val="eb03eb"/>
          </a:solidFill>
          <a:ln w="0">
            <a:noFill/>
          </a:ln>
        </p:spPr>
        <p:style>
          <a:lnRef idx="0"/>
          <a:fillRef idx="0"/>
          <a:effectRef idx="0"/>
          <a:fontRef idx="minor"/>
        </p:style>
        <p:txBody>
          <a:bodyPr lIns="90000" rIns="90000" tIns="-37080" bIns="-37080" anchor="t">
            <a:noAutofit/>
          </a:bodyPr>
          <a:p>
            <a:endParaRPr b="0" lang="en-US" sz="2400" spc="-1" strike="noStrike">
              <a:solidFill>
                <a:srgbClr val="ffff66"/>
              </a:solidFill>
              <a:latin typeface="Times New Roman"/>
            </a:endParaRPr>
          </a:p>
        </p:txBody>
      </p:sp>
      <p:sp>
        <p:nvSpPr>
          <p:cNvPr id="163" name=""/>
          <p:cNvSpPr/>
          <p:nvPr/>
        </p:nvSpPr>
        <p:spPr>
          <a:xfrm>
            <a:off x="3081240" y="4516560"/>
            <a:ext cx="538200" cy="838080"/>
          </a:xfrm>
          <a:custGeom>
            <a:avLst/>
            <a:gdLst/>
            <a:ahLst/>
            <a:rect l="l" t="t" r="r" b="b"/>
            <a:pathLst>
              <a:path w="676" h="1054">
                <a:moveTo>
                  <a:pt x="95" y="50"/>
                </a:moveTo>
                <a:lnTo>
                  <a:pt x="101" y="68"/>
                </a:lnTo>
                <a:lnTo>
                  <a:pt x="106" y="85"/>
                </a:lnTo>
                <a:lnTo>
                  <a:pt x="110" y="102"/>
                </a:lnTo>
                <a:lnTo>
                  <a:pt x="116" y="120"/>
                </a:lnTo>
                <a:lnTo>
                  <a:pt x="118" y="137"/>
                </a:lnTo>
                <a:lnTo>
                  <a:pt x="120" y="157"/>
                </a:lnTo>
                <a:lnTo>
                  <a:pt x="122" y="176"/>
                </a:lnTo>
                <a:lnTo>
                  <a:pt x="126" y="195"/>
                </a:lnTo>
                <a:lnTo>
                  <a:pt x="126" y="213"/>
                </a:lnTo>
                <a:lnTo>
                  <a:pt x="130" y="230"/>
                </a:lnTo>
                <a:lnTo>
                  <a:pt x="132" y="250"/>
                </a:lnTo>
                <a:lnTo>
                  <a:pt x="135" y="269"/>
                </a:lnTo>
                <a:lnTo>
                  <a:pt x="139" y="287"/>
                </a:lnTo>
                <a:lnTo>
                  <a:pt x="145" y="308"/>
                </a:lnTo>
                <a:lnTo>
                  <a:pt x="151" y="325"/>
                </a:lnTo>
                <a:lnTo>
                  <a:pt x="163" y="347"/>
                </a:lnTo>
                <a:lnTo>
                  <a:pt x="163" y="335"/>
                </a:lnTo>
                <a:lnTo>
                  <a:pt x="166" y="323"/>
                </a:lnTo>
                <a:lnTo>
                  <a:pt x="168" y="308"/>
                </a:lnTo>
                <a:lnTo>
                  <a:pt x="174" y="294"/>
                </a:lnTo>
                <a:lnTo>
                  <a:pt x="178" y="277"/>
                </a:lnTo>
                <a:lnTo>
                  <a:pt x="182" y="259"/>
                </a:lnTo>
                <a:lnTo>
                  <a:pt x="188" y="242"/>
                </a:lnTo>
                <a:lnTo>
                  <a:pt x="194" y="225"/>
                </a:lnTo>
                <a:lnTo>
                  <a:pt x="199" y="207"/>
                </a:lnTo>
                <a:lnTo>
                  <a:pt x="205" y="190"/>
                </a:lnTo>
                <a:lnTo>
                  <a:pt x="211" y="172"/>
                </a:lnTo>
                <a:lnTo>
                  <a:pt x="217" y="157"/>
                </a:lnTo>
                <a:lnTo>
                  <a:pt x="223" y="141"/>
                </a:lnTo>
                <a:lnTo>
                  <a:pt x="230" y="130"/>
                </a:lnTo>
                <a:lnTo>
                  <a:pt x="236" y="120"/>
                </a:lnTo>
                <a:lnTo>
                  <a:pt x="244" y="114"/>
                </a:lnTo>
                <a:lnTo>
                  <a:pt x="256" y="126"/>
                </a:lnTo>
                <a:lnTo>
                  <a:pt x="267" y="141"/>
                </a:lnTo>
                <a:lnTo>
                  <a:pt x="277" y="159"/>
                </a:lnTo>
                <a:lnTo>
                  <a:pt x="289" y="176"/>
                </a:lnTo>
                <a:lnTo>
                  <a:pt x="296" y="194"/>
                </a:lnTo>
                <a:lnTo>
                  <a:pt x="304" y="213"/>
                </a:lnTo>
                <a:lnTo>
                  <a:pt x="310" y="232"/>
                </a:lnTo>
                <a:lnTo>
                  <a:pt x="318" y="254"/>
                </a:lnTo>
                <a:lnTo>
                  <a:pt x="322" y="273"/>
                </a:lnTo>
                <a:lnTo>
                  <a:pt x="327" y="294"/>
                </a:lnTo>
                <a:lnTo>
                  <a:pt x="327" y="306"/>
                </a:lnTo>
                <a:lnTo>
                  <a:pt x="331" y="318"/>
                </a:lnTo>
                <a:lnTo>
                  <a:pt x="331" y="329"/>
                </a:lnTo>
                <a:lnTo>
                  <a:pt x="335" y="341"/>
                </a:lnTo>
                <a:lnTo>
                  <a:pt x="335" y="353"/>
                </a:lnTo>
                <a:lnTo>
                  <a:pt x="337" y="364"/>
                </a:lnTo>
                <a:lnTo>
                  <a:pt x="339" y="376"/>
                </a:lnTo>
                <a:lnTo>
                  <a:pt x="343" y="387"/>
                </a:lnTo>
                <a:lnTo>
                  <a:pt x="343" y="399"/>
                </a:lnTo>
                <a:lnTo>
                  <a:pt x="345" y="411"/>
                </a:lnTo>
                <a:lnTo>
                  <a:pt x="347" y="422"/>
                </a:lnTo>
                <a:lnTo>
                  <a:pt x="351" y="434"/>
                </a:lnTo>
                <a:lnTo>
                  <a:pt x="351" y="444"/>
                </a:lnTo>
                <a:lnTo>
                  <a:pt x="353" y="455"/>
                </a:lnTo>
                <a:lnTo>
                  <a:pt x="355" y="467"/>
                </a:lnTo>
                <a:lnTo>
                  <a:pt x="357" y="479"/>
                </a:lnTo>
                <a:lnTo>
                  <a:pt x="358" y="490"/>
                </a:lnTo>
                <a:lnTo>
                  <a:pt x="360" y="502"/>
                </a:lnTo>
                <a:lnTo>
                  <a:pt x="362" y="513"/>
                </a:lnTo>
                <a:lnTo>
                  <a:pt x="366" y="525"/>
                </a:lnTo>
                <a:lnTo>
                  <a:pt x="366" y="535"/>
                </a:lnTo>
                <a:lnTo>
                  <a:pt x="370" y="546"/>
                </a:lnTo>
                <a:lnTo>
                  <a:pt x="370" y="558"/>
                </a:lnTo>
                <a:lnTo>
                  <a:pt x="374" y="570"/>
                </a:lnTo>
                <a:lnTo>
                  <a:pt x="376" y="579"/>
                </a:lnTo>
                <a:lnTo>
                  <a:pt x="380" y="591"/>
                </a:lnTo>
                <a:lnTo>
                  <a:pt x="382" y="603"/>
                </a:lnTo>
                <a:lnTo>
                  <a:pt x="388" y="614"/>
                </a:lnTo>
                <a:lnTo>
                  <a:pt x="393" y="634"/>
                </a:lnTo>
                <a:lnTo>
                  <a:pt x="401" y="653"/>
                </a:lnTo>
                <a:lnTo>
                  <a:pt x="409" y="672"/>
                </a:lnTo>
                <a:lnTo>
                  <a:pt x="421" y="692"/>
                </a:lnTo>
                <a:lnTo>
                  <a:pt x="430" y="709"/>
                </a:lnTo>
                <a:lnTo>
                  <a:pt x="442" y="727"/>
                </a:lnTo>
                <a:lnTo>
                  <a:pt x="453" y="742"/>
                </a:lnTo>
                <a:lnTo>
                  <a:pt x="471" y="760"/>
                </a:lnTo>
                <a:lnTo>
                  <a:pt x="477" y="766"/>
                </a:lnTo>
                <a:lnTo>
                  <a:pt x="488" y="771"/>
                </a:lnTo>
                <a:lnTo>
                  <a:pt x="500" y="775"/>
                </a:lnTo>
                <a:lnTo>
                  <a:pt x="512" y="779"/>
                </a:lnTo>
                <a:lnTo>
                  <a:pt x="523" y="779"/>
                </a:lnTo>
                <a:lnTo>
                  <a:pt x="537" y="781"/>
                </a:lnTo>
                <a:lnTo>
                  <a:pt x="550" y="781"/>
                </a:lnTo>
                <a:lnTo>
                  <a:pt x="566" y="783"/>
                </a:lnTo>
                <a:lnTo>
                  <a:pt x="580" y="781"/>
                </a:lnTo>
                <a:lnTo>
                  <a:pt x="595" y="779"/>
                </a:lnTo>
                <a:lnTo>
                  <a:pt x="609" y="777"/>
                </a:lnTo>
                <a:lnTo>
                  <a:pt x="624" y="777"/>
                </a:lnTo>
                <a:lnTo>
                  <a:pt x="636" y="775"/>
                </a:lnTo>
                <a:lnTo>
                  <a:pt x="649" y="773"/>
                </a:lnTo>
                <a:lnTo>
                  <a:pt x="663" y="773"/>
                </a:lnTo>
                <a:lnTo>
                  <a:pt x="676" y="773"/>
                </a:lnTo>
                <a:lnTo>
                  <a:pt x="665" y="781"/>
                </a:lnTo>
                <a:lnTo>
                  <a:pt x="653" y="791"/>
                </a:lnTo>
                <a:lnTo>
                  <a:pt x="642" y="799"/>
                </a:lnTo>
                <a:lnTo>
                  <a:pt x="632" y="808"/>
                </a:lnTo>
                <a:lnTo>
                  <a:pt x="620" y="816"/>
                </a:lnTo>
                <a:lnTo>
                  <a:pt x="609" y="826"/>
                </a:lnTo>
                <a:lnTo>
                  <a:pt x="599" y="835"/>
                </a:lnTo>
                <a:lnTo>
                  <a:pt x="589" y="847"/>
                </a:lnTo>
                <a:lnTo>
                  <a:pt x="578" y="855"/>
                </a:lnTo>
                <a:lnTo>
                  <a:pt x="566" y="864"/>
                </a:lnTo>
                <a:lnTo>
                  <a:pt x="556" y="876"/>
                </a:lnTo>
                <a:lnTo>
                  <a:pt x="548" y="888"/>
                </a:lnTo>
                <a:lnTo>
                  <a:pt x="537" y="899"/>
                </a:lnTo>
                <a:lnTo>
                  <a:pt x="529" y="911"/>
                </a:lnTo>
                <a:lnTo>
                  <a:pt x="519" y="925"/>
                </a:lnTo>
                <a:lnTo>
                  <a:pt x="514" y="938"/>
                </a:lnTo>
                <a:lnTo>
                  <a:pt x="504" y="950"/>
                </a:lnTo>
                <a:lnTo>
                  <a:pt x="494" y="963"/>
                </a:lnTo>
                <a:lnTo>
                  <a:pt x="483" y="975"/>
                </a:lnTo>
                <a:lnTo>
                  <a:pt x="471" y="989"/>
                </a:lnTo>
                <a:lnTo>
                  <a:pt x="455" y="996"/>
                </a:lnTo>
                <a:lnTo>
                  <a:pt x="442" y="1004"/>
                </a:lnTo>
                <a:lnTo>
                  <a:pt x="426" y="1008"/>
                </a:lnTo>
                <a:lnTo>
                  <a:pt x="413" y="1008"/>
                </a:lnTo>
                <a:lnTo>
                  <a:pt x="405" y="1018"/>
                </a:lnTo>
                <a:lnTo>
                  <a:pt x="405" y="1027"/>
                </a:lnTo>
                <a:lnTo>
                  <a:pt x="393" y="1029"/>
                </a:lnTo>
                <a:lnTo>
                  <a:pt x="384" y="1035"/>
                </a:lnTo>
                <a:lnTo>
                  <a:pt x="374" y="1043"/>
                </a:lnTo>
                <a:lnTo>
                  <a:pt x="368" y="1054"/>
                </a:lnTo>
                <a:lnTo>
                  <a:pt x="364" y="1051"/>
                </a:lnTo>
                <a:lnTo>
                  <a:pt x="358" y="1037"/>
                </a:lnTo>
                <a:lnTo>
                  <a:pt x="355" y="1023"/>
                </a:lnTo>
                <a:lnTo>
                  <a:pt x="351" y="1010"/>
                </a:lnTo>
                <a:lnTo>
                  <a:pt x="347" y="998"/>
                </a:lnTo>
                <a:lnTo>
                  <a:pt x="341" y="977"/>
                </a:lnTo>
                <a:lnTo>
                  <a:pt x="337" y="958"/>
                </a:lnTo>
                <a:lnTo>
                  <a:pt x="333" y="936"/>
                </a:lnTo>
                <a:lnTo>
                  <a:pt x="329" y="917"/>
                </a:lnTo>
                <a:lnTo>
                  <a:pt x="322" y="897"/>
                </a:lnTo>
                <a:lnTo>
                  <a:pt x="314" y="880"/>
                </a:lnTo>
                <a:lnTo>
                  <a:pt x="302" y="862"/>
                </a:lnTo>
                <a:lnTo>
                  <a:pt x="291" y="849"/>
                </a:lnTo>
                <a:lnTo>
                  <a:pt x="273" y="830"/>
                </a:lnTo>
                <a:lnTo>
                  <a:pt x="260" y="810"/>
                </a:lnTo>
                <a:lnTo>
                  <a:pt x="246" y="791"/>
                </a:lnTo>
                <a:lnTo>
                  <a:pt x="234" y="771"/>
                </a:lnTo>
                <a:lnTo>
                  <a:pt x="223" y="750"/>
                </a:lnTo>
                <a:lnTo>
                  <a:pt x="213" y="731"/>
                </a:lnTo>
                <a:lnTo>
                  <a:pt x="203" y="709"/>
                </a:lnTo>
                <a:lnTo>
                  <a:pt x="196" y="690"/>
                </a:lnTo>
                <a:lnTo>
                  <a:pt x="196" y="674"/>
                </a:lnTo>
                <a:lnTo>
                  <a:pt x="197" y="661"/>
                </a:lnTo>
                <a:lnTo>
                  <a:pt x="199" y="647"/>
                </a:lnTo>
                <a:lnTo>
                  <a:pt x="201" y="636"/>
                </a:lnTo>
                <a:lnTo>
                  <a:pt x="201" y="620"/>
                </a:lnTo>
                <a:lnTo>
                  <a:pt x="205" y="607"/>
                </a:lnTo>
                <a:lnTo>
                  <a:pt x="205" y="593"/>
                </a:lnTo>
                <a:lnTo>
                  <a:pt x="209" y="581"/>
                </a:lnTo>
                <a:lnTo>
                  <a:pt x="209" y="566"/>
                </a:lnTo>
                <a:lnTo>
                  <a:pt x="211" y="554"/>
                </a:lnTo>
                <a:lnTo>
                  <a:pt x="213" y="539"/>
                </a:lnTo>
                <a:lnTo>
                  <a:pt x="217" y="527"/>
                </a:lnTo>
                <a:lnTo>
                  <a:pt x="217" y="513"/>
                </a:lnTo>
                <a:lnTo>
                  <a:pt x="219" y="500"/>
                </a:lnTo>
                <a:lnTo>
                  <a:pt x="221" y="486"/>
                </a:lnTo>
                <a:lnTo>
                  <a:pt x="225" y="475"/>
                </a:lnTo>
                <a:lnTo>
                  <a:pt x="227" y="455"/>
                </a:lnTo>
                <a:lnTo>
                  <a:pt x="232" y="438"/>
                </a:lnTo>
                <a:lnTo>
                  <a:pt x="236" y="418"/>
                </a:lnTo>
                <a:lnTo>
                  <a:pt x="240" y="401"/>
                </a:lnTo>
                <a:lnTo>
                  <a:pt x="240" y="385"/>
                </a:lnTo>
                <a:lnTo>
                  <a:pt x="240" y="372"/>
                </a:lnTo>
                <a:lnTo>
                  <a:pt x="240" y="356"/>
                </a:lnTo>
                <a:lnTo>
                  <a:pt x="242" y="343"/>
                </a:lnTo>
                <a:lnTo>
                  <a:pt x="240" y="327"/>
                </a:lnTo>
                <a:lnTo>
                  <a:pt x="238" y="314"/>
                </a:lnTo>
                <a:lnTo>
                  <a:pt x="232" y="302"/>
                </a:lnTo>
                <a:lnTo>
                  <a:pt x="227" y="290"/>
                </a:lnTo>
                <a:lnTo>
                  <a:pt x="219" y="290"/>
                </a:lnTo>
                <a:lnTo>
                  <a:pt x="217" y="298"/>
                </a:lnTo>
                <a:lnTo>
                  <a:pt x="215" y="306"/>
                </a:lnTo>
                <a:lnTo>
                  <a:pt x="215" y="316"/>
                </a:lnTo>
                <a:lnTo>
                  <a:pt x="211" y="333"/>
                </a:lnTo>
                <a:lnTo>
                  <a:pt x="207" y="354"/>
                </a:lnTo>
                <a:lnTo>
                  <a:pt x="203" y="374"/>
                </a:lnTo>
                <a:lnTo>
                  <a:pt x="201" y="395"/>
                </a:lnTo>
                <a:lnTo>
                  <a:pt x="196" y="415"/>
                </a:lnTo>
                <a:lnTo>
                  <a:pt x="192" y="436"/>
                </a:lnTo>
                <a:lnTo>
                  <a:pt x="188" y="446"/>
                </a:lnTo>
                <a:lnTo>
                  <a:pt x="186" y="457"/>
                </a:lnTo>
                <a:lnTo>
                  <a:pt x="184" y="467"/>
                </a:lnTo>
                <a:lnTo>
                  <a:pt x="182" y="479"/>
                </a:lnTo>
                <a:lnTo>
                  <a:pt x="176" y="488"/>
                </a:lnTo>
                <a:lnTo>
                  <a:pt x="172" y="500"/>
                </a:lnTo>
                <a:lnTo>
                  <a:pt x="166" y="512"/>
                </a:lnTo>
                <a:lnTo>
                  <a:pt x="165" y="523"/>
                </a:lnTo>
                <a:lnTo>
                  <a:pt x="159" y="533"/>
                </a:lnTo>
                <a:lnTo>
                  <a:pt x="153" y="543"/>
                </a:lnTo>
                <a:lnTo>
                  <a:pt x="145" y="550"/>
                </a:lnTo>
                <a:lnTo>
                  <a:pt x="135" y="560"/>
                </a:lnTo>
                <a:lnTo>
                  <a:pt x="118" y="541"/>
                </a:lnTo>
                <a:lnTo>
                  <a:pt x="106" y="523"/>
                </a:lnTo>
                <a:lnTo>
                  <a:pt x="95" y="502"/>
                </a:lnTo>
                <a:lnTo>
                  <a:pt x="89" y="482"/>
                </a:lnTo>
                <a:lnTo>
                  <a:pt x="83" y="471"/>
                </a:lnTo>
                <a:lnTo>
                  <a:pt x="81" y="459"/>
                </a:lnTo>
                <a:lnTo>
                  <a:pt x="77" y="448"/>
                </a:lnTo>
                <a:lnTo>
                  <a:pt x="75" y="438"/>
                </a:lnTo>
                <a:lnTo>
                  <a:pt x="71" y="426"/>
                </a:lnTo>
                <a:lnTo>
                  <a:pt x="69" y="415"/>
                </a:lnTo>
                <a:lnTo>
                  <a:pt x="68" y="405"/>
                </a:lnTo>
                <a:lnTo>
                  <a:pt x="66" y="395"/>
                </a:lnTo>
                <a:lnTo>
                  <a:pt x="60" y="376"/>
                </a:lnTo>
                <a:lnTo>
                  <a:pt x="56" y="358"/>
                </a:lnTo>
                <a:lnTo>
                  <a:pt x="54" y="341"/>
                </a:lnTo>
                <a:lnTo>
                  <a:pt x="54" y="323"/>
                </a:lnTo>
                <a:lnTo>
                  <a:pt x="52" y="306"/>
                </a:lnTo>
                <a:lnTo>
                  <a:pt x="50" y="289"/>
                </a:lnTo>
                <a:lnTo>
                  <a:pt x="48" y="271"/>
                </a:lnTo>
                <a:lnTo>
                  <a:pt x="48" y="254"/>
                </a:lnTo>
                <a:lnTo>
                  <a:pt x="40" y="244"/>
                </a:lnTo>
                <a:lnTo>
                  <a:pt x="38" y="228"/>
                </a:lnTo>
                <a:lnTo>
                  <a:pt x="38" y="213"/>
                </a:lnTo>
                <a:lnTo>
                  <a:pt x="37" y="197"/>
                </a:lnTo>
                <a:lnTo>
                  <a:pt x="37" y="184"/>
                </a:lnTo>
                <a:lnTo>
                  <a:pt x="35" y="166"/>
                </a:lnTo>
                <a:lnTo>
                  <a:pt x="35" y="151"/>
                </a:lnTo>
                <a:lnTo>
                  <a:pt x="35" y="133"/>
                </a:lnTo>
                <a:lnTo>
                  <a:pt x="35" y="118"/>
                </a:lnTo>
                <a:lnTo>
                  <a:pt x="31" y="100"/>
                </a:lnTo>
                <a:lnTo>
                  <a:pt x="29" y="85"/>
                </a:lnTo>
                <a:lnTo>
                  <a:pt x="25" y="69"/>
                </a:lnTo>
                <a:lnTo>
                  <a:pt x="23" y="54"/>
                </a:lnTo>
                <a:lnTo>
                  <a:pt x="17" y="38"/>
                </a:lnTo>
                <a:lnTo>
                  <a:pt x="11" y="25"/>
                </a:lnTo>
                <a:lnTo>
                  <a:pt x="5" y="13"/>
                </a:lnTo>
                <a:lnTo>
                  <a:pt x="0" y="2"/>
                </a:lnTo>
                <a:lnTo>
                  <a:pt x="9" y="0"/>
                </a:lnTo>
                <a:lnTo>
                  <a:pt x="19" y="2"/>
                </a:lnTo>
                <a:lnTo>
                  <a:pt x="29" y="2"/>
                </a:lnTo>
                <a:lnTo>
                  <a:pt x="42" y="4"/>
                </a:lnTo>
                <a:lnTo>
                  <a:pt x="54" y="15"/>
                </a:lnTo>
                <a:lnTo>
                  <a:pt x="68" y="29"/>
                </a:lnTo>
                <a:lnTo>
                  <a:pt x="79" y="40"/>
                </a:lnTo>
                <a:lnTo>
                  <a:pt x="93" y="52"/>
                </a:lnTo>
                <a:lnTo>
                  <a:pt x="93" y="50"/>
                </a:lnTo>
                <a:lnTo>
                  <a:pt x="95" y="5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64" name=""/>
          <p:cNvSpPr/>
          <p:nvPr/>
        </p:nvSpPr>
        <p:spPr>
          <a:xfrm>
            <a:off x="3400560" y="5670720"/>
            <a:ext cx="339480" cy="368280"/>
          </a:xfrm>
          <a:custGeom>
            <a:avLst/>
            <a:gdLst/>
            <a:ahLst/>
            <a:rect l="l" t="t" r="r" b="b"/>
            <a:pathLst>
              <a:path w="429" h="463">
                <a:moveTo>
                  <a:pt x="0" y="463"/>
                </a:moveTo>
                <a:lnTo>
                  <a:pt x="8" y="457"/>
                </a:lnTo>
                <a:lnTo>
                  <a:pt x="18" y="456"/>
                </a:lnTo>
                <a:lnTo>
                  <a:pt x="14" y="452"/>
                </a:lnTo>
                <a:lnTo>
                  <a:pt x="23" y="444"/>
                </a:lnTo>
                <a:lnTo>
                  <a:pt x="35" y="436"/>
                </a:lnTo>
                <a:lnTo>
                  <a:pt x="45" y="428"/>
                </a:lnTo>
                <a:lnTo>
                  <a:pt x="56" y="421"/>
                </a:lnTo>
                <a:lnTo>
                  <a:pt x="66" y="411"/>
                </a:lnTo>
                <a:lnTo>
                  <a:pt x="78" y="405"/>
                </a:lnTo>
                <a:lnTo>
                  <a:pt x="89" y="395"/>
                </a:lnTo>
                <a:lnTo>
                  <a:pt x="101" y="390"/>
                </a:lnTo>
                <a:lnTo>
                  <a:pt x="111" y="380"/>
                </a:lnTo>
                <a:lnTo>
                  <a:pt x="122" y="372"/>
                </a:lnTo>
                <a:lnTo>
                  <a:pt x="132" y="362"/>
                </a:lnTo>
                <a:lnTo>
                  <a:pt x="144" y="357"/>
                </a:lnTo>
                <a:lnTo>
                  <a:pt x="155" y="347"/>
                </a:lnTo>
                <a:lnTo>
                  <a:pt x="167" y="341"/>
                </a:lnTo>
                <a:lnTo>
                  <a:pt x="179" y="335"/>
                </a:lnTo>
                <a:lnTo>
                  <a:pt x="192" y="330"/>
                </a:lnTo>
                <a:lnTo>
                  <a:pt x="190" y="326"/>
                </a:lnTo>
                <a:lnTo>
                  <a:pt x="202" y="316"/>
                </a:lnTo>
                <a:lnTo>
                  <a:pt x="213" y="308"/>
                </a:lnTo>
                <a:lnTo>
                  <a:pt x="225" y="298"/>
                </a:lnTo>
                <a:lnTo>
                  <a:pt x="239" y="289"/>
                </a:lnTo>
                <a:lnTo>
                  <a:pt x="248" y="275"/>
                </a:lnTo>
                <a:lnTo>
                  <a:pt x="260" y="264"/>
                </a:lnTo>
                <a:lnTo>
                  <a:pt x="270" y="252"/>
                </a:lnTo>
                <a:lnTo>
                  <a:pt x="281" y="240"/>
                </a:lnTo>
                <a:lnTo>
                  <a:pt x="291" y="225"/>
                </a:lnTo>
                <a:lnTo>
                  <a:pt x="301" y="211"/>
                </a:lnTo>
                <a:lnTo>
                  <a:pt x="310" y="196"/>
                </a:lnTo>
                <a:lnTo>
                  <a:pt x="320" y="182"/>
                </a:lnTo>
                <a:lnTo>
                  <a:pt x="328" y="167"/>
                </a:lnTo>
                <a:lnTo>
                  <a:pt x="338" y="151"/>
                </a:lnTo>
                <a:lnTo>
                  <a:pt x="345" y="136"/>
                </a:lnTo>
                <a:lnTo>
                  <a:pt x="355" y="122"/>
                </a:lnTo>
                <a:lnTo>
                  <a:pt x="361" y="105"/>
                </a:lnTo>
                <a:lnTo>
                  <a:pt x="369" y="89"/>
                </a:lnTo>
                <a:lnTo>
                  <a:pt x="376" y="74"/>
                </a:lnTo>
                <a:lnTo>
                  <a:pt x="384" y="58"/>
                </a:lnTo>
                <a:lnTo>
                  <a:pt x="392" y="41"/>
                </a:lnTo>
                <a:lnTo>
                  <a:pt x="402" y="27"/>
                </a:lnTo>
                <a:lnTo>
                  <a:pt x="411" y="12"/>
                </a:lnTo>
                <a:lnTo>
                  <a:pt x="423" y="0"/>
                </a:lnTo>
                <a:lnTo>
                  <a:pt x="429" y="6"/>
                </a:lnTo>
                <a:lnTo>
                  <a:pt x="427" y="15"/>
                </a:lnTo>
                <a:lnTo>
                  <a:pt x="421" y="33"/>
                </a:lnTo>
                <a:lnTo>
                  <a:pt x="417" y="41"/>
                </a:lnTo>
                <a:lnTo>
                  <a:pt x="413" y="52"/>
                </a:lnTo>
                <a:lnTo>
                  <a:pt x="407" y="64"/>
                </a:lnTo>
                <a:lnTo>
                  <a:pt x="403" y="77"/>
                </a:lnTo>
                <a:lnTo>
                  <a:pt x="396" y="89"/>
                </a:lnTo>
                <a:lnTo>
                  <a:pt x="388" y="101"/>
                </a:lnTo>
                <a:lnTo>
                  <a:pt x="380" y="114"/>
                </a:lnTo>
                <a:lnTo>
                  <a:pt x="374" y="130"/>
                </a:lnTo>
                <a:lnTo>
                  <a:pt x="365" y="143"/>
                </a:lnTo>
                <a:lnTo>
                  <a:pt x="357" y="159"/>
                </a:lnTo>
                <a:lnTo>
                  <a:pt x="349" y="172"/>
                </a:lnTo>
                <a:lnTo>
                  <a:pt x="341" y="188"/>
                </a:lnTo>
                <a:lnTo>
                  <a:pt x="332" y="200"/>
                </a:lnTo>
                <a:lnTo>
                  <a:pt x="322" y="213"/>
                </a:lnTo>
                <a:lnTo>
                  <a:pt x="312" y="227"/>
                </a:lnTo>
                <a:lnTo>
                  <a:pt x="305" y="240"/>
                </a:lnTo>
                <a:lnTo>
                  <a:pt x="295" y="252"/>
                </a:lnTo>
                <a:lnTo>
                  <a:pt x="289" y="264"/>
                </a:lnTo>
                <a:lnTo>
                  <a:pt x="281" y="275"/>
                </a:lnTo>
                <a:lnTo>
                  <a:pt x="275" y="287"/>
                </a:lnTo>
                <a:lnTo>
                  <a:pt x="262" y="304"/>
                </a:lnTo>
                <a:lnTo>
                  <a:pt x="252" y="318"/>
                </a:lnTo>
                <a:lnTo>
                  <a:pt x="244" y="328"/>
                </a:lnTo>
                <a:lnTo>
                  <a:pt x="244" y="331"/>
                </a:lnTo>
                <a:lnTo>
                  <a:pt x="204" y="463"/>
                </a:lnTo>
                <a:lnTo>
                  <a:pt x="0" y="46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65" name=""/>
          <p:cNvSpPr/>
          <p:nvPr/>
        </p:nvSpPr>
        <p:spPr>
          <a:xfrm>
            <a:off x="2309760" y="4076640"/>
            <a:ext cx="1778040" cy="1962360"/>
          </a:xfrm>
          <a:custGeom>
            <a:avLst/>
            <a:gdLst/>
            <a:ahLst/>
            <a:rect l="l" t="t" r="r" b="b"/>
            <a:pathLst>
              <a:path w="2240" h="2472">
                <a:moveTo>
                  <a:pt x="848" y="21"/>
                </a:moveTo>
                <a:lnTo>
                  <a:pt x="850" y="35"/>
                </a:lnTo>
                <a:lnTo>
                  <a:pt x="846" y="49"/>
                </a:lnTo>
                <a:lnTo>
                  <a:pt x="842" y="54"/>
                </a:lnTo>
                <a:lnTo>
                  <a:pt x="842" y="64"/>
                </a:lnTo>
                <a:lnTo>
                  <a:pt x="840" y="74"/>
                </a:lnTo>
                <a:lnTo>
                  <a:pt x="840" y="87"/>
                </a:lnTo>
                <a:lnTo>
                  <a:pt x="830" y="93"/>
                </a:lnTo>
                <a:lnTo>
                  <a:pt x="815" y="111"/>
                </a:lnTo>
                <a:lnTo>
                  <a:pt x="797" y="128"/>
                </a:lnTo>
                <a:lnTo>
                  <a:pt x="791" y="142"/>
                </a:lnTo>
                <a:lnTo>
                  <a:pt x="782" y="142"/>
                </a:lnTo>
                <a:lnTo>
                  <a:pt x="766" y="149"/>
                </a:lnTo>
                <a:lnTo>
                  <a:pt x="755" y="153"/>
                </a:lnTo>
                <a:lnTo>
                  <a:pt x="745" y="157"/>
                </a:lnTo>
                <a:lnTo>
                  <a:pt x="735" y="163"/>
                </a:lnTo>
                <a:lnTo>
                  <a:pt x="725" y="169"/>
                </a:lnTo>
                <a:lnTo>
                  <a:pt x="714" y="173"/>
                </a:lnTo>
                <a:lnTo>
                  <a:pt x="702" y="178"/>
                </a:lnTo>
                <a:lnTo>
                  <a:pt x="692" y="184"/>
                </a:lnTo>
                <a:lnTo>
                  <a:pt x="685" y="190"/>
                </a:lnTo>
                <a:lnTo>
                  <a:pt x="671" y="200"/>
                </a:lnTo>
                <a:lnTo>
                  <a:pt x="665" y="208"/>
                </a:lnTo>
                <a:lnTo>
                  <a:pt x="675" y="217"/>
                </a:lnTo>
                <a:lnTo>
                  <a:pt x="687" y="227"/>
                </a:lnTo>
                <a:lnTo>
                  <a:pt x="696" y="237"/>
                </a:lnTo>
                <a:lnTo>
                  <a:pt x="708" y="246"/>
                </a:lnTo>
                <a:lnTo>
                  <a:pt x="716" y="254"/>
                </a:lnTo>
                <a:lnTo>
                  <a:pt x="725" y="264"/>
                </a:lnTo>
                <a:lnTo>
                  <a:pt x="731" y="275"/>
                </a:lnTo>
                <a:lnTo>
                  <a:pt x="739" y="287"/>
                </a:lnTo>
                <a:lnTo>
                  <a:pt x="733" y="289"/>
                </a:lnTo>
                <a:lnTo>
                  <a:pt x="731" y="293"/>
                </a:lnTo>
                <a:lnTo>
                  <a:pt x="737" y="306"/>
                </a:lnTo>
                <a:lnTo>
                  <a:pt x="745" y="322"/>
                </a:lnTo>
                <a:lnTo>
                  <a:pt x="745" y="324"/>
                </a:lnTo>
                <a:lnTo>
                  <a:pt x="745" y="326"/>
                </a:lnTo>
                <a:lnTo>
                  <a:pt x="737" y="326"/>
                </a:lnTo>
                <a:lnTo>
                  <a:pt x="731" y="328"/>
                </a:lnTo>
                <a:lnTo>
                  <a:pt x="725" y="328"/>
                </a:lnTo>
                <a:lnTo>
                  <a:pt x="723" y="330"/>
                </a:lnTo>
                <a:lnTo>
                  <a:pt x="712" y="332"/>
                </a:lnTo>
                <a:lnTo>
                  <a:pt x="700" y="336"/>
                </a:lnTo>
                <a:lnTo>
                  <a:pt x="687" y="339"/>
                </a:lnTo>
                <a:lnTo>
                  <a:pt x="675" y="343"/>
                </a:lnTo>
                <a:lnTo>
                  <a:pt x="661" y="345"/>
                </a:lnTo>
                <a:lnTo>
                  <a:pt x="648" y="349"/>
                </a:lnTo>
                <a:lnTo>
                  <a:pt x="634" y="353"/>
                </a:lnTo>
                <a:lnTo>
                  <a:pt x="623" y="357"/>
                </a:lnTo>
                <a:lnTo>
                  <a:pt x="607" y="357"/>
                </a:lnTo>
                <a:lnTo>
                  <a:pt x="594" y="361"/>
                </a:lnTo>
                <a:lnTo>
                  <a:pt x="578" y="363"/>
                </a:lnTo>
                <a:lnTo>
                  <a:pt x="566" y="367"/>
                </a:lnTo>
                <a:lnTo>
                  <a:pt x="553" y="368"/>
                </a:lnTo>
                <a:lnTo>
                  <a:pt x="539" y="372"/>
                </a:lnTo>
                <a:lnTo>
                  <a:pt x="528" y="374"/>
                </a:lnTo>
                <a:lnTo>
                  <a:pt x="518" y="380"/>
                </a:lnTo>
                <a:lnTo>
                  <a:pt x="506" y="382"/>
                </a:lnTo>
                <a:lnTo>
                  <a:pt x="495" y="390"/>
                </a:lnTo>
                <a:lnTo>
                  <a:pt x="483" y="398"/>
                </a:lnTo>
                <a:lnTo>
                  <a:pt x="473" y="411"/>
                </a:lnTo>
                <a:lnTo>
                  <a:pt x="462" y="423"/>
                </a:lnTo>
                <a:lnTo>
                  <a:pt x="450" y="440"/>
                </a:lnTo>
                <a:lnTo>
                  <a:pt x="440" y="458"/>
                </a:lnTo>
                <a:lnTo>
                  <a:pt x="431" y="479"/>
                </a:lnTo>
                <a:lnTo>
                  <a:pt x="425" y="487"/>
                </a:lnTo>
                <a:lnTo>
                  <a:pt x="419" y="496"/>
                </a:lnTo>
                <a:lnTo>
                  <a:pt x="413" y="508"/>
                </a:lnTo>
                <a:lnTo>
                  <a:pt x="407" y="520"/>
                </a:lnTo>
                <a:lnTo>
                  <a:pt x="402" y="531"/>
                </a:lnTo>
                <a:lnTo>
                  <a:pt x="398" y="543"/>
                </a:lnTo>
                <a:lnTo>
                  <a:pt x="392" y="555"/>
                </a:lnTo>
                <a:lnTo>
                  <a:pt x="388" y="568"/>
                </a:lnTo>
                <a:lnTo>
                  <a:pt x="382" y="580"/>
                </a:lnTo>
                <a:lnTo>
                  <a:pt x="378" y="591"/>
                </a:lnTo>
                <a:lnTo>
                  <a:pt x="374" y="603"/>
                </a:lnTo>
                <a:lnTo>
                  <a:pt x="371" y="617"/>
                </a:lnTo>
                <a:lnTo>
                  <a:pt x="365" y="628"/>
                </a:lnTo>
                <a:lnTo>
                  <a:pt x="361" y="642"/>
                </a:lnTo>
                <a:lnTo>
                  <a:pt x="357" y="655"/>
                </a:lnTo>
                <a:lnTo>
                  <a:pt x="355" y="669"/>
                </a:lnTo>
                <a:lnTo>
                  <a:pt x="349" y="681"/>
                </a:lnTo>
                <a:lnTo>
                  <a:pt x="345" y="692"/>
                </a:lnTo>
                <a:lnTo>
                  <a:pt x="341" y="704"/>
                </a:lnTo>
                <a:lnTo>
                  <a:pt x="339" y="718"/>
                </a:lnTo>
                <a:lnTo>
                  <a:pt x="336" y="729"/>
                </a:lnTo>
                <a:lnTo>
                  <a:pt x="334" y="743"/>
                </a:lnTo>
                <a:lnTo>
                  <a:pt x="330" y="754"/>
                </a:lnTo>
                <a:lnTo>
                  <a:pt x="328" y="768"/>
                </a:lnTo>
                <a:lnTo>
                  <a:pt x="324" y="780"/>
                </a:lnTo>
                <a:lnTo>
                  <a:pt x="322" y="791"/>
                </a:lnTo>
                <a:lnTo>
                  <a:pt x="320" y="803"/>
                </a:lnTo>
                <a:lnTo>
                  <a:pt x="320" y="814"/>
                </a:lnTo>
                <a:lnTo>
                  <a:pt x="318" y="824"/>
                </a:lnTo>
                <a:lnTo>
                  <a:pt x="316" y="836"/>
                </a:lnTo>
                <a:lnTo>
                  <a:pt x="316" y="847"/>
                </a:lnTo>
                <a:lnTo>
                  <a:pt x="316" y="859"/>
                </a:lnTo>
                <a:lnTo>
                  <a:pt x="314" y="877"/>
                </a:lnTo>
                <a:lnTo>
                  <a:pt x="314" y="894"/>
                </a:lnTo>
                <a:lnTo>
                  <a:pt x="314" y="909"/>
                </a:lnTo>
                <a:lnTo>
                  <a:pt x="318" y="925"/>
                </a:lnTo>
                <a:lnTo>
                  <a:pt x="322" y="935"/>
                </a:lnTo>
                <a:lnTo>
                  <a:pt x="328" y="946"/>
                </a:lnTo>
                <a:lnTo>
                  <a:pt x="334" y="952"/>
                </a:lnTo>
                <a:lnTo>
                  <a:pt x="343" y="960"/>
                </a:lnTo>
                <a:lnTo>
                  <a:pt x="353" y="958"/>
                </a:lnTo>
                <a:lnTo>
                  <a:pt x="371" y="950"/>
                </a:lnTo>
                <a:lnTo>
                  <a:pt x="378" y="942"/>
                </a:lnTo>
                <a:lnTo>
                  <a:pt x="390" y="935"/>
                </a:lnTo>
                <a:lnTo>
                  <a:pt x="402" y="923"/>
                </a:lnTo>
                <a:lnTo>
                  <a:pt x="415" y="913"/>
                </a:lnTo>
                <a:lnTo>
                  <a:pt x="427" y="900"/>
                </a:lnTo>
                <a:lnTo>
                  <a:pt x="438" y="886"/>
                </a:lnTo>
                <a:lnTo>
                  <a:pt x="450" y="871"/>
                </a:lnTo>
                <a:lnTo>
                  <a:pt x="464" y="857"/>
                </a:lnTo>
                <a:lnTo>
                  <a:pt x="475" y="840"/>
                </a:lnTo>
                <a:lnTo>
                  <a:pt x="489" y="822"/>
                </a:lnTo>
                <a:lnTo>
                  <a:pt x="500" y="805"/>
                </a:lnTo>
                <a:lnTo>
                  <a:pt x="514" y="787"/>
                </a:lnTo>
                <a:lnTo>
                  <a:pt x="514" y="805"/>
                </a:lnTo>
                <a:lnTo>
                  <a:pt x="514" y="826"/>
                </a:lnTo>
                <a:lnTo>
                  <a:pt x="514" y="836"/>
                </a:lnTo>
                <a:lnTo>
                  <a:pt x="514" y="847"/>
                </a:lnTo>
                <a:lnTo>
                  <a:pt x="514" y="859"/>
                </a:lnTo>
                <a:lnTo>
                  <a:pt x="514" y="871"/>
                </a:lnTo>
                <a:lnTo>
                  <a:pt x="514" y="880"/>
                </a:lnTo>
                <a:lnTo>
                  <a:pt x="514" y="892"/>
                </a:lnTo>
                <a:lnTo>
                  <a:pt x="514" y="904"/>
                </a:lnTo>
                <a:lnTo>
                  <a:pt x="514" y="915"/>
                </a:lnTo>
                <a:lnTo>
                  <a:pt x="514" y="927"/>
                </a:lnTo>
                <a:lnTo>
                  <a:pt x="514" y="940"/>
                </a:lnTo>
                <a:lnTo>
                  <a:pt x="514" y="952"/>
                </a:lnTo>
                <a:lnTo>
                  <a:pt x="514" y="966"/>
                </a:lnTo>
                <a:lnTo>
                  <a:pt x="512" y="977"/>
                </a:lnTo>
                <a:lnTo>
                  <a:pt x="512" y="989"/>
                </a:lnTo>
                <a:lnTo>
                  <a:pt x="512" y="1001"/>
                </a:lnTo>
                <a:lnTo>
                  <a:pt x="512" y="1014"/>
                </a:lnTo>
                <a:lnTo>
                  <a:pt x="510" y="1026"/>
                </a:lnTo>
                <a:lnTo>
                  <a:pt x="510" y="1039"/>
                </a:lnTo>
                <a:lnTo>
                  <a:pt x="510" y="1053"/>
                </a:lnTo>
                <a:lnTo>
                  <a:pt x="510" y="1067"/>
                </a:lnTo>
                <a:lnTo>
                  <a:pt x="510" y="1078"/>
                </a:lnTo>
                <a:lnTo>
                  <a:pt x="510" y="1092"/>
                </a:lnTo>
                <a:lnTo>
                  <a:pt x="510" y="1105"/>
                </a:lnTo>
                <a:lnTo>
                  <a:pt x="510" y="1119"/>
                </a:lnTo>
                <a:lnTo>
                  <a:pt x="510" y="1131"/>
                </a:lnTo>
                <a:lnTo>
                  <a:pt x="510" y="1144"/>
                </a:lnTo>
                <a:lnTo>
                  <a:pt x="510" y="1158"/>
                </a:lnTo>
                <a:lnTo>
                  <a:pt x="510" y="1171"/>
                </a:lnTo>
                <a:lnTo>
                  <a:pt x="510" y="1183"/>
                </a:lnTo>
                <a:lnTo>
                  <a:pt x="510" y="1195"/>
                </a:lnTo>
                <a:lnTo>
                  <a:pt x="510" y="1206"/>
                </a:lnTo>
                <a:lnTo>
                  <a:pt x="510" y="1220"/>
                </a:lnTo>
                <a:lnTo>
                  <a:pt x="510" y="1231"/>
                </a:lnTo>
                <a:lnTo>
                  <a:pt x="510" y="1245"/>
                </a:lnTo>
                <a:lnTo>
                  <a:pt x="510" y="1257"/>
                </a:lnTo>
                <a:lnTo>
                  <a:pt x="512" y="1270"/>
                </a:lnTo>
                <a:lnTo>
                  <a:pt x="512" y="1282"/>
                </a:lnTo>
                <a:lnTo>
                  <a:pt x="512" y="1293"/>
                </a:lnTo>
                <a:lnTo>
                  <a:pt x="512" y="1305"/>
                </a:lnTo>
                <a:lnTo>
                  <a:pt x="514" y="1317"/>
                </a:lnTo>
                <a:lnTo>
                  <a:pt x="514" y="1328"/>
                </a:lnTo>
                <a:lnTo>
                  <a:pt x="516" y="1340"/>
                </a:lnTo>
                <a:lnTo>
                  <a:pt x="518" y="1352"/>
                </a:lnTo>
                <a:lnTo>
                  <a:pt x="520" y="1365"/>
                </a:lnTo>
                <a:lnTo>
                  <a:pt x="520" y="1375"/>
                </a:lnTo>
                <a:lnTo>
                  <a:pt x="520" y="1386"/>
                </a:lnTo>
                <a:lnTo>
                  <a:pt x="522" y="1396"/>
                </a:lnTo>
                <a:lnTo>
                  <a:pt x="524" y="1408"/>
                </a:lnTo>
                <a:lnTo>
                  <a:pt x="528" y="1427"/>
                </a:lnTo>
                <a:lnTo>
                  <a:pt x="533" y="1449"/>
                </a:lnTo>
                <a:lnTo>
                  <a:pt x="537" y="1466"/>
                </a:lnTo>
                <a:lnTo>
                  <a:pt x="543" y="1485"/>
                </a:lnTo>
                <a:lnTo>
                  <a:pt x="551" y="1503"/>
                </a:lnTo>
                <a:lnTo>
                  <a:pt x="559" y="1520"/>
                </a:lnTo>
                <a:lnTo>
                  <a:pt x="563" y="1536"/>
                </a:lnTo>
                <a:lnTo>
                  <a:pt x="566" y="1553"/>
                </a:lnTo>
                <a:lnTo>
                  <a:pt x="570" y="1569"/>
                </a:lnTo>
                <a:lnTo>
                  <a:pt x="576" y="1584"/>
                </a:lnTo>
                <a:lnTo>
                  <a:pt x="580" y="1598"/>
                </a:lnTo>
                <a:lnTo>
                  <a:pt x="584" y="1611"/>
                </a:lnTo>
                <a:lnTo>
                  <a:pt x="588" y="1625"/>
                </a:lnTo>
                <a:lnTo>
                  <a:pt x="592" y="1639"/>
                </a:lnTo>
                <a:lnTo>
                  <a:pt x="594" y="1650"/>
                </a:lnTo>
                <a:lnTo>
                  <a:pt x="597" y="1662"/>
                </a:lnTo>
                <a:lnTo>
                  <a:pt x="601" y="1673"/>
                </a:lnTo>
                <a:lnTo>
                  <a:pt x="605" y="1687"/>
                </a:lnTo>
                <a:lnTo>
                  <a:pt x="607" y="1699"/>
                </a:lnTo>
                <a:lnTo>
                  <a:pt x="613" y="1710"/>
                </a:lnTo>
                <a:lnTo>
                  <a:pt x="615" y="1722"/>
                </a:lnTo>
                <a:lnTo>
                  <a:pt x="621" y="1734"/>
                </a:lnTo>
                <a:lnTo>
                  <a:pt x="623" y="1743"/>
                </a:lnTo>
                <a:lnTo>
                  <a:pt x="627" y="1755"/>
                </a:lnTo>
                <a:lnTo>
                  <a:pt x="630" y="1765"/>
                </a:lnTo>
                <a:lnTo>
                  <a:pt x="636" y="1776"/>
                </a:lnTo>
                <a:lnTo>
                  <a:pt x="640" y="1786"/>
                </a:lnTo>
                <a:lnTo>
                  <a:pt x="646" y="1798"/>
                </a:lnTo>
                <a:lnTo>
                  <a:pt x="652" y="1809"/>
                </a:lnTo>
                <a:lnTo>
                  <a:pt x="658" y="1821"/>
                </a:lnTo>
                <a:lnTo>
                  <a:pt x="663" y="1830"/>
                </a:lnTo>
                <a:lnTo>
                  <a:pt x="669" y="1842"/>
                </a:lnTo>
                <a:lnTo>
                  <a:pt x="677" y="1854"/>
                </a:lnTo>
                <a:lnTo>
                  <a:pt x="687" y="1867"/>
                </a:lnTo>
                <a:lnTo>
                  <a:pt x="694" y="1879"/>
                </a:lnTo>
                <a:lnTo>
                  <a:pt x="704" y="1891"/>
                </a:lnTo>
                <a:lnTo>
                  <a:pt x="714" y="1904"/>
                </a:lnTo>
                <a:lnTo>
                  <a:pt x="725" y="1920"/>
                </a:lnTo>
                <a:lnTo>
                  <a:pt x="731" y="1941"/>
                </a:lnTo>
                <a:lnTo>
                  <a:pt x="737" y="1931"/>
                </a:lnTo>
                <a:lnTo>
                  <a:pt x="743" y="1922"/>
                </a:lnTo>
                <a:lnTo>
                  <a:pt x="749" y="1908"/>
                </a:lnTo>
                <a:lnTo>
                  <a:pt x="755" y="1896"/>
                </a:lnTo>
                <a:lnTo>
                  <a:pt x="760" y="1881"/>
                </a:lnTo>
                <a:lnTo>
                  <a:pt x="766" y="1865"/>
                </a:lnTo>
                <a:lnTo>
                  <a:pt x="772" y="1850"/>
                </a:lnTo>
                <a:lnTo>
                  <a:pt x="780" y="1834"/>
                </a:lnTo>
                <a:lnTo>
                  <a:pt x="784" y="1817"/>
                </a:lnTo>
                <a:lnTo>
                  <a:pt x="787" y="1799"/>
                </a:lnTo>
                <a:lnTo>
                  <a:pt x="791" y="1782"/>
                </a:lnTo>
                <a:lnTo>
                  <a:pt x="797" y="1767"/>
                </a:lnTo>
                <a:lnTo>
                  <a:pt x="799" y="1749"/>
                </a:lnTo>
                <a:lnTo>
                  <a:pt x="801" y="1737"/>
                </a:lnTo>
                <a:lnTo>
                  <a:pt x="803" y="1724"/>
                </a:lnTo>
                <a:lnTo>
                  <a:pt x="805" y="1714"/>
                </a:lnTo>
                <a:lnTo>
                  <a:pt x="846" y="1714"/>
                </a:lnTo>
                <a:lnTo>
                  <a:pt x="851" y="1718"/>
                </a:lnTo>
                <a:lnTo>
                  <a:pt x="863" y="1735"/>
                </a:lnTo>
                <a:lnTo>
                  <a:pt x="869" y="1747"/>
                </a:lnTo>
                <a:lnTo>
                  <a:pt x="879" y="1761"/>
                </a:lnTo>
                <a:lnTo>
                  <a:pt x="888" y="1776"/>
                </a:lnTo>
                <a:lnTo>
                  <a:pt x="900" y="1794"/>
                </a:lnTo>
                <a:lnTo>
                  <a:pt x="910" y="1811"/>
                </a:lnTo>
                <a:lnTo>
                  <a:pt x="919" y="1830"/>
                </a:lnTo>
                <a:lnTo>
                  <a:pt x="925" y="1840"/>
                </a:lnTo>
                <a:lnTo>
                  <a:pt x="931" y="1850"/>
                </a:lnTo>
                <a:lnTo>
                  <a:pt x="937" y="1862"/>
                </a:lnTo>
                <a:lnTo>
                  <a:pt x="945" y="1873"/>
                </a:lnTo>
                <a:lnTo>
                  <a:pt x="950" y="1883"/>
                </a:lnTo>
                <a:lnTo>
                  <a:pt x="956" y="1894"/>
                </a:lnTo>
                <a:lnTo>
                  <a:pt x="962" y="1906"/>
                </a:lnTo>
                <a:lnTo>
                  <a:pt x="968" y="1918"/>
                </a:lnTo>
                <a:lnTo>
                  <a:pt x="974" y="1929"/>
                </a:lnTo>
                <a:lnTo>
                  <a:pt x="981" y="1941"/>
                </a:lnTo>
                <a:lnTo>
                  <a:pt x="987" y="1953"/>
                </a:lnTo>
                <a:lnTo>
                  <a:pt x="995" y="1964"/>
                </a:lnTo>
                <a:lnTo>
                  <a:pt x="1001" y="1974"/>
                </a:lnTo>
                <a:lnTo>
                  <a:pt x="1007" y="1986"/>
                </a:lnTo>
                <a:lnTo>
                  <a:pt x="1012" y="1997"/>
                </a:lnTo>
                <a:lnTo>
                  <a:pt x="1020" y="2009"/>
                </a:lnTo>
                <a:lnTo>
                  <a:pt x="1026" y="2021"/>
                </a:lnTo>
                <a:lnTo>
                  <a:pt x="1032" y="2032"/>
                </a:lnTo>
                <a:lnTo>
                  <a:pt x="1038" y="2044"/>
                </a:lnTo>
                <a:lnTo>
                  <a:pt x="1045" y="2055"/>
                </a:lnTo>
                <a:lnTo>
                  <a:pt x="1051" y="2065"/>
                </a:lnTo>
                <a:lnTo>
                  <a:pt x="1057" y="2077"/>
                </a:lnTo>
                <a:lnTo>
                  <a:pt x="1063" y="2086"/>
                </a:lnTo>
                <a:lnTo>
                  <a:pt x="1069" y="2098"/>
                </a:lnTo>
                <a:lnTo>
                  <a:pt x="1080" y="2117"/>
                </a:lnTo>
                <a:lnTo>
                  <a:pt x="1092" y="2139"/>
                </a:lnTo>
                <a:lnTo>
                  <a:pt x="1102" y="2154"/>
                </a:lnTo>
                <a:lnTo>
                  <a:pt x="1111" y="2172"/>
                </a:lnTo>
                <a:lnTo>
                  <a:pt x="1119" y="2187"/>
                </a:lnTo>
                <a:lnTo>
                  <a:pt x="1129" y="2201"/>
                </a:lnTo>
                <a:lnTo>
                  <a:pt x="1135" y="2211"/>
                </a:lnTo>
                <a:lnTo>
                  <a:pt x="1140" y="2220"/>
                </a:lnTo>
                <a:lnTo>
                  <a:pt x="1146" y="2226"/>
                </a:lnTo>
                <a:lnTo>
                  <a:pt x="1152" y="2234"/>
                </a:lnTo>
                <a:lnTo>
                  <a:pt x="1166" y="2245"/>
                </a:lnTo>
                <a:lnTo>
                  <a:pt x="1181" y="2257"/>
                </a:lnTo>
                <a:lnTo>
                  <a:pt x="1197" y="2267"/>
                </a:lnTo>
                <a:lnTo>
                  <a:pt x="1214" y="2275"/>
                </a:lnTo>
                <a:lnTo>
                  <a:pt x="1230" y="2278"/>
                </a:lnTo>
                <a:lnTo>
                  <a:pt x="1247" y="2282"/>
                </a:lnTo>
                <a:lnTo>
                  <a:pt x="1263" y="2282"/>
                </a:lnTo>
                <a:lnTo>
                  <a:pt x="1280" y="2284"/>
                </a:lnTo>
                <a:lnTo>
                  <a:pt x="1296" y="2278"/>
                </a:lnTo>
                <a:lnTo>
                  <a:pt x="1311" y="2275"/>
                </a:lnTo>
                <a:lnTo>
                  <a:pt x="1327" y="2269"/>
                </a:lnTo>
                <a:lnTo>
                  <a:pt x="1342" y="2263"/>
                </a:lnTo>
                <a:lnTo>
                  <a:pt x="1358" y="2253"/>
                </a:lnTo>
                <a:lnTo>
                  <a:pt x="1373" y="2245"/>
                </a:lnTo>
                <a:lnTo>
                  <a:pt x="1389" y="2234"/>
                </a:lnTo>
                <a:lnTo>
                  <a:pt x="1404" y="2224"/>
                </a:lnTo>
                <a:lnTo>
                  <a:pt x="1418" y="2211"/>
                </a:lnTo>
                <a:lnTo>
                  <a:pt x="1431" y="2197"/>
                </a:lnTo>
                <a:lnTo>
                  <a:pt x="1445" y="2183"/>
                </a:lnTo>
                <a:lnTo>
                  <a:pt x="1458" y="2170"/>
                </a:lnTo>
                <a:lnTo>
                  <a:pt x="1470" y="2154"/>
                </a:lnTo>
                <a:lnTo>
                  <a:pt x="1484" y="2139"/>
                </a:lnTo>
                <a:lnTo>
                  <a:pt x="1495" y="2123"/>
                </a:lnTo>
                <a:lnTo>
                  <a:pt x="1509" y="2110"/>
                </a:lnTo>
                <a:lnTo>
                  <a:pt x="1519" y="2094"/>
                </a:lnTo>
                <a:lnTo>
                  <a:pt x="1530" y="2079"/>
                </a:lnTo>
                <a:lnTo>
                  <a:pt x="1540" y="2063"/>
                </a:lnTo>
                <a:lnTo>
                  <a:pt x="1552" y="2052"/>
                </a:lnTo>
                <a:lnTo>
                  <a:pt x="1559" y="2036"/>
                </a:lnTo>
                <a:lnTo>
                  <a:pt x="1569" y="2022"/>
                </a:lnTo>
                <a:lnTo>
                  <a:pt x="1577" y="2011"/>
                </a:lnTo>
                <a:lnTo>
                  <a:pt x="1586" y="2001"/>
                </a:lnTo>
                <a:lnTo>
                  <a:pt x="1590" y="1988"/>
                </a:lnTo>
                <a:lnTo>
                  <a:pt x="1596" y="1976"/>
                </a:lnTo>
                <a:lnTo>
                  <a:pt x="1602" y="1962"/>
                </a:lnTo>
                <a:lnTo>
                  <a:pt x="1608" y="1949"/>
                </a:lnTo>
                <a:lnTo>
                  <a:pt x="1612" y="1931"/>
                </a:lnTo>
                <a:lnTo>
                  <a:pt x="1618" y="1914"/>
                </a:lnTo>
                <a:lnTo>
                  <a:pt x="1623" y="1896"/>
                </a:lnTo>
                <a:lnTo>
                  <a:pt x="1629" y="1879"/>
                </a:lnTo>
                <a:lnTo>
                  <a:pt x="1633" y="1858"/>
                </a:lnTo>
                <a:lnTo>
                  <a:pt x="1639" y="1838"/>
                </a:lnTo>
                <a:lnTo>
                  <a:pt x="1645" y="1817"/>
                </a:lnTo>
                <a:lnTo>
                  <a:pt x="1650" y="1798"/>
                </a:lnTo>
                <a:lnTo>
                  <a:pt x="1656" y="1776"/>
                </a:lnTo>
                <a:lnTo>
                  <a:pt x="1662" y="1757"/>
                </a:lnTo>
                <a:lnTo>
                  <a:pt x="1668" y="1735"/>
                </a:lnTo>
                <a:lnTo>
                  <a:pt x="1674" y="1716"/>
                </a:lnTo>
                <a:lnTo>
                  <a:pt x="1680" y="1695"/>
                </a:lnTo>
                <a:lnTo>
                  <a:pt x="1685" y="1675"/>
                </a:lnTo>
                <a:lnTo>
                  <a:pt x="1691" y="1654"/>
                </a:lnTo>
                <a:lnTo>
                  <a:pt x="1697" y="1637"/>
                </a:lnTo>
                <a:lnTo>
                  <a:pt x="1703" y="1619"/>
                </a:lnTo>
                <a:lnTo>
                  <a:pt x="1711" y="1602"/>
                </a:lnTo>
                <a:lnTo>
                  <a:pt x="1718" y="1584"/>
                </a:lnTo>
                <a:lnTo>
                  <a:pt x="1728" y="1573"/>
                </a:lnTo>
                <a:lnTo>
                  <a:pt x="1734" y="1557"/>
                </a:lnTo>
                <a:lnTo>
                  <a:pt x="1744" y="1545"/>
                </a:lnTo>
                <a:lnTo>
                  <a:pt x="1751" y="1534"/>
                </a:lnTo>
                <a:lnTo>
                  <a:pt x="1763" y="1528"/>
                </a:lnTo>
                <a:lnTo>
                  <a:pt x="1771" y="1520"/>
                </a:lnTo>
                <a:lnTo>
                  <a:pt x="1782" y="1516"/>
                </a:lnTo>
                <a:lnTo>
                  <a:pt x="1794" y="1513"/>
                </a:lnTo>
                <a:lnTo>
                  <a:pt x="1806" y="1513"/>
                </a:lnTo>
                <a:lnTo>
                  <a:pt x="1810" y="1518"/>
                </a:lnTo>
                <a:lnTo>
                  <a:pt x="1817" y="1532"/>
                </a:lnTo>
                <a:lnTo>
                  <a:pt x="1827" y="1545"/>
                </a:lnTo>
                <a:lnTo>
                  <a:pt x="1839" y="1563"/>
                </a:lnTo>
                <a:lnTo>
                  <a:pt x="1848" y="1578"/>
                </a:lnTo>
                <a:lnTo>
                  <a:pt x="1858" y="1596"/>
                </a:lnTo>
                <a:lnTo>
                  <a:pt x="1864" y="1609"/>
                </a:lnTo>
                <a:lnTo>
                  <a:pt x="1868" y="1621"/>
                </a:lnTo>
                <a:lnTo>
                  <a:pt x="1877" y="1606"/>
                </a:lnTo>
                <a:lnTo>
                  <a:pt x="1889" y="1592"/>
                </a:lnTo>
                <a:lnTo>
                  <a:pt x="1899" y="1576"/>
                </a:lnTo>
                <a:lnTo>
                  <a:pt x="1908" y="1563"/>
                </a:lnTo>
                <a:lnTo>
                  <a:pt x="1916" y="1545"/>
                </a:lnTo>
                <a:lnTo>
                  <a:pt x="1926" y="1530"/>
                </a:lnTo>
                <a:lnTo>
                  <a:pt x="1932" y="1513"/>
                </a:lnTo>
                <a:lnTo>
                  <a:pt x="1939" y="1497"/>
                </a:lnTo>
                <a:lnTo>
                  <a:pt x="1943" y="1480"/>
                </a:lnTo>
                <a:lnTo>
                  <a:pt x="1949" y="1462"/>
                </a:lnTo>
                <a:lnTo>
                  <a:pt x="1955" y="1445"/>
                </a:lnTo>
                <a:lnTo>
                  <a:pt x="1961" y="1427"/>
                </a:lnTo>
                <a:lnTo>
                  <a:pt x="1963" y="1408"/>
                </a:lnTo>
                <a:lnTo>
                  <a:pt x="1969" y="1390"/>
                </a:lnTo>
                <a:lnTo>
                  <a:pt x="1970" y="1373"/>
                </a:lnTo>
                <a:lnTo>
                  <a:pt x="1976" y="1355"/>
                </a:lnTo>
                <a:lnTo>
                  <a:pt x="1978" y="1336"/>
                </a:lnTo>
                <a:lnTo>
                  <a:pt x="1982" y="1317"/>
                </a:lnTo>
                <a:lnTo>
                  <a:pt x="1984" y="1297"/>
                </a:lnTo>
                <a:lnTo>
                  <a:pt x="1988" y="1280"/>
                </a:lnTo>
                <a:lnTo>
                  <a:pt x="1990" y="1262"/>
                </a:lnTo>
                <a:lnTo>
                  <a:pt x="1994" y="1245"/>
                </a:lnTo>
                <a:lnTo>
                  <a:pt x="1998" y="1227"/>
                </a:lnTo>
                <a:lnTo>
                  <a:pt x="2003" y="1212"/>
                </a:lnTo>
                <a:lnTo>
                  <a:pt x="2005" y="1195"/>
                </a:lnTo>
                <a:lnTo>
                  <a:pt x="2009" y="1177"/>
                </a:lnTo>
                <a:lnTo>
                  <a:pt x="2015" y="1162"/>
                </a:lnTo>
                <a:lnTo>
                  <a:pt x="2023" y="1148"/>
                </a:lnTo>
                <a:lnTo>
                  <a:pt x="2029" y="1132"/>
                </a:lnTo>
                <a:lnTo>
                  <a:pt x="2034" y="1119"/>
                </a:lnTo>
                <a:lnTo>
                  <a:pt x="2042" y="1107"/>
                </a:lnTo>
                <a:lnTo>
                  <a:pt x="2054" y="1096"/>
                </a:lnTo>
                <a:lnTo>
                  <a:pt x="2069" y="1103"/>
                </a:lnTo>
                <a:lnTo>
                  <a:pt x="2085" y="1115"/>
                </a:lnTo>
                <a:lnTo>
                  <a:pt x="2093" y="1121"/>
                </a:lnTo>
                <a:lnTo>
                  <a:pt x="2104" y="1127"/>
                </a:lnTo>
                <a:lnTo>
                  <a:pt x="2116" y="1131"/>
                </a:lnTo>
                <a:lnTo>
                  <a:pt x="2131" y="1136"/>
                </a:lnTo>
                <a:lnTo>
                  <a:pt x="2139" y="1148"/>
                </a:lnTo>
                <a:lnTo>
                  <a:pt x="2153" y="1160"/>
                </a:lnTo>
                <a:lnTo>
                  <a:pt x="2164" y="1167"/>
                </a:lnTo>
                <a:lnTo>
                  <a:pt x="2180" y="1177"/>
                </a:lnTo>
                <a:lnTo>
                  <a:pt x="2194" y="1183"/>
                </a:lnTo>
                <a:lnTo>
                  <a:pt x="2209" y="1191"/>
                </a:lnTo>
                <a:lnTo>
                  <a:pt x="2225" y="1198"/>
                </a:lnTo>
                <a:lnTo>
                  <a:pt x="2240" y="1206"/>
                </a:lnTo>
                <a:lnTo>
                  <a:pt x="2230" y="1224"/>
                </a:lnTo>
                <a:lnTo>
                  <a:pt x="2221" y="1241"/>
                </a:lnTo>
                <a:lnTo>
                  <a:pt x="2209" y="1258"/>
                </a:lnTo>
                <a:lnTo>
                  <a:pt x="2199" y="1276"/>
                </a:lnTo>
                <a:lnTo>
                  <a:pt x="2188" y="1293"/>
                </a:lnTo>
                <a:lnTo>
                  <a:pt x="2176" y="1311"/>
                </a:lnTo>
                <a:lnTo>
                  <a:pt x="2164" y="1328"/>
                </a:lnTo>
                <a:lnTo>
                  <a:pt x="2155" y="1346"/>
                </a:lnTo>
                <a:lnTo>
                  <a:pt x="2141" y="1361"/>
                </a:lnTo>
                <a:lnTo>
                  <a:pt x="2130" y="1379"/>
                </a:lnTo>
                <a:lnTo>
                  <a:pt x="2118" y="1396"/>
                </a:lnTo>
                <a:lnTo>
                  <a:pt x="2106" y="1414"/>
                </a:lnTo>
                <a:lnTo>
                  <a:pt x="2095" y="1431"/>
                </a:lnTo>
                <a:lnTo>
                  <a:pt x="2083" y="1449"/>
                </a:lnTo>
                <a:lnTo>
                  <a:pt x="2071" y="1466"/>
                </a:lnTo>
                <a:lnTo>
                  <a:pt x="2062" y="1485"/>
                </a:lnTo>
                <a:lnTo>
                  <a:pt x="2058" y="1470"/>
                </a:lnTo>
                <a:lnTo>
                  <a:pt x="2060" y="1454"/>
                </a:lnTo>
                <a:lnTo>
                  <a:pt x="2056" y="1437"/>
                </a:lnTo>
                <a:lnTo>
                  <a:pt x="2048" y="1425"/>
                </a:lnTo>
                <a:lnTo>
                  <a:pt x="2038" y="1431"/>
                </a:lnTo>
                <a:lnTo>
                  <a:pt x="2033" y="1441"/>
                </a:lnTo>
                <a:lnTo>
                  <a:pt x="2027" y="1450"/>
                </a:lnTo>
                <a:lnTo>
                  <a:pt x="2027" y="1462"/>
                </a:lnTo>
                <a:lnTo>
                  <a:pt x="2025" y="1472"/>
                </a:lnTo>
                <a:lnTo>
                  <a:pt x="2025" y="1483"/>
                </a:lnTo>
                <a:lnTo>
                  <a:pt x="2023" y="1495"/>
                </a:lnTo>
                <a:lnTo>
                  <a:pt x="2023" y="1507"/>
                </a:lnTo>
                <a:lnTo>
                  <a:pt x="2019" y="1518"/>
                </a:lnTo>
                <a:lnTo>
                  <a:pt x="2015" y="1530"/>
                </a:lnTo>
                <a:lnTo>
                  <a:pt x="2011" y="1542"/>
                </a:lnTo>
                <a:lnTo>
                  <a:pt x="2009" y="1553"/>
                </a:lnTo>
                <a:lnTo>
                  <a:pt x="2003" y="1565"/>
                </a:lnTo>
                <a:lnTo>
                  <a:pt x="2000" y="1576"/>
                </a:lnTo>
                <a:lnTo>
                  <a:pt x="1996" y="1588"/>
                </a:lnTo>
                <a:lnTo>
                  <a:pt x="1992" y="1600"/>
                </a:lnTo>
                <a:lnTo>
                  <a:pt x="1986" y="1609"/>
                </a:lnTo>
                <a:lnTo>
                  <a:pt x="1982" y="1621"/>
                </a:lnTo>
                <a:lnTo>
                  <a:pt x="1976" y="1633"/>
                </a:lnTo>
                <a:lnTo>
                  <a:pt x="1972" y="1644"/>
                </a:lnTo>
                <a:lnTo>
                  <a:pt x="1967" y="1654"/>
                </a:lnTo>
                <a:lnTo>
                  <a:pt x="1961" y="1666"/>
                </a:lnTo>
                <a:lnTo>
                  <a:pt x="1955" y="1677"/>
                </a:lnTo>
                <a:lnTo>
                  <a:pt x="1951" y="1689"/>
                </a:lnTo>
                <a:lnTo>
                  <a:pt x="1943" y="1699"/>
                </a:lnTo>
                <a:lnTo>
                  <a:pt x="1938" y="1708"/>
                </a:lnTo>
                <a:lnTo>
                  <a:pt x="1932" y="1720"/>
                </a:lnTo>
                <a:lnTo>
                  <a:pt x="1926" y="1732"/>
                </a:lnTo>
                <a:lnTo>
                  <a:pt x="1920" y="1741"/>
                </a:lnTo>
                <a:lnTo>
                  <a:pt x="1914" y="1751"/>
                </a:lnTo>
                <a:lnTo>
                  <a:pt x="1908" y="1763"/>
                </a:lnTo>
                <a:lnTo>
                  <a:pt x="1903" y="1774"/>
                </a:lnTo>
                <a:lnTo>
                  <a:pt x="1895" y="1784"/>
                </a:lnTo>
                <a:lnTo>
                  <a:pt x="1889" y="1796"/>
                </a:lnTo>
                <a:lnTo>
                  <a:pt x="1883" y="1805"/>
                </a:lnTo>
                <a:lnTo>
                  <a:pt x="1877" y="1817"/>
                </a:lnTo>
                <a:lnTo>
                  <a:pt x="1872" y="1827"/>
                </a:lnTo>
                <a:lnTo>
                  <a:pt x="1866" y="1838"/>
                </a:lnTo>
                <a:lnTo>
                  <a:pt x="1860" y="1850"/>
                </a:lnTo>
                <a:lnTo>
                  <a:pt x="1856" y="1862"/>
                </a:lnTo>
                <a:lnTo>
                  <a:pt x="1841" y="1860"/>
                </a:lnTo>
                <a:lnTo>
                  <a:pt x="1837" y="1848"/>
                </a:lnTo>
                <a:lnTo>
                  <a:pt x="1837" y="1830"/>
                </a:lnTo>
                <a:lnTo>
                  <a:pt x="1839" y="1815"/>
                </a:lnTo>
                <a:lnTo>
                  <a:pt x="1842" y="1798"/>
                </a:lnTo>
                <a:lnTo>
                  <a:pt x="1848" y="1782"/>
                </a:lnTo>
                <a:lnTo>
                  <a:pt x="1850" y="1765"/>
                </a:lnTo>
                <a:lnTo>
                  <a:pt x="1852" y="1749"/>
                </a:lnTo>
                <a:lnTo>
                  <a:pt x="1850" y="1734"/>
                </a:lnTo>
                <a:lnTo>
                  <a:pt x="1848" y="1718"/>
                </a:lnTo>
                <a:lnTo>
                  <a:pt x="1837" y="1720"/>
                </a:lnTo>
                <a:lnTo>
                  <a:pt x="1831" y="1730"/>
                </a:lnTo>
                <a:lnTo>
                  <a:pt x="1829" y="1739"/>
                </a:lnTo>
                <a:lnTo>
                  <a:pt x="1829" y="1751"/>
                </a:lnTo>
                <a:lnTo>
                  <a:pt x="1821" y="1768"/>
                </a:lnTo>
                <a:lnTo>
                  <a:pt x="1813" y="1786"/>
                </a:lnTo>
                <a:lnTo>
                  <a:pt x="1808" y="1801"/>
                </a:lnTo>
                <a:lnTo>
                  <a:pt x="1804" y="1821"/>
                </a:lnTo>
                <a:lnTo>
                  <a:pt x="1800" y="1838"/>
                </a:lnTo>
                <a:lnTo>
                  <a:pt x="1796" y="1856"/>
                </a:lnTo>
                <a:lnTo>
                  <a:pt x="1792" y="1873"/>
                </a:lnTo>
                <a:lnTo>
                  <a:pt x="1790" y="1893"/>
                </a:lnTo>
                <a:lnTo>
                  <a:pt x="1784" y="1910"/>
                </a:lnTo>
                <a:lnTo>
                  <a:pt x="1780" y="1927"/>
                </a:lnTo>
                <a:lnTo>
                  <a:pt x="1777" y="1945"/>
                </a:lnTo>
                <a:lnTo>
                  <a:pt x="1773" y="1964"/>
                </a:lnTo>
                <a:lnTo>
                  <a:pt x="1767" y="1982"/>
                </a:lnTo>
                <a:lnTo>
                  <a:pt x="1761" y="1999"/>
                </a:lnTo>
                <a:lnTo>
                  <a:pt x="1755" y="2017"/>
                </a:lnTo>
                <a:lnTo>
                  <a:pt x="1751" y="2034"/>
                </a:lnTo>
                <a:lnTo>
                  <a:pt x="1744" y="2052"/>
                </a:lnTo>
                <a:lnTo>
                  <a:pt x="1738" y="2069"/>
                </a:lnTo>
                <a:lnTo>
                  <a:pt x="1732" y="2086"/>
                </a:lnTo>
                <a:lnTo>
                  <a:pt x="1726" y="2104"/>
                </a:lnTo>
                <a:lnTo>
                  <a:pt x="1716" y="2119"/>
                </a:lnTo>
                <a:lnTo>
                  <a:pt x="1709" y="2135"/>
                </a:lnTo>
                <a:lnTo>
                  <a:pt x="1699" y="2150"/>
                </a:lnTo>
                <a:lnTo>
                  <a:pt x="1691" y="2168"/>
                </a:lnTo>
                <a:lnTo>
                  <a:pt x="1682" y="2181"/>
                </a:lnTo>
                <a:lnTo>
                  <a:pt x="1672" y="2197"/>
                </a:lnTo>
                <a:lnTo>
                  <a:pt x="1660" y="2212"/>
                </a:lnTo>
                <a:lnTo>
                  <a:pt x="1650" y="2228"/>
                </a:lnTo>
                <a:lnTo>
                  <a:pt x="1637" y="2242"/>
                </a:lnTo>
                <a:lnTo>
                  <a:pt x="1625" y="2255"/>
                </a:lnTo>
                <a:lnTo>
                  <a:pt x="1614" y="2269"/>
                </a:lnTo>
                <a:lnTo>
                  <a:pt x="1602" y="2284"/>
                </a:lnTo>
                <a:lnTo>
                  <a:pt x="1586" y="2296"/>
                </a:lnTo>
                <a:lnTo>
                  <a:pt x="1573" y="2309"/>
                </a:lnTo>
                <a:lnTo>
                  <a:pt x="1557" y="2321"/>
                </a:lnTo>
                <a:lnTo>
                  <a:pt x="1544" y="2335"/>
                </a:lnTo>
                <a:lnTo>
                  <a:pt x="1530" y="2340"/>
                </a:lnTo>
                <a:lnTo>
                  <a:pt x="1519" y="2350"/>
                </a:lnTo>
                <a:lnTo>
                  <a:pt x="1507" y="2358"/>
                </a:lnTo>
                <a:lnTo>
                  <a:pt x="1495" y="2368"/>
                </a:lnTo>
                <a:lnTo>
                  <a:pt x="1484" y="2375"/>
                </a:lnTo>
                <a:lnTo>
                  <a:pt x="1472" y="2385"/>
                </a:lnTo>
                <a:lnTo>
                  <a:pt x="1460" y="2395"/>
                </a:lnTo>
                <a:lnTo>
                  <a:pt x="1449" y="2404"/>
                </a:lnTo>
                <a:lnTo>
                  <a:pt x="1435" y="2412"/>
                </a:lnTo>
                <a:lnTo>
                  <a:pt x="1424" y="2420"/>
                </a:lnTo>
                <a:lnTo>
                  <a:pt x="1412" y="2428"/>
                </a:lnTo>
                <a:lnTo>
                  <a:pt x="1400" y="2437"/>
                </a:lnTo>
                <a:lnTo>
                  <a:pt x="1389" y="2445"/>
                </a:lnTo>
                <a:lnTo>
                  <a:pt x="1377" y="2455"/>
                </a:lnTo>
                <a:lnTo>
                  <a:pt x="1365" y="2463"/>
                </a:lnTo>
                <a:lnTo>
                  <a:pt x="1354" y="2472"/>
                </a:lnTo>
                <a:lnTo>
                  <a:pt x="1098" y="2472"/>
                </a:lnTo>
                <a:lnTo>
                  <a:pt x="1080" y="2455"/>
                </a:lnTo>
                <a:lnTo>
                  <a:pt x="1067" y="2439"/>
                </a:lnTo>
                <a:lnTo>
                  <a:pt x="1053" y="2422"/>
                </a:lnTo>
                <a:lnTo>
                  <a:pt x="1042" y="2404"/>
                </a:lnTo>
                <a:lnTo>
                  <a:pt x="1030" y="2391"/>
                </a:lnTo>
                <a:lnTo>
                  <a:pt x="1022" y="2377"/>
                </a:lnTo>
                <a:lnTo>
                  <a:pt x="1016" y="2364"/>
                </a:lnTo>
                <a:lnTo>
                  <a:pt x="1011" y="2350"/>
                </a:lnTo>
                <a:lnTo>
                  <a:pt x="1003" y="2335"/>
                </a:lnTo>
                <a:lnTo>
                  <a:pt x="995" y="2321"/>
                </a:lnTo>
                <a:lnTo>
                  <a:pt x="987" y="2307"/>
                </a:lnTo>
                <a:lnTo>
                  <a:pt x="981" y="2296"/>
                </a:lnTo>
                <a:lnTo>
                  <a:pt x="974" y="2284"/>
                </a:lnTo>
                <a:lnTo>
                  <a:pt x="966" y="2273"/>
                </a:lnTo>
                <a:lnTo>
                  <a:pt x="960" y="2261"/>
                </a:lnTo>
                <a:lnTo>
                  <a:pt x="954" y="2249"/>
                </a:lnTo>
                <a:lnTo>
                  <a:pt x="948" y="2236"/>
                </a:lnTo>
                <a:lnTo>
                  <a:pt x="943" y="2224"/>
                </a:lnTo>
                <a:lnTo>
                  <a:pt x="937" y="2212"/>
                </a:lnTo>
                <a:lnTo>
                  <a:pt x="933" y="2201"/>
                </a:lnTo>
                <a:lnTo>
                  <a:pt x="927" y="2187"/>
                </a:lnTo>
                <a:lnTo>
                  <a:pt x="921" y="2174"/>
                </a:lnTo>
                <a:lnTo>
                  <a:pt x="917" y="2160"/>
                </a:lnTo>
                <a:lnTo>
                  <a:pt x="914" y="2148"/>
                </a:lnTo>
                <a:lnTo>
                  <a:pt x="910" y="2135"/>
                </a:lnTo>
                <a:lnTo>
                  <a:pt x="906" y="2123"/>
                </a:lnTo>
                <a:lnTo>
                  <a:pt x="902" y="2110"/>
                </a:lnTo>
                <a:lnTo>
                  <a:pt x="900" y="2098"/>
                </a:lnTo>
                <a:lnTo>
                  <a:pt x="892" y="2088"/>
                </a:lnTo>
                <a:lnTo>
                  <a:pt x="888" y="2079"/>
                </a:lnTo>
                <a:lnTo>
                  <a:pt x="883" y="2071"/>
                </a:lnTo>
                <a:lnTo>
                  <a:pt x="873" y="2071"/>
                </a:lnTo>
                <a:lnTo>
                  <a:pt x="873" y="2086"/>
                </a:lnTo>
                <a:lnTo>
                  <a:pt x="877" y="2102"/>
                </a:lnTo>
                <a:lnTo>
                  <a:pt x="883" y="2117"/>
                </a:lnTo>
                <a:lnTo>
                  <a:pt x="888" y="2135"/>
                </a:lnTo>
                <a:lnTo>
                  <a:pt x="892" y="2148"/>
                </a:lnTo>
                <a:lnTo>
                  <a:pt x="898" y="2166"/>
                </a:lnTo>
                <a:lnTo>
                  <a:pt x="904" y="2180"/>
                </a:lnTo>
                <a:lnTo>
                  <a:pt x="912" y="2197"/>
                </a:lnTo>
                <a:lnTo>
                  <a:pt x="915" y="2211"/>
                </a:lnTo>
                <a:lnTo>
                  <a:pt x="921" y="2226"/>
                </a:lnTo>
                <a:lnTo>
                  <a:pt x="927" y="2242"/>
                </a:lnTo>
                <a:lnTo>
                  <a:pt x="933" y="2257"/>
                </a:lnTo>
                <a:lnTo>
                  <a:pt x="935" y="2273"/>
                </a:lnTo>
                <a:lnTo>
                  <a:pt x="939" y="2288"/>
                </a:lnTo>
                <a:lnTo>
                  <a:pt x="941" y="2306"/>
                </a:lnTo>
                <a:lnTo>
                  <a:pt x="943" y="2323"/>
                </a:lnTo>
                <a:lnTo>
                  <a:pt x="923" y="2321"/>
                </a:lnTo>
                <a:lnTo>
                  <a:pt x="906" y="2319"/>
                </a:lnTo>
                <a:lnTo>
                  <a:pt x="888" y="2313"/>
                </a:lnTo>
                <a:lnTo>
                  <a:pt x="873" y="2307"/>
                </a:lnTo>
                <a:lnTo>
                  <a:pt x="855" y="2296"/>
                </a:lnTo>
                <a:lnTo>
                  <a:pt x="842" y="2286"/>
                </a:lnTo>
                <a:lnTo>
                  <a:pt x="826" y="2275"/>
                </a:lnTo>
                <a:lnTo>
                  <a:pt x="813" y="2265"/>
                </a:lnTo>
                <a:lnTo>
                  <a:pt x="799" y="2247"/>
                </a:lnTo>
                <a:lnTo>
                  <a:pt x="787" y="2234"/>
                </a:lnTo>
                <a:lnTo>
                  <a:pt x="772" y="2220"/>
                </a:lnTo>
                <a:lnTo>
                  <a:pt x="758" y="2207"/>
                </a:lnTo>
                <a:lnTo>
                  <a:pt x="756" y="2211"/>
                </a:lnTo>
                <a:lnTo>
                  <a:pt x="741" y="2193"/>
                </a:lnTo>
                <a:lnTo>
                  <a:pt x="727" y="2178"/>
                </a:lnTo>
                <a:lnTo>
                  <a:pt x="714" y="2160"/>
                </a:lnTo>
                <a:lnTo>
                  <a:pt x="700" y="2145"/>
                </a:lnTo>
                <a:lnTo>
                  <a:pt x="685" y="2127"/>
                </a:lnTo>
                <a:lnTo>
                  <a:pt x="669" y="2112"/>
                </a:lnTo>
                <a:lnTo>
                  <a:pt x="654" y="2096"/>
                </a:lnTo>
                <a:lnTo>
                  <a:pt x="640" y="2085"/>
                </a:lnTo>
                <a:lnTo>
                  <a:pt x="640" y="2077"/>
                </a:lnTo>
                <a:lnTo>
                  <a:pt x="621" y="2059"/>
                </a:lnTo>
                <a:lnTo>
                  <a:pt x="603" y="2042"/>
                </a:lnTo>
                <a:lnTo>
                  <a:pt x="588" y="2022"/>
                </a:lnTo>
                <a:lnTo>
                  <a:pt x="574" y="2003"/>
                </a:lnTo>
                <a:lnTo>
                  <a:pt x="561" y="1984"/>
                </a:lnTo>
                <a:lnTo>
                  <a:pt x="547" y="1964"/>
                </a:lnTo>
                <a:lnTo>
                  <a:pt x="531" y="1947"/>
                </a:lnTo>
                <a:lnTo>
                  <a:pt x="516" y="1931"/>
                </a:lnTo>
                <a:lnTo>
                  <a:pt x="510" y="1916"/>
                </a:lnTo>
                <a:lnTo>
                  <a:pt x="506" y="1902"/>
                </a:lnTo>
                <a:lnTo>
                  <a:pt x="499" y="1889"/>
                </a:lnTo>
                <a:lnTo>
                  <a:pt x="491" y="1877"/>
                </a:lnTo>
                <a:lnTo>
                  <a:pt x="481" y="1863"/>
                </a:lnTo>
                <a:lnTo>
                  <a:pt x="473" y="1852"/>
                </a:lnTo>
                <a:lnTo>
                  <a:pt x="466" y="1838"/>
                </a:lnTo>
                <a:lnTo>
                  <a:pt x="460" y="1827"/>
                </a:lnTo>
                <a:lnTo>
                  <a:pt x="450" y="1807"/>
                </a:lnTo>
                <a:lnTo>
                  <a:pt x="442" y="1790"/>
                </a:lnTo>
                <a:lnTo>
                  <a:pt x="435" y="1770"/>
                </a:lnTo>
                <a:lnTo>
                  <a:pt x="427" y="1753"/>
                </a:lnTo>
                <a:lnTo>
                  <a:pt x="419" y="1734"/>
                </a:lnTo>
                <a:lnTo>
                  <a:pt x="411" y="1716"/>
                </a:lnTo>
                <a:lnTo>
                  <a:pt x="403" y="1699"/>
                </a:lnTo>
                <a:lnTo>
                  <a:pt x="398" y="1681"/>
                </a:lnTo>
                <a:lnTo>
                  <a:pt x="390" y="1662"/>
                </a:lnTo>
                <a:lnTo>
                  <a:pt x="384" y="1644"/>
                </a:lnTo>
                <a:lnTo>
                  <a:pt x="376" y="1625"/>
                </a:lnTo>
                <a:lnTo>
                  <a:pt x="371" y="1608"/>
                </a:lnTo>
                <a:lnTo>
                  <a:pt x="365" y="1588"/>
                </a:lnTo>
                <a:lnTo>
                  <a:pt x="359" y="1571"/>
                </a:lnTo>
                <a:lnTo>
                  <a:pt x="353" y="1551"/>
                </a:lnTo>
                <a:lnTo>
                  <a:pt x="349" y="1534"/>
                </a:lnTo>
                <a:lnTo>
                  <a:pt x="343" y="1513"/>
                </a:lnTo>
                <a:lnTo>
                  <a:pt x="338" y="1495"/>
                </a:lnTo>
                <a:lnTo>
                  <a:pt x="334" y="1474"/>
                </a:lnTo>
                <a:lnTo>
                  <a:pt x="330" y="1456"/>
                </a:lnTo>
                <a:lnTo>
                  <a:pt x="324" y="1435"/>
                </a:lnTo>
                <a:lnTo>
                  <a:pt x="322" y="1417"/>
                </a:lnTo>
                <a:lnTo>
                  <a:pt x="318" y="1396"/>
                </a:lnTo>
                <a:lnTo>
                  <a:pt x="316" y="1379"/>
                </a:lnTo>
                <a:lnTo>
                  <a:pt x="312" y="1357"/>
                </a:lnTo>
                <a:lnTo>
                  <a:pt x="310" y="1338"/>
                </a:lnTo>
                <a:lnTo>
                  <a:pt x="308" y="1317"/>
                </a:lnTo>
                <a:lnTo>
                  <a:pt x="308" y="1297"/>
                </a:lnTo>
                <a:lnTo>
                  <a:pt x="307" y="1276"/>
                </a:lnTo>
                <a:lnTo>
                  <a:pt x="307" y="1257"/>
                </a:lnTo>
                <a:lnTo>
                  <a:pt x="307" y="1237"/>
                </a:lnTo>
                <a:lnTo>
                  <a:pt x="308" y="1218"/>
                </a:lnTo>
                <a:lnTo>
                  <a:pt x="301" y="1206"/>
                </a:lnTo>
                <a:lnTo>
                  <a:pt x="299" y="1196"/>
                </a:lnTo>
                <a:lnTo>
                  <a:pt x="295" y="1185"/>
                </a:lnTo>
                <a:lnTo>
                  <a:pt x="289" y="1179"/>
                </a:lnTo>
                <a:lnTo>
                  <a:pt x="281" y="1187"/>
                </a:lnTo>
                <a:lnTo>
                  <a:pt x="277" y="1394"/>
                </a:lnTo>
                <a:lnTo>
                  <a:pt x="270" y="1412"/>
                </a:lnTo>
                <a:lnTo>
                  <a:pt x="260" y="1394"/>
                </a:lnTo>
                <a:lnTo>
                  <a:pt x="252" y="1377"/>
                </a:lnTo>
                <a:lnTo>
                  <a:pt x="243" y="1359"/>
                </a:lnTo>
                <a:lnTo>
                  <a:pt x="235" y="1344"/>
                </a:lnTo>
                <a:lnTo>
                  <a:pt x="227" y="1326"/>
                </a:lnTo>
                <a:lnTo>
                  <a:pt x="219" y="1311"/>
                </a:lnTo>
                <a:lnTo>
                  <a:pt x="211" y="1293"/>
                </a:lnTo>
                <a:lnTo>
                  <a:pt x="206" y="1278"/>
                </a:lnTo>
                <a:lnTo>
                  <a:pt x="198" y="1260"/>
                </a:lnTo>
                <a:lnTo>
                  <a:pt x="190" y="1245"/>
                </a:lnTo>
                <a:lnTo>
                  <a:pt x="182" y="1227"/>
                </a:lnTo>
                <a:lnTo>
                  <a:pt x="177" y="1212"/>
                </a:lnTo>
                <a:lnTo>
                  <a:pt x="171" y="1195"/>
                </a:lnTo>
                <a:lnTo>
                  <a:pt x="165" y="1179"/>
                </a:lnTo>
                <a:lnTo>
                  <a:pt x="159" y="1162"/>
                </a:lnTo>
                <a:lnTo>
                  <a:pt x="153" y="1146"/>
                </a:lnTo>
                <a:lnTo>
                  <a:pt x="147" y="1134"/>
                </a:lnTo>
                <a:lnTo>
                  <a:pt x="146" y="1123"/>
                </a:lnTo>
                <a:lnTo>
                  <a:pt x="140" y="1111"/>
                </a:lnTo>
                <a:lnTo>
                  <a:pt x="138" y="1101"/>
                </a:lnTo>
                <a:lnTo>
                  <a:pt x="134" y="1090"/>
                </a:lnTo>
                <a:lnTo>
                  <a:pt x="132" y="1080"/>
                </a:lnTo>
                <a:lnTo>
                  <a:pt x="128" y="1068"/>
                </a:lnTo>
                <a:lnTo>
                  <a:pt x="128" y="1059"/>
                </a:lnTo>
                <a:lnTo>
                  <a:pt x="124" y="1047"/>
                </a:lnTo>
                <a:lnTo>
                  <a:pt x="122" y="1037"/>
                </a:lnTo>
                <a:lnTo>
                  <a:pt x="118" y="1026"/>
                </a:lnTo>
                <a:lnTo>
                  <a:pt x="116" y="1016"/>
                </a:lnTo>
                <a:lnTo>
                  <a:pt x="115" y="1004"/>
                </a:lnTo>
                <a:lnTo>
                  <a:pt x="113" y="995"/>
                </a:lnTo>
                <a:lnTo>
                  <a:pt x="111" y="983"/>
                </a:lnTo>
                <a:lnTo>
                  <a:pt x="111" y="973"/>
                </a:lnTo>
                <a:lnTo>
                  <a:pt x="107" y="962"/>
                </a:lnTo>
                <a:lnTo>
                  <a:pt x="105" y="950"/>
                </a:lnTo>
                <a:lnTo>
                  <a:pt x="103" y="939"/>
                </a:lnTo>
                <a:lnTo>
                  <a:pt x="103" y="929"/>
                </a:lnTo>
                <a:lnTo>
                  <a:pt x="101" y="917"/>
                </a:lnTo>
                <a:lnTo>
                  <a:pt x="99" y="908"/>
                </a:lnTo>
                <a:lnTo>
                  <a:pt x="97" y="896"/>
                </a:lnTo>
                <a:lnTo>
                  <a:pt x="97" y="886"/>
                </a:lnTo>
                <a:lnTo>
                  <a:pt x="95" y="875"/>
                </a:lnTo>
                <a:lnTo>
                  <a:pt x="93" y="865"/>
                </a:lnTo>
                <a:lnTo>
                  <a:pt x="93" y="853"/>
                </a:lnTo>
                <a:lnTo>
                  <a:pt x="93" y="844"/>
                </a:lnTo>
                <a:lnTo>
                  <a:pt x="91" y="832"/>
                </a:lnTo>
                <a:lnTo>
                  <a:pt x="89" y="822"/>
                </a:lnTo>
                <a:lnTo>
                  <a:pt x="89" y="811"/>
                </a:lnTo>
                <a:lnTo>
                  <a:pt x="89" y="801"/>
                </a:lnTo>
                <a:lnTo>
                  <a:pt x="87" y="739"/>
                </a:lnTo>
                <a:lnTo>
                  <a:pt x="76" y="743"/>
                </a:lnTo>
                <a:lnTo>
                  <a:pt x="74" y="754"/>
                </a:lnTo>
                <a:lnTo>
                  <a:pt x="70" y="764"/>
                </a:lnTo>
                <a:lnTo>
                  <a:pt x="66" y="776"/>
                </a:lnTo>
                <a:lnTo>
                  <a:pt x="62" y="787"/>
                </a:lnTo>
                <a:lnTo>
                  <a:pt x="60" y="803"/>
                </a:lnTo>
                <a:lnTo>
                  <a:pt x="58" y="814"/>
                </a:lnTo>
                <a:lnTo>
                  <a:pt x="58" y="830"/>
                </a:lnTo>
                <a:lnTo>
                  <a:pt x="56" y="844"/>
                </a:lnTo>
                <a:lnTo>
                  <a:pt x="54" y="857"/>
                </a:lnTo>
                <a:lnTo>
                  <a:pt x="52" y="871"/>
                </a:lnTo>
                <a:lnTo>
                  <a:pt x="52" y="886"/>
                </a:lnTo>
                <a:lnTo>
                  <a:pt x="51" y="898"/>
                </a:lnTo>
                <a:lnTo>
                  <a:pt x="51" y="913"/>
                </a:lnTo>
                <a:lnTo>
                  <a:pt x="51" y="925"/>
                </a:lnTo>
                <a:lnTo>
                  <a:pt x="51" y="940"/>
                </a:lnTo>
                <a:lnTo>
                  <a:pt x="51" y="954"/>
                </a:lnTo>
                <a:lnTo>
                  <a:pt x="51" y="968"/>
                </a:lnTo>
                <a:lnTo>
                  <a:pt x="51" y="981"/>
                </a:lnTo>
                <a:lnTo>
                  <a:pt x="51" y="997"/>
                </a:lnTo>
                <a:lnTo>
                  <a:pt x="51" y="1008"/>
                </a:lnTo>
                <a:lnTo>
                  <a:pt x="51" y="1022"/>
                </a:lnTo>
                <a:lnTo>
                  <a:pt x="51" y="1036"/>
                </a:lnTo>
                <a:lnTo>
                  <a:pt x="51" y="1049"/>
                </a:lnTo>
                <a:lnTo>
                  <a:pt x="51" y="1063"/>
                </a:lnTo>
                <a:lnTo>
                  <a:pt x="51" y="1076"/>
                </a:lnTo>
                <a:lnTo>
                  <a:pt x="51" y="1090"/>
                </a:lnTo>
                <a:lnTo>
                  <a:pt x="52" y="1105"/>
                </a:lnTo>
                <a:lnTo>
                  <a:pt x="52" y="1117"/>
                </a:lnTo>
                <a:lnTo>
                  <a:pt x="52" y="1132"/>
                </a:lnTo>
                <a:lnTo>
                  <a:pt x="52" y="1144"/>
                </a:lnTo>
                <a:lnTo>
                  <a:pt x="52" y="1160"/>
                </a:lnTo>
                <a:lnTo>
                  <a:pt x="52" y="1173"/>
                </a:lnTo>
                <a:lnTo>
                  <a:pt x="54" y="1189"/>
                </a:lnTo>
                <a:lnTo>
                  <a:pt x="54" y="1202"/>
                </a:lnTo>
                <a:lnTo>
                  <a:pt x="56" y="1218"/>
                </a:lnTo>
                <a:lnTo>
                  <a:pt x="62" y="1220"/>
                </a:lnTo>
                <a:lnTo>
                  <a:pt x="72" y="1220"/>
                </a:lnTo>
                <a:lnTo>
                  <a:pt x="72" y="1208"/>
                </a:lnTo>
                <a:lnTo>
                  <a:pt x="76" y="1196"/>
                </a:lnTo>
                <a:lnTo>
                  <a:pt x="78" y="1185"/>
                </a:lnTo>
                <a:lnTo>
                  <a:pt x="83" y="1173"/>
                </a:lnTo>
                <a:lnTo>
                  <a:pt x="85" y="1162"/>
                </a:lnTo>
                <a:lnTo>
                  <a:pt x="89" y="1150"/>
                </a:lnTo>
                <a:lnTo>
                  <a:pt x="91" y="1138"/>
                </a:lnTo>
                <a:lnTo>
                  <a:pt x="95" y="1129"/>
                </a:lnTo>
                <a:lnTo>
                  <a:pt x="99" y="1138"/>
                </a:lnTo>
                <a:lnTo>
                  <a:pt x="105" y="1150"/>
                </a:lnTo>
                <a:lnTo>
                  <a:pt x="109" y="1162"/>
                </a:lnTo>
                <a:lnTo>
                  <a:pt x="115" y="1173"/>
                </a:lnTo>
                <a:lnTo>
                  <a:pt x="120" y="1185"/>
                </a:lnTo>
                <a:lnTo>
                  <a:pt x="126" y="1196"/>
                </a:lnTo>
                <a:lnTo>
                  <a:pt x="132" y="1208"/>
                </a:lnTo>
                <a:lnTo>
                  <a:pt x="138" y="1220"/>
                </a:lnTo>
                <a:lnTo>
                  <a:pt x="144" y="1229"/>
                </a:lnTo>
                <a:lnTo>
                  <a:pt x="149" y="1241"/>
                </a:lnTo>
                <a:lnTo>
                  <a:pt x="155" y="1253"/>
                </a:lnTo>
                <a:lnTo>
                  <a:pt x="161" y="1264"/>
                </a:lnTo>
                <a:lnTo>
                  <a:pt x="167" y="1276"/>
                </a:lnTo>
                <a:lnTo>
                  <a:pt x="173" y="1288"/>
                </a:lnTo>
                <a:lnTo>
                  <a:pt x="179" y="1299"/>
                </a:lnTo>
                <a:lnTo>
                  <a:pt x="184" y="1311"/>
                </a:lnTo>
                <a:lnTo>
                  <a:pt x="190" y="1321"/>
                </a:lnTo>
                <a:lnTo>
                  <a:pt x="196" y="1332"/>
                </a:lnTo>
                <a:lnTo>
                  <a:pt x="202" y="1344"/>
                </a:lnTo>
                <a:lnTo>
                  <a:pt x="208" y="1355"/>
                </a:lnTo>
                <a:lnTo>
                  <a:pt x="213" y="1367"/>
                </a:lnTo>
                <a:lnTo>
                  <a:pt x="219" y="1379"/>
                </a:lnTo>
                <a:lnTo>
                  <a:pt x="225" y="1390"/>
                </a:lnTo>
                <a:lnTo>
                  <a:pt x="231" y="1402"/>
                </a:lnTo>
                <a:lnTo>
                  <a:pt x="237" y="1412"/>
                </a:lnTo>
                <a:lnTo>
                  <a:pt x="243" y="1423"/>
                </a:lnTo>
                <a:lnTo>
                  <a:pt x="248" y="1435"/>
                </a:lnTo>
                <a:lnTo>
                  <a:pt x="256" y="1447"/>
                </a:lnTo>
                <a:lnTo>
                  <a:pt x="262" y="1458"/>
                </a:lnTo>
                <a:lnTo>
                  <a:pt x="268" y="1470"/>
                </a:lnTo>
                <a:lnTo>
                  <a:pt x="274" y="1481"/>
                </a:lnTo>
                <a:lnTo>
                  <a:pt x="281" y="1493"/>
                </a:lnTo>
                <a:lnTo>
                  <a:pt x="287" y="1503"/>
                </a:lnTo>
                <a:lnTo>
                  <a:pt x="293" y="1514"/>
                </a:lnTo>
                <a:lnTo>
                  <a:pt x="299" y="1526"/>
                </a:lnTo>
                <a:lnTo>
                  <a:pt x="305" y="1538"/>
                </a:lnTo>
                <a:lnTo>
                  <a:pt x="310" y="1547"/>
                </a:lnTo>
                <a:lnTo>
                  <a:pt x="316" y="1559"/>
                </a:lnTo>
                <a:lnTo>
                  <a:pt x="322" y="1571"/>
                </a:lnTo>
                <a:lnTo>
                  <a:pt x="328" y="1582"/>
                </a:lnTo>
                <a:lnTo>
                  <a:pt x="334" y="1594"/>
                </a:lnTo>
                <a:lnTo>
                  <a:pt x="339" y="1606"/>
                </a:lnTo>
                <a:lnTo>
                  <a:pt x="345" y="1617"/>
                </a:lnTo>
                <a:lnTo>
                  <a:pt x="351" y="1629"/>
                </a:lnTo>
                <a:lnTo>
                  <a:pt x="357" y="1640"/>
                </a:lnTo>
                <a:lnTo>
                  <a:pt x="363" y="1652"/>
                </a:lnTo>
                <a:lnTo>
                  <a:pt x="369" y="1664"/>
                </a:lnTo>
                <a:lnTo>
                  <a:pt x="374" y="1675"/>
                </a:lnTo>
                <a:lnTo>
                  <a:pt x="378" y="1685"/>
                </a:lnTo>
                <a:lnTo>
                  <a:pt x="384" y="1697"/>
                </a:lnTo>
                <a:lnTo>
                  <a:pt x="390" y="1708"/>
                </a:lnTo>
                <a:lnTo>
                  <a:pt x="396" y="1720"/>
                </a:lnTo>
                <a:lnTo>
                  <a:pt x="402" y="1732"/>
                </a:lnTo>
                <a:lnTo>
                  <a:pt x="407" y="1743"/>
                </a:lnTo>
                <a:lnTo>
                  <a:pt x="413" y="1755"/>
                </a:lnTo>
                <a:lnTo>
                  <a:pt x="419" y="1767"/>
                </a:lnTo>
                <a:lnTo>
                  <a:pt x="423" y="1778"/>
                </a:lnTo>
                <a:lnTo>
                  <a:pt x="429" y="1790"/>
                </a:lnTo>
                <a:lnTo>
                  <a:pt x="435" y="1801"/>
                </a:lnTo>
                <a:lnTo>
                  <a:pt x="440" y="1813"/>
                </a:lnTo>
                <a:lnTo>
                  <a:pt x="444" y="1825"/>
                </a:lnTo>
                <a:lnTo>
                  <a:pt x="450" y="1836"/>
                </a:lnTo>
                <a:lnTo>
                  <a:pt x="456" y="1848"/>
                </a:lnTo>
                <a:lnTo>
                  <a:pt x="462" y="1862"/>
                </a:lnTo>
                <a:lnTo>
                  <a:pt x="469" y="1875"/>
                </a:lnTo>
                <a:lnTo>
                  <a:pt x="479" y="1891"/>
                </a:lnTo>
                <a:lnTo>
                  <a:pt x="489" y="1906"/>
                </a:lnTo>
                <a:lnTo>
                  <a:pt x="500" y="1922"/>
                </a:lnTo>
                <a:lnTo>
                  <a:pt x="510" y="1935"/>
                </a:lnTo>
                <a:lnTo>
                  <a:pt x="520" y="1951"/>
                </a:lnTo>
                <a:lnTo>
                  <a:pt x="530" y="1964"/>
                </a:lnTo>
                <a:lnTo>
                  <a:pt x="541" y="1980"/>
                </a:lnTo>
                <a:lnTo>
                  <a:pt x="551" y="1993"/>
                </a:lnTo>
                <a:lnTo>
                  <a:pt x="563" y="2007"/>
                </a:lnTo>
                <a:lnTo>
                  <a:pt x="574" y="2021"/>
                </a:lnTo>
                <a:lnTo>
                  <a:pt x="586" y="2036"/>
                </a:lnTo>
                <a:lnTo>
                  <a:pt x="597" y="2050"/>
                </a:lnTo>
                <a:lnTo>
                  <a:pt x="609" y="2063"/>
                </a:lnTo>
                <a:lnTo>
                  <a:pt x="621" y="2077"/>
                </a:lnTo>
                <a:lnTo>
                  <a:pt x="632" y="2092"/>
                </a:lnTo>
                <a:lnTo>
                  <a:pt x="644" y="2104"/>
                </a:lnTo>
                <a:lnTo>
                  <a:pt x="656" y="2117"/>
                </a:lnTo>
                <a:lnTo>
                  <a:pt x="667" y="2129"/>
                </a:lnTo>
                <a:lnTo>
                  <a:pt x="679" y="2143"/>
                </a:lnTo>
                <a:lnTo>
                  <a:pt x="691" y="2154"/>
                </a:lnTo>
                <a:lnTo>
                  <a:pt x="702" y="2168"/>
                </a:lnTo>
                <a:lnTo>
                  <a:pt x="714" y="2181"/>
                </a:lnTo>
                <a:lnTo>
                  <a:pt x="727" y="2195"/>
                </a:lnTo>
                <a:lnTo>
                  <a:pt x="739" y="2207"/>
                </a:lnTo>
                <a:lnTo>
                  <a:pt x="751" y="2218"/>
                </a:lnTo>
                <a:lnTo>
                  <a:pt x="762" y="2232"/>
                </a:lnTo>
                <a:lnTo>
                  <a:pt x="776" y="2245"/>
                </a:lnTo>
                <a:lnTo>
                  <a:pt x="787" y="2257"/>
                </a:lnTo>
                <a:lnTo>
                  <a:pt x="801" y="2269"/>
                </a:lnTo>
                <a:lnTo>
                  <a:pt x="815" y="2282"/>
                </a:lnTo>
                <a:lnTo>
                  <a:pt x="828" y="2296"/>
                </a:lnTo>
                <a:lnTo>
                  <a:pt x="838" y="2304"/>
                </a:lnTo>
                <a:lnTo>
                  <a:pt x="850" y="2313"/>
                </a:lnTo>
                <a:lnTo>
                  <a:pt x="861" y="2323"/>
                </a:lnTo>
                <a:lnTo>
                  <a:pt x="873" y="2335"/>
                </a:lnTo>
                <a:lnTo>
                  <a:pt x="884" y="2342"/>
                </a:lnTo>
                <a:lnTo>
                  <a:pt x="896" y="2352"/>
                </a:lnTo>
                <a:lnTo>
                  <a:pt x="908" y="2362"/>
                </a:lnTo>
                <a:lnTo>
                  <a:pt x="919" y="2373"/>
                </a:lnTo>
                <a:lnTo>
                  <a:pt x="929" y="2381"/>
                </a:lnTo>
                <a:lnTo>
                  <a:pt x="941" y="2391"/>
                </a:lnTo>
                <a:lnTo>
                  <a:pt x="952" y="2401"/>
                </a:lnTo>
                <a:lnTo>
                  <a:pt x="964" y="2410"/>
                </a:lnTo>
                <a:lnTo>
                  <a:pt x="976" y="2418"/>
                </a:lnTo>
                <a:lnTo>
                  <a:pt x="987" y="2426"/>
                </a:lnTo>
                <a:lnTo>
                  <a:pt x="999" y="2434"/>
                </a:lnTo>
                <a:lnTo>
                  <a:pt x="1011" y="2443"/>
                </a:lnTo>
                <a:lnTo>
                  <a:pt x="1024" y="2459"/>
                </a:lnTo>
                <a:lnTo>
                  <a:pt x="1042" y="2472"/>
                </a:lnTo>
                <a:lnTo>
                  <a:pt x="316" y="2472"/>
                </a:lnTo>
                <a:lnTo>
                  <a:pt x="314" y="2461"/>
                </a:lnTo>
                <a:lnTo>
                  <a:pt x="312" y="2449"/>
                </a:lnTo>
                <a:lnTo>
                  <a:pt x="310" y="2437"/>
                </a:lnTo>
                <a:lnTo>
                  <a:pt x="308" y="2426"/>
                </a:lnTo>
                <a:lnTo>
                  <a:pt x="305" y="2414"/>
                </a:lnTo>
                <a:lnTo>
                  <a:pt x="305" y="2403"/>
                </a:lnTo>
                <a:lnTo>
                  <a:pt x="303" y="2391"/>
                </a:lnTo>
                <a:lnTo>
                  <a:pt x="303" y="2381"/>
                </a:lnTo>
                <a:lnTo>
                  <a:pt x="301" y="2370"/>
                </a:lnTo>
                <a:lnTo>
                  <a:pt x="299" y="2358"/>
                </a:lnTo>
                <a:lnTo>
                  <a:pt x="299" y="2346"/>
                </a:lnTo>
                <a:lnTo>
                  <a:pt x="303" y="2337"/>
                </a:lnTo>
                <a:lnTo>
                  <a:pt x="308" y="2315"/>
                </a:lnTo>
                <a:lnTo>
                  <a:pt x="320" y="2296"/>
                </a:lnTo>
                <a:lnTo>
                  <a:pt x="328" y="2302"/>
                </a:lnTo>
                <a:lnTo>
                  <a:pt x="341" y="2317"/>
                </a:lnTo>
                <a:lnTo>
                  <a:pt x="357" y="2335"/>
                </a:lnTo>
                <a:lnTo>
                  <a:pt x="371" y="2352"/>
                </a:lnTo>
                <a:lnTo>
                  <a:pt x="386" y="2370"/>
                </a:lnTo>
                <a:lnTo>
                  <a:pt x="398" y="2387"/>
                </a:lnTo>
                <a:lnTo>
                  <a:pt x="411" y="2404"/>
                </a:lnTo>
                <a:lnTo>
                  <a:pt x="425" y="2420"/>
                </a:lnTo>
                <a:lnTo>
                  <a:pt x="442" y="2437"/>
                </a:lnTo>
                <a:lnTo>
                  <a:pt x="442" y="2422"/>
                </a:lnTo>
                <a:lnTo>
                  <a:pt x="442" y="2410"/>
                </a:lnTo>
                <a:lnTo>
                  <a:pt x="436" y="2399"/>
                </a:lnTo>
                <a:lnTo>
                  <a:pt x="433" y="2387"/>
                </a:lnTo>
                <a:lnTo>
                  <a:pt x="419" y="2366"/>
                </a:lnTo>
                <a:lnTo>
                  <a:pt x="409" y="2346"/>
                </a:lnTo>
                <a:lnTo>
                  <a:pt x="402" y="2333"/>
                </a:lnTo>
                <a:lnTo>
                  <a:pt x="396" y="2319"/>
                </a:lnTo>
                <a:lnTo>
                  <a:pt x="388" y="2306"/>
                </a:lnTo>
                <a:lnTo>
                  <a:pt x="382" y="2294"/>
                </a:lnTo>
                <a:lnTo>
                  <a:pt x="374" y="2280"/>
                </a:lnTo>
                <a:lnTo>
                  <a:pt x="369" y="2267"/>
                </a:lnTo>
                <a:lnTo>
                  <a:pt x="363" y="2253"/>
                </a:lnTo>
                <a:lnTo>
                  <a:pt x="357" y="2242"/>
                </a:lnTo>
                <a:lnTo>
                  <a:pt x="351" y="2228"/>
                </a:lnTo>
                <a:lnTo>
                  <a:pt x="345" y="2214"/>
                </a:lnTo>
                <a:lnTo>
                  <a:pt x="339" y="2201"/>
                </a:lnTo>
                <a:lnTo>
                  <a:pt x="334" y="2189"/>
                </a:lnTo>
                <a:lnTo>
                  <a:pt x="328" y="2176"/>
                </a:lnTo>
                <a:lnTo>
                  <a:pt x="322" y="2164"/>
                </a:lnTo>
                <a:lnTo>
                  <a:pt x="316" y="2150"/>
                </a:lnTo>
                <a:lnTo>
                  <a:pt x="310" y="2139"/>
                </a:lnTo>
                <a:lnTo>
                  <a:pt x="305" y="2125"/>
                </a:lnTo>
                <a:lnTo>
                  <a:pt x="299" y="2112"/>
                </a:lnTo>
                <a:lnTo>
                  <a:pt x="293" y="2098"/>
                </a:lnTo>
                <a:lnTo>
                  <a:pt x="287" y="2085"/>
                </a:lnTo>
                <a:lnTo>
                  <a:pt x="281" y="2071"/>
                </a:lnTo>
                <a:lnTo>
                  <a:pt x="275" y="2057"/>
                </a:lnTo>
                <a:lnTo>
                  <a:pt x="270" y="2044"/>
                </a:lnTo>
                <a:lnTo>
                  <a:pt x="266" y="2032"/>
                </a:lnTo>
                <a:lnTo>
                  <a:pt x="260" y="2019"/>
                </a:lnTo>
                <a:lnTo>
                  <a:pt x="254" y="2005"/>
                </a:lnTo>
                <a:lnTo>
                  <a:pt x="248" y="1991"/>
                </a:lnTo>
                <a:lnTo>
                  <a:pt x="244" y="1980"/>
                </a:lnTo>
                <a:lnTo>
                  <a:pt x="239" y="1966"/>
                </a:lnTo>
                <a:lnTo>
                  <a:pt x="235" y="1953"/>
                </a:lnTo>
                <a:lnTo>
                  <a:pt x="231" y="1939"/>
                </a:lnTo>
                <a:lnTo>
                  <a:pt x="229" y="1927"/>
                </a:lnTo>
                <a:lnTo>
                  <a:pt x="223" y="1916"/>
                </a:lnTo>
                <a:lnTo>
                  <a:pt x="219" y="1904"/>
                </a:lnTo>
                <a:lnTo>
                  <a:pt x="215" y="1893"/>
                </a:lnTo>
                <a:lnTo>
                  <a:pt x="211" y="1881"/>
                </a:lnTo>
                <a:lnTo>
                  <a:pt x="208" y="1869"/>
                </a:lnTo>
                <a:lnTo>
                  <a:pt x="204" y="1858"/>
                </a:lnTo>
                <a:lnTo>
                  <a:pt x="200" y="1846"/>
                </a:lnTo>
                <a:lnTo>
                  <a:pt x="198" y="1834"/>
                </a:lnTo>
                <a:lnTo>
                  <a:pt x="194" y="1823"/>
                </a:lnTo>
                <a:lnTo>
                  <a:pt x="190" y="1811"/>
                </a:lnTo>
                <a:lnTo>
                  <a:pt x="186" y="1799"/>
                </a:lnTo>
                <a:lnTo>
                  <a:pt x="184" y="1788"/>
                </a:lnTo>
                <a:lnTo>
                  <a:pt x="180" y="1776"/>
                </a:lnTo>
                <a:lnTo>
                  <a:pt x="179" y="1765"/>
                </a:lnTo>
                <a:lnTo>
                  <a:pt x="175" y="1753"/>
                </a:lnTo>
                <a:lnTo>
                  <a:pt x="173" y="1743"/>
                </a:lnTo>
                <a:lnTo>
                  <a:pt x="169" y="1732"/>
                </a:lnTo>
                <a:lnTo>
                  <a:pt x="167" y="1720"/>
                </a:lnTo>
                <a:lnTo>
                  <a:pt x="163" y="1708"/>
                </a:lnTo>
                <a:lnTo>
                  <a:pt x="161" y="1697"/>
                </a:lnTo>
                <a:lnTo>
                  <a:pt x="157" y="1685"/>
                </a:lnTo>
                <a:lnTo>
                  <a:pt x="155" y="1673"/>
                </a:lnTo>
                <a:lnTo>
                  <a:pt x="151" y="1662"/>
                </a:lnTo>
                <a:lnTo>
                  <a:pt x="149" y="1650"/>
                </a:lnTo>
                <a:lnTo>
                  <a:pt x="146" y="1639"/>
                </a:lnTo>
                <a:lnTo>
                  <a:pt x="144" y="1627"/>
                </a:lnTo>
                <a:lnTo>
                  <a:pt x="140" y="1615"/>
                </a:lnTo>
                <a:lnTo>
                  <a:pt x="138" y="1604"/>
                </a:lnTo>
                <a:lnTo>
                  <a:pt x="134" y="1592"/>
                </a:lnTo>
                <a:lnTo>
                  <a:pt x="132" y="1580"/>
                </a:lnTo>
                <a:lnTo>
                  <a:pt x="128" y="1569"/>
                </a:lnTo>
                <a:lnTo>
                  <a:pt x="126" y="1559"/>
                </a:lnTo>
                <a:lnTo>
                  <a:pt x="122" y="1547"/>
                </a:lnTo>
                <a:lnTo>
                  <a:pt x="120" y="1536"/>
                </a:lnTo>
                <a:lnTo>
                  <a:pt x="116" y="1524"/>
                </a:lnTo>
                <a:lnTo>
                  <a:pt x="115" y="1513"/>
                </a:lnTo>
                <a:lnTo>
                  <a:pt x="111" y="1501"/>
                </a:lnTo>
                <a:lnTo>
                  <a:pt x="109" y="1489"/>
                </a:lnTo>
                <a:lnTo>
                  <a:pt x="105" y="1478"/>
                </a:lnTo>
                <a:lnTo>
                  <a:pt x="103" y="1466"/>
                </a:lnTo>
                <a:lnTo>
                  <a:pt x="99" y="1454"/>
                </a:lnTo>
                <a:lnTo>
                  <a:pt x="97" y="1443"/>
                </a:lnTo>
                <a:lnTo>
                  <a:pt x="93" y="1431"/>
                </a:lnTo>
                <a:lnTo>
                  <a:pt x="91" y="1419"/>
                </a:lnTo>
                <a:lnTo>
                  <a:pt x="87" y="1408"/>
                </a:lnTo>
                <a:lnTo>
                  <a:pt x="85" y="1396"/>
                </a:lnTo>
                <a:lnTo>
                  <a:pt x="83" y="1385"/>
                </a:lnTo>
                <a:lnTo>
                  <a:pt x="82" y="1373"/>
                </a:lnTo>
                <a:lnTo>
                  <a:pt x="78" y="1361"/>
                </a:lnTo>
                <a:lnTo>
                  <a:pt x="74" y="1350"/>
                </a:lnTo>
                <a:lnTo>
                  <a:pt x="70" y="1338"/>
                </a:lnTo>
                <a:lnTo>
                  <a:pt x="68" y="1326"/>
                </a:lnTo>
                <a:lnTo>
                  <a:pt x="64" y="1315"/>
                </a:lnTo>
                <a:lnTo>
                  <a:pt x="62" y="1303"/>
                </a:lnTo>
                <a:lnTo>
                  <a:pt x="58" y="1291"/>
                </a:lnTo>
                <a:lnTo>
                  <a:pt x="56" y="1282"/>
                </a:lnTo>
                <a:lnTo>
                  <a:pt x="52" y="1270"/>
                </a:lnTo>
                <a:lnTo>
                  <a:pt x="49" y="1258"/>
                </a:lnTo>
                <a:lnTo>
                  <a:pt x="45" y="1247"/>
                </a:lnTo>
                <a:lnTo>
                  <a:pt x="43" y="1235"/>
                </a:lnTo>
                <a:lnTo>
                  <a:pt x="39" y="1224"/>
                </a:lnTo>
                <a:lnTo>
                  <a:pt x="37" y="1212"/>
                </a:lnTo>
                <a:lnTo>
                  <a:pt x="33" y="1200"/>
                </a:lnTo>
                <a:lnTo>
                  <a:pt x="31" y="1191"/>
                </a:lnTo>
                <a:lnTo>
                  <a:pt x="25" y="1179"/>
                </a:lnTo>
                <a:lnTo>
                  <a:pt x="23" y="1167"/>
                </a:lnTo>
                <a:lnTo>
                  <a:pt x="19" y="1156"/>
                </a:lnTo>
                <a:lnTo>
                  <a:pt x="18" y="1146"/>
                </a:lnTo>
                <a:lnTo>
                  <a:pt x="16" y="1134"/>
                </a:lnTo>
                <a:lnTo>
                  <a:pt x="14" y="1123"/>
                </a:lnTo>
                <a:lnTo>
                  <a:pt x="12" y="1111"/>
                </a:lnTo>
                <a:lnTo>
                  <a:pt x="12" y="1101"/>
                </a:lnTo>
                <a:lnTo>
                  <a:pt x="10" y="1090"/>
                </a:lnTo>
                <a:lnTo>
                  <a:pt x="8" y="1078"/>
                </a:lnTo>
                <a:lnTo>
                  <a:pt x="6" y="1067"/>
                </a:lnTo>
                <a:lnTo>
                  <a:pt x="6" y="1057"/>
                </a:lnTo>
                <a:lnTo>
                  <a:pt x="6" y="1045"/>
                </a:lnTo>
                <a:lnTo>
                  <a:pt x="6" y="1036"/>
                </a:lnTo>
                <a:lnTo>
                  <a:pt x="6" y="1024"/>
                </a:lnTo>
                <a:lnTo>
                  <a:pt x="6" y="1014"/>
                </a:lnTo>
                <a:lnTo>
                  <a:pt x="4" y="1003"/>
                </a:lnTo>
                <a:lnTo>
                  <a:pt x="4" y="991"/>
                </a:lnTo>
                <a:lnTo>
                  <a:pt x="4" y="979"/>
                </a:lnTo>
                <a:lnTo>
                  <a:pt x="4" y="968"/>
                </a:lnTo>
                <a:lnTo>
                  <a:pt x="4" y="956"/>
                </a:lnTo>
                <a:lnTo>
                  <a:pt x="4" y="944"/>
                </a:lnTo>
                <a:lnTo>
                  <a:pt x="4" y="933"/>
                </a:lnTo>
                <a:lnTo>
                  <a:pt x="4" y="923"/>
                </a:lnTo>
                <a:lnTo>
                  <a:pt x="4" y="911"/>
                </a:lnTo>
                <a:lnTo>
                  <a:pt x="4" y="900"/>
                </a:lnTo>
                <a:lnTo>
                  <a:pt x="4" y="888"/>
                </a:lnTo>
                <a:lnTo>
                  <a:pt x="4" y="877"/>
                </a:lnTo>
                <a:lnTo>
                  <a:pt x="4" y="865"/>
                </a:lnTo>
                <a:lnTo>
                  <a:pt x="4" y="853"/>
                </a:lnTo>
                <a:lnTo>
                  <a:pt x="4" y="842"/>
                </a:lnTo>
                <a:lnTo>
                  <a:pt x="6" y="832"/>
                </a:lnTo>
                <a:lnTo>
                  <a:pt x="4" y="818"/>
                </a:lnTo>
                <a:lnTo>
                  <a:pt x="2" y="807"/>
                </a:lnTo>
                <a:lnTo>
                  <a:pt x="0" y="795"/>
                </a:lnTo>
                <a:lnTo>
                  <a:pt x="0" y="783"/>
                </a:lnTo>
                <a:lnTo>
                  <a:pt x="0" y="772"/>
                </a:lnTo>
                <a:lnTo>
                  <a:pt x="0" y="760"/>
                </a:lnTo>
                <a:lnTo>
                  <a:pt x="0" y="749"/>
                </a:lnTo>
                <a:lnTo>
                  <a:pt x="0" y="737"/>
                </a:lnTo>
                <a:lnTo>
                  <a:pt x="0" y="723"/>
                </a:lnTo>
                <a:lnTo>
                  <a:pt x="0" y="712"/>
                </a:lnTo>
                <a:lnTo>
                  <a:pt x="0" y="700"/>
                </a:lnTo>
                <a:lnTo>
                  <a:pt x="0" y="688"/>
                </a:lnTo>
                <a:lnTo>
                  <a:pt x="0" y="677"/>
                </a:lnTo>
                <a:lnTo>
                  <a:pt x="2" y="665"/>
                </a:lnTo>
                <a:lnTo>
                  <a:pt x="4" y="654"/>
                </a:lnTo>
                <a:lnTo>
                  <a:pt x="6" y="642"/>
                </a:lnTo>
                <a:lnTo>
                  <a:pt x="10" y="642"/>
                </a:lnTo>
                <a:lnTo>
                  <a:pt x="14" y="640"/>
                </a:lnTo>
                <a:lnTo>
                  <a:pt x="8" y="634"/>
                </a:lnTo>
                <a:lnTo>
                  <a:pt x="12" y="624"/>
                </a:lnTo>
                <a:lnTo>
                  <a:pt x="14" y="615"/>
                </a:lnTo>
                <a:lnTo>
                  <a:pt x="14" y="605"/>
                </a:lnTo>
                <a:lnTo>
                  <a:pt x="16" y="597"/>
                </a:lnTo>
                <a:lnTo>
                  <a:pt x="19" y="601"/>
                </a:lnTo>
                <a:lnTo>
                  <a:pt x="19" y="586"/>
                </a:lnTo>
                <a:lnTo>
                  <a:pt x="23" y="572"/>
                </a:lnTo>
                <a:lnTo>
                  <a:pt x="27" y="559"/>
                </a:lnTo>
                <a:lnTo>
                  <a:pt x="33" y="547"/>
                </a:lnTo>
                <a:lnTo>
                  <a:pt x="37" y="533"/>
                </a:lnTo>
                <a:lnTo>
                  <a:pt x="43" y="522"/>
                </a:lnTo>
                <a:lnTo>
                  <a:pt x="49" y="510"/>
                </a:lnTo>
                <a:lnTo>
                  <a:pt x="56" y="498"/>
                </a:lnTo>
                <a:lnTo>
                  <a:pt x="62" y="477"/>
                </a:lnTo>
                <a:lnTo>
                  <a:pt x="72" y="458"/>
                </a:lnTo>
                <a:lnTo>
                  <a:pt x="80" y="436"/>
                </a:lnTo>
                <a:lnTo>
                  <a:pt x="89" y="419"/>
                </a:lnTo>
                <a:lnTo>
                  <a:pt x="99" y="400"/>
                </a:lnTo>
                <a:lnTo>
                  <a:pt x="111" y="382"/>
                </a:lnTo>
                <a:lnTo>
                  <a:pt x="122" y="365"/>
                </a:lnTo>
                <a:lnTo>
                  <a:pt x="136" y="347"/>
                </a:lnTo>
                <a:lnTo>
                  <a:pt x="149" y="328"/>
                </a:lnTo>
                <a:lnTo>
                  <a:pt x="165" y="310"/>
                </a:lnTo>
                <a:lnTo>
                  <a:pt x="179" y="293"/>
                </a:lnTo>
                <a:lnTo>
                  <a:pt x="194" y="277"/>
                </a:lnTo>
                <a:lnTo>
                  <a:pt x="208" y="260"/>
                </a:lnTo>
                <a:lnTo>
                  <a:pt x="225" y="246"/>
                </a:lnTo>
                <a:lnTo>
                  <a:pt x="239" y="229"/>
                </a:lnTo>
                <a:lnTo>
                  <a:pt x="256" y="215"/>
                </a:lnTo>
                <a:lnTo>
                  <a:pt x="268" y="209"/>
                </a:lnTo>
                <a:lnTo>
                  <a:pt x="279" y="206"/>
                </a:lnTo>
                <a:lnTo>
                  <a:pt x="291" y="200"/>
                </a:lnTo>
                <a:lnTo>
                  <a:pt x="303" y="194"/>
                </a:lnTo>
                <a:lnTo>
                  <a:pt x="312" y="188"/>
                </a:lnTo>
                <a:lnTo>
                  <a:pt x="324" y="182"/>
                </a:lnTo>
                <a:lnTo>
                  <a:pt x="336" y="177"/>
                </a:lnTo>
                <a:lnTo>
                  <a:pt x="349" y="173"/>
                </a:lnTo>
                <a:lnTo>
                  <a:pt x="367" y="163"/>
                </a:lnTo>
                <a:lnTo>
                  <a:pt x="386" y="155"/>
                </a:lnTo>
                <a:lnTo>
                  <a:pt x="405" y="149"/>
                </a:lnTo>
                <a:lnTo>
                  <a:pt x="425" y="144"/>
                </a:lnTo>
                <a:lnTo>
                  <a:pt x="442" y="136"/>
                </a:lnTo>
                <a:lnTo>
                  <a:pt x="462" y="130"/>
                </a:lnTo>
                <a:lnTo>
                  <a:pt x="481" y="124"/>
                </a:lnTo>
                <a:lnTo>
                  <a:pt x="502" y="120"/>
                </a:lnTo>
                <a:lnTo>
                  <a:pt x="502" y="111"/>
                </a:lnTo>
                <a:lnTo>
                  <a:pt x="506" y="103"/>
                </a:lnTo>
                <a:lnTo>
                  <a:pt x="495" y="95"/>
                </a:lnTo>
                <a:lnTo>
                  <a:pt x="485" y="91"/>
                </a:lnTo>
                <a:lnTo>
                  <a:pt x="473" y="87"/>
                </a:lnTo>
                <a:lnTo>
                  <a:pt x="464" y="85"/>
                </a:lnTo>
                <a:lnTo>
                  <a:pt x="452" y="80"/>
                </a:lnTo>
                <a:lnTo>
                  <a:pt x="448" y="76"/>
                </a:lnTo>
                <a:lnTo>
                  <a:pt x="448" y="68"/>
                </a:lnTo>
                <a:lnTo>
                  <a:pt x="454" y="58"/>
                </a:lnTo>
                <a:lnTo>
                  <a:pt x="460" y="49"/>
                </a:lnTo>
                <a:lnTo>
                  <a:pt x="469" y="43"/>
                </a:lnTo>
                <a:lnTo>
                  <a:pt x="481" y="37"/>
                </a:lnTo>
                <a:lnTo>
                  <a:pt x="493" y="33"/>
                </a:lnTo>
                <a:lnTo>
                  <a:pt x="504" y="29"/>
                </a:lnTo>
                <a:lnTo>
                  <a:pt x="516" y="27"/>
                </a:lnTo>
                <a:lnTo>
                  <a:pt x="528" y="23"/>
                </a:lnTo>
                <a:lnTo>
                  <a:pt x="539" y="19"/>
                </a:lnTo>
                <a:lnTo>
                  <a:pt x="557" y="8"/>
                </a:lnTo>
                <a:lnTo>
                  <a:pt x="574" y="4"/>
                </a:lnTo>
                <a:lnTo>
                  <a:pt x="592" y="0"/>
                </a:lnTo>
                <a:lnTo>
                  <a:pt x="611" y="0"/>
                </a:lnTo>
                <a:lnTo>
                  <a:pt x="628" y="0"/>
                </a:lnTo>
                <a:lnTo>
                  <a:pt x="650" y="2"/>
                </a:lnTo>
                <a:lnTo>
                  <a:pt x="659" y="2"/>
                </a:lnTo>
                <a:lnTo>
                  <a:pt x="669" y="4"/>
                </a:lnTo>
                <a:lnTo>
                  <a:pt x="681" y="4"/>
                </a:lnTo>
                <a:lnTo>
                  <a:pt x="692" y="6"/>
                </a:lnTo>
                <a:lnTo>
                  <a:pt x="710" y="4"/>
                </a:lnTo>
                <a:lnTo>
                  <a:pt x="727" y="4"/>
                </a:lnTo>
                <a:lnTo>
                  <a:pt x="747" y="6"/>
                </a:lnTo>
                <a:lnTo>
                  <a:pt x="768" y="8"/>
                </a:lnTo>
                <a:lnTo>
                  <a:pt x="786" y="10"/>
                </a:lnTo>
                <a:lnTo>
                  <a:pt x="807" y="14"/>
                </a:lnTo>
                <a:lnTo>
                  <a:pt x="826" y="16"/>
                </a:lnTo>
                <a:lnTo>
                  <a:pt x="848" y="2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66" name=""/>
          <p:cNvSpPr/>
          <p:nvPr/>
        </p:nvSpPr>
        <p:spPr>
          <a:xfrm>
            <a:off x="2757600" y="3859200"/>
            <a:ext cx="250560" cy="208080"/>
          </a:xfrm>
          <a:custGeom>
            <a:avLst/>
            <a:gdLst/>
            <a:ahLst/>
            <a:rect l="l" t="t" r="r" b="b"/>
            <a:pathLst>
              <a:path w="317" h="261">
                <a:moveTo>
                  <a:pt x="317" y="77"/>
                </a:moveTo>
                <a:lnTo>
                  <a:pt x="299" y="95"/>
                </a:lnTo>
                <a:lnTo>
                  <a:pt x="282" y="116"/>
                </a:lnTo>
                <a:lnTo>
                  <a:pt x="270" y="128"/>
                </a:lnTo>
                <a:lnTo>
                  <a:pt x="262" y="139"/>
                </a:lnTo>
                <a:lnTo>
                  <a:pt x="253" y="151"/>
                </a:lnTo>
                <a:lnTo>
                  <a:pt x="247" y="163"/>
                </a:lnTo>
                <a:lnTo>
                  <a:pt x="239" y="174"/>
                </a:lnTo>
                <a:lnTo>
                  <a:pt x="233" y="186"/>
                </a:lnTo>
                <a:lnTo>
                  <a:pt x="229" y="197"/>
                </a:lnTo>
                <a:lnTo>
                  <a:pt x="229" y="209"/>
                </a:lnTo>
                <a:lnTo>
                  <a:pt x="229" y="221"/>
                </a:lnTo>
                <a:lnTo>
                  <a:pt x="233" y="234"/>
                </a:lnTo>
                <a:lnTo>
                  <a:pt x="239" y="248"/>
                </a:lnTo>
                <a:lnTo>
                  <a:pt x="253" y="261"/>
                </a:lnTo>
                <a:lnTo>
                  <a:pt x="233" y="256"/>
                </a:lnTo>
                <a:lnTo>
                  <a:pt x="216" y="254"/>
                </a:lnTo>
                <a:lnTo>
                  <a:pt x="198" y="250"/>
                </a:lnTo>
                <a:lnTo>
                  <a:pt x="181" y="250"/>
                </a:lnTo>
                <a:lnTo>
                  <a:pt x="163" y="246"/>
                </a:lnTo>
                <a:lnTo>
                  <a:pt x="146" y="242"/>
                </a:lnTo>
                <a:lnTo>
                  <a:pt x="128" y="238"/>
                </a:lnTo>
                <a:lnTo>
                  <a:pt x="111" y="234"/>
                </a:lnTo>
                <a:lnTo>
                  <a:pt x="94" y="228"/>
                </a:lnTo>
                <a:lnTo>
                  <a:pt x="80" y="228"/>
                </a:lnTo>
                <a:lnTo>
                  <a:pt x="64" y="228"/>
                </a:lnTo>
                <a:lnTo>
                  <a:pt x="51" y="232"/>
                </a:lnTo>
                <a:lnTo>
                  <a:pt x="37" y="230"/>
                </a:lnTo>
                <a:lnTo>
                  <a:pt x="24" y="230"/>
                </a:lnTo>
                <a:lnTo>
                  <a:pt x="12" y="225"/>
                </a:lnTo>
                <a:lnTo>
                  <a:pt x="0" y="217"/>
                </a:lnTo>
                <a:lnTo>
                  <a:pt x="0" y="203"/>
                </a:lnTo>
                <a:lnTo>
                  <a:pt x="6" y="192"/>
                </a:lnTo>
                <a:lnTo>
                  <a:pt x="16" y="182"/>
                </a:lnTo>
                <a:lnTo>
                  <a:pt x="22" y="170"/>
                </a:lnTo>
                <a:lnTo>
                  <a:pt x="31" y="163"/>
                </a:lnTo>
                <a:lnTo>
                  <a:pt x="37" y="151"/>
                </a:lnTo>
                <a:lnTo>
                  <a:pt x="45" y="141"/>
                </a:lnTo>
                <a:lnTo>
                  <a:pt x="49" y="130"/>
                </a:lnTo>
                <a:lnTo>
                  <a:pt x="53" y="120"/>
                </a:lnTo>
                <a:lnTo>
                  <a:pt x="57" y="108"/>
                </a:lnTo>
                <a:lnTo>
                  <a:pt x="63" y="99"/>
                </a:lnTo>
                <a:lnTo>
                  <a:pt x="66" y="89"/>
                </a:lnTo>
                <a:lnTo>
                  <a:pt x="70" y="79"/>
                </a:lnTo>
                <a:lnTo>
                  <a:pt x="72" y="68"/>
                </a:lnTo>
                <a:lnTo>
                  <a:pt x="74" y="56"/>
                </a:lnTo>
                <a:lnTo>
                  <a:pt x="76" y="46"/>
                </a:lnTo>
                <a:lnTo>
                  <a:pt x="80" y="37"/>
                </a:lnTo>
                <a:lnTo>
                  <a:pt x="84" y="27"/>
                </a:lnTo>
                <a:lnTo>
                  <a:pt x="92" y="17"/>
                </a:lnTo>
                <a:lnTo>
                  <a:pt x="101" y="6"/>
                </a:lnTo>
                <a:lnTo>
                  <a:pt x="113" y="0"/>
                </a:lnTo>
                <a:lnTo>
                  <a:pt x="123" y="0"/>
                </a:lnTo>
                <a:lnTo>
                  <a:pt x="134" y="2"/>
                </a:lnTo>
                <a:lnTo>
                  <a:pt x="144" y="6"/>
                </a:lnTo>
                <a:lnTo>
                  <a:pt x="156" y="11"/>
                </a:lnTo>
                <a:lnTo>
                  <a:pt x="173" y="19"/>
                </a:lnTo>
                <a:lnTo>
                  <a:pt x="192" y="25"/>
                </a:lnTo>
                <a:lnTo>
                  <a:pt x="206" y="31"/>
                </a:lnTo>
                <a:lnTo>
                  <a:pt x="222" y="37"/>
                </a:lnTo>
                <a:lnTo>
                  <a:pt x="235" y="42"/>
                </a:lnTo>
                <a:lnTo>
                  <a:pt x="253" y="50"/>
                </a:lnTo>
                <a:lnTo>
                  <a:pt x="268" y="56"/>
                </a:lnTo>
                <a:lnTo>
                  <a:pt x="284" y="64"/>
                </a:lnTo>
                <a:lnTo>
                  <a:pt x="299" y="69"/>
                </a:lnTo>
                <a:lnTo>
                  <a:pt x="317" y="7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67" name=""/>
          <p:cNvSpPr/>
          <p:nvPr/>
        </p:nvSpPr>
        <p:spPr>
          <a:xfrm>
            <a:off x="5764320" y="4076640"/>
            <a:ext cx="171360" cy="424080"/>
          </a:xfrm>
          <a:custGeom>
            <a:avLst/>
            <a:gdLst/>
            <a:ahLst/>
            <a:rect l="l" t="t" r="r" b="b"/>
            <a:pathLst>
              <a:path w="215" h="533">
                <a:moveTo>
                  <a:pt x="196" y="109"/>
                </a:moveTo>
                <a:lnTo>
                  <a:pt x="190" y="120"/>
                </a:lnTo>
                <a:lnTo>
                  <a:pt x="184" y="136"/>
                </a:lnTo>
                <a:lnTo>
                  <a:pt x="180" y="147"/>
                </a:lnTo>
                <a:lnTo>
                  <a:pt x="178" y="163"/>
                </a:lnTo>
                <a:lnTo>
                  <a:pt x="175" y="177"/>
                </a:lnTo>
                <a:lnTo>
                  <a:pt x="173" y="192"/>
                </a:lnTo>
                <a:lnTo>
                  <a:pt x="169" y="206"/>
                </a:lnTo>
                <a:lnTo>
                  <a:pt x="169" y="221"/>
                </a:lnTo>
                <a:lnTo>
                  <a:pt x="165" y="235"/>
                </a:lnTo>
                <a:lnTo>
                  <a:pt x="163" y="250"/>
                </a:lnTo>
                <a:lnTo>
                  <a:pt x="161" y="264"/>
                </a:lnTo>
                <a:lnTo>
                  <a:pt x="159" y="279"/>
                </a:lnTo>
                <a:lnTo>
                  <a:pt x="157" y="293"/>
                </a:lnTo>
                <a:lnTo>
                  <a:pt x="155" y="308"/>
                </a:lnTo>
                <a:lnTo>
                  <a:pt x="153" y="322"/>
                </a:lnTo>
                <a:lnTo>
                  <a:pt x="151" y="339"/>
                </a:lnTo>
                <a:lnTo>
                  <a:pt x="149" y="349"/>
                </a:lnTo>
                <a:lnTo>
                  <a:pt x="149" y="359"/>
                </a:lnTo>
                <a:lnTo>
                  <a:pt x="151" y="368"/>
                </a:lnTo>
                <a:lnTo>
                  <a:pt x="155" y="380"/>
                </a:lnTo>
                <a:lnTo>
                  <a:pt x="147" y="390"/>
                </a:lnTo>
                <a:lnTo>
                  <a:pt x="140" y="401"/>
                </a:lnTo>
                <a:lnTo>
                  <a:pt x="130" y="411"/>
                </a:lnTo>
                <a:lnTo>
                  <a:pt x="122" y="423"/>
                </a:lnTo>
                <a:lnTo>
                  <a:pt x="103" y="440"/>
                </a:lnTo>
                <a:lnTo>
                  <a:pt x="85" y="460"/>
                </a:lnTo>
                <a:lnTo>
                  <a:pt x="74" y="467"/>
                </a:lnTo>
                <a:lnTo>
                  <a:pt x="64" y="477"/>
                </a:lnTo>
                <a:lnTo>
                  <a:pt x="52" y="485"/>
                </a:lnTo>
                <a:lnTo>
                  <a:pt x="43" y="495"/>
                </a:lnTo>
                <a:lnTo>
                  <a:pt x="23" y="512"/>
                </a:lnTo>
                <a:lnTo>
                  <a:pt x="8" y="533"/>
                </a:lnTo>
                <a:lnTo>
                  <a:pt x="2" y="520"/>
                </a:lnTo>
                <a:lnTo>
                  <a:pt x="0" y="500"/>
                </a:lnTo>
                <a:lnTo>
                  <a:pt x="0" y="481"/>
                </a:lnTo>
                <a:lnTo>
                  <a:pt x="0" y="464"/>
                </a:lnTo>
                <a:lnTo>
                  <a:pt x="4" y="446"/>
                </a:lnTo>
                <a:lnTo>
                  <a:pt x="4" y="429"/>
                </a:lnTo>
                <a:lnTo>
                  <a:pt x="8" y="411"/>
                </a:lnTo>
                <a:lnTo>
                  <a:pt x="14" y="394"/>
                </a:lnTo>
                <a:lnTo>
                  <a:pt x="19" y="376"/>
                </a:lnTo>
                <a:lnTo>
                  <a:pt x="23" y="359"/>
                </a:lnTo>
                <a:lnTo>
                  <a:pt x="29" y="341"/>
                </a:lnTo>
                <a:lnTo>
                  <a:pt x="35" y="324"/>
                </a:lnTo>
                <a:lnTo>
                  <a:pt x="41" y="306"/>
                </a:lnTo>
                <a:lnTo>
                  <a:pt x="47" y="289"/>
                </a:lnTo>
                <a:lnTo>
                  <a:pt x="52" y="272"/>
                </a:lnTo>
                <a:lnTo>
                  <a:pt x="58" y="254"/>
                </a:lnTo>
                <a:lnTo>
                  <a:pt x="64" y="239"/>
                </a:lnTo>
                <a:lnTo>
                  <a:pt x="66" y="225"/>
                </a:lnTo>
                <a:lnTo>
                  <a:pt x="72" y="213"/>
                </a:lnTo>
                <a:lnTo>
                  <a:pt x="76" y="202"/>
                </a:lnTo>
                <a:lnTo>
                  <a:pt x="81" y="190"/>
                </a:lnTo>
                <a:lnTo>
                  <a:pt x="87" y="177"/>
                </a:lnTo>
                <a:lnTo>
                  <a:pt x="93" y="165"/>
                </a:lnTo>
                <a:lnTo>
                  <a:pt x="99" y="153"/>
                </a:lnTo>
                <a:lnTo>
                  <a:pt x="107" y="142"/>
                </a:lnTo>
                <a:lnTo>
                  <a:pt x="112" y="124"/>
                </a:lnTo>
                <a:lnTo>
                  <a:pt x="122" y="107"/>
                </a:lnTo>
                <a:lnTo>
                  <a:pt x="134" y="89"/>
                </a:lnTo>
                <a:lnTo>
                  <a:pt x="145" y="72"/>
                </a:lnTo>
                <a:lnTo>
                  <a:pt x="157" y="54"/>
                </a:lnTo>
                <a:lnTo>
                  <a:pt x="169" y="39"/>
                </a:lnTo>
                <a:lnTo>
                  <a:pt x="182" y="23"/>
                </a:lnTo>
                <a:lnTo>
                  <a:pt x="196" y="10"/>
                </a:lnTo>
                <a:lnTo>
                  <a:pt x="204" y="8"/>
                </a:lnTo>
                <a:lnTo>
                  <a:pt x="215" y="0"/>
                </a:lnTo>
                <a:lnTo>
                  <a:pt x="215" y="14"/>
                </a:lnTo>
                <a:lnTo>
                  <a:pt x="215" y="27"/>
                </a:lnTo>
                <a:lnTo>
                  <a:pt x="213" y="41"/>
                </a:lnTo>
                <a:lnTo>
                  <a:pt x="211" y="56"/>
                </a:lnTo>
                <a:lnTo>
                  <a:pt x="207" y="68"/>
                </a:lnTo>
                <a:lnTo>
                  <a:pt x="204" y="82"/>
                </a:lnTo>
                <a:lnTo>
                  <a:pt x="200" y="95"/>
                </a:lnTo>
                <a:lnTo>
                  <a:pt x="196" y="109"/>
                </a:lnTo>
                <a:close/>
              </a:path>
            </a:pathLst>
          </a:custGeom>
          <a:solidFill>
            <a:srgbClr val="7afff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68" name=""/>
          <p:cNvSpPr/>
          <p:nvPr/>
        </p:nvSpPr>
        <p:spPr>
          <a:xfrm>
            <a:off x="5464080" y="4081320"/>
            <a:ext cx="1468440" cy="1957680"/>
          </a:xfrm>
          <a:custGeom>
            <a:avLst/>
            <a:gdLst/>
            <a:ahLst/>
            <a:rect l="l" t="t" r="r" b="b"/>
            <a:pathLst>
              <a:path w="1850" h="2466">
                <a:moveTo>
                  <a:pt x="1383" y="21"/>
                </a:moveTo>
                <a:lnTo>
                  <a:pt x="1392" y="23"/>
                </a:lnTo>
                <a:lnTo>
                  <a:pt x="1404" y="27"/>
                </a:lnTo>
                <a:lnTo>
                  <a:pt x="1416" y="31"/>
                </a:lnTo>
                <a:lnTo>
                  <a:pt x="1427" y="37"/>
                </a:lnTo>
                <a:lnTo>
                  <a:pt x="1439" y="43"/>
                </a:lnTo>
                <a:lnTo>
                  <a:pt x="1450" y="48"/>
                </a:lnTo>
                <a:lnTo>
                  <a:pt x="1462" y="54"/>
                </a:lnTo>
                <a:lnTo>
                  <a:pt x="1474" y="60"/>
                </a:lnTo>
                <a:lnTo>
                  <a:pt x="1487" y="66"/>
                </a:lnTo>
                <a:lnTo>
                  <a:pt x="1503" y="76"/>
                </a:lnTo>
                <a:lnTo>
                  <a:pt x="1513" y="87"/>
                </a:lnTo>
                <a:lnTo>
                  <a:pt x="1518" y="105"/>
                </a:lnTo>
                <a:lnTo>
                  <a:pt x="1530" y="116"/>
                </a:lnTo>
                <a:lnTo>
                  <a:pt x="1538" y="134"/>
                </a:lnTo>
                <a:lnTo>
                  <a:pt x="1540" y="153"/>
                </a:lnTo>
                <a:lnTo>
                  <a:pt x="1542" y="171"/>
                </a:lnTo>
                <a:lnTo>
                  <a:pt x="1536" y="176"/>
                </a:lnTo>
                <a:lnTo>
                  <a:pt x="1551" y="182"/>
                </a:lnTo>
                <a:lnTo>
                  <a:pt x="1569" y="188"/>
                </a:lnTo>
                <a:lnTo>
                  <a:pt x="1584" y="194"/>
                </a:lnTo>
                <a:lnTo>
                  <a:pt x="1598" y="207"/>
                </a:lnTo>
                <a:lnTo>
                  <a:pt x="1613" y="227"/>
                </a:lnTo>
                <a:lnTo>
                  <a:pt x="1629" y="248"/>
                </a:lnTo>
                <a:lnTo>
                  <a:pt x="1635" y="258"/>
                </a:lnTo>
                <a:lnTo>
                  <a:pt x="1642" y="269"/>
                </a:lnTo>
                <a:lnTo>
                  <a:pt x="1648" y="281"/>
                </a:lnTo>
                <a:lnTo>
                  <a:pt x="1654" y="293"/>
                </a:lnTo>
                <a:lnTo>
                  <a:pt x="1660" y="310"/>
                </a:lnTo>
                <a:lnTo>
                  <a:pt x="1670" y="330"/>
                </a:lnTo>
                <a:lnTo>
                  <a:pt x="1673" y="339"/>
                </a:lnTo>
                <a:lnTo>
                  <a:pt x="1679" y="351"/>
                </a:lnTo>
                <a:lnTo>
                  <a:pt x="1683" y="361"/>
                </a:lnTo>
                <a:lnTo>
                  <a:pt x="1687" y="372"/>
                </a:lnTo>
                <a:lnTo>
                  <a:pt x="1689" y="382"/>
                </a:lnTo>
                <a:lnTo>
                  <a:pt x="1693" y="392"/>
                </a:lnTo>
                <a:lnTo>
                  <a:pt x="1695" y="403"/>
                </a:lnTo>
                <a:lnTo>
                  <a:pt x="1699" y="415"/>
                </a:lnTo>
                <a:lnTo>
                  <a:pt x="1701" y="425"/>
                </a:lnTo>
                <a:lnTo>
                  <a:pt x="1706" y="434"/>
                </a:lnTo>
                <a:lnTo>
                  <a:pt x="1708" y="446"/>
                </a:lnTo>
                <a:lnTo>
                  <a:pt x="1714" y="458"/>
                </a:lnTo>
                <a:lnTo>
                  <a:pt x="1716" y="467"/>
                </a:lnTo>
                <a:lnTo>
                  <a:pt x="1720" y="477"/>
                </a:lnTo>
                <a:lnTo>
                  <a:pt x="1724" y="489"/>
                </a:lnTo>
                <a:lnTo>
                  <a:pt x="1730" y="500"/>
                </a:lnTo>
                <a:lnTo>
                  <a:pt x="1732" y="510"/>
                </a:lnTo>
                <a:lnTo>
                  <a:pt x="1736" y="520"/>
                </a:lnTo>
                <a:lnTo>
                  <a:pt x="1739" y="531"/>
                </a:lnTo>
                <a:lnTo>
                  <a:pt x="1745" y="543"/>
                </a:lnTo>
                <a:lnTo>
                  <a:pt x="1747" y="553"/>
                </a:lnTo>
                <a:lnTo>
                  <a:pt x="1751" y="562"/>
                </a:lnTo>
                <a:lnTo>
                  <a:pt x="1755" y="574"/>
                </a:lnTo>
                <a:lnTo>
                  <a:pt x="1759" y="585"/>
                </a:lnTo>
                <a:lnTo>
                  <a:pt x="1761" y="595"/>
                </a:lnTo>
                <a:lnTo>
                  <a:pt x="1767" y="605"/>
                </a:lnTo>
                <a:lnTo>
                  <a:pt x="1769" y="617"/>
                </a:lnTo>
                <a:lnTo>
                  <a:pt x="1774" y="628"/>
                </a:lnTo>
                <a:lnTo>
                  <a:pt x="1776" y="638"/>
                </a:lnTo>
                <a:lnTo>
                  <a:pt x="1780" y="649"/>
                </a:lnTo>
                <a:lnTo>
                  <a:pt x="1782" y="659"/>
                </a:lnTo>
                <a:lnTo>
                  <a:pt x="1786" y="671"/>
                </a:lnTo>
                <a:lnTo>
                  <a:pt x="1788" y="682"/>
                </a:lnTo>
                <a:lnTo>
                  <a:pt x="1792" y="694"/>
                </a:lnTo>
                <a:lnTo>
                  <a:pt x="1796" y="706"/>
                </a:lnTo>
                <a:lnTo>
                  <a:pt x="1800" y="717"/>
                </a:lnTo>
                <a:lnTo>
                  <a:pt x="1801" y="727"/>
                </a:lnTo>
                <a:lnTo>
                  <a:pt x="1805" y="739"/>
                </a:lnTo>
                <a:lnTo>
                  <a:pt x="1807" y="750"/>
                </a:lnTo>
                <a:lnTo>
                  <a:pt x="1811" y="762"/>
                </a:lnTo>
                <a:lnTo>
                  <a:pt x="1811" y="774"/>
                </a:lnTo>
                <a:lnTo>
                  <a:pt x="1815" y="785"/>
                </a:lnTo>
                <a:lnTo>
                  <a:pt x="1815" y="797"/>
                </a:lnTo>
                <a:lnTo>
                  <a:pt x="1819" y="810"/>
                </a:lnTo>
                <a:lnTo>
                  <a:pt x="1819" y="822"/>
                </a:lnTo>
                <a:lnTo>
                  <a:pt x="1821" y="834"/>
                </a:lnTo>
                <a:lnTo>
                  <a:pt x="1823" y="845"/>
                </a:lnTo>
                <a:lnTo>
                  <a:pt x="1825" y="857"/>
                </a:lnTo>
                <a:lnTo>
                  <a:pt x="1825" y="869"/>
                </a:lnTo>
                <a:lnTo>
                  <a:pt x="1827" y="880"/>
                </a:lnTo>
                <a:lnTo>
                  <a:pt x="1829" y="892"/>
                </a:lnTo>
                <a:lnTo>
                  <a:pt x="1833" y="905"/>
                </a:lnTo>
                <a:lnTo>
                  <a:pt x="1834" y="923"/>
                </a:lnTo>
                <a:lnTo>
                  <a:pt x="1838" y="942"/>
                </a:lnTo>
                <a:lnTo>
                  <a:pt x="1840" y="962"/>
                </a:lnTo>
                <a:lnTo>
                  <a:pt x="1844" y="981"/>
                </a:lnTo>
                <a:lnTo>
                  <a:pt x="1846" y="1000"/>
                </a:lnTo>
                <a:lnTo>
                  <a:pt x="1848" y="1020"/>
                </a:lnTo>
                <a:lnTo>
                  <a:pt x="1848" y="1039"/>
                </a:lnTo>
                <a:lnTo>
                  <a:pt x="1850" y="1061"/>
                </a:lnTo>
                <a:lnTo>
                  <a:pt x="1850" y="1078"/>
                </a:lnTo>
                <a:lnTo>
                  <a:pt x="1850" y="1097"/>
                </a:lnTo>
                <a:lnTo>
                  <a:pt x="1850" y="1117"/>
                </a:lnTo>
                <a:lnTo>
                  <a:pt x="1850" y="1136"/>
                </a:lnTo>
                <a:lnTo>
                  <a:pt x="1848" y="1156"/>
                </a:lnTo>
                <a:lnTo>
                  <a:pt x="1848" y="1175"/>
                </a:lnTo>
                <a:lnTo>
                  <a:pt x="1846" y="1194"/>
                </a:lnTo>
                <a:lnTo>
                  <a:pt x="1846" y="1216"/>
                </a:lnTo>
                <a:lnTo>
                  <a:pt x="1842" y="1233"/>
                </a:lnTo>
                <a:lnTo>
                  <a:pt x="1840" y="1254"/>
                </a:lnTo>
                <a:lnTo>
                  <a:pt x="1838" y="1272"/>
                </a:lnTo>
                <a:lnTo>
                  <a:pt x="1836" y="1293"/>
                </a:lnTo>
                <a:lnTo>
                  <a:pt x="1833" y="1311"/>
                </a:lnTo>
                <a:lnTo>
                  <a:pt x="1833" y="1332"/>
                </a:lnTo>
                <a:lnTo>
                  <a:pt x="1829" y="1349"/>
                </a:lnTo>
                <a:lnTo>
                  <a:pt x="1829" y="1371"/>
                </a:lnTo>
                <a:lnTo>
                  <a:pt x="1825" y="1388"/>
                </a:lnTo>
                <a:lnTo>
                  <a:pt x="1823" y="1410"/>
                </a:lnTo>
                <a:lnTo>
                  <a:pt x="1819" y="1427"/>
                </a:lnTo>
                <a:lnTo>
                  <a:pt x="1817" y="1448"/>
                </a:lnTo>
                <a:lnTo>
                  <a:pt x="1813" y="1466"/>
                </a:lnTo>
                <a:lnTo>
                  <a:pt x="1813" y="1487"/>
                </a:lnTo>
                <a:lnTo>
                  <a:pt x="1809" y="1505"/>
                </a:lnTo>
                <a:lnTo>
                  <a:pt x="1809" y="1526"/>
                </a:lnTo>
                <a:lnTo>
                  <a:pt x="1803" y="1545"/>
                </a:lnTo>
                <a:lnTo>
                  <a:pt x="1798" y="1567"/>
                </a:lnTo>
                <a:lnTo>
                  <a:pt x="1794" y="1586"/>
                </a:lnTo>
                <a:lnTo>
                  <a:pt x="1790" y="1607"/>
                </a:lnTo>
                <a:lnTo>
                  <a:pt x="1784" y="1627"/>
                </a:lnTo>
                <a:lnTo>
                  <a:pt x="1780" y="1648"/>
                </a:lnTo>
                <a:lnTo>
                  <a:pt x="1776" y="1667"/>
                </a:lnTo>
                <a:lnTo>
                  <a:pt x="1772" y="1689"/>
                </a:lnTo>
                <a:lnTo>
                  <a:pt x="1767" y="1708"/>
                </a:lnTo>
                <a:lnTo>
                  <a:pt x="1763" y="1729"/>
                </a:lnTo>
                <a:lnTo>
                  <a:pt x="1759" y="1749"/>
                </a:lnTo>
                <a:lnTo>
                  <a:pt x="1755" y="1770"/>
                </a:lnTo>
                <a:lnTo>
                  <a:pt x="1749" y="1790"/>
                </a:lnTo>
                <a:lnTo>
                  <a:pt x="1745" y="1811"/>
                </a:lnTo>
                <a:lnTo>
                  <a:pt x="1741" y="1821"/>
                </a:lnTo>
                <a:lnTo>
                  <a:pt x="1739" y="1832"/>
                </a:lnTo>
                <a:lnTo>
                  <a:pt x="1737" y="1842"/>
                </a:lnTo>
                <a:lnTo>
                  <a:pt x="1736" y="1854"/>
                </a:lnTo>
                <a:lnTo>
                  <a:pt x="1728" y="1865"/>
                </a:lnTo>
                <a:lnTo>
                  <a:pt x="1722" y="1881"/>
                </a:lnTo>
                <a:lnTo>
                  <a:pt x="1718" y="1894"/>
                </a:lnTo>
                <a:lnTo>
                  <a:pt x="1714" y="1910"/>
                </a:lnTo>
                <a:lnTo>
                  <a:pt x="1708" y="1923"/>
                </a:lnTo>
                <a:lnTo>
                  <a:pt x="1706" y="1941"/>
                </a:lnTo>
                <a:lnTo>
                  <a:pt x="1703" y="1954"/>
                </a:lnTo>
                <a:lnTo>
                  <a:pt x="1701" y="1972"/>
                </a:lnTo>
                <a:lnTo>
                  <a:pt x="1697" y="1985"/>
                </a:lnTo>
                <a:lnTo>
                  <a:pt x="1693" y="2003"/>
                </a:lnTo>
                <a:lnTo>
                  <a:pt x="1689" y="2016"/>
                </a:lnTo>
                <a:lnTo>
                  <a:pt x="1687" y="2034"/>
                </a:lnTo>
                <a:lnTo>
                  <a:pt x="1681" y="2047"/>
                </a:lnTo>
                <a:lnTo>
                  <a:pt x="1677" y="2063"/>
                </a:lnTo>
                <a:lnTo>
                  <a:pt x="1672" y="2077"/>
                </a:lnTo>
                <a:lnTo>
                  <a:pt x="1668" y="2092"/>
                </a:lnTo>
                <a:lnTo>
                  <a:pt x="1662" y="2092"/>
                </a:lnTo>
                <a:lnTo>
                  <a:pt x="1658" y="2079"/>
                </a:lnTo>
                <a:lnTo>
                  <a:pt x="1658" y="2067"/>
                </a:lnTo>
                <a:lnTo>
                  <a:pt x="1656" y="2053"/>
                </a:lnTo>
                <a:lnTo>
                  <a:pt x="1654" y="2042"/>
                </a:lnTo>
                <a:lnTo>
                  <a:pt x="1650" y="2028"/>
                </a:lnTo>
                <a:lnTo>
                  <a:pt x="1646" y="2016"/>
                </a:lnTo>
                <a:lnTo>
                  <a:pt x="1641" y="2005"/>
                </a:lnTo>
                <a:lnTo>
                  <a:pt x="1635" y="1997"/>
                </a:lnTo>
                <a:lnTo>
                  <a:pt x="1627" y="1997"/>
                </a:lnTo>
                <a:lnTo>
                  <a:pt x="1623" y="2007"/>
                </a:lnTo>
                <a:lnTo>
                  <a:pt x="1621" y="2020"/>
                </a:lnTo>
                <a:lnTo>
                  <a:pt x="1621" y="2034"/>
                </a:lnTo>
                <a:lnTo>
                  <a:pt x="1621" y="2047"/>
                </a:lnTo>
                <a:lnTo>
                  <a:pt x="1621" y="2063"/>
                </a:lnTo>
                <a:lnTo>
                  <a:pt x="1619" y="2077"/>
                </a:lnTo>
                <a:lnTo>
                  <a:pt x="1619" y="2092"/>
                </a:lnTo>
                <a:lnTo>
                  <a:pt x="1619" y="2106"/>
                </a:lnTo>
                <a:lnTo>
                  <a:pt x="1619" y="2121"/>
                </a:lnTo>
                <a:lnTo>
                  <a:pt x="1617" y="2135"/>
                </a:lnTo>
                <a:lnTo>
                  <a:pt x="1615" y="2150"/>
                </a:lnTo>
                <a:lnTo>
                  <a:pt x="1613" y="2164"/>
                </a:lnTo>
                <a:lnTo>
                  <a:pt x="1613" y="2179"/>
                </a:lnTo>
                <a:lnTo>
                  <a:pt x="1609" y="2193"/>
                </a:lnTo>
                <a:lnTo>
                  <a:pt x="1609" y="2208"/>
                </a:lnTo>
                <a:lnTo>
                  <a:pt x="1606" y="2222"/>
                </a:lnTo>
                <a:lnTo>
                  <a:pt x="1606" y="2238"/>
                </a:lnTo>
                <a:lnTo>
                  <a:pt x="1602" y="2251"/>
                </a:lnTo>
                <a:lnTo>
                  <a:pt x="1600" y="2265"/>
                </a:lnTo>
                <a:lnTo>
                  <a:pt x="1596" y="2278"/>
                </a:lnTo>
                <a:lnTo>
                  <a:pt x="1594" y="2294"/>
                </a:lnTo>
                <a:lnTo>
                  <a:pt x="1590" y="2307"/>
                </a:lnTo>
                <a:lnTo>
                  <a:pt x="1588" y="2323"/>
                </a:lnTo>
                <a:lnTo>
                  <a:pt x="1584" y="2336"/>
                </a:lnTo>
                <a:lnTo>
                  <a:pt x="1582" y="2352"/>
                </a:lnTo>
                <a:lnTo>
                  <a:pt x="1577" y="2365"/>
                </a:lnTo>
                <a:lnTo>
                  <a:pt x="1575" y="2379"/>
                </a:lnTo>
                <a:lnTo>
                  <a:pt x="1569" y="2393"/>
                </a:lnTo>
                <a:lnTo>
                  <a:pt x="1567" y="2408"/>
                </a:lnTo>
                <a:lnTo>
                  <a:pt x="1563" y="2422"/>
                </a:lnTo>
                <a:lnTo>
                  <a:pt x="1559" y="2437"/>
                </a:lnTo>
                <a:lnTo>
                  <a:pt x="1555" y="2451"/>
                </a:lnTo>
                <a:lnTo>
                  <a:pt x="1553" y="2466"/>
                </a:lnTo>
                <a:lnTo>
                  <a:pt x="2" y="2466"/>
                </a:lnTo>
                <a:lnTo>
                  <a:pt x="6" y="2449"/>
                </a:lnTo>
                <a:lnTo>
                  <a:pt x="11" y="2433"/>
                </a:lnTo>
                <a:lnTo>
                  <a:pt x="15" y="2418"/>
                </a:lnTo>
                <a:lnTo>
                  <a:pt x="15" y="2400"/>
                </a:lnTo>
                <a:lnTo>
                  <a:pt x="10" y="2397"/>
                </a:lnTo>
                <a:lnTo>
                  <a:pt x="10" y="2377"/>
                </a:lnTo>
                <a:lnTo>
                  <a:pt x="10" y="2360"/>
                </a:lnTo>
                <a:lnTo>
                  <a:pt x="10" y="2342"/>
                </a:lnTo>
                <a:lnTo>
                  <a:pt x="11" y="2327"/>
                </a:lnTo>
                <a:lnTo>
                  <a:pt x="11" y="2309"/>
                </a:lnTo>
                <a:lnTo>
                  <a:pt x="15" y="2294"/>
                </a:lnTo>
                <a:lnTo>
                  <a:pt x="17" y="2276"/>
                </a:lnTo>
                <a:lnTo>
                  <a:pt x="21" y="2259"/>
                </a:lnTo>
                <a:lnTo>
                  <a:pt x="39" y="2272"/>
                </a:lnTo>
                <a:lnTo>
                  <a:pt x="58" y="2292"/>
                </a:lnTo>
                <a:lnTo>
                  <a:pt x="66" y="2300"/>
                </a:lnTo>
                <a:lnTo>
                  <a:pt x="75" y="2309"/>
                </a:lnTo>
                <a:lnTo>
                  <a:pt x="87" y="2317"/>
                </a:lnTo>
                <a:lnTo>
                  <a:pt x="99" y="2325"/>
                </a:lnTo>
                <a:lnTo>
                  <a:pt x="105" y="2315"/>
                </a:lnTo>
                <a:lnTo>
                  <a:pt x="105" y="2307"/>
                </a:lnTo>
                <a:lnTo>
                  <a:pt x="99" y="2298"/>
                </a:lnTo>
                <a:lnTo>
                  <a:pt x="95" y="2290"/>
                </a:lnTo>
                <a:lnTo>
                  <a:pt x="83" y="2269"/>
                </a:lnTo>
                <a:lnTo>
                  <a:pt x="72" y="2249"/>
                </a:lnTo>
                <a:lnTo>
                  <a:pt x="62" y="2228"/>
                </a:lnTo>
                <a:lnTo>
                  <a:pt x="54" y="2210"/>
                </a:lnTo>
                <a:lnTo>
                  <a:pt x="42" y="2189"/>
                </a:lnTo>
                <a:lnTo>
                  <a:pt x="35" y="2170"/>
                </a:lnTo>
                <a:lnTo>
                  <a:pt x="23" y="2148"/>
                </a:lnTo>
                <a:lnTo>
                  <a:pt x="15" y="2131"/>
                </a:lnTo>
                <a:lnTo>
                  <a:pt x="11" y="2119"/>
                </a:lnTo>
                <a:lnTo>
                  <a:pt x="10" y="2108"/>
                </a:lnTo>
                <a:lnTo>
                  <a:pt x="6" y="2096"/>
                </a:lnTo>
                <a:lnTo>
                  <a:pt x="6" y="2084"/>
                </a:lnTo>
                <a:lnTo>
                  <a:pt x="2" y="2073"/>
                </a:lnTo>
                <a:lnTo>
                  <a:pt x="2" y="2061"/>
                </a:lnTo>
                <a:lnTo>
                  <a:pt x="2" y="2049"/>
                </a:lnTo>
                <a:lnTo>
                  <a:pt x="2" y="2040"/>
                </a:lnTo>
                <a:lnTo>
                  <a:pt x="0" y="2028"/>
                </a:lnTo>
                <a:lnTo>
                  <a:pt x="0" y="2016"/>
                </a:lnTo>
                <a:lnTo>
                  <a:pt x="2" y="2005"/>
                </a:lnTo>
                <a:lnTo>
                  <a:pt x="4" y="1995"/>
                </a:lnTo>
                <a:lnTo>
                  <a:pt x="10" y="1974"/>
                </a:lnTo>
                <a:lnTo>
                  <a:pt x="23" y="1954"/>
                </a:lnTo>
                <a:lnTo>
                  <a:pt x="27" y="1943"/>
                </a:lnTo>
                <a:lnTo>
                  <a:pt x="31" y="1931"/>
                </a:lnTo>
                <a:lnTo>
                  <a:pt x="33" y="1920"/>
                </a:lnTo>
                <a:lnTo>
                  <a:pt x="35" y="1908"/>
                </a:lnTo>
                <a:lnTo>
                  <a:pt x="35" y="1894"/>
                </a:lnTo>
                <a:lnTo>
                  <a:pt x="39" y="1883"/>
                </a:lnTo>
                <a:lnTo>
                  <a:pt x="42" y="1871"/>
                </a:lnTo>
                <a:lnTo>
                  <a:pt x="50" y="1861"/>
                </a:lnTo>
                <a:lnTo>
                  <a:pt x="58" y="1859"/>
                </a:lnTo>
                <a:lnTo>
                  <a:pt x="66" y="1865"/>
                </a:lnTo>
                <a:lnTo>
                  <a:pt x="70" y="1875"/>
                </a:lnTo>
                <a:lnTo>
                  <a:pt x="75" y="1885"/>
                </a:lnTo>
                <a:lnTo>
                  <a:pt x="83" y="1904"/>
                </a:lnTo>
                <a:lnTo>
                  <a:pt x="91" y="1925"/>
                </a:lnTo>
                <a:lnTo>
                  <a:pt x="93" y="1935"/>
                </a:lnTo>
                <a:lnTo>
                  <a:pt x="99" y="1947"/>
                </a:lnTo>
                <a:lnTo>
                  <a:pt x="101" y="1956"/>
                </a:lnTo>
                <a:lnTo>
                  <a:pt x="106" y="1968"/>
                </a:lnTo>
                <a:lnTo>
                  <a:pt x="112" y="1987"/>
                </a:lnTo>
                <a:lnTo>
                  <a:pt x="120" y="2009"/>
                </a:lnTo>
                <a:lnTo>
                  <a:pt x="124" y="2018"/>
                </a:lnTo>
                <a:lnTo>
                  <a:pt x="128" y="2030"/>
                </a:lnTo>
                <a:lnTo>
                  <a:pt x="134" y="2040"/>
                </a:lnTo>
                <a:lnTo>
                  <a:pt x="139" y="2051"/>
                </a:lnTo>
                <a:lnTo>
                  <a:pt x="145" y="2065"/>
                </a:lnTo>
                <a:lnTo>
                  <a:pt x="153" y="2079"/>
                </a:lnTo>
                <a:lnTo>
                  <a:pt x="159" y="2092"/>
                </a:lnTo>
                <a:lnTo>
                  <a:pt x="169" y="2106"/>
                </a:lnTo>
                <a:lnTo>
                  <a:pt x="174" y="2117"/>
                </a:lnTo>
                <a:lnTo>
                  <a:pt x="186" y="2131"/>
                </a:lnTo>
                <a:lnTo>
                  <a:pt x="196" y="2142"/>
                </a:lnTo>
                <a:lnTo>
                  <a:pt x="209" y="2154"/>
                </a:lnTo>
                <a:lnTo>
                  <a:pt x="217" y="2148"/>
                </a:lnTo>
                <a:lnTo>
                  <a:pt x="219" y="2141"/>
                </a:lnTo>
                <a:lnTo>
                  <a:pt x="217" y="2131"/>
                </a:lnTo>
                <a:lnTo>
                  <a:pt x="219" y="2125"/>
                </a:lnTo>
                <a:lnTo>
                  <a:pt x="211" y="2113"/>
                </a:lnTo>
                <a:lnTo>
                  <a:pt x="203" y="2102"/>
                </a:lnTo>
                <a:lnTo>
                  <a:pt x="196" y="2090"/>
                </a:lnTo>
                <a:lnTo>
                  <a:pt x="190" y="2079"/>
                </a:lnTo>
                <a:lnTo>
                  <a:pt x="184" y="2067"/>
                </a:lnTo>
                <a:lnTo>
                  <a:pt x="178" y="2055"/>
                </a:lnTo>
                <a:lnTo>
                  <a:pt x="172" y="2044"/>
                </a:lnTo>
                <a:lnTo>
                  <a:pt x="167" y="2032"/>
                </a:lnTo>
                <a:lnTo>
                  <a:pt x="161" y="2018"/>
                </a:lnTo>
                <a:lnTo>
                  <a:pt x="155" y="2007"/>
                </a:lnTo>
                <a:lnTo>
                  <a:pt x="151" y="1995"/>
                </a:lnTo>
                <a:lnTo>
                  <a:pt x="147" y="1983"/>
                </a:lnTo>
                <a:lnTo>
                  <a:pt x="141" y="1972"/>
                </a:lnTo>
                <a:lnTo>
                  <a:pt x="139" y="1960"/>
                </a:lnTo>
                <a:lnTo>
                  <a:pt x="136" y="1949"/>
                </a:lnTo>
                <a:lnTo>
                  <a:pt x="136" y="1937"/>
                </a:lnTo>
                <a:lnTo>
                  <a:pt x="130" y="1925"/>
                </a:lnTo>
                <a:lnTo>
                  <a:pt x="128" y="1916"/>
                </a:lnTo>
                <a:lnTo>
                  <a:pt x="124" y="1904"/>
                </a:lnTo>
                <a:lnTo>
                  <a:pt x="122" y="1894"/>
                </a:lnTo>
                <a:lnTo>
                  <a:pt x="116" y="1873"/>
                </a:lnTo>
                <a:lnTo>
                  <a:pt x="112" y="1854"/>
                </a:lnTo>
                <a:lnTo>
                  <a:pt x="108" y="1842"/>
                </a:lnTo>
                <a:lnTo>
                  <a:pt x="106" y="1832"/>
                </a:lnTo>
                <a:lnTo>
                  <a:pt x="105" y="1821"/>
                </a:lnTo>
                <a:lnTo>
                  <a:pt x="105" y="1811"/>
                </a:lnTo>
                <a:lnTo>
                  <a:pt x="101" y="1790"/>
                </a:lnTo>
                <a:lnTo>
                  <a:pt x="101" y="1770"/>
                </a:lnTo>
                <a:lnTo>
                  <a:pt x="99" y="1759"/>
                </a:lnTo>
                <a:lnTo>
                  <a:pt x="99" y="1747"/>
                </a:lnTo>
                <a:lnTo>
                  <a:pt x="97" y="1735"/>
                </a:lnTo>
                <a:lnTo>
                  <a:pt x="97" y="1726"/>
                </a:lnTo>
                <a:lnTo>
                  <a:pt x="95" y="1704"/>
                </a:lnTo>
                <a:lnTo>
                  <a:pt x="95" y="1685"/>
                </a:lnTo>
                <a:lnTo>
                  <a:pt x="95" y="1673"/>
                </a:lnTo>
                <a:lnTo>
                  <a:pt x="95" y="1662"/>
                </a:lnTo>
                <a:lnTo>
                  <a:pt x="95" y="1650"/>
                </a:lnTo>
                <a:lnTo>
                  <a:pt x="95" y="1640"/>
                </a:lnTo>
                <a:lnTo>
                  <a:pt x="95" y="1619"/>
                </a:lnTo>
                <a:lnTo>
                  <a:pt x="97" y="1600"/>
                </a:lnTo>
                <a:lnTo>
                  <a:pt x="97" y="1588"/>
                </a:lnTo>
                <a:lnTo>
                  <a:pt x="97" y="1576"/>
                </a:lnTo>
                <a:lnTo>
                  <a:pt x="97" y="1567"/>
                </a:lnTo>
                <a:lnTo>
                  <a:pt x="97" y="1557"/>
                </a:lnTo>
                <a:lnTo>
                  <a:pt x="97" y="1545"/>
                </a:lnTo>
                <a:lnTo>
                  <a:pt x="99" y="1534"/>
                </a:lnTo>
                <a:lnTo>
                  <a:pt x="99" y="1524"/>
                </a:lnTo>
                <a:lnTo>
                  <a:pt x="101" y="1514"/>
                </a:lnTo>
                <a:lnTo>
                  <a:pt x="101" y="1503"/>
                </a:lnTo>
                <a:lnTo>
                  <a:pt x="101" y="1493"/>
                </a:lnTo>
                <a:lnTo>
                  <a:pt x="101" y="1481"/>
                </a:lnTo>
                <a:lnTo>
                  <a:pt x="101" y="1472"/>
                </a:lnTo>
                <a:lnTo>
                  <a:pt x="103" y="1450"/>
                </a:lnTo>
                <a:lnTo>
                  <a:pt x="105" y="1431"/>
                </a:lnTo>
                <a:lnTo>
                  <a:pt x="105" y="1410"/>
                </a:lnTo>
                <a:lnTo>
                  <a:pt x="106" y="1390"/>
                </a:lnTo>
                <a:lnTo>
                  <a:pt x="106" y="1369"/>
                </a:lnTo>
                <a:lnTo>
                  <a:pt x="108" y="1349"/>
                </a:lnTo>
                <a:lnTo>
                  <a:pt x="108" y="1330"/>
                </a:lnTo>
                <a:lnTo>
                  <a:pt x="110" y="1311"/>
                </a:lnTo>
                <a:lnTo>
                  <a:pt x="112" y="1293"/>
                </a:lnTo>
                <a:lnTo>
                  <a:pt x="114" y="1276"/>
                </a:lnTo>
                <a:lnTo>
                  <a:pt x="116" y="1254"/>
                </a:lnTo>
                <a:lnTo>
                  <a:pt x="118" y="1235"/>
                </a:lnTo>
                <a:lnTo>
                  <a:pt x="118" y="1216"/>
                </a:lnTo>
                <a:lnTo>
                  <a:pt x="120" y="1196"/>
                </a:lnTo>
                <a:lnTo>
                  <a:pt x="120" y="1177"/>
                </a:lnTo>
                <a:lnTo>
                  <a:pt x="122" y="1157"/>
                </a:lnTo>
                <a:lnTo>
                  <a:pt x="124" y="1138"/>
                </a:lnTo>
                <a:lnTo>
                  <a:pt x="130" y="1121"/>
                </a:lnTo>
                <a:lnTo>
                  <a:pt x="130" y="1101"/>
                </a:lnTo>
                <a:lnTo>
                  <a:pt x="130" y="1082"/>
                </a:lnTo>
                <a:lnTo>
                  <a:pt x="132" y="1062"/>
                </a:lnTo>
                <a:lnTo>
                  <a:pt x="136" y="1045"/>
                </a:lnTo>
                <a:lnTo>
                  <a:pt x="138" y="1026"/>
                </a:lnTo>
                <a:lnTo>
                  <a:pt x="141" y="1006"/>
                </a:lnTo>
                <a:lnTo>
                  <a:pt x="143" y="989"/>
                </a:lnTo>
                <a:lnTo>
                  <a:pt x="149" y="971"/>
                </a:lnTo>
                <a:lnTo>
                  <a:pt x="151" y="952"/>
                </a:lnTo>
                <a:lnTo>
                  <a:pt x="155" y="933"/>
                </a:lnTo>
                <a:lnTo>
                  <a:pt x="159" y="915"/>
                </a:lnTo>
                <a:lnTo>
                  <a:pt x="165" y="898"/>
                </a:lnTo>
                <a:lnTo>
                  <a:pt x="169" y="880"/>
                </a:lnTo>
                <a:lnTo>
                  <a:pt x="172" y="863"/>
                </a:lnTo>
                <a:lnTo>
                  <a:pt x="176" y="845"/>
                </a:lnTo>
                <a:lnTo>
                  <a:pt x="182" y="828"/>
                </a:lnTo>
                <a:lnTo>
                  <a:pt x="186" y="812"/>
                </a:lnTo>
                <a:lnTo>
                  <a:pt x="190" y="799"/>
                </a:lnTo>
                <a:lnTo>
                  <a:pt x="194" y="785"/>
                </a:lnTo>
                <a:lnTo>
                  <a:pt x="198" y="772"/>
                </a:lnTo>
                <a:lnTo>
                  <a:pt x="200" y="756"/>
                </a:lnTo>
                <a:lnTo>
                  <a:pt x="203" y="744"/>
                </a:lnTo>
                <a:lnTo>
                  <a:pt x="205" y="729"/>
                </a:lnTo>
                <a:lnTo>
                  <a:pt x="209" y="717"/>
                </a:lnTo>
                <a:lnTo>
                  <a:pt x="213" y="706"/>
                </a:lnTo>
                <a:lnTo>
                  <a:pt x="219" y="694"/>
                </a:lnTo>
                <a:lnTo>
                  <a:pt x="223" y="682"/>
                </a:lnTo>
                <a:lnTo>
                  <a:pt x="227" y="671"/>
                </a:lnTo>
                <a:lnTo>
                  <a:pt x="229" y="659"/>
                </a:lnTo>
                <a:lnTo>
                  <a:pt x="233" y="648"/>
                </a:lnTo>
                <a:lnTo>
                  <a:pt x="236" y="636"/>
                </a:lnTo>
                <a:lnTo>
                  <a:pt x="240" y="624"/>
                </a:lnTo>
                <a:lnTo>
                  <a:pt x="242" y="613"/>
                </a:lnTo>
                <a:lnTo>
                  <a:pt x="246" y="601"/>
                </a:lnTo>
                <a:lnTo>
                  <a:pt x="248" y="589"/>
                </a:lnTo>
                <a:lnTo>
                  <a:pt x="252" y="578"/>
                </a:lnTo>
                <a:lnTo>
                  <a:pt x="254" y="566"/>
                </a:lnTo>
                <a:lnTo>
                  <a:pt x="258" y="554"/>
                </a:lnTo>
                <a:lnTo>
                  <a:pt x="262" y="543"/>
                </a:lnTo>
                <a:lnTo>
                  <a:pt x="267" y="533"/>
                </a:lnTo>
                <a:lnTo>
                  <a:pt x="267" y="545"/>
                </a:lnTo>
                <a:lnTo>
                  <a:pt x="269" y="556"/>
                </a:lnTo>
                <a:lnTo>
                  <a:pt x="267" y="570"/>
                </a:lnTo>
                <a:lnTo>
                  <a:pt x="267" y="584"/>
                </a:lnTo>
                <a:lnTo>
                  <a:pt x="266" y="595"/>
                </a:lnTo>
                <a:lnTo>
                  <a:pt x="267" y="609"/>
                </a:lnTo>
                <a:lnTo>
                  <a:pt x="267" y="620"/>
                </a:lnTo>
                <a:lnTo>
                  <a:pt x="273" y="634"/>
                </a:lnTo>
                <a:lnTo>
                  <a:pt x="277" y="622"/>
                </a:lnTo>
                <a:lnTo>
                  <a:pt x="283" y="611"/>
                </a:lnTo>
                <a:lnTo>
                  <a:pt x="285" y="599"/>
                </a:lnTo>
                <a:lnTo>
                  <a:pt x="289" y="589"/>
                </a:lnTo>
                <a:lnTo>
                  <a:pt x="289" y="578"/>
                </a:lnTo>
                <a:lnTo>
                  <a:pt x="291" y="566"/>
                </a:lnTo>
                <a:lnTo>
                  <a:pt x="291" y="554"/>
                </a:lnTo>
                <a:lnTo>
                  <a:pt x="293" y="545"/>
                </a:lnTo>
                <a:lnTo>
                  <a:pt x="293" y="533"/>
                </a:lnTo>
                <a:lnTo>
                  <a:pt x="293" y="521"/>
                </a:lnTo>
                <a:lnTo>
                  <a:pt x="295" y="510"/>
                </a:lnTo>
                <a:lnTo>
                  <a:pt x="297" y="498"/>
                </a:lnTo>
                <a:lnTo>
                  <a:pt x="297" y="487"/>
                </a:lnTo>
                <a:lnTo>
                  <a:pt x="298" y="477"/>
                </a:lnTo>
                <a:lnTo>
                  <a:pt x="300" y="465"/>
                </a:lnTo>
                <a:lnTo>
                  <a:pt x="304" y="456"/>
                </a:lnTo>
                <a:lnTo>
                  <a:pt x="306" y="444"/>
                </a:lnTo>
                <a:lnTo>
                  <a:pt x="310" y="432"/>
                </a:lnTo>
                <a:lnTo>
                  <a:pt x="312" y="423"/>
                </a:lnTo>
                <a:lnTo>
                  <a:pt x="316" y="413"/>
                </a:lnTo>
                <a:lnTo>
                  <a:pt x="322" y="392"/>
                </a:lnTo>
                <a:lnTo>
                  <a:pt x="330" y="372"/>
                </a:lnTo>
                <a:lnTo>
                  <a:pt x="335" y="351"/>
                </a:lnTo>
                <a:lnTo>
                  <a:pt x="343" y="331"/>
                </a:lnTo>
                <a:lnTo>
                  <a:pt x="351" y="310"/>
                </a:lnTo>
                <a:lnTo>
                  <a:pt x="362" y="293"/>
                </a:lnTo>
                <a:lnTo>
                  <a:pt x="372" y="273"/>
                </a:lnTo>
                <a:lnTo>
                  <a:pt x="384" y="254"/>
                </a:lnTo>
                <a:lnTo>
                  <a:pt x="397" y="236"/>
                </a:lnTo>
                <a:lnTo>
                  <a:pt x="413" y="221"/>
                </a:lnTo>
                <a:lnTo>
                  <a:pt x="421" y="219"/>
                </a:lnTo>
                <a:lnTo>
                  <a:pt x="415" y="231"/>
                </a:lnTo>
                <a:lnTo>
                  <a:pt x="411" y="242"/>
                </a:lnTo>
                <a:lnTo>
                  <a:pt x="407" y="256"/>
                </a:lnTo>
                <a:lnTo>
                  <a:pt x="403" y="269"/>
                </a:lnTo>
                <a:lnTo>
                  <a:pt x="397" y="281"/>
                </a:lnTo>
                <a:lnTo>
                  <a:pt x="395" y="297"/>
                </a:lnTo>
                <a:lnTo>
                  <a:pt x="390" y="308"/>
                </a:lnTo>
                <a:lnTo>
                  <a:pt x="388" y="324"/>
                </a:lnTo>
                <a:lnTo>
                  <a:pt x="382" y="335"/>
                </a:lnTo>
                <a:lnTo>
                  <a:pt x="380" y="349"/>
                </a:lnTo>
                <a:lnTo>
                  <a:pt x="376" y="362"/>
                </a:lnTo>
                <a:lnTo>
                  <a:pt x="374" y="376"/>
                </a:lnTo>
                <a:lnTo>
                  <a:pt x="370" y="390"/>
                </a:lnTo>
                <a:lnTo>
                  <a:pt x="368" y="403"/>
                </a:lnTo>
                <a:lnTo>
                  <a:pt x="364" y="417"/>
                </a:lnTo>
                <a:lnTo>
                  <a:pt x="362" y="430"/>
                </a:lnTo>
                <a:lnTo>
                  <a:pt x="357" y="442"/>
                </a:lnTo>
                <a:lnTo>
                  <a:pt x="353" y="458"/>
                </a:lnTo>
                <a:lnTo>
                  <a:pt x="349" y="469"/>
                </a:lnTo>
                <a:lnTo>
                  <a:pt x="347" y="485"/>
                </a:lnTo>
                <a:lnTo>
                  <a:pt x="343" y="498"/>
                </a:lnTo>
                <a:lnTo>
                  <a:pt x="341" y="514"/>
                </a:lnTo>
                <a:lnTo>
                  <a:pt x="339" y="527"/>
                </a:lnTo>
                <a:lnTo>
                  <a:pt x="339" y="543"/>
                </a:lnTo>
                <a:lnTo>
                  <a:pt x="337" y="556"/>
                </a:lnTo>
                <a:lnTo>
                  <a:pt x="335" y="572"/>
                </a:lnTo>
                <a:lnTo>
                  <a:pt x="333" y="585"/>
                </a:lnTo>
                <a:lnTo>
                  <a:pt x="333" y="601"/>
                </a:lnTo>
                <a:lnTo>
                  <a:pt x="333" y="615"/>
                </a:lnTo>
                <a:lnTo>
                  <a:pt x="333" y="632"/>
                </a:lnTo>
                <a:lnTo>
                  <a:pt x="333" y="646"/>
                </a:lnTo>
                <a:lnTo>
                  <a:pt x="335" y="663"/>
                </a:lnTo>
                <a:lnTo>
                  <a:pt x="351" y="649"/>
                </a:lnTo>
                <a:lnTo>
                  <a:pt x="364" y="634"/>
                </a:lnTo>
                <a:lnTo>
                  <a:pt x="376" y="615"/>
                </a:lnTo>
                <a:lnTo>
                  <a:pt x="388" y="597"/>
                </a:lnTo>
                <a:lnTo>
                  <a:pt x="397" y="578"/>
                </a:lnTo>
                <a:lnTo>
                  <a:pt x="411" y="558"/>
                </a:lnTo>
                <a:lnTo>
                  <a:pt x="423" y="541"/>
                </a:lnTo>
                <a:lnTo>
                  <a:pt x="440" y="527"/>
                </a:lnTo>
                <a:lnTo>
                  <a:pt x="450" y="533"/>
                </a:lnTo>
                <a:lnTo>
                  <a:pt x="459" y="545"/>
                </a:lnTo>
                <a:lnTo>
                  <a:pt x="469" y="556"/>
                </a:lnTo>
                <a:lnTo>
                  <a:pt x="479" y="568"/>
                </a:lnTo>
                <a:lnTo>
                  <a:pt x="485" y="580"/>
                </a:lnTo>
                <a:lnTo>
                  <a:pt x="490" y="591"/>
                </a:lnTo>
                <a:lnTo>
                  <a:pt x="492" y="603"/>
                </a:lnTo>
                <a:lnTo>
                  <a:pt x="492" y="617"/>
                </a:lnTo>
                <a:lnTo>
                  <a:pt x="485" y="632"/>
                </a:lnTo>
                <a:lnTo>
                  <a:pt x="477" y="649"/>
                </a:lnTo>
                <a:lnTo>
                  <a:pt x="469" y="665"/>
                </a:lnTo>
                <a:lnTo>
                  <a:pt x="461" y="680"/>
                </a:lnTo>
                <a:lnTo>
                  <a:pt x="450" y="696"/>
                </a:lnTo>
                <a:lnTo>
                  <a:pt x="442" y="712"/>
                </a:lnTo>
                <a:lnTo>
                  <a:pt x="432" y="727"/>
                </a:lnTo>
                <a:lnTo>
                  <a:pt x="426" y="744"/>
                </a:lnTo>
                <a:lnTo>
                  <a:pt x="415" y="758"/>
                </a:lnTo>
                <a:lnTo>
                  <a:pt x="405" y="774"/>
                </a:lnTo>
                <a:lnTo>
                  <a:pt x="395" y="789"/>
                </a:lnTo>
                <a:lnTo>
                  <a:pt x="386" y="805"/>
                </a:lnTo>
                <a:lnTo>
                  <a:pt x="374" y="820"/>
                </a:lnTo>
                <a:lnTo>
                  <a:pt x="364" y="836"/>
                </a:lnTo>
                <a:lnTo>
                  <a:pt x="357" y="853"/>
                </a:lnTo>
                <a:lnTo>
                  <a:pt x="351" y="871"/>
                </a:lnTo>
                <a:lnTo>
                  <a:pt x="361" y="871"/>
                </a:lnTo>
                <a:lnTo>
                  <a:pt x="370" y="855"/>
                </a:lnTo>
                <a:lnTo>
                  <a:pt x="380" y="841"/>
                </a:lnTo>
                <a:lnTo>
                  <a:pt x="392" y="828"/>
                </a:lnTo>
                <a:lnTo>
                  <a:pt x="403" y="814"/>
                </a:lnTo>
                <a:lnTo>
                  <a:pt x="413" y="799"/>
                </a:lnTo>
                <a:lnTo>
                  <a:pt x="423" y="785"/>
                </a:lnTo>
                <a:lnTo>
                  <a:pt x="434" y="772"/>
                </a:lnTo>
                <a:lnTo>
                  <a:pt x="446" y="760"/>
                </a:lnTo>
                <a:lnTo>
                  <a:pt x="456" y="744"/>
                </a:lnTo>
                <a:lnTo>
                  <a:pt x="467" y="733"/>
                </a:lnTo>
                <a:lnTo>
                  <a:pt x="479" y="721"/>
                </a:lnTo>
                <a:lnTo>
                  <a:pt x="492" y="710"/>
                </a:lnTo>
                <a:lnTo>
                  <a:pt x="504" y="698"/>
                </a:lnTo>
                <a:lnTo>
                  <a:pt x="518" y="690"/>
                </a:lnTo>
                <a:lnTo>
                  <a:pt x="531" y="684"/>
                </a:lnTo>
                <a:lnTo>
                  <a:pt x="547" y="679"/>
                </a:lnTo>
                <a:lnTo>
                  <a:pt x="558" y="692"/>
                </a:lnTo>
                <a:lnTo>
                  <a:pt x="568" y="712"/>
                </a:lnTo>
                <a:lnTo>
                  <a:pt x="574" y="729"/>
                </a:lnTo>
                <a:lnTo>
                  <a:pt x="580" y="750"/>
                </a:lnTo>
                <a:lnTo>
                  <a:pt x="593" y="754"/>
                </a:lnTo>
                <a:lnTo>
                  <a:pt x="601" y="768"/>
                </a:lnTo>
                <a:lnTo>
                  <a:pt x="609" y="783"/>
                </a:lnTo>
                <a:lnTo>
                  <a:pt x="620" y="797"/>
                </a:lnTo>
                <a:lnTo>
                  <a:pt x="630" y="785"/>
                </a:lnTo>
                <a:lnTo>
                  <a:pt x="638" y="774"/>
                </a:lnTo>
                <a:lnTo>
                  <a:pt x="642" y="762"/>
                </a:lnTo>
                <a:lnTo>
                  <a:pt x="646" y="750"/>
                </a:lnTo>
                <a:lnTo>
                  <a:pt x="648" y="735"/>
                </a:lnTo>
                <a:lnTo>
                  <a:pt x="649" y="721"/>
                </a:lnTo>
                <a:lnTo>
                  <a:pt x="653" y="708"/>
                </a:lnTo>
                <a:lnTo>
                  <a:pt x="659" y="694"/>
                </a:lnTo>
                <a:lnTo>
                  <a:pt x="665" y="675"/>
                </a:lnTo>
                <a:lnTo>
                  <a:pt x="673" y="657"/>
                </a:lnTo>
                <a:lnTo>
                  <a:pt x="681" y="638"/>
                </a:lnTo>
                <a:lnTo>
                  <a:pt x="688" y="620"/>
                </a:lnTo>
                <a:lnTo>
                  <a:pt x="696" y="603"/>
                </a:lnTo>
                <a:lnTo>
                  <a:pt x="706" y="585"/>
                </a:lnTo>
                <a:lnTo>
                  <a:pt x="713" y="568"/>
                </a:lnTo>
                <a:lnTo>
                  <a:pt x="725" y="551"/>
                </a:lnTo>
                <a:lnTo>
                  <a:pt x="735" y="533"/>
                </a:lnTo>
                <a:lnTo>
                  <a:pt x="745" y="516"/>
                </a:lnTo>
                <a:lnTo>
                  <a:pt x="756" y="500"/>
                </a:lnTo>
                <a:lnTo>
                  <a:pt x="768" y="485"/>
                </a:lnTo>
                <a:lnTo>
                  <a:pt x="779" y="469"/>
                </a:lnTo>
                <a:lnTo>
                  <a:pt x="793" y="456"/>
                </a:lnTo>
                <a:lnTo>
                  <a:pt x="807" y="440"/>
                </a:lnTo>
                <a:lnTo>
                  <a:pt x="824" y="428"/>
                </a:lnTo>
                <a:lnTo>
                  <a:pt x="836" y="417"/>
                </a:lnTo>
                <a:lnTo>
                  <a:pt x="847" y="405"/>
                </a:lnTo>
                <a:lnTo>
                  <a:pt x="859" y="394"/>
                </a:lnTo>
                <a:lnTo>
                  <a:pt x="873" y="382"/>
                </a:lnTo>
                <a:lnTo>
                  <a:pt x="884" y="370"/>
                </a:lnTo>
                <a:lnTo>
                  <a:pt x="898" y="359"/>
                </a:lnTo>
                <a:lnTo>
                  <a:pt x="909" y="347"/>
                </a:lnTo>
                <a:lnTo>
                  <a:pt x="923" y="335"/>
                </a:lnTo>
                <a:lnTo>
                  <a:pt x="935" y="324"/>
                </a:lnTo>
                <a:lnTo>
                  <a:pt x="946" y="312"/>
                </a:lnTo>
                <a:lnTo>
                  <a:pt x="958" y="300"/>
                </a:lnTo>
                <a:lnTo>
                  <a:pt x="971" y="289"/>
                </a:lnTo>
                <a:lnTo>
                  <a:pt x="983" y="277"/>
                </a:lnTo>
                <a:lnTo>
                  <a:pt x="999" y="267"/>
                </a:lnTo>
                <a:lnTo>
                  <a:pt x="1012" y="258"/>
                </a:lnTo>
                <a:lnTo>
                  <a:pt x="1028" y="250"/>
                </a:lnTo>
                <a:lnTo>
                  <a:pt x="1033" y="238"/>
                </a:lnTo>
                <a:lnTo>
                  <a:pt x="1035" y="227"/>
                </a:lnTo>
                <a:lnTo>
                  <a:pt x="1014" y="236"/>
                </a:lnTo>
                <a:lnTo>
                  <a:pt x="997" y="248"/>
                </a:lnTo>
                <a:lnTo>
                  <a:pt x="977" y="262"/>
                </a:lnTo>
                <a:lnTo>
                  <a:pt x="960" y="277"/>
                </a:lnTo>
                <a:lnTo>
                  <a:pt x="940" y="289"/>
                </a:lnTo>
                <a:lnTo>
                  <a:pt x="921" y="302"/>
                </a:lnTo>
                <a:lnTo>
                  <a:pt x="900" y="312"/>
                </a:lnTo>
                <a:lnTo>
                  <a:pt x="880" y="320"/>
                </a:lnTo>
                <a:lnTo>
                  <a:pt x="884" y="302"/>
                </a:lnTo>
                <a:lnTo>
                  <a:pt x="892" y="291"/>
                </a:lnTo>
                <a:lnTo>
                  <a:pt x="902" y="277"/>
                </a:lnTo>
                <a:lnTo>
                  <a:pt x="911" y="267"/>
                </a:lnTo>
                <a:lnTo>
                  <a:pt x="927" y="248"/>
                </a:lnTo>
                <a:lnTo>
                  <a:pt x="942" y="229"/>
                </a:lnTo>
                <a:lnTo>
                  <a:pt x="960" y="209"/>
                </a:lnTo>
                <a:lnTo>
                  <a:pt x="977" y="192"/>
                </a:lnTo>
                <a:lnTo>
                  <a:pt x="995" y="172"/>
                </a:lnTo>
                <a:lnTo>
                  <a:pt x="1012" y="155"/>
                </a:lnTo>
                <a:lnTo>
                  <a:pt x="1032" y="138"/>
                </a:lnTo>
                <a:lnTo>
                  <a:pt x="1051" y="122"/>
                </a:lnTo>
                <a:lnTo>
                  <a:pt x="1068" y="105"/>
                </a:lnTo>
                <a:lnTo>
                  <a:pt x="1088" y="89"/>
                </a:lnTo>
                <a:lnTo>
                  <a:pt x="1107" y="74"/>
                </a:lnTo>
                <a:lnTo>
                  <a:pt x="1129" y="62"/>
                </a:lnTo>
                <a:lnTo>
                  <a:pt x="1148" y="48"/>
                </a:lnTo>
                <a:lnTo>
                  <a:pt x="1169" y="37"/>
                </a:lnTo>
                <a:lnTo>
                  <a:pt x="1179" y="31"/>
                </a:lnTo>
                <a:lnTo>
                  <a:pt x="1191" y="27"/>
                </a:lnTo>
                <a:lnTo>
                  <a:pt x="1202" y="23"/>
                </a:lnTo>
                <a:lnTo>
                  <a:pt x="1214" y="19"/>
                </a:lnTo>
                <a:lnTo>
                  <a:pt x="1229" y="13"/>
                </a:lnTo>
                <a:lnTo>
                  <a:pt x="1247" y="12"/>
                </a:lnTo>
                <a:lnTo>
                  <a:pt x="1262" y="8"/>
                </a:lnTo>
                <a:lnTo>
                  <a:pt x="1280" y="2"/>
                </a:lnTo>
                <a:lnTo>
                  <a:pt x="1291" y="0"/>
                </a:lnTo>
                <a:lnTo>
                  <a:pt x="1305" y="0"/>
                </a:lnTo>
                <a:lnTo>
                  <a:pt x="1317" y="2"/>
                </a:lnTo>
                <a:lnTo>
                  <a:pt x="1330" y="6"/>
                </a:lnTo>
                <a:lnTo>
                  <a:pt x="1342" y="8"/>
                </a:lnTo>
                <a:lnTo>
                  <a:pt x="1353" y="12"/>
                </a:lnTo>
                <a:lnTo>
                  <a:pt x="1365" y="15"/>
                </a:lnTo>
                <a:lnTo>
                  <a:pt x="1383" y="21"/>
                </a:lnTo>
                <a:close/>
              </a:path>
            </a:pathLst>
          </a:custGeom>
          <a:solidFill>
            <a:srgbClr val="4ffff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69" name=""/>
          <p:cNvSpPr/>
          <p:nvPr/>
        </p:nvSpPr>
        <p:spPr>
          <a:xfrm>
            <a:off x="5464080" y="5557680"/>
            <a:ext cx="263520" cy="481320"/>
          </a:xfrm>
          <a:custGeom>
            <a:avLst/>
            <a:gdLst/>
            <a:ahLst/>
            <a:rect l="l" t="t" r="r" b="b"/>
            <a:pathLst>
              <a:path w="331" h="607">
                <a:moveTo>
                  <a:pt x="198" y="285"/>
                </a:moveTo>
                <a:lnTo>
                  <a:pt x="202" y="305"/>
                </a:lnTo>
                <a:lnTo>
                  <a:pt x="207" y="326"/>
                </a:lnTo>
                <a:lnTo>
                  <a:pt x="209" y="336"/>
                </a:lnTo>
                <a:lnTo>
                  <a:pt x="213" y="346"/>
                </a:lnTo>
                <a:lnTo>
                  <a:pt x="217" y="357"/>
                </a:lnTo>
                <a:lnTo>
                  <a:pt x="223" y="369"/>
                </a:lnTo>
                <a:lnTo>
                  <a:pt x="231" y="388"/>
                </a:lnTo>
                <a:lnTo>
                  <a:pt x="240" y="410"/>
                </a:lnTo>
                <a:lnTo>
                  <a:pt x="244" y="419"/>
                </a:lnTo>
                <a:lnTo>
                  <a:pt x="250" y="431"/>
                </a:lnTo>
                <a:lnTo>
                  <a:pt x="256" y="441"/>
                </a:lnTo>
                <a:lnTo>
                  <a:pt x="262" y="452"/>
                </a:lnTo>
                <a:lnTo>
                  <a:pt x="269" y="472"/>
                </a:lnTo>
                <a:lnTo>
                  <a:pt x="279" y="493"/>
                </a:lnTo>
                <a:lnTo>
                  <a:pt x="289" y="512"/>
                </a:lnTo>
                <a:lnTo>
                  <a:pt x="298" y="534"/>
                </a:lnTo>
                <a:lnTo>
                  <a:pt x="306" y="551"/>
                </a:lnTo>
                <a:lnTo>
                  <a:pt x="314" y="570"/>
                </a:lnTo>
                <a:lnTo>
                  <a:pt x="322" y="588"/>
                </a:lnTo>
                <a:lnTo>
                  <a:pt x="331" y="607"/>
                </a:lnTo>
                <a:lnTo>
                  <a:pt x="2" y="607"/>
                </a:lnTo>
                <a:lnTo>
                  <a:pt x="6" y="590"/>
                </a:lnTo>
                <a:lnTo>
                  <a:pt x="11" y="574"/>
                </a:lnTo>
                <a:lnTo>
                  <a:pt x="15" y="559"/>
                </a:lnTo>
                <a:lnTo>
                  <a:pt x="15" y="541"/>
                </a:lnTo>
                <a:lnTo>
                  <a:pt x="10" y="538"/>
                </a:lnTo>
                <a:lnTo>
                  <a:pt x="10" y="518"/>
                </a:lnTo>
                <a:lnTo>
                  <a:pt x="10" y="501"/>
                </a:lnTo>
                <a:lnTo>
                  <a:pt x="10" y="483"/>
                </a:lnTo>
                <a:lnTo>
                  <a:pt x="11" y="468"/>
                </a:lnTo>
                <a:lnTo>
                  <a:pt x="11" y="450"/>
                </a:lnTo>
                <a:lnTo>
                  <a:pt x="15" y="435"/>
                </a:lnTo>
                <a:lnTo>
                  <a:pt x="17" y="417"/>
                </a:lnTo>
                <a:lnTo>
                  <a:pt x="21" y="400"/>
                </a:lnTo>
                <a:lnTo>
                  <a:pt x="39" y="413"/>
                </a:lnTo>
                <a:lnTo>
                  <a:pt x="58" y="433"/>
                </a:lnTo>
                <a:lnTo>
                  <a:pt x="66" y="441"/>
                </a:lnTo>
                <a:lnTo>
                  <a:pt x="75" y="450"/>
                </a:lnTo>
                <a:lnTo>
                  <a:pt x="87" y="458"/>
                </a:lnTo>
                <a:lnTo>
                  <a:pt x="99" y="466"/>
                </a:lnTo>
                <a:lnTo>
                  <a:pt x="105" y="456"/>
                </a:lnTo>
                <a:lnTo>
                  <a:pt x="105" y="448"/>
                </a:lnTo>
                <a:lnTo>
                  <a:pt x="99" y="439"/>
                </a:lnTo>
                <a:lnTo>
                  <a:pt x="95" y="431"/>
                </a:lnTo>
                <a:lnTo>
                  <a:pt x="83" y="410"/>
                </a:lnTo>
                <a:lnTo>
                  <a:pt x="72" y="390"/>
                </a:lnTo>
                <a:lnTo>
                  <a:pt x="62" y="369"/>
                </a:lnTo>
                <a:lnTo>
                  <a:pt x="54" y="351"/>
                </a:lnTo>
                <a:lnTo>
                  <a:pt x="42" y="330"/>
                </a:lnTo>
                <a:lnTo>
                  <a:pt x="35" y="311"/>
                </a:lnTo>
                <a:lnTo>
                  <a:pt x="23" y="289"/>
                </a:lnTo>
                <a:lnTo>
                  <a:pt x="15" y="272"/>
                </a:lnTo>
                <a:lnTo>
                  <a:pt x="11" y="260"/>
                </a:lnTo>
                <a:lnTo>
                  <a:pt x="10" y="249"/>
                </a:lnTo>
                <a:lnTo>
                  <a:pt x="6" y="237"/>
                </a:lnTo>
                <a:lnTo>
                  <a:pt x="6" y="225"/>
                </a:lnTo>
                <a:lnTo>
                  <a:pt x="2" y="214"/>
                </a:lnTo>
                <a:lnTo>
                  <a:pt x="2" y="202"/>
                </a:lnTo>
                <a:lnTo>
                  <a:pt x="2" y="190"/>
                </a:lnTo>
                <a:lnTo>
                  <a:pt x="2" y="181"/>
                </a:lnTo>
                <a:lnTo>
                  <a:pt x="0" y="169"/>
                </a:lnTo>
                <a:lnTo>
                  <a:pt x="0" y="157"/>
                </a:lnTo>
                <a:lnTo>
                  <a:pt x="2" y="146"/>
                </a:lnTo>
                <a:lnTo>
                  <a:pt x="4" y="136"/>
                </a:lnTo>
                <a:lnTo>
                  <a:pt x="10" y="115"/>
                </a:lnTo>
                <a:lnTo>
                  <a:pt x="23" y="95"/>
                </a:lnTo>
                <a:lnTo>
                  <a:pt x="27" y="84"/>
                </a:lnTo>
                <a:lnTo>
                  <a:pt x="31" y="72"/>
                </a:lnTo>
                <a:lnTo>
                  <a:pt x="33" y="61"/>
                </a:lnTo>
                <a:lnTo>
                  <a:pt x="35" y="49"/>
                </a:lnTo>
                <a:lnTo>
                  <a:pt x="35" y="35"/>
                </a:lnTo>
                <a:lnTo>
                  <a:pt x="39" y="24"/>
                </a:lnTo>
                <a:lnTo>
                  <a:pt x="42" y="12"/>
                </a:lnTo>
                <a:lnTo>
                  <a:pt x="50" y="2"/>
                </a:lnTo>
                <a:lnTo>
                  <a:pt x="58" y="0"/>
                </a:lnTo>
                <a:lnTo>
                  <a:pt x="66" y="6"/>
                </a:lnTo>
                <a:lnTo>
                  <a:pt x="70" y="16"/>
                </a:lnTo>
                <a:lnTo>
                  <a:pt x="75" y="26"/>
                </a:lnTo>
                <a:lnTo>
                  <a:pt x="83" y="45"/>
                </a:lnTo>
                <a:lnTo>
                  <a:pt x="91" y="66"/>
                </a:lnTo>
                <a:lnTo>
                  <a:pt x="93" y="76"/>
                </a:lnTo>
                <a:lnTo>
                  <a:pt x="99" y="88"/>
                </a:lnTo>
                <a:lnTo>
                  <a:pt x="101" y="97"/>
                </a:lnTo>
                <a:lnTo>
                  <a:pt x="106" y="109"/>
                </a:lnTo>
                <a:lnTo>
                  <a:pt x="112" y="128"/>
                </a:lnTo>
                <a:lnTo>
                  <a:pt x="120" y="150"/>
                </a:lnTo>
                <a:lnTo>
                  <a:pt x="124" y="159"/>
                </a:lnTo>
                <a:lnTo>
                  <a:pt x="128" y="171"/>
                </a:lnTo>
                <a:lnTo>
                  <a:pt x="134" y="181"/>
                </a:lnTo>
                <a:lnTo>
                  <a:pt x="139" y="192"/>
                </a:lnTo>
                <a:lnTo>
                  <a:pt x="145" y="204"/>
                </a:lnTo>
                <a:lnTo>
                  <a:pt x="151" y="216"/>
                </a:lnTo>
                <a:lnTo>
                  <a:pt x="157" y="227"/>
                </a:lnTo>
                <a:lnTo>
                  <a:pt x="165" y="241"/>
                </a:lnTo>
                <a:lnTo>
                  <a:pt x="170" y="252"/>
                </a:lnTo>
                <a:lnTo>
                  <a:pt x="178" y="264"/>
                </a:lnTo>
                <a:lnTo>
                  <a:pt x="186" y="274"/>
                </a:lnTo>
                <a:lnTo>
                  <a:pt x="198" y="285"/>
                </a:lnTo>
                <a:close/>
              </a:path>
            </a:pathLst>
          </a:custGeom>
          <a:solidFill>
            <a:srgbClr val="b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70" name=""/>
          <p:cNvSpPr/>
          <p:nvPr/>
        </p:nvSpPr>
        <p:spPr>
          <a:xfrm>
            <a:off x="5540400" y="4635360"/>
            <a:ext cx="425520" cy="1239840"/>
          </a:xfrm>
          <a:custGeom>
            <a:avLst/>
            <a:gdLst/>
            <a:ahLst/>
            <a:rect l="l" t="t" r="r" b="b"/>
            <a:pathLst>
              <a:path w="535" h="1563">
                <a:moveTo>
                  <a:pt x="124" y="0"/>
                </a:moveTo>
                <a:lnTo>
                  <a:pt x="124" y="12"/>
                </a:lnTo>
                <a:lnTo>
                  <a:pt x="124" y="23"/>
                </a:lnTo>
                <a:lnTo>
                  <a:pt x="126" y="35"/>
                </a:lnTo>
                <a:lnTo>
                  <a:pt x="128" y="46"/>
                </a:lnTo>
                <a:lnTo>
                  <a:pt x="130" y="64"/>
                </a:lnTo>
                <a:lnTo>
                  <a:pt x="134" y="83"/>
                </a:lnTo>
                <a:lnTo>
                  <a:pt x="136" y="99"/>
                </a:lnTo>
                <a:lnTo>
                  <a:pt x="139" y="112"/>
                </a:lnTo>
                <a:lnTo>
                  <a:pt x="141" y="124"/>
                </a:lnTo>
                <a:lnTo>
                  <a:pt x="145" y="138"/>
                </a:lnTo>
                <a:lnTo>
                  <a:pt x="149" y="155"/>
                </a:lnTo>
                <a:lnTo>
                  <a:pt x="155" y="169"/>
                </a:lnTo>
                <a:lnTo>
                  <a:pt x="161" y="178"/>
                </a:lnTo>
                <a:lnTo>
                  <a:pt x="167" y="190"/>
                </a:lnTo>
                <a:lnTo>
                  <a:pt x="171" y="198"/>
                </a:lnTo>
                <a:lnTo>
                  <a:pt x="174" y="209"/>
                </a:lnTo>
                <a:lnTo>
                  <a:pt x="178" y="221"/>
                </a:lnTo>
                <a:lnTo>
                  <a:pt x="182" y="240"/>
                </a:lnTo>
                <a:lnTo>
                  <a:pt x="182" y="250"/>
                </a:lnTo>
                <a:lnTo>
                  <a:pt x="184" y="264"/>
                </a:lnTo>
                <a:lnTo>
                  <a:pt x="184" y="275"/>
                </a:lnTo>
                <a:lnTo>
                  <a:pt x="186" y="293"/>
                </a:lnTo>
                <a:lnTo>
                  <a:pt x="186" y="300"/>
                </a:lnTo>
                <a:lnTo>
                  <a:pt x="186" y="310"/>
                </a:lnTo>
                <a:lnTo>
                  <a:pt x="186" y="320"/>
                </a:lnTo>
                <a:lnTo>
                  <a:pt x="188" y="332"/>
                </a:lnTo>
                <a:lnTo>
                  <a:pt x="188" y="341"/>
                </a:lnTo>
                <a:lnTo>
                  <a:pt x="188" y="353"/>
                </a:lnTo>
                <a:lnTo>
                  <a:pt x="188" y="366"/>
                </a:lnTo>
                <a:lnTo>
                  <a:pt x="190" y="380"/>
                </a:lnTo>
                <a:lnTo>
                  <a:pt x="190" y="395"/>
                </a:lnTo>
                <a:lnTo>
                  <a:pt x="198" y="407"/>
                </a:lnTo>
                <a:lnTo>
                  <a:pt x="207" y="413"/>
                </a:lnTo>
                <a:lnTo>
                  <a:pt x="223" y="415"/>
                </a:lnTo>
                <a:lnTo>
                  <a:pt x="238" y="409"/>
                </a:lnTo>
                <a:lnTo>
                  <a:pt x="260" y="403"/>
                </a:lnTo>
                <a:lnTo>
                  <a:pt x="269" y="397"/>
                </a:lnTo>
                <a:lnTo>
                  <a:pt x="281" y="394"/>
                </a:lnTo>
                <a:lnTo>
                  <a:pt x="293" y="388"/>
                </a:lnTo>
                <a:lnTo>
                  <a:pt x="306" y="382"/>
                </a:lnTo>
                <a:lnTo>
                  <a:pt x="318" y="372"/>
                </a:lnTo>
                <a:lnTo>
                  <a:pt x="330" y="363"/>
                </a:lnTo>
                <a:lnTo>
                  <a:pt x="343" y="353"/>
                </a:lnTo>
                <a:lnTo>
                  <a:pt x="359" y="345"/>
                </a:lnTo>
                <a:lnTo>
                  <a:pt x="372" y="335"/>
                </a:lnTo>
                <a:lnTo>
                  <a:pt x="388" y="326"/>
                </a:lnTo>
                <a:lnTo>
                  <a:pt x="401" y="316"/>
                </a:lnTo>
                <a:lnTo>
                  <a:pt x="417" y="306"/>
                </a:lnTo>
                <a:lnTo>
                  <a:pt x="430" y="295"/>
                </a:lnTo>
                <a:lnTo>
                  <a:pt x="446" y="283"/>
                </a:lnTo>
                <a:lnTo>
                  <a:pt x="459" y="271"/>
                </a:lnTo>
                <a:lnTo>
                  <a:pt x="475" y="262"/>
                </a:lnTo>
                <a:lnTo>
                  <a:pt x="489" y="250"/>
                </a:lnTo>
                <a:lnTo>
                  <a:pt x="504" y="240"/>
                </a:lnTo>
                <a:lnTo>
                  <a:pt x="520" y="231"/>
                </a:lnTo>
                <a:lnTo>
                  <a:pt x="535" y="221"/>
                </a:lnTo>
                <a:lnTo>
                  <a:pt x="533" y="221"/>
                </a:lnTo>
                <a:lnTo>
                  <a:pt x="531" y="229"/>
                </a:lnTo>
                <a:lnTo>
                  <a:pt x="525" y="238"/>
                </a:lnTo>
                <a:lnTo>
                  <a:pt x="520" y="256"/>
                </a:lnTo>
                <a:lnTo>
                  <a:pt x="514" y="264"/>
                </a:lnTo>
                <a:lnTo>
                  <a:pt x="508" y="273"/>
                </a:lnTo>
                <a:lnTo>
                  <a:pt x="502" y="285"/>
                </a:lnTo>
                <a:lnTo>
                  <a:pt x="496" y="299"/>
                </a:lnTo>
                <a:lnTo>
                  <a:pt x="489" y="310"/>
                </a:lnTo>
                <a:lnTo>
                  <a:pt x="481" y="326"/>
                </a:lnTo>
                <a:lnTo>
                  <a:pt x="471" y="341"/>
                </a:lnTo>
                <a:lnTo>
                  <a:pt x="463" y="359"/>
                </a:lnTo>
                <a:lnTo>
                  <a:pt x="452" y="374"/>
                </a:lnTo>
                <a:lnTo>
                  <a:pt x="440" y="392"/>
                </a:lnTo>
                <a:lnTo>
                  <a:pt x="426" y="409"/>
                </a:lnTo>
                <a:lnTo>
                  <a:pt x="415" y="428"/>
                </a:lnTo>
                <a:lnTo>
                  <a:pt x="399" y="448"/>
                </a:lnTo>
                <a:lnTo>
                  <a:pt x="384" y="469"/>
                </a:lnTo>
                <a:lnTo>
                  <a:pt x="376" y="479"/>
                </a:lnTo>
                <a:lnTo>
                  <a:pt x="368" y="491"/>
                </a:lnTo>
                <a:lnTo>
                  <a:pt x="361" y="502"/>
                </a:lnTo>
                <a:lnTo>
                  <a:pt x="353" y="514"/>
                </a:lnTo>
                <a:lnTo>
                  <a:pt x="341" y="523"/>
                </a:lnTo>
                <a:lnTo>
                  <a:pt x="333" y="535"/>
                </a:lnTo>
                <a:lnTo>
                  <a:pt x="322" y="547"/>
                </a:lnTo>
                <a:lnTo>
                  <a:pt x="314" y="558"/>
                </a:lnTo>
                <a:lnTo>
                  <a:pt x="302" y="570"/>
                </a:lnTo>
                <a:lnTo>
                  <a:pt x="293" y="584"/>
                </a:lnTo>
                <a:lnTo>
                  <a:pt x="283" y="595"/>
                </a:lnTo>
                <a:lnTo>
                  <a:pt x="273" y="609"/>
                </a:lnTo>
                <a:lnTo>
                  <a:pt x="262" y="620"/>
                </a:lnTo>
                <a:lnTo>
                  <a:pt x="250" y="632"/>
                </a:lnTo>
                <a:lnTo>
                  <a:pt x="238" y="646"/>
                </a:lnTo>
                <a:lnTo>
                  <a:pt x="227" y="659"/>
                </a:lnTo>
                <a:lnTo>
                  <a:pt x="213" y="671"/>
                </a:lnTo>
                <a:lnTo>
                  <a:pt x="202" y="684"/>
                </a:lnTo>
                <a:lnTo>
                  <a:pt x="190" y="698"/>
                </a:lnTo>
                <a:lnTo>
                  <a:pt x="178" y="713"/>
                </a:lnTo>
                <a:lnTo>
                  <a:pt x="172" y="721"/>
                </a:lnTo>
                <a:lnTo>
                  <a:pt x="169" y="733"/>
                </a:lnTo>
                <a:lnTo>
                  <a:pt x="165" y="745"/>
                </a:lnTo>
                <a:lnTo>
                  <a:pt x="165" y="758"/>
                </a:lnTo>
                <a:lnTo>
                  <a:pt x="161" y="770"/>
                </a:lnTo>
                <a:lnTo>
                  <a:pt x="159" y="785"/>
                </a:lnTo>
                <a:lnTo>
                  <a:pt x="159" y="801"/>
                </a:lnTo>
                <a:lnTo>
                  <a:pt x="159" y="818"/>
                </a:lnTo>
                <a:lnTo>
                  <a:pt x="157" y="834"/>
                </a:lnTo>
                <a:lnTo>
                  <a:pt x="157" y="849"/>
                </a:lnTo>
                <a:lnTo>
                  <a:pt x="157" y="867"/>
                </a:lnTo>
                <a:lnTo>
                  <a:pt x="159" y="884"/>
                </a:lnTo>
                <a:lnTo>
                  <a:pt x="159" y="902"/>
                </a:lnTo>
                <a:lnTo>
                  <a:pt x="159" y="921"/>
                </a:lnTo>
                <a:lnTo>
                  <a:pt x="161" y="938"/>
                </a:lnTo>
                <a:lnTo>
                  <a:pt x="165" y="958"/>
                </a:lnTo>
                <a:lnTo>
                  <a:pt x="165" y="973"/>
                </a:lnTo>
                <a:lnTo>
                  <a:pt x="169" y="991"/>
                </a:lnTo>
                <a:lnTo>
                  <a:pt x="171" y="1008"/>
                </a:lnTo>
                <a:lnTo>
                  <a:pt x="174" y="1026"/>
                </a:lnTo>
                <a:lnTo>
                  <a:pt x="176" y="1041"/>
                </a:lnTo>
                <a:lnTo>
                  <a:pt x="180" y="1057"/>
                </a:lnTo>
                <a:lnTo>
                  <a:pt x="182" y="1072"/>
                </a:lnTo>
                <a:lnTo>
                  <a:pt x="188" y="1090"/>
                </a:lnTo>
                <a:lnTo>
                  <a:pt x="190" y="1103"/>
                </a:lnTo>
                <a:lnTo>
                  <a:pt x="194" y="1117"/>
                </a:lnTo>
                <a:lnTo>
                  <a:pt x="198" y="1128"/>
                </a:lnTo>
                <a:lnTo>
                  <a:pt x="202" y="1142"/>
                </a:lnTo>
                <a:lnTo>
                  <a:pt x="205" y="1152"/>
                </a:lnTo>
                <a:lnTo>
                  <a:pt x="209" y="1163"/>
                </a:lnTo>
                <a:lnTo>
                  <a:pt x="213" y="1171"/>
                </a:lnTo>
                <a:lnTo>
                  <a:pt x="219" y="1181"/>
                </a:lnTo>
                <a:lnTo>
                  <a:pt x="225" y="1194"/>
                </a:lnTo>
                <a:lnTo>
                  <a:pt x="233" y="1214"/>
                </a:lnTo>
                <a:lnTo>
                  <a:pt x="236" y="1222"/>
                </a:lnTo>
                <a:lnTo>
                  <a:pt x="242" y="1233"/>
                </a:lnTo>
                <a:lnTo>
                  <a:pt x="248" y="1245"/>
                </a:lnTo>
                <a:lnTo>
                  <a:pt x="254" y="1258"/>
                </a:lnTo>
                <a:lnTo>
                  <a:pt x="260" y="1270"/>
                </a:lnTo>
                <a:lnTo>
                  <a:pt x="266" y="1282"/>
                </a:lnTo>
                <a:lnTo>
                  <a:pt x="271" y="1295"/>
                </a:lnTo>
                <a:lnTo>
                  <a:pt x="277" y="1311"/>
                </a:lnTo>
                <a:lnTo>
                  <a:pt x="283" y="1324"/>
                </a:lnTo>
                <a:lnTo>
                  <a:pt x="289" y="1340"/>
                </a:lnTo>
                <a:lnTo>
                  <a:pt x="295" y="1353"/>
                </a:lnTo>
                <a:lnTo>
                  <a:pt x="302" y="1369"/>
                </a:lnTo>
                <a:lnTo>
                  <a:pt x="306" y="1382"/>
                </a:lnTo>
                <a:lnTo>
                  <a:pt x="312" y="1396"/>
                </a:lnTo>
                <a:lnTo>
                  <a:pt x="318" y="1410"/>
                </a:lnTo>
                <a:lnTo>
                  <a:pt x="324" y="1425"/>
                </a:lnTo>
                <a:lnTo>
                  <a:pt x="328" y="1439"/>
                </a:lnTo>
                <a:lnTo>
                  <a:pt x="333" y="1452"/>
                </a:lnTo>
                <a:lnTo>
                  <a:pt x="337" y="1466"/>
                </a:lnTo>
                <a:lnTo>
                  <a:pt x="343" y="1479"/>
                </a:lnTo>
                <a:lnTo>
                  <a:pt x="345" y="1489"/>
                </a:lnTo>
                <a:lnTo>
                  <a:pt x="349" y="1501"/>
                </a:lnTo>
                <a:lnTo>
                  <a:pt x="351" y="1512"/>
                </a:lnTo>
                <a:lnTo>
                  <a:pt x="355" y="1524"/>
                </a:lnTo>
                <a:lnTo>
                  <a:pt x="359" y="1543"/>
                </a:lnTo>
                <a:lnTo>
                  <a:pt x="361" y="1561"/>
                </a:lnTo>
                <a:lnTo>
                  <a:pt x="345" y="1563"/>
                </a:lnTo>
                <a:lnTo>
                  <a:pt x="331" y="1563"/>
                </a:lnTo>
                <a:lnTo>
                  <a:pt x="316" y="1559"/>
                </a:lnTo>
                <a:lnTo>
                  <a:pt x="302" y="1555"/>
                </a:lnTo>
                <a:lnTo>
                  <a:pt x="289" y="1543"/>
                </a:lnTo>
                <a:lnTo>
                  <a:pt x="275" y="1534"/>
                </a:lnTo>
                <a:lnTo>
                  <a:pt x="264" y="1520"/>
                </a:lnTo>
                <a:lnTo>
                  <a:pt x="252" y="1508"/>
                </a:lnTo>
                <a:lnTo>
                  <a:pt x="238" y="1493"/>
                </a:lnTo>
                <a:lnTo>
                  <a:pt x="227" y="1477"/>
                </a:lnTo>
                <a:lnTo>
                  <a:pt x="213" y="1464"/>
                </a:lnTo>
                <a:lnTo>
                  <a:pt x="202" y="1454"/>
                </a:lnTo>
                <a:lnTo>
                  <a:pt x="190" y="1443"/>
                </a:lnTo>
                <a:lnTo>
                  <a:pt x="178" y="1435"/>
                </a:lnTo>
                <a:lnTo>
                  <a:pt x="167" y="1429"/>
                </a:lnTo>
                <a:lnTo>
                  <a:pt x="155" y="1429"/>
                </a:lnTo>
                <a:lnTo>
                  <a:pt x="147" y="1413"/>
                </a:lnTo>
                <a:lnTo>
                  <a:pt x="132" y="1398"/>
                </a:lnTo>
                <a:lnTo>
                  <a:pt x="122" y="1390"/>
                </a:lnTo>
                <a:lnTo>
                  <a:pt x="112" y="1384"/>
                </a:lnTo>
                <a:lnTo>
                  <a:pt x="103" y="1381"/>
                </a:lnTo>
                <a:lnTo>
                  <a:pt x="97" y="1381"/>
                </a:lnTo>
                <a:lnTo>
                  <a:pt x="85" y="1361"/>
                </a:lnTo>
                <a:lnTo>
                  <a:pt x="77" y="1344"/>
                </a:lnTo>
                <a:lnTo>
                  <a:pt x="68" y="1326"/>
                </a:lnTo>
                <a:lnTo>
                  <a:pt x="62" y="1309"/>
                </a:lnTo>
                <a:lnTo>
                  <a:pt x="54" y="1291"/>
                </a:lnTo>
                <a:lnTo>
                  <a:pt x="48" y="1274"/>
                </a:lnTo>
                <a:lnTo>
                  <a:pt x="43" y="1256"/>
                </a:lnTo>
                <a:lnTo>
                  <a:pt x="41" y="1239"/>
                </a:lnTo>
                <a:lnTo>
                  <a:pt x="35" y="1227"/>
                </a:lnTo>
                <a:lnTo>
                  <a:pt x="33" y="1218"/>
                </a:lnTo>
                <a:lnTo>
                  <a:pt x="29" y="1206"/>
                </a:lnTo>
                <a:lnTo>
                  <a:pt x="27" y="1196"/>
                </a:lnTo>
                <a:lnTo>
                  <a:pt x="21" y="1175"/>
                </a:lnTo>
                <a:lnTo>
                  <a:pt x="17" y="1156"/>
                </a:lnTo>
                <a:lnTo>
                  <a:pt x="13" y="1144"/>
                </a:lnTo>
                <a:lnTo>
                  <a:pt x="11" y="1134"/>
                </a:lnTo>
                <a:lnTo>
                  <a:pt x="10" y="1123"/>
                </a:lnTo>
                <a:lnTo>
                  <a:pt x="10" y="1113"/>
                </a:lnTo>
                <a:lnTo>
                  <a:pt x="6" y="1092"/>
                </a:lnTo>
                <a:lnTo>
                  <a:pt x="6" y="1072"/>
                </a:lnTo>
                <a:lnTo>
                  <a:pt x="4" y="1061"/>
                </a:lnTo>
                <a:lnTo>
                  <a:pt x="4" y="1049"/>
                </a:lnTo>
                <a:lnTo>
                  <a:pt x="2" y="1037"/>
                </a:lnTo>
                <a:lnTo>
                  <a:pt x="2" y="1028"/>
                </a:lnTo>
                <a:lnTo>
                  <a:pt x="0" y="1006"/>
                </a:lnTo>
                <a:lnTo>
                  <a:pt x="0" y="987"/>
                </a:lnTo>
                <a:lnTo>
                  <a:pt x="0" y="975"/>
                </a:lnTo>
                <a:lnTo>
                  <a:pt x="0" y="964"/>
                </a:lnTo>
                <a:lnTo>
                  <a:pt x="0" y="952"/>
                </a:lnTo>
                <a:lnTo>
                  <a:pt x="0" y="942"/>
                </a:lnTo>
                <a:lnTo>
                  <a:pt x="0" y="921"/>
                </a:lnTo>
                <a:lnTo>
                  <a:pt x="2" y="902"/>
                </a:lnTo>
                <a:lnTo>
                  <a:pt x="2" y="890"/>
                </a:lnTo>
                <a:lnTo>
                  <a:pt x="2" y="878"/>
                </a:lnTo>
                <a:lnTo>
                  <a:pt x="2" y="869"/>
                </a:lnTo>
                <a:lnTo>
                  <a:pt x="2" y="859"/>
                </a:lnTo>
                <a:lnTo>
                  <a:pt x="2" y="847"/>
                </a:lnTo>
                <a:lnTo>
                  <a:pt x="4" y="836"/>
                </a:lnTo>
                <a:lnTo>
                  <a:pt x="4" y="826"/>
                </a:lnTo>
                <a:lnTo>
                  <a:pt x="6" y="816"/>
                </a:lnTo>
                <a:lnTo>
                  <a:pt x="6" y="805"/>
                </a:lnTo>
                <a:lnTo>
                  <a:pt x="6" y="795"/>
                </a:lnTo>
                <a:lnTo>
                  <a:pt x="6" y="783"/>
                </a:lnTo>
                <a:lnTo>
                  <a:pt x="6" y="774"/>
                </a:lnTo>
                <a:lnTo>
                  <a:pt x="8" y="752"/>
                </a:lnTo>
                <a:lnTo>
                  <a:pt x="10" y="733"/>
                </a:lnTo>
                <a:lnTo>
                  <a:pt x="10" y="712"/>
                </a:lnTo>
                <a:lnTo>
                  <a:pt x="11" y="692"/>
                </a:lnTo>
                <a:lnTo>
                  <a:pt x="11" y="671"/>
                </a:lnTo>
                <a:lnTo>
                  <a:pt x="13" y="651"/>
                </a:lnTo>
                <a:lnTo>
                  <a:pt x="13" y="632"/>
                </a:lnTo>
                <a:lnTo>
                  <a:pt x="15" y="613"/>
                </a:lnTo>
                <a:lnTo>
                  <a:pt x="17" y="595"/>
                </a:lnTo>
                <a:lnTo>
                  <a:pt x="19" y="578"/>
                </a:lnTo>
                <a:lnTo>
                  <a:pt x="21" y="556"/>
                </a:lnTo>
                <a:lnTo>
                  <a:pt x="23" y="537"/>
                </a:lnTo>
                <a:lnTo>
                  <a:pt x="23" y="518"/>
                </a:lnTo>
                <a:lnTo>
                  <a:pt x="25" y="498"/>
                </a:lnTo>
                <a:lnTo>
                  <a:pt x="25" y="479"/>
                </a:lnTo>
                <a:lnTo>
                  <a:pt x="27" y="459"/>
                </a:lnTo>
                <a:lnTo>
                  <a:pt x="29" y="440"/>
                </a:lnTo>
                <a:lnTo>
                  <a:pt x="35" y="423"/>
                </a:lnTo>
                <a:lnTo>
                  <a:pt x="35" y="403"/>
                </a:lnTo>
                <a:lnTo>
                  <a:pt x="35" y="384"/>
                </a:lnTo>
                <a:lnTo>
                  <a:pt x="37" y="364"/>
                </a:lnTo>
                <a:lnTo>
                  <a:pt x="41" y="347"/>
                </a:lnTo>
                <a:lnTo>
                  <a:pt x="43" y="328"/>
                </a:lnTo>
                <a:lnTo>
                  <a:pt x="46" y="308"/>
                </a:lnTo>
                <a:lnTo>
                  <a:pt x="48" y="291"/>
                </a:lnTo>
                <a:lnTo>
                  <a:pt x="54" y="273"/>
                </a:lnTo>
                <a:lnTo>
                  <a:pt x="56" y="254"/>
                </a:lnTo>
                <a:lnTo>
                  <a:pt x="60" y="235"/>
                </a:lnTo>
                <a:lnTo>
                  <a:pt x="64" y="217"/>
                </a:lnTo>
                <a:lnTo>
                  <a:pt x="70" y="200"/>
                </a:lnTo>
                <a:lnTo>
                  <a:pt x="74" y="182"/>
                </a:lnTo>
                <a:lnTo>
                  <a:pt x="77" y="165"/>
                </a:lnTo>
                <a:lnTo>
                  <a:pt x="81" y="147"/>
                </a:lnTo>
                <a:lnTo>
                  <a:pt x="87" y="130"/>
                </a:lnTo>
                <a:lnTo>
                  <a:pt x="91" y="114"/>
                </a:lnTo>
                <a:lnTo>
                  <a:pt x="95" y="101"/>
                </a:lnTo>
                <a:lnTo>
                  <a:pt x="99" y="87"/>
                </a:lnTo>
                <a:lnTo>
                  <a:pt x="103" y="74"/>
                </a:lnTo>
                <a:lnTo>
                  <a:pt x="105" y="58"/>
                </a:lnTo>
                <a:lnTo>
                  <a:pt x="108" y="46"/>
                </a:lnTo>
                <a:lnTo>
                  <a:pt x="110" y="31"/>
                </a:lnTo>
                <a:lnTo>
                  <a:pt x="114" y="19"/>
                </a:lnTo>
                <a:lnTo>
                  <a:pt x="120" y="10"/>
                </a:lnTo>
                <a:lnTo>
                  <a:pt x="124" y="0"/>
                </a:lnTo>
                <a:close/>
              </a:path>
            </a:pathLst>
          </a:custGeom>
          <a:solidFill>
            <a:srgbClr val="b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71" name=""/>
          <p:cNvSpPr/>
          <p:nvPr/>
        </p:nvSpPr>
        <p:spPr>
          <a:xfrm>
            <a:off x="6164280" y="4081320"/>
            <a:ext cx="768240" cy="1957680"/>
          </a:xfrm>
          <a:custGeom>
            <a:avLst/>
            <a:gdLst/>
            <a:ahLst/>
            <a:rect l="l" t="t" r="r" b="b"/>
            <a:pathLst>
              <a:path w="970" h="2466">
                <a:moveTo>
                  <a:pt x="20" y="361"/>
                </a:moveTo>
                <a:lnTo>
                  <a:pt x="27" y="345"/>
                </a:lnTo>
                <a:lnTo>
                  <a:pt x="39" y="333"/>
                </a:lnTo>
                <a:lnTo>
                  <a:pt x="51" y="318"/>
                </a:lnTo>
                <a:lnTo>
                  <a:pt x="62" y="306"/>
                </a:lnTo>
                <a:lnTo>
                  <a:pt x="74" y="293"/>
                </a:lnTo>
                <a:lnTo>
                  <a:pt x="89" y="279"/>
                </a:lnTo>
                <a:lnTo>
                  <a:pt x="103" y="266"/>
                </a:lnTo>
                <a:lnTo>
                  <a:pt x="119" y="254"/>
                </a:lnTo>
                <a:lnTo>
                  <a:pt x="132" y="240"/>
                </a:lnTo>
                <a:lnTo>
                  <a:pt x="148" y="229"/>
                </a:lnTo>
                <a:lnTo>
                  <a:pt x="161" y="217"/>
                </a:lnTo>
                <a:lnTo>
                  <a:pt x="179" y="205"/>
                </a:lnTo>
                <a:lnTo>
                  <a:pt x="194" y="194"/>
                </a:lnTo>
                <a:lnTo>
                  <a:pt x="212" y="184"/>
                </a:lnTo>
                <a:lnTo>
                  <a:pt x="229" y="174"/>
                </a:lnTo>
                <a:lnTo>
                  <a:pt x="247" y="169"/>
                </a:lnTo>
                <a:lnTo>
                  <a:pt x="262" y="159"/>
                </a:lnTo>
                <a:lnTo>
                  <a:pt x="280" y="151"/>
                </a:lnTo>
                <a:lnTo>
                  <a:pt x="295" y="145"/>
                </a:lnTo>
                <a:lnTo>
                  <a:pt x="313" y="141"/>
                </a:lnTo>
                <a:lnTo>
                  <a:pt x="328" y="136"/>
                </a:lnTo>
                <a:lnTo>
                  <a:pt x="345" y="136"/>
                </a:lnTo>
                <a:lnTo>
                  <a:pt x="361" y="134"/>
                </a:lnTo>
                <a:lnTo>
                  <a:pt x="378" y="136"/>
                </a:lnTo>
                <a:lnTo>
                  <a:pt x="392" y="136"/>
                </a:lnTo>
                <a:lnTo>
                  <a:pt x="409" y="141"/>
                </a:lnTo>
                <a:lnTo>
                  <a:pt x="423" y="145"/>
                </a:lnTo>
                <a:lnTo>
                  <a:pt x="441" y="155"/>
                </a:lnTo>
                <a:lnTo>
                  <a:pt x="454" y="163"/>
                </a:lnTo>
                <a:lnTo>
                  <a:pt x="468" y="174"/>
                </a:lnTo>
                <a:lnTo>
                  <a:pt x="481" y="186"/>
                </a:lnTo>
                <a:lnTo>
                  <a:pt x="497" y="203"/>
                </a:lnTo>
                <a:lnTo>
                  <a:pt x="503" y="215"/>
                </a:lnTo>
                <a:lnTo>
                  <a:pt x="506" y="233"/>
                </a:lnTo>
                <a:lnTo>
                  <a:pt x="505" y="248"/>
                </a:lnTo>
                <a:lnTo>
                  <a:pt x="505" y="267"/>
                </a:lnTo>
                <a:lnTo>
                  <a:pt x="501" y="283"/>
                </a:lnTo>
                <a:lnTo>
                  <a:pt x="501" y="300"/>
                </a:lnTo>
                <a:lnTo>
                  <a:pt x="499" y="312"/>
                </a:lnTo>
                <a:lnTo>
                  <a:pt x="503" y="320"/>
                </a:lnTo>
                <a:lnTo>
                  <a:pt x="516" y="320"/>
                </a:lnTo>
                <a:lnTo>
                  <a:pt x="530" y="324"/>
                </a:lnTo>
                <a:lnTo>
                  <a:pt x="543" y="330"/>
                </a:lnTo>
                <a:lnTo>
                  <a:pt x="557" y="335"/>
                </a:lnTo>
                <a:lnTo>
                  <a:pt x="569" y="341"/>
                </a:lnTo>
                <a:lnTo>
                  <a:pt x="580" y="349"/>
                </a:lnTo>
                <a:lnTo>
                  <a:pt x="592" y="357"/>
                </a:lnTo>
                <a:lnTo>
                  <a:pt x="603" y="368"/>
                </a:lnTo>
                <a:lnTo>
                  <a:pt x="611" y="376"/>
                </a:lnTo>
                <a:lnTo>
                  <a:pt x="621" y="388"/>
                </a:lnTo>
                <a:lnTo>
                  <a:pt x="629" y="399"/>
                </a:lnTo>
                <a:lnTo>
                  <a:pt x="638" y="413"/>
                </a:lnTo>
                <a:lnTo>
                  <a:pt x="646" y="425"/>
                </a:lnTo>
                <a:lnTo>
                  <a:pt x="654" y="438"/>
                </a:lnTo>
                <a:lnTo>
                  <a:pt x="660" y="452"/>
                </a:lnTo>
                <a:lnTo>
                  <a:pt x="667" y="469"/>
                </a:lnTo>
                <a:lnTo>
                  <a:pt x="671" y="483"/>
                </a:lnTo>
                <a:lnTo>
                  <a:pt x="677" y="498"/>
                </a:lnTo>
                <a:lnTo>
                  <a:pt x="681" y="516"/>
                </a:lnTo>
                <a:lnTo>
                  <a:pt x="687" y="533"/>
                </a:lnTo>
                <a:lnTo>
                  <a:pt x="689" y="551"/>
                </a:lnTo>
                <a:lnTo>
                  <a:pt x="693" y="568"/>
                </a:lnTo>
                <a:lnTo>
                  <a:pt x="697" y="587"/>
                </a:lnTo>
                <a:lnTo>
                  <a:pt x="700" y="609"/>
                </a:lnTo>
                <a:lnTo>
                  <a:pt x="700" y="626"/>
                </a:lnTo>
                <a:lnTo>
                  <a:pt x="702" y="646"/>
                </a:lnTo>
                <a:lnTo>
                  <a:pt x="704" y="665"/>
                </a:lnTo>
                <a:lnTo>
                  <a:pt x="706" y="688"/>
                </a:lnTo>
                <a:lnTo>
                  <a:pt x="706" y="708"/>
                </a:lnTo>
                <a:lnTo>
                  <a:pt x="706" y="729"/>
                </a:lnTo>
                <a:lnTo>
                  <a:pt x="706" y="750"/>
                </a:lnTo>
                <a:lnTo>
                  <a:pt x="708" y="774"/>
                </a:lnTo>
                <a:lnTo>
                  <a:pt x="706" y="793"/>
                </a:lnTo>
                <a:lnTo>
                  <a:pt x="704" y="814"/>
                </a:lnTo>
                <a:lnTo>
                  <a:pt x="702" y="836"/>
                </a:lnTo>
                <a:lnTo>
                  <a:pt x="702" y="859"/>
                </a:lnTo>
                <a:lnTo>
                  <a:pt x="698" y="880"/>
                </a:lnTo>
                <a:lnTo>
                  <a:pt x="697" y="903"/>
                </a:lnTo>
                <a:lnTo>
                  <a:pt x="695" y="925"/>
                </a:lnTo>
                <a:lnTo>
                  <a:pt x="693" y="948"/>
                </a:lnTo>
                <a:lnTo>
                  <a:pt x="689" y="969"/>
                </a:lnTo>
                <a:lnTo>
                  <a:pt x="687" y="991"/>
                </a:lnTo>
                <a:lnTo>
                  <a:pt x="683" y="1012"/>
                </a:lnTo>
                <a:lnTo>
                  <a:pt x="681" y="1033"/>
                </a:lnTo>
                <a:lnTo>
                  <a:pt x="675" y="1055"/>
                </a:lnTo>
                <a:lnTo>
                  <a:pt x="673" y="1076"/>
                </a:lnTo>
                <a:lnTo>
                  <a:pt x="667" y="1097"/>
                </a:lnTo>
                <a:lnTo>
                  <a:pt x="665" y="1119"/>
                </a:lnTo>
                <a:lnTo>
                  <a:pt x="660" y="1138"/>
                </a:lnTo>
                <a:lnTo>
                  <a:pt x="656" y="1157"/>
                </a:lnTo>
                <a:lnTo>
                  <a:pt x="650" y="1177"/>
                </a:lnTo>
                <a:lnTo>
                  <a:pt x="646" y="1198"/>
                </a:lnTo>
                <a:lnTo>
                  <a:pt x="640" y="1216"/>
                </a:lnTo>
                <a:lnTo>
                  <a:pt x="636" y="1235"/>
                </a:lnTo>
                <a:lnTo>
                  <a:pt x="631" y="1252"/>
                </a:lnTo>
                <a:lnTo>
                  <a:pt x="627" y="1272"/>
                </a:lnTo>
                <a:lnTo>
                  <a:pt x="621" y="1287"/>
                </a:lnTo>
                <a:lnTo>
                  <a:pt x="617" y="1305"/>
                </a:lnTo>
                <a:lnTo>
                  <a:pt x="611" y="1320"/>
                </a:lnTo>
                <a:lnTo>
                  <a:pt x="607" y="1338"/>
                </a:lnTo>
                <a:lnTo>
                  <a:pt x="601" y="1351"/>
                </a:lnTo>
                <a:lnTo>
                  <a:pt x="598" y="1367"/>
                </a:lnTo>
                <a:lnTo>
                  <a:pt x="592" y="1380"/>
                </a:lnTo>
                <a:lnTo>
                  <a:pt x="588" y="1396"/>
                </a:lnTo>
                <a:lnTo>
                  <a:pt x="582" y="1406"/>
                </a:lnTo>
                <a:lnTo>
                  <a:pt x="578" y="1417"/>
                </a:lnTo>
                <a:lnTo>
                  <a:pt x="572" y="1429"/>
                </a:lnTo>
                <a:lnTo>
                  <a:pt x="569" y="1441"/>
                </a:lnTo>
                <a:lnTo>
                  <a:pt x="563" y="1450"/>
                </a:lnTo>
                <a:lnTo>
                  <a:pt x="559" y="1462"/>
                </a:lnTo>
                <a:lnTo>
                  <a:pt x="553" y="1474"/>
                </a:lnTo>
                <a:lnTo>
                  <a:pt x="551" y="1485"/>
                </a:lnTo>
                <a:lnTo>
                  <a:pt x="543" y="1505"/>
                </a:lnTo>
                <a:lnTo>
                  <a:pt x="539" y="1526"/>
                </a:lnTo>
                <a:lnTo>
                  <a:pt x="536" y="1536"/>
                </a:lnTo>
                <a:lnTo>
                  <a:pt x="534" y="1547"/>
                </a:lnTo>
                <a:lnTo>
                  <a:pt x="534" y="1559"/>
                </a:lnTo>
                <a:lnTo>
                  <a:pt x="534" y="1570"/>
                </a:lnTo>
                <a:lnTo>
                  <a:pt x="532" y="1580"/>
                </a:lnTo>
                <a:lnTo>
                  <a:pt x="532" y="1592"/>
                </a:lnTo>
                <a:lnTo>
                  <a:pt x="532" y="1602"/>
                </a:lnTo>
                <a:lnTo>
                  <a:pt x="532" y="1613"/>
                </a:lnTo>
                <a:lnTo>
                  <a:pt x="532" y="1623"/>
                </a:lnTo>
                <a:lnTo>
                  <a:pt x="534" y="1634"/>
                </a:lnTo>
                <a:lnTo>
                  <a:pt x="536" y="1646"/>
                </a:lnTo>
                <a:lnTo>
                  <a:pt x="537" y="1658"/>
                </a:lnTo>
                <a:lnTo>
                  <a:pt x="537" y="1667"/>
                </a:lnTo>
                <a:lnTo>
                  <a:pt x="539" y="1679"/>
                </a:lnTo>
                <a:lnTo>
                  <a:pt x="541" y="1689"/>
                </a:lnTo>
                <a:lnTo>
                  <a:pt x="543" y="1700"/>
                </a:lnTo>
                <a:lnTo>
                  <a:pt x="545" y="1710"/>
                </a:lnTo>
                <a:lnTo>
                  <a:pt x="549" y="1722"/>
                </a:lnTo>
                <a:lnTo>
                  <a:pt x="551" y="1733"/>
                </a:lnTo>
                <a:lnTo>
                  <a:pt x="555" y="1745"/>
                </a:lnTo>
                <a:lnTo>
                  <a:pt x="557" y="1755"/>
                </a:lnTo>
                <a:lnTo>
                  <a:pt x="561" y="1766"/>
                </a:lnTo>
                <a:lnTo>
                  <a:pt x="563" y="1778"/>
                </a:lnTo>
                <a:lnTo>
                  <a:pt x="567" y="1790"/>
                </a:lnTo>
                <a:lnTo>
                  <a:pt x="569" y="1799"/>
                </a:lnTo>
                <a:lnTo>
                  <a:pt x="572" y="1811"/>
                </a:lnTo>
                <a:lnTo>
                  <a:pt x="574" y="1823"/>
                </a:lnTo>
                <a:lnTo>
                  <a:pt x="580" y="1834"/>
                </a:lnTo>
                <a:lnTo>
                  <a:pt x="582" y="1844"/>
                </a:lnTo>
                <a:lnTo>
                  <a:pt x="586" y="1854"/>
                </a:lnTo>
                <a:lnTo>
                  <a:pt x="588" y="1865"/>
                </a:lnTo>
                <a:lnTo>
                  <a:pt x="592" y="1877"/>
                </a:lnTo>
                <a:lnTo>
                  <a:pt x="594" y="1887"/>
                </a:lnTo>
                <a:lnTo>
                  <a:pt x="598" y="1896"/>
                </a:lnTo>
                <a:lnTo>
                  <a:pt x="601" y="1908"/>
                </a:lnTo>
                <a:lnTo>
                  <a:pt x="605" y="1920"/>
                </a:lnTo>
                <a:lnTo>
                  <a:pt x="607" y="1929"/>
                </a:lnTo>
                <a:lnTo>
                  <a:pt x="609" y="1939"/>
                </a:lnTo>
                <a:lnTo>
                  <a:pt x="611" y="1951"/>
                </a:lnTo>
                <a:lnTo>
                  <a:pt x="615" y="1962"/>
                </a:lnTo>
                <a:lnTo>
                  <a:pt x="617" y="1972"/>
                </a:lnTo>
                <a:lnTo>
                  <a:pt x="619" y="1982"/>
                </a:lnTo>
                <a:lnTo>
                  <a:pt x="621" y="1993"/>
                </a:lnTo>
                <a:lnTo>
                  <a:pt x="625" y="2005"/>
                </a:lnTo>
                <a:lnTo>
                  <a:pt x="627" y="2024"/>
                </a:lnTo>
                <a:lnTo>
                  <a:pt x="629" y="2046"/>
                </a:lnTo>
                <a:lnTo>
                  <a:pt x="629" y="2055"/>
                </a:lnTo>
                <a:lnTo>
                  <a:pt x="629" y="2067"/>
                </a:lnTo>
                <a:lnTo>
                  <a:pt x="629" y="2077"/>
                </a:lnTo>
                <a:lnTo>
                  <a:pt x="629" y="2088"/>
                </a:lnTo>
                <a:lnTo>
                  <a:pt x="627" y="2108"/>
                </a:lnTo>
                <a:lnTo>
                  <a:pt x="625" y="2129"/>
                </a:lnTo>
                <a:lnTo>
                  <a:pt x="621" y="2148"/>
                </a:lnTo>
                <a:lnTo>
                  <a:pt x="617" y="2170"/>
                </a:lnTo>
                <a:lnTo>
                  <a:pt x="609" y="2187"/>
                </a:lnTo>
                <a:lnTo>
                  <a:pt x="603" y="2206"/>
                </a:lnTo>
                <a:lnTo>
                  <a:pt x="600" y="2224"/>
                </a:lnTo>
                <a:lnTo>
                  <a:pt x="596" y="2243"/>
                </a:lnTo>
                <a:lnTo>
                  <a:pt x="592" y="2261"/>
                </a:lnTo>
                <a:lnTo>
                  <a:pt x="588" y="2280"/>
                </a:lnTo>
                <a:lnTo>
                  <a:pt x="584" y="2298"/>
                </a:lnTo>
                <a:lnTo>
                  <a:pt x="582" y="2317"/>
                </a:lnTo>
                <a:lnTo>
                  <a:pt x="576" y="2334"/>
                </a:lnTo>
                <a:lnTo>
                  <a:pt x="572" y="2354"/>
                </a:lnTo>
                <a:lnTo>
                  <a:pt x="567" y="2371"/>
                </a:lnTo>
                <a:lnTo>
                  <a:pt x="561" y="2391"/>
                </a:lnTo>
                <a:lnTo>
                  <a:pt x="551" y="2408"/>
                </a:lnTo>
                <a:lnTo>
                  <a:pt x="543" y="2428"/>
                </a:lnTo>
                <a:lnTo>
                  <a:pt x="534" y="2447"/>
                </a:lnTo>
                <a:lnTo>
                  <a:pt x="524" y="2466"/>
                </a:lnTo>
                <a:lnTo>
                  <a:pt x="673" y="2466"/>
                </a:lnTo>
                <a:lnTo>
                  <a:pt x="675" y="2451"/>
                </a:lnTo>
                <a:lnTo>
                  <a:pt x="679" y="2437"/>
                </a:lnTo>
                <a:lnTo>
                  <a:pt x="683" y="2422"/>
                </a:lnTo>
                <a:lnTo>
                  <a:pt x="687" y="2408"/>
                </a:lnTo>
                <a:lnTo>
                  <a:pt x="689" y="2393"/>
                </a:lnTo>
                <a:lnTo>
                  <a:pt x="695" y="2379"/>
                </a:lnTo>
                <a:lnTo>
                  <a:pt x="697" y="2365"/>
                </a:lnTo>
                <a:lnTo>
                  <a:pt x="702" y="2352"/>
                </a:lnTo>
                <a:lnTo>
                  <a:pt x="704" y="2336"/>
                </a:lnTo>
                <a:lnTo>
                  <a:pt x="708" y="2323"/>
                </a:lnTo>
                <a:lnTo>
                  <a:pt x="710" y="2307"/>
                </a:lnTo>
                <a:lnTo>
                  <a:pt x="714" y="2294"/>
                </a:lnTo>
                <a:lnTo>
                  <a:pt x="716" y="2278"/>
                </a:lnTo>
                <a:lnTo>
                  <a:pt x="720" y="2265"/>
                </a:lnTo>
                <a:lnTo>
                  <a:pt x="722" y="2251"/>
                </a:lnTo>
                <a:lnTo>
                  <a:pt x="726" y="2238"/>
                </a:lnTo>
                <a:lnTo>
                  <a:pt x="726" y="2222"/>
                </a:lnTo>
                <a:lnTo>
                  <a:pt x="729" y="2208"/>
                </a:lnTo>
                <a:lnTo>
                  <a:pt x="729" y="2193"/>
                </a:lnTo>
                <a:lnTo>
                  <a:pt x="733" y="2179"/>
                </a:lnTo>
                <a:lnTo>
                  <a:pt x="733" y="2164"/>
                </a:lnTo>
                <a:lnTo>
                  <a:pt x="735" y="2150"/>
                </a:lnTo>
                <a:lnTo>
                  <a:pt x="737" y="2135"/>
                </a:lnTo>
                <a:lnTo>
                  <a:pt x="739" y="2121"/>
                </a:lnTo>
                <a:lnTo>
                  <a:pt x="739" y="2106"/>
                </a:lnTo>
                <a:lnTo>
                  <a:pt x="739" y="2092"/>
                </a:lnTo>
                <a:lnTo>
                  <a:pt x="739" y="2077"/>
                </a:lnTo>
                <a:lnTo>
                  <a:pt x="741" y="2063"/>
                </a:lnTo>
                <a:lnTo>
                  <a:pt x="741" y="2047"/>
                </a:lnTo>
                <a:lnTo>
                  <a:pt x="741" y="2034"/>
                </a:lnTo>
                <a:lnTo>
                  <a:pt x="741" y="2020"/>
                </a:lnTo>
                <a:lnTo>
                  <a:pt x="743" y="2007"/>
                </a:lnTo>
                <a:lnTo>
                  <a:pt x="747" y="1997"/>
                </a:lnTo>
                <a:lnTo>
                  <a:pt x="755" y="1997"/>
                </a:lnTo>
                <a:lnTo>
                  <a:pt x="761" y="2005"/>
                </a:lnTo>
                <a:lnTo>
                  <a:pt x="766" y="2016"/>
                </a:lnTo>
                <a:lnTo>
                  <a:pt x="770" y="2028"/>
                </a:lnTo>
                <a:lnTo>
                  <a:pt x="774" y="2042"/>
                </a:lnTo>
                <a:lnTo>
                  <a:pt x="776" y="2053"/>
                </a:lnTo>
                <a:lnTo>
                  <a:pt x="778" y="2067"/>
                </a:lnTo>
                <a:lnTo>
                  <a:pt x="778" y="2079"/>
                </a:lnTo>
                <a:lnTo>
                  <a:pt x="782" y="2092"/>
                </a:lnTo>
                <a:lnTo>
                  <a:pt x="788" y="2092"/>
                </a:lnTo>
                <a:lnTo>
                  <a:pt x="792" y="2077"/>
                </a:lnTo>
                <a:lnTo>
                  <a:pt x="797" y="2063"/>
                </a:lnTo>
                <a:lnTo>
                  <a:pt x="801" y="2047"/>
                </a:lnTo>
                <a:lnTo>
                  <a:pt x="807" y="2034"/>
                </a:lnTo>
                <a:lnTo>
                  <a:pt x="809" y="2016"/>
                </a:lnTo>
                <a:lnTo>
                  <a:pt x="813" y="2003"/>
                </a:lnTo>
                <a:lnTo>
                  <a:pt x="817" y="1985"/>
                </a:lnTo>
                <a:lnTo>
                  <a:pt x="821" y="1972"/>
                </a:lnTo>
                <a:lnTo>
                  <a:pt x="823" y="1954"/>
                </a:lnTo>
                <a:lnTo>
                  <a:pt x="826" y="1941"/>
                </a:lnTo>
                <a:lnTo>
                  <a:pt x="828" y="1923"/>
                </a:lnTo>
                <a:lnTo>
                  <a:pt x="834" y="1910"/>
                </a:lnTo>
                <a:lnTo>
                  <a:pt x="838" y="1894"/>
                </a:lnTo>
                <a:lnTo>
                  <a:pt x="842" y="1881"/>
                </a:lnTo>
                <a:lnTo>
                  <a:pt x="848" y="1865"/>
                </a:lnTo>
                <a:lnTo>
                  <a:pt x="856" y="1854"/>
                </a:lnTo>
                <a:lnTo>
                  <a:pt x="857" y="1842"/>
                </a:lnTo>
                <a:lnTo>
                  <a:pt x="859" y="1832"/>
                </a:lnTo>
                <a:lnTo>
                  <a:pt x="861" y="1821"/>
                </a:lnTo>
                <a:lnTo>
                  <a:pt x="865" y="1811"/>
                </a:lnTo>
                <a:lnTo>
                  <a:pt x="869" y="1790"/>
                </a:lnTo>
                <a:lnTo>
                  <a:pt x="875" y="1770"/>
                </a:lnTo>
                <a:lnTo>
                  <a:pt x="879" y="1749"/>
                </a:lnTo>
                <a:lnTo>
                  <a:pt x="883" y="1729"/>
                </a:lnTo>
                <a:lnTo>
                  <a:pt x="887" y="1708"/>
                </a:lnTo>
                <a:lnTo>
                  <a:pt x="892" y="1689"/>
                </a:lnTo>
                <a:lnTo>
                  <a:pt x="896" y="1667"/>
                </a:lnTo>
                <a:lnTo>
                  <a:pt x="900" y="1648"/>
                </a:lnTo>
                <a:lnTo>
                  <a:pt x="904" y="1627"/>
                </a:lnTo>
                <a:lnTo>
                  <a:pt x="910" y="1607"/>
                </a:lnTo>
                <a:lnTo>
                  <a:pt x="914" y="1586"/>
                </a:lnTo>
                <a:lnTo>
                  <a:pt x="918" y="1567"/>
                </a:lnTo>
                <a:lnTo>
                  <a:pt x="923" y="1545"/>
                </a:lnTo>
                <a:lnTo>
                  <a:pt x="929" y="1526"/>
                </a:lnTo>
                <a:lnTo>
                  <a:pt x="929" y="1505"/>
                </a:lnTo>
                <a:lnTo>
                  <a:pt x="933" y="1487"/>
                </a:lnTo>
                <a:lnTo>
                  <a:pt x="933" y="1466"/>
                </a:lnTo>
                <a:lnTo>
                  <a:pt x="937" y="1448"/>
                </a:lnTo>
                <a:lnTo>
                  <a:pt x="939" y="1427"/>
                </a:lnTo>
                <a:lnTo>
                  <a:pt x="943" y="1410"/>
                </a:lnTo>
                <a:lnTo>
                  <a:pt x="945" y="1388"/>
                </a:lnTo>
                <a:lnTo>
                  <a:pt x="949" y="1371"/>
                </a:lnTo>
                <a:lnTo>
                  <a:pt x="949" y="1349"/>
                </a:lnTo>
                <a:lnTo>
                  <a:pt x="953" y="1332"/>
                </a:lnTo>
                <a:lnTo>
                  <a:pt x="953" y="1311"/>
                </a:lnTo>
                <a:lnTo>
                  <a:pt x="956" y="1293"/>
                </a:lnTo>
                <a:lnTo>
                  <a:pt x="958" y="1272"/>
                </a:lnTo>
                <a:lnTo>
                  <a:pt x="960" y="1254"/>
                </a:lnTo>
                <a:lnTo>
                  <a:pt x="962" y="1233"/>
                </a:lnTo>
                <a:lnTo>
                  <a:pt x="966" y="1216"/>
                </a:lnTo>
                <a:lnTo>
                  <a:pt x="966" y="1194"/>
                </a:lnTo>
                <a:lnTo>
                  <a:pt x="968" y="1175"/>
                </a:lnTo>
                <a:lnTo>
                  <a:pt x="968" y="1156"/>
                </a:lnTo>
                <a:lnTo>
                  <a:pt x="970" y="1136"/>
                </a:lnTo>
                <a:lnTo>
                  <a:pt x="970" y="1117"/>
                </a:lnTo>
                <a:lnTo>
                  <a:pt x="970" y="1097"/>
                </a:lnTo>
                <a:lnTo>
                  <a:pt x="970" y="1078"/>
                </a:lnTo>
                <a:lnTo>
                  <a:pt x="970" y="1061"/>
                </a:lnTo>
                <a:lnTo>
                  <a:pt x="968" y="1039"/>
                </a:lnTo>
                <a:lnTo>
                  <a:pt x="968" y="1020"/>
                </a:lnTo>
                <a:lnTo>
                  <a:pt x="966" y="1000"/>
                </a:lnTo>
                <a:lnTo>
                  <a:pt x="964" y="981"/>
                </a:lnTo>
                <a:lnTo>
                  <a:pt x="960" y="962"/>
                </a:lnTo>
                <a:lnTo>
                  <a:pt x="958" y="942"/>
                </a:lnTo>
                <a:lnTo>
                  <a:pt x="954" y="923"/>
                </a:lnTo>
                <a:lnTo>
                  <a:pt x="953" y="905"/>
                </a:lnTo>
                <a:lnTo>
                  <a:pt x="949" y="892"/>
                </a:lnTo>
                <a:lnTo>
                  <a:pt x="947" y="880"/>
                </a:lnTo>
                <a:lnTo>
                  <a:pt x="945" y="869"/>
                </a:lnTo>
                <a:lnTo>
                  <a:pt x="945" y="857"/>
                </a:lnTo>
                <a:lnTo>
                  <a:pt x="943" y="845"/>
                </a:lnTo>
                <a:lnTo>
                  <a:pt x="941" y="834"/>
                </a:lnTo>
                <a:lnTo>
                  <a:pt x="939" y="822"/>
                </a:lnTo>
                <a:lnTo>
                  <a:pt x="939" y="810"/>
                </a:lnTo>
                <a:lnTo>
                  <a:pt x="935" y="797"/>
                </a:lnTo>
                <a:lnTo>
                  <a:pt x="935" y="785"/>
                </a:lnTo>
                <a:lnTo>
                  <a:pt x="931" y="774"/>
                </a:lnTo>
                <a:lnTo>
                  <a:pt x="931" y="762"/>
                </a:lnTo>
                <a:lnTo>
                  <a:pt x="927" y="750"/>
                </a:lnTo>
                <a:lnTo>
                  <a:pt x="925" y="739"/>
                </a:lnTo>
                <a:lnTo>
                  <a:pt x="921" y="727"/>
                </a:lnTo>
                <a:lnTo>
                  <a:pt x="920" y="717"/>
                </a:lnTo>
                <a:lnTo>
                  <a:pt x="916" y="706"/>
                </a:lnTo>
                <a:lnTo>
                  <a:pt x="912" y="694"/>
                </a:lnTo>
                <a:lnTo>
                  <a:pt x="908" y="682"/>
                </a:lnTo>
                <a:lnTo>
                  <a:pt x="906" y="671"/>
                </a:lnTo>
                <a:lnTo>
                  <a:pt x="902" y="659"/>
                </a:lnTo>
                <a:lnTo>
                  <a:pt x="900" y="649"/>
                </a:lnTo>
                <a:lnTo>
                  <a:pt x="896" y="638"/>
                </a:lnTo>
                <a:lnTo>
                  <a:pt x="894" y="628"/>
                </a:lnTo>
                <a:lnTo>
                  <a:pt x="889" y="617"/>
                </a:lnTo>
                <a:lnTo>
                  <a:pt x="887" y="605"/>
                </a:lnTo>
                <a:lnTo>
                  <a:pt x="881" y="595"/>
                </a:lnTo>
                <a:lnTo>
                  <a:pt x="879" y="585"/>
                </a:lnTo>
                <a:lnTo>
                  <a:pt x="875" y="574"/>
                </a:lnTo>
                <a:lnTo>
                  <a:pt x="871" y="562"/>
                </a:lnTo>
                <a:lnTo>
                  <a:pt x="867" y="553"/>
                </a:lnTo>
                <a:lnTo>
                  <a:pt x="865" y="543"/>
                </a:lnTo>
                <a:lnTo>
                  <a:pt x="859" y="531"/>
                </a:lnTo>
                <a:lnTo>
                  <a:pt x="856" y="520"/>
                </a:lnTo>
                <a:lnTo>
                  <a:pt x="852" y="510"/>
                </a:lnTo>
                <a:lnTo>
                  <a:pt x="850" y="500"/>
                </a:lnTo>
                <a:lnTo>
                  <a:pt x="844" y="489"/>
                </a:lnTo>
                <a:lnTo>
                  <a:pt x="840" y="477"/>
                </a:lnTo>
                <a:lnTo>
                  <a:pt x="836" y="467"/>
                </a:lnTo>
                <a:lnTo>
                  <a:pt x="834" y="458"/>
                </a:lnTo>
                <a:lnTo>
                  <a:pt x="828" y="446"/>
                </a:lnTo>
                <a:lnTo>
                  <a:pt x="826" y="434"/>
                </a:lnTo>
                <a:lnTo>
                  <a:pt x="821" y="425"/>
                </a:lnTo>
                <a:lnTo>
                  <a:pt x="819" y="415"/>
                </a:lnTo>
                <a:lnTo>
                  <a:pt x="815" y="403"/>
                </a:lnTo>
                <a:lnTo>
                  <a:pt x="813" y="392"/>
                </a:lnTo>
                <a:lnTo>
                  <a:pt x="809" y="382"/>
                </a:lnTo>
                <a:lnTo>
                  <a:pt x="807" y="372"/>
                </a:lnTo>
                <a:lnTo>
                  <a:pt x="803" y="361"/>
                </a:lnTo>
                <a:lnTo>
                  <a:pt x="799" y="351"/>
                </a:lnTo>
                <a:lnTo>
                  <a:pt x="793" y="339"/>
                </a:lnTo>
                <a:lnTo>
                  <a:pt x="790" y="330"/>
                </a:lnTo>
                <a:lnTo>
                  <a:pt x="780" y="310"/>
                </a:lnTo>
                <a:lnTo>
                  <a:pt x="774" y="293"/>
                </a:lnTo>
                <a:lnTo>
                  <a:pt x="768" y="281"/>
                </a:lnTo>
                <a:lnTo>
                  <a:pt x="762" y="269"/>
                </a:lnTo>
                <a:lnTo>
                  <a:pt x="755" y="258"/>
                </a:lnTo>
                <a:lnTo>
                  <a:pt x="749" y="248"/>
                </a:lnTo>
                <a:lnTo>
                  <a:pt x="733" y="227"/>
                </a:lnTo>
                <a:lnTo>
                  <a:pt x="718" y="207"/>
                </a:lnTo>
                <a:lnTo>
                  <a:pt x="704" y="194"/>
                </a:lnTo>
                <a:lnTo>
                  <a:pt x="689" y="188"/>
                </a:lnTo>
                <a:lnTo>
                  <a:pt x="671" y="182"/>
                </a:lnTo>
                <a:lnTo>
                  <a:pt x="656" y="176"/>
                </a:lnTo>
                <a:lnTo>
                  <a:pt x="662" y="171"/>
                </a:lnTo>
                <a:lnTo>
                  <a:pt x="660" y="153"/>
                </a:lnTo>
                <a:lnTo>
                  <a:pt x="658" y="134"/>
                </a:lnTo>
                <a:lnTo>
                  <a:pt x="650" y="116"/>
                </a:lnTo>
                <a:lnTo>
                  <a:pt x="638" y="105"/>
                </a:lnTo>
                <a:lnTo>
                  <a:pt x="633" y="87"/>
                </a:lnTo>
                <a:lnTo>
                  <a:pt x="623" y="76"/>
                </a:lnTo>
                <a:lnTo>
                  <a:pt x="607" y="66"/>
                </a:lnTo>
                <a:lnTo>
                  <a:pt x="594" y="60"/>
                </a:lnTo>
                <a:lnTo>
                  <a:pt x="582" y="54"/>
                </a:lnTo>
                <a:lnTo>
                  <a:pt x="570" y="48"/>
                </a:lnTo>
                <a:lnTo>
                  <a:pt x="559" y="43"/>
                </a:lnTo>
                <a:lnTo>
                  <a:pt x="547" y="37"/>
                </a:lnTo>
                <a:lnTo>
                  <a:pt x="536" y="31"/>
                </a:lnTo>
                <a:lnTo>
                  <a:pt x="524" y="27"/>
                </a:lnTo>
                <a:lnTo>
                  <a:pt x="512" y="23"/>
                </a:lnTo>
                <a:lnTo>
                  <a:pt x="503" y="21"/>
                </a:lnTo>
                <a:lnTo>
                  <a:pt x="485" y="15"/>
                </a:lnTo>
                <a:lnTo>
                  <a:pt x="473" y="12"/>
                </a:lnTo>
                <a:lnTo>
                  <a:pt x="462" y="8"/>
                </a:lnTo>
                <a:lnTo>
                  <a:pt x="450" y="6"/>
                </a:lnTo>
                <a:lnTo>
                  <a:pt x="437" y="2"/>
                </a:lnTo>
                <a:lnTo>
                  <a:pt x="425" y="0"/>
                </a:lnTo>
                <a:lnTo>
                  <a:pt x="411" y="0"/>
                </a:lnTo>
                <a:lnTo>
                  <a:pt x="400" y="2"/>
                </a:lnTo>
                <a:lnTo>
                  <a:pt x="382" y="8"/>
                </a:lnTo>
                <a:lnTo>
                  <a:pt x="367" y="12"/>
                </a:lnTo>
                <a:lnTo>
                  <a:pt x="349" y="13"/>
                </a:lnTo>
                <a:lnTo>
                  <a:pt x="334" y="19"/>
                </a:lnTo>
                <a:lnTo>
                  <a:pt x="322" y="23"/>
                </a:lnTo>
                <a:lnTo>
                  <a:pt x="311" y="27"/>
                </a:lnTo>
                <a:lnTo>
                  <a:pt x="299" y="31"/>
                </a:lnTo>
                <a:lnTo>
                  <a:pt x="289" y="37"/>
                </a:lnTo>
                <a:lnTo>
                  <a:pt x="268" y="48"/>
                </a:lnTo>
                <a:lnTo>
                  <a:pt x="249" y="62"/>
                </a:lnTo>
                <a:lnTo>
                  <a:pt x="227" y="74"/>
                </a:lnTo>
                <a:lnTo>
                  <a:pt x="208" y="89"/>
                </a:lnTo>
                <a:lnTo>
                  <a:pt x="188" y="105"/>
                </a:lnTo>
                <a:lnTo>
                  <a:pt x="171" y="122"/>
                </a:lnTo>
                <a:lnTo>
                  <a:pt x="152" y="138"/>
                </a:lnTo>
                <a:lnTo>
                  <a:pt x="132" y="155"/>
                </a:lnTo>
                <a:lnTo>
                  <a:pt x="115" y="172"/>
                </a:lnTo>
                <a:lnTo>
                  <a:pt x="97" y="192"/>
                </a:lnTo>
                <a:lnTo>
                  <a:pt x="80" y="209"/>
                </a:lnTo>
                <a:lnTo>
                  <a:pt x="62" y="229"/>
                </a:lnTo>
                <a:lnTo>
                  <a:pt x="47" y="248"/>
                </a:lnTo>
                <a:lnTo>
                  <a:pt x="31" y="267"/>
                </a:lnTo>
                <a:lnTo>
                  <a:pt x="22" y="277"/>
                </a:lnTo>
                <a:lnTo>
                  <a:pt x="12" y="291"/>
                </a:lnTo>
                <a:lnTo>
                  <a:pt x="4" y="302"/>
                </a:lnTo>
                <a:lnTo>
                  <a:pt x="0" y="320"/>
                </a:lnTo>
                <a:lnTo>
                  <a:pt x="20" y="312"/>
                </a:lnTo>
                <a:lnTo>
                  <a:pt x="41" y="302"/>
                </a:lnTo>
                <a:lnTo>
                  <a:pt x="60" y="289"/>
                </a:lnTo>
                <a:lnTo>
                  <a:pt x="80" y="277"/>
                </a:lnTo>
                <a:lnTo>
                  <a:pt x="97" y="262"/>
                </a:lnTo>
                <a:lnTo>
                  <a:pt x="117" y="248"/>
                </a:lnTo>
                <a:lnTo>
                  <a:pt x="134" y="236"/>
                </a:lnTo>
                <a:lnTo>
                  <a:pt x="155" y="227"/>
                </a:lnTo>
                <a:lnTo>
                  <a:pt x="153" y="238"/>
                </a:lnTo>
                <a:lnTo>
                  <a:pt x="148" y="250"/>
                </a:lnTo>
                <a:lnTo>
                  <a:pt x="128" y="262"/>
                </a:lnTo>
                <a:lnTo>
                  <a:pt x="111" y="273"/>
                </a:lnTo>
                <a:lnTo>
                  <a:pt x="95" y="287"/>
                </a:lnTo>
                <a:lnTo>
                  <a:pt x="80" y="300"/>
                </a:lnTo>
                <a:lnTo>
                  <a:pt x="62" y="314"/>
                </a:lnTo>
                <a:lnTo>
                  <a:pt x="49" y="330"/>
                </a:lnTo>
                <a:lnTo>
                  <a:pt x="33" y="343"/>
                </a:lnTo>
                <a:lnTo>
                  <a:pt x="20" y="361"/>
                </a:lnTo>
                <a:close/>
              </a:path>
            </a:pathLst>
          </a:custGeom>
          <a:solidFill>
            <a:srgbClr val="00cce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72" name=""/>
          <p:cNvSpPr/>
          <p:nvPr/>
        </p:nvSpPr>
        <p:spPr>
          <a:xfrm>
            <a:off x="5942160" y="4416480"/>
            <a:ext cx="422280" cy="1622520"/>
          </a:xfrm>
          <a:custGeom>
            <a:avLst/>
            <a:gdLst/>
            <a:ahLst/>
            <a:rect l="l" t="t" r="r" b="b"/>
            <a:pathLst>
              <a:path w="531" h="2043">
                <a:moveTo>
                  <a:pt x="531" y="0"/>
                </a:moveTo>
                <a:lnTo>
                  <a:pt x="522" y="15"/>
                </a:lnTo>
                <a:lnTo>
                  <a:pt x="512" y="33"/>
                </a:lnTo>
                <a:lnTo>
                  <a:pt x="502" y="50"/>
                </a:lnTo>
                <a:lnTo>
                  <a:pt x="495" y="67"/>
                </a:lnTo>
                <a:lnTo>
                  <a:pt x="483" y="83"/>
                </a:lnTo>
                <a:lnTo>
                  <a:pt x="473" y="100"/>
                </a:lnTo>
                <a:lnTo>
                  <a:pt x="464" y="116"/>
                </a:lnTo>
                <a:lnTo>
                  <a:pt x="454" y="133"/>
                </a:lnTo>
                <a:lnTo>
                  <a:pt x="442" y="147"/>
                </a:lnTo>
                <a:lnTo>
                  <a:pt x="432" y="164"/>
                </a:lnTo>
                <a:lnTo>
                  <a:pt x="421" y="178"/>
                </a:lnTo>
                <a:lnTo>
                  <a:pt x="411" y="195"/>
                </a:lnTo>
                <a:lnTo>
                  <a:pt x="400" y="211"/>
                </a:lnTo>
                <a:lnTo>
                  <a:pt x="388" y="226"/>
                </a:lnTo>
                <a:lnTo>
                  <a:pt x="378" y="242"/>
                </a:lnTo>
                <a:lnTo>
                  <a:pt x="368" y="259"/>
                </a:lnTo>
                <a:lnTo>
                  <a:pt x="357" y="275"/>
                </a:lnTo>
                <a:lnTo>
                  <a:pt x="347" y="290"/>
                </a:lnTo>
                <a:lnTo>
                  <a:pt x="337" y="306"/>
                </a:lnTo>
                <a:lnTo>
                  <a:pt x="330" y="323"/>
                </a:lnTo>
                <a:lnTo>
                  <a:pt x="320" y="339"/>
                </a:lnTo>
                <a:lnTo>
                  <a:pt x="312" y="356"/>
                </a:lnTo>
                <a:lnTo>
                  <a:pt x="304" y="374"/>
                </a:lnTo>
                <a:lnTo>
                  <a:pt x="299" y="393"/>
                </a:lnTo>
                <a:lnTo>
                  <a:pt x="291" y="411"/>
                </a:lnTo>
                <a:lnTo>
                  <a:pt x="285" y="428"/>
                </a:lnTo>
                <a:lnTo>
                  <a:pt x="281" y="446"/>
                </a:lnTo>
                <a:lnTo>
                  <a:pt x="277" y="467"/>
                </a:lnTo>
                <a:lnTo>
                  <a:pt x="273" y="484"/>
                </a:lnTo>
                <a:lnTo>
                  <a:pt x="272" y="506"/>
                </a:lnTo>
                <a:lnTo>
                  <a:pt x="272" y="515"/>
                </a:lnTo>
                <a:lnTo>
                  <a:pt x="272" y="527"/>
                </a:lnTo>
                <a:lnTo>
                  <a:pt x="272" y="539"/>
                </a:lnTo>
                <a:lnTo>
                  <a:pt x="272" y="550"/>
                </a:lnTo>
                <a:lnTo>
                  <a:pt x="256" y="546"/>
                </a:lnTo>
                <a:lnTo>
                  <a:pt x="242" y="537"/>
                </a:lnTo>
                <a:lnTo>
                  <a:pt x="225" y="523"/>
                </a:lnTo>
                <a:lnTo>
                  <a:pt x="208" y="510"/>
                </a:lnTo>
                <a:lnTo>
                  <a:pt x="190" y="494"/>
                </a:lnTo>
                <a:lnTo>
                  <a:pt x="175" y="479"/>
                </a:lnTo>
                <a:lnTo>
                  <a:pt x="161" y="463"/>
                </a:lnTo>
                <a:lnTo>
                  <a:pt x="151" y="453"/>
                </a:lnTo>
                <a:lnTo>
                  <a:pt x="145" y="465"/>
                </a:lnTo>
                <a:lnTo>
                  <a:pt x="140" y="477"/>
                </a:lnTo>
                <a:lnTo>
                  <a:pt x="134" y="488"/>
                </a:lnTo>
                <a:lnTo>
                  <a:pt x="132" y="500"/>
                </a:lnTo>
                <a:lnTo>
                  <a:pt x="126" y="511"/>
                </a:lnTo>
                <a:lnTo>
                  <a:pt x="124" y="525"/>
                </a:lnTo>
                <a:lnTo>
                  <a:pt x="120" y="539"/>
                </a:lnTo>
                <a:lnTo>
                  <a:pt x="120" y="554"/>
                </a:lnTo>
                <a:lnTo>
                  <a:pt x="118" y="566"/>
                </a:lnTo>
                <a:lnTo>
                  <a:pt x="116" y="581"/>
                </a:lnTo>
                <a:lnTo>
                  <a:pt x="116" y="595"/>
                </a:lnTo>
                <a:lnTo>
                  <a:pt x="116" y="610"/>
                </a:lnTo>
                <a:lnTo>
                  <a:pt x="116" y="624"/>
                </a:lnTo>
                <a:lnTo>
                  <a:pt x="116" y="641"/>
                </a:lnTo>
                <a:lnTo>
                  <a:pt x="118" y="655"/>
                </a:lnTo>
                <a:lnTo>
                  <a:pt x="120" y="672"/>
                </a:lnTo>
                <a:lnTo>
                  <a:pt x="120" y="686"/>
                </a:lnTo>
                <a:lnTo>
                  <a:pt x="120" y="702"/>
                </a:lnTo>
                <a:lnTo>
                  <a:pt x="122" y="715"/>
                </a:lnTo>
                <a:lnTo>
                  <a:pt x="124" y="733"/>
                </a:lnTo>
                <a:lnTo>
                  <a:pt x="126" y="746"/>
                </a:lnTo>
                <a:lnTo>
                  <a:pt x="130" y="762"/>
                </a:lnTo>
                <a:lnTo>
                  <a:pt x="132" y="777"/>
                </a:lnTo>
                <a:lnTo>
                  <a:pt x="136" y="795"/>
                </a:lnTo>
                <a:lnTo>
                  <a:pt x="136" y="810"/>
                </a:lnTo>
                <a:lnTo>
                  <a:pt x="140" y="826"/>
                </a:lnTo>
                <a:lnTo>
                  <a:pt x="142" y="841"/>
                </a:lnTo>
                <a:lnTo>
                  <a:pt x="145" y="859"/>
                </a:lnTo>
                <a:lnTo>
                  <a:pt x="147" y="874"/>
                </a:lnTo>
                <a:lnTo>
                  <a:pt x="151" y="890"/>
                </a:lnTo>
                <a:lnTo>
                  <a:pt x="155" y="905"/>
                </a:lnTo>
                <a:lnTo>
                  <a:pt x="159" y="923"/>
                </a:lnTo>
                <a:lnTo>
                  <a:pt x="161" y="936"/>
                </a:lnTo>
                <a:lnTo>
                  <a:pt x="163" y="952"/>
                </a:lnTo>
                <a:lnTo>
                  <a:pt x="165" y="967"/>
                </a:lnTo>
                <a:lnTo>
                  <a:pt x="169" y="983"/>
                </a:lnTo>
                <a:lnTo>
                  <a:pt x="171" y="998"/>
                </a:lnTo>
                <a:lnTo>
                  <a:pt x="173" y="1014"/>
                </a:lnTo>
                <a:lnTo>
                  <a:pt x="175" y="1029"/>
                </a:lnTo>
                <a:lnTo>
                  <a:pt x="178" y="1045"/>
                </a:lnTo>
                <a:lnTo>
                  <a:pt x="178" y="1058"/>
                </a:lnTo>
                <a:lnTo>
                  <a:pt x="180" y="1074"/>
                </a:lnTo>
                <a:lnTo>
                  <a:pt x="182" y="1087"/>
                </a:lnTo>
                <a:lnTo>
                  <a:pt x="184" y="1103"/>
                </a:lnTo>
                <a:lnTo>
                  <a:pt x="184" y="1116"/>
                </a:lnTo>
                <a:lnTo>
                  <a:pt x="184" y="1132"/>
                </a:lnTo>
                <a:lnTo>
                  <a:pt x="184" y="1146"/>
                </a:lnTo>
                <a:lnTo>
                  <a:pt x="186" y="1161"/>
                </a:lnTo>
                <a:lnTo>
                  <a:pt x="184" y="1173"/>
                </a:lnTo>
                <a:lnTo>
                  <a:pt x="184" y="1186"/>
                </a:lnTo>
                <a:lnTo>
                  <a:pt x="182" y="1200"/>
                </a:lnTo>
                <a:lnTo>
                  <a:pt x="180" y="1213"/>
                </a:lnTo>
                <a:lnTo>
                  <a:pt x="176" y="1225"/>
                </a:lnTo>
                <a:lnTo>
                  <a:pt x="175" y="1237"/>
                </a:lnTo>
                <a:lnTo>
                  <a:pt x="173" y="1248"/>
                </a:lnTo>
                <a:lnTo>
                  <a:pt x="171" y="1262"/>
                </a:lnTo>
                <a:lnTo>
                  <a:pt x="165" y="1272"/>
                </a:lnTo>
                <a:lnTo>
                  <a:pt x="161" y="1283"/>
                </a:lnTo>
                <a:lnTo>
                  <a:pt x="155" y="1295"/>
                </a:lnTo>
                <a:lnTo>
                  <a:pt x="151" y="1306"/>
                </a:lnTo>
                <a:lnTo>
                  <a:pt x="138" y="1326"/>
                </a:lnTo>
                <a:lnTo>
                  <a:pt x="122" y="1347"/>
                </a:lnTo>
                <a:lnTo>
                  <a:pt x="109" y="1336"/>
                </a:lnTo>
                <a:lnTo>
                  <a:pt x="99" y="1320"/>
                </a:lnTo>
                <a:lnTo>
                  <a:pt x="93" y="1301"/>
                </a:lnTo>
                <a:lnTo>
                  <a:pt x="89" y="1283"/>
                </a:lnTo>
                <a:lnTo>
                  <a:pt x="83" y="1262"/>
                </a:lnTo>
                <a:lnTo>
                  <a:pt x="80" y="1244"/>
                </a:lnTo>
                <a:lnTo>
                  <a:pt x="72" y="1227"/>
                </a:lnTo>
                <a:lnTo>
                  <a:pt x="66" y="1217"/>
                </a:lnTo>
                <a:lnTo>
                  <a:pt x="48" y="1233"/>
                </a:lnTo>
                <a:lnTo>
                  <a:pt x="37" y="1252"/>
                </a:lnTo>
                <a:lnTo>
                  <a:pt x="31" y="1262"/>
                </a:lnTo>
                <a:lnTo>
                  <a:pt x="25" y="1274"/>
                </a:lnTo>
                <a:lnTo>
                  <a:pt x="21" y="1287"/>
                </a:lnTo>
                <a:lnTo>
                  <a:pt x="19" y="1301"/>
                </a:lnTo>
                <a:lnTo>
                  <a:pt x="14" y="1312"/>
                </a:lnTo>
                <a:lnTo>
                  <a:pt x="12" y="1324"/>
                </a:lnTo>
                <a:lnTo>
                  <a:pt x="8" y="1338"/>
                </a:lnTo>
                <a:lnTo>
                  <a:pt x="6" y="1353"/>
                </a:lnTo>
                <a:lnTo>
                  <a:pt x="4" y="1367"/>
                </a:lnTo>
                <a:lnTo>
                  <a:pt x="2" y="1382"/>
                </a:lnTo>
                <a:lnTo>
                  <a:pt x="2" y="1396"/>
                </a:lnTo>
                <a:lnTo>
                  <a:pt x="2" y="1413"/>
                </a:lnTo>
                <a:lnTo>
                  <a:pt x="0" y="1427"/>
                </a:lnTo>
                <a:lnTo>
                  <a:pt x="0" y="1442"/>
                </a:lnTo>
                <a:lnTo>
                  <a:pt x="0" y="1456"/>
                </a:lnTo>
                <a:lnTo>
                  <a:pt x="0" y="1471"/>
                </a:lnTo>
                <a:lnTo>
                  <a:pt x="0" y="1485"/>
                </a:lnTo>
                <a:lnTo>
                  <a:pt x="0" y="1500"/>
                </a:lnTo>
                <a:lnTo>
                  <a:pt x="2" y="1514"/>
                </a:lnTo>
                <a:lnTo>
                  <a:pt x="4" y="1529"/>
                </a:lnTo>
                <a:lnTo>
                  <a:pt x="4" y="1543"/>
                </a:lnTo>
                <a:lnTo>
                  <a:pt x="6" y="1557"/>
                </a:lnTo>
                <a:lnTo>
                  <a:pt x="8" y="1570"/>
                </a:lnTo>
                <a:lnTo>
                  <a:pt x="10" y="1584"/>
                </a:lnTo>
                <a:lnTo>
                  <a:pt x="12" y="1595"/>
                </a:lnTo>
                <a:lnTo>
                  <a:pt x="16" y="1607"/>
                </a:lnTo>
                <a:lnTo>
                  <a:pt x="17" y="1619"/>
                </a:lnTo>
                <a:lnTo>
                  <a:pt x="21" y="1630"/>
                </a:lnTo>
                <a:lnTo>
                  <a:pt x="23" y="1642"/>
                </a:lnTo>
                <a:lnTo>
                  <a:pt x="25" y="1656"/>
                </a:lnTo>
                <a:lnTo>
                  <a:pt x="27" y="1669"/>
                </a:lnTo>
                <a:lnTo>
                  <a:pt x="31" y="1683"/>
                </a:lnTo>
                <a:lnTo>
                  <a:pt x="31" y="1694"/>
                </a:lnTo>
                <a:lnTo>
                  <a:pt x="33" y="1708"/>
                </a:lnTo>
                <a:lnTo>
                  <a:pt x="35" y="1721"/>
                </a:lnTo>
                <a:lnTo>
                  <a:pt x="37" y="1735"/>
                </a:lnTo>
                <a:lnTo>
                  <a:pt x="37" y="1747"/>
                </a:lnTo>
                <a:lnTo>
                  <a:pt x="37" y="1760"/>
                </a:lnTo>
                <a:lnTo>
                  <a:pt x="37" y="1774"/>
                </a:lnTo>
                <a:lnTo>
                  <a:pt x="39" y="1787"/>
                </a:lnTo>
                <a:lnTo>
                  <a:pt x="39" y="1801"/>
                </a:lnTo>
                <a:lnTo>
                  <a:pt x="39" y="1815"/>
                </a:lnTo>
                <a:lnTo>
                  <a:pt x="39" y="1828"/>
                </a:lnTo>
                <a:lnTo>
                  <a:pt x="41" y="1842"/>
                </a:lnTo>
                <a:lnTo>
                  <a:pt x="39" y="1853"/>
                </a:lnTo>
                <a:lnTo>
                  <a:pt x="37" y="1865"/>
                </a:lnTo>
                <a:lnTo>
                  <a:pt x="35" y="1878"/>
                </a:lnTo>
                <a:lnTo>
                  <a:pt x="35" y="1892"/>
                </a:lnTo>
                <a:lnTo>
                  <a:pt x="33" y="1904"/>
                </a:lnTo>
                <a:lnTo>
                  <a:pt x="33" y="1915"/>
                </a:lnTo>
                <a:lnTo>
                  <a:pt x="31" y="1929"/>
                </a:lnTo>
                <a:lnTo>
                  <a:pt x="31" y="1942"/>
                </a:lnTo>
                <a:lnTo>
                  <a:pt x="27" y="1954"/>
                </a:lnTo>
                <a:lnTo>
                  <a:pt x="25" y="1966"/>
                </a:lnTo>
                <a:lnTo>
                  <a:pt x="23" y="1979"/>
                </a:lnTo>
                <a:lnTo>
                  <a:pt x="21" y="1993"/>
                </a:lnTo>
                <a:lnTo>
                  <a:pt x="17" y="2005"/>
                </a:lnTo>
                <a:lnTo>
                  <a:pt x="17" y="2016"/>
                </a:lnTo>
                <a:lnTo>
                  <a:pt x="14" y="2030"/>
                </a:lnTo>
                <a:lnTo>
                  <a:pt x="14" y="2043"/>
                </a:lnTo>
                <a:lnTo>
                  <a:pt x="407" y="2043"/>
                </a:lnTo>
                <a:lnTo>
                  <a:pt x="401" y="2026"/>
                </a:lnTo>
                <a:lnTo>
                  <a:pt x="401" y="2012"/>
                </a:lnTo>
                <a:lnTo>
                  <a:pt x="398" y="2006"/>
                </a:lnTo>
                <a:lnTo>
                  <a:pt x="396" y="1997"/>
                </a:lnTo>
                <a:lnTo>
                  <a:pt x="394" y="1985"/>
                </a:lnTo>
                <a:lnTo>
                  <a:pt x="392" y="1974"/>
                </a:lnTo>
                <a:lnTo>
                  <a:pt x="388" y="1962"/>
                </a:lnTo>
                <a:lnTo>
                  <a:pt x="388" y="1952"/>
                </a:lnTo>
                <a:lnTo>
                  <a:pt x="384" y="1944"/>
                </a:lnTo>
                <a:lnTo>
                  <a:pt x="384" y="1942"/>
                </a:lnTo>
                <a:lnTo>
                  <a:pt x="378" y="1933"/>
                </a:lnTo>
                <a:lnTo>
                  <a:pt x="372" y="1923"/>
                </a:lnTo>
                <a:lnTo>
                  <a:pt x="367" y="1911"/>
                </a:lnTo>
                <a:lnTo>
                  <a:pt x="363" y="1900"/>
                </a:lnTo>
                <a:lnTo>
                  <a:pt x="357" y="1882"/>
                </a:lnTo>
                <a:lnTo>
                  <a:pt x="351" y="1867"/>
                </a:lnTo>
                <a:lnTo>
                  <a:pt x="345" y="1847"/>
                </a:lnTo>
                <a:lnTo>
                  <a:pt x="341" y="1830"/>
                </a:lnTo>
                <a:lnTo>
                  <a:pt x="337" y="1818"/>
                </a:lnTo>
                <a:lnTo>
                  <a:pt x="336" y="1809"/>
                </a:lnTo>
                <a:lnTo>
                  <a:pt x="334" y="1797"/>
                </a:lnTo>
                <a:lnTo>
                  <a:pt x="332" y="1787"/>
                </a:lnTo>
                <a:lnTo>
                  <a:pt x="328" y="1776"/>
                </a:lnTo>
                <a:lnTo>
                  <a:pt x="328" y="1764"/>
                </a:lnTo>
                <a:lnTo>
                  <a:pt x="324" y="1752"/>
                </a:lnTo>
                <a:lnTo>
                  <a:pt x="324" y="1741"/>
                </a:lnTo>
                <a:lnTo>
                  <a:pt x="320" y="1727"/>
                </a:lnTo>
                <a:lnTo>
                  <a:pt x="318" y="1714"/>
                </a:lnTo>
                <a:lnTo>
                  <a:pt x="316" y="1700"/>
                </a:lnTo>
                <a:lnTo>
                  <a:pt x="316" y="1688"/>
                </a:lnTo>
                <a:lnTo>
                  <a:pt x="314" y="1675"/>
                </a:lnTo>
                <a:lnTo>
                  <a:pt x="312" y="1663"/>
                </a:lnTo>
                <a:lnTo>
                  <a:pt x="312" y="1650"/>
                </a:lnTo>
                <a:lnTo>
                  <a:pt x="312" y="1638"/>
                </a:lnTo>
                <a:lnTo>
                  <a:pt x="310" y="1623"/>
                </a:lnTo>
                <a:lnTo>
                  <a:pt x="308" y="1609"/>
                </a:lnTo>
                <a:lnTo>
                  <a:pt x="306" y="1593"/>
                </a:lnTo>
                <a:lnTo>
                  <a:pt x="306" y="1582"/>
                </a:lnTo>
                <a:lnTo>
                  <a:pt x="306" y="1566"/>
                </a:lnTo>
                <a:lnTo>
                  <a:pt x="306" y="1553"/>
                </a:lnTo>
                <a:lnTo>
                  <a:pt x="306" y="1537"/>
                </a:lnTo>
                <a:lnTo>
                  <a:pt x="306" y="1526"/>
                </a:lnTo>
                <a:lnTo>
                  <a:pt x="306" y="1510"/>
                </a:lnTo>
                <a:lnTo>
                  <a:pt x="306" y="1497"/>
                </a:lnTo>
                <a:lnTo>
                  <a:pt x="306" y="1483"/>
                </a:lnTo>
                <a:lnTo>
                  <a:pt x="306" y="1469"/>
                </a:lnTo>
                <a:lnTo>
                  <a:pt x="306" y="1456"/>
                </a:lnTo>
                <a:lnTo>
                  <a:pt x="308" y="1442"/>
                </a:lnTo>
                <a:lnTo>
                  <a:pt x="310" y="1429"/>
                </a:lnTo>
                <a:lnTo>
                  <a:pt x="312" y="1417"/>
                </a:lnTo>
                <a:lnTo>
                  <a:pt x="312" y="1401"/>
                </a:lnTo>
                <a:lnTo>
                  <a:pt x="314" y="1388"/>
                </a:lnTo>
                <a:lnTo>
                  <a:pt x="316" y="1374"/>
                </a:lnTo>
                <a:lnTo>
                  <a:pt x="320" y="1363"/>
                </a:lnTo>
                <a:lnTo>
                  <a:pt x="322" y="1349"/>
                </a:lnTo>
                <a:lnTo>
                  <a:pt x="326" y="1338"/>
                </a:lnTo>
                <a:lnTo>
                  <a:pt x="328" y="1326"/>
                </a:lnTo>
                <a:lnTo>
                  <a:pt x="334" y="1314"/>
                </a:lnTo>
                <a:lnTo>
                  <a:pt x="336" y="1301"/>
                </a:lnTo>
                <a:lnTo>
                  <a:pt x="339" y="1289"/>
                </a:lnTo>
                <a:lnTo>
                  <a:pt x="345" y="1277"/>
                </a:lnTo>
                <a:lnTo>
                  <a:pt x="351" y="1268"/>
                </a:lnTo>
                <a:lnTo>
                  <a:pt x="355" y="1256"/>
                </a:lnTo>
                <a:lnTo>
                  <a:pt x="361" y="1244"/>
                </a:lnTo>
                <a:lnTo>
                  <a:pt x="367" y="1235"/>
                </a:lnTo>
                <a:lnTo>
                  <a:pt x="374" y="1227"/>
                </a:lnTo>
                <a:lnTo>
                  <a:pt x="376" y="1223"/>
                </a:lnTo>
                <a:lnTo>
                  <a:pt x="376" y="1211"/>
                </a:lnTo>
                <a:lnTo>
                  <a:pt x="376" y="1200"/>
                </a:lnTo>
                <a:lnTo>
                  <a:pt x="376" y="1190"/>
                </a:lnTo>
                <a:lnTo>
                  <a:pt x="376" y="1180"/>
                </a:lnTo>
                <a:lnTo>
                  <a:pt x="378" y="1159"/>
                </a:lnTo>
                <a:lnTo>
                  <a:pt x="382" y="1142"/>
                </a:lnTo>
                <a:lnTo>
                  <a:pt x="384" y="1120"/>
                </a:lnTo>
                <a:lnTo>
                  <a:pt x="390" y="1101"/>
                </a:lnTo>
                <a:lnTo>
                  <a:pt x="396" y="1084"/>
                </a:lnTo>
                <a:lnTo>
                  <a:pt x="401" y="1066"/>
                </a:lnTo>
                <a:lnTo>
                  <a:pt x="407" y="1047"/>
                </a:lnTo>
                <a:lnTo>
                  <a:pt x="413" y="1029"/>
                </a:lnTo>
                <a:lnTo>
                  <a:pt x="419" y="1012"/>
                </a:lnTo>
                <a:lnTo>
                  <a:pt x="427" y="994"/>
                </a:lnTo>
                <a:lnTo>
                  <a:pt x="432" y="977"/>
                </a:lnTo>
                <a:lnTo>
                  <a:pt x="438" y="959"/>
                </a:lnTo>
                <a:lnTo>
                  <a:pt x="444" y="942"/>
                </a:lnTo>
                <a:lnTo>
                  <a:pt x="452" y="926"/>
                </a:lnTo>
                <a:lnTo>
                  <a:pt x="456" y="907"/>
                </a:lnTo>
                <a:lnTo>
                  <a:pt x="460" y="890"/>
                </a:lnTo>
                <a:lnTo>
                  <a:pt x="464" y="872"/>
                </a:lnTo>
                <a:lnTo>
                  <a:pt x="469" y="855"/>
                </a:lnTo>
                <a:lnTo>
                  <a:pt x="471" y="835"/>
                </a:lnTo>
                <a:lnTo>
                  <a:pt x="473" y="818"/>
                </a:lnTo>
                <a:lnTo>
                  <a:pt x="475" y="798"/>
                </a:lnTo>
                <a:lnTo>
                  <a:pt x="477" y="781"/>
                </a:lnTo>
                <a:lnTo>
                  <a:pt x="475" y="760"/>
                </a:lnTo>
                <a:lnTo>
                  <a:pt x="473" y="740"/>
                </a:lnTo>
                <a:lnTo>
                  <a:pt x="469" y="721"/>
                </a:lnTo>
                <a:lnTo>
                  <a:pt x="467" y="702"/>
                </a:lnTo>
                <a:lnTo>
                  <a:pt x="464" y="690"/>
                </a:lnTo>
                <a:lnTo>
                  <a:pt x="460" y="680"/>
                </a:lnTo>
                <a:lnTo>
                  <a:pt x="456" y="669"/>
                </a:lnTo>
                <a:lnTo>
                  <a:pt x="454" y="659"/>
                </a:lnTo>
                <a:lnTo>
                  <a:pt x="448" y="647"/>
                </a:lnTo>
                <a:lnTo>
                  <a:pt x="444" y="638"/>
                </a:lnTo>
                <a:lnTo>
                  <a:pt x="438" y="626"/>
                </a:lnTo>
                <a:lnTo>
                  <a:pt x="434" y="616"/>
                </a:lnTo>
                <a:lnTo>
                  <a:pt x="429" y="605"/>
                </a:lnTo>
                <a:lnTo>
                  <a:pt x="425" y="593"/>
                </a:lnTo>
                <a:lnTo>
                  <a:pt x="419" y="579"/>
                </a:lnTo>
                <a:lnTo>
                  <a:pt x="415" y="566"/>
                </a:lnTo>
                <a:lnTo>
                  <a:pt x="409" y="548"/>
                </a:lnTo>
                <a:lnTo>
                  <a:pt x="405" y="535"/>
                </a:lnTo>
                <a:lnTo>
                  <a:pt x="401" y="521"/>
                </a:lnTo>
                <a:lnTo>
                  <a:pt x="401" y="511"/>
                </a:lnTo>
                <a:lnTo>
                  <a:pt x="392" y="498"/>
                </a:lnTo>
                <a:lnTo>
                  <a:pt x="386" y="480"/>
                </a:lnTo>
                <a:lnTo>
                  <a:pt x="384" y="469"/>
                </a:lnTo>
                <a:lnTo>
                  <a:pt x="384" y="459"/>
                </a:lnTo>
                <a:lnTo>
                  <a:pt x="384" y="448"/>
                </a:lnTo>
                <a:lnTo>
                  <a:pt x="384" y="438"/>
                </a:lnTo>
                <a:lnTo>
                  <a:pt x="384" y="424"/>
                </a:lnTo>
                <a:lnTo>
                  <a:pt x="384" y="413"/>
                </a:lnTo>
                <a:lnTo>
                  <a:pt x="386" y="399"/>
                </a:lnTo>
                <a:lnTo>
                  <a:pt x="388" y="385"/>
                </a:lnTo>
                <a:lnTo>
                  <a:pt x="390" y="370"/>
                </a:lnTo>
                <a:lnTo>
                  <a:pt x="394" y="358"/>
                </a:lnTo>
                <a:lnTo>
                  <a:pt x="396" y="343"/>
                </a:lnTo>
                <a:lnTo>
                  <a:pt x="401" y="331"/>
                </a:lnTo>
                <a:lnTo>
                  <a:pt x="403" y="316"/>
                </a:lnTo>
                <a:lnTo>
                  <a:pt x="407" y="302"/>
                </a:lnTo>
                <a:lnTo>
                  <a:pt x="411" y="287"/>
                </a:lnTo>
                <a:lnTo>
                  <a:pt x="417" y="275"/>
                </a:lnTo>
                <a:lnTo>
                  <a:pt x="421" y="259"/>
                </a:lnTo>
                <a:lnTo>
                  <a:pt x="425" y="248"/>
                </a:lnTo>
                <a:lnTo>
                  <a:pt x="431" y="236"/>
                </a:lnTo>
                <a:lnTo>
                  <a:pt x="436" y="225"/>
                </a:lnTo>
                <a:lnTo>
                  <a:pt x="440" y="213"/>
                </a:lnTo>
                <a:lnTo>
                  <a:pt x="446" y="201"/>
                </a:lnTo>
                <a:lnTo>
                  <a:pt x="452" y="192"/>
                </a:lnTo>
                <a:lnTo>
                  <a:pt x="458" y="186"/>
                </a:lnTo>
                <a:lnTo>
                  <a:pt x="467" y="170"/>
                </a:lnTo>
                <a:lnTo>
                  <a:pt x="479" y="162"/>
                </a:lnTo>
                <a:lnTo>
                  <a:pt x="514" y="69"/>
                </a:lnTo>
                <a:lnTo>
                  <a:pt x="514" y="58"/>
                </a:lnTo>
                <a:lnTo>
                  <a:pt x="516" y="46"/>
                </a:lnTo>
                <a:lnTo>
                  <a:pt x="518" y="33"/>
                </a:lnTo>
                <a:lnTo>
                  <a:pt x="520" y="19"/>
                </a:lnTo>
                <a:lnTo>
                  <a:pt x="531" y="0"/>
                </a:lnTo>
                <a:close/>
              </a:path>
            </a:pathLst>
          </a:custGeom>
          <a:solidFill>
            <a:srgbClr val="00cce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73" name=""/>
          <p:cNvSpPr/>
          <p:nvPr/>
        </p:nvSpPr>
        <p:spPr>
          <a:xfrm>
            <a:off x="6172200" y="4338720"/>
            <a:ext cx="374760" cy="1700280"/>
          </a:xfrm>
          <a:custGeom>
            <a:avLst/>
            <a:gdLst/>
            <a:ahLst/>
            <a:rect l="l" t="t" r="r" b="b"/>
            <a:pathLst>
              <a:path w="471" h="2142">
                <a:moveTo>
                  <a:pt x="188" y="238"/>
                </a:moveTo>
                <a:lnTo>
                  <a:pt x="200" y="227"/>
                </a:lnTo>
                <a:lnTo>
                  <a:pt x="213" y="217"/>
                </a:lnTo>
                <a:lnTo>
                  <a:pt x="213" y="209"/>
                </a:lnTo>
                <a:lnTo>
                  <a:pt x="215" y="199"/>
                </a:lnTo>
                <a:lnTo>
                  <a:pt x="217" y="186"/>
                </a:lnTo>
                <a:lnTo>
                  <a:pt x="223" y="170"/>
                </a:lnTo>
                <a:lnTo>
                  <a:pt x="229" y="151"/>
                </a:lnTo>
                <a:lnTo>
                  <a:pt x="235" y="132"/>
                </a:lnTo>
                <a:lnTo>
                  <a:pt x="242" y="110"/>
                </a:lnTo>
                <a:lnTo>
                  <a:pt x="252" y="91"/>
                </a:lnTo>
                <a:lnTo>
                  <a:pt x="258" y="70"/>
                </a:lnTo>
                <a:lnTo>
                  <a:pt x="268" y="50"/>
                </a:lnTo>
                <a:lnTo>
                  <a:pt x="275" y="33"/>
                </a:lnTo>
                <a:lnTo>
                  <a:pt x="285" y="21"/>
                </a:lnTo>
                <a:lnTo>
                  <a:pt x="291" y="7"/>
                </a:lnTo>
                <a:lnTo>
                  <a:pt x="299" y="2"/>
                </a:lnTo>
                <a:lnTo>
                  <a:pt x="306" y="0"/>
                </a:lnTo>
                <a:lnTo>
                  <a:pt x="314" y="6"/>
                </a:lnTo>
                <a:lnTo>
                  <a:pt x="322" y="15"/>
                </a:lnTo>
                <a:lnTo>
                  <a:pt x="332" y="29"/>
                </a:lnTo>
                <a:lnTo>
                  <a:pt x="337" y="40"/>
                </a:lnTo>
                <a:lnTo>
                  <a:pt x="343" y="58"/>
                </a:lnTo>
                <a:lnTo>
                  <a:pt x="345" y="73"/>
                </a:lnTo>
                <a:lnTo>
                  <a:pt x="349" y="91"/>
                </a:lnTo>
                <a:lnTo>
                  <a:pt x="351" y="108"/>
                </a:lnTo>
                <a:lnTo>
                  <a:pt x="353" y="130"/>
                </a:lnTo>
                <a:lnTo>
                  <a:pt x="351" y="149"/>
                </a:lnTo>
                <a:lnTo>
                  <a:pt x="351" y="170"/>
                </a:lnTo>
                <a:lnTo>
                  <a:pt x="349" y="180"/>
                </a:lnTo>
                <a:lnTo>
                  <a:pt x="349" y="192"/>
                </a:lnTo>
                <a:lnTo>
                  <a:pt x="349" y="203"/>
                </a:lnTo>
                <a:lnTo>
                  <a:pt x="349" y="215"/>
                </a:lnTo>
                <a:lnTo>
                  <a:pt x="347" y="227"/>
                </a:lnTo>
                <a:lnTo>
                  <a:pt x="347" y="238"/>
                </a:lnTo>
                <a:lnTo>
                  <a:pt x="345" y="250"/>
                </a:lnTo>
                <a:lnTo>
                  <a:pt x="345" y="261"/>
                </a:lnTo>
                <a:lnTo>
                  <a:pt x="343" y="273"/>
                </a:lnTo>
                <a:lnTo>
                  <a:pt x="343" y="285"/>
                </a:lnTo>
                <a:lnTo>
                  <a:pt x="341" y="296"/>
                </a:lnTo>
                <a:lnTo>
                  <a:pt x="341" y="310"/>
                </a:lnTo>
                <a:lnTo>
                  <a:pt x="337" y="322"/>
                </a:lnTo>
                <a:lnTo>
                  <a:pt x="337" y="333"/>
                </a:lnTo>
                <a:lnTo>
                  <a:pt x="333" y="345"/>
                </a:lnTo>
                <a:lnTo>
                  <a:pt x="333" y="356"/>
                </a:lnTo>
                <a:lnTo>
                  <a:pt x="332" y="368"/>
                </a:lnTo>
                <a:lnTo>
                  <a:pt x="330" y="380"/>
                </a:lnTo>
                <a:lnTo>
                  <a:pt x="328" y="391"/>
                </a:lnTo>
                <a:lnTo>
                  <a:pt x="328" y="403"/>
                </a:lnTo>
                <a:lnTo>
                  <a:pt x="326" y="413"/>
                </a:lnTo>
                <a:lnTo>
                  <a:pt x="324" y="424"/>
                </a:lnTo>
                <a:lnTo>
                  <a:pt x="324" y="434"/>
                </a:lnTo>
                <a:lnTo>
                  <a:pt x="324" y="446"/>
                </a:lnTo>
                <a:lnTo>
                  <a:pt x="322" y="455"/>
                </a:lnTo>
                <a:lnTo>
                  <a:pt x="322" y="467"/>
                </a:lnTo>
                <a:lnTo>
                  <a:pt x="322" y="479"/>
                </a:lnTo>
                <a:lnTo>
                  <a:pt x="322" y="490"/>
                </a:lnTo>
                <a:lnTo>
                  <a:pt x="320" y="510"/>
                </a:lnTo>
                <a:lnTo>
                  <a:pt x="320" y="529"/>
                </a:lnTo>
                <a:lnTo>
                  <a:pt x="322" y="547"/>
                </a:lnTo>
                <a:lnTo>
                  <a:pt x="326" y="566"/>
                </a:lnTo>
                <a:lnTo>
                  <a:pt x="328" y="581"/>
                </a:lnTo>
                <a:lnTo>
                  <a:pt x="333" y="597"/>
                </a:lnTo>
                <a:lnTo>
                  <a:pt x="337" y="610"/>
                </a:lnTo>
                <a:lnTo>
                  <a:pt x="347" y="624"/>
                </a:lnTo>
                <a:lnTo>
                  <a:pt x="357" y="632"/>
                </a:lnTo>
                <a:lnTo>
                  <a:pt x="372" y="632"/>
                </a:lnTo>
                <a:lnTo>
                  <a:pt x="390" y="624"/>
                </a:lnTo>
                <a:lnTo>
                  <a:pt x="411" y="612"/>
                </a:lnTo>
                <a:lnTo>
                  <a:pt x="429" y="597"/>
                </a:lnTo>
                <a:lnTo>
                  <a:pt x="448" y="583"/>
                </a:lnTo>
                <a:lnTo>
                  <a:pt x="461" y="572"/>
                </a:lnTo>
                <a:lnTo>
                  <a:pt x="471" y="568"/>
                </a:lnTo>
                <a:lnTo>
                  <a:pt x="469" y="579"/>
                </a:lnTo>
                <a:lnTo>
                  <a:pt x="469" y="591"/>
                </a:lnTo>
                <a:lnTo>
                  <a:pt x="469" y="603"/>
                </a:lnTo>
                <a:lnTo>
                  <a:pt x="469" y="616"/>
                </a:lnTo>
                <a:lnTo>
                  <a:pt x="467" y="628"/>
                </a:lnTo>
                <a:lnTo>
                  <a:pt x="467" y="640"/>
                </a:lnTo>
                <a:lnTo>
                  <a:pt x="467" y="651"/>
                </a:lnTo>
                <a:lnTo>
                  <a:pt x="467" y="665"/>
                </a:lnTo>
                <a:lnTo>
                  <a:pt x="465" y="676"/>
                </a:lnTo>
                <a:lnTo>
                  <a:pt x="463" y="688"/>
                </a:lnTo>
                <a:lnTo>
                  <a:pt x="461" y="700"/>
                </a:lnTo>
                <a:lnTo>
                  <a:pt x="461" y="713"/>
                </a:lnTo>
                <a:lnTo>
                  <a:pt x="460" y="725"/>
                </a:lnTo>
                <a:lnTo>
                  <a:pt x="460" y="737"/>
                </a:lnTo>
                <a:lnTo>
                  <a:pt x="458" y="748"/>
                </a:lnTo>
                <a:lnTo>
                  <a:pt x="458" y="762"/>
                </a:lnTo>
                <a:lnTo>
                  <a:pt x="454" y="773"/>
                </a:lnTo>
                <a:lnTo>
                  <a:pt x="452" y="785"/>
                </a:lnTo>
                <a:lnTo>
                  <a:pt x="450" y="797"/>
                </a:lnTo>
                <a:lnTo>
                  <a:pt x="448" y="808"/>
                </a:lnTo>
                <a:lnTo>
                  <a:pt x="444" y="820"/>
                </a:lnTo>
                <a:lnTo>
                  <a:pt x="444" y="832"/>
                </a:lnTo>
                <a:lnTo>
                  <a:pt x="440" y="843"/>
                </a:lnTo>
                <a:lnTo>
                  <a:pt x="440" y="855"/>
                </a:lnTo>
                <a:lnTo>
                  <a:pt x="436" y="866"/>
                </a:lnTo>
                <a:lnTo>
                  <a:pt x="434" y="878"/>
                </a:lnTo>
                <a:lnTo>
                  <a:pt x="432" y="890"/>
                </a:lnTo>
                <a:lnTo>
                  <a:pt x="430" y="901"/>
                </a:lnTo>
                <a:lnTo>
                  <a:pt x="427" y="913"/>
                </a:lnTo>
                <a:lnTo>
                  <a:pt x="427" y="925"/>
                </a:lnTo>
                <a:lnTo>
                  <a:pt x="423" y="936"/>
                </a:lnTo>
                <a:lnTo>
                  <a:pt x="423" y="948"/>
                </a:lnTo>
                <a:lnTo>
                  <a:pt x="419" y="958"/>
                </a:lnTo>
                <a:lnTo>
                  <a:pt x="415" y="969"/>
                </a:lnTo>
                <a:lnTo>
                  <a:pt x="411" y="981"/>
                </a:lnTo>
                <a:lnTo>
                  <a:pt x="409" y="992"/>
                </a:lnTo>
                <a:lnTo>
                  <a:pt x="405" y="1002"/>
                </a:lnTo>
                <a:lnTo>
                  <a:pt x="403" y="1014"/>
                </a:lnTo>
                <a:lnTo>
                  <a:pt x="399" y="1025"/>
                </a:lnTo>
                <a:lnTo>
                  <a:pt x="397" y="1037"/>
                </a:lnTo>
                <a:lnTo>
                  <a:pt x="392" y="1047"/>
                </a:lnTo>
                <a:lnTo>
                  <a:pt x="390" y="1058"/>
                </a:lnTo>
                <a:lnTo>
                  <a:pt x="386" y="1070"/>
                </a:lnTo>
                <a:lnTo>
                  <a:pt x="384" y="1082"/>
                </a:lnTo>
                <a:lnTo>
                  <a:pt x="378" y="1093"/>
                </a:lnTo>
                <a:lnTo>
                  <a:pt x="376" y="1105"/>
                </a:lnTo>
                <a:lnTo>
                  <a:pt x="372" y="1117"/>
                </a:lnTo>
                <a:lnTo>
                  <a:pt x="370" y="1128"/>
                </a:lnTo>
                <a:lnTo>
                  <a:pt x="365" y="1138"/>
                </a:lnTo>
                <a:lnTo>
                  <a:pt x="361" y="1150"/>
                </a:lnTo>
                <a:lnTo>
                  <a:pt x="357" y="1161"/>
                </a:lnTo>
                <a:lnTo>
                  <a:pt x="355" y="1173"/>
                </a:lnTo>
                <a:lnTo>
                  <a:pt x="349" y="1183"/>
                </a:lnTo>
                <a:lnTo>
                  <a:pt x="345" y="1194"/>
                </a:lnTo>
                <a:lnTo>
                  <a:pt x="341" y="1206"/>
                </a:lnTo>
                <a:lnTo>
                  <a:pt x="339" y="1217"/>
                </a:lnTo>
                <a:lnTo>
                  <a:pt x="333" y="1227"/>
                </a:lnTo>
                <a:lnTo>
                  <a:pt x="330" y="1239"/>
                </a:lnTo>
                <a:lnTo>
                  <a:pt x="326" y="1250"/>
                </a:lnTo>
                <a:lnTo>
                  <a:pt x="324" y="1262"/>
                </a:lnTo>
                <a:lnTo>
                  <a:pt x="318" y="1274"/>
                </a:lnTo>
                <a:lnTo>
                  <a:pt x="314" y="1285"/>
                </a:lnTo>
                <a:lnTo>
                  <a:pt x="310" y="1297"/>
                </a:lnTo>
                <a:lnTo>
                  <a:pt x="308" y="1309"/>
                </a:lnTo>
                <a:lnTo>
                  <a:pt x="302" y="1320"/>
                </a:lnTo>
                <a:lnTo>
                  <a:pt x="299" y="1332"/>
                </a:lnTo>
                <a:lnTo>
                  <a:pt x="295" y="1345"/>
                </a:lnTo>
                <a:lnTo>
                  <a:pt x="293" y="1361"/>
                </a:lnTo>
                <a:lnTo>
                  <a:pt x="291" y="1374"/>
                </a:lnTo>
                <a:lnTo>
                  <a:pt x="289" y="1390"/>
                </a:lnTo>
                <a:lnTo>
                  <a:pt x="289" y="1404"/>
                </a:lnTo>
                <a:lnTo>
                  <a:pt x="291" y="1421"/>
                </a:lnTo>
                <a:lnTo>
                  <a:pt x="291" y="1435"/>
                </a:lnTo>
                <a:lnTo>
                  <a:pt x="291" y="1450"/>
                </a:lnTo>
                <a:lnTo>
                  <a:pt x="293" y="1466"/>
                </a:lnTo>
                <a:lnTo>
                  <a:pt x="295" y="1483"/>
                </a:lnTo>
                <a:lnTo>
                  <a:pt x="297" y="1499"/>
                </a:lnTo>
                <a:lnTo>
                  <a:pt x="301" y="1516"/>
                </a:lnTo>
                <a:lnTo>
                  <a:pt x="302" y="1532"/>
                </a:lnTo>
                <a:lnTo>
                  <a:pt x="308" y="1549"/>
                </a:lnTo>
                <a:lnTo>
                  <a:pt x="310" y="1564"/>
                </a:lnTo>
                <a:lnTo>
                  <a:pt x="314" y="1580"/>
                </a:lnTo>
                <a:lnTo>
                  <a:pt x="316" y="1596"/>
                </a:lnTo>
                <a:lnTo>
                  <a:pt x="322" y="1611"/>
                </a:lnTo>
                <a:lnTo>
                  <a:pt x="326" y="1627"/>
                </a:lnTo>
                <a:lnTo>
                  <a:pt x="330" y="1642"/>
                </a:lnTo>
                <a:lnTo>
                  <a:pt x="333" y="1658"/>
                </a:lnTo>
                <a:lnTo>
                  <a:pt x="339" y="1675"/>
                </a:lnTo>
                <a:lnTo>
                  <a:pt x="343" y="1689"/>
                </a:lnTo>
                <a:lnTo>
                  <a:pt x="347" y="1704"/>
                </a:lnTo>
                <a:lnTo>
                  <a:pt x="351" y="1720"/>
                </a:lnTo>
                <a:lnTo>
                  <a:pt x="355" y="1735"/>
                </a:lnTo>
                <a:lnTo>
                  <a:pt x="359" y="1749"/>
                </a:lnTo>
                <a:lnTo>
                  <a:pt x="363" y="1762"/>
                </a:lnTo>
                <a:lnTo>
                  <a:pt x="366" y="1776"/>
                </a:lnTo>
                <a:lnTo>
                  <a:pt x="372" y="1791"/>
                </a:lnTo>
                <a:lnTo>
                  <a:pt x="372" y="1799"/>
                </a:lnTo>
                <a:lnTo>
                  <a:pt x="372" y="1811"/>
                </a:lnTo>
                <a:lnTo>
                  <a:pt x="370" y="1822"/>
                </a:lnTo>
                <a:lnTo>
                  <a:pt x="370" y="1836"/>
                </a:lnTo>
                <a:lnTo>
                  <a:pt x="368" y="1848"/>
                </a:lnTo>
                <a:lnTo>
                  <a:pt x="366" y="1863"/>
                </a:lnTo>
                <a:lnTo>
                  <a:pt x="365" y="1877"/>
                </a:lnTo>
                <a:lnTo>
                  <a:pt x="363" y="1892"/>
                </a:lnTo>
                <a:lnTo>
                  <a:pt x="357" y="1906"/>
                </a:lnTo>
                <a:lnTo>
                  <a:pt x="353" y="1919"/>
                </a:lnTo>
                <a:lnTo>
                  <a:pt x="349" y="1933"/>
                </a:lnTo>
                <a:lnTo>
                  <a:pt x="347" y="1946"/>
                </a:lnTo>
                <a:lnTo>
                  <a:pt x="341" y="1958"/>
                </a:lnTo>
                <a:lnTo>
                  <a:pt x="339" y="1970"/>
                </a:lnTo>
                <a:lnTo>
                  <a:pt x="335" y="1979"/>
                </a:lnTo>
                <a:lnTo>
                  <a:pt x="333" y="1991"/>
                </a:lnTo>
                <a:lnTo>
                  <a:pt x="324" y="2009"/>
                </a:lnTo>
                <a:lnTo>
                  <a:pt x="316" y="2028"/>
                </a:lnTo>
                <a:lnTo>
                  <a:pt x="308" y="2047"/>
                </a:lnTo>
                <a:lnTo>
                  <a:pt x="302" y="2067"/>
                </a:lnTo>
                <a:lnTo>
                  <a:pt x="295" y="2084"/>
                </a:lnTo>
                <a:lnTo>
                  <a:pt x="289" y="2104"/>
                </a:lnTo>
                <a:lnTo>
                  <a:pt x="283" y="2123"/>
                </a:lnTo>
                <a:lnTo>
                  <a:pt x="277" y="2142"/>
                </a:lnTo>
                <a:lnTo>
                  <a:pt x="81" y="2142"/>
                </a:lnTo>
                <a:lnTo>
                  <a:pt x="81" y="2127"/>
                </a:lnTo>
                <a:lnTo>
                  <a:pt x="81" y="2111"/>
                </a:lnTo>
                <a:lnTo>
                  <a:pt x="81" y="2096"/>
                </a:lnTo>
                <a:lnTo>
                  <a:pt x="81" y="2082"/>
                </a:lnTo>
                <a:lnTo>
                  <a:pt x="79" y="2067"/>
                </a:lnTo>
                <a:lnTo>
                  <a:pt x="77" y="2051"/>
                </a:lnTo>
                <a:lnTo>
                  <a:pt x="76" y="2036"/>
                </a:lnTo>
                <a:lnTo>
                  <a:pt x="76" y="2022"/>
                </a:lnTo>
                <a:lnTo>
                  <a:pt x="72" y="2007"/>
                </a:lnTo>
                <a:lnTo>
                  <a:pt x="70" y="1991"/>
                </a:lnTo>
                <a:lnTo>
                  <a:pt x="68" y="1976"/>
                </a:lnTo>
                <a:lnTo>
                  <a:pt x="66" y="1962"/>
                </a:lnTo>
                <a:lnTo>
                  <a:pt x="62" y="1946"/>
                </a:lnTo>
                <a:lnTo>
                  <a:pt x="60" y="1931"/>
                </a:lnTo>
                <a:lnTo>
                  <a:pt x="56" y="1915"/>
                </a:lnTo>
                <a:lnTo>
                  <a:pt x="54" y="1902"/>
                </a:lnTo>
                <a:lnTo>
                  <a:pt x="48" y="1884"/>
                </a:lnTo>
                <a:lnTo>
                  <a:pt x="46" y="1871"/>
                </a:lnTo>
                <a:lnTo>
                  <a:pt x="41" y="1853"/>
                </a:lnTo>
                <a:lnTo>
                  <a:pt x="39" y="1840"/>
                </a:lnTo>
                <a:lnTo>
                  <a:pt x="35" y="1824"/>
                </a:lnTo>
                <a:lnTo>
                  <a:pt x="31" y="1809"/>
                </a:lnTo>
                <a:lnTo>
                  <a:pt x="27" y="1793"/>
                </a:lnTo>
                <a:lnTo>
                  <a:pt x="25" y="1780"/>
                </a:lnTo>
                <a:lnTo>
                  <a:pt x="19" y="1762"/>
                </a:lnTo>
                <a:lnTo>
                  <a:pt x="17" y="1749"/>
                </a:lnTo>
                <a:lnTo>
                  <a:pt x="12" y="1731"/>
                </a:lnTo>
                <a:lnTo>
                  <a:pt x="10" y="1718"/>
                </a:lnTo>
                <a:lnTo>
                  <a:pt x="6" y="1702"/>
                </a:lnTo>
                <a:lnTo>
                  <a:pt x="4" y="1687"/>
                </a:lnTo>
                <a:lnTo>
                  <a:pt x="0" y="1671"/>
                </a:lnTo>
                <a:lnTo>
                  <a:pt x="0" y="1658"/>
                </a:lnTo>
                <a:lnTo>
                  <a:pt x="4" y="1638"/>
                </a:lnTo>
                <a:lnTo>
                  <a:pt x="8" y="1619"/>
                </a:lnTo>
                <a:lnTo>
                  <a:pt x="13" y="1599"/>
                </a:lnTo>
                <a:lnTo>
                  <a:pt x="19" y="1582"/>
                </a:lnTo>
                <a:lnTo>
                  <a:pt x="23" y="1563"/>
                </a:lnTo>
                <a:lnTo>
                  <a:pt x="27" y="1545"/>
                </a:lnTo>
                <a:lnTo>
                  <a:pt x="33" y="1526"/>
                </a:lnTo>
                <a:lnTo>
                  <a:pt x="39" y="1508"/>
                </a:lnTo>
                <a:lnTo>
                  <a:pt x="43" y="1489"/>
                </a:lnTo>
                <a:lnTo>
                  <a:pt x="46" y="1469"/>
                </a:lnTo>
                <a:lnTo>
                  <a:pt x="52" y="1452"/>
                </a:lnTo>
                <a:lnTo>
                  <a:pt x="58" y="1435"/>
                </a:lnTo>
                <a:lnTo>
                  <a:pt x="62" y="1415"/>
                </a:lnTo>
                <a:lnTo>
                  <a:pt x="66" y="1396"/>
                </a:lnTo>
                <a:lnTo>
                  <a:pt x="72" y="1378"/>
                </a:lnTo>
                <a:lnTo>
                  <a:pt x="77" y="1361"/>
                </a:lnTo>
                <a:lnTo>
                  <a:pt x="81" y="1347"/>
                </a:lnTo>
                <a:lnTo>
                  <a:pt x="85" y="1334"/>
                </a:lnTo>
                <a:lnTo>
                  <a:pt x="89" y="1320"/>
                </a:lnTo>
                <a:lnTo>
                  <a:pt x="95" y="1307"/>
                </a:lnTo>
                <a:lnTo>
                  <a:pt x="99" y="1293"/>
                </a:lnTo>
                <a:lnTo>
                  <a:pt x="103" y="1279"/>
                </a:lnTo>
                <a:lnTo>
                  <a:pt x="107" y="1266"/>
                </a:lnTo>
                <a:lnTo>
                  <a:pt x="112" y="1254"/>
                </a:lnTo>
                <a:lnTo>
                  <a:pt x="114" y="1241"/>
                </a:lnTo>
                <a:lnTo>
                  <a:pt x="120" y="1227"/>
                </a:lnTo>
                <a:lnTo>
                  <a:pt x="122" y="1214"/>
                </a:lnTo>
                <a:lnTo>
                  <a:pt x="128" y="1202"/>
                </a:lnTo>
                <a:lnTo>
                  <a:pt x="130" y="1188"/>
                </a:lnTo>
                <a:lnTo>
                  <a:pt x="136" y="1175"/>
                </a:lnTo>
                <a:lnTo>
                  <a:pt x="138" y="1161"/>
                </a:lnTo>
                <a:lnTo>
                  <a:pt x="143" y="1150"/>
                </a:lnTo>
                <a:lnTo>
                  <a:pt x="145" y="1136"/>
                </a:lnTo>
                <a:lnTo>
                  <a:pt x="147" y="1122"/>
                </a:lnTo>
                <a:lnTo>
                  <a:pt x="149" y="1109"/>
                </a:lnTo>
                <a:lnTo>
                  <a:pt x="153" y="1095"/>
                </a:lnTo>
                <a:lnTo>
                  <a:pt x="155" y="1082"/>
                </a:lnTo>
                <a:lnTo>
                  <a:pt x="157" y="1068"/>
                </a:lnTo>
                <a:lnTo>
                  <a:pt x="159" y="1055"/>
                </a:lnTo>
                <a:lnTo>
                  <a:pt x="163" y="1043"/>
                </a:lnTo>
                <a:lnTo>
                  <a:pt x="163" y="1029"/>
                </a:lnTo>
                <a:lnTo>
                  <a:pt x="165" y="1016"/>
                </a:lnTo>
                <a:lnTo>
                  <a:pt x="167" y="1002"/>
                </a:lnTo>
                <a:lnTo>
                  <a:pt x="169" y="991"/>
                </a:lnTo>
                <a:lnTo>
                  <a:pt x="169" y="977"/>
                </a:lnTo>
                <a:lnTo>
                  <a:pt x="171" y="963"/>
                </a:lnTo>
                <a:lnTo>
                  <a:pt x="173" y="950"/>
                </a:lnTo>
                <a:lnTo>
                  <a:pt x="174" y="938"/>
                </a:lnTo>
                <a:lnTo>
                  <a:pt x="173" y="923"/>
                </a:lnTo>
                <a:lnTo>
                  <a:pt x="173" y="909"/>
                </a:lnTo>
                <a:lnTo>
                  <a:pt x="173" y="896"/>
                </a:lnTo>
                <a:lnTo>
                  <a:pt x="173" y="882"/>
                </a:lnTo>
                <a:lnTo>
                  <a:pt x="173" y="866"/>
                </a:lnTo>
                <a:lnTo>
                  <a:pt x="173" y="855"/>
                </a:lnTo>
                <a:lnTo>
                  <a:pt x="173" y="839"/>
                </a:lnTo>
                <a:lnTo>
                  <a:pt x="173" y="828"/>
                </a:lnTo>
                <a:lnTo>
                  <a:pt x="171" y="812"/>
                </a:lnTo>
                <a:lnTo>
                  <a:pt x="169" y="801"/>
                </a:lnTo>
                <a:lnTo>
                  <a:pt x="167" y="785"/>
                </a:lnTo>
                <a:lnTo>
                  <a:pt x="165" y="773"/>
                </a:lnTo>
                <a:lnTo>
                  <a:pt x="163" y="758"/>
                </a:lnTo>
                <a:lnTo>
                  <a:pt x="161" y="746"/>
                </a:lnTo>
                <a:lnTo>
                  <a:pt x="159" y="731"/>
                </a:lnTo>
                <a:lnTo>
                  <a:pt x="159" y="719"/>
                </a:lnTo>
                <a:lnTo>
                  <a:pt x="155" y="704"/>
                </a:lnTo>
                <a:lnTo>
                  <a:pt x="151" y="690"/>
                </a:lnTo>
                <a:lnTo>
                  <a:pt x="147" y="676"/>
                </a:lnTo>
                <a:lnTo>
                  <a:pt x="145" y="663"/>
                </a:lnTo>
                <a:lnTo>
                  <a:pt x="140" y="647"/>
                </a:lnTo>
                <a:lnTo>
                  <a:pt x="138" y="636"/>
                </a:lnTo>
                <a:lnTo>
                  <a:pt x="132" y="620"/>
                </a:lnTo>
                <a:lnTo>
                  <a:pt x="130" y="609"/>
                </a:lnTo>
                <a:lnTo>
                  <a:pt x="124" y="593"/>
                </a:lnTo>
                <a:lnTo>
                  <a:pt x="120" y="579"/>
                </a:lnTo>
                <a:lnTo>
                  <a:pt x="116" y="564"/>
                </a:lnTo>
                <a:lnTo>
                  <a:pt x="112" y="552"/>
                </a:lnTo>
                <a:lnTo>
                  <a:pt x="107" y="537"/>
                </a:lnTo>
                <a:lnTo>
                  <a:pt x="101" y="523"/>
                </a:lnTo>
                <a:lnTo>
                  <a:pt x="95" y="508"/>
                </a:lnTo>
                <a:lnTo>
                  <a:pt x="91" y="496"/>
                </a:lnTo>
                <a:lnTo>
                  <a:pt x="97" y="488"/>
                </a:lnTo>
                <a:lnTo>
                  <a:pt x="103" y="475"/>
                </a:lnTo>
                <a:lnTo>
                  <a:pt x="109" y="455"/>
                </a:lnTo>
                <a:lnTo>
                  <a:pt x="116" y="436"/>
                </a:lnTo>
                <a:lnTo>
                  <a:pt x="120" y="415"/>
                </a:lnTo>
                <a:lnTo>
                  <a:pt x="126" y="397"/>
                </a:lnTo>
                <a:lnTo>
                  <a:pt x="132" y="386"/>
                </a:lnTo>
                <a:lnTo>
                  <a:pt x="138" y="382"/>
                </a:lnTo>
                <a:lnTo>
                  <a:pt x="138" y="370"/>
                </a:lnTo>
                <a:lnTo>
                  <a:pt x="138" y="360"/>
                </a:lnTo>
                <a:lnTo>
                  <a:pt x="140" y="349"/>
                </a:lnTo>
                <a:lnTo>
                  <a:pt x="141" y="339"/>
                </a:lnTo>
                <a:lnTo>
                  <a:pt x="147" y="318"/>
                </a:lnTo>
                <a:lnTo>
                  <a:pt x="155" y="298"/>
                </a:lnTo>
                <a:lnTo>
                  <a:pt x="161" y="277"/>
                </a:lnTo>
                <a:lnTo>
                  <a:pt x="171" y="261"/>
                </a:lnTo>
                <a:lnTo>
                  <a:pt x="178" y="246"/>
                </a:lnTo>
                <a:lnTo>
                  <a:pt x="188" y="238"/>
                </a:lnTo>
                <a:close/>
              </a:path>
            </a:pathLst>
          </a:custGeom>
          <a:solidFill>
            <a:srgbClr val="b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74" name=""/>
          <p:cNvSpPr/>
          <p:nvPr/>
        </p:nvSpPr>
        <p:spPr>
          <a:xfrm>
            <a:off x="3886200" y="4211640"/>
            <a:ext cx="996840" cy="771480"/>
          </a:xfrm>
          <a:custGeom>
            <a:avLst/>
            <a:gdLst/>
            <a:ahLst/>
            <a:rect l="l" t="t" r="r" b="b"/>
            <a:pathLst>
              <a:path w="1255" h="971">
                <a:moveTo>
                  <a:pt x="529" y="17"/>
                </a:moveTo>
                <a:lnTo>
                  <a:pt x="537" y="29"/>
                </a:lnTo>
                <a:lnTo>
                  <a:pt x="541" y="44"/>
                </a:lnTo>
                <a:lnTo>
                  <a:pt x="539" y="62"/>
                </a:lnTo>
                <a:lnTo>
                  <a:pt x="537" y="79"/>
                </a:lnTo>
                <a:lnTo>
                  <a:pt x="531" y="91"/>
                </a:lnTo>
                <a:lnTo>
                  <a:pt x="527" y="104"/>
                </a:lnTo>
                <a:lnTo>
                  <a:pt x="522" y="118"/>
                </a:lnTo>
                <a:lnTo>
                  <a:pt x="518" y="132"/>
                </a:lnTo>
                <a:lnTo>
                  <a:pt x="510" y="143"/>
                </a:lnTo>
                <a:lnTo>
                  <a:pt x="504" y="157"/>
                </a:lnTo>
                <a:lnTo>
                  <a:pt x="496" y="168"/>
                </a:lnTo>
                <a:lnTo>
                  <a:pt x="491" y="182"/>
                </a:lnTo>
                <a:lnTo>
                  <a:pt x="481" y="194"/>
                </a:lnTo>
                <a:lnTo>
                  <a:pt x="473" y="205"/>
                </a:lnTo>
                <a:lnTo>
                  <a:pt x="465" y="217"/>
                </a:lnTo>
                <a:lnTo>
                  <a:pt x="458" y="229"/>
                </a:lnTo>
                <a:lnTo>
                  <a:pt x="448" y="240"/>
                </a:lnTo>
                <a:lnTo>
                  <a:pt x="440" y="252"/>
                </a:lnTo>
                <a:lnTo>
                  <a:pt x="430" y="263"/>
                </a:lnTo>
                <a:lnTo>
                  <a:pt x="425" y="277"/>
                </a:lnTo>
                <a:lnTo>
                  <a:pt x="415" y="289"/>
                </a:lnTo>
                <a:lnTo>
                  <a:pt x="411" y="302"/>
                </a:lnTo>
                <a:lnTo>
                  <a:pt x="407" y="316"/>
                </a:lnTo>
                <a:lnTo>
                  <a:pt x="407" y="333"/>
                </a:lnTo>
                <a:lnTo>
                  <a:pt x="405" y="349"/>
                </a:lnTo>
                <a:lnTo>
                  <a:pt x="405" y="364"/>
                </a:lnTo>
                <a:lnTo>
                  <a:pt x="405" y="380"/>
                </a:lnTo>
                <a:lnTo>
                  <a:pt x="407" y="395"/>
                </a:lnTo>
                <a:lnTo>
                  <a:pt x="407" y="407"/>
                </a:lnTo>
                <a:lnTo>
                  <a:pt x="413" y="419"/>
                </a:lnTo>
                <a:lnTo>
                  <a:pt x="419" y="426"/>
                </a:lnTo>
                <a:lnTo>
                  <a:pt x="425" y="436"/>
                </a:lnTo>
                <a:lnTo>
                  <a:pt x="430" y="436"/>
                </a:lnTo>
                <a:lnTo>
                  <a:pt x="429" y="438"/>
                </a:lnTo>
                <a:lnTo>
                  <a:pt x="427" y="442"/>
                </a:lnTo>
                <a:lnTo>
                  <a:pt x="430" y="442"/>
                </a:lnTo>
                <a:lnTo>
                  <a:pt x="434" y="448"/>
                </a:lnTo>
                <a:lnTo>
                  <a:pt x="434" y="453"/>
                </a:lnTo>
                <a:lnTo>
                  <a:pt x="440" y="455"/>
                </a:lnTo>
                <a:lnTo>
                  <a:pt x="444" y="465"/>
                </a:lnTo>
                <a:lnTo>
                  <a:pt x="452" y="477"/>
                </a:lnTo>
                <a:lnTo>
                  <a:pt x="460" y="484"/>
                </a:lnTo>
                <a:lnTo>
                  <a:pt x="469" y="492"/>
                </a:lnTo>
                <a:lnTo>
                  <a:pt x="479" y="498"/>
                </a:lnTo>
                <a:lnTo>
                  <a:pt x="491" y="504"/>
                </a:lnTo>
                <a:lnTo>
                  <a:pt x="502" y="508"/>
                </a:lnTo>
                <a:lnTo>
                  <a:pt x="516" y="514"/>
                </a:lnTo>
                <a:lnTo>
                  <a:pt x="527" y="515"/>
                </a:lnTo>
                <a:lnTo>
                  <a:pt x="539" y="517"/>
                </a:lnTo>
                <a:lnTo>
                  <a:pt x="551" y="517"/>
                </a:lnTo>
                <a:lnTo>
                  <a:pt x="564" y="519"/>
                </a:lnTo>
                <a:lnTo>
                  <a:pt x="576" y="519"/>
                </a:lnTo>
                <a:lnTo>
                  <a:pt x="590" y="519"/>
                </a:lnTo>
                <a:lnTo>
                  <a:pt x="601" y="519"/>
                </a:lnTo>
                <a:lnTo>
                  <a:pt x="615" y="519"/>
                </a:lnTo>
                <a:lnTo>
                  <a:pt x="626" y="515"/>
                </a:lnTo>
                <a:lnTo>
                  <a:pt x="638" y="514"/>
                </a:lnTo>
                <a:lnTo>
                  <a:pt x="652" y="510"/>
                </a:lnTo>
                <a:lnTo>
                  <a:pt x="665" y="508"/>
                </a:lnTo>
                <a:lnTo>
                  <a:pt x="677" y="504"/>
                </a:lnTo>
                <a:lnTo>
                  <a:pt x="692" y="502"/>
                </a:lnTo>
                <a:lnTo>
                  <a:pt x="704" y="498"/>
                </a:lnTo>
                <a:lnTo>
                  <a:pt x="719" y="496"/>
                </a:lnTo>
                <a:lnTo>
                  <a:pt x="731" y="492"/>
                </a:lnTo>
                <a:lnTo>
                  <a:pt x="745" y="490"/>
                </a:lnTo>
                <a:lnTo>
                  <a:pt x="758" y="488"/>
                </a:lnTo>
                <a:lnTo>
                  <a:pt x="772" y="488"/>
                </a:lnTo>
                <a:lnTo>
                  <a:pt x="783" y="486"/>
                </a:lnTo>
                <a:lnTo>
                  <a:pt x="797" y="486"/>
                </a:lnTo>
                <a:lnTo>
                  <a:pt x="811" y="488"/>
                </a:lnTo>
                <a:lnTo>
                  <a:pt x="824" y="492"/>
                </a:lnTo>
                <a:lnTo>
                  <a:pt x="836" y="486"/>
                </a:lnTo>
                <a:lnTo>
                  <a:pt x="849" y="484"/>
                </a:lnTo>
                <a:lnTo>
                  <a:pt x="861" y="481"/>
                </a:lnTo>
                <a:lnTo>
                  <a:pt x="875" y="479"/>
                </a:lnTo>
                <a:lnTo>
                  <a:pt x="886" y="475"/>
                </a:lnTo>
                <a:lnTo>
                  <a:pt x="900" y="473"/>
                </a:lnTo>
                <a:lnTo>
                  <a:pt x="913" y="471"/>
                </a:lnTo>
                <a:lnTo>
                  <a:pt x="927" y="469"/>
                </a:lnTo>
                <a:lnTo>
                  <a:pt x="939" y="465"/>
                </a:lnTo>
                <a:lnTo>
                  <a:pt x="952" y="461"/>
                </a:lnTo>
                <a:lnTo>
                  <a:pt x="964" y="457"/>
                </a:lnTo>
                <a:lnTo>
                  <a:pt x="977" y="455"/>
                </a:lnTo>
                <a:lnTo>
                  <a:pt x="989" y="452"/>
                </a:lnTo>
                <a:lnTo>
                  <a:pt x="1003" y="448"/>
                </a:lnTo>
                <a:lnTo>
                  <a:pt x="1016" y="444"/>
                </a:lnTo>
                <a:lnTo>
                  <a:pt x="1030" y="442"/>
                </a:lnTo>
                <a:lnTo>
                  <a:pt x="1041" y="436"/>
                </a:lnTo>
                <a:lnTo>
                  <a:pt x="1055" y="436"/>
                </a:lnTo>
                <a:lnTo>
                  <a:pt x="1067" y="436"/>
                </a:lnTo>
                <a:lnTo>
                  <a:pt x="1082" y="436"/>
                </a:lnTo>
                <a:lnTo>
                  <a:pt x="1096" y="436"/>
                </a:lnTo>
                <a:lnTo>
                  <a:pt x="1109" y="436"/>
                </a:lnTo>
                <a:lnTo>
                  <a:pt x="1123" y="434"/>
                </a:lnTo>
                <a:lnTo>
                  <a:pt x="1138" y="432"/>
                </a:lnTo>
                <a:lnTo>
                  <a:pt x="1152" y="428"/>
                </a:lnTo>
                <a:lnTo>
                  <a:pt x="1173" y="428"/>
                </a:lnTo>
                <a:lnTo>
                  <a:pt x="1191" y="428"/>
                </a:lnTo>
                <a:lnTo>
                  <a:pt x="1202" y="436"/>
                </a:lnTo>
                <a:lnTo>
                  <a:pt x="1216" y="434"/>
                </a:lnTo>
                <a:lnTo>
                  <a:pt x="1231" y="442"/>
                </a:lnTo>
                <a:lnTo>
                  <a:pt x="1243" y="453"/>
                </a:lnTo>
                <a:lnTo>
                  <a:pt x="1255" y="467"/>
                </a:lnTo>
                <a:lnTo>
                  <a:pt x="1241" y="471"/>
                </a:lnTo>
                <a:lnTo>
                  <a:pt x="1230" y="473"/>
                </a:lnTo>
                <a:lnTo>
                  <a:pt x="1220" y="473"/>
                </a:lnTo>
                <a:lnTo>
                  <a:pt x="1210" y="473"/>
                </a:lnTo>
                <a:lnTo>
                  <a:pt x="1198" y="469"/>
                </a:lnTo>
                <a:lnTo>
                  <a:pt x="1187" y="467"/>
                </a:lnTo>
                <a:lnTo>
                  <a:pt x="1173" y="467"/>
                </a:lnTo>
                <a:lnTo>
                  <a:pt x="1160" y="469"/>
                </a:lnTo>
                <a:lnTo>
                  <a:pt x="1142" y="469"/>
                </a:lnTo>
                <a:lnTo>
                  <a:pt x="1129" y="475"/>
                </a:lnTo>
                <a:lnTo>
                  <a:pt x="1113" y="481"/>
                </a:lnTo>
                <a:lnTo>
                  <a:pt x="1100" y="488"/>
                </a:lnTo>
                <a:lnTo>
                  <a:pt x="1086" y="494"/>
                </a:lnTo>
                <a:lnTo>
                  <a:pt x="1072" y="504"/>
                </a:lnTo>
                <a:lnTo>
                  <a:pt x="1059" y="512"/>
                </a:lnTo>
                <a:lnTo>
                  <a:pt x="1047" y="523"/>
                </a:lnTo>
                <a:lnTo>
                  <a:pt x="1032" y="527"/>
                </a:lnTo>
                <a:lnTo>
                  <a:pt x="1020" y="529"/>
                </a:lnTo>
                <a:lnTo>
                  <a:pt x="1008" y="525"/>
                </a:lnTo>
                <a:lnTo>
                  <a:pt x="999" y="523"/>
                </a:lnTo>
                <a:lnTo>
                  <a:pt x="987" y="517"/>
                </a:lnTo>
                <a:lnTo>
                  <a:pt x="975" y="515"/>
                </a:lnTo>
                <a:lnTo>
                  <a:pt x="962" y="515"/>
                </a:lnTo>
                <a:lnTo>
                  <a:pt x="950" y="521"/>
                </a:lnTo>
                <a:lnTo>
                  <a:pt x="939" y="523"/>
                </a:lnTo>
                <a:lnTo>
                  <a:pt x="929" y="527"/>
                </a:lnTo>
                <a:lnTo>
                  <a:pt x="917" y="531"/>
                </a:lnTo>
                <a:lnTo>
                  <a:pt x="908" y="535"/>
                </a:lnTo>
                <a:lnTo>
                  <a:pt x="886" y="541"/>
                </a:lnTo>
                <a:lnTo>
                  <a:pt x="867" y="548"/>
                </a:lnTo>
                <a:lnTo>
                  <a:pt x="855" y="550"/>
                </a:lnTo>
                <a:lnTo>
                  <a:pt x="846" y="554"/>
                </a:lnTo>
                <a:lnTo>
                  <a:pt x="834" y="556"/>
                </a:lnTo>
                <a:lnTo>
                  <a:pt x="824" y="562"/>
                </a:lnTo>
                <a:lnTo>
                  <a:pt x="803" y="568"/>
                </a:lnTo>
                <a:lnTo>
                  <a:pt x="785" y="579"/>
                </a:lnTo>
                <a:lnTo>
                  <a:pt x="772" y="593"/>
                </a:lnTo>
                <a:lnTo>
                  <a:pt x="766" y="612"/>
                </a:lnTo>
                <a:lnTo>
                  <a:pt x="756" y="630"/>
                </a:lnTo>
                <a:lnTo>
                  <a:pt x="743" y="642"/>
                </a:lnTo>
                <a:lnTo>
                  <a:pt x="723" y="643"/>
                </a:lnTo>
                <a:lnTo>
                  <a:pt x="706" y="647"/>
                </a:lnTo>
                <a:lnTo>
                  <a:pt x="688" y="649"/>
                </a:lnTo>
                <a:lnTo>
                  <a:pt x="671" y="655"/>
                </a:lnTo>
                <a:lnTo>
                  <a:pt x="654" y="657"/>
                </a:lnTo>
                <a:lnTo>
                  <a:pt x="636" y="661"/>
                </a:lnTo>
                <a:lnTo>
                  <a:pt x="621" y="667"/>
                </a:lnTo>
                <a:lnTo>
                  <a:pt x="605" y="674"/>
                </a:lnTo>
                <a:lnTo>
                  <a:pt x="597" y="684"/>
                </a:lnTo>
                <a:lnTo>
                  <a:pt x="586" y="686"/>
                </a:lnTo>
                <a:lnTo>
                  <a:pt x="574" y="690"/>
                </a:lnTo>
                <a:lnTo>
                  <a:pt x="562" y="692"/>
                </a:lnTo>
                <a:lnTo>
                  <a:pt x="551" y="698"/>
                </a:lnTo>
                <a:lnTo>
                  <a:pt x="539" y="702"/>
                </a:lnTo>
                <a:lnTo>
                  <a:pt x="529" y="706"/>
                </a:lnTo>
                <a:lnTo>
                  <a:pt x="518" y="709"/>
                </a:lnTo>
                <a:lnTo>
                  <a:pt x="508" y="715"/>
                </a:lnTo>
                <a:lnTo>
                  <a:pt x="496" y="717"/>
                </a:lnTo>
                <a:lnTo>
                  <a:pt x="485" y="721"/>
                </a:lnTo>
                <a:lnTo>
                  <a:pt x="473" y="725"/>
                </a:lnTo>
                <a:lnTo>
                  <a:pt x="463" y="729"/>
                </a:lnTo>
                <a:lnTo>
                  <a:pt x="452" y="731"/>
                </a:lnTo>
                <a:lnTo>
                  <a:pt x="440" y="735"/>
                </a:lnTo>
                <a:lnTo>
                  <a:pt x="429" y="737"/>
                </a:lnTo>
                <a:lnTo>
                  <a:pt x="419" y="740"/>
                </a:lnTo>
                <a:lnTo>
                  <a:pt x="415" y="748"/>
                </a:lnTo>
                <a:lnTo>
                  <a:pt x="409" y="754"/>
                </a:lnTo>
                <a:lnTo>
                  <a:pt x="399" y="756"/>
                </a:lnTo>
                <a:lnTo>
                  <a:pt x="394" y="758"/>
                </a:lnTo>
                <a:lnTo>
                  <a:pt x="378" y="756"/>
                </a:lnTo>
                <a:lnTo>
                  <a:pt x="368" y="750"/>
                </a:lnTo>
                <a:lnTo>
                  <a:pt x="361" y="738"/>
                </a:lnTo>
                <a:lnTo>
                  <a:pt x="361" y="725"/>
                </a:lnTo>
                <a:lnTo>
                  <a:pt x="355" y="721"/>
                </a:lnTo>
                <a:lnTo>
                  <a:pt x="349" y="721"/>
                </a:lnTo>
                <a:lnTo>
                  <a:pt x="337" y="735"/>
                </a:lnTo>
                <a:lnTo>
                  <a:pt x="326" y="750"/>
                </a:lnTo>
                <a:lnTo>
                  <a:pt x="314" y="766"/>
                </a:lnTo>
                <a:lnTo>
                  <a:pt x="304" y="783"/>
                </a:lnTo>
                <a:lnTo>
                  <a:pt x="293" y="797"/>
                </a:lnTo>
                <a:lnTo>
                  <a:pt x="283" y="812"/>
                </a:lnTo>
                <a:lnTo>
                  <a:pt x="273" y="828"/>
                </a:lnTo>
                <a:lnTo>
                  <a:pt x="264" y="845"/>
                </a:lnTo>
                <a:lnTo>
                  <a:pt x="252" y="861"/>
                </a:lnTo>
                <a:lnTo>
                  <a:pt x="242" y="876"/>
                </a:lnTo>
                <a:lnTo>
                  <a:pt x="231" y="892"/>
                </a:lnTo>
                <a:lnTo>
                  <a:pt x="221" y="907"/>
                </a:lnTo>
                <a:lnTo>
                  <a:pt x="209" y="923"/>
                </a:lnTo>
                <a:lnTo>
                  <a:pt x="200" y="938"/>
                </a:lnTo>
                <a:lnTo>
                  <a:pt x="190" y="954"/>
                </a:lnTo>
                <a:lnTo>
                  <a:pt x="180" y="971"/>
                </a:lnTo>
                <a:lnTo>
                  <a:pt x="169" y="963"/>
                </a:lnTo>
                <a:lnTo>
                  <a:pt x="157" y="956"/>
                </a:lnTo>
                <a:lnTo>
                  <a:pt x="145" y="948"/>
                </a:lnTo>
                <a:lnTo>
                  <a:pt x="134" y="942"/>
                </a:lnTo>
                <a:lnTo>
                  <a:pt x="122" y="934"/>
                </a:lnTo>
                <a:lnTo>
                  <a:pt x="110" y="928"/>
                </a:lnTo>
                <a:lnTo>
                  <a:pt x="99" y="921"/>
                </a:lnTo>
                <a:lnTo>
                  <a:pt x="87" y="915"/>
                </a:lnTo>
                <a:lnTo>
                  <a:pt x="76" y="907"/>
                </a:lnTo>
                <a:lnTo>
                  <a:pt x="64" y="899"/>
                </a:lnTo>
                <a:lnTo>
                  <a:pt x="52" y="892"/>
                </a:lnTo>
                <a:lnTo>
                  <a:pt x="43" y="886"/>
                </a:lnTo>
                <a:lnTo>
                  <a:pt x="31" y="878"/>
                </a:lnTo>
                <a:lnTo>
                  <a:pt x="21" y="870"/>
                </a:lnTo>
                <a:lnTo>
                  <a:pt x="10" y="863"/>
                </a:lnTo>
                <a:lnTo>
                  <a:pt x="0" y="855"/>
                </a:lnTo>
                <a:lnTo>
                  <a:pt x="0" y="843"/>
                </a:lnTo>
                <a:lnTo>
                  <a:pt x="4" y="832"/>
                </a:lnTo>
                <a:lnTo>
                  <a:pt x="10" y="822"/>
                </a:lnTo>
                <a:lnTo>
                  <a:pt x="15" y="814"/>
                </a:lnTo>
                <a:lnTo>
                  <a:pt x="27" y="795"/>
                </a:lnTo>
                <a:lnTo>
                  <a:pt x="41" y="777"/>
                </a:lnTo>
                <a:lnTo>
                  <a:pt x="43" y="783"/>
                </a:lnTo>
                <a:lnTo>
                  <a:pt x="46" y="793"/>
                </a:lnTo>
                <a:lnTo>
                  <a:pt x="48" y="801"/>
                </a:lnTo>
                <a:lnTo>
                  <a:pt x="60" y="802"/>
                </a:lnTo>
                <a:lnTo>
                  <a:pt x="68" y="785"/>
                </a:lnTo>
                <a:lnTo>
                  <a:pt x="76" y="768"/>
                </a:lnTo>
                <a:lnTo>
                  <a:pt x="79" y="748"/>
                </a:lnTo>
                <a:lnTo>
                  <a:pt x="85" y="731"/>
                </a:lnTo>
                <a:lnTo>
                  <a:pt x="87" y="709"/>
                </a:lnTo>
                <a:lnTo>
                  <a:pt x="91" y="692"/>
                </a:lnTo>
                <a:lnTo>
                  <a:pt x="91" y="671"/>
                </a:lnTo>
                <a:lnTo>
                  <a:pt x="93" y="653"/>
                </a:lnTo>
                <a:lnTo>
                  <a:pt x="85" y="640"/>
                </a:lnTo>
                <a:lnTo>
                  <a:pt x="85" y="624"/>
                </a:lnTo>
                <a:lnTo>
                  <a:pt x="85" y="607"/>
                </a:lnTo>
                <a:lnTo>
                  <a:pt x="87" y="593"/>
                </a:lnTo>
                <a:lnTo>
                  <a:pt x="89" y="576"/>
                </a:lnTo>
                <a:lnTo>
                  <a:pt x="93" y="560"/>
                </a:lnTo>
                <a:lnTo>
                  <a:pt x="99" y="545"/>
                </a:lnTo>
                <a:lnTo>
                  <a:pt x="105" y="531"/>
                </a:lnTo>
                <a:lnTo>
                  <a:pt x="110" y="515"/>
                </a:lnTo>
                <a:lnTo>
                  <a:pt x="116" y="502"/>
                </a:lnTo>
                <a:lnTo>
                  <a:pt x="124" y="488"/>
                </a:lnTo>
                <a:lnTo>
                  <a:pt x="134" y="477"/>
                </a:lnTo>
                <a:lnTo>
                  <a:pt x="140" y="463"/>
                </a:lnTo>
                <a:lnTo>
                  <a:pt x="149" y="450"/>
                </a:lnTo>
                <a:lnTo>
                  <a:pt x="159" y="438"/>
                </a:lnTo>
                <a:lnTo>
                  <a:pt x="171" y="426"/>
                </a:lnTo>
                <a:lnTo>
                  <a:pt x="182" y="413"/>
                </a:lnTo>
                <a:lnTo>
                  <a:pt x="194" y="401"/>
                </a:lnTo>
                <a:lnTo>
                  <a:pt x="207" y="391"/>
                </a:lnTo>
                <a:lnTo>
                  <a:pt x="221" y="382"/>
                </a:lnTo>
                <a:lnTo>
                  <a:pt x="233" y="368"/>
                </a:lnTo>
                <a:lnTo>
                  <a:pt x="248" y="355"/>
                </a:lnTo>
                <a:lnTo>
                  <a:pt x="266" y="339"/>
                </a:lnTo>
                <a:lnTo>
                  <a:pt x="283" y="327"/>
                </a:lnTo>
                <a:lnTo>
                  <a:pt x="283" y="331"/>
                </a:lnTo>
                <a:lnTo>
                  <a:pt x="285" y="339"/>
                </a:lnTo>
                <a:lnTo>
                  <a:pt x="287" y="343"/>
                </a:lnTo>
                <a:lnTo>
                  <a:pt x="297" y="343"/>
                </a:lnTo>
                <a:lnTo>
                  <a:pt x="299" y="331"/>
                </a:lnTo>
                <a:lnTo>
                  <a:pt x="306" y="320"/>
                </a:lnTo>
                <a:lnTo>
                  <a:pt x="314" y="310"/>
                </a:lnTo>
                <a:lnTo>
                  <a:pt x="324" y="302"/>
                </a:lnTo>
                <a:lnTo>
                  <a:pt x="330" y="293"/>
                </a:lnTo>
                <a:lnTo>
                  <a:pt x="335" y="283"/>
                </a:lnTo>
                <a:lnTo>
                  <a:pt x="337" y="273"/>
                </a:lnTo>
                <a:lnTo>
                  <a:pt x="335" y="263"/>
                </a:lnTo>
                <a:lnTo>
                  <a:pt x="330" y="261"/>
                </a:lnTo>
                <a:lnTo>
                  <a:pt x="324" y="261"/>
                </a:lnTo>
                <a:lnTo>
                  <a:pt x="318" y="260"/>
                </a:lnTo>
                <a:lnTo>
                  <a:pt x="318" y="256"/>
                </a:lnTo>
                <a:lnTo>
                  <a:pt x="324" y="238"/>
                </a:lnTo>
                <a:lnTo>
                  <a:pt x="335" y="221"/>
                </a:lnTo>
                <a:lnTo>
                  <a:pt x="343" y="203"/>
                </a:lnTo>
                <a:lnTo>
                  <a:pt x="353" y="186"/>
                </a:lnTo>
                <a:lnTo>
                  <a:pt x="361" y="188"/>
                </a:lnTo>
                <a:lnTo>
                  <a:pt x="368" y="196"/>
                </a:lnTo>
                <a:lnTo>
                  <a:pt x="380" y="178"/>
                </a:lnTo>
                <a:lnTo>
                  <a:pt x="390" y="163"/>
                </a:lnTo>
                <a:lnTo>
                  <a:pt x="398" y="143"/>
                </a:lnTo>
                <a:lnTo>
                  <a:pt x="409" y="124"/>
                </a:lnTo>
                <a:lnTo>
                  <a:pt x="415" y="114"/>
                </a:lnTo>
                <a:lnTo>
                  <a:pt x="423" y="104"/>
                </a:lnTo>
                <a:lnTo>
                  <a:pt x="430" y="95"/>
                </a:lnTo>
                <a:lnTo>
                  <a:pt x="440" y="93"/>
                </a:lnTo>
                <a:lnTo>
                  <a:pt x="458" y="95"/>
                </a:lnTo>
                <a:lnTo>
                  <a:pt x="477" y="101"/>
                </a:lnTo>
                <a:lnTo>
                  <a:pt x="485" y="101"/>
                </a:lnTo>
                <a:lnTo>
                  <a:pt x="493" y="101"/>
                </a:lnTo>
                <a:lnTo>
                  <a:pt x="500" y="97"/>
                </a:lnTo>
                <a:lnTo>
                  <a:pt x="508" y="89"/>
                </a:lnTo>
                <a:lnTo>
                  <a:pt x="494" y="85"/>
                </a:lnTo>
                <a:lnTo>
                  <a:pt x="483" y="83"/>
                </a:lnTo>
                <a:lnTo>
                  <a:pt x="469" y="79"/>
                </a:lnTo>
                <a:lnTo>
                  <a:pt x="460" y="70"/>
                </a:lnTo>
                <a:lnTo>
                  <a:pt x="460" y="54"/>
                </a:lnTo>
                <a:lnTo>
                  <a:pt x="469" y="40"/>
                </a:lnTo>
                <a:lnTo>
                  <a:pt x="471" y="35"/>
                </a:lnTo>
                <a:lnTo>
                  <a:pt x="473" y="29"/>
                </a:lnTo>
                <a:lnTo>
                  <a:pt x="467" y="23"/>
                </a:lnTo>
                <a:lnTo>
                  <a:pt x="460" y="23"/>
                </a:lnTo>
                <a:lnTo>
                  <a:pt x="471" y="9"/>
                </a:lnTo>
                <a:lnTo>
                  <a:pt x="489" y="4"/>
                </a:lnTo>
                <a:lnTo>
                  <a:pt x="498" y="0"/>
                </a:lnTo>
                <a:lnTo>
                  <a:pt x="510" y="4"/>
                </a:lnTo>
                <a:lnTo>
                  <a:pt x="520" y="7"/>
                </a:lnTo>
                <a:lnTo>
                  <a:pt x="529" y="17"/>
                </a:lnTo>
                <a:close/>
              </a:path>
            </a:pathLst>
          </a:custGeom>
          <a:solidFill>
            <a:srgbClr val="ffb39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75" name=""/>
          <p:cNvSpPr/>
          <p:nvPr/>
        </p:nvSpPr>
        <p:spPr>
          <a:xfrm>
            <a:off x="3956040" y="4595760"/>
            <a:ext cx="812880" cy="387360"/>
          </a:xfrm>
          <a:custGeom>
            <a:avLst/>
            <a:gdLst/>
            <a:ahLst/>
            <a:rect l="l" t="t" r="r" b="b"/>
            <a:pathLst>
              <a:path w="1024" h="488">
                <a:moveTo>
                  <a:pt x="1024" y="0"/>
                </a:moveTo>
                <a:lnTo>
                  <a:pt x="1007" y="1"/>
                </a:lnTo>
                <a:lnTo>
                  <a:pt x="993" y="5"/>
                </a:lnTo>
                <a:lnTo>
                  <a:pt x="978" y="7"/>
                </a:lnTo>
                <a:lnTo>
                  <a:pt x="964" y="11"/>
                </a:lnTo>
                <a:lnTo>
                  <a:pt x="947" y="13"/>
                </a:lnTo>
                <a:lnTo>
                  <a:pt x="933" y="17"/>
                </a:lnTo>
                <a:lnTo>
                  <a:pt x="918" y="21"/>
                </a:lnTo>
                <a:lnTo>
                  <a:pt x="904" y="25"/>
                </a:lnTo>
                <a:lnTo>
                  <a:pt x="888" y="27"/>
                </a:lnTo>
                <a:lnTo>
                  <a:pt x="875" y="31"/>
                </a:lnTo>
                <a:lnTo>
                  <a:pt x="859" y="32"/>
                </a:lnTo>
                <a:lnTo>
                  <a:pt x="846" y="36"/>
                </a:lnTo>
                <a:lnTo>
                  <a:pt x="830" y="38"/>
                </a:lnTo>
                <a:lnTo>
                  <a:pt x="817" y="42"/>
                </a:lnTo>
                <a:lnTo>
                  <a:pt x="801" y="44"/>
                </a:lnTo>
                <a:lnTo>
                  <a:pt x="790" y="50"/>
                </a:lnTo>
                <a:lnTo>
                  <a:pt x="774" y="52"/>
                </a:lnTo>
                <a:lnTo>
                  <a:pt x="760" y="56"/>
                </a:lnTo>
                <a:lnTo>
                  <a:pt x="745" y="58"/>
                </a:lnTo>
                <a:lnTo>
                  <a:pt x="731" y="62"/>
                </a:lnTo>
                <a:lnTo>
                  <a:pt x="716" y="64"/>
                </a:lnTo>
                <a:lnTo>
                  <a:pt x="702" y="69"/>
                </a:lnTo>
                <a:lnTo>
                  <a:pt x="687" y="71"/>
                </a:lnTo>
                <a:lnTo>
                  <a:pt x="673" y="77"/>
                </a:lnTo>
                <a:lnTo>
                  <a:pt x="658" y="81"/>
                </a:lnTo>
                <a:lnTo>
                  <a:pt x="644" y="85"/>
                </a:lnTo>
                <a:lnTo>
                  <a:pt x="629" y="89"/>
                </a:lnTo>
                <a:lnTo>
                  <a:pt x="617" y="95"/>
                </a:lnTo>
                <a:lnTo>
                  <a:pt x="601" y="100"/>
                </a:lnTo>
                <a:lnTo>
                  <a:pt x="588" y="106"/>
                </a:lnTo>
                <a:lnTo>
                  <a:pt x="572" y="112"/>
                </a:lnTo>
                <a:lnTo>
                  <a:pt x="561" y="118"/>
                </a:lnTo>
                <a:lnTo>
                  <a:pt x="545" y="122"/>
                </a:lnTo>
                <a:lnTo>
                  <a:pt x="532" y="127"/>
                </a:lnTo>
                <a:lnTo>
                  <a:pt x="518" y="131"/>
                </a:lnTo>
                <a:lnTo>
                  <a:pt x="504" y="137"/>
                </a:lnTo>
                <a:lnTo>
                  <a:pt x="489" y="139"/>
                </a:lnTo>
                <a:lnTo>
                  <a:pt x="477" y="141"/>
                </a:lnTo>
                <a:lnTo>
                  <a:pt x="462" y="143"/>
                </a:lnTo>
                <a:lnTo>
                  <a:pt x="450" y="145"/>
                </a:lnTo>
                <a:lnTo>
                  <a:pt x="435" y="145"/>
                </a:lnTo>
                <a:lnTo>
                  <a:pt x="421" y="145"/>
                </a:lnTo>
                <a:lnTo>
                  <a:pt x="406" y="145"/>
                </a:lnTo>
                <a:lnTo>
                  <a:pt x="392" y="145"/>
                </a:lnTo>
                <a:lnTo>
                  <a:pt x="376" y="143"/>
                </a:lnTo>
                <a:lnTo>
                  <a:pt x="365" y="143"/>
                </a:lnTo>
                <a:lnTo>
                  <a:pt x="349" y="143"/>
                </a:lnTo>
                <a:lnTo>
                  <a:pt x="338" y="143"/>
                </a:lnTo>
                <a:lnTo>
                  <a:pt x="322" y="141"/>
                </a:lnTo>
                <a:lnTo>
                  <a:pt x="309" y="139"/>
                </a:lnTo>
                <a:lnTo>
                  <a:pt x="295" y="137"/>
                </a:lnTo>
                <a:lnTo>
                  <a:pt x="283" y="137"/>
                </a:lnTo>
                <a:lnTo>
                  <a:pt x="270" y="137"/>
                </a:lnTo>
                <a:lnTo>
                  <a:pt x="258" y="137"/>
                </a:lnTo>
                <a:lnTo>
                  <a:pt x="247" y="137"/>
                </a:lnTo>
                <a:lnTo>
                  <a:pt x="235" y="137"/>
                </a:lnTo>
                <a:lnTo>
                  <a:pt x="223" y="137"/>
                </a:lnTo>
                <a:lnTo>
                  <a:pt x="212" y="137"/>
                </a:lnTo>
                <a:lnTo>
                  <a:pt x="200" y="139"/>
                </a:lnTo>
                <a:lnTo>
                  <a:pt x="190" y="143"/>
                </a:lnTo>
                <a:lnTo>
                  <a:pt x="173" y="149"/>
                </a:lnTo>
                <a:lnTo>
                  <a:pt x="157" y="160"/>
                </a:lnTo>
                <a:lnTo>
                  <a:pt x="146" y="172"/>
                </a:lnTo>
                <a:lnTo>
                  <a:pt x="136" y="188"/>
                </a:lnTo>
                <a:lnTo>
                  <a:pt x="126" y="205"/>
                </a:lnTo>
                <a:lnTo>
                  <a:pt x="119" y="224"/>
                </a:lnTo>
                <a:lnTo>
                  <a:pt x="111" y="242"/>
                </a:lnTo>
                <a:lnTo>
                  <a:pt x="103" y="261"/>
                </a:lnTo>
                <a:lnTo>
                  <a:pt x="97" y="279"/>
                </a:lnTo>
                <a:lnTo>
                  <a:pt x="93" y="296"/>
                </a:lnTo>
                <a:lnTo>
                  <a:pt x="87" y="306"/>
                </a:lnTo>
                <a:lnTo>
                  <a:pt x="84" y="318"/>
                </a:lnTo>
                <a:lnTo>
                  <a:pt x="80" y="327"/>
                </a:lnTo>
                <a:lnTo>
                  <a:pt x="76" y="339"/>
                </a:lnTo>
                <a:lnTo>
                  <a:pt x="66" y="356"/>
                </a:lnTo>
                <a:lnTo>
                  <a:pt x="56" y="376"/>
                </a:lnTo>
                <a:lnTo>
                  <a:pt x="43" y="389"/>
                </a:lnTo>
                <a:lnTo>
                  <a:pt x="29" y="405"/>
                </a:lnTo>
                <a:lnTo>
                  <a:pt x="14" y="418"/>
                </a:lnTo>
                <a:lnTo>
                  <a:pt x="0" y="432"/>
                </a:lnTo>
                <a:lnTo>
                  <a:pt x="10" y="438"/>
                </a:lnTo>
                <a:lnTo>
                  <a:pt x="22" y="445"/>
                </a:lnTo>
                <a:lnTo>
                  <a:pt x="33" y="451"/>
                </a:lnTo>
                <a:lnTo>
                  <a:pt x="45" y="459"/>
                </a:lnTo>
                <a:lnTo>
                  <a:pt x="56" y="465"/>
                </a:lnTo>
                <a:lnTo>
                  <a:pt x="68" y="473"/>
                </a:lnTo>
                <a:lnTo>
                  <a:pt x="80" y="480"/>
                </a:lnTo>
                <a:lnTo>
                  <a:pt x="93" y="488"/>
                </a:lnTo>
                <a:lnTo>
                  <a:pt x="103" y="471"/>
                </a:lnTo>
                <a:lnTo>
                  <a:pt x="113" y="455"/>
                </a:lnTo>
                <a:lnTo>
                  <a:pt x="122" y="440"/>
                </a:lnTo>
                <a:lnTo>
                  <a:pt x="134" y="424"/>
                </a:lnTo>
                <a:lnTo>
                  <a:pt x="144" y="409"/>
                </a:lnTo>
                <a:lnTo>
                  <a:pt x="155" y="393"/>
                </a:lnTo>
                <a:lnTo>
                  <a:pt x="165" y="378"/>
                </a:lnTo>
                <a:lnTo>
                  <a:pt x="177" y="362"/>
                </a:lnTo>
                <a:lnTo>
                  <a:pt x="186" y="345"/>
                </a:lnTo>
                <a:lnTo>
                  <a:pt x="196" y="329"/>
                </a:lnTo>
                <a:lnTo>
                  <a:pt x="206" y="314"/>
                </a:lnTo>
                <a:lnTo>
                  <a:pt x="217" y="300"/>
                </a:lnTo>
                <a:lnTo>
                  <a:pt x="227" y="283"/>
                </a:lnTo>
                <a:lnTo>
                  <a:pt x="239" y="267"/>
                </a:lnTo>
                <a:lnTo>
                  <a:pt x="250" y="252"/>
                </a:lnTo>
                <a:lnTo>
                  <a:pt x="262" y="238"/>
                </a:lnTo>
                <a:lnTo>
                  <a:pt x="268" y="238"/>
                </a:lnTo>
                <a:lnTo>
                  <a:pt x="274" y="242"/>
                </a:lnTo>
                <a:lnTo>
                  <a:pt x="274" y="255"/>
                </a:lnTo>
                <a:lnTo>
                  <a:pt x="281" y="267"/>
                </a:lnTo>
                <a:lnTo>
                  <a:pt x="291" y="273"/>
                </a:lnTo>
                <a:lnTo>
                  <a:pt x="307" y="275"/>
                </a:lnTo>
                <a:lnTo>
                  <a:pt x="312" y="273"/>
                </a:lnTo>
                <a:lnTo>
                  <a:pt x="322" y="271"/>
                </a:lnTo>
                <a:lnTo>
                  <a:pt x="328" y="265"/>
                </a:lnTo>
                <a:lnTo>
                  <a:pt x="332" y="257"/>
                </a:lnTo>
                <a:lnTo>
                  <a:pt x="342" y="254"/>
                </a:lnTo>
                <a:lnTo>
                  <a:pt x="353" y="252"/>
                </a:lnTo>
                <a:lnTo>
                  <a:pt x="365" y="248"/>
                </a:lnTo>
                <a:lnTo>
                  <a:pt x="376" y="246"/>
                </a:lnTo>
                <a:lnTo>
                  <a:pt x="386" y="242"/>
                </a:lnTo>
                <a:lnTo>
                  <a:pt x="398" y="238"/>
                </a:lnTo>
                <a:lnTo>
                  <a:pt x="409" y="234"/>
                </a:lnTo>
                <a:lnTo>
                  <a:pt x="421" y="232"/>
                </a:lnTo>
                <a:lnTo>
                  <a:pt x="431" y="226"/>
                </a:lnTo>
                <a:lnTo>
                  <a:pt x="442" y="223"/>
                </a:lnTo>
                <a:lnTo>
                  <a:pt x="452" y="219"/>
                </a:lnTo>
                <a:lnTo>
                  <a:pt x="464" y="215"/>
                </a:lnTo>
                <a:lnTo>
                  <a:pt x="475" y="209"/>
                </a:lnTo>
                <a:lnTo>
                  <a:pt x="487" y="207"/>
                </a:lnTo>
                <a:lnTo>
                  <a:pt x="499" y="203"/>
                </a:lnTo>
                <a:lnTo>
                  <a:pt x="510" y="201"/>
                </a:lnTo>
                <a:lnTo>
                  <a:pt x="518" y="191"/>
                </a:lnTo>
                <a:lnTo>
                  <a:pt x="534" y="184"/>
                </a:lnTo>
                <a:lnTo>
                  <a:pt x="549" y="178"/>
                </a:lnTo>
                <a:lnTo>
                  <a:pt x="567" y="174"/>
                </a:lnTo>
                <a:lnTo>
                  <a:pt x="584" y="172"/>
                </a:lnTo>
                <a:lnTo>
                  <a:pt x="601" y="166"/>
                </a:lnTo>
                <a:lnTo>
                  <a:pt x="619" y="164"/>
                </a:lnTo>
                <a:lnTo>
                  <a:pt x="636" y="160"/>
                </a:lnTo>
                <a:lnTo>
                  <a:pt x="656" y="159"/>
                </a:lnTo>
                <a:lnTo>
                  <a:pt x="669" y="147"/>
                </a:lnTo>
                <a:lnTo>
                  <a:pt x="679" y="129"/>
                </a:lnTo>
                <a:lnTo>
                  <a:pt x="685" y="110"/>
                </a:lnTo>
                <a:lnTo>
                  <a:pt x="698" y="96"/>
                </a:lnTo>
                <a:lnTo>
                  <a:pt x="716" y="85"/>
                </a:lnTo>
                <a:lnTo>
                  <a:pt x="737" y="79"/>
                </a:lnTo>
                <a:lnTo>
                  <a:pt x="747" y="73"/>
                </a:lnTo>
                <a:lnTo>
                  <a:pt x="759" y="71"/>
                </a:lnTo>
                <a:lnTo>
                  <a:pt x="768" y="67"/>
                </a:lnTo>
                <a:lnTo>
                  <a:pt x="780" y="65"/>
                </a:lnTo>
                <a:lnTo>
                  <a:pt x="799" y="58"/>
                </a:lnTo>
                <a:lnTo>
                  <a:pt x="821" y="52"/>
                </a:lnTo>
                <a:lnTo>
                  <a:pt x="830" y="48"/>
                </a:lnTo>
                <a:lnTo>
                  <a:pt x="842" y="44"/>
                </a:lnTo>
                <a:lnTo>
                  <a:pt x="852" y="40"/>
                </a:lnTo>
                <a:lnTo>
                  <a:pt x="863" y="38"/>
                </a:lnTo>
                <a:lnTo>
                  <a:pt x="875" y="32"/>
                </a:lnTo>
                <a:lnTo>
                  <a:pt x="888" y="32"/>
                </a:lnTo>
                <a:lnTo>
                  <a:pt x="900" y="34"/>
                </a:lnTo>
                <a:lnTo>
                  <a:pt x="912" y="40"/>
                </a:lnTo>
                <a:lnTo>
                  <a:pt x="921" y="42"/>
                </a:lnTo>
                <a:lnTo>
                  <a:pt x="933" y="46"/>
                </a:lnTo>
                <a:lnTo>
                  <a:pt x="945" y="44"/>
                </a:lnTo>
                <a:lnTo>
                  <a:pt x="960" y="40"/>
                </a:lnTo>
                <a:lnTo>
                  <a:pt x="976" y="29"/>
                </a:lnTo>
                <a:lnTo>
                  <a:pt x="991" y="19"/>
                </a:lnTo>
                <a:lnTo>
                  <a:pt x="1007" y="7"/>
                </a:lnTo>
                <a:lnTo>
                  <a:pt x="1024" y="0"/>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76" name=""/>
          <p:cNvSpPr/>
          <p:nvPr/>
        </p:nvSpPr>
        <p:spPr>
          <a:xfrm>
            <a:off x="6054840" y="4395960"/>
            <a:ext cx="323640" cy="1546200"/>
          </a:xfrm>
          <a:custGeom>
            <a:avLst/>
            <a:gdLst/>
            <a:ahLst/>
            <a:rect l="l" t="t" r="r" b="b"/>
            <a:pathLst>
              <a:path w="409" h="1949">
                <a:moveTo>
                  <a:pt x="409" y="0"/>
                </a:moveTo>
                <a:lnTo>
                  <a:pt x="403" y="12"/>
                </a:lnTo>
                <a:lnTo>
                  <a:pt x="397" y="26"/>
                </a:lnTo>
                <a:lnTo>
                  <a:pt x="393" y="39"/>
                </a:lnTo>
                <a:lnTo>
                  <a:pt x="389" y="53"/>
                </a:lnTo>
                <a:lnTo>
                  <a:pt x="384" y="64"/>
                </a:lnTo>
                <a:lnTo>
                  <a:pt x="378" y="80"/>
                </a:lnTo>
                <a:lnTo>
                  <a:pt x="374" y="92"/>
                </a:lnTo>
                <a:lnTo>
                  <a:pt x="370" y="107"/>
                </a:lnTo>
                <a:lnTo>
                  <a:pt x="364" y="119"/>
                </a:lnTo>
                <a:lnTo>
                  <a:pt x="360" y="134"/>
                </a:lnTo>
                <a:lnTo>
                  <a:pt x="356" y="146"/>
                </a:lnTo>
                <a:lnTo>
                  <a:pt x="353" y="161"/>
                </a:lnTo>
                <a:lnTo>
                  <a:pt x="347" y="175"/>
                </a:lnTo>
                <a:lnTo>
                  <a:pt x="343" y="189"/>
                </a:lnTo>
                <a:lnTo>
                  <a:pt x="339" y="202"/>
                </a:lnTo>
                <a:lnTo>
                  <a:pt x="335" y="218"/>
                </a:lnTo>
                <a:lnTo>
                  <a:pt x="329" y="229"/>
                </a:lnTo>
                <a:lnTo>
                  <a:pt x="325" y="243"/>
                </a:lnTo>
                <a:lnTo>
                  <a:pt x="322" y="256"/>
                </a:lnTo>
                <a:lnTo>
                  <a:pt x="318" y="270"/>
                </a:lnTo>
                <a:lnTo>
                  <a:pt x="312" y="284"/>
                </a:lnTo>
                <a:lnTo>
                  <a:pt x="308" y="297"/>
                </a:lnTo>
                <a:lnTo>
                  <a:pt x="304" y="311"/>
                </a:lnTo>
                <a:lnTo>
                  <a:pt x="302" y="326"/>
                </a:lnTo>
                <a:lnTo>
                  <a:pt x="296" y="340"/>
                </a:lnTo>
                <a:lnTo>
                  <a:pt x="292" y="353"/>
                </a:lnTo>
                <a:lnTo>
                  <a:pt x="289" y="367"/>
                </a:lnTo>
                <a:lnTo>
                  <a:pt x="287" y="382"/>
                </a:lnTo>
                <a:lnTo>
                  <a:pt x="283" y="396"/>
                </a:lnTo>
                <a:lnTo>
                  <a:pt x="281" y="412"/>
                </a:lnTo>
                <a:lnTo>
                  <a:pt x="277" y="425"/>
                </a:lnTo>
                <a:lnTo>
                  <a:pt x="275" y="441"/>
                </a:lnTo>
                <a:lnTo>
                  <a:pt x="273" y="452"/>
                </a:lnTo>
                <a:lnTo>
                  <a:pt x="277" y="464"/>
                </a:lnTo>
                <a:lnTo>
                  <a:pt x="281" y="476"/>
                </a:lnTo>
                <a:lnTo>
                  <a:pt x="279" y="489"/>
                </a:lnTo>
                <a:lnTo>
                  <a:pt x="283" y="507"/>
                </a:lnTo>
                <a:lnTo>
                  <a:pt x="287" y="526"/>
                </a:lnTo>
                <a:lnTo>
                  <a:pt x="290" y="545"/>
                </a:lnTo>
                <a:lnTo>
                  <a:pt x="296" y="567"/>
                </a:lnTo>
                <a:lnTo>
                  <a:pt x="298" y="586"/>
                </a:lnTo>
                <a:lnTo>
                  <a:pt x="304" y="607"/>
                </a:lnTo>
                <a:lnTo>
                  <a:pt x="304" y="617"/>
                </a:lnTo>
                <a:lnTo>
                  <a:pt x="306" y="627"/>
                </a:lnTo>
                <a:lnTo>
                  <a:pt x="308" y="638"/>
                </a:lnTo>
                <a:lnTo>
                  <a:pt x="312" y="650"/>
                </a:lnTo>
                <a:lnTo>
                  <a:pt x="314" y="669"/>
                </a:lnTo>
                <a:lnTo>
                  <a:pt x="318" y="691"/>
                </a:lnTo>
                <a:lnTo>
                  <a:pt x="322" y="710"/>
                </a:lnTo>
                <a:lnTo>
                  <a:pt x="325" y="731"/>
                </a:lnTo>
                <a:lnTo>
                  <a:pt x="325" y="741"/>
                </a:lnTo>
                <a:lnTo>
                  <a:pt x="329" y="751"/>
                </a:lnTo>
                <a:lnTo>
                  <a:pt x="329" y="762"/>
                </a:lnTo>
                <a:lnTo>
                  <a:pt x="333" y="774"/>
                </a:lnTo>
                <a:lnTo>
                  <a:pt x="335" y="784"/>
                </a:lnTo>
                <a:lnTo>
                  <a:pt x="339" y="794"/>
                </a:lnTo>
                <a:lnTo>
                  <a:pt x="341" y="805"/>
                </a:lnTo>
                <a:lnTo>
                  <a:pt x="345" y="817"/>
                </a:lnTo>
                <a:lnTo>
                  <a:pt x="349" y="805"/>
                </a:lnTo>
                <a:lnTo>
                  <a:pt x="354" y="794"/>
                </a:lnTo>
                <a:lnTo>
                  <a:pt x="358" y="782"/>
                </a:lnTo>
                <a:lnTo>
                  <a:pt x="362" y="770"/>
                </a:lnTo>
                <a:lnTo>
                  <a:pt x="366" y="759"/>
                </a:lnTo>
                <a:lnTo>
                  <a:pt x="370" y="747"/>
                </a:lnTo>
                <a:lnTo>
                  <a:pt x="374" y="735"/>
                </a:lnTo>
                <a:lnTo>
                  <a:pt x="380" y="726"/>
                </a:lnTo>
                <a:lnTo>
                  <a:pt x="389" y="726"/>
                </a:lnTo>
                <a:lnTo>
                  <a:pt x="384" y="737"/>
                </a:lnTo>
                <a:lnTo>
                  <a:pt x="382" y="749"/>
                </a:lnTo>
                <a:lnTo>
                  <a:pt x="378" y="761"/>
                </a:lnTo>
                <a:lnTo>
                  <a:pt x="376" y="772"/>
                </a:lnTo>
                <a:lnTo>
                  <a:pt x="370" y="784"/>
                </a:lnTo>
                <a:lnTo>
                  <a:pt x="368" y="795"/>
                </a:lnTo>
                <a:lnTo>
                  <a:pt x="364" y="807"/>
                </a:lnTo>
                <a:lnTo>
                  <a:pt x="362" y="819"/>
                </a:lnTo>
                <a:lnTo>
                  <a:pt x="358" y="830"/>
                </a:lnTo>
                <a:lnTo>
                  <a:pt x="354" y="842"/>
                </a:lnTo>
                <a:lnTo>
                  <a:pt x="351" y="854"/>
                </a:lnTo>
                <a:lnTo>
                  <a:pt x="349" y="865"/>
                </a:lnTo>
                <a:lnTo>
                  <a:pt x="345" y="877"/>
                </a:lnTo>
                <a:lnTo>
                  <a:pt x="343" y="889"/>
                </a:lnTo>
                <a:lnTo>
                  <a:pt x="339" y="900"/>
                </a:lnTo>
                <a:lnTo>
                  <a:pt x="337" y="914"/>
                </a:lnTo>
                <a:lnTo>
                  <a:pt x="331" y="925"/>
                </a:lnTo>
                <a:lnTo>
                  <a:pt x="329" y="937"/>
                </a:lnTo>
                <a:lnTo>
                  <a:pt x="325" y="949"/>
                </a:lnTo>
                <a:lnTo>
                  <a:pt x="323" y="960"/>
                </a:lnTo>
                <a:lnTo>
                  <a:pt x="318" y="972"/>
                </a:lnTo>
                <a:lnTo>
                  <a:pt x="316" y="984"/>
                </a:lnTo>
                <a:lnTo>
                  <a:pt x="312" y="995"/>
                </a:lnTo>
                <a:lnTo>
                  <a:pt x="310" y="1009"/>
                </a:lnTo>
                <a:lnTo>
                  <a:pt x="306" y="1020"/>
                </a:lnTo>
                <a:lnTo>
                  <a:pt x="304" y="1032"/>
                </a:lnTo>
                <a:lnTo>
                  <a:pt x="300" y="1044"/>
                </a:lnTo>
                <a:lnTo>
                  <a:pt x="298" y="1057"/>
                </a:lnTo>
                <a:lnTo>
                  <a:pt x="294" y="1069"/>
                </a:lnTo>
                <a:lnTo>
                  <a:pt x="292" y="1080"/>
                </a:lnTo>
                <a:lnTo>
                  <a:pt x="289" y="1092"/>
                </a:lnTo>
                <a:lnTo>
                  <a:pt x="287" y="1106"/>
                </a:lnTo>
                <a:lnTo>
                  <a:pt x="281" y="1117"/>
                </a:lnTo>
                <a:lnTo>
                  <a:pt x="279" y="1129"/>
                </a:lnTo>
                <a:lnTo>
                  <a:pt x="275" y="1141"/>
                </a:lnTo>
                <a:lnTo>
                  <a:pt x="273" y="1152"/>
                </a:lnTo>
                <a:lnTo>
                  <a:pt x="269" y="1164"/>
                </a:lnTo>
                <a:lnTo>
                  <a:pt x="267" y="1175"/>
                </a:lnTo>
                <a:lnTo>
                  <a:pt x="263" y="1187"/>
                </a:lnTo>
                <a:lnTo>
                  <a:pt x="261" y="1201"/>
                </a:lnTo>
                <a:lnTo>
                  <a:pt x="258" y="1212"/>
                </a:lnTo>
                <a:lnTo>
                  <a:pt x="256" y="1224"/>
                </a:lnTo>
                <a:lnTo>
                  <a:pt x="252" y="1236"/>
                </a:lnTo>
                <a:lnTo>
                  <a:pt x="250" y="1249"/>
                </a:lnTo>
                <a:lnTo>
                  <a:pt x="246" y="1261"/>
                </a:lnTo>
                <a:lnTo>
                  <a:pt x="244" y="1272"/>
                </a:lnTo>
                <a:lnTo>
                  <a:pt x="240" y="1284"/>
                </a:lnTo>
                <a:lnTo>
                  <a:pt x="238" y="1298"/>
                </a:lnTo>
                <a:lnTo>
                  <a:pt x="234" y="1309"/>
                </a:lnTo>
                <a:lnTo>
                  <a:pt x="232" y="1321"/>
                </a:lnTo>
                <a:lnTo>
                  <a:pt x="228" y="1333"/>
                </a:lnTo>
                <a:lnTo>
                  <a:pt x="226" y="1344"/>
                </a:lnTo>
                <a:lnTo>
                  <a:pt x="223" y="1356"/>
                </a:lnTo>
                <a:lnTo>
                  <a:pt x="221" y="1367"/>
                </a:lnTo>
                <a:lnTo>
                  <a:pt x="217" y="1379"/>
                </a:lnTo>
                <a:lnTo>
                  <a:pt x="215" y="1393"/>
                </a:lnTo>
                <a:lnTo>
                  <a:pt x="211" y="1404"/>
                </a:lnTo>
                <a:lnTo>
                  <a:pt x="209" y="1416"/>
                </a:lnTo>
                <a:lnTo>
                  <a:pt x="205" y="1428"/>
                </a:lnTo>
                <a:lnTo>
                  <a:pt x="205" y="1441"/>
                </a:lnTo>
                <a:lnTo>
                  <a:pt x="201" y="1453"/>
                </a:lnTo>
                <a:lnTo>
                  <a:pt x="199" y="1464"/>
                </a:lnTo>
                <a:lnTo>
                  <a:pt x="195" y="1476"/>
                </a:lnTo>
                <a:lnTo>
                  <a:pt x="195" y="1490"/>
                </a:lnTo>
                <a:lnTo>
                  <a:pt x="192" y="1499"/>
                </a:lnTo>
                <a:lnTo>
                  <a:pt x="190" y="1511"/>
                </a:lnTo>
                <a:lnTo>
                  <a:pt x="186" y="1523"/>
                </a:lnTo>
                <a:lnTo>
                  <a:pt x="184" y="1534"/>
                </a:lnTo>
                <a:lnTo>
                  <a:pt x="182" y="1544"/>
                </a:lnTo>
                <a:lnTo>
                  <a:pt x="180" y="1556"/>
                </a:lnTo>
                <a:lnTo>
                  <a:pt x="178" y="1567"/>
                </a:lnTo>
                <a:lnTo>
                  <a:pt x="178" y="1579"/>
                </a:lnTo>
                <a:lnTo>
                  <a:pt x="176" y="1590"/>
                </a:lnTo>
                <a:lnTo>
                  <a:pt x="176" y="1602"/>
                </a:lnTo>
                <a:lnTo>
                  <a:pt x="176" y="1614"/>
                </a:lnTo>
                <a:lnTo>
                  <a:pt x="176" y="1625"/>
                </a:lnTo>
                <a:lnTo>
                  <a:pt x="176" y="1637"/>
                </a:lnTo>
                <a:lnTo>
                  <a:pt x="178" y="1649"/>
                </a:lnTo>
                <a:lnTo>
                  <a:pt x="180" y="1660"/>
                </a:lnTo>
                <a:lnTo>
                  <a:pt x="186" y="1674"/>
                </a:lnTo>
                <a:lnTo>
                  <a:pt x="188" y="1685"/>
                </a:lnTo>
                <a:lnTo>
                  <a:pt x="190" y="1697"/>
                </a:lnTo>
                <a:lnTo>
                  <a:pt x="192" y="1711"/>
                </a:lnTo>
                <a:lnTo>
                  <a:pt x="195" y="1724"/>
                </a:lnTo>
                <a:lnTo>
                  <a:pt x="197" y="1738"/>
                </a:lnTo>
                <a:lnTo>
                  <a:pt x="201" y="1753"/>
                </a:lnTo>
                <a:lnTo>
                  <a:pt x="203" y="1767"/>
                </a:lnTo>
                <a:lnTo>
                  <a:pt x="207" y="1782"/>
                </a:lnTo>
                <a:lnTo>
                  <a:pt x="207" y="1794"/>
                </a:lnTo>
                <a:lnTo>
                  <a:pt x="211" y="1810"/>
                </a:lnTo>
                <a:lnTo>
                  <a:pt x="211" y="1821"/>
                </a:lnTo>
                <a:lnTo>
                  <a:pt x="215" y="1837"/>
                </a:lnTo>
                <a:lnTo>
                  <a:pt x="215" y="1848"/>
                </a:lnTo>
                <a:lnTo>
                  <a:pt x="219" y="1864"/>
                </a:lnTo>
                <a:lnTo>
                  <a:pt x="219" y="1875"/>
                </a:lnTo>
                <a:lnTo>
                  <a:pt x="223" y="1891"/>
                </a:lnTo>
                <a:lnTo>
                  <a:pt x="213" y="1895"/>
                </a:lnTo>
                <a:lnTo>
                  <a:pt x="211" y="1879"/>
                </a:lnTo>
                <a:lnTo>
                  <a:pt x="209" y="1866"/>
                </a:lnTo>
                <a:lnTo>
                  <a:pt x="205" y="1852"/>
                </a:lnTo>
                <a:lnTo>
                  <a:pt x="203" y="1839"/>
                </a:lnTo>
                <a:lnTo>
                  <a:pt x="197" y="1823"/>
                </a:lnTo>
                <a:lnTo>
                  <a:pt x="192" y="1810"/>
                </a:lnTo>
                <a:lnTo>
                  <a:pt x="184" y="1796"/>
                </a:lnTo>
                <a:lnTo>
                  <a:pt x="178" y="1784"/>
                </a:lnTo>
                <a:lnTo>
                  <a:pt x="164" y="1790"/>
                </a:lnTo>
                <a:lnTo>
                  <a:pt x="157" y="1802"/>
                </a:lnTo>
                <a:lnTo>
                  <a:pt x="151" y="1813"/>
                </a:lnTo>
                <a:lnTo>
                  <a:pt x="145" y="1825"/>
                </a:lnTo>
                <a:lnTo>
                  <a:pt x="133" y="1837"/>
                </a:lnTo>
                <a:lnTo>
                  <a:pt x="126" y="1852"/>
                </a:lnTo>
                <a:lnTo>
                  <a:pt x="116" y="1866"/>
                </a:lnTo>
                <a:lnTo>
                  <a:pt x="110" y="1883"/>
                </a:lnTo>
                <a:lnTo>
                  <a:pt x="100" y="1899"/>
                </a:lnTo>
                <a:lnTo>
                  <a:pt x="95" y="1914"/>
                </a:lnTo>
                <a:lnTo>
                  <a:pt x="89" y="1930"/>
                </a:lnTo>
                <a:lnTo>
                  <a:pt x="87" y="1947"/>
                </a:lnTo>
                <a:lnTo>
                  <a:pt x="75" y="1949"/>
                </a:lnTo>
                <a:lnTo>
                  <a:pt x="67" y="1945"/>
                </a:lnTo>
                <a:lnTo>
                  <a:pt x="73" y="1930"/>
                </a:lnTo>
                <a:lnTo>
                  <a:pt x="81" y="1914"/>
                </a:lnTo>
                <a:lnTo>
                  <a:pt x="87" y="1899"/>
                </a:lnTo>
                <a:lnTo>
                  <a:pt x="93" y="1885"/>
                </a:lnTo>
                <a:lnTo>
                  <a:pt x="95" y="1868"/>
                </a:lnTo>
                <a:lnTo>
                  <a:pt x="98" y="1852"/>
                </a:lnTo>
                <a:lnTo>
                  <a:pt x="100" y="1837"/>
                </a:lnTo>
                <a:lnTo>
                  <a:pt x="102" y="1821"/>
                </a:lnTo>
                <a:lnTo>
                  <a:pt x="100" y="1804"/>
                </a:lnTo>
                <a:lnTo>
                  <a:pt x="98" y="1788"/>
                </a:lnTo>
                <a:lnTo>
                  <a:pt x="97" y="1773"/>
                </a:lnTo>
                <a:lnTo>
                  <a:pt x="95" y="1759"/>
                </a:lnTo>
                <a:lnTo>
                  <a:pt x="89" y="1742"/>
                </a:lnTo>
                <a:lnTo>
                  <a:pt x="85" y="1728"/>
                </a:lnTo>
                <a:lnTo>
                  <a:pt x="79" y="1715"/>
                </a:lnTo>
                <a:lnTo>
                  <a:pt x="73" y="1703"/>
                </a:lnTo>
                <a:lnTo>
                  <a:pt x="62" y="1684"/>
                </a:lnTo>
                <a:lnTo>
                  <a:pt x="54" y="1666"/>
                </a:lnTo>
                <a:lnTo>
                  <a:pt x="44" y="1649"/>
                </a:lnTo>
                <a:lnTo>
                  <a:pt x="36" y="1633"/>
                </a:lnTo>
                <a:lnTo>
                  <a:pt x="27" y="1616"/>
                </a:lnTo>
                <a:lnTo>
                  <a:pt x="17" y="1600"/>
                </a:lnTo>
                <a:lnTo>
                  <a:pt x="7" y="1585"/>
                </a:lnTo>
                <a:lnTo>
                  <a:pt x="0" y="1569"/>
                </a:lnTo>
                <a:lnTo>
                  <a:pt x="7" y="1561"/>
                </a:lnTo>
                <a:lnTo>
                  <a:pt x="19" y="1563"/>
                </a:lnTo>
                <a:lnTo>
                  <a:pt x="31" y="1579"/>
                </a:lnTo>
                <a:lnTo>
                  <a:pt x="42" y="1594"/>
                </a:lnTo>
                <a:lnTo>
                  <a:pt x="52" y="1610"/>
                </a:lnTo>
                <a:lnTo>
                  <a:pt x="62" y="1627"/>
                </a:lnTo>
                <a:lnTo>
                  <a:pt x="71" y="1641"/>
                </a:lnTo>
                <a:lnTo>
                  <a:pt x="83" y="1658"/>
                </a:lnTo>
                <a:lnTo>
                  <a:pt x="95" y="1672"/>
                </a:lnTo>
                <a:lnTo>
                  <a:pt x="112" y="1689"/>
                </a:lnTo>
                <a:lnTo>
                  <a:pt x="120" y="1695"/>
                </a:lnTo>
                <a:lnTo>
                  <a:pt x="130" y="1695"/>
                </a:lnTo>
                <a:lnTo>
                  <a:pt x="139" y="1689"/>
                </a:lnTo>
                <a:lnTo>
                  <a:pt x="145" y="1678"/>
                </a:lnTo>
                <a:lnTo>
                  <a:pt x="145" y="1660"/>
                </a:lnTo>
                <a:lnTo>
                  <a:pt x="147" y="1645"/>
                </a:lnTo>
                <a:lnTo>
                  <a:pt x="147" y="1629"/>
                </a:lnTo>
                <a:lnTo>
                  <a:pt x="149" y="1614"/>
                </a:lnTo>
                <a:lnTo>
                  <a:pt x="149" y="1596"/>
                </a:lnTo>
                <a:lnTo>
                  <a:pt x="149" y="1583"/>
                </a:lnTo>
                <a:lnTo>
                  <a:pt x="149" y="1567"/>
                </a:lnTo>
                <a:lnTo>
                  <a:pt x="153" y="1554"/>
                </a:lnTo>
                <a:lnTo>
                  <a:pt x="153" y="1542"/>
                </a:lnTo>
                <a:lnTo>
                  <a:pt x="157" y="1530"/>
                </a:lnTo>
                <a:lnTo>
                  <a:pt x="157" y="1521"/>
                </a:lnTo>
                <a:lnTo>
                  <a:pt x="161" y="1511"/>
                </a:lnTo>
                <a:lnTo>
                  <a:pt x="164" y="1490"/>
                </a:lnTo>
                <a:lnTo>
                  <a:pt x="168" y="1470"/>
                </a:lnTo>
                <a:lnTo>
                  <a:pt x="172" y="1449"/>
                </a:lnTo>
                <a:lnTo>
                  <a:pt x="176" y="1431"/>
                </a:lnTo>
                <a:lnTo>
                  <a:pt x="180" y="1410"/>
                </a:lnTo>
                <a:lnTo>
                  <a:pt x="186" y="1393"/>
                </a:lnTo>
                <a:lnTo>
                  <a:pt x="188" y="1371"/>
                </a:lnTo>
                <a:lnTo>
                  <a:pt x="192" y="1352"/>
                </a:lnTo>
                <a:lnTo>
                  <a:pt x="195" y="1333"/>
                </a:lnTo>
                <a:lnTo>
                  <a:pt x="199" y="1313"/>
                </a:lnTo>
                <a:lnTo>
                  <a:pt x="201" y="1292"/>
                </a:lnTo>
                <a:lnTo>
                  <a:pt x="205" y="1272"/>
                </a:lnTo>
                <a:lnTo>
                  <a:pt x="207" y="1253"/>
                </a:lnTo>
                <a:lnTo>
                  <a:pt x="211" y="1234"/>
                </a:lnTo>
                <a:lnTo>
                  <a:pt x="211" y="1214"/>
                </a:lnTo>
                <a:lnTo>
                  <a:pt x="211" y="1197"/>
                </a:lnTo>
                <a:lnTo>
                  <a:pt x="209" y="1179"/>
                </a:lnTo>
                <a:lnTo>
                  <a:pt x="209" y="1162"/>
                </a:lnTo>
                <a:lnTo>
                  <a:pt x="205" y="1144"/>
                </a:lnTo>
                <a:lnTo>
                  <a:pt x="201" y="1127"/>
                </a:lnTo>
                <a:lnTo>
                  <a:pt x="197" y="1110"/>
                </a:lnTo>
                <a:lnTo>
                  <a:pt x="194" y="1092"/>
                </a:lnTo>
                <a:lnTo>
                  <a:pt x="188" y="1075"/>
                </a:lnTo>
                <a:lnTo>
                  <a:pt x="184" y="1057"/>
                </a:lnTo>
                <a:lnTo>
                  <a:pt x="178" y="1040"/>
                </a:lnTo>
                <a:lnTo>
                  <a:pt x="174" y="1022"/>
                </a:lnTo>
                <a:lnTo>
                  <a:pt x="168" y="1005"/>
                </a:lnTo>
                <a:lnTo>
                  <a:pt x="164" y="987"/>
                </a:lnTo>
                <a:lnTo>
                  <a:pt x="161" y="970"/>
                </a:lnTo>
                <a:lnTo>
                  <a:pt x="161" y="953"/>
                </a:lnTo>
                <a:lnTo>
                  <a:pt x="155" y="933"/>
                </a:lnTo>
                <a:lnTo>
                  <a:pt x="151" y="914"/>
                </a:lnTo>
                <a:lnTo>
                  <a:pt x="147" y="894"/>
                </a:lnTo>
                <a:lnTo>
                  <a:pt x="143" y="875"/>
                </a:lnTo>
                <a:lnTo>
                  <a:pt x="139" y="854"/>
                </a:lnTo>
                <a:lnTo>
                  <a:pt x="139" y="834"/>
                </a:lnTo>
                <a:lnTo>
                  <a:pt x="139" y="813"/>
                </a:lnTo>
                <a:lnTo>
                  <a:pt x="143" y="795"/>
                </a:lnTo>
                <a:lnTo>
                  <a:pt x="153" y="797"/>
                </a:lnTo>
                <a:lnTo>
                  <a:pt x="161" y="803"/>
                </a:lnTo>
                <a:lnTo>
                  <a:pt x="164" y="813"/>
                </a:lnTo>
                <a:lnTo>
                  <a:pt x="170" y="825"/>
                </a:lnTo>
                <a:lnTo>
                  <a:pt x="172" y="836"/>
                </a:lnTo>
                <a:lnTo>
                  <a:pt x="174" y="848"/>
                </a:lnTo>
                <a:lnTo>
                  <a:pt x="176" y="859"/>
                </a:lnTo>
                <a:lnTo>
                  <a:pt x="180" y="871"/>
                </a:lnTo>
                <a:lnTo>
                  <a:pt x="182" y="883"/>
                </a:lnTo>
                <a:lnTo>
                  <a:pt x="186" y="896"/>
                </a:lnTo>
                <a:lnTo>
                  <a:pt x="188" y="910"/>
                </a:lnTo>
                <a:lnTo>
                  <a:pt x="194" y="923"/>
                </a:lnTo>
                <a:lnTo>
                  <a:pt x="197" y="937"/>
                </a:lnTo>
                <a:lnTo>
                  <a:pt x="201" y="951"/>
                </a:lnTo>
                <a:lnTo>
                  <a:pt x="205" y="964"/>
                </a:lnTo>
                <a:lnTo>
                  <a:pt x="211" y="978"/>
                </a:lnTo>
                <a:lnTo>
                  <a:pt x="215" y="989"/>
                </a:lnTo>
                <a:lnTo>
                  <a:pt x="221" y="1001"/>
                </a:lnTo>
                <a:lnTo>
                  <a:pt x="226" y="1013"/>
                </a:lnTo>
                <a:lnTo>
                  <a:pt x="232" y="1026"/>
                </a:lnTo>
                <a:lnTo>
                  <a:pt x="236" y="1038"/>
                </a:lnTo>
                <a:lnTo>
                  <a:pt x="242" y="1051"/>
                </a:lnTo>
                <a:lnTo>
                  <a:pt x="248" y="1065"/>
                </a:lnTo>
                <a:lnTo>
                  <a:pt x="254" y="1079"/>
                </a:lnTo>
                <a:lnTo>
                  <a:pt x="263" y="1067"/>
                </a:lnTo>
                <a:lnTo>
                  <a:pt x="267" y="1051"/>
                </a:lnTo>
                <a:lnTo>
                  <a:pt x="271" y="1036"/>
                </a:lnTo>
                <a:lnTo>
                  <a:pt x="275" y="1020"/>
                </a:lnTo>
                <a:lnTo>
                  <a:pt x="281" y="1007"/>
                </a:lnTo>
                <a:lnTo>
                  <a:pt x="285" y="991"/>
                </a:lnTo>
                <a:lnTo>
                  <a:pt x="289" y="978"/>
                </a:lnTo>
                <a:lnTo>
                  <a:pt x="294" y="962"/>
                </a:lnTo>
                <a:lnTo>
                  <a:pt x="300" y="949"/>
                </a:lnTo>
                <a:lnTo>
                  <a:pt x="304" y="933"/>
                </a:lnTo>
                <a:lnTo>
                  <a:pt x="308" y="920"/>
                </a:lnTo>
                <a:lnTo>
                  <a:pt x="312" y="904"/>
                </a:lnTo>
                <a:lnTo>
                  <a:pt x="318" y="890"/>
                </a:lnTo>
                <a:lnTo>
                  <a:pt x="322" y="875"/>
                </a:lnTo>
                <a:lnTo>
                  <a:pt x="325" y="861"/>
                </a:lnTo>
                <a:lnTo>
                  <a:pt x="331" y="846"/>
                </a:lnTo>
                <a:lnTo>
                  <a:pt x="337" y="832"/>
                </a:lnTo>
                <a:lnTo>
                  <a:pt x="329" y="817"/>
                </a:lnTo>
                <a:lnTo>
                  <a:pt x="323" y="805"/>
                </a:lnTo>
                <a:lnTo>
                  <a:pt x="320" y="790"/>
                </a:lnTo>
                <a:lnTo>
                  <a:pt x="316" y="778"/>
                </a:lnTo>
                <a:lnTo>
                  <a:pt x="310" y="762"/>
                </a:lnTo>
                <a:lnTo>
                  <a:pt x="308" y="751"/>
                </a:lnTo>
                <a:lnTo>
                  <a:pt x="304" y="735"/>
                </a:lnTo>
                <a:lnTo>
                  <a:pt x="302" y="724"/>
                </a:lnTo>
                <a:lnTo>
                  <a:pt x="298" y="708"/>
                </a:lnTo>
                <a:lnTo>
                  <a:pt x="294" y="695"/>
                </a:lnTo>
                <a:lnTo>
                  <a:pt x="290" y="681"/>
                </a:lnTo>
                <a:lnTo>
                  <a:pt x="289" y="667"/>
                </a:lnTo>
                <a:lnTo>
                  <a:pt x="285" y="654"/>
                </a:lnTo>
                <a:lnTo>
                  <a:pt x="281" y="640"/>
                </a:lnTo>
                <a:lnTo>
                  <a:pt x="277" y="629"/>
                </a:lnTo>
                <a:lnTo>
                  <a:pt x="275" y="617"/>
                </a:lnTo>
                <a:lnTo>
                  <a:pt x="267" y="596"/>
                </a:lnTo>
                <a:lnTo>
                  <a:pt x="261" y="576"/>
                </a:lnTo>
                <a:lnTo>
                  <a:pt x="256" y="555"/>
                </a:lnTo>
                <a:lnTo>
                  <a:pt x="250" y="538"/>
                </a:lnTo>
                <a:lnTo>
                  <a:pt x="242" y="516"/>
                </a:lnTo>
                <a:lnTo>
                  <a:pt x="234" y="499"/>
                </a:lnTo>
                <a:lnTo>
                  <a:pt x="226" y="481"/>
                </a:lnTo>
                <a:lnTo>
                  <a:pt x="219" y="464"/>
                </a:lnTo>
                <a:lnTo>
                  <a:pt x="221" y="446"/>
                </a:lnTo>
                <a:lnTo>
                  <a:pt x="225" y="433"/>
                </a:lnTo>
                <a:lnTo>
                  <a:pt x="228" y="415"/>
                </a:lnTo>
                <a:lnTo>
                  <a:pt x="234" y="402"/>
                </a:lnTo>
                <a:lnTo>
                  <a:pt x="238" y="386"/>
                </a:lnTo>
                <a:lnTo>
                  <a:pt x="244" y="373"/>
                </a:lnTo>
                <a:lnTo>
                  <a:pt x="250" y="357"/>
                </a:lnTo>
                <a:lnTo>
                  <a:pt x="256" y="344"/>
                </a:lnTo>
                <a:lnTo>
                  <a:pt x="261" y="328"/>
                </a:lnTo>
                <a:lnTo>
                  <a:pt x="267" y="315"/>
                </a:lnTo>
                <a:lnTo>
                  <a:pt x="273" y="299"/>
                </a:lnTo>
                <a:lnTo>
                  <a:pt x="279" y="285"/>
                </a:lnTo>
                <a:lnTo>
                  <a:pt x="285" y="270"/>
                </a:lnTo>
                <a:lnTo>
                  <a:pt x="290" y="256"/>
                </a:lnTo>
                <a:lnTo>
                  <a:pt x="296" y="241"/>
                </a:lnTo>
                <a:lnTo>
                  <a:pt x="304" y="229"/>
                </a:lnTo>
                <a:lnTo>
                  <a:pt x="310" y="214"/>
                </a:lnTo>
                <a:lnTo>
                  <a:pt x="316" y="200"/>
                </a:lnTo>
                <a:lnTo>
                  <a:pt x="322" y="185"/>
                </a:lnTo>
                <a:lnTo>
                  <a:pt x="329" y="171"/>
                </a:lnTo>
                <a:lnTo>
                  <a:pt x="335" y="156"/>
                </a:lnTo>
                <a:lnTo>
                  <a:pt x="341" y="142"/>
                </a:lnTo>
                <a:lnTo>
                  <a:pt x="347" y="128"/>
                </a:lnTo>
                <a:lnTo>
                  <a:pt x="354" y="115"/>
                </a:lnTo>
                <a:lnTo>
                  <a:pt x="360" y="99"/>
                </a:lnTo>
                <a:lnTo>
                  <a:pt x="366" y="86"/>
                </a:lnTo>
                <a:lnTo>
                  <a:pt x="372" y="70"/>
                </a:lnTo>
                <a:lnTo>
                  <a:pt x="378" y="57"/>
                </a:lnTo>
                <a:lnTo>
                  <a:pt x="384" y="41"/>
                </a:lnTo>
                <a:lnTo>
                  <a:pt x="389" y="28"/>
                </a:lnTo>
                <a:lnTo>
                  <a:pt x="395" y="14"/>
                </a:lnTo>
                <a:lnTo>
                  <a:pt x="403" y="0"/>
                </a:lnTo>
                <a:lnTo>
                  <a:pt x="4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77" name=""/>
          <p:cNvSpPr/>
          <p:nvPr/>
        </p:nvSpPr>
        <p:spPr>
          <a:xfrm>
            <a:off x="4606920" y="4403880"/>
            <a:ext cx="125280" cy="169560"/>
          </a:xfrm>
          <a:custGeom>
            <a:avLst/>
            <a:gdLst/>
            <a:ahLst/>
            <a:rect l="l" t="t" r="r" b="b"/>
            <a:pathLst>
              <a:path w="157" h="215">
                <a:moveTo>
                  <a:pt x="157" y="25"/>
                </a:moveTo>
                <a:lnTo>
                  <a:pt x="145" y="43"/>
                </a:lnTo>
                <a:lnTo>
                  <a:pt x="137" y="60"/>
                </a:lnTo>
                <a:lnTo>
                  <a:pt x="130" y="80"/>
                </a:lnTo>
                <a:lnTo>
                  <a:pt x="122" y="101"/>
                </a:lnTo>
                <a:lnTo>
                  <a:pt x="112" y="118"/>
                </a:lnTo>
                <a:lnTo>
                  <a:pt x="104" y="138"/>
                </a:lnTo>
                <a:lnTo>
                  <a:pt x="95" y="157"/>
                </a:lnTo>
                <a:lnTo>
                  <a:pt x="87" y="177"/>
                </a:lnTo>
                <a:lnTo>
                  <a:pt x="83" y="190"/>
                </a:lnTo>
                <a:lnTo>
                  <a:pt x="73" y="198"/>
                </a:lnTo>
                <a:lnTo>
                  <a:pt x="58" y="200"/>
                </a:lnTo>
                <a:lnTo>
                  <a:pt x="48" y="210"/>
                </a:lnTo>
                <a:lnTo>
                  <a:pt x="34" y="208"/>
                </a:lnTo>
                <a:lnTo>
                  <a:pt x="23" y="210"/>
                </a:lnTo>
                <a:lnTo>
                  <a:pt x="9" y="212"/>
                </a:lnTo>
                <a:lnTo>
                  <a:pt x="0" y="215"/>
                </a:lnTo>
                <a:lnTo>
                  <a:pt x="0" y="202"/>
                </a:lnTo>
                <a:lnTo>
                  <a:pt x="5" y="190"/>
                </a:lnTo>
                <a:lnTo>
                  <a:pt x="11" y="180"/>
                </a:lnTo>
                <a:lnTo>
                  <a:pt x="19" y="173"/>
                </a:lnTo>
                <a:lnTo>
                  <a:pt x="33" y="153"/>
                </a:lnTo>
                <a:lnTo>
                  <a:pt x="50" y="138"/>
                </a:lnTo>
                <a:lnTo>
                  <a:pt x="64" y="120"/>
                </a:lnTo>
                <a:lnTo>
                  <a:pt x="77" y="103"/>
                </a:lnTo>
                <a:lnTo>
                  <a:pt x="81" y="91"/>
                </a:lnTo>
                <a:lnTo>
                  <a:pt x="85" y="80"/>
                </a:lnTo>
                <a:lnTo>
                  <a:pt x="87" y="68"/>
                </a:lnTo>
                <a:lnTo>
                  <a:pt x="89" y="56"/>
                </a:lnTo>
                <a:lnTo>
                  <a:pt x="100" y="39"/>
                </a:lnTo>
                <a:lnTo>
                  <a:pt x="118" y="23"/>
                </a:lnTo>
                <a:lnTo>
                  <a:pt x="135" y="8"/>
                </a:lnTo>
                <a:lnTo>
                  <a:pt x="157" y="0"/>
                </a:lnTo>
                <a:lnTo>
                  <a:pt x="157" y="25"/>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78" name=""/>
          <p:cNvSpPr/>
          <p:nvPr/>
        </p:nvSpPr>
        <p:spPr>
          <a:xfrm>
            <a:off x="4524480" y="4406760"/>
            <a:ext cx="125280" cy="181080"/>
          </a:xfrm>
          <a:custGeom>
            <a:avLst/>
            <a:gdLst/>
            <a:ahLst/>
            <a:rect l="l" t="t" r="r" b="b"/>
            <a:pathLst>
              <a:path w="159" h="229">
                <a:moveTo>
                  <a:pt x="159" y="0"/>
                </a:moveTo>
                <a:lnTo>
                  <a:pt x="159" y="14"/>
                </a:lnTo>
                <a:lnTo>
                  <a:pt x="157" y="29"/>
                </a:lnTo>
                <a:lnTo>
                  <a:pt x="151" y="41"/>
                </a:lnTo>
                <a:lnTo>
                  <a:pt x="147" y="54"/>
                </a:lnTo>
                <a:lnTo>
                  <a:pt x="141" y="66"/>
                </a:lnTo>
                <a:lnTo>
                  <a:pt x="136" y="80"/>
                </a:lnTo>
                <a:lnTo>
                  <a:pt x="134" y="95"/>
                </a:lnTo>
                <a:lnTo>
                  <a:pt x="138" y="112"/>
                </a:lnTo>
                <a:lnTo>
                  <a:pt x="124" y="124"/>
                </a:lnTo>
                <a:lnTo>
                  <a:pt x="112" y="138"/>
                </a:lnTo>
                <a:lnTo>
                  <a:pt x="101" y="153"/>
                </a:lnTo>
                <a:lnTo>
                  <a:pt x="89" y="169"/>
                </a:lnTo>
                <a:lnTo>
                  <a:pt x="75" y="182"/>
                </a:lnTo>
                <a:lnTo>
                  <a:pt x="64" y="198"/>
                </a:lnTo>
                <a:lnTo>
                  <a:pt x="52" y="211"/>
                </a:lnTo>
                <a:lnTo>
                  <a:pt x="41" y="225"/>
                </a:lnTo>
                <a:lnTo>
                  <a:pt x="19" y="229"/>
                </a:lnTo>
                <a:lnTo>
                  <a:pt x="0" y="227"/>
                </a:lnTo>
                <a:lnTo>
                  <a:pt x="2" y="213"/>
                </a:lnTo>
                <a:lnTo>
                  <a:pt x="8" y="202"/>
                </a:lnTo>
                <a:lnTo>
                  <a:pt x="13" y="192"/>
                </a:lnTo>
                <a:lnTo>
                  <a:pt x="19" y="182"/>
                </a:lnTo>
                <a:lnTo>
                  <a:pt x="35" y="161"/>
                </a:lnTo>
                <a:lnTo>
                  <a:pt x="52" y="144"/>
                </a:lnTo>
                <a:lnTo>
                  <a:pt x="68" y="124"/>
                </a:lnTo>
                <a:lnTo>
                  <a:pt x="83" y="105"/>
                </a:lnTo>
                <a:lnTo>
                  <a:pt x="89" y="93"/>
                </a:lnTo>
                <a:lnTo>
                  <a:pt x="95" y="81"/>
                </a:lnTo>
                <a:lnTo>
                  <a:pt x="99" y="70"/>
                </a:lnTo>
                <a:lnTo>
                  <a:pt x="105" y="60"/>
                </a:lnTo>
                <a:lnTo>
                  <a:pt x="110" y="41"/>
                </a:lnTo>
                <a:lnTo>
                  <a:pt x="126" y="23"/>
                </a:lnTo>
                <a:lnTo>
                  <a:pt x="141" y="10"/>
                </a:lnTo>
                <a:lnTo>
                  <a:pt x="159" y="0"/>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79" name=""/>
          <p:cNvSpPr/>
          <p:nvPr/>
        </p:nvSpPr>
        <p:spPr>
          <a:xfrm>
            <a:off x="4452840" y="4465800"/>
            <a:ext cx="69840" cy="123840"/>
          </a:xfrm>
          <a:custGeom>
            <a:avLst/>
            <a:gdLst/>
            <a:ahLst/>
            <a:rect l="l" t="t" r="r" b="b"/>
            <a:pathLst>
              <a:path w="87" h="155">
                <a:moveTo>
                  <a:pt x="77" y="85"/>
                </a:moveTo>
                <a:lnTo>
                  <a:pt x="75" y="100"/>
                </a:lnTo>
                <a:lnTo>
                  <a:pt x="68" y="116"/>
                </a:lnTo>
                <a:lnTo>
                  <a:pt x="60" y="132"/>
                </a:lnTo>
                <a:lnTo>
                  <a:pt x="60" y="149"/>
                </a:lnTo>
                <a:lnTo>
                  <a:pt x="42" y="145"/>
                </a:lnTo>
                <a:lnTo>
                  <a:pt x="29" y="149"/>
                </a:lnTo>
                <a:lnTo>
                  <a:pt x="13" y="151"/>
                </a:lnTo>
                <a:lnTo>
                  <a:pt x="0" y="155"/>
                </a:lnTo>
                <a:lnTo>
                  <a:pt x="5" y="133"/>
                </a:lnTo>
                <a:lnTo>
                  <a:pt x="13" y="114"/>
                </a:lnTo>
                <a:lnTo>
                  <a:pt x="19" y="93"/>
                </a:lnTo>
                <a:lnTo>
                  <a:pt x="27" y="73"/>
                </a:lnTo>
                <a:lnTo>
                  <a:pt x="33" y="52"/>
                </a:lnTo>
                <a:lnTo>
                  <a:pt x="40" y="33"/>
                </a:lnTo>
                <a:lnTo>
                  <a:pt x="50" y="15"/>
                </a:lnTo>
                <a:lnTo>
                  <a:pt x="66" y="0"/>
                </a:lnTo>
                <a:lnTo>
                  <a:pt x="77" y="0"/>
                </a:lnTo>
                <a:lnTo>
                  <a:pt x="85" y="7"/>
                </a:lnTo>
                <a:lnTo>
                  <a:pt x="87" y="25"/>
                </a:lnTo>
                <a:lnTo>
                  <a:pt x="87" y="46"/>
                </a:lnTo>
                <a:lnTo>
                  <a:pt x="83" y="66"/>
                </a:lnTo>
                <a:lnTo>
                  <a:pt x="77" y="85"/>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80" name=""/>
          <p:cNvSpPr/>
          <p:nvPr/>
        </p:nvSpPr>
        <p:spPr>
          <a:xfrm>
            <a:off x="6602400" y="4730760"/>
            <a:ext cx="239760" cy="560520"/>
          </a:xfrm>
          <a:custGeom>
            <a:avLst/>
            <a:gdLst/>
            <a:ahLst/>
            <a:rect l="l" t="t" r="r" b="b"/>
            <a:pathLst>
              <a:path w="303" h="706">
                <a:moveTo>
                  <a:pt x="289" y="0"/>
                </a:moveTo>
                <a:lnTo>
                  <a:pt x="289" y="12"/>
                </a:lnTo>
                <a:lnTo>
                  <a:pt x="289" y="23"/>
                </a:lnTo>
                <a:lnTo>
                  <a:pt x="289" y="37"/>
                </a:lnTo>
                <a:lnTo>
                  <a:pt x="291" y="51"/>
                </a:lnTo>
                <a:lnTo>
                  <a:pt x="291" y="62"/>
                </a:lnTo>
                <a:lnTo>
                  <a:pt x="291" y="76"/>
                </a:lnTo>
                <a:lnTo>
                  <a:pt x="291" y="89"/>
                </a:lnTo>
                <a:lnTo>
                  <a:pt x="293" y="103"/>
                </a:lnTo>
                <a:lnTo>
                  <a:pt x="293" y="115"/>
                </a:lnTo>
                <a:lnTo>
                  <a:pt x="293" y="126"/>
                </a:lnTo>
                <a:lnTo>
                  <a:pt x="293" y="140"/>
                </a:lnTo>
                <a:lnTo>
                  <a:pt x="295" y="153"/>
                </a:lnTo>
                <a:lnTo>
                  <a:pt x="295" y="165"/>
                </a:lnTo>
                <a:lnTo>
                  <a:pt x="297" y="179"/>
                </a:lnTo>
                <a:lnTo>
                  <a:pt x="299" y="192"/>
                </a:lnTo>
                <a:lnTo>
                  <a:pt x="303" y="206"/>
                </a:lnTo>
                <a:lnTo>
                  <a:pt x="291" y="219"/>
                </a:lnTo>
                <a:lnTo>
                  <a:pt x="281" y="235"/>
                </a:lnTo>
                <a:lnTo>
                  <a:pt x="272" y="248"/>
                </a:lnTo>
                <a:lnTo>
                  <a:pt x="264" y="264"/>
                </a:lnTo>
                <a:lnTo>
                  <a:pt x="252" y="277"/>
                </a:lnTo>
                <a:lnTo>
                  <a:pt x="242" y="293"/>
                </a:lnTo>
                <a:lnTo>
                  <a:pt x="233" y="307"/>
                </a:lnTo>
                <a:lnTo>
                  <a:pt x="225" y="322"/>
                </a:lnTo>
                <a:lnTo>
                  <a:pt x="213" y="336"/>
                </a:lnTo>
                <a:lnTo>
                  <a:pt x="206" y="351"/>
                </a:lnTo>
                <a:lnTo>
                  <a:pt x="194" y="365"/>
                </a:lnTo>
                <a:lnTo>
                  <a:pt x="186" y="380"/>
                </a:lnTo>
                <a:lnTo>
                  <a:pt x="176" y="394"/>
                </a:lnTo>
                <a:lnTo>
                  <a:pt x="169" y="411"/>
                </a:lnTo>
                <a:lnTo>
                  <a:pt x="159" y="425"/>
                </a:lnTo>
                <a:lnTo>
                  <a:pt x="151" y="442"/>
                </a:lnTo>
                <a:lnTo>
                  <a:pt x="140" y="456"/>
                </a:lnTo>
                <a:lnTo>
                  <a:pt x="132" y="471"/>
                </a:lnTo>
                <a:lnTo>
                  <a:pt x="122" y="487"/>
                </a:lnTo>
                <a:lnTo>
                  <a:pt x="114" y="502"/>
                </a:lnTo>
                <a:lnTo>
                  <a:pt x="105" y="516"/>
                </a:lnTo>
                <a:lnTo>
                  <a:pt x="97" y="533"/>
                </a:lnTo>
                <a:lnTo>
                  <a:pt x="87" y="547"/>
                </a:lnTo>
                <a:lnTo>
                  <a:pt x="81" y="564"/>
                </a:lnTo>
                <a:lnTo>
                  <a:pt x="72" y="578"/>
                </a:lnTo>
                <a:lnTo>
                  <a:pt x="64" y="593"/>
                </a:lnTo>
                <a:lnTo>
                  <a:pt x="56" y="609"/>
                </a:lnTo>
                <a:lnTo>
                  <a:pt x="50" y="626"/>
                </a:lnTo>
                <a:lnTo>
                  <a:pt x="43" y="642"/>
                </a:lnTo>
                <a:lnTo>
                  <a:pt x="35" y="657"/>
                </a:lnTo>
                <a:lnTo>
                  <a:pt x="29" y="673"/>
                </a:lnTo>
                <a:lnTo>
                  <a:pt x="23" y="690"/>
                </a:lnTo>
                <a:lnTo>
                  <a:pt x="12" y="702"/>
                </a:lnTo>
                <a:lnTo>
                  <a:pt x="0" y="706"/>
                </a:lnTo>
                <a:lnTo>
                  <a:pt x="4" y="690"/>
                </a:lnTo>
                <a:lnTo>
                  <a:pt x="10" y="677"/>
                </a:lnTo>
                <a:lnTo>
                  <a:pt x="16" y="661"/>
                </a:lnTo>
                <a:lnTo>
                  <a:pt x="21" y="648"/>
                </a:lnTo>
                <a:lnTo>
                  <a:pt x="27" y="632"/>
                </a:lnTo>
                <a:lnTo>
                  <a:pt x="33" y="619"/>
                </a:lnTo>
                <a:lnTo>
                  <a:pt x="39" y="603"/>
                </a:lnTo>
                <a:lnTo>
                  <a:pt x="47" y="592"/>
                </a:lnTo>
                <a:lnTo>
                  <a:pt x="52" y="576"/>
                </a:lnTo>
                <a:lnTo>
                  <a:pt x="58" y="562"/>
                </a:lnTo>
                <a:lnTo>
                  <a:pt x="64" y="549"/>
                </a:lnTo>
                <a:lnTo>
                  <a:pt x="72" y="537"/>
                </a:lnTo>
                <a:lnTo>
                  <a:pt x="78" y="522"/>
                </a:lnTo>
                <a:lnTo>
                  <a:pt x="85" y="508"/>
                </a:lnTo>
                <a:lnTo>
                  <a:pt x="91" y="495"/>
                </a:lnTo>
                <a:lnTo>
                  <a:pt x="99" y="483"/>
                </a:lnTo>
                <a:lnTo>
                  <a:pt x="105" y="467"/>
                </a:lnTo>
                <a:lnTo>
                  <a:pt x="111" y="454"/>
                </a:lnTo>
                <a:lnTo>
                  <a:pt x="116" y="440"/>
                </a:lnTo>
                <a:lnTo>
                  <a:pt x="124" y="429"/>
                </a:lnTo>
                <a:lnTo>
                  <a:pt x="130" y="413"/>
                </a:lnTo>
                <a:lnTo>
                  <a:pt x="136" y="400"/>
                </a:lnTo>
                <a:lnTo>
                  <a:pt x="142" y="386"/>
                </a:lnTo>
                <a:lnTo>
                  <a:pt x="149" y="374"/>
                </a:lnTo>
                <a:lnTo>
                  <a:pt x="153" y="359"/>
                </a:lnTo>
                <a:lnTo>
                  <a:pt x="159" y="345"/>
                </a:lnTo>
                <a:lnTo>
                  <a:pt x="165" y="332"/>
                </a:lnTo>
                <a:lnTo>
                  <a:pt x="171" y="318"/>
                </a:lnTo>
                <a:lnTo>
                  <a:pt x="176" y="303"/>
                </a:lnTo>
                <a:lnTo>
                  <a:pt x="182" y="289"/>
                </a:lnTo>
                <a:lnTo>
                  <a:pt x="188" y="275"/>
                </a:lnTo>
                <a:lnTo>
                  <a:pt x="194" y="262"/>
                </a:lnTo>
                <a:lnTo>
                  <a:pt x="196" y="248"/>
                </a:lnTo>
                <a:lnTo>
                  <a:pt x="200" y="237"/>
                </a:lnTo>
                <a:lnTo>
                  <a:pt x="204" y="225"/>
                </a:lnTo>
                <a:lnTo>
                  <a:pt x="209" y="213"/>
                </a:lnTo>
                <a:lnTo>
                  <a:pt x="213" y="202"/>
                </a:lnTo>
                <a:lnTo>
                  <a:pt x="217" y="190"/>
                </a:lnTo>
                <a:lnTo>
                  <a:pt x="221" y="179"/>
                </a:lnTo>
                <a:lnTo>
                  <a:pt x="227" y="167"/>
                </a:lnTo>
                <a:lnTo>
                  <a:pt x="231" y="155"/>
                </a:lnTo>
                <a:lnTo>
                  <a:pt x="235" y="144"/>
                </a:lnTo>
                <a:lnTo>
                  <a:pt x="239" y="132"/>
                </a:lnTo>
                <a:lnTo>
                  <a:pt x="244" y="122"/>
                </a:lnTo>
                <a:lnTo>
                  <a:pt x="248" y="111"/>
                </a:lnTo>
                <a:lnTo>
                  <a:pt x="254" y="99"/>
                </a:lnTo>
                <a:lnTo>
                  <a:pt x="258" y="87"/>
                </a:lnTo>
                <a:lnTo>
                  <a:pt x="264" y="78"/>
                </a:lnTo>
                <a:lnTo>
                  <a:pt x="262" y="66"/>
                </a:lnTo>
                <a:lnTo>
                  <a:pt x="264" y="54"/>
                </a:lnTo>
                <a:lnTo>
                  <a:pt x="268" y="45"/>
                </a:lnTo>
                <a:lnTo>
                  <a:pt x="273" y="37"/>
                </a:lnTo>
                <a:lnTo>
                  <a:pt x="279" y="18"/>
                </a:lnTo>
                <a:lnTo>
                  <a:pt x="279" y="0"/>
                </a:lnTo>
                <a:lnTo>
                  <a:pt x="2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81" name=""/>
          <p:cNvSpPr/>
          <p:nvPr/>
        </p:nvSpPr>
        <p:spPr>
          <a:xfrm>
            <a:off x="4294080" y="4781520"/>
            <a:ext cx="763560" cy="693720"/>
          </a:xfrm>
          <a:custGeom>
            <a:avLst/>
            <a:gdLst/>
            <a:ahLst/>
            <a:rect l="l" t="t" r="r" b="b"/>
            <a:pathLst>
              <a:path w="962" h="875">
                <a:moveTo>
                  <a:pt x="520" y="68"/>
                </a:moveTo>
                <a:lnTo>
                  <a:pt x="524" y="80"/>
                </a:lnTo>
                <a:lnTo>
                  <a:pt x="527" y="91"/>
                </a:lnTo>
                <a:lnTo>
                  <a:pt x="527" y="103"/>
                </a:lnTo>
                <a:lnTo>
                  <a:pt x="529" y="116"/>
                </a:lnTo>
                <a:lnTo>
                  <a:pt x="525" y="128"/>
                </a:lnTo>
                <a:lnTo>
                  <a:pt x="524" y="140"/>
                </a:lnTo>
                <a:lnTo>
                  <a:pt x="522" y="153"/>
                </a:lnTo>
                <a:lnTo>
                  <a:pt x="520" y="171"/>
                </a:lnTo>
                <a:lnTo>
                  <a:pt x="522" y="182"/>
                </a:lnTo>
                <a:lnTo>
                  <a:pt x="527" y="194"/>
                </a:lnTo>
                <a:lnTo>
                  <a:pt x="535" y="206"/>
                </a:lnTo>
                <a:lnTo>
                  <a:pt x="543" y="217"/>
                </a:lnTo>
                <a:lnTo>
                  <a:pt x="549" y="229"/>
                </a:lnTo>
                <a:lnTo>
                  <a:pt x="558" y="241"/>
                </a:lnTo>
                <a:lnTo>
                  <a:pt x="564" y="252"/>
                </a:lnTo>
                <a:lnTo>
                  <a:pt x="574" y="264"/>
                </a:lnTo>
                <a:lnTo>
                  <a:pt x="589" y="275"/>
                </a:lnTo>
                <a:lnTo>
                  <a:pt x="607" y="293"/>
                </a:lnTo>
                <a:lnTo>
                  <a:pt x="624" y="308"/>
                </a:lnTo>
                <a:lnTo>
                  <a:pt x="642" y="326"/>
                </a:lnTo>
                <a:lnTo>
                  <a:pt x="650" y="338"/>
                </a:lnTo>
                <a:lnTo>
                  <a:pt x="657" y="351"/>
                </a:lnTo>
                <a:lnTo>
                  <a:pt x="663" y="365"/>
                </a:lnTo>
                <a:lnTo>
                  <a:pt x="671" y="380"/>
                </a:lnTo>
                <a:lnTo>
                  <a:pt x="675" y="394"/>
                </a:lnTo>
                <a:lnTo>
                  <a:pt x="681" y="409"/>
                </a:lnTo>
                <a:lnTo>
                  <a:pt x="684" y="427"/>
                </a:lnTo>
                <a:lnTo>
                  <a:pt x="688" y="444"/>
                </a:lnTo>
                <a:lnTo>
                  <a:pt x="696" y="458"/>
                </a:lnTo>
                <a:lnTo>
                  <a:pt x="710" y="467"/>
                </a:lnTo>
                <a:lnTo>
                  <a:pt x="716" y="473"/>
                </a:lnTo>
                <a:lnTo>
                  <a:pt x="723" y="479"/>
                </a:lnTo>
                <a:lnTo>
                  <a:pt x="727" y="487"/>
                </a:lnTo>
                <a:lnTo>
                  <a:pt x="731" y="498"/>
                </a:lnTo>
                <a:lnTo>
                  <a:pt x="743" y="495"/>
                </a:lnTo>
                <a:lnTo>
                  <a:pt x="754" y="495"/>
                </a:lnTo>
                <a:lnTo>
                  <a:pt x="766" y="495"/>
                </a:lnTo>
                <a:lnTo>
                  <a:pt x="778" y="495"/>
                </a:lnTo>
                <a:lnTo>
                  <a:pt x="789" y="495"/>
                </a:lnTo>
                <a:lnTo>
                  <a:pt x="803" y="497"/>
                </a:lnTo>
                <a:lnTo>
                  <a:pt x="816" y="498"/>
                </a:lnTo>
                <a:lnTo>
                  <a:pt x="830" y="502"/>
                </a:lnTo>
                <a:lnTo>
                  <a:pt x="842" y="502"/>
                </a:lnTo>
                <a:lnTo>
                  <a:pt x="853" y="506"/>
                </a:lnTo>
                <a:lnTo>
                  <a:pt x="867" y="508"/>
                </a:lnTo>
                <a:lnTo>
                  <a:pt x="880" y="512"/>
                </a:lnTo>
                <a:lnTo>
                  <a:pt x="892" y="514"/>
                </a:lnTo>
                <a:lnTo>
                  <a:pt x="904" y="518"/>
                </a:lnTo>
                <a:lnTo>
                  <a:pt x="917" y="520"/>
                </a:lnTo>
                <a:lnTo>
                  <a:pt x="931" y="524"/>
                </a:lnTo>
                <a:lnTo>
                  <a:pt x="935" y="535"/>
                </a:lnTo>
                <a:lnTo>
                  <a:pt x="940" y="549"/>
                </a:lnTo>
                <a:lnTo>
                  <a:pt x="944" y="561"/>
                </a:lnTo>
                <a:lnTo>
                  <a:pt x="950" y="576"/>
                </a:lnTo>
                <a:lnTo>
                  <a:pt x="952" y="590"/>
                </a:lnTo>
                <a:lnTo>
                  <a:pt x="956" y="605"/>
                </a:lnTo>
                <a:lnTo>
                  <a:pt x="958" y="621"/>
                </a:lnTo>
                <a:lnTo>
                  <a:pt x="962" y="636"/>
                </a:lnTo>
                <a:lnTo>
                  <a:pt x="960" y="650"/>
                </a:lnTo>
                <a:lnTo>
                  <a:pt x="960" y="665"/>
                </a:lnTo>
                <a:lnTo>
                  <a:pt x="958" y="681"/>
                </a:lnTo>
                <a:lnTo>
                  <a:pt x="956" y="696"/>
                </a:lnTo>
                <a:lnTo>
                  <a:pt x="950" y="710"/>
                </a:lnTo>
                <a:lnTo>
                  <a:pt x="944" y="723"/>
                </a:lnTo>
                <a:lnTo>
                  <a:pt x="937" y="737"/>
                </a:lnTo>
                <a:lnTo>
                  <a:pt x="931" y="752"/>
                </a:lnTo>
                <a:lnTo>
                  <a:pt x="913" y="751"/>
                </a:lnTo>
                <a:lnTo>
                  <a:pt x="896" y="751"/>
                </a:lnTo>
                <a:lnTo>
                  <a:pt x="878" y="749"/>
                </a:lnTo>
                <a:lnTo>
                  <a:pt x="861" y="747"/>
                </a:lnTo>
                <a:lnTo>
                  <a:pt x="844" y="743"/>
                </a:lnTo>
                <a:lnTo>
                  <a:pt x="826" y="741"/>
                </a:lnTo>
                <a:lnTo>
                  <a:pt x="809" y="737"/>
                </a:lnTo>
                <a:lnTo>
                  <a:pt x="791" y="737"/>
                </a:lnTo>
                <a:lnTo>
                  <a:pt x="781" y="727"/>
                </a:lnTo>
                <a:lnTo>
                  <a:pt x="781" y="714"/>
                </a:lnTo>
                <a:lnTo>
                  <a:pt x="780" y="704"/>
                </a:lnTo>
                <a:lnTo>
                  <a:pt x="778" y="700"/>
                </a:lnTo>
                <a:lnTo>
                  <a:pt x="772" y="698"/>
                </a:lnTo>
                <a:lnTo>
                  <a:pt x="764" y="704"/>
                </a:lnTo>
                <a:lnTo>
                  <a:pt x="725" y="749"/>
                </a:lnTo>
                <a:lnTo>
                  <a:pt x="704" y="754"/>
                </a:lnTo>
                <a:lnTo>
                  <a:pt x="684" y="762"/>
                </a:lnTo>
                <a:lnTo>
                  <a:pt x="663" y="766"/>
                </a:lnTo>
                <a:lnTo>
                  <a:pt x="646" y="770"/>
                </a:lnTo>
                <a:lnTo>
                  <a:pt x="624" y="772"/>
                </a:lnTo>
                <a:lnTo>
                  <a:pt x="605" y="774"/>
                </a:lnTo>
                <a:lnTo>
                  <a:pt x="586" y="776"/>
                </a:lnTo>
                <a:lnTo>
                  <a:pt x="568" y="778"/>
                </a:lnTo>
                <a:lnTo>
                  <a:pt x="547" y="778"/>
                </a:lnTo>
                <a:lnTo>
                  <a:pt x="527" y="780"/>
                </a:lnTo>
                <a:lnTo>
                  <a:pt x="508" y="780"/>
                </a:lnTo>
                <a:lnTo>
                  <a:pt x="489" y="782"/>
                </a:lnTo>
                <a:lnTo>
                  <a:pt x="469" y="782"/>
                </a:lnTo>
                <a:lnTo>
                  <a:pt x="450" y="783"/>
                </a:lnTo>
                <a:lnTo>
                  <a:pt x="430" y="785"/>
                </a:lnTo>
                <a:lnTo>
                  <a:pt x="411" y="791"/>
                </a:lnTo>
                <a:lnTo>
                  <a:pt x="396" y="791"/>
                </a:lnTo>
                <a:lnTo>
                  <a:pt x="382" y="795"/>
                </a:lnTo>
                <a:lnTo>
                  <a:pt x="368" y="797"/>
                </a:lnTo>
                <a:lnTo>
                  <a:pt x="355" y="801"/>
                </a:lnTo>
                <a:lnTo>
                  <a:pt x="341" y="803"/>
                </a:lnTo>
                <a:lnTo>
                  <a:pt x="328" y="807"/>
                </a:lnTo>
                <a:lnTo>
                  <a:pt x="314" y="809"/>
                </a:lnTo>
                <a:lnTo>
                  <a:pt x="302" y="815"/>
                </a:lnTo>
                <a:lnTo>
                  <a:pt x="289" y="816"/>
                </a:lnTo>
                <a:lnTo>
                  <a:pt x="275" y="820"/>
                </a:lnTo>
                <a:lnTo>
                  <a:pt x="264" y="822"/>
                </a:lnTo>
                <a:lnTo>
                  <a:pt x="252" y="826"/>
                </a:lnTo>
                <a:lnTo>
                  <a:pt x="238" y="828"/>
                </a:lnTo>
                <a:lnTo>
                  <a:pt x="225" y="832"/>
                </a:lnTo>
                <a:lnTo>
                  <a:pt x="213" y="836"/>
                </a:lnTo>
                <a:lnTo>
                  <a:pt x="202" y="840"/>
                </a:lnTo>
                <a:lnTo>
                  <a:pt x="188" y="842"/>
                </a:lnTo>
                <a:lnTo>
                  <a:pt x="176" y="844"/>
                </a:lnTo>
                <a:lnTo>
                  <a:pt x="163" y="846"/>
                </a:lnTo>
                <a:lnTo>
                  <a:pt x="151" y="849"/>
                </a:lnTo>
                <a:lnTo>
                  <a:pt x="138" y="851"/>
                </a:lnTo>
                <a:lnTo>
                  <a:pt x="126" y="855"/>
                </a:lnTo>
                <a:lnTo>
                  <a:pt x="112" y="857"/>
                </a:lnTo>
                <a:lnTo>
                  <a:pt x="101" y="861"/>
                </a:lnTo>
                <a:lnTo>
                  <a:pt x="87" y="861"/>
                </a:lnTo>
                <a:lnTo>
                  <a:pt x="76" y="865"/>
                </a:lnTo>
                <a:lnTo>
                  <a:pt x="62" y="865"/>
                </a:lnTo>
                <a:lnTo>
                  <a:pt x="50" y="869"/>
                </a:lnTo>
                <a:lnTo>
                  <a:pt x="37" y="869"/>
                </a:lnTo>
                <a:lnTo>
                  <a:pt x="25" y="871"/>
                </a:lnTo>
                <a:lnTo>
                  <a:pt x="12" y="873"/>
                </a:lnTo>
                <a:lnTo>
                  <a:pt x="0" y="875"/>
                </a:lnTo>
                <a:lnTo>
                  <a:pt x="10" y="859"/>
                </a:lnTo>
                <a:lnTo>
                  <a:pt x="23" y="849"/>
                </a:lnTo>
                <a:lnTo>
                  <a:pt x="37" y="838"/>
                </a:lnTo>
                <a:lnTo>
                  <a:pt x="52" y="830"/>
                </a:lnTo>
                <a:lnTo>
                  <a:pt x="62" y="822"/>
                </a:lnTo>
                <a:lnTo>
                  <a:pt x="74" y="818"/>
                </a:lnTo>
                <a:lnTo>
                  <a:pt x="85" y="815"/>
                </a:lnTo>
                <a:lnTo>
                  <a:pt x="97" y="813"/>
                </a:lnTo>
                <a:lnTo>
                  <a:pt x="108" y="811"/>
                </a:lnTo>
                <a:lnTo>
                  <a:pt x="122" y="811"/>
                </a:lnTo>
                <a:lnTo>
                  <a:pt x="134" y="811"/>
                </a:lnTo>
                <a:lnTo>
                  <a:pt x="147" y="813"/>
                </a:lnTo>
                <a:lnTo>
                  <a:pt x="157" y="803"/>
                </a:lnTo>
                <a:lnTo>
                  <a:pt x="169" y="793"/>
                </a:lnTo>
                <a:lnTo>
                  <a:pt x="178" y="783"/>
                </a:lnTo>
                <a:lnTo>
                  <a:pt x="190" y="774"/>
                </a:lnTo>
                <a:lnTo>
                  <a:pt x="200" y="764"/>
                </a:lnTo>
                <a:lnTo>
                  <a:pt x="211" y="756"/>
                </a:lnTo>
                <a:lnTo>
                  <a:pt x="223" y="751"/>
                </a:lnTo>
                <a:lnTo>
                  <a:pt x="240" y="752"/>
                </a:lnTo>
                <a:lnTo>
                  <a:pt x="260" y="739"/>
                </a:lnTo>
                <a:lnTo>
                  <a:pt x="281" y="725"/>
                </a:lnTo>
                <a:lnTo>
                  <a:pt x="291" y="718"/>
                </a:lnTo>
                <a:lnTo>
                  <a:pt x="302" y="712"/>
                </a:lnTo>
                <a:lnTo>
                  <a:pt x="312" y="706"/>
                </a:lnTo>
                <a:lnTo>
                  <a:pt x="324" y="700"/>
                </a:lnTo>
                <a:lnTo>
                  <a:pt x="333" y="694"/>
                </a:lnTo>
                <a:lnTo>
                  <a:pt x="345" y="688"/>
                </a:lnTo>
                <a:lnTo>
                  <a:pt x="355" y="683"/>
                </a:lnTo>
                <a:lnTo>
                  <a:pt x="366" y="677"/>
                </a:lnTo>
                <a:lnTo>
                  <a:pt x="376" y="671"/>
                </a:lnTo>
                <a:lnTo>
                  <a:pt x="388" y="665"/>
                </a:lnTo>
                <a:lnTo>
                  <a:pt x="399" y="659"/>
                </a:lnTo>
                <a:lnTo>
                  <a:pt x="411" y="656"/>
                </a:lnTo>
                <a:lnTo>
                  <a:pt x="423" y="648"/>
                </a:lnTo>
                <a:lnTo>
                  <a:pt x="434" y="638"/>
                </a:lnTo>
                <a:lnTo>
                  <a:pt x="444" y="625"/>
                </a:lnTo>
                <a:lnTo>
                  <a:pt x="448" y="611"/>
                </a:lnTo>
                <a:lnTo>
                  <a:pt x="436" y="611"/>
                </a:lnTo>
                <a:lnTo>
                  <a:pt x="419" y="619"/>
                </a:lnTo>
                <a:lnTo>
                  <a:pt x="403" y="630"/>
                </a:lnTo>
                <a:lnTo>
                  <a:pt x="386" y="640"/>
                </a:lnTo>
                <a:lnTo>
                  <a:pt x="370" y="650"/>
                </a:lnTo>
                <a:lnTo>
                  <a:pt x="353" y="657"/>
                </a:lnTo>
                <a:lnTo>
                  <a:pt x="335" y="667"/>
                </a:lnTo>
                <a:lnTo>
                  <a:pt x="316" y="673"/>
                </a:lnTo>
                <a:lnTo>
                  <a:pt x="297" y="679"/>
                </a:lnTo>
                <a:lnTo>
                  <a:pt x="289" y="657"/>
                </a:lnTo>
                <a:lnTo>
                  <a:pt x="289" y="640"/>
                </a:lnTo>
                <a:lnTo>
                  <a:pt x="289" y="619"/>
                </a:lnTo>
                <a:lnTo>
                  <a:pt x="293" y="601"/>
                </a:lnTo>
                <a:lnTo>
                  <a:pt x="295" y="582"/>
                </a:lnTo>
                <a:lnTo>
                  <a:pt x="297" y="562"/>
                </a:lnTo>
                <a:lnTo>
                  <a:pt x="295" y="545"/>
                </a:lnTo>
                <a:lnTo>
                  <a:pt x="293" y="528"/>
                </a:lnTo>
                <a:lnTo>
                  <a:pt x="302" y="506"/>
                </a:lnTo>
                <a:lnTo>
                  <a:pt x="316" y="487"/>
                </a:lnTo>
                <a:lnTo>
                  <a:pt x="332" y="467"/>
                </a:lnTo>
                <a:lnTo>
                  <a:pt x="349" y="452"/>
                </a:lnTo>
                <a:lnTo>
                  <a:pt x="366" y="434"/>
                </a:lnTo>
                <a:lnTo>
                  <a:pt x="386" y="423"/>
                </a:lnTo>
                <a:lnTo>
                  <a:pt x="403" y="411"/>
                </a:lnTo>
                <a:lnTo>
                  <a:pt x="425" y="405"/>
                </a:lnTo>
                <a:lnTo>
                  <a:pt x="434" y="398"/>
                </a:lnTo>
                <a:lnTo>
                  <a:pt x="446" y="390"/>
                </a:lnTo>
                <a:lnTo>
                  <a:pt x="454" y="380"/>
                </a:lnTo>
                <a:lnTo>
                  <a:pt x="463" y="372"/>
                </a:lnTo>
                <a:lnTo>
                  <a:pt x="469" y="361"/>
                </a:lnTo>
                <a:lnTo>
                  <a:pt x="475" y="351"/>
                </a:lnTo>
                <a:lnTo>
                  <a:pt x="479" y="339"/>
                </a:lnTo>
                <a:lnTo>
                  <a:pt x="483" y="330"/>
                </a:lnTo>
                <a:lnTo>
                  <a:pt x="485" y="314"/>
                </a:lnTo>
                <a:lnTo>
                  <a:pt x="487" y="301"/>
                </a:lnTo>
                <a:lnTo>
                  <a:pt x="487" y="285"/>
                </a:lnTo>
                <a:lnTo>
                  <a:pt x="489" y="274"/>
                </a:lnTo>
                <a:lnTo>
                  <a:pt x="487" y="258"/>
                </a:lnTo>
                <a:lnTo>
                  <a:pt x="487" y="244"/>
                </a:lnTo>
                <a:lnTo>
                  <a:pt x="485" y="229"/>
                </a:lnTo>
                <a:lnTo>
                  <a:pt x="485" y="217"/>
                </a:lnTo>
                <a:lnTo>
                  <a:pt x="481" y="202"/>
                </a:lnTo>
                <a:lnTo>
                  <a:pt x="477" y="188"/>
                </a:lnTo>
                <a:lnTo>
                  <a:pt x="473" y="175"/>
                </a:lnTo>
                <a:lnTo>
                  <a:pt x="469" y="163"/>
                </a:lnTo>
                <a:lnTo>
                  <a:pt x="463" y="149"/>
                </a:lnTo>
                <a:lnTo>
                  <a:pt x="460" y="136"/>
                </a:lnTo>
                <a:lnTo>
                  <a:pt x="456" y="122"/>
                </a:lnTo>
                <a:lnTo>
                  <a:pt x="452" y="111"/>
                </a:lnTo>
                <a:lnTo>
                  <a:pt x="446" y="95"/>
                </a:lnTo>
                <a:lnTo>
                  <a:pt x="442" y="82"/>
                </a:lnTo>
                <a:lnTo>
                  <a:pt x="438" y="68"/>
                </a:lnTo>
                <a:lnTo>
                  <a:pt x="438" y="54"/>
                </a:lnTo>
                <a:lnTo>
                  <a:pt x="438" y="39"/>
                </a:lnTo>
                <a:lnTo>
                  <a:pt x="440" y="25"/>
                </a:lnTo>
                <a:lnTo>
                  <a:pt x="446" y="14"/>
                </a:lnTo>
                <a:lnTo>
                  <a:pt x="456" y="4"/>
                </a:lnTo>
                <a:lnTo>
                  <a:pt x="469" y="0"/>
                </a:lnTo>
                <a:lnTo>
                  <a:pt x="481" y="4"/>
                </a:lnTo>
                <a:lnTo>
                  <a:pt x="489" y="10"/>
                </a:lnTo>
                <a:lnTo>
                  <a:pt x="496" y="21"/>
                </a:lnTo>
                <a:lnTo>
                  <a:pt x="500" y="33"/>
                </a:lnTo>
                <a:lnTo>
                  <a:pt x="506" y="45"/>
                </a:lnTo>
                <a:lnTo>
                  <a:pt x="512" y="56"/>
                </a:lnTo>
                <a:lnTo>
                  <a:pt x="520" y="68"/>
                </a:lnTo>
                <a:close/>
              </a:path>
            </a:pathLst>
          </a:custGeom>
          <a:solidFill>
            <a:srgbClr val="ffb39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82" name=""/>
          <p:cNvSpPr/>
          <p:nvPr/>
        </p:nvSpPr>
        <p:spPr>
          <a:xfrm>
            <a:off x="4524480" y="5046840"/>
            <a:ext cx="258480" cy="272880"/>
          </a:xfrm>
          <a:custGeom>
            <a:avLst/>
            <a:gdLst/>
            <a:ahLst/>
            <a:rect l="l" t="t" r="r" b="b"/>
            <a:pathLst>
              <a:path w="326" h="345">
                <a:moveTo>
                  <a:pt x="159" y="281"/>
                </a:moveTo>
                <a:lnTo>
                  <a:pt x="174" y="267"/>
                </a:lnTo>
                <a:lnTo>
                  <a:pt x="192" y="258"/>
                </a:lnTo>
                <a:lnTo>
                  <a:pt x="203" y="250"/>
                </a:lnTo>
                <a:lnTo>
                  <a:pt x="215" y="248"/>
                </a:lnTo>
                <a:lnTo>
                  <a:pt x="219" y="238"/>
                </a:lnTo>
                <a:lnTo>
                  <a:pt x="229" y="232"/>
                </a:lnTo>
                <a:lnTo>
                  <a:pt x="244" y="227"/>
                </a:lnTo>
                <a:lnTo>
                  <a:pt x="264" y="221"/>
                </a:lnTo>
                <a:lnTo>
                  <a:pt x="281" y="215"/>
                </a:lnTo>
                <a:lnTo>
                  <a:pt x="300" y="213"/>
                </a:lnTo>
                <a:lnTo>
                  <a:pt x="316" y="213"/>
                </a:lnTo>
                <a:lnTo>
                  <a:pt x="326" y="213"/>
                </a:lnTo>
                <a:lnTo>
                  <a:pt x="304" y="209"/>
                </a:lnTo>
                <a:lnTo>
                  <a:pt x="289" y="205"/>
                </a:lnTo>
                <a:lnTo>
                  <a:pt x="273" y="197"/>
                </a:lnTo>
                <a:lnTo>
                  <a:pt x="262" y="188"/>
                </a:lnTo>
                <a:lnTo>
                  <a:pt x="250" y="174"/>
                </a:lnTo>
                <a:lnTo>
                  <a:pt x="242" y="161"/>
                </a:lnTo>
                <a:lnTo>
                  <a:pt x="235" y="145"/>
                </a:lnTo>
                <a:lnTo>
                  <a:pt x="229" y="130"/>
                </a:lnTo>
                <a:lnTo>
                  <a:pt x="221" y="110"/>
                </a:lnTo>
                <a:lnTo>
                  <a:pt x="215" y="93"/>
                </a:lnTo>
                <a:lnTo>
                  <a:pt x="211" y="75"/>
                </a:lnTo>
                <a:lnTo>
                  <a:pt x="207" y="58"/>
                </a:lnTo>
                <a:lnTo>
                  <a:pt x="203" y="40"/>
                </a:lnTo>
                <a:lnTo>
                  <a:pt x="200" y="25"/>
                </a:lnTo>
                <a:lnTo>
                  <a:pt x="196" y="11"/>
                </a:lnTo>
                <a:lnTo>
                  <a:pt x="194" y="0"/>
                </a:lnTo>
                <a:lnTo>
                  <a:pt x="190" y="9"/>
                </a:lnTo>
                <a:lnTo>
                  <a:pt x="186" y="19"/>
                </a:lnTo>
                <a:lnTo>
                  <a:pt x="180" y="29"/>
                </a:lnTo>
                <a:lnTo>
                  <a:pt x="174" y="40"/>
                </a:lnTo>
                <a:lnTo>
                  <a:pt x="165" y="48"/>
                </a:lnTo>
                <a:lnTo>
                  <a:pt x="157" y="58"/>
                </a:lnTo>
                <a:lnTo>
                  <a:pt x="145" y="64"/>
                </a:lnTo>
                <a:lnTo>
                  <a:pt x="136" y="71"/>
                </a:lnTo>
                <a:lnTo>
                  <a:pt x="114" y="77"/>
                </a:lnTo>
                <a:lnTo>
                  <a:pt x="97" y="89"/>
                </a:lnTo>
                <a:lnTo>
                  <a:pt x="77" y="100"/>
                </a:lnTo>
                <a:lnTo>
                  <a:pt x="60" y="118"/>
                </a:lnTo>
                <a:lnTo>
                  <a:pt x="43" y="133"/>
                </a:lnTo>
                <a:lnTo>
                  <a:pt x="27" y="153"/>
                </a:lnTo>
                <a:lnTo>
                  <a:pt x="13" y="172"/>
                </a:lnTo>
                <a:lnTo>
                  <a:pt x="4" y="194"/>
                </a:lnTo>
                <a:lnTo>
                  <a:pt x="6" y="211"/>
                </a:lnTo>
                <a:lnTo>
                  <a:pt x="8" y="228"/>
                </a:lnTo>
                <a:lnTo>
                  <a:pt x="6" y="248"/>
                </a:lnTo>
                <a:lnTo>
                  <a:pt x="4" y="267"/>
                </a:lnTo>
                <a:lnTo>
                  <a:pt x="0" y="285"/>
                </a:lnTo>
                <a:lnTo>
                  <a:pt x="0" y="306"/>
                </a:lnTo>
                <a:lnTo>
                  <a:pt x="0" y="323"/>
                </a:lnTo>
                <a:lnTo>
                  <a:pt x="8" y="345"/>
                </a:lnTo>
                <a:lnTo>
                  <a:pt x="27" y="339"/>
                </a:lnTo>
                <a:lnTo>
                  <a:pt x="46" y="333"/>
                </a:lnTo>
                <a:lnTo>
                  <a:pt x="64" y="323"/>
                </a:lnTo>
                <a:lnTo>
                  <a:pt x="81" y="316"/>
                </a:lnTo>
                <a:lnTo>
                  <a:pt x="97" y="306"/>
                </a:lnTo>
                <a:lnTo>
                  <a:pt x="114" y="296"/>
                </a:lnTo>
                <a:lnTo>
                  <a:pt x="130" y="285"/>
                </a:lnTo>
                <a:lnTo>
                  <a:pt x="147" y="277"/>
                </a:lnTo>
                <a:lnTo>
                  <a:pt x="159" y="277"/>
                </a:lnTo>
                <a:lnTo>
                  <a:pt x="159" y="279"/>
                </a:lnTo>
                <a:lnTo>
                  <a:pt x="159" y="281"/>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83" name=""/>
          <p:cNvSpPr/>
          <p:nvPr/>
        </p:nvSpPr>
        <p:spPr>
          <a:xfrm>
            <a:off x="4573440" y="5315040"/>
            <a:ext cx="24120" cy="11160"/>
          </a:xfrm>
          <a:custGeom>
            <a:avLst/>
            <a:gdLst/>
            <a:ahLst/>
            <a:rect l="l" t="t" r="r" b="b"/>
            <a:pathLst>
              <a:path w="29" h="16">
                <a:moveTo>
                  <a:pt x="0" y="16"/>
                </a:moveTo>
                <a:lnTo>
                  <a:pt x="12" y="10"/>
                </a:lnTo>
                <a:lnTo>
                  <a:pt x="25" y="4"/>
                </a:lnTo>
                <a:lnTo>
                  <a:pt x="27" y="2"/>
                </a:lnTo>
                <a:lnTo>
                  <a:pt x="29" y="0"/>
                </a:lnTo>
                <a:lnTo>
                  <a:pt x="13" y="8"/>
                </a:lnTo>
                <a:lnTo>
                  <a:pt x="0" y="16"/>
                </a:lnTo>
                <a:close/>
              </a:path>
            </a:pathLst>
          </a:custGeom>
          <a:solidFill>
            <a:srgbClr val="e66e5c"/>
          </a:solidFill>
          <a:ln w="0">
            <a:noFill/>
          </a:ln>
        </p:spPr>
        <p:style>
          <a:lnRef idx="0"/>
          <a:fillRef idx="0"/>
          <a:effectRef idx="0"/>
          <a:fontRef idx="minor"/>
        </p:style>
        <p:txBody>
          <a:bodyPr lIns="90000" rIns="90000" tIns="-35640" bIns="-35640" anchor="t">
            <a:noAutofit/>
          </a:bodyPr>
          <a:p>
            <a:endParaRPr b="0" lang="en-US" sz="2400" spc="-1" strike="noStrike">
              <a:solidFill>
                <a:srgbClr val="ffff66"/>
              </a:solidFill>
              <a:latin typeface="Times New Roman"/>
            </a:endParaRPr>
          </a:p>
        </p:txBody>
      </p:sp>
      <p:sp>
        <p:nvSpPr>
          <p:cNvPr id="184" name=""/>
          <p:cNvSpPr/>
          <p:nvPr/>
        </p:nvSpPr>
        <p:spPr>
          <a:xfrm>
            <a:off x="4656240" y="5129280"/>
            <a:ext cx="142920" cy="128520"/>
          </a:xfrm>
          <a:custGeom>
            <a:avLst/>
            <a:gdLst/>
            <a:ahLst/>
            <a:rect l="l" t="t" r="r" b="b"/>
            <a:pathLst>
              <a:path w="180" h="161">
                <a:moveTo>
                  <a:pt x="42" y="84"/>
                </a:moveTo>
                <a:lnTo>
                  <a:pt x="56" y="90"/>
                </a:lnTo>
                <a:lnTo>
                  <a:pt x="73" y="95"/>
                </a:lnTo>
                <a:lnTo>
                  <a:pt x="91" y="99"/>
                </a:lnTo>
                <a:lnTo>
                  <a:pt x="108" y="105"/>
                </a:lnTo>
                <a:lnTo>
                  <a:pt x="126" y="107"/>
                </a:lnTo>
                <a:lnTo>
                  <a:pt x="143" y="111"/>
                </a:lnTo>
                <a:lnTo>
                  <a:pt x="161" y="111"/>
                </a:lnTo>
                <a:lnTo>
                  <a:pt x="180" y="113"/>
                </a:lnTo>
                <a:lnTo>
                  <a:pt x="170" y="124"/>
                </a:lnTo>
                <a:lnTo>
                  <a:pt x="155" y="128"/>
                </a:lnTo>
                <a:lnTo>
                  <a:pt x="133" y="128"/>
                </a:lnTo>
                <a:lnTo>
                  <a:pt x="116" y="128"/>
                </a:lnTo>
                <a:lnTo>
                  <a:pt x="95" y="128"/>
                </a:lnTo>
                <a:lnTo>
                  <a:pt x="77" y="130"/>
                </a:lnTo>
                <a:lnTo>
                  <a:pt x="58" y="130"/>
                </a:lnTo>
                <a:lnTo>
                  <a:pt x="38" y="136"/>
                </a:lnTo>
                <a:lnTo>
                  <a:pt x="21" y="146"/>
                </a:lnTo>
                <a:lnTo>
                  <a:pt x="7" y="161"/>
                </a:lnTo>
                <a:lnTo>
                  <a:pt x="0" y="155"/>
                </a:lnTo>
                <a:lnTo>
                  <a:pt x="11" y="136"/>
                </a:lnTo>
                <a:lnTo>
                  <a:pt x="17" y="117"/>
                </a:lnTo>
                <a:lnTo>
                  <a:pt x="17" y="97"/>
                </a:lnTo>
                <a:lnTo>
                  <a:pt x="17" y="78"/>
                </a:lnTo>
                <a:lnTo>
                  <a:pt x="11" y="57"/>
                </a:lnTo>
                <a:lnTo>
                  <a:pt x="7" y="37"/>
                </a:lnTo>
                <a:lnTo>
                  <a:pt x="4" y="18"/>
                </a:lnTo>
                <a:lnTo>
                  <a:pt x="5" y="0"/>
                </a:lnTo>
                <a:lnTo>
                  <a:pt x="7" y="8"/>
                </a:lnTo>
                <a:lnTo>
                  <a:pt x="11" y="20"/>
                </a:lnTo>
                <a:lnTo>
                  <a:pt x="13" y="31"/>
                </a:lnTo>
                <a:lnTo>
                  <a:pt x="17" y="45"/>
                </a:lnTo>
                <a:lnTo>
                  <a:pt x="19" y="55"/>
                </a:lnTo>
                <a:lnTo>
                  <a:pt x="25" y="66"/>
                </a:lnTo>
                <a:lnTo>
                  <a:pt x="31" y="76"/>
                </a:lnTo>
                <a:lnTo>
                  <a:pt x="42"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85" name=""/>
          <p:cNvSpPr/>
          <p:nvPr/>
        </p:nvSpPr>
        <p:spPr>
          <a:xfrm>
            <a:off x="5027760" y="5172120"/>
            <a:ext cx="500040" cy="395280"/>
          </a:xfrm>
          <a:custGeom>
            <a:avLst/>
            <a:gdLst/>
            <a:ahLst/>
            <a:rect l="l" t="t" r="r" b="b"/>
            <a:pathLst>
              <a:path w="630" h="498">
                <a:moveTo>
                  <a:pt x="145" y="25"/>
                </a:moveTo>
                <a:lnTo>
                  <a:pt x="155" y="29"/>
                </a:lnTo>
                <a:lnTo>
                  <a:pt x="165" y="35"/>
                </a:lnTo>
                <a:lnTo>
                  <a:pt x="175" y="42"/>
                </a:lnTo>
                <a:lnTo>
                  <a:pt x="184" y="50"/>
                </a:lnTo>
                <a:lnTo>
                  <a:pt x="192" y="56"/>
                </a:lnTo>
                <a:lnTo>
                  <a:pt x="202" y="62"/>
                </a:lnTo>
                <a:lnTo>
                  <a:pt x="213" y="68"/>
                </a:lnTo>
                <a:lnTo>
                  <a:pt x="225" y="73"/>
                </a:lnTo>
                <a:lnTo>
                  <a:pt x="237" y="62"/>
                </a:lnTo>
                <a:lnTo>
                  <a:pt x="248" y="52"/>
                </a:lnTo>
                <a:lnTo>
                  <a:pt x="258" y="38"/>
                </a:lnTo>
                <a:lnTo>
                  <a:pt x="273" y="31"/>
                </a:lnTo>
                <a:lnTo>
                  <a:pt x="293" y="21"/>
                </a:lnTo>
                <a:lnTo>
                  <a:pt x="314" y="15"/>
                </a:lnTo>
                <a:lnTo>
                  <a:pt x="326" y="13"/>
                </a:lnTo>
                <a:lnTo>
                  <a:pt x="337" y="11"/>
                </a:lnTo>
                <a:lnTo>
                  <a:pt x="349" y="11"/>
                </a:lnTo>
                <a:lnTo>
                  <a:pt x="361" y="11"/>
                </a:lnTo>
                <a:lnTo>
                  <a:pt x="370" y="11"/>
                </a:lnTo>
                <a:lnTo>
                  <a:pt x="382" y="11"/>
                </a:lnTo>
                <a:lnTo>
                  <a:pt x="394" y="11"/>
                </a:lnTo>
                <a:lnTo>
                  <a:pt x="405" y="13"/>
                </a:lnTo>
                <a:lnTo>
                  <a:pt x="415" y="13"/>
                </a:lnTo>
                <a:lnTo>
                  <a:pt x="427" y="13"/>
                </a:lnTo>
                <a:lnTo>
                  <a:pt x="438" y="15"/>
                </a:lnTo>
                <a:lnTo>
                  <a:pt x="450" y="17"/>
                </a:lnTo>
                <a:lnTo>
                  <a:pt x="465" y="17"/>
                </a:lnTo>
                <a:lnTo>
                  <a:pt x="483" y="19"/>
                </a:lnTo>
                <a:lnTo>
                  <a:pt x="500" y="21"/>
                </a:lnTo>
                <a:lnTo>
                  <a:pt x="520" y="23"/>
                </a:lnTo>
                <a:lnTo>
                  <a:pt x="537" y="23"/>
                </a:lnTo>
                <a:lnTo>
                  <a:pt x="555" y="25"/>
                </a:lnTo>
                <a:lnTo>
                  <a:pt x="572" y="27"/>
                </a:lnTo>
                <a:lnTo>
                  <a:pt x="592" y="29"/>
                </a:lnTo>
                <a:lnTo>
                  <a:pt x="597" y="29"/>
                </a:lnTo>
                <a:lnTo>
                  <a:pt x="609" y="33"/>
                </a:lnTo>
                <a:lnTo>
                  <a:pt x="619" y="36"/>
                </a:lnTo>
                <a:lnTo>
                  <a:pt x="630" y="36"/>
                </a:lnTo>
                <a:lnTo>
                  <a:pt x="628" y="50"/>
                </a:lnTo>
                <a:lnTo>
                  <a:pt x="628" y="66"/>
                </a:lnTo>
                <a:lnTo>
                  <a:pt x="626" y="79"/>
                </a:lnTo>
                <a:lnTo>
                  <a:pt x="626" y="95"/>
                </a:lnTo>
                <a:lnTo>
                  <a:pt x="625" y="108"/>
                </a:lnTo>
                <a:lnTo>
                  <a:pt x="625" y="124"/>
                </a:lnTo>
                <a:lnTo>
                  <a:pt x="623" y="139"/>
                </a:lnTo>
                <a:lnTo>
                  <a:pt x="623" y="155"/>
                </a:lnTo>
                <a:lnTo>
                  <a:pt x="619" y="168"/>
                </a:lnTo>
                <a:lnTo>
                  <a:pt x="619" y="184"/>
                </a:lnTo>
                <a:lnTo>
                  <a:pt x="615" y="197"/>
                </a:lnTo>
                <a:lnTo>
                  <a:pt x="615" y="213"/>
                </a:lnTo>
                <a:lnTo>
                  <a:pt x="611" y="227"/>
                </a:lnTo>
                <a:lnTo>
                  <a:pt x="611" y="242"/>
                </a:lnTo>
                <a:lnTo>
                  <a:pt x="607" y="256"/>
                </a:lnTo>
                <a:lnTo>
                  <a:pt x="607" y="271"/>
                </a:lnTo>
                <a:lnTo>
                  <a:pt x="603" y="285"/>
                </a:lnTo>
                <a:lnTo>
                  <a:pt x="601" y="298"/>
                </a:lnTo>
                <a:lnTo>
                  <a:pt x="597" y="312"/>
                </a:lnTo>
                <a:lnTo>
                  <a:pt x="595" y="327"/>
                </a:lnTo>
                <a:lnTo>
                  <a:pt x="592" y="341"/>
                </a:lnTo>
                <a:lnTo>
                  <a:pt x="590" y="354"/>
                </a:lnTo>
                <a:lnTo>
                  <a:pt x="588" y="368"/>
                </a:lnTo>
                <a:lnTo>
                  <a:pt x="586" y="384"/>
                </a:lnTo>
                <a:lnTo>
                  <a:pt x="582" y="397"/>
                </a:lnTo>
                <a:lnTo>
                  <a:pt x="580" y="411"/>
                </a:lnTo>
                <a:lnTo>
                  <a:pt x="576" y="424"/>
                </a:lnTo>
                <a:lnTo>
                  <a:pt x="574" y="440"/>
                </a:lnTo>
                <a:lnTo>
                  <a:pt x="570" y="453"/>
                </a:lnTo>
                <a:lnTo>
                  <a:pt x="568" y="469"/>
                </a:lnTo>
                <a:lnTo>
                  <a:pt x="564" y="482"/>
                </a:lnTo>
                <a:lnTo>
                  <a:pt x="562" y="498"/>
                </a:lnTo>
                <a:lnTo>
                  <a:pt x="545" y="492"/>
                </a:lnTo>
                <a:lnTo>
                  <a:pt x="528" y="488"/>
                </a:lnTo>
                <a:lnTo>
                  <a:pt x="510" y="482"/>
                </a:lnTo>
                <a:lnTo>
                  <a:pt x="495" y="479"/>
                </a:lnTo>
                <a:lnTo>
                  <a:pt x="477" y="471"/>
                </a:lnTo>
                <a:lnTo>
                  <a:pt x="462" y="463"/>
                </a:lnTo>
                <a:lnTo>
                  <a:pt x="444" y="457"/>
                </a:lnTo>
                <a:lnTo>
                  <a:pt x="429" y="453"/>
                </a:lnTo>
                <a:lnTo>
                  <a:pt x="409" y="448"/>
                </a:lnTo>
                <a:lnTo>
                  <a:pt x="392" y="442"/>
                </a:lnTo>
                <a:lnTo>
                  <a:pt x="374" y="436"/>
                </a:lnTo>
                <a:lnTo>
                  <a:pt x="357" y="430"/>
                </a:lnTo>
                <a:lnTo>
                  <a:pt x="339" y="420"/>
                </a:lnTo>
                <a:lnTo>
                  <a:pt x="324" y="413"/>
                </a:lnTo>
                <a:lnTo>
                  <a:pt x="308" y="401"/>
                </a:lnTo>
                <a:lnTo>
                  <a:pt x="297" y="391"/>
                </a:lnTo>
                <a:lnTo>
                  <a:pt x="303" y="378"/>
                </a:lnTo>
                <a:lnTo>
                  <a:pt x="310" y="364"/>
                </a:lnTo>
                <a:lnTo>
                  <a:pt x="316" y="351"/>
                </a:lnTo>
                <a:lnTo>
                  <a:pt x="322" y="337"/>
                </a:lnTo>
                <a:lnTo>
                  <a:pt x="326" y="322"/>
                </a:lnTo>
                <a:lnTo>
                  <a:pt x="332" y="306"/>
                </a:lnTo>
                <a:lnTo>
                  <a:pt x="337" y="290"/>
                </a:lnTo>
                <a:lnTo>
                  <a:pt x="343" y="279"/>
                </a:lnTo>
                <a:lnTo>
                  <a:pt x="349" y="261"/>
                </a:lnTo>
                <a:lnTo>
                  <a:pt x="355" y="246"/>
                </a:lnTo>
                <a:lnTo>
                  <a:pt x="357" y="228"/>
                </a:lnTo>
                <a:lnTo>
                  <a:pt x="361" y="211"/>
                </a:lnTo>
                <a:lnTo>
                  <a:pt x="353" y="203"/>
                </a:lnTo>
                <a:lnTo>
                  <a:pt x="347" y="203"/>
                </a:lnTo>
                <a:lnTo>
                  <a:pt x="341" y="215"/>
                </a:lnTo>
                <a:lnTo>
                  <a:pt x="336" y="227"/>
                </a:lnTo>
                <a:lnTo>
                  <a:pt x="332" y="240"/>
                </a:lnTo>
                <a:lnTo>
                  <a:pt x="328" y="254"/>
                </a:lnTo>
                <a:lnTo>
                  <a:pt x="320" y="265"/>
                </a:lnTo>
                <a:lnTo>
                  <a:pt x="314" y="277"/>
                </a:lnTo>
                <a:lnTo>
                  <a:pt x="306" y="289"/>
                </a:lnTo>
                <a:lnTo>
                  <a:pt x="299" y="300"/>
                </a:lnTo>
                <a:lnTo>
                  <a:pt x="287" y="312"/>
                </a:lnTo>
                <a:lnTo>
                  <a:pt x="279" y="327"/>
                </a:lnTo>
                <a:lnTo>
                  <a:pt x="268" y="341"/>
                </a:lnTo>
                <a:lnTo>
                  <a:pt x="256" y="354"/>
                </a:lnTo>
                <a:lnTo>
                  <a:pt x="244" y="351"/>
                </a:lnTo>
                <a:lnTo>
                  <a:pt x="233" y="349"/>
                </a:lnTo>
                <a:lnTo>
                  <a:pt x="221" y="345"/>
                </a:lnTo>
                <a:lnTo>
                  <a:pt x="209" y="343"/>
                </a:lnTo>
                <a:lnTo>
                  <a:pt x="198" y="339"/>
                </a:lnTo>
                <a:lnTo>
                  <a:pt x="188" y="337"/>
                </a:lnTo>
                <a:lnTo>
                  <a:pt x="177" y="333"/>
                </a:lnTo>
                <a:lnTo>
                  <a:pt x="167" y="331"/>
                </a:lnTo>
                <a:lnTo>
                  <a:pt x="155" y="325"/>
                </a:lnTo>
                <a:lnTo>
                  <a:pt x="144" y="323"/>
                </a:lnTo>
                <a:lnTo>
                  <a:pt x="132" y="320"/>
                </a:lnTo>
                <a:lnTo>
                  <a:pt x="122" y="318"/>
                </a:lnTo>
                <a:lnTo>
                  <a:pt x="111" y="314"/>
                </a:lnTo>
                <a:lnTo>
                  <a:pt x="99" y="312"/>
                </a:lnTo>
                <a:lnTo>
                  <a:pt x="87" y="312"/>
                </a:lnTo>
                <a:lnTo>
                  <a:pt x="78" y="312"/>
                </a:lnTo>
                <a:lnTo>
                  <a:pt x="80" y="298"/>
                </a:lnTo>
                <a:lnTo>
                  <a:pt x="83" y="285"/>
                </a:lnTo>
                <a:lnTo>
                  <a:pt x="87" y="271"/>
                </a:lnTo>
                <a:lnTo>
                  <a:pt x="91" y="259"/>
                </a:lnTo>
                <a:lnTo>
                  <a:pt x="93" y="246"/>
                </a:lnTo>
                <a:lnTo>
                  <a:pt x="97" y="234"/>
                </a:lnTo>
                <a:lnTo>
                  <a:pt x="99" y="221"/>
                </a:lnTo>
                <a:lnTo>
                  <a:pt x="103" y="209"/>
                </a:lnTo>
                <a:lnTo>
                  <a:pt x="105" y="194"/>
                </a:lnTo>
                <a:lnTo>
                  <a:pt x="107" y="180"/>
                </a:lnTo>
                <a:lnTo>
                  <a:pt x="109" y="166"/>
                </a:lnTo>
                <a:lnTo>
                  <a:pt x="111" y="153"/>
                </a:lnTo>
                <a:lnTo>
                  <a:pt x="111" y="139"/>
                </a:lnTo>
                <a:lnTo>
                  <a:pt x="111" y="126"/>
                </a:lnTo>
                <a:lnTo>
                  <a:pt x="111" y="112"/>
                </a:lnTo>
                <a:lnTo>
                  <a:pt x="113" y="100"/>
                </a:lnTo>
                <a:lnTo>
                  <a:pt x="107" y="95"/>
                </a:lnTo>
                <a:lnTo>
                  <a:pt x="101" y="95"/>
                </a:lnTo>
                <a:lnTo>
                  <a:pt x="95" y="104"/>
                </a:lnTo>
                <a:lnTo>
                  <a:pt x="91" y="116"/>
                </a:lnTo>
                <a:lnTo>
                  <a:pt x="89" y="128"/>
                </a:lnTo>
                <a:lnTo>
                  <a:pt x="89" y="141"/>
                </a:lnTo>
                <a:lnTo>
                  <a:pt x="87" y="153"/>
                </a:lnTo>
                <a:lnTo>
                  <a:pt x="85" y="166"/>
                </a:lnTo>
                <a:lnTo>
                  <a:pt x="83" y="178"/>
                </a:lnTo>
                <a:lnTo>
                  <a:pt x="83" y="190"/>
                </a:lnTo>
                <a:lnTo>
                  <a:pt x="76" y="203"/>
                </a:lnTo>
                <a:lnTo>
                  <a:pt x="70" y="221"/>
                </a:lnTo>
                <a:lnTo>
                  <a:pt x="64" y="236"/>
                </a:lnTo>
                <a:lnTo>
                  <a:pt x="58" y="252"/>
                </a:lnTo>
                <a:lnTo>
                  <a:pt x="50" y="265"/>
                </a:lnTo>
                <a:lnTo>
                  <a:pt x="43" y="281"/>
                </a:lnTo>
                <a:lnTo>
                  <a:pt x="31" y="292"/>
                </a:lnTo>
                <a:lnTo>
                  <a:pt x="19" y="306"/>
                </a:lnTo>
                <a:lnTo>
                  <a:pt x="8" y="306"/>
                </a:lnTo>
                <a:lnTo>
                  <a:pt x="0" y="300"/>
                </a:lnTo>
                <a:lnTo>
                  <a:pt x="14" y="292"/>
                </a:lnTo>
                <a:lnTo>
                  <a:pt x="21" y="281"/>
                </a:lnTo>
                <a:lnTo>
                  <a:pt x="25" y="265"/>
                </a:lnTo>
                <a:lnTo>
                  <a:pt x="33" y="256"/>
                </a:lnTo>
                <a:lnTo>
                  <a:pt x="39" y="240"/>
                </a:lnTo>
                <a:lnTo>
                  <a:pt x="47" y="227"/>
                </a:lnTo>
                <a:lnTo>
                  <a:pt x="50" y="211"/>
                </a:lnTo>
                <a:lnTo>
                  <a:pt x="56" y="197"/>
                </a:lnTo>
                <a:lnTo>
                  <a:pt x="56" y="182"/>
                </a:lnTo>
                <a:lnTo>
                  <a:pt x="58" y="168"/>
                </a:lnTo>
                <a:lnTo>
                  <a:pt x="58" y="153"/>
                </a:lnTo>
                <a:lnTo>
                  <a:pt x="60" y="139"/>
                </a:lnTo>
                <a:lnTo>
                  <a:pt x="56" y="122"/>
                </a:lnTo>
                <a:lnTo>
                  <a:pt x="54" y="108"/>
                </a:lnTo>
                <a:lnTo>
                  <a:pt x="52" y="91"/>
                </a:lnTo>
                <a:lnTo>
                  <a:pt x="50" y="77"/>
                </a:lnTo>
                <a:lnTo>
                  <a:pt x="47" y="62"/>
                </a:lnTo>
                <a:lnTo>
                  <a:pt x="45" y="48"/>
                </a:lnTo>
                <a:lnTo>
                  <a:pt x="41" y="33"/>
                </a:lnTo>
                <a:lnTo>
                  <a:pt x="39" y="19"/>
                </a:lnTo>
                <a:lnTo>
                  <a:pt x="33" y="9"/>
                </a:lnTo>
                <a:lnTo>
                  <a:pt x="23" y="7"/>
                </a:lnTo>
                <a:lnTo>
                  <a:pt x="14" y="5"/>
                </a:lnTo>
                <a:lnTo>
                  <a:pt x="4" y="5"/>
                </a:lnTo>
                <a:lnTo>
                  <a:pt x="21" y="0"/>
                </a:lnTo>
                <a:lnTo>
                  <a:pt x="39" y="0"/>
                </a:lnTo>
                <a:lnTo>
                  <a:pt x="56" y="0"/>
                </a:lnTo>
                <a:lnTo>
                  <a:pt x="76" y="5"/>
                </a:lnTo>
                <a:lnTo>
                  <a:pt x="93" y="9"/>
                </a:lnTo>
                <a:lnTo>
                  <a:pt x="111" y="15"/>
                </a:lnTo>
                <a:lnTo>
                  <a:pt x="128" y="19"/>
                </a:lnTo>
                <a:lnTo>
                  <a:pt x="145" y="25"/>
                </a:lnTo>
                <a:close/>
              </a:path>
            </a:pathLst>
          </a:custGeom>
          <a:solidFill>
            <a:srgbClr val="14f2ed"/>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86" name=""/>
          <p:cNvSpPr/>
          <p:nvPr/>
        </p:nvSpPr>
        <p:spPr>
          <a:xfrm>
            <a:off x="5027760" y="5299200"/>
            <a:ext cx="71280" cy="117360"/>
          </a:xfrm>
          <a:custGeom>
            <a:avLst/>
            <a:gdLst/>
            <a:ahLst/>
            <a:rect l="l" t="t" r="r" b="b"/>
            <a:pathLst>
              <a:path w="89" h="147">
                <a:moveTo>
                  <a:pt x="89" y="0"/>
                </a:moveTo>
                <a:lnTo>
                  <a:pt x="60" y="4"/>
                </a:lnTo>
                <a:lnTo>
                  <a:pt x="58" y="15"/>
                </a:lnTo>
                <a:lnTo>
                  <a:pt x="58" y="27"/>
                </a:lnTo>
                <a:lnTo>
                  <a:pt x="54" y="38"/>
                </a:lnTo>
                <a:lnTo>
                  <a:pt x="52" y="50"/>
                </a:lnTo>
                <a:lnTo>
                  <a:pt x="49" y="62"/>
                </a:lnTo>
                <a:lnTo>
                  <a:pt x="45" y="73"/>
                </a:lnTo>
                <a:lnTo>
                  <a:pt x="39" y="85"/>
                </a:lnTo>
                <a:lnTo>
                  <a:pt x="33" y="97"/>
                </a:lnTo>
                <a:lnTo>
                  <a:pt x="25" y="106"/>
                </a:lnTo>
                <a:lnTo>
                  <a:pt x="21" y="122"/>
                </a:lnTo>
                <a:lnTo>
                  <a:pt x="14" y="133"/>
                </a:lnTo>
                <a:lnTo>
                  <a:pt x="0" y="141"/>
                </a:lnTo>
                <a:lnTo>
                  <a:pt x="8" y="147"/>
                </a:lnTo>
                <a:lnTo>
                  <a:pt x="19" y="147"/>
                </a:lnTo>
                <a:lnTo>
                  <a:pt x="31" y="133"/>
                </a:lnTo>
                <a:lnTo>
                  <a:pt x="43" y="122"/>
                </a:lnTo>
                <a:lnTo>
                  <a:pt x="50" y="106"/>
                </a:lnTo>
                <a:lnTo>
                  <a:pt x="58" y="93"/>
                </a:lnTo>
                <a:lnTo>
                  <a:pt x="64" y="77"/>
                </a:lnTo>
                <a:lnTo>
                  <a:pt x="70" y="62"/>
                </a:lnTo>
                <a:lnTo>
                  <a:pt x="76" y="44"/>
                </a:lnTo>
                <a:lnTo>
                  <a:pt x="83" y="31"/>
                </a:lnTo>
                <a:lnTo>
                  <a:pt x="85" y="15"/>
                </a:lnTo>
                <a:lnTo>
                  <a:pt x="89" y="0"/>
                </a:lnTo>
                <a:close/>
              </a:path>
            </a:pathLst>
          </a:custGeom>
          <a:solidFill>
            <a:srgbClr val="14a6f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87" name=""/>
          <p:cNvSpPr/>
          <p:nvPr/>
        </p:nvSpPr>
        <p:spPr>
          <a:xfrm>
            <a:off x="5089680" y="5275440"/>
            <a:ext cx="419040" cy="291960"/>
          </a:xfrm>
          <a:custGeom>
            <a:avLst/>
            <a:gdLst/>
            <a:ahLst/>
            <a:rect l="l" t="t" r="r" b="b"/>
            <a:pathLst>
              <a:path w="527" h="368">
                <a:moveTo>
                  <a:pt x="527" y="168"/>
                </a:moveTo>
                <a:lnTo>
                  <a:pt x="514" y="170"/>
                </a:lnTo>
                <a:lnTo>
                  <a:pt x="502" y="172"/>
                </a:lnTo>
                <a:lnTo>
                  <a:pt x="490" y="174"/>
                </a:lnTo>
                <a:lnTo>
                  <a:pt x="479" y="178"/>
                </a:lnTo>
                <a:lnTo>
                  <a:pt x="465" y="180"/>
                </a:lnTo>
                <a:lnTo>
                  <a:pt x="451" y="182"/>
                </a:lnTo>
                <a:lnTo>
                  <a:pt x="438" y="182"/>
                </a:lnTo>
                <a:lnTo>
                  <a:pt x="426" y="184"/>
                </a:lnTo>
                <a:lnTo>
                  <a:pt x="413" y="182"/>
                </a:lnTo>
                <a:lnTo>
                  <a:pt x="399" y="182"/>
                </a:lnTo>
                <a:lnTo>
                  <a:pt x="387" y="180"/>
                </a:lnTo>
                <a:lnTo>
                  <a:pt x="378" y="180"/>
                </a:lnTo>
                <a:lnTo>
                  <a:pt x="366" y="176"/>
                </a:lnTo>
                <a:lnTo>
                  <a:pt x="356" y="174"/>
                </a:lnTo>
                <a:lnTo>
                  <a:pt x="347" y="170"/>
                </a:lnTo>
                <a:lnTo>
                  <a:pt x="341" y="166"/>
                </a:lnTo>
                <a:lnTo>
                  <a:pt x="333" y="155"/>
                </a:lnTo>
                <a:lnTo>
                  <a:pt x="329" y="137"/>
                </a:lnTo>
                <a:lnTo>
                  <a:pt x="325" y="124"/>
                </a:lnTo>
                <a:lnTo>
                  <a:pt x="323" y="112"/>
                </a:lnTo>
                <a:lnTo>
                  <a:pt x="323" y="98"/>
                </a:lnTo>
                <a:lnTo>
                  <a:pt x="323" y="87"/>
                </a:lnTo>
                <a:lnTo>
                  <a:pt x="322" y="71"/>
                </a:lnTo>
                <a:lnTo>
                  <a:pt x="322" y="58"/>
                </a:lnTo>
                <a:lnTo>
                  <a:pt x="322" y="44"/>
                </a:lnTo>
                <a:lnTo>
                  <a:pt x="322" y="33"/>
                </a:lnTo>
                <a:lnTo>
                  <a:pt x="322" y="21"/>
                </a:lnTo>
                <a:lnTo>
                  <a:pt x="322" y="11"/>
                </a:lnTo>
                <a:lnTo>
                  <a:pt x="322" y="3"/>
                </a:lnTo>
                <a:lnTo>
                  <a:pt x="322" y="0"/>
                </a:lnTo>
                <a:lnTo>
                  <a:pt x="310" y="0"/>
                </a:lnTo>
                <a:lnTo>
                  <a:pt x="296" y="3"/>
                </a:lnTo>
                <a:lnTo>
                  <a:pt x="279" y="7"/>
                </a:lnTo>
                <a:lnTo>
                  <a:pt x="261" y="13"/>
                </a:lnTo>
                <a:lnTo>
                  <a:pt x="250" y="15"/>
                </a:lnTo>
                <a:lnTo>
                  <a:pt x="238" y="19"/>
                </a:lnTo>
                <a:lnTo>
                  <a:pt x="227" y="21"/>
                </a:lnTo>
                <a:lnTo>
                  <a:pt x="217" y="27"/>
                </a:lnTo>
                <a:lnTo>
                  <a:pt x="205" y="29"/>
                </a:lnTo>
                <a:lnTo>
                  <a:pt x="194" y="33"/>
                </a:lnTo>
                <a:lnTo>
                  <a:pt x="182" y="36"/>
                </a:lnTo>
                <a:lnTo>
                  <a:pt x="170" y="40"/>
                </a:lnTo>
                <a:lnTo>
                  <a:pt x="157" y="42"/>
                </a:lnTo>
                <a:lnTo>
                  <a:pt x="145" y="44"/>
                </a:lnTo>
                <a:lnTo>
                  <a:pt x="133" y="46"/>
                </a:lnTo>
                <a:lnTo>
                  <a:pt x="122" y="48"/>
                </a:lnTo>
                <a:lnTo>
                  <a:pt x="100" y="50"/>
                </a:lnTo>
                <a:lnTo>
                  <a:pt x="85" y="52"/>
                </a:lnTo>
                <a:lnTo>
                  <a:pt x="67" y="50"/>
                </a:lnTo>
                <a:lnTo>
                  <a:pt x="58" y="44"/>
                </a:lnTo>
                <a:lnTo>
                  <a:pt x="50" y="36"/>
                </a:lnTo>
                <a:lnTo>
                  <a:pt x="48" y="25"/>
                </a:lnTo>
                <a:lnTo>
                  <a:pt x="33" y="27"/>
                </a:lnTo>
                <a:lnTo>
                  <a:pt x="29" y="46"/>
                </a:lnTo>
                <a:lnTo>
                  <a:pt x="27" y="65"/>
                </a:lnTo>
                <a:lnTo>
                  <a:pt x="23" y="85"/>
                </a:lnTo>
                <a:lnTo>
                  <a:pt x="21" y="106"/>
                </a:lnTo>
                <a:lnTo>
                  <a:pt x="15" y="126"/>
                </a:lnTo>
                <a:lnTo>
                  <a:pt x="11" y="145"/>
                </a:lnTo>
                <a:lnTo>
                  <a:pt x="5" y="162"/>
                </a:lnTo>
                <a:lnTo>
                  <a:pt x="0" y="182"/>
                </a:lnTo>
                <a:lnTo>
                  <a:pt x="9" y="182"/>
                </a:lnTo>
                <a:lnTo>
                  <a:pt x="21" y="182"/>
                </a:lnTo>
                <a:lnTo>
                  <a:pt x="33" y="184"/>
                </a:lnTo>
                <a:lnTo>
                  <a:pt x="44" y="188"/>
                </a:lnTo>
                <a:lnTo>
                  <a:pt x="54" y="190"/>
                </a:lnTo>
                <a:lnTo>
                  <a:pt x="66" y="193"/>
                </a:lnTo>
                <a:lnTo>
                  <a:pt x="77" y="195"/>
                </a:lnTo>
                <a:lnTo>
                  <a:pt x="89" y="201"/>
                </a:lnTo>
                <a:lnTo>
                  <a:pt x="99" y="203"/>
                </a:lnTo>
                <a:lnTo>
                  <a:pt x="110" y="207"/>
                </a:lnTo>
                <a:lnTo>
                  <a:pt x="120" y="209"/>
                </a:lnTo>
                <a:lnTo>
                  <a:pt x="131" y="213"/>
                </a:lnTo>
                <a:lnTo>
                  <a:pt x="143" y="215"/>
                </a:lnTo>
                <a:lnTo>
                  <a:pt x="155" y="219"/>
                </a:lnTo>
                <a:lnTo>
                  <a:pt x="166" y="221"/>
                </a:lnTo>
                <a:lnTo>
                  <a:pt x="178" y="224"/>
                </a:lnTo>
                <a:lnTo>
                  <a:pt x="190" y="211"/>
                </a:lnTo>
                <a:lnTo>
                  <a:pt x="201" y="197"/>
                </a:lnTo>
                <a:lnTo>
                  <a:pt x="209" y="182"/>
                </a:lnTo>
                <a:lnTo>
                  <a:pt x="221" y="170"/>
                </a:lnTo>
                <a:lnTo>
                  <a:pt x="228" y="159"/>
                </a:lnTo>
                <a:lnTo>
                  <a:pt x="236" y="147"/>
                </a:lnTo>
                <a:lnTo>
                  <a:pt x="242" y="135"/>
                </a:lnTo>
                <a:lnTo>
                  <a:pt x="250" y="124"/>
                </a:lnTo>
                <a:lnTo>
                  <a:pt x="254" y="110"/>
                </a:lnTo>
                <a:lnTo>
                  <a:pt x="258" y="97"/>
                </a:lnTo>
                <a:lnTo>
                  <a:pt x="263" y="85"/>
                </a:lnTo>
                <a:lnTo>
                  <a:pt x="269" y="73"/>
                </a:lnTo>
                <a:lnTo>
                  <a:pt x="275" y="73"/>
                </a:lnTo>
                <a:lnTo>
                  <a:pt x="283" y="81"/>
                </a:lnTo>
                <a:lnTo>
                  <a:pt x="279" y="98"/>
                </a:lnTo>
                <a:lnTo>
                  <a:pt x="277" y="116"/>
                </a:lnTo>
                <a:lnTo>
                  <a:pt x="271" y="131"/>
                </a:lnTo>
                <a:lnTo>
                  <a:pt x="265" y="149"/>
                </a:lnTo>
                <a:lnTo>
                  <a:pt x="259" y="160"/>
                </a:lnTo>
                <a:lnTo>
                  <a:pt x="254" y="176"/>
                </a:lnTo>
                <a:lnTo>
                  <a:pt x="248" y="192"/>
                </a:lnTo>
                <a:lnTo>
                  <a:pt x="244" y="207"/>
                </a:lnTo>
                <a:lnTo>
                  <a:pt x="238" y="221"/>
                </a:lnTo>
                <a:lnTo>
                  <a:pt x="232" y="234"/>
                </a:lnTo>
                <a:lnTo>
                  <a:pt x="225" y="248"/>
                </a:lnTo>
                <a:lnTo>
                  <a:pt x="219" y="261"/>
                </a:lnTo>
                <a:lnTo>
                  <a:pt x="230" y="271"/>
                </a:lnTo>
                <a:lnTo>
                  <a:pt x="246" y="283"/>
                </a:lnTo>
                <a:lnTo>
                  <a:pt x="261" y="290"/>
                </a:lnTo>
                <a:lnTo>
                  <a:pt x="279" y="300"/>
                </a:lnTo>
                <a:lnTo>
                  <a:pt x="296" y="306"/>
                </a:lnTo>
                <a:lnTo>
                  <a:pt x="314" y="312"/>
                </a:lnTo>
                <a:lnTo>
                  <a:pt x="331" y="318"/>
                </a:lnTo>
                <a:lnTo>
                  <a:pt x="351" y="323"/>
                </a:lnTo>
                <a:lnTo>
                  <a:pt x="366" y="327"/>
                </a:lnTo>
                <a:lnTo>
                  <a:pt x="384" y="333"/>
                </a:lnTo>
                <a:lnTo>
                  <a:pt x="399" y="341"/>
                </a:lnTo>
                <a:lnTo>
                  <a:pt x="417" y="349"/>
                </a:lnTo>
                <a:lnTo>
                  <a:pt x="432" y="352"/>
                </a:lnTo>
                <a:lnTo>
                  <a:pt x="450" y="358"/>
                </a:lnTo>
                <a:lnTo>
                  <a:pt x="467" y="362"/>
                </a:lnTo>
                <a:lnTo>
                  <a:pt x="484" y="368"/>
                </a:lnTo>
                <a:lnTo>
                  <a:pt x="486" y="354"/>
                </a:lnTo>
                <a:lnTo>
                  <a:pt x="488" y="343"/>
                </a:lnTo>
                <a:lnTo>
                  <a:pt x="490" y="329"/>
                </a:lnTo>
                <a:lnTo>
                  <a:pt x="494" y="318"/>
                </a:lnTo>
                <a:lnTo>
                  <a:pt x="496" y="304"/>
                </a:lnTo>
                <a:lnTo>
                  <a:pt x="500" y="292"/>
                </a:lnTo>
                <a:lnTo>
                  <a:pt x="502" y="279"/>
                </a:lnTo>
                <a:lnTo>
                  <a:pt x="506" y="267"/>
                </a:lnTo>
                <a:lnTo>
                  <a:pt x="508" y="254"/>
                </a:lnTo>
                <a:lnTo>
                  <a:pt x="510" y="242"/>
                </a:lnTo>
                <a:lnTo>
                  <a:pt x="512" y="228"/>
                </a:lnTo>
                <a:lnTo>
                  <a:pt x="515" y="217"/>
                </a:lnTo>
                <a:lnTo>
                  <a:pt x="517" y="203"/>
                </a:lnTo>
                <a:lnTo>
                  <a:pt x="521" y="192"/>
                </a:lnTo>
                <a:lnTo>
                  <a:pt x="523" y="180"/>
                </a:lnTo>
                <a:lnTo>
                  <a:pt x="527" y="168"/>
                </a:lnTo>
                <a:close/>
              </a:path>
            </a:pathLst>
          </a:custGeom>
          <a:solidFill>
            <a:srgbClr val="14a6f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88" name=""/>
          <p:cNvSpPr/>
          <p:nvPr/>
        </p:nvSpPr>
        <p:spPr>
          <a:xfrm>
            <a:off x="4241880" y="5200560"/>
            <a:ext cx="257040" cy="142920"/>
          </a:xfrm>
          <a:custGeom>
            <a:avLst/>
            <a:gdLst/>
            <a:ahLst/>
            <a:rect l="l" t="t" r="r" b="b"/>
            <a:pathLst>
              <a:path w="326" h="180">
                <a:moveTo>
                  <a:pt x="326" y="13"/>
                </a:moveTo>
                <a:lnTo>
                  <a:pt x="308" y="21"/>
                </a:lnTo>
                <a:lnTo>
                  <a:pt x="291" y="31"/>
                </a:lnTo>
                <a:lnTo>
                  <a:pt x="273" y="38"/>
                </a:lnTo>
                <a:lnTo>
                  <a:pt x="256" y="46"/>
                </a:lnTo>
                <a:lnTo>
                  <a:pt x="239" y="52"/>
                </a:lnTo>
                <a:lnTo>
                  <a:pt x="221" y="60"/>
                </a:lnTo>
                <a:lnTo>
                  <a:pt x="204" y="67"/>
                </a:lnTo>
                <a:lnTo>
                  <a:pt x="186" y="75"/>
                </a:lnTo>
                <a:lnTo>
                  <a:pt x="169" y="81"/>
                </a:lnTo>
                <a:lnTo>
                  <a:pt x="151" y="87"/>
                </a:lnTo>
                <a:lnTo>
                  <a:pt x="134" y="95"/>
                </a:lnTo>
                <a:lnTo>
                  <a:pt x="118" y="106"/>
                </a:lnTo>
                <a:lnTo>
                  <a:pt x="101" y="114"/>
                </a:lnTo>
                <a:lnTo>
                  <a:pt x="85" y="126"/>
                </a:lnTo>
                <a:lnTo>
                  <a:pt x="70" y="137"/>
                </a:lnTo>
                <a:lnTo>
                  <a:pt x="56" y="155"/>
                </a:lnTo>
                <a:lnTo>
                  <a:pt x="45" y="164"/>
                </a:lnTo>
                <a:lnTo>
                  <a:pt x="31" y="176"/>
                </a:lnTo>
                <a:lnTo>
                  <a:pt x="16" y="180"/>
                </a:lnTo>
                <a:lnTo>
                  <a:pt x="0" y="180"/>
                </a:lnTo>
                <a:lnTo>
                  <a:pt x="4" y="160"/>
                </a:lnTo>
                <a:lnTo>
                  <a:pt x="17" y="147"/>
                </a:lnTo>
                <a:lnTo>
                  <a:pt x="33" y="135"/>
                </a:lnTo>
                <a:lnTo>
                  <a:pt x="48" y="124"/>
                </a:lnTo>
                <a:lnTo>
                  <a:pt x="58" y="114"/>
                </a:lnTo>
                <a:lnTo>
                  <a:pt x="70" y="108"/>
                </a:lnTo>
                <a:lnTo>
                  <a:pt x="81" y="100"/>
                </a:lnTo>
                <a:lnTo>
                  <a:pt x="93" y="95"/>
                </a:lnTo>
                <a:lnTo>
                  <a:pt x="105" y="89"/>
                </a:lnTo>
                <a:lnTo>
                  <a:pt x="116" y="83"/>
                </a:lnTo>
                <a:lnTo>
                  <a:pt x="128" y="77"/>
                </a:lnTo>
                <a:lnTo>
                  <a:pt x="142" y="73"/>
                </a:lnTo>
                <a:lnTo>
                  <a:pt x="151" y="67"/>
                </a:lnTo>
                <a:lnTo>
                  <a:pt x="163" y="62"/>
                </a:lnTo>
                <a:lnTo>
                  <a:pt x="175" y="56"/>
                </a:lnTo>
                <a:lnTo>
                  <a:pt x="186" y="50"/>
                </a:lnTo>
                <a:lnTo>
                  <a:pt x="196" y="42"/>
                </a:lnTo>
                <a:lnTo>
                  <a:pt x="208" y="34"/>
                </a:lnTo>
                <a:lnTo>
                  <a:pt x="219" y="27"/>
                </a:lnTo>
                <a:lnTo>
                  <a:pt x="231" y="19"/>
                </a:lnTo>
                <a:lnTo>
                  <a:pt x="239" y="9"/>
                </a:lnTo>
                <a:lnTo>
                  <a:pt x="250" y="3"/>
                </a:lnTo>
                <a:lnTo>
                  <a:pt x="264" y="0"/>
                </a:lnTo>
                <a:lnTo>
                  <a:pt x="277" y="0"/>
                </a:lnTo>
                <a:lnTo>
                  <a:pt x="289" y="0"/>
                </a:lnTo>
                <a:lnTo>
                  <a:pt x="303" y="3"/>
                </a:lnTo>
                <a:lnTo>
                  <a:pt x="314" y="7"/>
                </a:lnTo>
                <a:lnTo>
                  <a:pt x="326" y="13"/>
                </a:lnTo>
                <a:close/>
              </a:path>
            </a:pathLst>
          </a:custGeom>
          <a:solidFill>
            <a:srgbClr val="ffb39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89" name=""/>
          <p:cNvSpPr/>
          <p:nvPr/>
        </p:nvSpPr>
        <p:spPr>
          <a:xfrm>
            <a:off x="4871880" y="5213520"/>
            <a:ext cx="152640" cy="64800"/>
          </a:xfrm>
          <a:custGeom>
            <a:avLst/>
            <a:gdLst/>
            <a:ahLst/>
            <a:rect l="l" t="t" r="r" b="b"/>
            <a:pathLst>
              <a:path w="192" h="83">
                <a:moveTo>
                  <a:pt x="60" y="43"/>
                </a:moveTo>
                <a:lnTo>
                  <a:pt x="76" y="45"/>
                </a:lnTo>
                <a:lnTo>
                  <a:pt x="93" y="49"/>
                </a:lnTo>
                <a:lnTo>
                  <a:pt x="111" y="50"/>
                </a:lnTo>
                <a:lnTo>
                  <a:pt x="128" y="54"/>
                </a:lnTo>
                <a:lnTo>
                  <a:pt x="144" y="56"/>
                </a:lnTo>
                <a:lnTo>
                  <a:pt x="161" y="60"/>
                </a:lnTo>
                <a:lnTo>
                  <a:pt x="177" y="66"/>
                </a:lnTo>
                <a:lnTo>
                  <a:pt x="192" y="74"/>
                </a:lnTo>
                <a:lnTo>
                  <a:pt x="182" y="82"/>
                </a:lnTo>
                <a:lnTo>
                  <a:pt x="167" y="83"/>
                </a:lnTo>
                <a:lnTo>
                  <a:pt x="149" y="82"/>
                </a:lnTo>
                <a:lnTo>
                  <a:pt x="134" y="82"/>
                </a:lnTo>
                <a:lnTo>
                  <a:pt x="122" y="80"/>
                </a:lnTo>
                <a:lnTo>
                  <a:pt x="111" y="80"/>
                </a:lnTo>
                <a:lnTo>
                  <a:pt x="99" y="78"/>
                </a:lnTo>
                <a:lnTo>
                  <a:pt x="87" y="78"/>
                </a:lnTo>
                <a:lnTo>
                  <a:pt x="76" y="76"/>
                </a:lnTo>
                <a:lnTo>
                  <a:pt x="64" y="74"/>
                </a:lnTo>
                <a:lnTo>
                  <a:pt x="53" y="74"/>
                </a:lnTo>
                <a:lnTo>
                  <a:pt x="43" y="76"/>
                </a:lnTo>
                <a:lnTo>
                  <a:pt x="39" y="64"/>
                </a:lnTo>
                <a:lnTo>
                  <a:pt x="33" y="58"/>
                </a:lnTo>
                <a:lnTo>
                  <a:pt x="23" y="52"/>
                </a:lnTo>
                <a:lnTo>
                  <a:pt x="18" y="49"/>
                </a:lnTo>
                <a:lnTo>
                  <a:pt x="6" y="47"/>
                </a:lnTo>
                <a:lnTo>
                  <a:pt x="0" y="39"/>
                </a:lnTo>
                <a:lnTo>
                  <a:pt x="6" y="27"/>
                </a:lnTo>
                <a:lnTo>
                  <a:pt x="18" y="19"/>
                </a:lnTo>
                <a:lnTo>
                  <a:pt x="27" y="10"/>
                </a:lnTo>
                <a:lnTo>
                  <a:pt x="37" y="0"/>
                </a:lnTo>
                <a:lnTo>
                  <a:pt x="39" y="10"/>
                </a:lnTo>
                <a:lnTo>
                  <a:pt x="43" y="23"/>
                </a:lnTo>
                <a:lnTo>
                  <a:pt x="47" y="33"/>
                </a:lnTo>
                <a:lnTo>
                  <a:pt x="60" y="4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66"/>
              </a:solidFill>
              <a:latin typeface="Times New Roman"/>
            </a:endParaRPr>
          </a:p>
        </p:txBody>
      </p:sp>
      <p:sp>
        <p:nvSpPr>
          <p:cNvPr id="190" name=""/>
          <p:cNvSpPr/>
          <p:nvPr/>
        </p:nvSpPr>
        <p:spPr>
          <a:xfrm>
            <a:off x="4173480" y="5243400"/>
            <a:ext cx="322200" cy="187560"/>
          </a:xfrm>
          <a:custGeom>
            <a:avLst/>
            <a:gdLst/>
            <a:ahLst/>
            <a:rect l="l" t="t" r="r" b="b"/>
            <a:pathLst>
              <a:path w="407" h="236">
                <a:moveTo>
                  <a:pt x="407" y="19"/>
                </a:moveTo>
                <a:lnTo>
                  <a:pt x="388" y="25"/>
                </a:lnTo>
                <a:lnTo>
                  <a:pt x="368" y="33"/>
                </a:lnTo>
                <a:lnTo>
                  <a:pt x="351" y="41"/>
                </a:lnTo>
                <a:lnTo>
                  <a:pt x="333" y="50"/>
                </a:lnTo>
                <a:lnTo>
                  <a:pt x="316" y="58"/>
                </a:lnTo>
                <a:lnTo>
                  <a:pt x="298" y="68"/>
                </a:lnTo>
                <a:lnTo>
                  <a:pt x="281" y="77"/>
                </a:lnTo>
                <a:lnTo>
                  <a:pt x="265" y="89"/>
                </a:lnTo>
                <a:lnTo>
                  <a:pt x="248" y="99"/>
                </a:lnTo>
                <a:lnTo>
                  <a:pt x="230" y="108"/>
                </a:lnTo>
                <a:lnTo>
                  <a:pt x="213" y="118"/>
                </a:lnTo>
                <a:lnTo>
                  <a:pt x="197" y="130"/>
                </a:lnTo>
                <a:lnTo>
                  <a:pt x="180" y="138"/>
                </a:lnTo>
                <a:lnTo>
                  <a:pt x="163" y="147"/>
                </a:lnTo>
                <a:lnTo>
                  <a:pt x="145" y="157"/>
                </a:lnTo>
                <a:lnTo>
                  <a:pt x="128" y="167"/>
                </a:lnTo>
                <a:lnTo>
                  <a:pt x="112" y="170"/>
                </a:lnTo>
                <a:lnTo>
                  <a:pt x="101" y="176"/>
                </a:lnTo>
                <a:lnTo>
                  <a:pt x="89" y="184"/>
                </a:lnTo>
                <a:lnTo>
                  <a:pt x="77" y="194"/>
                </a:lnTo>
                <a:lnTo>
                  <a:pt x="66" y="201"/>
                </a:lnTo>
                <a:lnTo>
                  <a:pt x="56" y="213"/>
                </a:lnTo>
                <a:lnTo>
                  <a:pt x="46" y="225"/>
                </a:lnTo>
                <a:lnTo>
                  <a:pt x="38" y="236"/>
                </a:lnTo>
                <a:lnTo>
                  <a:pt x="27" y="227"/>
                </a:lnTo>
                <a:lnTo>
                  <a:pt x="13" y="231"/>
                </a:lnTo>
                <a:lnTo>
                  <a:pt x="7" y="231"/>
                </a:lnTo>
                <a:lnTo>
                  <a:pt x="2" y="233"/>
                </a:lnTo>
                <a:lnTo>
                  <a:pt x="0" y="229"/>
                </a:lnTo>
                <a:lnTo>
                  <a:pt x="2" y="221"/>
                </a:lnTo>
                <a:lnTo>
                  <a:pt x="15" y="207"/>
                </a:lnTo>
                <a:lnTo>
                  <a:pt x="31" y="196"/>
                </a:lnTo>
                <a:lnTo>
                  <a:pt x="48" y="184"/>
                </a:lnTo>
                <a:lnTo>
                  <a:pt x="66" y="174"/>
                </a:lnTo>
                <a:lnTo>
                  <a:pt x="83" y="163"/>
                </a:lnTo>
                <a:lnTo>
                  <a:pt x="101" y="153"/>
                </a:lnTo>
                <a:lnTo>
                  <a:pt x="118" y="141"/>
                </a:lnTo>
                <a:lnTo>
                  <a:pt x="135" y="132"/>
                </a:lnTo>
                <a:lnTo>
                  <a:pt x="147" y="120"/>
                </a:lnTo>
                <a:lnTo>
                  <a:pt x="161" y="108"/>
                </a:lnTo>
                <a:lnTo>
                  <a:pt x="174" y="99"/>
                </a:lnTo>
                <a:lnTo>
                  <a:pt x="188" y="91"/>
                </a:lnTo>
                <a:lnTo>
                  <a:pt x="201" y="81"/>
                </a:lnTo>
                <a:lnTo>
                  <a:pt x="215" y="74"/>
                </a:lnTo>
                <a:lnTo>
                  <a:pt x="229" y="64"/>
                </a:lnTo>
                <a:lnTo>
                  <a:pt x="244" y="58"/>
                </a:lnTo>
                <a:lnTo>
                  <a:pt x="258" y="48"/>
                </a:lnTo>
                <a:lnTo>
                  <a:pt x="273" y="41"/>
                </a:lnTo>
                <a:lnTo>
                  <a:pt x="287" y="33"/>
                </a:lnTo>
                <a:lnTo>
                  <a:pt x="302" y="27"/>
                </a:lnTo>
                <a:lnTo>
                  <a:pt x="318" y="19"/>
                </a:lnTo>
                <a:lnTo>
                  <a:pt x="333" y="11"/>
                </a:lnTo>
                <a:lnTo>
                  <a:pt x="349" y="6"/>
                </a:lnTo>
                <a:lnTo>
                  <a:pt x="366" y="0"/>
                </a:lnTo>
                <a:lnTo>
                  <a:pt x="376" y="2"/>
                </a:lnTo>
                <a:lnTo>
                  <a:pt x="389" y="4"/>
                </a:lnTo>
                <a:lnTo>
                  <a:pt x="401" y="6"/>
                </a:lnTo>
                <a:lnTo>
                  <a:pt x="407" y="19"/>
                </a:lnTo>
                <a:close/>
              </a:path>
            </a:pathLst>
          </a:custGeom>
          <a:solidFill>
            <a:srgbClr val="ffb39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91" name=""/>
          <p:cNvSpPr/>
          <p:nvPr/>
        </p:nvSpPr>
        <p:spPr>
          <a:xfrm>
            <a:off x="4206960" y="5300640"/>
            <a:ext cx="279360" cy="160200"/>
          </a:xfrm>
          <a:custGeom>
            <a:avLst/>
            <a:gdLst/>
            <a:ahLst/>
            <a:rect l="l" t="t" r="r" b="b"/>
            <a:pathLst>
              <a:path w="351" h="201">
                <a:moveTo>
                  <a:pt x="351" y="33"/>
                </a:moveTo>
                <a:lnTo>
                  <a:pt x="342" y="44"/>
                </a:lnTo>
                <a:lnTo>
                  <a:pt x="332" y="58"/>
                </a:lnTo>
                <a:lnTo>
                  <a:pt x="320" y="67"/>
                </a:lnTo>
                <a:lnTo>
                  <a:pt x="311" y="79"/>
                </a:lnTo>
                <a:lnTo>
                  <a:pt x="297" y="87"/>
                </a:lnTo>
                <a:lnTo>
                  <a:pt x="285" y="95"/>
                </a:lnTo>
                <a:lnTo>
                  <a:pt x="272" y="100"/>
                </a:lnTo>
                <a:lnTo>
                  <a:pt x="260" y="108"/>
                </a:lnTo>
                <a:lnTo>
                  <a:pt x="245" y="114"/>
                </a:lnTo>
                <a:lnTo>
                  <a:pt x="231" y="120"/>
                </a:lnTo>
                <a:lnTo>
                  <a:pt x="216" y="126"/>
                </a:lnTo>
                <a:lnTo>
                  <a:pt x="204" y="131"/>
                </a:lnTo>
                <a:lnTo>
                  <a:pt x="188" y="137"/>
                </a:lnTo>
                <a:lnTo>
                  <a:pt x="175" y="143"/>
                </a:lnTo>
                <a:lnTo>
                  <a:pt x="163" y="149"/>
                </a:lnTo>
                <a:lnTo>
                  <a:pt x="152" y="157"/>
                </a:lnTo>
                <a:lnTo>
                  <a:pt x="132" y="164"/>
                </a:lnTo>
                <a:lnTo>
                  <a:pt x="115" y="172"/>
                </a:lnTo>
                <a:lnTo>
                  <a:pt x="97" y="180"/>
                </a:lnTo>
                <a:lnTo>
                  <a:pt x="80" y="190"/>
                </a:lnTo>
                <a:lnTo>
                  <a:pt x="60" y="193"/>
                </a:lnTo>
                <a:lnTo>
                  <a:pt x="41" y="197"/>
                </a:lnTo>
                <a:lnTo>
                  <a:pt x="22" y="199"/>
                </a:lnTo>
                <a:lnTo>
                  <a:pt x="4" y="201"/>
                </a:lnTo>
                <a:lnTo>
                  <a:pt x="0" y="190"/>
                </a:lnTo>
                <a:lnTo>
                  <a:pt x="4" y="182"/>
                </a:lnTo>
                <a:lnTo>
                  <a:pt x="10" y="172"/>
                </a:lnTo>
                <a:lnTo>
                  <a:pt x="16" y="164"/>
                </a:lnTo>
                <a:lnTo>
                  <a:pt x="20" y="162"/>
                </a:lnTo>
                <a:lnTo>
                  <a:pt x="29" y="157"/>
                </a:lnTo>
                <a:lnTo>
                  <a:pt x="39" y="147"/>
                </a:lnTo>
                <a:lnTo>
                  <a:pt x="49" y="143"/>
                </a:lnTo>
                <a:lnTo>
                  <a:pt x="60" y="133"/>
                </a:lnTo>
                <a:lnTo>
                  <a:pt x="74" y="126"/>
                </a:lnTo>
                <a:lnTo>
                  <a:pt x="88" y="118"/>
                </a:lnTo>
                <a:lnTo>
                  <a:pt x="105" y="112"/>
                </a:lnTo>
                <a:lnTo>
                  <a:pt x="121" y="106"/>
                </a:lnTo>
                <a:lnTo>
                  <a:pt x="136" y="104"/>
                </a:lnTo>
                <a:lnTo>
                  <a:pt x="152" y="104"/>
                </a:lnTo>
                <a:lnTo>
                  <a:pt x="169" y="108"/>
                </a:lnTo>
                <a:lnTo>
                  <a:pt x="181" y="89"/>
                </a:lnTo>
                <a:lnTo>
                  <a:pt x="196" y="75"/>
                </a:lnTo>
                <a:lnTo>
                  <a:pt x="214" y="62"/>
                </a:lnTo>
                <a:lnTo>
                  <a:pt x="233" y="52"/>
                </a:lnTo>
                <a:lnTo>
                  <a:pt x="251" y="40"/>
                </a:lnTo>
                <a:lnTo>
                  <a:pt x="272" y="29"/>
                </a:lnTo>
                <a:lnTo>
                  <a:pt x="289" y="17"/>
                </a:lnTo>
                <a:lnTo>
                  <a:pt x="311" y="7"/>
                </a:lnTo>
                <a:lnTo>
                  <a:pt x="324" y="0"/>
                </a:lnTo>
                <a:lnTo>
                  <a:pt x="342" y="5"/>
                </a:lnTo>
                <a:lnTo>
                  <a:pt x="351" y="15"/>
                </a:lnTo>
                <a:lnTo>
                  <a:pt x="351" y="33"/>
                </a:lnTo>
                <a:close/>
              </a:path>
            </a:pathLst>
          </a:custGeom>
          <a:solidFill>
            <a:srgbClr val="ffb39e"/>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92" name=""/>
          <p:cNvSpPr/>
          <p:nvPr/>
        </p:nvSpPr>
        <p:spPr>
          <a:xfrm>
            <a:off x="5011560" y="5391000"/>
            <a:ext cx="11160" cy="14400"/>
          </a:xfrm>
          <a:custGeom>
            <a:avLst/>
            <a:gdLst/>
            <a:ahLst/>
            <a:rect l="l" t="t" r="r" b="b"/>
            <a:pathLst>
              <a:path w="13" h="17">
                <a:moveTo>
                  <a:pt x="4" y="17"/>
                </a:moveTo>
                <a:lnTo>
                  <a:pt x="0" y="8"/>
                </a:lnTo>
                <a:lnTo>
                  <a:pt x="2" y="0"/>
                </a:lnTo>
                <a:lnTo>
                  <a:pt x="13" y="0"/>
                </a:lnTo>
                <a:lnTo>
                  <a:pt x="4" y="17"/>
                </a:lnTo>
                <a:close/>
              </a:path>
            </a:pathLst>
          </a:custGeom>
          <a:solidFill>
            <a:srgbClr val="14b0f2"/>
          </a:solidFill>
          <a:ln w="0">
            <a:noFill/>
          </a:ln>
        </p:spPr>
        <p:style>
          <a:lnRef idx="0"/>
          <a:fillRef idx="0"/>
          <a:effectRef idx="0"/>
          <a:fontRef idx="minor"/>
        </p:style>
        <p:txBody>
          <a:bodyPr lIns="90000" rIns="90000" tIns="-32400" bIns="-32400" anchor="t">
            <a:noAutofit/>
          </a:bodyPr>
          <a:p>
            <a:endParaRPr b="0" lang="en-US" sz="2400" spc="-1" strike="noStrike">
              <a:solidFill>
                <a:srgbClr val="ffff66"/>
              </a:solidFill>
              <a:latin typeface="Times New Roman"/>
            </a:endParaRPr>
          </a:p>
        </p:txBody>
      </p:sp>
      <p:sp>
        <p:nvSpPr>
          <p:cNvPr id="193" name=""/>
          <p:cNvSpPr/>
          <p:nvPr/>
        </p:nvSpPr>
        <p:spPr>
          <a:xfrm>
            <a:off x="3708360" y="3273480"/>
            <a:ext cx="63720" cy="166680"/>
          </a:xfrm>
          <a:custGeom>
            <a:avLst/>
            <a:gdLst/>
            <a:ahLst/>
            <a:rect l="l" t="t" r="r" b="b"/>
            <a:pathLst>
              <a:path w="79" h="209">
                <a:moveTo>
                  <a:pt x="8" y="0"/>
                </a:moveTo>
                <a:lnTo>
                  <a:pt x="6" y="2"/>
                </a:lnTo>
                <a:lnTo>
                  <a:pt x="0" y="6"/>
                </a:lnTo>
                <a:lnTo>
                  <a:pt x="2" y="23"/>
                </a:lnTo>
                <a:lnTo>
                  <a:pt x="2" y="35"/>
                </a:lnTo>
                <a:lnTo>
                  <a:pt x="4" y="50"/>
                </a:lnTo>
                <a:lnTo>
                  <a:pt x="4" y="64"/>
                </a:lnTo>
                <a:lnTo>
                  <a:pt x="8" y="79"/>
                </a:lnTo>
                <a:lnTo>
                  <a:pt x="10" y="93"/>
                </a:lnTo>
                <a:lnTo>
                  <a:pt x="14" y="109"/>
                </a:lnTo>
                <a:lnTo>
                  <a:pt x="15" y="122"/>
                </a:lnTo>
                <a:lnTo>
                  <a:pt x="19" y="138"/>
                </a:lnTo>
                <a:lnTo>
                  <a:pt x="23" y="149"/>
                </a:lnTo>
                <a:lnTo>
                  <a:pt x="23" y="167"/>
                </a:lnTo>
                <a:lnTo>
                  <a:pt x="19" y="180"/>
                </a:lnTo>
                <a:lnTo>
                  <a:pt x="14" y="194"/>
                </a:lnTo>
                <a:lnTo>
                  <a:pt x="12" y="196"/>
                </a:lnTo>
                <a:lnTo>
                  <a:pt x="15" y="200"/>
                </a:lnTo>
                <a:lnTo>
                  <a:pt x="17" y="200"/>
                </a:lnTo>
                <a:lnTo>
                  <a:pt x="27" y="204"/>
                </a:lnTo>
                <a:lnTo>
                  <a:pt x="37" y="207"/>
                </a:lnTo>
                <a:lnTo>
                  <a:pt x="50" y="209"/>
                </a:lnTo>
                <a:lnTo>
                  <a:pt x="60" y="205"/>
                </a:lnTo>
                <a:lnTo>
                  <a:pt x="72" y="200"/>
                </a:lnTo>
                <a:lnTo>
                  <a:pt x="74" y="192"/>
                </a:lnTo>
                <a:lnTo>
                  <a:pt x="78" y="186"/>
                </a:lnTo>
                <a:lnTo>
                  <a:pt x="78" y="178"/>
                </a:lnTo>
                <a:lnTo>
                  <a:pt x="79" y="169"/>
                </a:lnTo>
                <a:lnTo>
                  <a:pt x="76" y="155"/>
                </a:lnTo>
                <a:lnTo>
                  <a:pt x="72" y="143"/>
                </a:lnTo>
                <a:lnTo>
                  <a:pt x="68" y="132"/>
                </a:lnTo>
                <a:lnTo>
                  <a:pt x="64" y="122"/>
                </a:lnTo>
                <a:lnTo>
                  <a:pt x="54" y="101"/>
                </a:lnTo>
                <a:lnTo>
                  <a:pt x="47" y="83"/>
                </a:lnTo>
                <a:lnTo>
                  <a:pt x="37" y="64"/>
                </a:lnTo>
                <a:lnTo>
                  <a:pt x="27" y="45"/>
                </a:lnTo>
                <a:lnTo>
                  <a:pt x="21" y="33"/>
                </a:lnTo>
                <a:lnTo>
                  <a:pt x="15" y="23"/>
                </a:lnTo>
                <a:lnTo>
                  <a:pt x="12" y="12"/>
                </a:lnTo>
                <a:lnTo>
                  <a:pt x="8" y="0"/>
                </a:lnTo>
                <a:close/>
              </a:path>
            </a:pathLst>
          </a:custGeom>
          <a:solidFill>
            <a:srgbClr val="ffded6"/>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94" name=""/>
          <p:cNvSpPr/>
          <p:nvPr/>
        </p:nvSpPr>
        <p:spPr>
          <a:xfrm>
            <a:off x="3662280" y="3394080"/>
            <a:ext cx="19080" cy="38160"/>
          </a:xfrm>
          <a:custGeom>
            <a:avLst/>
            <a:gdLst/>
            <a:ahLst/>
            <a:rect l="l" t="t" r="r" b="b"/>
            <a:pathLst>
              <a:path w="23" h="49">
                <a:moveTo>
                  <a:pt x="15" y="49"/>
                </a:moveTo>
                <a:lnTo>
                  <a:pt x="8" y="41"/>
                </a:lnTo>
                <a:lnTo>
                  <a:pt x="2" y="31"/>
                </a:lnTo>
                <a:lnTo>
                  <a:pt x="0" y="20"/>
                </a:lnTo>
                <a:lnTo>
                  <a:pt x="4" y="8"/>
                </a:lnTo>
                <a:lnTo>
                  <a:pt x="11" y="0"/>
                </a:lnTo>
                <a:lnTo>
                  <a:pt x="19" y="0"/>
                </a:lnTo>
                <a:lnTo>
                  <a:pt x="23" y="6"/>
                </a:lnTo>
                <a:lnTo>
                  <a:pt x="19" y="18"/>
                </a:lnTo>
                <a:lnTo>
                  <a:pt x="11" y="31"/>
                </a:lnTo>
                <a:lnTo>
                  <a:pt x="15" y="49"/>
                </a:lnTo>
                <a:close/>
              </a:path>
            </a:pathLst>
          </a:custGeom>
          <a:solidFill>
            <a:srgbClr val="ffded6"/>
          </a:solidFill>
          <a:ln w="0">
            <a:noFill/>
          </a:ln>
        </p:spPr>
        <p:style>
          <a:lnRef idx="0"/>
          <a:fillRef idx="0"/>
          <a:effectRef idx="0"/>
          <a:fontRef idx="minor"/>
        </p:style>
        <p:txBody>
          <a:bodyPr lIns="90000" rIns="90000" tIns="-8640" bIns="-8640" anchor="t">
            <a:noAutofit/>
          </a:bodyPr>
          <a:p>
            <a:endParaRPr b="0" lang="en-US" sz="2400" spc="-1" strike="noStrike">
              <a:solidFill>
                <a:srgbClr val="ffff66"/>
              </a:solidFill>
              <a:latin typeface="Times New Roman"/>
            </a:endParaRPr>
          </a:p>
        </p:txBody>
      </p:sp>
      <p:sp>
        <p:nvSpPr>
          <p:cNvPr id="195" name=""/>
          <p:cNvSpPr/>
          <p:nvPr/>
        </p:nvSpPr>
        <p:spPr>
          <a:xfrm>
            <a:off x="3652920" y="3476520"/>
            <a:ext cx="38160" cy="65160"/>
          </a:xfrm>
          <a:custGeom>
            <a:avLst/>
            <a:gdLst/>
            <a:ahLst/>
            <a:rect l="l" t="t" r="r" b="b"/>
            <a:pathLst>
              <a:path w="49" h="81">
                <a:moveTo>
                  <a:pt x="0" y="15"/>
                </a:moveTo>
                <a:lnTo>
                  <a:pt x="12" y="23"/>
                </a:lnTo>
                <a:lnTo>
                  <a:pt x="25" y="37"/>
                </a:lnTo>
                <a:lnTo>
                  <a:pt x="33" y="52"/>
                </a:lnTo>
                <a:lnTo>
                  <a:pt x="37" y="70"/>
                </a:lnTo>
                <a:lnTo>
                  <a:pt x="39" y="74"/>
                </a:lnTo>
                <a:lnTo>
                  <a:pt x="45" y="81"/>
                </a:lnTo>
                <a:lnTo>
                  <a:pt x="43" y="70"/>
                </a:lnTo>
                <a:lnTo>
                  <a:pt x="43" y="58"/>
                </a:lnTo>
                <a:lnTo>
                  <a:pt x="43" y="46"/>
                </a:lnTo>
                <a:lnTo>
                  <a:pt x="45" y="37"/>
                </a:lnTo>
                <a:lnTo>
                  <a:pt x="47" y="17"/>
                </a:lnTo>
                <a:lnTo>
                  <a:pt x="49" y="0"/>
                </a:lnTo>
                <a:lnTo>
                  <a:pt x="27" y="0"/>
                </a:lnTo>
                <a:lnTo>
                  <a:pt x="14" y="10"/>
                </a:lnTo>
                <a:lnTo>
                  <a:pt x="0" y="15"/>
                </a:lnTo>
                <a:close/>
              </a:path>
            </a:pathLst>
          </a:custGeom>
          <a:solidFill>
            <a:srgbClr val="e66e5c"/>
          </a:solidFill>
          <a:ln w="0">
            <a:noFill/>
          </a:ln>
        </p:spPr>
        <p:style>
          <a:lnRef idx="0"/>
          <a:fillRef idx="0"/>
          <a:effectRef idx="0"/>
          <a:fontRef idx="minor"/>
        </p:style>
        <p:txBody>
          <a:bodyPr lIns="90000" rIns="90000" tIns="18360" bIns="18360" anchor="t">
            <a:noAutofit/>
          </a:bodyPr>
          <a:p>
            <a:endParaRPr b="0" lang="en-US" sz="2400" spc="-1" strike="noStrike">
              <a:solidFill>
                <a:srgbClr val="ffff66"/>
              </a:solidFill>
              <a:latin typeface="Times New Roman"/>
            </a:endParaRPr>
          </a:p>
        </p:txBody>
      </p:sp>
      <p:sp>
        <p:nvSpPr>
          <p:cNvPr id="196" name=""/>
          <p:cNvSpPr/>
          <p:nvPr/>
        </p:nvSpPr>
        <p:spPr>
          <a:xfrm>
            <a:off x="3429000" y="3247920"/>
            <a:ext cx="200160" cy="176400"/>
          </a:xfrm>
          <a:custGeom>
            <a:avLst/>
            <a:gdLst/>
            <a:ahLst/>
            <a:rect l="l" t="t" r="r" b="b"/>
            <a:pathLst>
              <a:path w="250" h="221">
                <a:moveTo>
                  <a:pt x="250" y="50"/>
                </a:moveTo>
                <a:lnTo>
                  <a:pt x="248" y="62"/>
                </a:lnTo>
                <a:lnTo>
                  <a:pt x="248" y="77"/>
                </a:lnTo>
                <a:lnTo>
                  <a:pt x="242" y="93"/>
                </a:lnTo>
                <a:lnTo>
                  <a:pt x="238" y="108"/>
                </a:lnTo>
                <a:lnTo>
                  <a:pt x="231" y="124"/>
                </a:lnTo>
                <a:lnTo>
                  <a:pt x="223" y="140"/>
                </a:lnTo>
                <a:lnTo>
                  <a:pt x="213" y="153"/>
                </a:lnTo>
                <a:lnTo>
                  <a:pt x="206" y="169"/>
                </a:lnTo>
                <a:lnTo>
                  <a:pt x="192" y="180"/>
                </a:lnTo>
                <a:lnTo>
                  <a:pt x="180" y="192"/>
                </a:lnTo>
                <a:lnTo>
                  <a:pt x="167" y="200"/>
                </a:lnTo>
                <a:lnTo>
                  <a:pt x="153" y="209"/>
                </a:lnTo>
                <a:lnTo>
                  <a:pt x="138" y="213"/>
                </a:lnTo>
                <a:lnTo>
                  <a:pt x="122" y="219"/>
                </a:lnTo>
                <a:lnTo>
                  <a:pt x="107" y="219"/>
                </a:lnTo>
                <a:lnTo>
                  <a:pt x="93" y="221"/>
                </a:lnTo>
                <a:lnTo>
                  <a:pt x="72" y="213"/>
                </a:lnTo>
                <a:lnTo>
                  <a:pt x="52" y="198"/>
                </a:lnTo>
                <a:lnTo>
                  <a:pt x="43" y="186"/>
                </a:lnTo>
                <a:lnTo>
                  <a:pt x="35" y="174"/>
                </a:lnTo>
                <a:lnTo>
                  <a:pt x="25" y="161"/>
                </a:lnTo>
                <a:lnTo>
                  <a:pt x="19" y="147"/>
                </a:lnTo>
                <a:lnTo>
                  <a:pt x="12" y="130"/>
                </a:lnTo>
                <a:lnTo>
                  <a:pt x="8" y="114"/>
                </a:lnTo>
                <a:lnTo>
                  <a:pt x="2" y="99"/>
                </a:lnTo>
                <a:lnTo>
                  <a:pt x="2" y="85"/>
                </a:lnTo>
                <a:lnTo>
                  <a:pt x="0" y="70"/>
                </a:lnTo>
                <a:lnTo>
                  <a:pt x="2" y="58"/>
                </a:lnTo>
                <a:lnTo>
                  <a:pt x="8" y="46"/>
                </a:lnTo>
                <a:lnTo>
                  <a:pt x="15" y="39"/>
                </a:lnTo>
                <a:lnTo>
                  <a:pt x="19" y="33"/>
                </a:lnTo>
                <a:lnTo>
                  <a:pt x="27" y="27"/>
                </a:lnTo>
                <a:lnTo>
                  <a:pt x="37" y="21"/>
                </a:lnTo>
                <a:lnTo>
                  <a:pt x="48" y="17"/>
                </a:lnTo>
                <a:lnTo>
                  <a:pt x="60" y="12"/>
                </a:lnTo>
                <a:lnTo>
                  <a:pt x="76" y="8"/>
                </a:lnTo>
                <a:lnTo>
                  <a:pt x="89" y="4"/>
                </a:lnTo>
                <a:lnTo>
                  <a:pt x="107" y="4"/>
                </a:lnTo>
                <a:lnTo>
                  <a:pt x="122" y="0"/>
                </a:lnTo>
                <a:lnTo>
                  <a:pt x="138" y="0"/>
                </a:lnTo>
                <a:lnTo>
                  <a:pt x="153" y="0"/>
                </a:lnTo>
                <a:lnTo>
                  <a:pt x="171" y="2"/>
                </a:lnTo>
                <a:lnTo>
                  <a:pt x="186" y="4"/>
                </a:lnTo>
                <a:lnTo>
                  <a:pt x="202" y="8"/>
                </a:lnTo>
                <a:lnTo>
                  <a:pt x="215" y="13"/>
                </a:lnTo>
                <a:lnTo>
                  <a:pt x="229" y="21"/>
                </a:lnTo>
                <a:lnTo>
                  <a:pt x="240" y="27"/>
                </a:lnTo>
                <a:lnTo>
                  <a:pt x="248" y="37"/>
                </a:lnTo>
                <a:lnTo>
                  <a:pt x="250" y="44"/>
                </a:lnTo>
                <a:lnTo>
                  <a:pt x="250" y="50"/>
                </a:lnTo>
                <a:close/>
              </a:path>
            </a:pathLst>
          </a:custGeom>
          <a:solidFill>
            <a:srgbClr val="ffbaa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97" name=""/>
          <p:cNvSpPr/>
          <p:nvPr/>
        </p:nvSpPr>
        <p:spPr>
          <a:xfrm>
            <a:off x="3465360" y="3255840"/>
            <a:ext cx="155880" cy="141480"/>
          </a:xfrm>
          <a:custGeom>
            <a:avLst/>
            <a:gdLst/>
            <a:ahLst/>
            <a:rect l="l" t="t" r="r" b="b"/>
            <a:pathLst>
              <a:path w="195" h="176">
                <a:moveTo>
                  <a:pt x="195" y="38"/>
                </a:moveTo>
                <a:lnTo>
                  <a:pt x="193" y="50"/>
                </a:lnTo>
                <a:lnTo>
                  <a:pt x="193" y="62"/>
                </a:lnTo>
                <a:lnTo>
                  <a:pt x="190" y="73"/>
                </a:lnTo>
                <a:lnTo>
                  <a:pt x="186" y="85"/>
                </a:lnTo>
                <a:lnTo>
                  <a:pt x="180" y="97"/>
                </a:lnTo>
                <a:lnTo>
                  <a:pt x="174" y="108"/>
                </a:lnTo>
                <a:lnTo>
                  <a:pt x="166" y="120"/>
                </a:lnTo>
                <a:lnTo>
                  <a:pt x="159" y="133"/>
                </a:lnTo>
                <a:lnTo>
                  <a:pt x="147" y="141"/>
                </a:lnTo>
                <a:lnTo>
                  <a:pt x="137" y="151"/>
                </a:lnTo>
                <a:lnTo>
                  <a:pt x="126" y="159"/>
                </a:lnTo>
                <a:lnTo>
                  <a:pt x="116" y="166"/>
                </a:lnTo>
                <a:lnTo>
                  <a:pt x="104" y="170"/>
                </a:lnTo>
                <a:lnTo>
                  <a:pt x="93" y="174"/>
                </a:lnTo>
                <a:lnTo>
                  <a:pt x="81" y="174"/>
                </a:lnTo>
                <a:lnTo>
                  <a:pt x="69" y="176"/>
                </a:lnTo>
                <a:lnTo>
                  <a:pt x="54" y="168"/>
                </a:lnTo>
                <a:lnTo>
                  <a:pt x="38" y="157"/>
                </a:lnTo>
                <a:lnTo>
                  <a:pt x="31" y="147"/>
                </a:lnTo>
                <a:lnTo>
                  <a:pt x="23" y="139"/>
                </a:lnTo>
                <a:lnTo>
                  <a:pt x="17" y="128"/>
                </a:lnTo>
                <a:lnTo>
                  <a:pt x="13" y="118"/>
                </a:lnTo>
                <a:lnTo>
                  <a:pt x="7" y="104"/>
                </a:lnTo>
                <a:lnTo>
                  <a:pt x="3" y="93"/>
                </a:lnTo>
                <a:lnTo>
                  <a:pt x="0" y="81"/>
                </a:lnTo>
                <a:lnTo>
                  <a:pt x="0" y="69"/>
                </a:lnTo>
                <a:lnTo>
                  <a:pt x="0" y="48"/>
                </a:lnTo>
                <a:lnTo>
                  <a:pt x="9" y="33"/>
                </a:lnTo>
                <a:lnTo>
                  <a:pt x="19" y="23"/>
                </a:lnTo>
                <a:lnTo>
                  <a:pt x="36" y="15"/>
                </a:lnTo>
                <a:lnTo>
                  <a:pt x="44" y="9"/>
                </a:lnTo>
                <a:lnTo>
                  <a:pt x="56" y="7"/>
                </a:lnTo>
                <a:lnTo>
                  <a:pt x="67" y="3"/>
                </a:lnTo>
                <a:lnTo>
                  <a:pt x="81" y="3"/>
                </a:lnTo>
                <a:lnTo>
                  <a:pt x="93" y="0"/>
                </a:lnTo>
                <a:lnTo>
                  <a:pt x="104" y="0"/>
                </a:lnTo>
                <a:lnTo>
                  <a:pt x="118" y="0"/>
                </a:lnTo>
                <a:lnTo>
                  <a:pt x="131" y="0"/>
                </a:lnTo>
                <a:lnTo>
                  <a:pt x="141" y="0"/>
                </a:lnTo>
                <a:lnTo>
                  <a:pt x="153" y="3"/>
                </a:lnTo>
                <a:lnTo>
                  <a:pt x="164" y="9"/>
                </a:lnTo>
                <a:lnTo>
                  <a:pt x="176" y="15"/>
                </a:lnTo>
                <a:lnTo>
                  <a:pt x="186" y="21"/>
                </a:lnTo>
                <a:lnTo>
                  <a:pt x="193" y="29"/>
                </a:lnTo>
                <a:lnTo>
                  <a:pt x="195" y="33"/>
                </a:lnTo>
                <a:lnTo>
                  <a:pt x="195" y="38"/>
                </a:lnTo>
                <a:close/>
              </a:path>
            </a:pathLst>
          </a:custGeom>
          <a:solidFill>
            <a:srgbClr val="ffc4b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98" name=""/>
          <p:cNvSpPr/>
          <p:nvPr/>
        </p:nvSpPr>
        <p:spPr>
          <a:xfrm>
            <a:off x="3497400" y="3263760"/>
            <a:ext cx="115920" cy="103320"/>
          </a:xfrm>
          <a:custGeom>
            <a:avLst/>
            <a:gdLst/>
            <a:ahLst/>
            <a:rect l="l" t="t" r="r" b="b"/>
            <a:pathLst>
              <a:path w="146" h="130">
                <a:moveTo>
                  <a:pt x="146" y="29"/>
                </a:moveTo>
                <a:lnTo>
                  <a:pt x="144" y="45"/>
                </a:lnTo>
                <a:lnTo>
                  <a:pt x="138" y="62"/>
                </a:lnTo>
                <a:lnTo>
                  <a:pt x="128" y="80"/>
                </a:lnTo>
                <a:lnTo>
                  <a:pt x="119" y="97"/>
                </a:lnTo>
                <a:lnTo>
                  <a:pt x="101" y="111"/>
                </a:lnTo>
                <a:lnTo>
                  <a:pt x="86" y="122"/>
                </a:lnTo>
                <a:lnTo>
                  <a:pt x="68" y="128"/>
                </a:lnTo>
                <a:lnTo>
                  <a:pt x="51" y="130"/>
                </a:lnTo>
                <a:lnTo>
                  <a:pt x="39" y="126"/>
                </a:lnTo>
                <a:lnTo>
                  <a:pt x="27" y="117"/>
                </a:lnTo>
                <a:lnTo>
                  <a:pt x="18" y="103"/>
                </a:lnTo>
                <a:lnTo>
                  <a:pt x="10" y="89"/>
                </a:lnTo>
                <a:lnTo>
                  <a:pt x="2" y="70"/>
                </a:lnTo>
                <a:lnTo>
                  <a:pt x="0" y="55"/>
                </a:lnTo>
                <a:lnTo>
                  <a:pt x="0" y="37"/>
                </a:lnTo>
                <a:lnTo>
                  <a:pt x="8" y="27"/>
                </a:lnTo>
                <a:lnTo>
                  <a:pt x="14" y="20"/>
                </a:lnTo>
                <a:lnTo>
                  <a:pt x="27" y="12"/>
                </a:lnTo>
                <a:lnTo>
                  <a:pt x="43" y="6"/>
                </a:lnTo>
                <a:lnTo>
                  <a:pt x="60" y="4"/>
                </a:lnTo>
                <a:lnTo>
                  <a:pt x="78" y="0"/>
                </a:lnTo>
                <a:lnTo>
                  <a:pt x="97" y="2"/>
                </a:lnTo>
                <a:lnTo>
                  <a:pt x="113" y="4"/>
                </a:lnTo>
                <a:lnTo>
                  <a:pt x="130" y="12"/>
                </a:lnTo>
                <a:lnTo>
                  <a:pt x="144" y="20"/>
                </a:lnTo>
                <a:lnTo>
                  <a:pt x="146" y="29"/>
                </a:lnTo>
                <a:close/>
              </a:path>
            </a:pathLst>
          </a:custGeom>
          <a:solidFill>
            <a:srgbClr val="ffcfc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199" name=""/>
          <p:cNvSpPr/>
          <p:nvPr/>
        </p:nvSpPr>
        <p:spPr>
          <a:xfrm>
            <a:off x="3530520" y="3273480"/>
            <a:ext cx="74520" cy="66600"/>
          </a:xfrm>
          <a:custGeom>
            <a:avLst/>
            <a:gdLst/>
            <a:ahLst/>
            <a:rect l="l" t="t" r="r" b="b"/>
            <a:pathLst>
              <a:path w="93" h="83">
                <a:moveTo>
                  <a:pt x="93" y="17"/>
                </a:moveTo>
                <a:lnTo>
                  <a:pt x="91" y="27"/>
                </a:lnTo>
                <a:lnTo>
                  <a:pt x="89" y="39"/>
                </a:lnTo>
                <a:lnTo>
                  <a:pt x="81" y="48"/>
                </a:lnTo>
                <a:lnTo>
                  <a:pt x="74" y="60"/>
                </a:lnTo>
                <a:lnTo>
                  <a:pt x="62" y="68"/>
                </a:lnTo>
                <a:lnTo>
                  <a:pt x="50" y="76"/>
                </a:lnTo>
                <a:lnTo>
                  <a:pt x="39" y="79"/>
                </a:lnTo>
                <a:lnTo>
                  <a:pt x="29" y="83"/>
                </a:lnTo>
                <a:lnTo>
                  <a:pt x="14" y="76"/>
                </a:lnTo>
                <a:lnTo>
                  <a:pt x="6" y="58"/>
                </a:lnTo>
                <a:lnTo>
                  <a:pt x="0" y="48"/>
                </a:lnTo>
                <a:lnTo>
                  <a:pt x="0" y="39"/>
                </a:lnTo>
                <a:lnTo>
                  <a:pt x="0" y="27"/>
                </a:lnTo>
                <a:lnTo>
                  <a:pt x="6" y="21"/>
                </a:lnTo>
                <a:lnTo>
                  <a:pt x="10" y="15"/>
                </a:lnTo>
                <a:lnTo>
                  <a:pt x="15" y="12"/>
                </a:lnTo>
                <a:lnTo>
                  <a:pt x="25" y="6"/>
                </a:lnTo>
                <a:lnTo>
                  <a:pt x="37" y="4"/>
                </a:lnTo>
                <a:lnTo>
                  <a:pt x="48" y="0"/>
                </a:lnTo>
                <a:lnTo>
                  <a:pt x="60" y="0"/>
                </a:lnTo>
                <a:lnTo>
                  <a:pt x="70" y="0"/>
                </a:lnTo>
                <a:lnTo>
                  <a:pt x="81" y="6"/>
                </a:lnTo>
                <a:lnTo>
                  <a:pt x="91" y="12"/>
                </a:lnTo>
                <a:lnTo>
                  <a:pt x="93" y="17"/>
                </a:lnTo>
                <a:close/>
              </a:path>
            </a:pathLst>
          </a:custGeom>
          <a:solidFill>
            <a:srgbClr val="ffd9cf"/>
          </a:solidFill>
          <a:ln w="0">
            <a:noFill/>
          </a:ln>
        </p:spPr>
        <p:style>
          <a:lnRef idx="0"/>
          <a:fillRef idx="0"/>
          <a:effectRef idx="0"/>
          <a:fontRef idx="minor"/>
        </p:style>
        <p:txBody>
          <a:bodyPr lIns="90000" rIns="90000" tIns="19800" bIns="19800" anchor="t">
            <a:noAutofit/>
          </a:bodyPr>
          <a:p>
            <a:endParaRPr b="0" lang="en-US" sz="2400" spc="-1" strike="noStrike">
              <a:solidFill>
                <a:srgbClr val="ffff66"/>
              </a:solidFill>
              <a:latin typeface="Times New Roman"/>
            </a:endParaRPr>
          </a:p>
        </p:txBody>
      </p:sp>
      <p:sp>
        <p:nvSpPr>
          <p:cNvPr id="200" name=""/>
          <p:cNvSpPr/>
          <p:nvPr/>
        </p:nvSpPr>
        <p:spPr>
          <a:xfrm>
            <a:off x="3139920" y="2538360"/>
            <a:ext cx="563760" cy="349200"/>
          </a:xfrm>
          <a:custGeom>
            <a:avLst/>
            <a:gdLst/>
            <a:ahLst/>
            <a:rect l="l" t="t" r="r" b="b"/>
            <a:pathLst>
              <a:path w="710" h="440">
                <a:moveTo>
                  <a:pt x="33" y="8"/>
                </a:moveTo>
                <a:lnTo>
                  <a:pt x="18" y="19"/>
                </a:lnTo>
                <a:lnTo>
                  <a:pt x="6" y="31"/>
                </a:lnTo>
                <a:lnTo>
                  <a:pt x="0" y="39"/>
                </a:lnTo>
                <a:lnTo>
                  <a:pt x="4" y="43"/>
                </a:lnTo>
                <a:lnTo>
                  <a:pt x="8" y="47"/>
                </a:lnTo>
                <a:lnTo>
                  <a:pt x="18" y="50"/>
                </a:lnTo>
                <a:lnTo>
                  <a:pt x="33" y="52"/>
                </a:lnTo>
                <a:lnTo>
                  <a:pt x="55" y="56"/>
                </a:lnTo>
                <a:lnTo>
                  <a:pt x="72" y="56"/>
                </a:lnTo>
                <a:lnTo>
                  <a:pt x="92" y="58"/>
                </a:lnTo>
                <a:lnTo>
                  <a:pt x="107" y="60"/>
                </a:lnTo>
                <a:lnTo>
                  <a:pt x="119" y="64"/>
                </a:lnTo>
                <a:lnTo>
                  <a:pt x="111" y="72"/>
                </a:lnTo>
                <a:lnTo>
                  <a:pt x="103" y="82"/>
                </a:lnTo>
                <a:lnTo>
                  <a:pt x="92" y="87"/>
                </a:lnTo>
                <a:lnTo>
                  <a:pt x="82" y="93"/>
                </a:lnTo>
                <a:lnTo>
                  <a:pt x="70" y="97"/>
                </a:lnTo>
                <a:lnTo>
                  <a:pt x="59" y="103"/>
                </a:lnTo>
                <a:lnTo>
                  <a:pt x="51" y="111"/>
                </a:lnTo>
                <a:lnTo>
                  <a:pt x="47" y="124"/>
                </a:lnTo>
                <a:lnTo>
                  <a:pt x="45" y="132"/>
                </a:lnTo>
                <a:lnTo>
                  <a:pt x="49" y="140"/>
                </a:lnTo>
                <a:lnTo>
                  <a:pt x="57" y="146"/>
                </a:lnTo>
                <a:lnTo>
                  <a:pt x="70" y="153"/>
                </a:lnTo>
                <a:lnTo>
                  <a:pt x="84" y="157"/>
                </a:lnTo>
                <a:lnTo>
                  <a:pt x="101" y="163"/>
                </a:lnTo>
                <a:lnTo>
                  <a:pt x="119" y="167"/>
                </a:lnTo>
                <a:lnTo>
                  <a:pt x="140" y="173"/>
                </a:lnTo>
                <a:lnTo>
                  <a:pt x="157" y="175"/>
                </a:lnTo>
                <a:lnTo>
                  <a:pt x="177" y="178"/>
                </a:lnTo>
                <a:lnTo>
                  <a:pt x="196" y="180"/>
                </a:lnTo>
                <a:lnTo>
                  <a:pt x="216" y="184"/>
                </a:lnTo>
                <a:lnTo>
                  <a:pt x="231" y="188"/>
                </a:lnTo>
                <a:lnTo>
                  <a:pt x="245" y="192"/>
                </a:lnTo>
                <a:lnTo>
                  <a:pt x="254" y="198"/>
                </a:lnTo>
                <a:lnTo>
                  <a:pt x="262" y="204"/>
                </a:lnTo>
                <a:lnTo>
                  <a:pt x="264" y="204"/>
                </a:lnTo>
                <a:lnTo>
                  <a:pt x="264" y="221"/>
                </a:lnTo>
                <a:lnTo>
                  <a:pt x="272" y="237"/>
                </a:lnTo>
                <a:lnTo>
                  <a:pt x="282" y="248"/>
                </a:lnTo>
                <a:lnTo>
                  <a:pt x="295" y="260"/>
                </a:lnTo>
                <a:lnTo>
                  <a:pt x="311" y="266"/>
                </a:lnTo>
                <a:lnTo>
                  <a:pt x="330" y="272"/>
                </a:lnTo>
                <a:lnTo>
                  <a:pt x="340" y="273"/>
                </a:lnTo>
                <a:lnTo>
                  <a:pt x="349" y="275"/>
                </a:lnTo>
                <a:lnTo>
                  <a:pt x="361" y="277"/>
                </a:lnTo>
                <a:lnTo>
                  <a:pt x="373" y="279"/>
                </a:lnTo>
                <a:lnTo>
                  <a:pt x="382" y="279"/>
                </a:lnTo>
                <a:lnTo>
                  <a:pt x="394" y="279"/>
                </a:lnTo>
                <a:lnTo>
                  <a:pt x="406" y="279"/>
                </a:lnTo>
                <a:lnTo>
                  <a:pt x="417" y="281"/>
                </a:lnTo>
                <a:lnTo>
                  <a:pt x="429" y="281"/>
                </a:lnTo>
                <a:lnTo>
                  <a:pt x="441" y="283"/>
                </a:lnTo>
                <a:lnTo>
                  <a:pt x="452" y="283"/>
                </a:lnTo>
                <a:lnTo>
                  <a:pt x="464" y="285"/>
                </a:lnTo>
                <a:lnTo>
                  <a:pt x="474" y="285"/>
                </a:lnTo>
                <a:lnTo>
                  <a:pt x="485" y="287"/>
                </a:lnTo>
                <a:lnTo>
                  <a:pt x="495" y="289"/>
                </a:lnTo>
                <a:lnTo>
                  <a:pt x="507" y="293"/>
                </a:lnTo>
                <a:lnTo>
                  <a:pt x="524" y="299"/>
                </a:lnTo>
                <a:lnTo>
                  <a:pt x="541" y="308"/>
                </a:lnTo>
                <a:lnTo>
                  <a:pt x="547" y="312"/>
                </a:lnTo>
                <a:lnTo>
                  <a:pt x="553" y="318"/>
                </a:lnTo>
                <a:lnTo>
                  <a:pt x="561" y="330"/>
                </a:lnTo>
                <a:lnTo>
                  <a:pt x="567" y="345"/>
                </a:lnTo>
                <a:lnTo>
                  <a:pt x="569" y="351"/>
                </a:lnTo>
                <a:lnTo>
                  <a:pt x="572" y="361"/>
                </a:lnTo>
                <a:lnTo>
                  <a:pt x="586" y="370"/>
                </a:lnTo>
                <a:lnTo>
                  <a:pt x="602" y="386"/>
                </a:lnTo>
                <a:lnTo>
                  <a:pt x="603" y="361"/>
                </a:lnTo>
                <a:lnTo>
                  <a:pt x="617" y="367"/>
                </a:lnTo>
                <a:lnTo>
                  <a:pt x="633" y="374"/>
                </a:lnTo>
                <a:lnTo>
                  <a:pt x="646" y="384"/>
                </a:lnTo>
                <a:lnTo>
                  <a:pt x="662" y="396"/>
                </a:lnTo>
                <a:lnTo>
                  <a:pt x="673" y="405"/>
                </a:lnTo>
                <a:lnTo>
                  <a:pt x="687" y="417"/>
                </a:lnTo>
                <a:lnTo>
                  <a:pt x="699" y="429"/>
                </a:lnTo>
                <a:lnTo>
                  <a:pt x="710" y="440"/>
                </a:lnTo>
                <a:lnTo>
                  <a:pt x="700" y="425"/>
                </a:lnTo>
                <a:lnTo>
                  <a:pt x="695" y="411"/>
                </a:lnTo>
                <a:lnTo>
                  <a:pt x="689" y="398"/>
                </a:lnTo>
                <a:lnTo>
                  <a:pt x="687" y="384"/>
                </a:lnTo>
                <a:lnTo>
                  <a:pt x="681" y="368"/>
                </a:lnTo>
                <a:lnTo>
                  <a:pt x="675" y="357"/>
                </a:lnTo>
                <a:lnTo>
                  <a:pt x="666" y="343"/>
                </a:lnTo>
                <a:lnTo>
                  <a:pt x="654" y="336"/>
                </a:lnTo>
                <a:lnTo>
                  <a:pt x="642" y="324"/>
                </a:lnTo>
                <a:lnTo>
                  <a:pt x="633" y="314"/>
                </a:lnTo>
                <a:lnTo>
                  <a:pt x="621" y="303"/>
                </a:lnTo>
                <a:lnTo>
                  <a:pt x="611" y="295"/>
                </a:lnTo>
                <a:lnTo>
                  <a:pt x="600" y="285"/>
                </a:lnTo>
                <a:lnTo>
                  <a:pt x="590" y="275"/>
                </a:lnTo>
                <a:lnTo>
                  <a:pt x="582" y="264"/>
                </a:lnTo>
                <a:lnTo>
                  <a:pt x="576" y="252"/>
                </a:lnTo>
                <a:lnTo>
                  <a:pt x="590" y="248"/>
                </a:lnTo>
                <a:lnTo>
                  <a:pt x="605" y="250"/>
                </a:lnTo>
                <a:lnTo>
                  <a:pt x="621" y="256"/>
                </a:lnTo>
                <a:lnTo>
                  <a:pt x="636" y="266"/>
                </a:lnTo>
                <a:lnTo>
                  <a:pt x="636" y="254"/>
                </a:lnTo>
                <a:lnTo>
                  <a:pt x="625" y="246"/>
                </a:lnTo>
                <a:lnTo>
                  <a:pt x="613" y="239"/>
                </a:lnTo>
                <a:lnTo>
                  <a:pt x="603" y="231"/>
                </a:lnTo>
                <a:lnTo>
                  <a:pt x="594" y="225"/>
                </a:lnTo>
                <a:lnTo>
                  <a:pt x="582" y="217"/>
                </a:lnTo>
                <a:lnTo>
                  <a:pt x="571" y="211"/>
                </a:lnTo>
                <a:lnTo>
                  <a:pt x="561" y="206"/>
                </a:lnTo>
                <a:lnTo>
                  <a:pt x="551" y="202"/>
                </a:lnTo>
                <a:lnTo>
                  <a:pt x="539" y="184"/>
                </a:lnTo>
                <a:lnTo>
                  <a:pt x="530" y="173"/>
                </a:lnTo>
                <a:lnTo>
                  <a:pt x="518" y="161"/>
                </a:lnTo>
                <a:lnTo>
                  <a:pt x="507" y="153"/>
                </a:lnTo>
                <a:lnTo>
                  <a:pt x="491" y="144"/>
                </a:lnTo>
                <a:lnTo>
                  <a:pt x="477" y="138"/>
                </a:lnTo>
                <a:lnTo>
                  <a:pt x="464" y="130"/>
                </a:lnTo>
                <a:lnTo>
                  <a:pt x="450" y="124"/>
                </a:lnTo>
                <a:lnTo>
                  <a:pt x="431" y="107"/>
                </a:lnTo>
                <a:lnTo>
                  <a:pt x="411" y="95"/>
                </a:lnTo>
                <a:lnTo>
                  <a:pt x="400" y="89"/>
                </a:lnTo>
                <a:lnTo>
                  <a:pt x="388" y="85"/>
                </a:lnTo>
                <a:lnTo>
                  <a:pt x="377" y="82"/>
                </a:lnTo>
                <a:lnTo>
                  <a:pt x="365" y="80"/>
                </a:lnTo>
                <a:lnTo>
                  <a:pt x="353" y="76"/>
                </a:lnTo>
                <a:lnTo>
                  <a:pt x="342" y="72"/>
                </a:lnTo>
                <a:lnTo>
                  <a:pt x="330" y="68"/>
                </a:lnTo>
                <a:lnTo>
                  <a:pt x="318" y="64"/>
                </a:lnTo>
                <a:lnTo>
                  <a:pt x="297" y="52"/>
                </a:lnTo>
                <a:lnTo>
                  <a:pt x="282" y="37"/>
                </a:lnTo>
                <a:lnTo>
                  <a:pt x="264" y="31"/>
                </a:lnTo>
                <a:lnTo>
                  <a:pt x="249" y="29"/>
                </a:lnTo>
                <a:lnTo>
                  <a:pt x="233" y="27"/>
                </a:lnTo>
                <a:lnTo>
                  <a:pt x="220" y="27"/>
                </a:lnTo>
                <a:lnTo>
                  <a:pt x="204" y="25"/>
                </a:lnTo>
                <a:lnTo>
                  <a:pt x="190" y="25"/>
                </a:lnTo>
                <a:lnTo>
                  <a:pt x="175" y="25"/>
                </a:lnTo>
                <a:lnTo>
                  <a:pt x="161" y="27"/>
                </a:lnTo>
                <a:lnTo>
                  <a:pt x="152" y="18"/>
                </a:lnTo>
                <a:lnTo>
                  <a:pt x="154" y="8"/>
                </a:lnTo>
                <a:lnTo>
                  <a:pt x="144" y="0"/>
                </a:lnTo>
                <a:lnTo>
                  <a:pt x="136" y="0"/>
                </a:lnTo>
                <a:lnTo>
                  <a:pt x="124" y="0"/>
                </a:lnTo>
                <a:lnTo>
                  <a:pt x="119" y="2"/>
                </a:lnTo>
                <a:lnTo>
                  <a:pt x="97" y="2"/>
                </a:lnTo>
                <a:lnTo>
                  <a:pt x="82" y="8"/>
                </a:lnTo>
                <a:lnTo>
                  <a:pt x="68" y="4"/>
                </a:lnTo>
                <a:lnTo>
                  <a:pt x="57" y="8"/>
                </a:lnTo>
                <a:lnTo>
                  <a:pt x="43" y="10"/>
                </a:lnTo>
                <a:lnTo>
                  <a:pt x="33" y="8"/>
                </a:lnTo>
                <a:close/>
              </a:path>
            </a:pathLst>
          </a:custGeom>
          <a:solidFill>
            <a:srgbClr val="cc5e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01" name=""/>
          <p:cNvSpPr/>
          <p:nvPr/>
        </p:nvSpPr>
        <p:spPr>
          <a:xfrm>
            <a:off x="2817720" y="5724360"/>
            <a:ext cx="23760" cy="28800"/>
          </a:xfrm>
          <a:custGeom>
            <a:avLst/>
            <a:gdLst/>
            <a:ahLst/>
            <a:rect l="l" t="t" r="r" b="b"/>
            <a:pathLst>
              <a:path w="31" h="35">
                <a:moveTo>
                  <a:pt x="0" y="0"/>
                </a:moveTo>
                <a:lnTo>
                  <a:pt x="16" y="17"/>
                </a:lnTo>
                <a:lnTo>
                  <a:pt x="31" y="35"/>
                </a:lnTo>
                <a:lnTo>
                  <a:pt x="16" y="21"/>
                </a:lnTo>
                <a:lnTo>
                  <a:pt x="0" y="8"/>
                </a:lnTo>
                <a:lnTo>
                  <a:pt x="0" y="0"/>
                </a:lnTo>
                <a:close/>
              </a:path>
            </a:pathLst>
          </a:custGeom>
          <a:solidFill>
            <a:srgbClr val="a603eb"/>
          </a:solidFill>
          <a:ln w="0">
            <a:noFill/>
          </a:ln>
        </p:spPr>
        <p:style>
          <a:lnRef idx="0"/>
          <a:fillRef idx="0"/>
          <a:effectRef idx="0"/>
          <a:fontRef idx="minor"/>
        </p:style>
        <p:txBody>
          <a:bodyPr lIns="90000" rIns="90000" tIns="-18000" bIns="-18000" anchor="t">
            <a:noAutofit/>
          </a:bodyPr>
          <a:p>
            <a:endParaRPr b="0" lang="en-US" sz="2400" spc="-1" strike="noStrike">
              <a:solidFill>
                <a:srgbClr val="ffff66"/>
              </a:solidFill>
              <a:latin typeface="Times New Roman"/>
            </a:endParaRPr>
          </a:p>
        </p:txBody>
      </p:sp>
      <p:sp>
        <p:nvSpPr>
          <p:cNvPr id="202" name=""/>
          <p:cNvSpPr/>
          <p:nvPr/>
        </p:nvSpPr>
        <p:spPr>
          <a:xfrm>
            <a:off x="2762280" y="5662440"/>
            <a:ext cx="55440" cy="60480"/>
          </a:xfrm>
          <a:custGeom>
            <a:avLst/>
            <a:gdLst/>
            <a:ahLst/>
            <a:rect l="l" t="t" r="r" b="b"/>
            <a:pathLst>
              <a:path w="70" h="78">
                <a:moveTo>
                  <a:pt x="0" y="0"/>
                </a:moveTo>
                <a:lnTo>
                  <a:pt x="16" y="18"/>
                </a:lnTo>
                <a:lnTo>
                  <a:pt x="33" y="37"/>
                </a:lnTo>
                <a:lnTo>
                  <a:pt x="51" y="56"/>
                </a:lnTo>
                <a:lnTo>
                  <a:pt x="70" y="78"/>
                </a:lnTo>
                <a:lnTo>
                  <a:pt x="58" y="68"/>
                </a:lnTo>
                <a:lnTo>
                  <a:pt x="49" y="58"/>
                </a:lnTo>
                <a:lnTo>
                  <a:pt x="39" y="49"/>
                </a:lnTo>
                <a:lnTo>
                  <a:pt x="31" y="41"/>
                </a:lnTo>
                <a:lnTo>
                  <a:pt x="14" y="20"/>
                </a:lnTo>
                <a:lnTo>
                  <a:pt x="0" y="0"/>
                </a:lnTo>
                <a:close/>
              </a:path>
            </a:pathLst>
          </a:custGeom>
          <a:solidFill>
            <a:srgbClr val="a603eb"/>
          </a:solidFill>
          <a:ln w="0">
            <a:noFill/>
          </a:ln>
        </p:spPr>
        <p:style>
          <a:lnRef idx="0"/>
          <a:fillRef idx="0"/>
          <a:effectRef idx="0"/>
          <a:fontRef idx="minor"/>
        </p:style>
        <p:txBody>
          <a:bodyPr lIns="90000" rIns="90000" tIns="13680" bIns="13680" anchor="t">
            <a:noAutofit/>
          </a:bodyPr>
          <a:p>
            <a:endParaRPr b="0" lang="en-US" sz="2400" spc="-1" strike="noStrike">
              <a:solidFill>
                <a:srgbClr val="ffff66"/>
              </a:solidFill>
              <a:latin typeface="Times New Roman"/>
            </a:endParaRPr>
          </a:p>
        </p:txBody>
      </p:sp>
      <p:sp>
        <p:nvSpPr>
          <p:cNvPr id="203" name=""/>
          <p:cNvSpPr/>
          <p:nvPr/>
        </p:nvSpPr>
        <p:spPr>
          <a:xfrm>
            <a:off x="2309760" y="4371840"/>
            <a:ext cx="825480" cy="1667160"/>
          </a:xfrm>
          <a:custGeom>
            <a:avLst/>
            <a:gdLst/>
            <a:ahLst/>
            <a:rect l="l" t="t" r="r" b="b"/>
            <a:pathLst>
              <a:path w="1042" h="2100">
                <a:moveTo>
                  <a:pt x="118" y="0"/>
                </a:moveTo>
                <a:lnTo>
                  <a:pt x="116" y="6"/>
                </a:lnTo>
                <a:lnTo>
                  <a:pt x="115" y="14"/>
                </a:lnTo>
                <a:lnTo>
                  <a:pt x="113" y="24"/>
                </a:lnTo>
                <a:lnTo>
                  <a:pt x="111" y="35"/>
                </a:lnTo>
                <a:lnTo>
                  <a:pt x="107" y="47"/>
                </a:lnTo>
                <a:lnTo>
                  <a:pt x="103" y="60"/>
                </a:lnTo>
                <a:lnTo>
                  <a:pt x="99" y="76"/>
                </a:lnTo>
                <a:lnTo>
                  <a:pt x="95" y="95"/>
                </a:lnTo>
                <a:lnTo>
                  <a:pt x="91" y="103"/>
                </a:lnTo>
                <a:lnTo>
                  <a:pt x="89" y="113"/>
                </a:lnTo>
                <a:lnTo>
                  <a:pt x="87" y="124"/>
                </a:lnTo>
                <a:lnTo>
                  <a:pt x="85" y="136"/>
                </a:lnTo>
                <a:lnTo>
                  <a:pt x="82" y="146"/>
                </a:lnTo>
                <a:lnTo>
                  <a:pt x="82" y="157"/>
                </a:lnTo>
                <a:lnTo>
                  <a:pt x="78" y="171"/>
                </a:lnTo>
                <a:lnTo>
                  <a:pt x="78" y="185"/>
                </a:lnTo>
                <a:lnTo>
                  <a:pt x="76" y="196"/>
                </a:lnTo>
                <a:lnTo>
                  <a:pt x="74" y="210"/>
                </a:lnTo>
                <a:lnTo>
                  <a:pt x="72" y="223"/>
                </a:lnTo>
                <a:lnTo>
                  <a:pt x="72" y="239"/>
                </a:lnTo>
                <a:lnTo>
                  <a:pt x="72" y="254"/>
                </a:lnTo>
                <a:lnTo>
                  <a:pt x="72" y="270"/>
                </a:lnTo>
                <a:lnTo>
                  <a:pt x="72" y="287"/>
                </a:lnTo>
                <a:lnTo>
                  <a:pt x="74" y="305"/>
                </a:lnTo>
                <a:lnTo>
                  <a:pt x="72" y="316"/>
                </a:lnTo>
                <a:lnTo>
                  <a:pt x="72" y="330"/>
                </a:lnTo>
                <a:lnTo>
                  <a:pt x="72" y="338"/>
                </a:lnTo>
                <a:lnTo>
                  <a:pt x="72" y="346"/>
                </a:lnTo>
                <a:lnTo>
                  <a:pt x="70" y="355"/>
                </a:lnTo>
                <a:lnTo>
                  <a:pt x="70" y="369"/>
                </a:lnTo>
                <a:lnTo>
                  <a:pt x="68" y="375"/>
                </a:lnTo>
                <a:lnTo>
                  <a:pt x="66" y="386"/>
                </a:lnTo>
                <a:lnTo>
                  <a:pt x="64" y="392"/>
                </a:lnTo>
                <a:lnTo>
                  <a:pt x="64" y="400"/>
                </a:lnTo>
                <a:lnTo>
                  <a:pt x="64" y="409"/>
                </a:lnTo>
                <a:lnTo>
                  <a:pt x="64" y="421"/>
                </a:lnTo>
                <a:lnTo>
                  <a:pt x="62" y="431"/>
                </a:lnTo>
                <a:lnTo>
                  <a:pt x="60" y="444"/>
                </a:lnTo>
                <a:lnTo>
                  <a:pt x="58" y="458"/>
                </a:lnTo>
                <a:lnTo>
                  <a:pt x="58" y="475"/>
                </a:lnTo>
                <a:lnTo>
                  <a:pt x="56" y="491"/>
                </a:lnTo>
                <a:lnTo>
                  <a:pt x="54" y="510"/>
                </a:lnTo>
                <a:lnTo>
                  <a:pt x="52" y="520"/>
                </a:lnTo>
                <a:lnTo>
                  <a:pt x="52" y="532"/>
                </a:lnTo>
                <a:lnTo>
                  <a:pt x="52" y="543"/>
                </a:lnTo>
                <a:lnTo>
                  <a:pt x="52" y="557"/>
                </a:lnTo>
                <a:lnTo>
                  <a:pt x="51" y="574"/>
                </a:lnTo>
                <a:lnTo>
                  <a:pt x="51" y="592"/>
                </a:lnTo>
                <a:lnTo>
                  <a:pt x="51" y="609"/>
                </a:lnTo>
                <a:lnTo>
                  <a:pt x="51" y="629"/>
                </a:lnTo>
                <a:lnTo>
                  <a:pt x="51" y="646"/>
                </a:lnTo>
                <a:lnTo>
                  <a:pt x="51" y="664"/>
                </a:lnTo>
                <a:lnTo>
                  <a:pt x="51" y="681"/>
                </a:lnTo>
                <a:lnTo>
                  <a:pt x="52" y="700"/>
                </a:lnTo>
                <a:lnTo>
                  <a:pt x="52" y="718"/>
                </a:lnTo>
                <a:lnTo>
                  <a:pt x="52" y="735"/>
                </a:lnTo>
                <a:lnTo>
                  <a:pt x="52" y="753"/>
                </a:lnTo>
                <a:lnTo>
                  <a:pt x="54" y="770"/>
                </a:lnTo>
                <a:lnTo>
                  <a:pt x="54" y="788"/>
                </a:lnTo>
                <a:lnTo>
                  <a:pt x="54" y="807"/>
                </a:lnTo>
                <a:lnTo>
                  <a:pt x="54" y="826"/>
                </a:lnTo>
                <a:lnTo>
                  <a:pt x="56" y="846"/>
                </a:lnTo>
                <a:lnTo>
                  <a:pt x="62" y="848"/>
                </a:lnTo>
                <a:lnTo>
                  <a:pt x="72" y="848"/>
                </a:lnTo>
                <a:lnTo>
                  <a:pt x="72" y="836"/>
                </a:lnTo>
                <a:lnTo>
                  <a:pt x="76" y="824"/>
                </a:lnTo>
                <a:lnTo>
                  <a:pt x="78" y="813"/>
                </a:lnTo>
                <a:lnTo>
                  <a:pt x="83" y="801"/>
                </a:lnTo>
                <a:lnTo>
                  <a:pt x="85" y="790"/>
                </a:lnTo>
                <a:lnTo>
                  <a:pt x="89" y="778"/>
                </a:lnTo>
                <a:lnTo>
                  <a:pt x="91" y="766"/>
                </a:lnTo>
                <a:lnTo>
                  <a:pt x="95" y="757"/>
                </a:lnTo>
                <a:lnTo>
                  <a:pt x="101" y="768"/>
                </a:lnTo>
                <a:lnTo>
                  <a:pt x="107" y="780"/>
                </a:lnTo>
                <a:lnTo>
                  <a:pt x="113" y="791"/>
                </a:lnTo>
                <a:lnTo>
                  <a:pt x="118" y="805"/>
                </a:lnTo>
                <a:lnTo>
                  <a:pt x="124" y="817"/>
                </a:lnTo>
                <a:lnTo>
                  <a:pt x="130" y="830"/>
                </a:lnTo>
                <a:lnTo>
                  <a:pt x="136" y="842"/>
                </a:lnTo>
                <a:lnTo>
                  <a:pt x="142" y="855"/>
                </a:lnTo>
                <a:lnTo>
                  <a:pt x="147" y="867"/>
                </a:lnTo>
                <a:lnTo>
                  <a:pt x="153" y="881"/>
                </a:lnTo>
                <a:lnTo>
                  <a:pt x="159" y="892"/>
                </a:lnTo>
                <a:lnTo>
                  <a:pt x="167" y="906"/>
                </a:lnTo>
                <a:lnTo>
                  <a:pt x="173" y="918"/>
                </a:lnTo>
                <a:lnTo>
                  <a:pt x="179" y="931"/>
                </a:lnTo>
                <a:lnTo>
                  <a:pt x="184" y="943"/>
                </a:lnTo>
                <a:lnTo>
                  <a:pt x="192" y="956"/>
                </a:lnTo>
                <a:lnTo>
                  <a:pt x="198" y="968"/>
                </a:lnTo>
                <a:lnTo>
                  <a:pt x="204" y="980"/>
                </a:lnTo>
                <a:lnTo>
                  <a:pt x="210" y="991"/>
                </a:lnTo>
                <a:lnTo>
                  <a:pt x="217" y="1005"/>
                </a:lnTo>
                <a:lnTo>
                  <a:pt x="223" y="1016"/>
                </a:lnTo>
                <a:lnTo>
                  <a:pt x="231" y="1030"/>
                </a:lnTo>
                <a:lnTo>
                  <a:pt x="237" y="1042"/>
                </a:lnTo>
                <a:lnTo>
                  <a:pt x="244" y="1055"/>
                </a:lnTo>
                <a:lnTo>
                  <a:pt x="250" y="1067"/>
                </a:lnTo>
                <a:lnTo>
                  <a:pt x="256" y="1078"/>
                </a:lnTo>
                <a:lnTo>
                  <a:pt x="262" y="1090"/>
                </a:lnTo>
                <a:lnTo>
                  <a:pt x="270" y="1104"/>
                </a:lnTo>
                <a:lnTo>
                  <a:pt x="275" y="1115"/>
                </a:lnTo>
                <a:lnTo>
                  <a:pt x="283" y="1129"/>
                </a:lnTo>
                <a:lnTo>
                  <a:pt x="289" y="1141"/>
                </a:lnTo>
                <a:lnTo>
                  <a:pt x="297" y="1154"/>
                </a:lnTo>
                <a:lnTo>
                  <a:pt x="301" y="1168"/>
                </a:lnTo>
                <a:lnTo>
                  <a:pt x="307" y="1181"/>
                </a:lnTo>
                <a:lnTo>
                  <a:pt x="310" y="1191"/>
                </a:lnTo>
                <a:lnTo>
                  <a:pt x="316" y="1203"/>
                </a:lnTo>
                <a:lnTo>
                  <a:pt x="320" y="1216"/>
                </a:lnTo>
                <a:lnTo>
                  <a:pt x="326" y="1222"/>
                </a:lnTo>
                <a:lnTo>
                  <a:pt x="326" y="1228"/>
                </a:lnTo>
                <a:lnTo>
                  <a:pt x="330" y="1237"/>
                </a:lnTo>
                <a:lnTo>
                  <a:pt x="334" y="1247"/>
                </a:lnTo>
                <a:lnTo>
                  <a:pt x="339" y="1259"/>
                </a:lnTo>
                <a:lnTo>
                  <a:pt x="345" y="1268"/>
                </a:lnTo>
                <a:lnTo>
                  <a:pt x="355" y="1278"/>
                </a:lnTo>
                <a:lnTo>
                  <a:pt x="361" y="1288"/>
                </a:lnTo>
                <a:lnTo>
                  <a:pt x="371" y="1296"/>
                </a:lnTo>
                <a:lnTo>
                  <a:pt x="376" y="1307"/>
                </a:lnTo>
                <a:lnTo>
                  <a:pt x="382" y="1319"/>
                </a:lnTo>
                <a:lnTo>
                  <a:pt x="388" y="1331"/>
                </a:lnTo>
                <a:lnTo>
                  <a:pt x="394" y="1342"/>
                </a:lnTo>
                <a:lnTo>
                  <a:pt x="400" y="1354"/>
                </a:lnTo>
                <a:lnTo>
                  <a:pt x="405" y="1367"/>
                </a:lnTo>
                <a:lnTo>
                  <a:pt x="411" y="1379"/>
                </a:lnTo>
                <a:lnTo>
                  <a:pt x="417" y="1393"/>
                </a:lnTo>
                <a:lnTo>
                  <a:pt x="421" y="1404"/>
                </a:lnTo>
                <a:lnTo>
                  <a:pt x="427" y="1416"/>
                </a:lnTo>
                <a:lnTo>
                  <a:pt x="433" y="1427"/>
                </a:lnTo>
                <a:lnTo>
                  <a:pt x="438" y="1439"/>
                </a:lnTo>
                <a:lnTo>
                  <a:pt x="444" y="1451"/>
                </a:lnTo>
                <a:lnTo>
                  <a:pt x="450" y="1464"/>
                </a:lnTo>
                <a:lnTo>
                  <a:pt x="456" y="1476"/>
                </a:lnTo>
                <a:lnTo>
                  <a:pt x="462" y="1490"/>
                </a:lnTo>
                <a:lnTo>
                  <a:pt x="471" y="1505"/>
                </a:lnTo>
                <a:lnTo>
                  <a:pt x="481" y="1522"/>
                </a:lnTo>
                <a:lnTo>
                  <a:pt x="493" y="1538"/>
                </a:lnTo>
                <a:lnTo>
                  <a:pt x="504" y="1555"/>
                </a:lnTo>
                <a:lnTo>
                  <a:pt x="504" y="1559"/>
                </a:lnTo>
                <a:lnTo>
                  <a:pt x="506" y="1563"/>
                </a:lnTo>
                <a:lnTo>
                  <a:pt x="512" y="1563"/>
                </a:lnTo>
                <a:lnTo>
                  <a:pt x="518" y="1575"/>
                </a:lnTo>
                <a:lnTo>
                  <a:pt x="528" y="1586"/>
                </a:lnTo>
                <a:lnTo>
                  <a:pt x="535" y="1598"/>
                </a:lnTo>
                <a:lnTo>
                  <a:pt x="545" y="1612"/>
                </a:lnTo>
                <a:lnTo>
                  <a:pt x="553" y="1623"/>
                </a:lnTo>
                <a:lnTo>
                  <a:pt x="563" y="1635"/>
                </a:lnTo>
                <a:lnTo>
                  <a:pt x="570" y="1647"/>
                </a:lnTo>
                <a:lnTo>
                  <a:pt x="582" y="1660"/>
                </a:lnTo>
                <a:lnTo>
                  <a:pt x="590" y="1670"/>
                </a:lnTo>
                <a:lnTo>
                  <a:pt x="599" y="1681"/>
                </a:lnTo>
                <a:lnTo>
                  <a:pt x="609" y="1693"/>
                </a:lnTo>
                <a:lnTo>
                  <a:pt x="619" y="1705"/>
                </a:lnTo>
                <a:lnTo>
                  <a:pt x="628" y="1716"/>
                </a:lnTo>
                <a:lnTo>
                  <a:pt x="638" y="1728"/>
                </a:lnTo>
                <a:lnTo>
                  <a:pt x="648" y="1740"/>
                </a:lnTo>
                <a:lnTo>
                  <a:pt x="659" y="1751"/>
                </a:lnTo>
                <a:lnTo>
                  <a:pt x="669" y="1761"/>
                </a:lnTo>
                <a:lnTo>
                  <a:pt x="679" y="1773"/>
                </a:lnTo>
                <a:lnTo>
                  <a:pt x="689" y="1782"/>
                </a:lnTo>
                <a:lnTo>
                  <a:pt x="700" y="1794"/>
                </a:lnTo>
                <a:lnTo>
                  <a:pt x="710" y="1804"/>
                </a:lnTo>
                <a:lnTo>
                  <a:pt x="720" y="1815"/>
                </a:lnTo>
                <a:lnTo>
                  <a:pt x="729" y="1827"/>
                </a:lnTo>
                <a:lnTo>
                  <a:pt x="741" y="1839"/>
                </a:lnTo>
                <a:lnTo>
                  <a:pt x="751" y="1848"/>
                </a:lnTo>
                <a:lnTo>
                  <a:pt x="762" y="1858"/>
                </a:lnTo>
                <a:lnTo>
                  <a:pt x="772" y="1870"/>
                </a:lnTo>
                <a:lnTo>
                  <a:pt x="784" y="1881"/>
                </a:lnTo>
                <a:lnTo>
                  <a:pt x="793" y="1891"/>
                </a:lnTo>
                <a:lnTo>
                  <a:pt x="805" y="1901"/>
                </a:lnTo>
                <a:lnTo>
                  <a:pt x="817" y="1912"/>
                </a:lnTo>
                <a:lnTo>
                  <a:pt x="828" y="1924"/>
                </a:lnTo>
                <a:lnTo>
                  <a:pt x="832" y="1928"/>
                </a:lnTo>
                <a:lnTo>
                  <a:pt x="838" y="1932"/>
                </a:lnTo>
                <a:lnTo>
                  <a:pt x="850" y="1941"/>
                </a:lnTo>
                <a:lnTo>
                  <a:pt x="861" y="1953"/>
                </a:lnTo>
                <a:lnTo>
                  <a:pt x="875" y="1963"/>
                </a:lnTo>
                <a:lnTo>
                  <a:pt x="888" y="1974"/>
                </a:lnTo>
                <a:lnTo>
                  <a:pt x="902" y="1986"/>
                </a:lnTo>
                <a:lnTo>
                  <a:pt x="917" y="1999"/>
                </a:lnTo>
                <a:lnTo>
                  <a:pt x="933" y="2011"/>
                </a:lnTo>
                <a:lnTo>
                  <a:pt x="948" y="2025"/>
                </a:lnTo>
                <a:lnTo>
                  <a:pt x="962" y="2036"/>
                </a:lnTo>
                <a:lnTo>
                  <a:pt x="979" y="2048"/>
                </a:lnTo>
                <a:lnTo>
                  <a:pt x="993" y="2060"/>
                </a:lnTo>
                <a:lnTo>
                  <a:pt x="1011" y="2071"/>
                </a:lnTo>
                <a:lnTo>
                  <a:pt x="1024" y="2087"/>
                </a:lnTo>
                <a:lnTo>
                  <a:pt x="1042" y="2100"/>
                </a:lnTo>
                <a:lnTo>
                  <a:pt x="316" y="2100"/>
                </a:lnTo>
                <a:lnTo>
                  <a:pt x="314" y="2089"/>
                </a:lnTo>
                <a:lnTo>
                  <a:pt x="312" y="2077"/>
                </a:lnTo>
                <a:lnTo>
                  <a:pt x="310" y="2065"/>
                </a:lnTo>
                <a:lnTo>
                  <a:pt x="308" y="2054"/>
                </a:lnTo>
                <a:lnTo>
                  <a:pt x="305" y="2042"/>
                </a:lnTo>
                <a:lnTo>
                  <a:pt x="305" y="2031"/>
                </a:lnTo>
                <a:lnTo>
                  <a:pt x="303" y="2019"/>
                </a:lnTo>
                <a:lnTo>
                  <a:pt x="303" y="2009"/>
                </a:lnTo>
                <a:lnTo>
                  <a:pt x="301" y="1998"/>
                </a:lnTo>
                <a:lnTo>
                  <a:pt x="299" y="1986"/>
                </a:lnTo>
                <a:lnTo>
                  <a:pt x="299" y="1974"/>
                </a:lnTo>
                <a:lnTo>
                  <a:pt x="303" y="1965"/>
                </a:lnTo>
                <a:lnTo>
                  <a:pt x="308" y="1943"/>
                </a:lnTo>
                <a:lnTo>
                  <a:pt x="320" y="1924"/>
                </a:lnTo>
                <a:lnTo>
                  <a:pt x="328" y="1930"/>
                </a:lnTo>
                <a:lnTo>
                  <a:pt x="341" y="1945"/>
                </a:lnTo>
                <a:lnTo>
                  <a:pt x="357" y="1963"/>
                </a:lnTo>
                <a:lnTo>
                  <a:pt x="371" y="1980"/>
                </a:lnTo>
                <a:lnTo>
                  <a:pt x="386" y="1998"/>
                </a:lnTo>
                <a:lnTo>
                  <a:pt x="398" y="2015"/>
                </a:lnTo>
                <a:lnTo>
                  <a:pt x="411" y="2032"/>
                </a:lnTo>
                <a:lnTo>
                  <a:pt x="425" y="2048"/>
                </a:lnTo>
                <a:lnTo>
                  <a:pt x="442" y="2065"/>
                </a:lnTo>
                <a:lnTo>
                  <a:pt x="442" y="2050"/>
                </a:lnTo>
                <a:lnTo>
                  <a:pt x="442" y="2038"/>
                </a:lnTo>
                <a:lnTo>
                  <a:pt x="436" y="2027"/>
                </a:lnTo>
                <a:lnTo>
                  <a:pt x="433" y="2015"/>
                </a:lnTo>
                <a:lnTo>
                  <a:pt x="419" y="1994"/>
                </a:lnTo>
                <a:lnTo>
                  <a:pt x="409" y="1974"/>
                </a:lnTo>
                <a:lnTo>
                  <a:pt x="402" y="1961"/>
                </a:lnTo>
                <a:lnTo>
                  <a:pt x="396" y="1947"/>
                </a:lnTo>
                <a:lnTo>
                  <a:pt x="388" y="1934"/>
                </a:lnTo>
                <a:lnTo>
                  <a:pt x="382" y="1922"/>
                </a:lnTo>
                <a:lnTo>
                  <a:pt x="374" y="1908"/>
                </a:lnTo>
                <a:lnTo>
                  <a:pt x="369" y="1895"/>
                </a:lnTo>
                <a:lnTo>
                  <a:pt x="363" y="1881"/>
                </a:lnTo>
                <a:lnTo>
                  <a:pt x="357" y="1870"/>
                </a:lnTo>
                <a:lnTo>
                  <a:pt x="351" y="1856"/>
                </a:lnTo>
                <a:lnTo>
                  <a:pt x="345" y="1842"/>
                </a:lnTo>
                <a:lnTo>
                  <a:pt x="339" y="1829"/>
                </a:lnTo>
                <a:lnTo>
                  <a:pt x="334" y="1817"/>
                </a:lnTo>
                <a:lnTo>
                  <a:pt x="328" y="1804"/>
                </a:lnTo>
                <a:lnTo>
                  <a:pt x="322" y="1792"/>
                </a:lnTo>
                <a:lnTo>
                  <a:pt x="316" y="1778"/>
                </a:lnTo>
                <a:lnTo>
                  <a:pt x="310" y="1767"/>
                </a:lnTo>
                <a:lnTo>
                  <a:pt x="305" y="1753"/>
                </a:lnTo>
                <a:lnTo>
                  <a:pt x="299" y="1740"/>
                </a:lnTo>
                <a:lnTo>
                  <a:pt x="293" y="1726"/>
                </a:lnTo>
                <a:lnTo>
                  <a:pt x="287" y="1713"/>
                </a:lnTo>
                <a:lnTo>
                  <a:pt x="281" y="1699"/>
                </a:lnTo>
                <a:lnTo>
                  <a:pt x="275" y="1685"/>
                </a:lnTo>
                <a:lnTo>
                  <a:pt x="270" y="1672"/>
                </a:lnTo>
                <a:lnTo>
                  <a:pt x="266" y="1660"/>
                </a:lnTo>
                <a:lnTo>
                  <a:pt x="260" y="1647"/>
                </a:lnTo>
                <a:lnTo>
                  <a:pt x="254" y="1633"/>
                </a:lnTo>
                <a:lnTo>
                  <a:pt x="248" y="1619"/>
                </a:lnTo>
                <a:lnTo>
                  <a:pt x="244" y="1608"/>
                </a:lnTo>
                <a:lnTo>
                  <a:pt x="239" y="1594"/>
                </a:lnTo>
                <a:lnTo>
                  <a:pt x="235" y="1581"/>
                </a:lnTo>
                <a:lnTo>
                  <a:pt x="231" y="1567"/>
                </a:lnTo>
                <a:lnTo>
                  <a:pt x="229" y="1555"/>
                </a:lnTo>
                <a:lnTo>
                  <a:pt x="223" y="1544"/>
                </a:lnTo>
                <a:lnTo>
                  <a:pt x="219" y="1532"/>
                </a:lnTo>
                <a:lnTo>
                  <a:pt x="215" y="1521"/>
                </a:lnTo>
                <a:lnTo>
                  <a:pt x="211" y="1509"/>
                </a:lnTo>
                <a:lnTo>
                  <a:pt x="208" y="1497"/>
                </a:lnTo>
                <a:lnTo>
                  <a:pt x="204" y="1486"/>
                </a:lnTo>
                <a:lnTo>
                  <a:pt x="200" y="1474"/>
                </a:lnTo>
                <a:lnTo>
                  <a:pt x="198" y="1462"/>
                </a:lnTo>
                <a:lnTo>
                  <a:pt x="194" y="1451"/>
                </a:lnTo>
                <a:lnTo>
                  <a:pt x="190" y="1439"/>
                </a:lnTo>
                <a:lnTo>
                  <a:pt x="186" y="1427"/>
                </a:lnTo>
                <a:lnTo>
                  <a:pt x="184" y="1416"/>
                </a:lnTo>
                <a:lnTo>
                  <a:pt x="180" y="1404"/>
                </a:lnTo>
                <a:lnTo>
                  <a:pt x="179" y="1393"/>
                </a:lnTo>
                <a:lnTo>
                  <a:pt x="175" y="1381"/>
                </a:lnTo>
                <a:lnTo>
                  <a:pt x="173" y="1371"/>
                </a:lnTo>
                <a:lnTo>
                  <a:pt x="169" y="1360"/>
                </a:lnTo>
                <a:lnTo>
                  <a:pt x="167" y="1348"/>
                </a:lnTo>
                <a:lnTo>
                  <a:pt x="163" y="1336"/>
                </a:lnTo>
                <a:lnTo>
                  <a:pt x="161" y="1325"/>
                </a:lnTo>
                <a:lnTo>
                  <a:pt x="157" y="1313"/>
                </a:lnTo>
                <a:lnTo>
                  <a:pt x="155" y="1301"/>
                </a:lnTo>
                <a:lnTo>
                  <a:pt x="151" y="1290"/>
                </a:lnTo>
                <a:lnTo>
                  <a:pt x="149" y="1278"/>
                </a:lnTo>
                <a:lnTo>
                  <a:pt x="146" y="1267"/>
                </a:lnTo>
                <a:lnTo>
                  <a:pt x="144" y="1255"/>
                </a:lnTo>
                <a:lnTo>
                  <a:pt x="140" y="1243"/>
                </a:lnTo>
                <a:lnTo>
                  <a:pt x="138" y="1232"/>
                </a:lnTo>
                <a:lnTo>
                  <a:pt x="134" y="1220"/>
                </a:lnTo>
                <a:lnTo>
                  <a:pt x="132" y="1208"/>
                </a:lnTo>
                <a:lnTo>
                  <a:pt x="128" y="1197"/>
                </a:lnTo>
                <a:lnTo>
                  <a:pt x="126" y="1187"/>
                </a:lnTo>
                <a:lnTo>
                  <a:pt x="122" y="1175"/>
                </a:lnTo>
                <a:lnTo>
                  <a:pt x="120" y="1164"/>
                </a:lnTo>
                <a:lnTo>
                  <a:pt x="116" y="1152"/>
                </a:lnTo>
                <a:lnTo>
                  <a:pt x="115" y="1141"/>
                </a:lnTo>
                <a:lnTo>
                  <a:pt x="111" y="1129"/>
                </a:lnTo>
                <a:lnTo>
                  <a:pt x="109" y="1117"/>
                </a:lnTo>
                <a:lnTo>
                  <a:pt x="105" y="1106"/>
                </a:lnTo>
                <a:lnTo>
                  <a:pt x="103" y="1094"/>
                </a:lnTo>
                <a:lnTo>
                  <a:pt x="99" y="1082"/>
                </a:lnTo>
                <a:lnTo>
                  <a:pt x="97" y="1071"/>
                </a:lnTo>
                <a:lnTo>
                  <a:pt x="93" y="1059"/>
                </a:lnTo>
                <a:lnTo>
                  <a:pt x="91" y="1047"/>
                </a:lnTo>
                <a:lnTo>
                  <a:pt x="87" y="1036"/>
                </a:lnTo>
                <a:lnTo>
                  <a:pt x="85" y="1024"/>
                </a:lnTo>
                <a:lnTo>
                  <a:pt x="83" y="1013"/>
                </a:lnTo>
                <a:lnTo>
                  <a:pt x="82" y="1001"/>
                </a:lnTo>
                <a:lnTo>
                  <a:pt x="78" y="989"/>
                </a:lnTo>
                <a:lnTo>
                  <a:pt x="74" y="978"/>
                </a:lnTo>
                <a:lnTo>
                  <a:pt x="70" y="966"/>
                </a:lnTo>
                <a:lnTo>
                  <a:pt x="68" y="954"/>
                </a:lnTo>
                <a:lnTo>
                  <a:pt x="64" y="943"/>
                </a:lnTo>
                <a:lnTo>
                  <a:pt x="62" y="931"/>
                </a:lnTo>
                <a:lnTo>
                  <a:pt x="58" y="919"/>
                </a:lnTo>
                <a:lnTo>
                  <a:pt x="56" y="910"/>
                </a:lnTo>
                <a:lnTo>
                  <a:pt x="52" y="898"/>
                </a:lnTo>
                <a:lnTo>
                  <a:pt x="49" y="886"/>
                </a:lnTo>
                <a:lnTo>
                  <a:pt x="45" y="875"/>
                </a:lnTo>
                <a:lnTo>
                  <a:pt x="43" y="863"/>
                </a:lnTo>
                <a:lnTo>
                  <a:pt x="39" y="852"/>
                </a:lnTo>
                <a:lnTo>
                  <a:pt x="37" y="840"/>
                </a:lnTo>
                <a:lnTo>
                  <a:pt x="33" y="828"/>
                </a:lnTo>
                <a:lnTo>
                  <a:pt x="31" y="819"/>
                </a:lnTo>
                <a:lnTo>
                  <a:pt x="25" y="807"/>
                </a:lnTo>
                <a:lnTo>
                  <a:pt x="23" y="795"/>
                </a:lnTo>
                <a:lnTo>
                  <a:pt x="19" y="784"/>
                </a:lnTo>
                <a:lnTo>
                  <a:pt x="18" y="774"/>
                </a:lnTo>
                <a:lnTo>
                  <a:pt x="16" y="762"/>
                </a:lnTo>
                <a:lnTo>
                  <a:pt x="14" y="751"/>
                </a:lnTo>
                <a:lnTo>
                  <a:pt x="12" y="739"/>
                </a:lnTo>
                <a:lnTo>
                  <a:pt x="12" y="729"/>
                </a:lnTo>
                <a:lnTo>
                  <a:pt x="10" y="718"/>
                </a:lnTo>
                <a:lnTo>
                  <a:pt x="8" y="706"/>
                </a:lnTo>
                <a:lnTo>
                  <a:pt x="6" y="695"/>
                </a:lnTo>
                <a:lnTo>
                  <a:pt x="6" y="685"/>
                </a:lnTo>
                <a:lnTo>
                  <a:pt x="6" y="673"/>
                </a:lnTo>
                <a:lnTo>
                  <a:pt x="6" y="664"/>
                </a:lnTo>
                <a:lnTo>
                  <a:pt x="6" y="652"/>
                </a:lnTo>
                <a:lnTo>
                  <a:pt x="6" y="642"/>
                </a:lnTo>
                <a:lnTo>
                  <a:pt x="4" y="631"/>
                </a:lnTo>
                <a:lnTo>
                  <a:pt x="4" y="619"/>
                </a:lnTo>
                <a:lnTo>
                  <a:pt x="4" y="607"/>
                </a:lnTo>
                <a:lnTo>
                  <a:pt x="4" y="596"/>
                </a:lnTo>
                <a:lnTo>
                  <a:pt x="4" y="584"/>
                </a:lnTo>
                <a:lnTo>
                  <a:pt x="4" y="572"/>
                </a:lnTo>
                <a:lnTo>
                  <a:pt x="4" y="561"/>
                </a:lnTo>
                <a:lnTo>
                  <a:pt x="4" y="551"/>
                </a:lnTo>
                <a:lnTo>
                  <a:pt x="4" y="539"/>
                </a:lnTo>
                <a:lnTo>
                  <a:pt x="4" y="528"/>
                </a:lnTo>
                <a:lnTo>
                  <a:pt x="4" y="516"/>
                </a:lnTo>
                <a:lnTo>
                  <a:pt x="4" y="505"/>
                </a:lnTo>
                <a:lnTo>
                  <a:pt x="4" y="493"/>
                </a:lnTo>
                <a:lnTo>
                  <a:pt x="4" y="481"/>
                </a:lnTo>
                <a:lnTo>
                  <a:pt x="4" y="470"/>
                </a:lnTo>
                <a:lnTo>
                  <a:pt x="6" y="460"/>
                </a:lnTo>
                <a:lnTo>
                  <a:pt x="4" y="446"/>
                </a:lnTo>
                <a:lnTo>
                  <a:pt x="2" y="435"/>
                </a:lnTo>
                <a:lnTo>
                  <a:pt x="0" y="423"/>
                </a:lnTo>
                <a:lnTo>
                  <a:pt x="0" y="411"/>
                </a:lnTo>
                <a:lnTo>
                  <a:pt x="0" y="400"/>
                </a:lnTo>
                <a:lnTo>
                  <a:pt x="0" y="388"/>
                </a:lnTo>
                <a:lnTo>
                  <a:pt x="0" y="377"/>
                </a:lnTo>
                <a:lnTo>
                  <a:pt x="0" y="365"/>
                </a:lnTo>
                <a:lnTo>
                  <a:pt x="0" y="351"/>
                </a:lnTo>
                <a:lnTo>
                  <a:pt x="0" y="340"/>
                </a:lnTo>
                <a:lnTo>
                  <a:pt x="0" y="328"/>
                </a:lnTo>
                <a:lnTo>
                  <a:pt x="0" y="316"/>
                </a:lnTo>
                <a:lnTo>
                  <a:pt x="0" y="305"/>
                </a:lnTo>
                <a:lnTo>
                  <a:pt x="2" y="293"/>
                </a:lnTo>
                <a:lnTo>
                  <a:pt x="4" y="282"/>
                </a:lnTo>
                <a:lnTo>
                  <a:pt x="6" y="270"/>
                </a:lnTo>
                <a:lnTo>
                  <a:pt x="10" y="270"/>
                </a:lnTo>
                <a:lnTo>
                  <a:pt x="14" y="268"/>
                </a:lnTo>
                <a:lnTo>
                  <a:pt x="8" y="262"/>
                </a:lnTo>
                <a:lnTo>
                  <a:pt x="12" y="252"/>
                </a:lnTo>
                <a:lnTo>
                  <a:pt x="14" y="243"/>
                </a:lnTo>
                <a:lnTo>
                  <a:pt x="14" y="233"/>
                </a:lnTo>
                <a:lnTo>
                  <a:pt x="16" y="225"/>
                </a:lnTo>
                <a:lnTo>
                  <a:pt x="19" y="229"/>
                </a:lnTo>
                <a:lnTo>
                  <a:pt x="19" y="214"/>
                </a:lnTo>
                <a:lnTo>
                  <a:pt x="23" y="200"/>
                </a:lnTo>
                <a:lnTo>
                  <a:pt x="27" y="187"/>
                </a:lnTo>
                <a:lnTo>
                  <a:pt x="33" y="175"/>
                </a:lnTo>
                <a:lnTo>
                  <a:pt x="37" y="161"/>
                </a:lnTo>
                <a:lnTo>
                  <a:pt x="43" y="150"/>
                </a:lnTo>
                <a:lnTo>
                  <a:pt x="49" y="138"/>
                </a:lnTo>
                <a:lnTo>
                  <a:pt x="56" y="126"/>
                </a:lnTo>
                <a:lnTo>
                  <a:pt x="62" y="109"/>
                </a:lnTo>
                <a:lnTo>
                  <a:pt x="68" y="92"/>
                </a:lnTo>
                <a:lnTo>
                  <a:pt x="76" y="76"/>
                </a:lnTo>
                <a:lnTo>
                  <a:pt x="83" y="60"/>
                </a:lnTo>
                <a:lnTo>
                  <a:pt x="91" y="43"/>
                </a:lnTo>
                <a:lnTo>
                  <a:pt x="101" y="29"/>
                </a:lnTo>
                <a:lnTo>
                  <a:pt x="109" y="14"/>
                </a:lnTo>
                <a:lnTo>
                  <a:pt x="11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04" name=""/>
          <p:cNvSpPr/>
          <p:nvPr/>
        </p:nvSpPr>
        <p:spPr>
          <a:xfrm>
            <a:off x="2800440" y="4317840"/>
            <a:ext cx="1096920" cy="1468440"/>
          </a:xfrm>
          <a:custGeom>
            <a:avLst/>
            <a:gdLst/>
            <a:ahLst/>
            <a:rect l="l" t="t" r="r" b="b"/>
            <a:pathLst>
              <a:path w="1383" h="1849">
                <a:moveTo>
                  <a:pt x="130" y="25"/>
                </a:moveTo>
                <a:lnTo>
                  <a:pt x="116" y="17"/>
                </a:lnTo>
                <a:lnTo>
                  <a:pt x="108" y="11"/>
                </a:lnTo>
                <a:lnTo>
                  <a:pt x="101" y="5"/>
                </a:lnTo>
                <a:lnTo>
                  <a:pt x="95" y="1"/>
                </a:lnTo>
                <a:lnTo>
                  <a:pt x="87" y="0"/>
                </a:lnTo>
                <a:lnTo>
                  <a:pt x="81" y="5"/>
                </a:lnTo>
                <a:lnTo>
                  <a:pt x="72" y="13"/>
                </a:lnTo>
                <a:lnTo>
                  <a:pt x="62" y="31"/>
                </a:lnTo>
                <a:lnTo>
                  <a:pt x="54" y="36"/>
                </a:lnTo>
                <a:lnTo>
                  <a:pt x="46" y="44"/>
                </a:lnTo>
                <a:lnTo>
                  <a:pt x="40" y="52"/>
                </a:lnTo>
                <a:lnTo>
                  <a:pt x="39" y="65"/>
                </a:lnTo>
                <a:lnTo>
                  <a:pt x="31" y="81"/>
                </a:lnTo>
                <a:lnTo>
                  <a:pt x="23" y="98"/>
                </a:lnTo>
                <a:lnTo>
                  <a:pt x="15" y="118"/>
                </a:lnTo>
                <a:lnTo>
                  <a:pt x="9" y="139"/>
                </a:lnTo>
                <a:lnTo>
                  <a:pt x="6" y="149"/>
                </a:lnTo>
                <a:lnTo>
                  <a:pt x="4" y="160"/>
                </a:lnTo>
                <a:lnTo>
                  <a:pt x="0" y="170"/>
                </a:lnTo>
                <a:lnTo>
                  <a:pt x="0" y="182"/>
                </a:lnTo>
                <a:lnTo>
                  <a:pt x="0" y="201"/>
                </a:lnTo>
                <a:lnTo>
                  <a:pt x="6" y="221"/>
                </a:lnTo>
                <a:lnTo>
                  <a:pt x="6" y="234"/>
                </a:lnTo>
                <a:lnTo>
                  <a:pt x="6" y="250"/>
                </a:lnTo>
                <a:lnTo>
                  <a:pt x="6" y="265"/>
                </a:lnTo>
                <a:lnTo>
                  <a:pt x="6" y="281"/>
                </a:lnTo>
                <a:lnTo>
                  <a:pt x="6" y="296"/>
                </a:lnTo>
                <a:lnTo>
                  <a:pt x="8" y="312"/>
                </a:lnTo>
                <a:lnTo>
                  <a:pt x="9" y="329"/>
                </a:lnTo>
                <a:lnTo>
                  <a:pt x="13" y="347"/>
                </a:lnTo>
                <a:lnTo>
                  <a:pt x="15" y="362"/>
                </a:lnTo>
                <a:lnTo>
                  <a:pt x="19" y="380"/>
                </a:lnTo>
                <a:lnTo>
                  <a:pt x="21" y="397"/>
                </a:lnTo>
                <a:lnTo>
                  <a:pt x="27" y="414"/>
                </a:lnTo>
                <a:lnTo>
                  <a:pt x="31" y="432"/>
                </a:lnTo>
                <a:lnTo>
                  <a:pt x="37" y="449"/>
                </a:lnTo>
                <a:lnTo>
                  <a:pt x="42" y="467"/>
                </a:lnTo>
                <a:lnTo>
                  <a:pt x="50" y="486"/>
                </a:lnTo>
                <a:lnTo>
                  <a:pt x="56" y="504"/>
                </a:lnTo>
                <a:lnTo>
                  <a:pt x="64" y="521"/>
                </a:lnTo>
                <a:lnTo>
                  <a:pt x="72" y="540"/>
                </a:lnTo>
                <a:lnTo>
                  <a:pt x="81" y="560"/>
                </a:lnTo>
                <a:lnTo>
                  <a:pt x="91" y="577"/>
                </a:lnTo>
                <a:lnTo>
                  <a:pt x="103" y="597"/>
                </a:lnTo>
                <a:lnTo>
                  <a:pt x="114" y="616"/>
                </a:lnTo>
                <a:lnTo>
                  <a:pt x="128" y="637"/>
                </a:lnTo>
                <a:lnTo>
                  <a:pt x="139" y="655"/>
                </a:lnTo>
                <a:lnTo>
                  <a:pt x="155" y="676"/>
                </a:lnTo>
                <a:lnTo>
                  <a:pt x="163" y="686"/>
                </a:lnTo>
                <a:lnTo>
                  <a:pt x="170" y="696"/>
                </a:lnTo>
                <a:lnTo>
                  <a:pt x="178" y="707"/>
                </a:lnTo>
                <a:lnTo>
                  <a:pt x="188" y="719"/>
                </a:lnTo>
                <a:lnTo>
                  <a:pt x="205" y="738"/>
                </a:lnTo>
                <a:lnTo>
                  <a:pt x="223" y="760"/>
                </a:lnTo>
                <a:lnTo>
                  <a:pt x="232" y="771"/>
                </a:lnTo>
                <a:lnTo>
                  <a:pt x="242" y="783"/>
                </a:lnTo>
                <a:lnTo>
                  <a:pt x="254" y="794"/>
                </a:lnTo>
                <a:lnTo>
                  <a:pt x="265" y="806"/>
                </a:lnTo>
                <a:lnTo>
                  <a:pt x="273" y="814"/>
                </a:lnTo>
                <a:lnTo>
                  <a:pt x="285" y="824"/>
                </a:lnTo>
                <a:lnTo>
                  <a:pt x="296" y="831"/>
                </a:lnTo>
                <a:lnTo>
                  <a:pt x="312" y="841"/>
                </a:lnTo>
                <a:lnTo>
                  <a:pt x="324" y="849"/>
                </a:lnTo>
                <a:lnTo>
                  <a:pt x="335" y="860"/>
                </a:lnTo>
                <a:lnTo>
                  <a:pt x="343" y="872"/>
                </a:lnTo>
                <a:lnTo>
                  <a:pt x="347" y="888"/>
                </a:lnTo>
                <a:lnTo>
                  <a:pt x="351" y="899"/>
                </a:lnTo>
                <a:lnTo>
                  <a:pt x="355" y="911"/>
                </a:lnTo>
                <a:lnTo>
                  <a:pt x="355" y="921"/>
                </a:lnTo>
                <a:lnTo>
                  <a:pt x="357" y="930"/>
                </a:lnTo>
                <a:lnTo>
                  <a:pt x="351" y="948"/>
                </a:lnTo>
                <a:lnTo>
                  <a:pt x="339" y="961"/>
                </a:lnTo>
                <a:lnTo>
                  <a:pt x="329" y="965"/>
                </a:lnTo>
                <a:lnTo>
                  <a:pt x="322" y="969"/>
                </a:lnTo>
                <a:lnTo>
                  <a:pt x="310" y="971"/>
                </a:lnTo>
                <a:lnTo>
                  <a:pt x="298" y="975"/>
                </a:lnTo>
                <a:lnTo>
                  <a:pt x="285" y="977"/>
                </a:lnTo>
                <a:lnTo>
                  <a:pt x="273" y="979"/>
                </a:lnTo>
                <a:lnTo>
                  <a:pt x="260" y="981"/>
                </a:lnTo>
                <a:lnTo>
                  <a:pt x="246" y="983"/>
                </a:lnTo>
                <a:lnTo>
                  <a:pt x="229" y="981"/>
                </a:lnTo>
                <a:lnTo>
                  <a:pt x="213" y="981"/>
                </a:lnTo>
                <a:lnTo>
                  <a:pt x="198" y="981"/>
                </a:lnTo>
                <a:lnTo>
                  <a:pt x="184" y="981"/>
                </a:lnTo>
                <a:lnTo>
                  <a:pt x="167" y="979"/>
                </a:lnTo>
                <a:lnTo>
                  <a:pt x="153" y="979"/>
                </a:lnTo>
                <a:lnTo>
                  <a:pt x="137" y="977"/>
                </a:lnTo>
                <a:lnTo>
                  <a:pt x="126" y="977"/>
                </a:lnTo>
                <a:lnTo>
                  <a:pt x="112" y="975"/>
                </a:lnTo>
                <a:lnTo>
                  <a:pt x="101" y="973"/>
                </a:lnTo>
                <a:lnTo>
                  <a:pt x="89" y="973"/>
                </a:lnTo>
                <a:lnTo>
                  <a:pt x="79" y="973"/>
                </a:lnTo>
                <a:lnTo>
                  <a:pt x="64" y="971"/>
                </a:lnTo>
                <a:lnTo>
                  <a:pt x="54" y="971"/>
                </a:lnTo>
                <a:lnTo>
                  <a:pt x="64" y="977"/>
                </a:lnTo>
                <a:lnTo>
                  <a:pt x="83" y="992"/>
                </a:lnTo>
                <a:lnTo>
                  <a:pt x="93" y="1000"/>
                </a:lnTo>
                <a:lnTo>
                  <a:pt x="103" y="1008"/>
                </a:lnTo>
                <a:lnTo>
                  <a:pt x="108" y="1012"/>
                </a:lnTo>
                <a:lnTo>
                  <a:pt x="112" y="1016"/>
                </a:lnTo>
                <a:lnTo>
                  <a:pt x="130" y="1021"/>
                </a:lnTo>
                <a:lnTo>
                  <a:pt x="147" y="1027"/>
                </a:lnTo>
                <a:lnTo>
                  <a:pt x="165" y="1033"/>
                </a:lnTo>
                <a:lnTo>
                  <a:pt x="182" y="1041"/>
                </a:lnTo>
                <a:lnTo>
                  <a:pt x="200" y="1047"/>
                </a:lnTo>
                <a:lnTo>
                  <a:pt x="217" y="1054"/>
                </a:lnTo>
                <a:lnTo>
                  <a:pt x="234" y="1062"/>
                </a:lnTo>
                <a:lnTo>
                  <a:pt x="252" y="1074"/>
                </a:lnTo>
                <a:lnTo>
                  <a:pt x="267" y="1081"/>
                </a:lnTo>
                <a:lnTo>
                  <a:pt x="285" y="1093"/>
                </a:lnTo>
                <a:lnTo>
                  <a:pt x="300" y="1105"/>
                </a:lnTo>
                <a:lnTo>
                  <a:pt x="318" y="1116"/>
                </a:lnTo>
                <a:lnTo>
                  <a:pt x="333" y="1128"/>
                </a:lnTo>
                <a:lnTo>
                  <a:pt x="349" y="1144"/>
                </a:lnTo>
                <a:lnTo>
                  <a:pt x="364" y="1161"/>
                </a:lnTo>
                <a:lnTo>
                  <a:pt x="382" y="1178"/>
                </a:lnTo>
                <a:lnTo>
                  <a:pt x="395" y="1194"/>
                </a:lnTo>
                <a:lnTo>
                  <a:pt x="411" y="1213"/>
                </a:lnTo>
                <a:lnTo>
                  <a:pt x="417" y="1221"/>
                </a:lnTo>
                <a:lnTo>
                  <a:pt x="426" y="1231"/>
                </a:lnTo>
                <a:lnTo>
                  <a:pt x="432" y="1242"/>
                </a:lnTo>
                <a:lnTo>
                  <a:pt x="442" y="1254"/>
                </a:lnTo>
                <a:lnTo>
                  <a:pt x="448" y="1266"/>
                </a:lnTo>
                <a:lnTo>
                  <a:pt x="456" y="1277"/>
                </a:lnTo>
                <a:lnTo>
                  <a:pt x="463" y="1289"/>
                </a:lnTo>
                <a:lnTo>
                  <a:pt x="473" y="1301"/>
                </a:lnTo>
                <a:lnTo>
                  <a:pt x="479" y="1312"/>
                </a:lnTo>
                <a:lnTo>
                  <a:pt x="487" y="1326"/>
                </a:lnTo>
                <a:lnTo>
                  <a:pt x="494" y="1339"/>
                </a:lnTo>
                <a:lnTo>
                  <a:pt x="504" y="1355"/>
                </a:lnTo>
                <a:lnTo>
                  <a:pt x="510" y="1366"/>
                </a:lnTo>
                <a:lnTo>
                  <a:pt x="518" y="1382"/>
                </a:lnTo>
                <a:lnTo>
                  <a:pt x="525" y="1396"/>
                </a:lnTo>
                <a:lnTo>
                  <a:pt x="533" y="1413"/>
                </a:lnTo>
                <a:lnTo>
                  <a:pt x="539" y="1429"/>
                </a:lnTo>
                <a:lnTo>
                  <a:pt x="547" y="1446"/>
                </a:lnTo>
                <a:lnTo>
                  <a:pt x="554" y="1463"/>
                </a:lnTo>
                <a:lnTo>
                  <a:pt x="564" y="1481"/>
                </a:lnTo>
                <a:lnTo>
                  <a:pt x="570" y="1498"/>
                </a:lnTo>
                <a:lnTo>
                  <a:pt x="578" y="1516"/>
                </a:lnTo>
                <a:lnTo>
                  <a:pt x="585" y="1533"/>
                </a:lnTo>
                <a:lnTo>
                  <a:pt x="593" y="1553"/>
                </a:lnTo>
                <a:lnTo>
                  <a:pt x="599" y="1572"/>
                </a:lnTo>
                <a:lnTo>
                  <a:pt x="607" y="1593"/>
                </a:lnTo>
                <a:lnTo>
                  <a:pt x="615" y="1613"/>
                </a:lnTo>
                <a:lnTo>
                  <a:pt x="624" y="1636"/>
                </a:lnTo>
                <a:lnTo>
                  <a:pt x="624" y="1642"/>
                </a:lnTo>
                <a:lnTo>
                  <a:pt x="626" y="1652"/>
                </a:lnTo>
                <a:lnTo>
                  <a:pt x="628" y="1663"/>
                </a:lnTo>
                <a:lnTo>
                  <a:pt x="630" y="1681"/>
                </a:lnTo>
                <a:lnTo>
                  <a:pt x="630" y="1694"/>
                </a:lnTo>
                <a:lnTo>
                  <a:pt x="632" y="1712"/>
                </a:lnTo>
                <a:lnTo>
                  <a:pt x="634" y="1731"/>
                </a:lnTo>
                <a:lnTo>
                  <a:pt x="636" y="1750"/>
                </a:lnTo>
                <a:lnTo>
                  <a:pt x="636" y="1766"/>
                </a:lnTo>
                <a:lnTo>
                  <a:pt x="640" y="1783"/>
                </a:lnTo>
                <a:lnTo>
                  <a:pt x="640" y="1799"/>
                </a:lnTo>
                <a:lnTo>
                  <a:pt x="644" y="1814"/>
                </a:lnTo>
                <a:lnTo>
                  <a:pt x="646" y="1826"/>
                </a:lnTo>
                <a:lnTo>
                  <a:pt x="649" y="1838"/>
                </a:lnTo>
                <a:lnTo>
                  <a:pt x="651" y="1843"/>
                </a:lnTo>
                <a:lnTo>
                  <a:pt x="657" y="1849"/>
                </a:lnTo>
                <a:lnTo>
                  <a:pt x="661" y="1849"/>
                </a:lnTo>
                <a:lnTo>
                  <a:pt x="677" y="1836"/>
                </a:lnTo>
                <a:lnTo>
                  <a:pt x="690" y="1824"/>
                </a:lnTo>
                <a:lnTo>
                  <a:pt x="702" y="1809"/>
                </a:lnTo>
                <a:lnTo>
                  <a:pt x="713" y="1793"/>
                </a:lnTo>
                <a:lnTo>
                  <a:pt x="721" y="1772"/>
                </a:lnTo>
                <a:lnTo>
                  <a:pt x="731" y="1752"/>
                </a:lnTo>
                <a:lnTo>
                  <a:pt x="737" y="1733"/>
                </a:lnTo>
                <a:lnTo>
                  <a:pt x="744" y="1714"/>
                </a:lnTo>
                <a:lnTo>
                  <a:pt x="746" y="1702"/>
                </a:lnTo>
                <a:lnTo>
                  <a:pt x="748" y="1692"/>
                </a:lnTo>
                <a:lnTo>
                  <a:pt x="750" y="1681"/>
                </a:lnTo>
                <a:lnTo>
                  <a:pt x="754" y="1671"/>
                </a:lnTo>
                <a:lnTo>
                  <a:pt x="760" y="1650"/>
                </a:lnTo>
                <a:lnTo>
                  <a:pt x="768" y="1632"/>
                </a:lnTo>
                <a:lnTo>
                  <a:pt x="774" y="1613"/>
                </a:lnTo>
                <a:lnTo>
                  <a:pt x="783" y="1595"/>
                </a:lnTo>
                <a:lnTo>
                  <a:pt x="793" y="1578"/>
                </a:lnTo>
                <a:lnTo>
                  <a:pt x="807" y="1566"/>
                </a:lnTo>
                <a:lnTo>
                  <a:pt x="810" y="1572"/>
                </a:lnTo>
                <a:lnTo>
                  <a:pt x="816" y="1580"/>
                </a:lnTo>
                <a:lnTo>
                  <a:pt x="828" y="1570"/>
                </a:lnTo>
                <a:lnTo>
                  <a:pt x="841" y="1560"/>
                </a:lnTo>
                <a:lnTo>
                  <a:pt x="853" y="1549"/>
                </a:lnTo>
                <a:lnTo>
                  <a:pt x="867" y="1539"/>
                </a:lnTo>
                <a:lnTo>
                  <a:pt x="876" y="1524"/>
                </a:lnTo>
                <a:lnTo>
                  <a:pt x="886" y="1510"/>
                </a:lnTo>
                <a:lnTo>
                  <a:pt x="896" y="1494"/>
                </a:lnTo>
                <a:lnTo>
                  <a:pt x="905" y="1481"/>
                </a:lnTo>
                <a:lnTo>
                  <a:pt x="911" y="1462"/>
                </a:lnTo>
                <a:lnTo>
                  <a:pt x="919" y="1444"/>
                </a:lnTo>
                <a:lnTo>
                  <a:pt x="927" y="1427"/>
                </a:lnTo>
                <a:lnTo>
                  <a:pt x="935" y="1409"/>
                </a:lnTo>
                <a:lnTo>
                  <a:pt x="940" y="1388"/>
                </a:lnTo>
                <a:lnTo>
                  <a:pt x="946" y="1370"/>
                </a:lnTo>
                <a:lnTo>
                  <a:pt x="952" y="1349"/>
                </a:lnTo>
                <a:lnTo>
                  <a:pt x="960" y="1332"/>
                </a:lnTo>
                <a:lnTo>
                  <a:pt x="962" y="1320"/>
                </a:lnTo>
                <a:lnTo>
                  <a:pt x="964" y="1310"/>
                </a:lnTo>
                <a:lnTo>
                  <a:pt x="966" y="1299"/>
                </a:lnTo>
                <a:lnTo>
                  <a:pt x="969" y="1289"/>
                </a:lnTo>
                <a:lnTo>
                  <a:pt x="975" y="1268"/>
                </a:lnTo>
                <a:lnTo>
                  <a:pt x="981" y="1248"/>
                </a:lnTo>
                <a:lnTo>
                  <a:pt x="987" y="1227"/>
                </a:lnTo>
                <a:lnTo>
                  <a:pt x="993" y="1208"/>
                </a:lnTo>
                <a:lnTo>
                  <a:pt x="1000" y="1188"/>
                </a:lnTo>
                <a:lnTo>
                  <a:pt x="1008" y="1171"/>
                </a:lnTo>
                <a:lnTo>
                  <a:pt x="1014" y="1151"/>
                </a:lnTo>
                <a:lnTo>
                  <a:pt x="1022" y="1132"/>
                </a:lnTo>
                <a:lnTo>
                  <a:pt x="1030" y="1114"/>
                </a:lnTo>
                <a:lnTo>
                  <a:pt x="1041" y="1099"/>
                </a:lnTo>
                <a:lnTo>
                  <a:pt x="1051" y="1081"/>
                </a:lnTo>
                <a:lnTo>
                  <a:pt x="1061" y="1068"/>
                </a:lnTo>
                <a:lnTo>
                  <a:pt x="1072" y="1054"/>
                </a:lnTo>
                <a:lnTo>
                  <a:pt x="1086" y="1043"/>
                </a:lnTo>
                <a:lnTo>
                  <a:pt x="1101" y="1025"/>
                </a:lnTo>
                <a:lnTo>
                  <a:pt x="1119" y="1016"/>
                </a:lnTo>
                <a:lnTo>
                  <a:pt x="1134" y="1010"/>
                </a:lnTo>
                <a:lnTo>
                  <a:pt x="1152" y="1012"/>
                </a:lnTo>
                <a:lnTo>
                  <a:pt x="1165" y="1016"/>
                </a:lnTo>
                <a:lnTo>
                  <a:pt x="1181" y="1023"/>
                </a:lnTo>
                <a:lnTo>
                  <a:pt x="1192" y="1035"/>
                </a:lnTo>
                <a:lnTo>
                  <a:pt x="1206" y="1050"/>
                </a:lnTo>
                <a:lnTo>
                  <a:pt x="1216" y="1066"/>
                </a:lnTo>
                <a:lnTo>
                  <a:pt x="1225" y="1085"/>
                </a:lnTo>
                <a:lnTo>
                  <a:pt x="1233" y="1105"/>
                </a:lnTo>
                <a:lnTo>
                  <a:pt x="1241" y="1126"/>
                </a:lnTo>
                <a:lnTo>
                  <a:pt x="1243" y="1136"/>
                </a:lnTo>
                <a:lnTo>
                  <a:pt x="1245" y="1147"/>
                </a:lnTo>
                <a:lnTo>
                  <a:pt x="1247" y="1157"/>
                </a:lnTo>
                <a:lnTo>
                  <a:pt x="1251" y="1169"/>
                </a:lnTo>
                <a:lnTo>
                  <a:pt x="1251" y="1178"/>
                </a:lnTo>
                <a:lnTo>
                  <a:pt x="1253" y="1190"/>
                </a:lnTo>
                <a:lnTo>
                  <a:pt x="1253" y="1200"/>
                </a:lnTo>
                <a:lnTo>
                  <a:pt x="1255" y="1211"/>
                </a:lnTo>
                <a:lnTo>
                  <a:pt x="1295" y="1095"/>
                </a:lnTo>
                <a:lnTo>
                  <a:pt x="1301" y="1076"/>
                </a:lnTo>
                <a:lnTo>
                  <a:pt x="1307" y="1056"/>
                </a:lnTo>
                <a:lnTo>
                  <a:pt x="1313" y="1037"/>
                </a:lnTo>
                <a:lnTo>
                  <a:pt x="1319" y="1017"/>
                </a:lnTo>
                <a:lnTo>
                  <a:pt x="1320" y="1006"/>
                </a:lnTo>
                <a:lnTo>
                  <a:pt x="1324" y="996"/>
                </a:lnTo>
                <a:lnTo>
                  <a:pt x="1326" y="985"/>
                </a:lnTo>
                <a:lnTo>
                  <a:pt x="1330" y="975"/>
                </a:lnTo>
                <a:lnTo>
                  <a:pt x="1332" y="963"/>
                </a:lnTo>
                <a:lnTo>
                  <a:pt x="1336" y="953"/>
                </a:lnTo>
                <a:lnTo>
                  <a:pt x="1338" y="942"/>
                </a:lnTo>
                <a:lnTo>
                  <a:pt x="1342" y="932"/>
                </a:lnTo>
                <a:lnTo>
                  <a:pt x="1344" y="921"/>
                </a:lnTo>
                <a:lnTo>
                  <a:pt x="1346" y="909"/>
                </a:lnTo>
                <a:lnTo>
                  <a:pt x="1348" y="897"/>
                </a:lnTo>
                <a:lnTo>
                  <a:pt x="1351" y="888"/>
                </a:lnTo>
                <a:lnTo>
                  <a:pt x="1353" y="876"/>
                </a:lnTo>
                <a:lnTo>
                  <a:pt x="1357" y="864"/>
                </a:lnTo>
                <a:lnTo>
                  <a:pt x="1359" y="853"/>
                </a:lnTo>
                <a:lnTo>
                  <a:pt x="1363" y="843"/>
                </a:lnTo>
                <a:lnTo>
                  <a:pt x="1365" y="831"/>
                </a:lnTo>
                <a:lnTo>
                  <a:pt x="1367" y="820"/>
                </a:lnTo>
                <a:lnTo>
                  <a:pt x="1369" y="808"/>
                </a:lnTo>
                <a:lnTo>
                  <a:pt x="1373" y="796"/>
                </a:lnTo>
                <a:lnTo>
                  <a:pt x="1375" y="785"/>
                </a:lnTo>
                <a:lnTo>
                  <a:pt x="1377" y="775"/>
                </a:lnTo>
                <a:lnTo>
                  <a:pt x="1379" y="763"/>
                </a:lnTo>
                <a:lnTo>
                  <a:pt x="1383" y="754"/>
                </a:lnTo>
                <a:lnTo>
                  <a:pt x="1365" y="742"/>
                </a:lnTo>
                <a:lnTo>
                  <a:pt x="1348" y="732"/>
                </a:lnTo>
                <a:lnTo>
                  <a:pt x="1330" y="721"/>
                </a:lnTo>
                <a:lnTo>
                  <a:pt x="1315" y="713"/>
                </a:lnTo>
                <a:lnTo>
                  <a:pt x="1309" y="723"/>
                </a:lnTo>
                <a:lnTo>
                  <a:pt x="1303" y="736"/>
                </a:lnTo>
                <a:lnTo>
                  <a:pt x="1295" y="748"/>
                </a:lnTo>
                <a:lnTo>
                  <a:pt x="1287" y="760"/>
                </a:lnTo>
                <a:lnTo>
                  <a:pt x="1280" y="763"/>
                </a:lnTo>
                <a:lnTo>
                  <a:pt x="1272" y="773"/>
                </a:lnTo>
                <a:lnTo>
                  <a:pt x="1266" y="783"/>
                </a:lnTo>
                <a:lnTo>
                  <a:pt x="1262" y="794"/>
                </a:lnTo>
                <a:lnTo>
                  <a:pt x="1256" y="806"/>
                </a:lnTo>
                <a:lnTo>
                  <a:pt x="1253" y="820"/>
                </a:lnTo>
                <a:lnTo>
                  <a:pt x="1251" y="831"/>
                </a:lnTo>
                <a:lnTo>
                  <a:pt x="1251" y="847"/>
                </a:lnTo>
                <a:lnTo>
                  <a:pt x="1251" y="860"/>
                </a:lnTo>
                <a:lnTo>
                  <a:pt x="1258" y="874"/>
                </a:lnTo>
                <a:lnTo>
                  <a:pt x="1266" y="886"/>
                </a:lnTo>
                <a:lnTo>
                  <a:pt x="1278" y="897"/>
                </a:lnTo>
                <a:lnTo>
                  <a:pt x="1287" y="907"/>
                </a:lnTo>
                <a:lnTo>
                  <a:pt x="1297" y="919"/>
                </a:lnTo>
                <a:lnTo>
                  <a:pt x="1303" y="930"/>
                </a:lnTo>
                <a:lnTo>
                  <a:pt x="1309" y="946"/>
                </a:lnTo>
                <a:lnTo>
                  <a:pt x="1297" y="946"/>
                </a:lnTo>
                <a:lnTo>
                  <a:pt x="1291" y="942"/>
                </a:lnTo>
                <a:lnTo>
                  <a:pt x="1286" y="932"/>
                </a:lnTo>
                <a:lnTo>
                  <a:pt x="1282" y="928"/>
                </a:lnTo>
                <a:lnTo>
                  <a:pt x="1264" y="919"/>
                </a:lnTo>
                <a:lnTo>
                  <a:pt x="1251" y="909"/>
                </a:lnTo>
                <a:lnTo>
                  <a:pt x="1233" y="895"/>
                </a:lnTo>
                <a:lnTo>
                  <a:pt x="1218" y="886"/>
                </a:lnTo>
                <a:lnTo>
                  <a:pt x="1204" y="880"/>
                </a:lnTo>
                <a:lnTo>
                  <a:pt x="1196" y="880"/>
                </a:lnTo>
                <a:lnTo>
                  <a:pt x="1189" y="884"/>
                </a:lnTo>
                <a:lnTo>
                  <a:pt x="1183" y="893"/>
                </a:lnTo>
                <a:lnTo>
                  <a:pt x="1175" y="903"/>
                </a:lnTo>
                <a:lnTo>
                  <a:pt x="1169" y="913"/>
                </a:lnTo>
                <a:lnTo>
                  <a:pt x="1161" y="921"/>
                </a:lnTo>
                <a:lnTo>
                  <a:pt x="1154" y="926"/>
                </a:lnTo>
                <a:lnTo>
                  <a:pt x="1148" y="934"/>
                </a:lnTo>
                <a:lnTo>
                  <a:pt x="1144" y="942"/>
                </a:lnTo>
                <a:lnTo>
                  <a:pt x="1136" y="948"/>
                </a:lnTo>
                <a:lnTo>
                  <a:pt x="1130" y="953"/>
                </a:lnTo>
                <a:lnTo>
                  <a:pt x="1121" y="957"/>
                </a:lnTo>
                <a:lnTo>
                  <a:pt x="1115" y="965"/>
                </a:lnTo>
                <a:lnTo>
                  <a:pt x="1107" y="971"/>
                </a:lnTo>
                <a:lnTo>
                  <a:pt x="1103" y="983"/>
                </a:lnTo>
                <a:lnTo>
                  <a:pt x="1086" y="994"/>
                </a:lnTo>
                <a:lnTo>
                  <a:pt x="1070" y="1008"/>
                </a:lnTo>
                <a:lnTo>
                  <a:pt x="1055" y="1021"/>
                </a:lnTo>
                <a:lnTo>
                  <a:pt x="1039" y="1035"/>
                </a:lnTo>
                <a:lnTo>
                  <a:pt x="1022" y="1047"/>
                </a:lnTo>
                <a:lnTo>
                  <a:pt x="1006" y="1060"/>
                </a:lnTo>
                <a:lnTo>
                  <a:pt x="991" y="1072"/>
                </a:lnTo>
                <a:lnTo>
                  <a:pt x="975" y="1085"/>
                </a:lnTo>
                <a:lnTo>
                  <a:pt x="958" y="1103"/>
                </a:lnTo>
                <a:lnTo>
                  <a:pt x="946" y="1120"/>
                </a:lnTo>
                <a:lnTo>
                  <a:pt x="935" y="1140"/>
                </a:lnTo>
                <a:lnTo>
                  <a:pt x="923" y="1161"/>
                </a:lnTo>
                <a:lnTo>
                  <a:pt x="911" y="1180"/>
                </a:lnTo>
                <a:lnTo>
                  <a:pt x="902" y="1202"/>
                </a:lnTo>
                <a:lnTo>
                  <a:pt x="896" y="1211"/>
                </a:lnTo>
                <a:lnTo>
                  <a:pt x="890" y="1221"/>
                </a:lnTo>
                <a:lnTo>
                  <a:pt x="886" y="1233"/>
                </a:lnTo>
                <a:lnTo>
                  <a:pt x="882" y="1244"/>
                </a:lnTo>
                <a:lnTo>
                  <a:pt x="871" y="1262"/>
                </a:lnTo>
                <a:lnTo>
                  <a:pt x="867" y="1281"/>
                </a:lnTo>
                <a:lnTo>
                  <a:pt x="861" y="1299"/>
                </a:lnTo>
                <a:lnTo>
                  <a:pt x="851" y="1316"/>
                </a:lnTo>
                <a:lnTo>
                  <a:pt x="847" y="1328"/>
                </a:lnTo>
                <a:lnTo>
                  <a:pt x="845" y="1339"/>
                </a:lnTo>
                <a:lnTo>
                  <a:pt x="841" y="1351"/>
                </a:lnTo>
                <a:lnTo>
                  <a:pt x="839" y="1363"/>
                </a:lnTo>
                <a:lnTo>
                  <a:pt x="836" y="1374"/>
                </a:lnTo>
                <a:lnTo>
                  <a:pt x="834" y="1386"/>
                </a:lnTo>
                <a:lnTo>
                  <a:pt x="832" y="1398"/>
                </a:lnTo>
                <a:lnTo>
                  <a:pt x="830" y="1411"/>
                </a:lnTo>
                <a:lnTo>
                  <a:pt x="826" y="1423"/>
                </a:lnTo>
                <a:lnTo>
                  <a:pt x="824" y="1434"/>
                </a:lnTo>
                <a:lnTo>
                  <a:pt x="820" y="1446"/>
                </a:lnTo>
                <a:lnTo>
                  <a:pt x="820" y="1458"/>
                </a:lnTo>
                <a:lnTo>
                  <a:pt x="816" y="1469"/>
                </a:lnTo>
                <a:lnTo>
                  <a:pt x="814" y="1481"/>
                </a:lnTo>
                <a:lnTo>
                  <a:pt x="812" y="1494"/>
                </a:lnTo>
                <a:lnTo>
                  <a:pt x="812" y="1510"/>
                </a:lnTo>
                <a:lnTo>
                  <a:pt x="803" y="1516"/>
                </a:lnTo>
                <a:lnTo>
                  <a:pt x="795" y="1516"/>
                </a:lnTo>
                <a:lnTo>
                  <a:pt x="793" y="1500"/>
                </a:lnTo>
                <a:lnTo>
                  <a:pt x="793" y="1487"/>
                </a:lnTo>
                <a:lnTo>
                  <a:pt x="793" y="1471"/>
                </a:lnTo>
                <a:lnTo>
                  <a:pt x="795" y="1458"/>
                </a:lnTo>
                <a:lnTo>
                  <a:pt x="795" y="1442"/>
                </a:lnTo>
                <a:lnTo>
                  <a:pt x="797" y="1429"/>
                </a:lnTo>
                <a:lnTo>
                  <a:pt x="799" y="1413"/>
                </a:lnTo>
                <a:lnTo>
                  <a:pt x="801" y="1401"/>
                </a:lnTo>
                <a:lnTo>
                  <a:pt x="801" y="1386"/>
                </a:lnTo>
                <a:lnTo>
                  <a:pt x="803" y="1372"/>
                </a:lnTo>
                <a:lnTo>
                  <a:pt x="805" y="1357"/>
                </a:lnTo>
                <a:lnTo>
                  <a:pt x="807" y="1343"/>
                </a:lnTo>
                <a:lnTo>
                  <a:pt x="807" y="1328"/>
                </a:lnTo>
                <a:lnTo>
                  <a:pt x="807" y="1314"/>
                </a:lnTo>
                <a:lnTo>
                  <a:pt x="807" y="1301"/>
                </a:lnTo>
                <a:lnTo>
                  <a:pt x="808" y="1287"/>
                </a:lnTo>
                <a:lnTo>
                  <a:pt x="795" y="1285"/>
                </a:lnTo>
                <a:lnTo>
                  <a:pt x="783" y="1285"/>
                </a:lnTo>
                <a:lnTo>
                  <a:pt x="772" y="1287"/>
                </a:lnTo>
                <a:lnTo>
                  <a:pt x="764" y="1299"/>
                </a:lnTo>
                <a:lnTo>
                  <a:pt x="754" y="1316"/>
                </a:lnTo>
                <a:lnTo>
                  <a:pt x="748" y="1337"/>
                </a:lnTo>
                <a:lnTo>
                  <a:pt x="743" y="1357"/>
                </a:lnTo>
                <a:lnTo>
                  <a:pt x="739" y="1378"/>
                </a:lnTo>
                <a:lnTo>
                  <a:pt x="735" y="1388"/>
                </a:lnTo>
                <a:lnTo>
                  <a:pt x="733" y="1399"/>
                </a:lnTo>
                <a:lnTo>
                  <a:pt x="729" y="1409"/>
                </a:lnTo>
                <a:lnTo>
                  <a:pt x="729" y="1421"/>
                </a:lnTo>
                <a:lnTo>
                  <a:pt x="727" y="1430"/>
                </a:lnTo>
                <a:lnTo>
                  <a:pt x="725" y="1442"/>
                </a:lnTo>
                <a:lnTo>
                  <a:pt x="725" y="1454"/>
                </a:lnTo>
                <a:lnTo>
                  <a:pt x="725" y="1465"/>
                </a:lnTo>
                <a:lnTo>
                  <a:pt x="721" y="1481"/>
                </a:lnTo>
                <a:lnTo>
                  <a:pt x="719" y="1496"/>
                </a:lnTo>
                <a:lnTo>
                  <a:pt x="717" y="1512"/>
                </a:lnTo>
                <a:lnTo>
                  <a:pt x="715" y="1529"/>
                </a:lnTo>
                <a:lnTo>
                  <a:pt x="713" y="1545"/>
                </a:lnTo>
                <a:lnTo>
                  <a:pt x="713" y="1560"/>
                </a:lnTo>
                <a:lnTo>
                  <a:pt x="713" y="1578"/>
                </a:lnTo>
                <a:lnTo>
                  <a:pt x="717" y="1597"/>
                </a:lnTo>
                <a:lnTo>
                  <a:pt x="708" y="1613"/>
                </a:lnTo>
                <a:lnTo>
                  <a:pt x="700" y="1630"/>
                </a:lnTo>
                <a:lnTo>
                  <a:pt x="690" y="1646"/>
                </a:lnTo>
                <a:lnTo>
                  <a:pt x="688" y="1665"/>
                </a:lnTo>
                <a:lnTo>
                  <a:pt x="686" y="1650"/>
                </a:lnTo>
                <a:lnTo>
                  <a:pt x="684" y="1636"/>
                </a:lnTo>
                <a:lnTo>
                  <a:pt x="682" y="1621"/>
                </a:lnTo>
                <a:lnTo>
                  <a:pt x="682" y="1607"/>
                </a:lnTo>
                <a:lnTo>
                  <a:pt x="682" y="1591"/>
                </a:lnTo>
                <a:lnTo>
                  <a:pt x="682" y="1578"/>
                </a:lnTo>
                <a:lnTo>
                  <a:pt x="682" y="1562"/>
                </a:lnTo>
                <a:lnTo>
                  <a:pt x="682" y="1551"/>
                </a:lnTo>
                <a:lnTo>
                  <a:pt x="682" y="1535"/>
                </a:lnTo>
                <a:lnTo>
                  <a:pt x="682" y="1522"/>
                </a:lnTo>
                <a:lnTo>
                  <a:pt x="682" y="1506"/>
                </a:lnTo>
                <a:lnTo>
                  <a:pt x="682" y="1493"/>
                </a:lnTo>
                <a:lnTo>
                  <a:pt x="682" y="1477"/>
                </a:lnTo>
                <a:lnTo>
                  <a:pt x="684" y="1463"/>
                </a:lnTo>
                <a:lnTo>
                  <a:pt x="684" y="1448"/>
                </a:lnTo>
                <a:lnTo>
                  <a:pt x="686" y="1436"/>
                </a:lnTo>
                <a:lnTo>
                  <a:pt x="684" y="1421"/>
                </a:lnTo>
                <a:lnTo>
                  <a:pt x="684" y="1407"/>
                </a:lnTo>
                <a:lnTo>
                  <a:pt x="684" y="1392"/>
                </a:lnTo>
                <a:lnTo>
                  <a:pt x="684" y="1378"/>
                </a:lnTo>
                <a:lnTo>
                  <a:pt x="684" y="1363"/>
                </a:lnTo>
                <a:lnTo>
                  <a:pt x="684" y="1349"/>
                </a:lnTo>
                <a:lnTo>
                  <a:pt x="684" y="1334"/>
                </a:lnTo>
                <a:lnTo>
                  <a:pt x="684" y="1320"/>
                </a:lnTo>
                <a:lnTo>
                  <a:pt x="682" y="1304"/>
                </a:lnTo>
                <a:lnTo>
                  <a:pt x="680" y="1291"/>
                </a:lnTo>
                <a:lnTo>
                  <a:pt x="679" y="1275"/>
                </a:lnTo>
                <a:lnTo>
                  <a:pt x="679" y="1264"/>
                </a:lnTo>
                <a:lnTo>
                  <a:pt x="677" y="1248"/>
                </a:lnTo>
                <a:lnTo>
                  <a:pt x="675" y="1235"/>
                </a:lnTo>
                <a:lnTo>
                  <a:pt x="673" y="1219"/>
                </a:lnTo>
                <a:lnTo>
                  <a:pt x="673" y="1208"/>
                </a:lnTo>
                <a:lnTo>
                  <a:pt x="667" y="1190"/>
                </a:lnTo>
                <a:lnTo>
                  <a:pt x="659" y="1173"/>
                </a:lnTo>
                <a:lnTo>
                  <a:pt x="649" y="1157"/>
                </a:lnTo>
                <a:lnTo>
                  <a:pt x="642" y="1144"/>
                </a:lnTo>
                <a:lnTo>
                  <a:pt x="628" y="1128"/>
                </a:lnTo>
                <a:lnTo>
                  <a:pt x="616" y="1114"/>
                </a:lnTo>
                <a:lnTo>
                  <a:pt x="605" y="1099"/>
                </a:lnTo>
                <a:lnTo>
                  <a:pt x="595" y="1085"/>
                </a:lnTo>
                <a:lnTo>
                  <a:pt x="585" y="1074"/>
                </a:lnTo>
                <a:lnTo>
                  <a:pt x="576" y="1064"/>
                </a:lnTo>
                <a:lnTo>
                  <a:pt x="564" y="1054"/>
                </a:lnTo>
                <a:lnTo>
                  <a:pt x="554" y="1049"/>
                </a:lnTo>
                <a:lnTo>
                  <a:pt x="543" y="1041"/>
                </a:lnTo>
                <a:lnTo>
                  <a:pt x="531" y="1035"/>
                </a:lnTo>
                <a:lnTo>
                  <a:pt x="520" y="1029"/>
                </a:lnTo>
                <a:lnTo>
                  <a:pt x="508" y="1025"/>
                </a:lnTo>
                <a:lnTo>
                  <a:pt x="494" y="1019"/>
                </a:lnTo>
                <a:lnTo>
                  <a:pt x="483" y="1014"/>
                </a:lnTo>
                <a:lnTo>
                  <a:pt x="471" y="1008"/>
                </a:lnTo>
                <a:lnTo>
                  <a:pt x="459" y="1004"/>
                </a:lnTo>
                <a:lnTo>
                  <a:pt x="446" y="998"/>
                </a:lnTo>
                <a:lnTo>
                  <a:pt x="434" y="992"/>
                </a:lnTo>
                <a:lnTo>
                  <a:pt x="423" y="986"/>
                </a:lnTo>
                <a:lnTo>
                  <a:pt x="411" y="983"/>
                </a:lnTo>
                <a:lnTo>
                  <a:pt x="413" y="973"/>
                </a:lnTo>
                <a:lnTo>
                  <a:pt x="421" y="967"/>
                </a:lnTo>
                <a:lnTo>
                  <a:pt x="438" y="971"/>
                </a:lnTo>
                <a:lnTo>
                  <a:pt x="456" y="977"/>
                </a:lnTo>
                <a:lnTo>
                  <a:pt x="473" y="983"/>
                </a:lnTo>
                <a:lnTo>
                  <a:pt x="490" y="990"/>
                </a:lnTo>
                <a:lnTo>
                  <a:pt x="498" y="992"/>
                </a:lnTo>
                <a:lnTo>
                  <a:pt x="510" y="994"/>
                </a:lnTo>
                <a:lnTo>
                  <a:pt x="520" y="992"/>
                </a:lnTo>
                <a:lnTo>
                  <a:pt x="529" y="988"/>
                </a:lnTo>
                <a:lnTo>
                  <a:pt x="527" y="977"/>
                </a:lnTo>
                <a:lnTo>
                  <a:pt x="525" y="965"/>
                </a:lnTo>
                <a:lnTo>
                  <a:pt x="521" y="955"/>
                </a:lnTo>
                <a:lnTo>
                  <a:pt x="520" y="946"/>
                </a:lnTo>
                <a:lnTo>
                  <a:pt x="512" y="928"/>
                </a:lnTo>
                <a:lnTo>
                  <a:pt x="506" y="911"/>
                </a:lnTo>
                <a:lnTo>
                  <a:pt x="496" y="893"/>
                </a:lnTo>
                <a:lnTo>
                  <a:pt x="487" y="876"/>
                </a:lnTo>
                <a:lnTo>
                  <a:pt x="475" y="860"/>
                </a:lnTo>
                <a:lnTo>
                  <a:pt x="465" y="845"/>
                </a:lnTo>
                <a:lnTo>
                  <a:pt x="454" y="827"/>
                </a:lnTo>
                <a:lnTo>
                  <a:pt x="442" y="810"/>
                </a:lnTo>
                <a:lnTo>
                  <a:pt x="430" y="794"/>
                </a:lnTo>
                <a:lnTo>
                  <a:pt x="423" y="779"/>
                </a:lnTo>
                <a:lnTo>
                  <a:pt x="413" y="762"/>
                </a:lnTo>
                <a:lnTo>
                  <a:pt x="407" y="746"/>
                </a:lnTo>
                <a:lnTo>
                  <a:pt x="399" y="729"/>
                </a:lnTo>
                <a:lnTo>
                  <a:pt x="397" y="713"/>
                </a:lnTo>
                <a:lnTo>
                  <a:pt x="380" y="696"/>
                </a:lnTo>
                <a:lnTo>
                  <a:pt x="368" y="680"/>
                </a:lnTo>
                <a:lnTo>
                  <a:pt x="357" y="661"/>
                </a:lnTo>
                <a:lnTo>
                  <a:pt x="349" y="643"/>
                </a:lnTo>
                <a:lnTo>
                  <a:pt x="339" y="630"/>
                </a:lnTo>
                <a:lnTo>
                  <a:pt x="333" y="616"/>
                </a:lnTo>
                <a:lnTo>
                  <a:pt x="328" y="603"/>
                </a:lnTo>
                <a:lnTo>
                  <a:pt x="322" y="591"/>
                </a:lnTo>
                <a:lnTo>
                  <a:pt x="316" y="577"/>
                </a:lnTo>
                <a:lnTo>
                  <a:pt x="310" y="564"/>
                </a:lnTo>
                <a:lnTo>
                  <a:pt x="306" y="550"/>
                </a:lnTo>
                <a:lnTo>
                  <a:pt x="302" y="539"/>
                </a:lnTo>
                <a:lnTo>
                  <a:pt x="296" y="523"/>
                </a:lnTo>
                <a:lnTo>
                  <a:pt x="293" y="509"/>
                </a:lnTo>
                <a:lnTo>
                  <a:pt x="289" y="494"/>
                </a:lnTo>
                <a:lnTo>
                  <a:pt x="285" y="482"/>
                </a:lnTo>
                <a:lnTo>
                  <a:pt x="281" y="467"/>
                </a:lnTo>
                <a:lnTo>
                  <a:pt x="279" y="453"/>
                </a:lnTo>
                <a:lnTo>
                  <a:pt x="275" y="438"/>
                </a:lnTo>
                <a:lnTo>
                  <a:pt x="273" y="426"/>
                </a:lnTo>
                <a:lnTo>
                  <a:pt x="267" y="411"/>
                </a:lnTo>
                <a:lnTo>
                  <a:pt x="264" y="397"/>
                </a:lnTo>
                <a:lnTo>
                  <a:pt x="264" y="383"/>
                </a:lnTo>
                <a:lnTo>
                  <a:pt x="273" y="374"/>
                </a:lnTo>
                <a:lnTo>
                  <a:pt x="283" y="389"/>
                </a:lnTo>
                <a:lnTo>
                  <a:pt x="289" y="411"/>
                </a:lnTo>
                <a:lnTo>
                  <a:pt x="291" y="420"/>
                </a:lnTo>
                <a:lnTo>
                  <a:pt x="295" y="430"/>
                </a:lnTo>
                <a:lnTo>
                  <a:pt x="298" y="440"/>
                </a:lnTo>
                <a:lnTo>
                  <a:pt x="306" y="451"/>
                </a:lnTo>
                <a:lnTo>
                  <a:pt x="306" y="465"/>
                </a:lnTo>
                <a:lnTo>
                  <a:pt x="310" y="478"/>
                </a:lnTo>
                <a:lnTo>
                  <a:pt x="314" y="490"/>
                </a:lnTo>
                <a:lnTo>
                  <a:pt x="320" y="504"/>
                </a:lnTo>
                <a:lnTo>
                  <a:pt x="326" y="517"/>
                </a:lnTo>
                <a:lnTo>
                  <a:pt x="331" y="531"/>
                </a:lnTo>
                <a:lnTo>
                  <a:pt x="335" y="542"/>
                </a:lnTo>
                <a:lnTo>
                  <a:pt x="341" y="556"/>
                </a:lnTo>
                <a:lnTo>
                  <a:pt x="347" y="568"/>
                </a:lnTo>
                <a:lnTo>
                  <a:pt x="353" y="579"/>
                </a:lnTo>
                <a:lnTo>
                  <a:pt x="359" y="591"/>
                </a:lnTo>
                <a:lnTo>
                  <a:pt x="370" y="604"/>
                </a:lnTo>
                <a:lnTo>
                  <a:pt x="368" y="591"/>
                </a:lnTo>
                <a:lnTo>
                  <a:pt x="368" y="577"/>
                </a:lnTo>
                <a:lnTo>
                  <a:pt x="366" y="564"/>
                </a:lnTo>
                <a:lnTo>
                  <a:pt x="366" y="552"/>
                </a:lnTo>
                <a:lnTo>
                  <a:pt x="364" y="539"/>
                </a:lnTo>
                <a:lnTo>
                  <a:pt x="364" y="525"/>
                </a:lnTo>
                <a:lnTo>
                  <a:pt x="362" y="511"/>
                </a:lnTo>
                <a:lnTo>
                  <a:pt x="362" y="500"/>
                </a:lnTo>
                <a:lnTo>
                  <a:pt x="360" y="486"/>
                </a:lnTo>
                <a:lnTo>
                  <a:pt x="359" y="473"/>
                </a:lnTo>
                <a:lnTo>
                  <a:pt x="357" y="461"/>
                </a:lnTo>
                <a:lnTo>
                  <a:pt x="355" y="449"/>
                </a:lnTo>
                <a:lnTo>
                  <a:pt x="353" y="436"/>
                </a:lnTo>
                <a:lnTo>
                  <a:pt x="351" y="424"/>
                </a:lnTo>
                <a:lnTo>
                  <a:pt x="349" y="413"/>
                </a:lnTo>
                <a:lnTo>
                  <a:pt x="349" y="401"/>
                </a:lnTo>
                <a:lnTo>
                  <a:pt x="345" y="389"/>
                </a:lnTo>
                <a:lnTo>
                  <a:pt x="341" y="378"/>
                </a:lnTo>
                <a:lnTo>
                  <a:pt x="337" y="366"/>
                </a:lnTo>
                <a:lnTo>
                  <a:pt x="335" y="356"/>
                </a:lnTo>
                <a:lnTo>
                  <a:pt x="328" y="335"/>
                </a:lnTo>
                <a:lnTo>
                  <a:pt x="320" y="318"/>
                </a:lnTo>
                <a:lnTo>
                  <a:pt x="310" y="298"/>
                </a:lnTo>
                <a:lnTo>
                  <a:pt x="302" y="281"/>
                </a:lnTo>
                <a:lnTo>
                  <a:pt x="293" y="261"/>
                </a:lnTo>
                <a:lnTo>
                  <a:pt x="285" y="244"/>
                </a:lnTo>
                <a:lnTo>
                  <a:pt x="273" y="226"/>
                </a:lnTo>
                <a:lnTo>
                  <a:pt x="264" y="213"/>
                </a:lnTo>
                <a:lnTo>
                  <a:pt x="254" y="199"/>
                </a:lnTo>
                <a:lnTo>
                  <a:pt x="244" y="188"/>
                </a:lnTo>
                <a:lnTo>
                  <a:pt x="232" y="174"/>
                </a:lnTo>
                <a:lnTo>
                  <a:pt x="225" y="162"/>
                </a:lnTo>
                <a:lnTo>
                  <a:pt x="215" y="147"/>
                </a:lnTo>
                <a:lnTo>
                  <a:pt x="209" y="131"/>
                </a:lnTo>
                <a:lnTo>
                  <a:pt x="205" y="135"/>
                </a:lnTo>
                <a:lnTo>
                  <a:pt x="194" y="122"/>
                </a:lnTo>
                <a:lnTo>
                  <a:pt x="184" y="110"/>
                </a:lnTo>
                <a:lnTo>
                  <a:pt x="174" y="98"/>
                </a:lnTo>
                <a:lnTo>
                  <a:pt x="165" y="87"/>
                </a:lnTo>
                <a:lnTo>
                  <a:pt x="155" y="69"/>
                </a:lnTo>
                <a:lnTo>
                  <a:pt x="147" y="56"/>
                </a:lnTo>
                <a:lnTo>
                  <a:pt x="137" y="38"/>
                </a:lnTo>
                <a:lnTo>
                  <a:pt x="130" y="25"/>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05" name=""/>
          <p:cNvSpPr/>
          <p:nvPr/>
        </p:nvSpPr>
        <p:spPr>
          <a:xfrm>
            <a:off x="3683160" y="5770440"/>
            <a:ext cx="95040" cy="268560"/>
          </a:xfrm>
          <a:custGeom>
            <a:avLst/>
            <a:gdLst/>
            <a:ahLst/>
            <a:rect l="l" t="t" r="r" b="b"/>
            <a:pathLst>
              <a:path w="118" h="337">
                <a:moveTo>
                  <a:pt x="68" y="0"/>
                </a:moveTo>
                <a:lnTo>
                  <a:pt x="66" y="4"/>
                </a:lnTo>
                <a:lnTo>
                  <a:pt x="66" y="10"/>
                </a:lnTo>
                <a:lnTo>
                  <a:pt x="58" y="27"/>
                </a:lnTo>
                <a:lnTo>
                  <a:pt x="52" y="45"/>
                </a:lnTo>
                <a:lnTo>
                  <a:pt x="46" y="64"/>
                </a:lnTo>
                <a:lnTo>
                  <a:pt x="41" y="85"/>
                </a:lnTo>
                <a:lnTo>
                  <a:pt x="35" y="105"/>
                </a:lnTo>
                <a:lnTo>
                  <a:pt x="31" y="126"/>
                </a:lnTo>
                <a:lnTo>
                  <a:pt x="27" y="145"/>
                </a:lnTo>
                <a:lnTo>
                  <a:pt x="23" y="167"/>
                </a:lnTo>
                <a:lnTo>
                  <a:pt x="17" y="186"/>
                </a:lnTo>
                <a:lnTo>
                  <a:pt x="15" y="207"/>
                </a:lnTo>
                <a:lnTo>
                  <a:pt x="14" y="217"/>
                </a:lnTo>
                <a:lnTo>
                  <a:pt x="12" y="229"/>
                </a:lnTo>
                <a:lnTo>
                  <a:pt x="10" y="238"/>
                </a:lnTo>
                <a:lnTo>
                  <a:pt x="10" y="250"/>
                </a:lnTo>
                <a:lnTo>
                  <a:pt x="8" y="260"/>
                </a:lnTo>
                <a:lnTo>
                  <a:pt x="6" y="271"/>
                </a:lnTo>
                <a:lnTo>
                  <a:pt x="4" y="281"/>
                </a:lnTo>
                <a:lnTo>
                  <a:pt x="4" y="293"/>
                </a:lnTo>
                <a:lnTo>
                  <a:pt x="2" y="302"/>
                </a:lnTo>
                <a:lnTo>
                  <a:pt x="0" y="314"/>
                </a:lnTo>
                <a:lnTo>
                  <a:pt x="0" y="326"/>
                </a:lnTo>
                <a:lnTo>
                  <a:pt x="0" y="337"/>
                </a:lnTo>
                <a:lnTo>
                  <a:pt x="118" y="337"/>
                </a:lnTo>
                <a:lnTo>
                  <a:pt x="118" y="262"/>
                </a:lnTo>
                <a:lnTo>
                  <a:pt x="107" y="266"/>
                </a:lnTo>
                <a:lnTo>
                  <a:pt x="97" y="262"/>
                </a:lnTo>
                <a:lnTo>
                  <a:pt x="95" y="250"/>
                </a:lnTo>
                <a:lnTo>
                  <a:pt x="95" y="240"/>
                </a:lnTo>
                <a:lnTo>
                  <a:pt x="93" y="229"/>
                </a:lnTo>
                <a:lnTo>
                  <a:pt x="93" y="219"/>
                </a:lnTo>
                <a:lnTo>
                  <a:pt x="93" y="207"/>
                </a:lnTo>
                <a:lnTo>
                  <a:pt x="93" y="196"/>
                </a:lnTo>
                <a:lnTo>
                  <a:pt x="93" y="184"/>
                </a:lnTo>
                <a:lnTo>
                  <a:pt x="93" y="174"/>
                </a:lnTo>
                <a:lnTo>
                  <a:pt x="91" y="163"/>
                </a:lnTo>
                <a:lnTo>
                  <a:pt x="91" y="151"/>
                </a:lnTo>
                <a:lnTo>
                  <a:pt x="91" y="140"/>
                </a:lnTo>
                <a:lnTo>
                  <a:pt x="91" y="128"/>
                </a:lnTo>
                <a:lnTo>
                  <a:pt x="89" y="107"/>
                </a:lnTo>
                <a:lnTo>
                  <a:pt x="89" y="89"/>
                </a:lnTo>
                <a:lnTo>
                  <a:pt x="83" y="83"/>
                </a:lnTo>
                <a:lnTo>
                  <a:pt x="79" y="95"/>
                </a:lnTo>
                <a:lnTo>
                  <a:pt x="76" y="107"/>
                </a:lnTo>
                <a:lnTo>
                  <a:pt x="72" y="118"/>
                </a:lnTo>
                <a:lnTo>
                  <a:pt x="68" y="130"/>
                </a:lnTo>
                <a:lnTo>
                  <a:pt x="62" y="141"/>
                </a:lnTo>
                <a:lnTo>
                  <a:pt x="58" y="153"/>
                </a:lnTo>
                <a:lnTo>
                  <a:pt x="54" y="167"/>
                </a:lnTo>
                <a:lnTo>
                  <a:pt x="52" y="180"/>
                </a:lnTo>
                <a:lnTo>
                  <a:pt x="39" y="180"/>
                </a:lnTo>
                <a:lnTo>
                  <a:pt x="39" y="167"/>
                </a:lnTo>
                <a:lnTo>
                  <a:pt x="39" y="155"/>
                </a:lnTo>
                <a:lnTo>
                  <a:pt x="39" y="143"/>
                </a:lnTo>
                <a:lnTo>
                  <a:pt x="41" y="132"/>
                </a:lnTo>
                <a:lnTo>
                  <a:pt x="43" y="120"/>
                </a:lnTo>
                <a:lnTo>
                  <a:pt x="45" y="109"/>
                </a:lnTo>
                <a:lnTo>
                  <a:pt x="46" y="97"/>
                </a:lnTo>
                <a:lnTo>
                  <a:pt x="50" y="87"/>
                </a:lnTo>
                <a:lnTo>
                  <a:pt x="50" y="76"/>
                </a:lnTo>
                <a:lnTo>
                  <a:pt x="54" y="64"/>
                </a:lnTo>
                <a:lnTo>
                  <a:pt x="54" y="52"/>
                </a:lnTo>
                <a:lnTo>
                  <a:pt x="58" y="43"/>
                </a:lnTo>
                <a:lnTo>
                  <a:pt x="60" y="31"/>
                </a:lnTo>
                <a:lnTo>
                  <a:pt x="62" y="21"/>
                </a:lnTo>
                <a:lnTo>
                  <a:pt x="64" y="10"/>
                </a:lnTo>
                <a:lnTo>
                  <a:pt x="6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06" name=""/>
          <p:cNvSpPr/>
          <p:nvPr/>
        </p:nvSpPr>
        <p:spPr>
          <a:xfrm>
            <a:off x="5504040" y="3352680"/>
            <a:ext cx="50760" cy="41400"/>
          </a:xfrm>
          <a:custGeom>
            <a:avLst/>
            <a:gdLst/>
            <a:ahLst/>
            <a:rect l="l" t="t" r="r" b="b"/>
            <a:pathLst>
              <a:path w="64" h="50">
                <a:moveTo>
                  <a:pt x="2" y="0"/>
                </a:moveTo>
                <a:lnTo>
                  <a:pt x="2" y="2"/>
                </a:lnTo>
                <a:lnTo>
                  <a:pt x="10" y="4"/>
                </a:lnTo>
                <a:lnTo>
                  <a:pt x="20" y="8"/>
                </a:lnTo>
                <a:lnTo>
                  <a:pt x="27" y="9"/>
                </a:lnTo>
                <a:lnTo>
                  <a:pt x="39" y="13"/>
                </a:lnTo>
                <a:lnTo>
                  <a:pt x="51" y="17"/>
                </a:lnTo>
                <a:lnTo>
                  <a:pt x="64" y="23"/>
                </a:lnTo>
                <a:lnTo>
                  <a:pt x="64" y="31"/>
                </a:lnTo>
                <a:lnTo>
                  <a:pt x="64" y="39"/>
                </a:lnTo>
                <a:lnTo>
                  <a:pt x="60" y="44"/>
                </a:lnTo>
                <a:lnTo>
                  <a:pt x="53" y="50"/>
                </a:lnTo>
                <a:lnTo>
                  <a:pt x="31" y="48"/>
                </a:lnTo>
                <a:lnTo>
                  <a:pt x="14" y="46"/>
                </a:lnTo>
                <a:lnTo>
                  <a:pt x="6" y="42"/>
                </a:lnTo>
                <a:lnTo>
                  <a:pt x="2" y="39"/>
                </a:lnTo>
                <a:lnTo>
                  <a:pt x="0" y="29"/>
                </a:lnTo>
                <a:lnTo>
                  <a:pt x="2" y="19"/>
                </a:lnTo>
                <a:lnTo>
                  <a:pt x="2" y="9"/>
                </a:lnTo>
                <a:lnTo>
                  <a:pt x="2" y="0"/>
                </a:lnTo>
                <a:close/>
              </a:path>
            </a:pathLst>
          </a:custGeom>
          <a:solidFill>
            <a:srgbClr val="990000"/>
          </a:solidFill>
          <a:ln w="0">
            <a:noFill/>
          </a:ln>
        </p:spPr>
        <p:style>
          <a:lnRef idx="0"/>
          <a:fillRef idx="0"/>
          <a:effectRef idx="0"/>
          <a:fontRef idx="minor"/>
        </p:style>
        <p:txBody>
          <a:bodyPr lIns="90000" rIns="90000" tIns="-5400" bIns="-5400" anchor="t">
            <a:noAutofit/>
          </a:bodyPr>
          <a:p>
            <a:endParaRPr b="0" lang="en-US" sz="2400" spc="-1" strike="noStrike">
              <a:solidFill>
                <a:srgbClr val="ffff66"/>
              </a:solidFill>
              <a:latin typeface="Times New Roman"/>
            </a:endParaRPr>
          </a:p>
        </p:txBody>
      </p:sp>
      <p:sp>
        <p:nvSpPr>
          <p:cNvPr id="207" name=""/>
          <p:cNvSpPr/>
          <p:nvPr/>
        </p:nvSpPr>
        <p:spPr>
          <a:xfrm>
            <a:off x="5521320" y="3421080"/>
            <a:ext cx="28440" cy="33480"/>
          </a:xfrm>
          <a:custGeom>
            <a:avLst/>
            <a:gdLst/>
            <a:ahLst/>
            <a:rect l="l" t="t" r="r" b="b"/>
            <a:pathLst>
              <a:path w="34" h="43">
                <a:moveTo>
                  <a:pt x="34" y="43"/>
                </a:moveTo>
                <a:lnTo>
                  <a:pt x="27" y="35"/>
                </a:lnTo>
                <a:lnTo>
                  <a:pt x="19" y="31"/>
                </a:lnTo>
                <a:lnTo>
                  <a:pt x="9" y="29"/>
                </a:lnTo>
                <a:lnTo>
                  <a:pt x="0" y="29"/>
                </a:lnTo>
                <a:lnTo>
                  <a:pt x="5" y="14"/>
                </a:lnTo>
                <a:lnTo>
                  <a:pt x="15" y="0"/>
                </a:lnTo>
                <a:lnTo>
                  <a:pt x="23" y="6"/>
                </a:lnTo>
                <a:lnTo>
                  <a:pt x="27" y="18"/>
                </a:lnTo>
                <a:lnTo>
                  <a:pt x="27" y="27"/>
                </a:lnTo>
                <a:lnTo>
                  <a:pt x="34" y="37"/>
                </a:lnTo>
                <a:lnTo>
                  <a:pt x="34" y="39"/>
                </a:lnTo>
                <a:lnTo>
                  <a:pt x="34" y="43"/>
                </a:lnTo>
                <a:close/>
              </a:path>
            </a:pathLst>
          </a:custGeom>
          <a:solidFill>
            <a:srgbClr val="990000"/>
          </a:solidFill>
          <a:ln w="0">
            <a:noFill/>
          </a:ln>
        </p:spPr>
        <p:style>
          <a:lnRef idx="0"/>
          <a:fillRef idx="0"/>
          <a:effectRef idx="0"/>
          <a:fontRef idx="minor"/>
        </p:style>
        <p:txBody>
          <a:bodyPr lIns="90000" rIns="90000" tIns="-13320" bIns="-13320" anchor="t">
            <a:noAutofit/>
          </a:bodyPr>
          <a:p>
            <a:endParaRPr b="0" lang="en-US" sz="2400" spc="-1" strike="noStrike">
              <a:solidFill>
                <a:srgbClr val="ffff66"/>
              </a:solidFill>
              <a:latin typeface="Times New Roman"/>
            </a:endParaRPr>
          </a:p>
        </p:txBody>
      </p:sp>
      <p:sp>
        <p:nvSpPr>
          <p:cNvPr id="208" name=""/>
          <p:cNvSpPr/>
          <p:nvPr/>
        </p:nvSpPr>
        <p:spPr>
          <a:xfrm>
            <a:off x="5505480" y="3375000"/>
            <a:ext cx="46080" cy="19080"/>
          </a:xfrm>
          <a:custGeom>
            <a:avLst/>
            <a:gdLst/>
            <a:ahLst/>
            <a:rect l="l" t="t" r="r" b="b"/>
            <a:pathLst>
              <a:path w="58" h="23">
                <a:moveTo>
                  <a:pt x="58" y="19"/>
                </a:moveTo>
                <a:lnTo>
                  <a:pt x="45" y="12"/>
                </a:lnTo>
                <a:lnTo>
                  <a:pt x="33" y="4"/>
                </a:lnTo>
                <a:lnTo>
                  <a:pt x="20" y="0"/>
                </a:lnTo>
                <a:lnTo>
                  <a:pt x="4" y="8"/>
                </a:lnTo>
                <a:lnTo>
                  <a:pt x="2" y="8"/>
                </a:lnTo>
                <a:lnTo>
                  <a:pt x="0" y="12"/>
                </a:lnTo>
                <a:lnTo>
                  <a:pt x="8" y="17"/>
                </a:lnTo>
                <a:lnTo>
                  <a:pt x="20" y="21"/>
                </a:lnTo>
                <a:lnTo>
                  <a:pt x="35" y="21"/>
                </a:lnTo>
                <a:lnTo>
                  <a:pt x="51" y="23"/>
                </a:lnTo>
                <a:lnTo>
                  <a:pt x="55" y="21"/>
                </a:lnTo>
                <a:lnTo>
                  <a:pt x="58" y="19"/>
                </a:lnTo>
                <a:close/>
              </a:path>
            </a:pathLst>
          </a:custGeom>
          <a:solidFill>
            <a:srgbClr val="ffb39e"/>
          </a:solidFill>
          <a:ln w="0">
            <a:noFill/>
          </a:ln>
        </p:spPr>
        <p:style>
          <a:lnRef idx="0"/>
          <a:fillRef idx="0"/>
          <a:effectRef idx="0"/>
          <a:fontRef idx="minor"/>
        </p:style>
        <p:txBody>
          <a:bodyPr lIns="90000" rIns="90000" tIns="-27720" bIns="-27720" anchor="t">
            <a:noAutofit/>
          </a:bodyPr>
          <a:p>
            <a:endParaRPr b="0" lang="en-US" sz="2400" spc="-1" strike="noStrike">
              <a:solidFill>
                <a:srgbClr val="ffff66"/>
              </a:solidFill>
              <a:latin typeface="Times New Roman"/>
            </a:endParaRPr>
          </a:p>
        </p:txBody>
      </p:sp>
      <p:sp>
        <p:nvSpPr>
          <p:cNvPr id="209" name=""/>
          <p:cNvSpPr/>
          <p:nvPr/>
        </p:nvSpPr>
        <p:spPr>
          <a:xfrm>
            <a:off x="5522760" y="3429000"/>
            <a:ext cx="60480" cy="174600"/>
          </a:xfrm>
          <a:custGeom>
            <a:avLst/>
            <a:gdLst/>
            <a:ahLst/>
            <a:rect l="l" t="t" r="r" b="b"/>
            <a:pathLst>
              <a:path w="75" h="221">
                <a:moveTo>
                  <a:pt x="69" y="0"/>
                </a:moveTo>
                <a:lnTo>
                  <a:pt x="73" y="0"/>
                </a:lnTo>
                <a:lnTo>
                  <a:pt x="73" y="8"/>
                </a:lnTo>
                <a:lnTo>
                  <a:pt x="73" y="15"/>
                </a:lnTo>
                <a:lnTo>
                  <a:pt x="75" y="27"/>
                </a:lnTo>
                <a:lnTo>
                  <a:pt x="73" y="39"/>
                </a:lnTo>
                <a:lnTo>
                  <a:pt x="71" y="52"/>
                </a:lnTo>
                <a:lnTo>
                  <a:pt x="67" y="66"/>
                </a:lnTo>
                <a:lnTo>
                  <a:pt x="65" y="81"/>
                </a:lnTo>
                <a:lnTo>
                  <a:pt x="64" y="87"/>
                </a:lnTo>
                <a:lnTo>
                  <a:pt x="64" y="93"/>
                </a:lnTo>
                <a:lnTo>
                  <a:pt x="56" y="147"/>
                </a:lnTo>
                <a:lnTo>
                  <a:pt x="52" y="161"/>
                </a:lnTo>
                <a:lnTo>
                  <a:pt x="52" y="176"/>
                </a:lnTo>
                <a:lnTo>
                  <a:pt x="50" y="192"/>
                </a:lnTo>
                <a:lnTo>
                  <a:pt x="56" y="207"/>
                </a:lnTo>
                <a:lnTo>
                  <a:pt x="56" y="211"/>
                </a:lnTo>
                <a:lnTo>
                  <a:pt x="62" y="215"/>
                </a:lnTo>
                <a:lnTo>
                  <a:pt x="46" y="215"/>
                </a:lnTo>
                <a:lnTo>
                  <a:pt x="31" y="221"/>
                </a:lnTo>
                <a:lnTo>
                  <a:pt x="19" y="219"/>
                </a:lnTo>
                <a:lnTo>
                  <a:pt x="9" y="213"/>
                </a:lnTo>
                <a:lnTo>
                  <a:pt x="1" y="205"/>
                </a:lnTo>
                <a:lnTo>
                  <a:pt x="0" y="196"/>
                </a:lnTo>
                <a:lnTo>
                  <a:pt x="0" y="182"/>
                </a:lnTo>
                <a:lnTo>
                  <a:pt x="3" y="170"/>
                </a:lnTo>
                <a:lnTo>
                  <a:pt x="5" y="157"/>
                </a:lnTo>
                <a:lnTo>
                  <a:pt x="11" y="145"/>
                </a:lnTo>
                <a:lnTo>
                  <a:pt x="15" y="134"/>
                </a:lnTo>
                <a:lnTo>
                  <a:pt x="19" y="122"/>
                </a:lnTo>
                <a:lnTo>
                  <a:pt x="25" y="110"/>
                </a:lnTo>
                <a:lnTo>
                  <a:pt x="31" y="99"/>
                </a:lnTo>
                <a:lnTo>
                  <a:pt x="34" y="85"/>
                </a:lnTo>
                <a:lnTo>
                  <a:pt x="40" y="73"/>
                </a:lnTo>
                <a:lnTo>
                  <a:pt x="44" y="60"/>
                </a:lnTo>
                <a:lnTo>
                  <a:pt x="50" y="48"/>
                </a:lnTo>
                <a:lnTo>
                  <a:pt x="54" y="35"/>
                </a:lnTo>
                <a:lnTo>
                  <a:pt x="60" y="23"/>
                </a:lnTo>
                <a:lnTo>
                  <a:pt x="64" y="11"/>
                </a:lnTo>
                <a:lnTo>
                  <a:pt x="69" y="0"/>
                </a:lnTo>
                <a:close/>
              </a:path>
            </a:pathLst>
          </a:custGeom>
          <a:solidFill>
            <a:srgbClr val="ffded6"/>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10" name=""/>
          <p:cNvSpPr/>
          <p:nvPr/>
        </p:nvSpPr>
        <p:spPr>
          <a:xfrm>
            <a:off x="5630760" y="3557520"/>
            <a:ext cx="39960" cy="55800"/>
          </a:xfrm>
          <a:custGeom>
            <a:avLst/>
            <a:gdLst/>
            <a:ahLst/>
            <a:rect l="l" t="t" r="r" b="b"/>
            <a:pathLst>
              <a:path w="51" h="69">
                <a:moveTo>
                  <a:pt x="39" y="69"/>
                </a:moveTo>
                <a:lnTo>
                  <a:pt x="47" y="62"/>
                </a:lnTo>
                <a:lnTo>
                  <a:pt x="51" y="48"/>
                </a:lnTo>
                <a:lnTo>
                  <a:pt x="49" y="29"/>
                </a:lnTo>
                <a:lnTo>
                  <a:pt x="43" y="13"/>
                </a:lnTo>
                <a:lnTo>
                  <a:pt x="35" y="7"/>
                </a:lnTo>
                <a:lnTo>
                  <a:pt x="29" y="4"/>
                </a:lnTo>
                <a:lnTo>
                  <a:pt x="20" y="0"/>
                </a:lnTo>
                <a:lnTo>
                  <a:pt x="10" y="0"/>
                </a:lnTo>
                <a:lnTo>
                  <a:pt x="0" y="9"/>
                </a:lnTo>
                <a:lnTo>
                  <a:pt x="10" y="19"/>
                </a:lnTo>
                <a:lnTo>
                  <a:pt x="22" y="19"/>
                </a:lnTo>
                <a:lnTo>
                  <a:pt x="33" y="33"/>
                </a:lnTo>
                <a:lnTo>
                  <a:pt x="39" y="48"/>
                </a:lnTo>
                <a:lnTo>
                  <a:pt x="39" y="69"/>
                </a:lnTo>
                <a:close/>
              </a:path>
            </a:pathLst>
          </a:custGeom>
          <a:solidFill>
            <a:srgbClr val="ffded6"/>
          </a:solidFill>
          <a:ln w="0">
            <a:noFill/>
          </a:ln>
        </p:spPr>
        <p:style>
          <a:lnRef idx="0"/>
          <a:fillRef idx="0"/>
          <a:effectRef idx="0"/>
          <a:fontRef idx="minor"/>
        </p:style>
        <p:txBody>
          <a:bodyPr lIns="90000" rIns="90000" tIns="9000" bIns="9000" anchor="t">
            <a:noAutofit/>
          </a:bodyPr>
          <a:p>
            <a:endParaRPr b="0" lang="en-US" sz="2400" spc="-1" strike="noStrike">
              <a:solidFill>
                <a:srgbClr val="ffff66"/>
              </a:solidFill>
              <a:latin typeface="Times New Roman"/>
            </a:endParaRPr>
          </a:p>
        </p:txBody>
      </p:sp>
      <p:sp>
        <p:nvSpPr>
          <p:cNvPr id="211" name=""/>
          <p:cNvSpPr/>
          <p:nvPr/>
        </p:nvSpPr>
        <p:spPr>
          <a:xfrm>
            <a:off x="5632560" y="3632040"/>
            <a:ext cx="29880" cy="49320"/>
          </a:xfrm>
          <a:custGeom>
            <a:avLst/>
            <a:gdLst/>
            <a:ahLst/>
            <a:rect l="l" t="t" r="r" b="b"/>
            <a:pathLst>
              <a:path w="37" h="62">
                <a:moveTo>
                  <a:pt x="0" y="62"/>
                </a:moveTo>
                <a:lnTo>
                  <a:pt x="14" y="44"/>
                </a:lnTo>
                <a:lnTo>
                  <a:pt x="27" y="29"/>
                </a:lnTo>
                <a:lnTo>
                  <a:pt x="35" y="13"/>
                </a:lnTo>
                <a:lnTo>
                  <a:pt x="37" y="4"/>
                </a:lnTo>
                <a:lnTo>
                  <a:pt x="29" y="6"/>
                </a:lnTo>
                <a:lnTo>
                  <a:pt x="20" y="6"/>
                </a:lnTo>
                <a:lnTo>
                  <a:pt x="10" y="0"/>
                </a:lnTo>
                <a:lnTo>
                  <a:pt x="2" y="2"/>
                </a:lnTo>
                <a:lnTo>
                  <a:pt x="0" y="13"/>
                </a:lnTo>
                <a:lnTo>
                  <a:pt x="0" y="31"/>
                </a:lnTo>
                <a:lnTo>
                  <a:pt x="0" y="46"/>
                </a:lnTo>
                <a:lnTo>
                  <a:pt x="0" y="62"/>
                </a:lnTo>
                <a:close/>
              </a:path>
            </a:pathLst>
          </a:custGeom>
          <a:solidFill>
            <a:srgbClr val="e66e5c"/>
          </a:solidFill>
          <a:ln w="0">
            <a:noFill/>
          </a:ln>
        </p:spPr>
        <p:style>
          <a:lnRef idx="0"/>
          <a:fillRef idx="0"/>
          <a:effectRef idx="0"/>
          <a:fontRef idx="minor"/>
        </p:style>
        <p:txBody>
          <a:bodyPr lIns="90000" rIns="90000" tIns="2520" bIns="2520" anchor="t">
            <a:noAutofit/>
          </a:bodyPr>
          <a:p>
            <a:endParaRPr b="0" lang="en-US" sz="2400" spc="-1" strike="noStrike">
              <a:solidFill>
                <a:srgbClr val="ffff66"/>
              </a:solidFill>
              <a:latin typeface="Times New Roman"/>
            </a:endParaRPr>
          </a:p>
        </p:txBody>
      </p:sp>
      <p:sp>
        <p:nvSpPr>
          <p:cNvPr id="212" name=""/>
          <p:cNvSpPr/>
          <p:nvPr/>
        </p:nvSpPr>
        <p:spPr>
          <a:xfrm>
            <a:off x="5603760" y="3700440"/>
            <a:ext cx="1800" cy="1440"/>
          </a:xfrm>
          <a:custGeom>
            <a:avLst/>
            <a:gdLst/>
            <a:ahLst/>
            <a:rect l="l" t="t" r="r" b="b"/>
            <a:pathLst>
              <a:path w="2" h="2">
                <a:moveTo>
                  <a:pt x="0" y="0"/>
                </a:moveTo>
                <a:lnTo>
                  <a:pt x="0" y="2"/>
                </a:lnTo>
                <a:lnTo>
                  <a:pt x="2" y="2"/>
                </a:lnTo>
                <a:lnTo>
                  <a:pt x="0" y="0"/>
                </a:lnTo>
                <a:close/>
              </a:path>
            </a:pathLst>
          </a:custGeom>
          <a:solidFill>
            <a:srgbClr val="e66e5c"/>
          </a:solidFill>
          <a:ln w="0">
            <a:noFill/>
          </a:ln>
        </p:spPr>
        <p:style>
          <a:lnRef idx="0"/>
          <a:fillRef idx="0"/>
          <a:effectRef idx="0"/>
          <a:fontRef idx="minor"/>
        </p:style>
        <p:txBody>
          <a:bodyPr lIns="90000" rIns="90000" tIns="-45360" bIns="-45360" anchor="t">
            <a:noAutofit/>
          </a:bodyPr>
          <a:p>
            <a:endParaRPr b="0" lang="en-US" sz="2400" spc="-1" strike="noStrike">
              <a:solidFill>
                <a:srgbClr val="ffff66"/>
              </a:solidFill>
              <a:latin typeface="Times New Roman"/>
            </a:endParaRPr>
          </a:p>
        </p:txBody>
      </p:sp>
      <p:sp>
        <p:nvSpPr>
          <p:cNvPr id="213" name=""/>
          <p:cNvSpPr/>
          <p:nvPr/>
        </p:nvSpPr>
        <p:spPr>
          <a:xfrm>
            <a:off x="5573880" y="3624120"/>
            <a:ext cx="34920" cy="71640"/>
          </a:xfrm>
          <a:custGeom>
            <a:avLst/>
            <a:gdLst/>
            <a:ahLst/>
            <a:rect l="l" t="t" r="r" b="b"/>
            <a:pathLst>
              <a:path w="42" h="89">
                <a:moveTo>
                  <a:pt x="7" y="23"/>
                </a:moveTo>
                <a:lnTo>
                  <a:pt x="17" y="35"/>
                </a:lnTo>
                <a:lnTo>
                  <a:pt x="25" y="52"/>
                </a:lnTo>
                <a:lnTo>
                  <a:pt x="27" y="62"/>
                </a:lnTo>
                <a:lnTo>
                  <a:pt x="31" y="72"/>
                </a:lnTo>
                <a:lnTo>
                  <a:pt x="32" y="81"/>
                </a:lnTo>
                <a:lnTo>
                  <a:pt x="36" y="89"/>
                </a:lnTo>
                <a:lnTo>
                  <a:pt x="42" y="74"/>
                </a:lnTo>
                <a:lnTo>
                  <a:pt x="42" y="60"/>
                </a:lnTo>
                <a:lnTo>
                  <a:pt x="40" y="43"/>
                </a:lnTo>
                <a:lnTo>
                  <a:pt x="42" y="27"/>
                </a:lnTo>
                <a:lnTo>
                  <a:pt x="32" y="14"/>
                </a:lnTo>
                <a:lnTo>
                  <a:pt x="23" y="8"/>
                </a:lnTo>
                <a:lnTo>
                  <a:pt x="11" y="2"/>
                </a:lnTo>
                <a:lnTo>
                  <a:pt x="0" y="0"/>
                </a:lnTo>
                <a:lnTo>
                  <a:pt x="3" y="10"/>
                </a:lnTo>
                <a:lnTo>
                  <a:pt x="7" y="23"/>
                </a:lnTo>
                <a:close/>
              </a:path>
            </a:pathLst>
          </a:custGeom>
          <a:solidFill>
            <a:srgbClr val="e66e5c"/>
          </a:solidFill>
          <a:ln w="0">
            <a:noFill/>
          </a:ln>
        </p:spPr>
        <p:style>
          <a:lnRef idx="0"/>
          <a:fillRef idx="0"/>
          <a:effectRef idx="0"/>
          <a:fontRef idx="minor"/>
        </p:style>
        <p:txBody>
          <a:bodyPr lIns="90000" rIns="90000" tIns="24840" bIns="24840" anchor="t">
            <a:noAutofit/>
          </a:bodyPr>
          <a:p>
            <a:endParaRPr b="0" lang="en-US" sz="2400" spc="-1" strike="noStrike">
              <a:solidFill>
                <a:srgbClr val="ffff66"/>
              </a:solidFill>
              <a:latin typeface="Times New Roman"/>
            </a:endParaRPr>
          </a:p>
        </p:txBody>
      </p:sp>
      <p:sp>
        <p:nvSpPr>
          <p:cNvPr id="214" name=""/>
          <p:cNvSpPr/>
          <p:nvPr/>
        </p:nvSpPr>
        <p:spPr>
          <a:xfrm>
            <a:off x="5905440" y="3827520"/>
            <a:ext cx="225360" cy="525240"/>
          </a:xfrm>
          <a:custGeom>
            <a:avLst/>
            <a:gdLst/>
            <a:ahLst/>
            <a:rect l="l" t="t" r="r" b="b"/>
            <a:pathLst>
              <a:path w="286" h="661">
                <a:moveTo>
                  <a:pt x="286" y="116"/>
                </a:moveTo>
                <a:lnTo>
                  <a:pt x="284" y="118"/>
                </a:lnTo>
                <a:lnTo>
                  <a:pt x="282" y="122"/>
                </a:lnTo>
                <a:lnTo>
                  <a:pt x="276" y="126"/>
                </a:lnTo>
                <a:lnTo>
                  <a:pt x="270" y="114"/>
                </a:lnTo>
                <a:lnTo>
                  <a:pt x="262" y="105"/>
                </a:lnTo>
                <a:lnTo>
                  <a:pt x="255" y="93"/>
                </a:lnTo>
                <a:lnTo>
                  <a:pt x="253" y="83"/>
                </a:lnTo>
                <a:lnTo>
                  <a:pt x="237" y="85"/>
                </a:lnTo>
                <a:lnTo>
                  <a:pt x="223" y="91"/>
                </a:lnTo>
                <a:lnTo>
                  <a:pt x="212" y="101"/>
                </a:lnTo>
                <a:lnTo>
                  <a:pt x="206" y="112"/>
                </a:lnTo>
                <a:lnTo>
                  <a:pt x="192" y="126"/>
                </a:lnTo>
                <a:lnTo>
                  <a:pt x="181" y="142"/>
                </a:lnTo>
                <a:lnTo>
                  <a:pt x="169" y="155"/>
                </a:lnTo>
                <a:lnTo>
                  <a:pt x="159" y="171"/>
                </a:lnTo>
                <a:lnTo>
                  <a:pt x="148" y="184"/>
                </a:lnTo>
                <a:lnTo>
                  <a:pt x="136" y="200"/>
                </a:lnTo>
                <a:lnTo>
                  <a:pt x="127" y="215"/>
                </a:lnTo>
                <a:lnTo>
                  <a:pt x="119" y="233"/>
                </a:lnTo>
                <a:lnTo>
                  <a:pt x="109" y="248"/>
                </a:lnTo>
                <a:lnTo>
                  <a:pt x="103" y="266"/>
                </a:lnTo>
                <a:lnTo>
                  <a:pt x="97" y="283"/>
                </a:lnTo>
                <a:lnTo>
                  <a:pt x="97" y="302"/>
                </a:lnTo>
                <a:lnTo>
                  <a:pt x="95" y="320"/>
                </a:lnTo>
                <a:lnTo>
                  <a:pt x="97" y="341"/>
                </a:lnTo>
                <a:lnTo>
                  <a:pt x="97" y="351"/>
                </a:lnTo>
                <a:lnTo>
                  <a:pt x="101" y="363"/>
                </a:lnTo>
                <a:lnTo>
                  <a:pt x="103" y="374"/>
                </a:lnTo>
                <a:lnTo>
                  <a:pt x="109" y="386"/>
                </a:lnTo>
                <a:lnTo>
                  <a:pt x="111" y="392"/>
                </a:lnTo>
                <a:lnTo>
                  <a:pt x="113" y="403"/>
                </a:lnTo>
                <a:lnTo>
                  <a:pt x="113" y="415"/>
                </a:lnTo>
                <a:lnTo>
                  <a:pt x="115" y="428"/>
                </a:lnTo>
                <a:lnTo>
                  <a:pt x="113" y="440"/>
                </a:lnTo>
                <a:lnTo>
                  <a:pt x="113" y="452"/>
                </a:lnTo>
                <a:lnTo>
                  <a:pt x="111" y="461"/>
                </a:lnTo>
                <a:lnTo>
                  <a:pt x="109" y="471"/>
                </a:lnTo>
                <a:lnTo>
                  <a:pt x="105" y="475"/>
                </a:lnTo>
                <a:lnTo>
                  <a:pt x="103" y="483"/>
                </a:lnTo>
                <a:lnTo>
                  <a:pt x="99" y="491"/>
                </a:lnTo>
                <a:lnTo>
                  <a:pt x="99" y="498"/>
                </a:lnTo>
                <a:lnTo>
                  <a:pt x="94" y="514"/>
                </a:lnTo>
                <a:lnTo>
                  <a:pt x="90" y="531"/>
                </a:lnTo>
                <a:lnTo>
                  <a:pt x="86" y="551"/>
                </a:lnTo>
                <a:lnTo>
                  <a:pt x="84" y="570"/>
                </a:lnTo>
                <a:lnTo>
                  <a:pt x="72" y="580"/>
                </a:lnTo>
                <a:lnTo>
                  <a:pt x="63" y="591"/>
                </a:lnTo>
                <a:lnTo>
                  <a:pt x="53" y="603"/>
                </a:lnTo>
                <a:lnTo>
                  <a:pt x="43" y="615"/>
                </a:lnTo>
                <a:lnTo>
                  <a:pt x="33" y="626"/>
                </a:lnTo>
                <a:lnTo>
                  <a:pt x="24" y="638"/>
                </a:lnTo>
                <a:lnTo>
                  <a:pt x="14" y="650"/>
                </a:lnTo>
                <a:lnTo>
                  <a:pt x="6" y="661"/>
                </a:lnTo>
                <a:lnTo>
                  <a:pt x="0" y="653"/>
                </a:lnTo>
                <a:lnTo>
                  <a:pt x="4" y="638"/>
                </a:lnTo>
                <a:lnTo>
                  <a:pt x="8" y="622"/>
                </a:lnTo>
                <a:lnTo>
                  <a:pt x="12" y="605"/>
                </a:lnTo>
                <a:lnTo>
                  <a:pt x="16" y="591"/>
                </a:lnTo>
                <a:lnTo>
                  <a:pt x="18" y="574"/>
                </a:lnTo>
                <a:lnTo>
                  <a:pt x="24" y="560"/>
                </a:lnTo>
                <a:lnTo>
                  <a:pt x="30" y="547"/>
                </a:lnTo>
                <a:lnTo>
                  <a:pt x="39" y="537"/>
                </a:lnTo>
                <a:lnTo>
                  <a:pt x="37" y="523"/>
                </a:lnTo>
                <a:lnTo>
                  <a:pt x="37" y="512"/>
                </a:lnTo>
                <a:lnTo>
                  <a:pt x="37" y="498"/>
                </a:lnTo>
                <a:lnTo>
                  <a:pt x="39" y="485"/>
                </a:lnTo>
                <a:lnTo>
                  <a:pt x="39" y="471"/>
                </a:lnTo>
                <a:lnTo>
                  <a:pt x="41" y="458"/>
                </a:lnTo>
                <a:lnTo>
                  <a:pt x="43" y="446"/>
                </a:lnTo>
                <a:lnTo>
                  <a:pt x="45" y="434"/>
                </a:lnTo>
                <a:lnTo>
                  <a:pt x="61" y="430"/>
                </a:lnTo>
                <a:lnTo>
                  <a:pt x="61" y="409"/>
                </a:lnTo>
                <a:lnTo>
                  <a:pt x="61" y="390"/>
                </a:lnTo>
                <a:lnTo>
                  <a:pt x="61" y="368"/>
                </a:lnTo>
                <a:lnTo>
                  <a:pt x="61" y="349"/>
                </a:lnTo>
                <a:lnTo>
                  <a:pt x="59" y="328"/>
                </a:lnTo>
                <a:lnTo>
                  <a:pt x="59" y="310"/>
                </a:lnTo>
                <a:lnTo>
                  <a:pt x="55" y="291"/>
                </a:lnTo>
                <a:lnTo>
                  <a:pt x="53" y="275"/>
                </a:lnTo>
                <a:lnTo>
                  <a:pt x="49" y="262"/>
                </a:lnTo>
                <a:lnTo>
                  <a:pt x="45" y="248"/>
                </a:lnTo>
                <a:lnTo>
                  <a:pt x="41" y="237"/>
                </a:lnTo>
                <a:lnTo>
                  <a:pt x="41" y="225"/>
                </a:lnTo>
                <a:lnTo>
                  <a:pt x="41" y="211"/>
                </a:lnTo>
                <a:lnTo>
                  <a:pt x="43" y="200"/>
                </a:lnTo>
                <a:lnTo>
                  <a:pt x="47" y="188"/>
                </a:lnTo>
                <a:lnTo>
                  <a:pt x="55" y="180"/>
                </a:lnTo>
                <a:lnTo>
                  <a:pt x="68" y="165"/>
                </a:lnTo>
                <a:lnTo>
                  <a:pt x="82" y="151"/>
                </a:lnTo>
                <a:lnTo>
                  <a:pt x="95" y="134"/>
                </a:lnTo>
                <a:lnTo>
                  <a:pt x="105" y="118"/>
                </a:lnTo>
                <a:lnTo>
                  <a:pt x="121" y="103"/>
                </a:lnTo>
                <a:lnTo>
                  <a:pt x="136" y="87"/>
                </a:lnTo>
                <a:lnTo>
                  <a:pt x="152" y="72"/>
                </a:lnTo>
                <a:lnTo>
                  <a:pt x="167" y="58"/>
                </a:lnTo>
                <a:lnTo>
                  <a:pt x="183" y="43"/>
                </a:lnTo>
                <a:lnTo>
                  <a:pt x="198" y="29"/>
                </a:lnTo>
                <a:lnTo>
                  <a:pt x="216" y="14"/>
                </a:lnTo>
                <a:lnTo>
                  <a:pt x="237" y="2"/>
                </a:lnTo>
                <a:lnTo>
                  <a:pt x="264" y="0"/>
                </a:lnTo>
                <a:lnTo>
                  <a:pt x="266" y="12"/>
                </a:lnTo>
                <a:lnTo>
                  <a:pt x="270" y="27"/>
                </a:lnTo>
                <a:lnTo>
                  <a:pt x="272" y="41"/>
                </a:lnTo>
                <a:lnTo>
                  <a:pt x="274" y="56"/>
                </a:lnTo>
                <a:lnTo>
                  <a:pt x="274" y="72"/>
                </a:lnTo>
                <a:lnTo>
                  <a:pt x="276" y="87"/>
                </a:lnTo>
                <a:lnTo>
                  <a:pt x="276" y="103"/>
                </a:lnTo>
                <a:lnTo>
                  <a:pt x="282" y="118"/>
                </a:lnTo>
                <a:lnTo>
                  <a:pt x="282" y="116"/>
                </a:lnTo>
                <a:lnTo>
                  <a:pt x="286" y="116"/>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15" name=""/>
          <p:cNvSpPr/>
          <p:nvPr/>
        </p:nvSpPr>
        <p:spPr>
          <a:xfrm>
            <a:off x="6137280" y="3529080"/>
            <a:ext cx="227160" cy="452520"/>
          </a:xfrm>
          <a:custGeom>
            <a:avLst/>
            <a:gdLst/>
            <a:ahLst/>
            <a:rect l="l" t="t" r="r" b="b"/>
            <a:pathLst>
              <a:path w="285" h="570">
                <a:moveTo>
                  <a:pt x="268" y="570"/>
                </a:moveTo>
                <a:lnTo>
                  <a:pt x="264" y="558"/>
                </a:lnTo>
                <a:lnTo>
                  <a:pt x="260" y="547"/>
                </a:lnTo>
                <a:lnTo>
                  <a:pt x="256" y="535"/>
                </a:lnTo>
                <a:lnTo>
                  <a:pt x="254" y="525"/>
                </a:lnTo>
                <a:lnTo>
                  <a:pt x="249" y="514"/>
                </a:lnTo>
                <a:lnTo>
                  <a:pt x="245" y="502"/>
                </a:lnTo>
                <a:lnTo>
                  <a:pt x="241" y="492"/>
                </a:lnTo>
                <a:lnTo>
                  <a:pt x="237" y="483"/>
                </a:lnTo>
                <a:lnTo>
                  <a:pt x="231" y="469"/>
                </a:lnTo>
                <a:lnTo>
                  <a:pt x="225" y="454"/>
                </a:lnTo>
                <a:lnTo>
                  <a:pt x="219" y="434"/>
                </a:lnTo>
                <a:lnTo>
                  <a:pt x="214" y="417"/>
                </a:lnTo>
                <a:lnTo>
                  <a:pt x="210" y="405"/>
                </a:lnTo>
                <a:lnTo>
                  <a:pt x="206" y="393"/>
                </a:lnTo>
                <a:lnTo>
                  <a:pt x="202" y="382"/>
                </a:lnTo>
                <a:lnTo>
                  <a:pt x="200" y="372"/>
                </a:lnTo>
                <a:lnTo>
                  <a:pt x="194" y="360"/>
                </a:lnTo>
                <a:lnTo>
                  <a:pt x="192" y="349"/>
                </a:lnTo>
                <a:lnTo>
                  <a:pt x="186" y="339"/>
                </a:lnTo>
                <a:lnTo>
                  <a:pt x="185" y="329"/>
                </a:lnTo>
                <a:lnTo>
                  <a:pt x="175" y="308"/>
                </a:lnTo>
                <a:lnTo>
                  <a:pt x="165" y="291"/>
                </a:lnTo>
                <a:lnTo>
                  <a:pt x="154" y="275"/>
                </a:lnTo>
                <a:lnTo>
                  <a:pt x="144" y="265"/>
                </a:lnTo>
                <a:lnTo>
                  <a:pt x="130" y="258"/>
                </a:lnTo>
                <a:lnTo>
                  <a:pt x="119" y="256"/>
                </a:lnTo>
                <a:lnTo>
                  <a:pt x="105" y="260"/>
                </a:lnTo>
                <a:lnTo>
                  <a:pt x="91" y="271"/>
                </a:lnTo>
                <a:lnTo>
                  <a:pt x="80" y="279"/>
                </a:lnTo>
                <a:lnTo>
                  <a:pt x="70" y="289"/>
                </a:lnTo>
                <a:lnTo>
                  <a:pt x="60" y="300"/>
                </a:lnTo>
                <a:lnTo>
                  <a:pt x="55" y="312"/>
                </a:lnTo>
                <a:lnTo>
                  <a:pt x="47" y="324"/>
                </a:lnTo>
                <a:lnTo>
                  <a:pt x="41" y="335"/>
                </a:lnTo>
                <a:lnTo>
                  <a:pt x="35" y="349"/>
                </a:lnTo>
                <a:lnTo>
                  <a:pt x="31" y="364"/>
                </a:lnTo>
                <a:lnTo>
                  <a:pt x="26" y="376"/>
                </a:lnTo>
                <a:lnTo>
                  <a:pt x="22" y="390"/>
                </a:lnTo>
                <a:lnTo>
                  <a:pt x="18" y="403"/>
                </a:lnTo>
                <a:lnTo>
                  <a:pt x="16" y="417"/>
                </a:lnTo>
                <a:lnTo>
                  <a:pt x="12" y="430"/>
                </a:lnTo>
                <a:lnTo>
                  <a:pt x="8" y="444"/>
                </a:lnTo>
                <a:lnTo>
                  <a:pt x="4" y="457"/>
                </a:lnTo>
                <a:lnTo>
                  <a:pt x="2" y="471"/>
                </a:lnTo>
                <a:lnTo>
                  <a:pt x="0" y="454"/>
                </a:lnTo>
                <a:lnTo>
                  <a:pt x="0" y="436"/>
                </a:lnTo>
                <a:lnTo>
                  <a:pt x="2" y="419"/>
                </a:lnTo>
                <a:lnTo>
                  <a:pt x="4" y="401"/>
                </a:lnTo>
                <a:lnTo>
                  <a:pt x="4" y="384"/>
                </a:lnTo>
                <a:lnTo>
                  <a:pt x="8" y="366"/>
                </a:lnTo>
                <a:lnTo>
                  <a:pt x="10" y="351"/>
                </a:lnTo>
                <a:lnTo>
                  <a:pt x="14" y="335"/>
                </a:lnTo>
                <a:lnTo>
                  <a:pt x="16" y="318"/>
                </a:lnTo>
                <a:lnTo>
                  <a:pt x="20" y="300"/>
                </a:lnTo>
                <a:lnTo>
                  <a:pt x="24" y="285"/>
                </a:lnTo>
                <a:lnTo>
                  <a:pt x="27" y="269"/>
                </a:lnTo>
                <a:lnTo>
                  <a:pt x="31" y="252"/>
                </a:lnTo>
                <a:lnTo>
                  <a:pt x="35" y="236"/>
                </a:lnTo>
                <a:lnTo>
                  <a:pt x="39" y="221"/>
                </a:lnTo>
                <a:lnTo>
                  <a:pt x="43" y="207"/>
                </a:lnTo>
                <a:lnTo>
                  <a:pt x="45" y="190"/>
                </a:lnTo>
                <a:lnTo>
                  <a:pt x="53" y="176"/>
                </a:lnTo>
                <a:lnTo>
                  <a:pt x="58" y="161"/>
                </a:lnTo>
                <a:lnTo>
                  <a:pt x="68" y="149"/>
                </a:lnTo>
                <a:lnTo>
                  <a:pt x="78" y="136"/>
                </a:lnTo>
                <a:lnTo>
                  <a:pt x="88" y="124"/>
                </a:lnTo>
                <a:lnTo>
                  <a:pt x="99" y="112"/>
                </a:lnTo>
                <a:lnTo>
                  <a:pt x="111" y="101"/>
                </a:lnTo>
                <a:lnTo>
                  <a:pt x="121" y="87"/>
                </a:lnTo>
                <a:lnTo>
                  <a:pt x="130" y="75"/>
                </a:lnTo>
                <a:lnTo>
                  <a:pt x="140" y="64"/>
                </a:lnTo>
                <a:lnTo>
                  <a:pt x="152" y="52"/>
                </a:lnTo>
                <a:lnTo>
                  <a:pt x="159" y="39"/>
                </a:lnTo>
                <a:lnTo>
                  <a:pt x="169" y="27"/>
                </a:lnTo>
                <a:lnTo>
                  <a:pt x="177" y="13"/>
                </a:lnTo>
                <a:lnTo>
                  <a:pt x="185" y="0"/>
                </a:lnTo>
                <a:lnTo>
                  <a:pt x="190" y="8"/>
                </a:lnTo>
                <a:lnTo>
                  <a:pt x="196" y="19"/>
                </a:lnTo>
                <a:lnTo>
                  <a:pt x="198" y="33"/>
                </a:lnTo>
                <a:lnTo>
                  <a:pt x="200" y="48"/>
                </a:lnTo>
                <a:lnTo>
                  <a:pt x="200" y="62"/>
                </a:lnTo>
                <a:lnTo>
                  <a:pt x="200" y="77"/>
                </a:lnTo>
                <a:lnTo>
                  <a:pt x="200" y="91"/>
                </a:lnTo>
                <a:lnTo>
                  <a:pt x="202" y="106"/>
                </a:lnTo>
                <a:lnTo>
                  <a:pt x="202" y="118"/>
                </a:lnTo>
                <a:lnTo>
                  <a:pt x="204" y="134"/>
                </a:lnTo>
                <a:lnTo>
                  <a:pt x="206" y="145"/>
                </a:lnTo>
                <a:lnTo>
                  <a:pt x="210" y="161"/>
                </a:lnTo>
                <a:lnTo>
                  <a:pt x="210" y="172"/>
                </a:lnTo>
                <a:lnTo>
                  <a:pt x="212" y="186"/>
                </a:lnTo>
                <a:lnTo>
                  <a:pt x="214" y="200"/>
                </a:lnTo>
                <a:lnTo>
                  <a:pt x="218" y="213"/>
                </a:lnTo>
                <a:lnTo>
                  <a:pt x="219" y="225"/>
                </a:lnTo>
                <a:lnTo>
                  <a:pt x="223" y="238"/>
                </a:lnTo>
                <a:lnTo>
                  <a:pt x="225" y="252"/>
                </a:lnTo>
                <a:lnTo>
                  <a:pt x="231" y="265"/>
                </a:lnTo>
                <a:lnTo>
                  <a:pt x="233" y="277"/>
                </a:lnTo>
                <a:lnTo>
                  <a:pt x="237" y="289"/>
                </a:lnTo>
                <a:lnTo>
                  <a:pt x="239" y="302"/>
                </a:lnTo>
                <a:lnTo>
                  <a:pt x="243" y="316"/>
                </a:lnTo>
                <a:lnTo>
                  <a:pt x="245" y="327"/>
                </a:lnTo>
                <a:lnTo>
                  <a:pt x="250" y="341"/>
                </a:lnTo>
                <a:lnTo>
                  <a:pt x="252" y="355"/>
                </a:lnTo>
                <a:lnTo>
                  <a:pt x="258" y="368"/>
                </a:lnTo>
                <a:lnTo>
                  <a:pt x="260" y="380"/>
                </a:lnTo>
                <a:lnTo>
                  <a:pt x="264" y="395"/>
                </a:lnTo>
                <a:lnTo>
                  <a:pt x="266" y="409"/>
                </a:lnTo>
                <a:lnTo>
                  <a:pt x="270" y="424"/>
                </a:lnTo>
                <a:lnTo>
                  <a:pt x="272" y="438"/>
                </a:lnTo>
                <a:lnTo>
                  <a:pt x="278" y="454"/>
                </a:lnTo>
                <a:lnTo>
                  <a:pt x="280" y="469"/>
                </a:lnTo>
                <a:lnTo>
                  <a:pt x="285" y="486"/>
                </a:lnTo>
                <a:lnTo>
                  <a:pt x="285" y="494"/>
                </a:lnTo>
                <a:lnTo>
                  <a:pt x="285" y="506"/>
                </a:lnTo>
                <a:lnTo>
                  <a:pt x="283" y="518"/>
                </a:lnTo>
                <a:lnTo>
                  <a:pt x="282" y="531"/>
                </a:lnTo>
                <a:lnTo>
                  <a:pt x="278" y="543"/>
                </a:lnTo>
                <a:lnTo>
                  <a:pt x="274" y="554"/>
                </a:lnTo>
                <a:lnTo>
                  <a:pt x="270" y="562"/>
                </a:lnTo>
                <a:lnTo>
                  <a:pt x="268" y="570"/>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16" name=""/>
          <p:cNvSpPr/>
          <p:nvPr/>
        </p:nvSpPr>
        <p:spPr>
          <a:xfrm>
            <a:off x="6031080" y="3832200"/>
            <a:ext cx="247320" cy="374760"/>
          </a:xfrm>
          <a:custGeom>
            <a:avLst/>
            <a:gdLst/>
            <a:ahLst/>
            <a:rect l="l" t="t" r="r" b="b"/>
            <a:pathLst>
              <a:path w="313" h="473">
                <a:moveTo>
                  <a:pt x="14" y="473"/>
                </a:moveTo>
                <a:lnTo>
                  <a:pt x="10" y="457"/>
                </a:lnTo>
                <a:lnTo>
                  <a:pt x="8" y="444"/>
                </a:lnTo>
                <a:lnTo>
                  <a:pt x="4" y="428"/>
                </a:lnTo>
                <a:lnTo>
                  <a:pt x="4" y="415"/>
                </a:lnTo>
                <a:lnTo>
                  <a:pt x="2" y="399"/>
                </a:lnTo>
                <a:lnTo>
                  <a:pt x="0" y="386"/>
                </a:lnTo>
                <a:lnTo>
                  <a:pt x="0" y="370"/>
                </a:lnTo>
                <a:lnTo>
                  <a:pt x="0" y="358"/>
                </a:lnTo>
                <a:lnTo>
                  <a:pt x="0" y="343"/>
                </a:lnTo>
                <a:lnTo>
                  <a:pt x="0" y="329"/>
                </a:lnTo>
                <a:lnTo>
                  <a:pt x="0" y="314"/>
                </a:lnTo>
                <a:lnTo>
                  <a:pt x="2" y="300"/>
                </a:lnTo>
                <a:lnTo>
                  <a:pt x="2" y="287"/>
                </a:lnTo>
                <a:lnTo>
                  <a:pt x="4" y="273"/>
                </a:lnTo>
                <a:lnTo>
                  <a:pt x="6" y="262"/>
                </a:lnTo>
                <a:lnTo>
                  <a:pt x="12" y="250"/>
                </a:lnTo>
                <a:lnTo>
                  <a:pt x="14" y="236"/>
                </a:lnTo>
                <a:lnTo>
                  <a:pt x="18" y="225"/>
                </a:lnTo>
                <a:lnTo>
                  <a:pt x="24" y="213"/>
                </a:lnTo>
                <a:lnTo>
                  <a:pt x="30" y="203"/>
                </a:lnTo>
                <a:lnTo>
                  <a:pt x="41" y="182"/>
                </a:lnTo>
                <a:lnTo>
                  <a:pt x="59" y="167"/>
                </a:lnTo>
                <a:lnTo>
                  <a:pt x="66" y="157"/>
                </a:lnTo>
                <a:lnTo>
                  <a:pt x="76" y="151"/>
                </a:lnTo>
                <a:lnTo>
                  <a:pt x="86" y="145"/>
                </a:lnTo>
                <a:lnTo>
                  <a:pt x="97" y="139"/>
                </a:lnTo>
                <a:lnTo>
                  <a:pt x="109" y="134"/>
                </a:lnTo>
                <a:lnTo>
                  <a:pt x="121" y="132"/>
                </a:lnTo>
                <a:lnTo>
                  <a:pt x="134" y="130"/>
                </a:lnTo>
                <a:lnTo>
                  <a:pt x="152" y="130"/>
                </a:lnTo>
                <a:lnTo>
                  <a:pt x="158" y="120"/>
                </a:lnTo>
                <a:lnTo>
                  <a:pt x="169" y="104"/>
                </a:lnTo>
                <a:lnTo>
                  <a:pt x="175" y="91"/>
                </a:lnTo>
                <a:lnTo>
                  <a:pt x="183" y="79"/>
                </a:lnTo>
                <a:lnTo>
                  <a:pt x="191" y="68"/>
                </a:lnTo>
                <a:lnTo>
                  <a:pt x="200" y="56"/>
                </a:lnTo>
                <a:lnTo>
                  <a:pt x="208" y="42"/>
                </a:lnTo>
                <a:lnTo>
                  <a:pt x="216" y="31"/>
                </a:lnTo>
                <a:lnTo>
                  <a:pt x="224" y="19"/>
                </a:lnTo>
                <a:lnTo>
                  <a:pt x="233" y="11"/>
                </a:lnTo>
                <a:lnTo>
                  <a:pt x="247" y="0"/>
                </a:lnTo>
                <a:lnTo>
                  <a:pt x="258" y="2"/>
                </a:lnTo>
                <a:lnTo>
                  <a:pt x="264" y="11"/>
                </a:lnTo>
                <a:lnTo>
                  <a:pt x="270" y="27"/>
                </a:lnTo>
                <a:lnTo>
                  <a:pt x="272" y="42"/>
                </a:lnTo>
                <a:lnTo>
                  <a:pt x="276" y="58"/>
                </a:lnTo>
                <a:lnTo>
                  <a:pt x="278" y="68"/>
                </a:lnTo>
                <a:lnTo>
                  <a:pt x="280" y="79"/>
                </a:lnTo>
                <a:lnTo>
                  <a:pt x="282" y="91"/>
                </a:lnTo>
                <a:lnTo>
                  <a:pt x="286" y="104"/>
                </a:lnTo>
                <a:lnTo>
                  <a:pt x="288" y="116"/>
                </a:lnTo>
                <a:lnTo>
                  <a:pt x="291" y="130"/>
                </a:lnTo>
                <a:lnTo>
                  <a:pt x="293" y="143"/>
                </a:lnTo>
                <a:lnTo>
                  <a:pt x="297" y="157"/>
                </a:lnTo>
                <a:lnTo>
                  <a:pt x="297" y="168"/>
                </a:lnTo>
                <a:lnTo>
                  <a:pt x="301" y="184"/>
                </a:lnTo>
                <a:lnTo>
                  <a:pt x="301" y="198"/>
                </a:lnTo>
                <a:lnTo>
                  <a:pt x="305" y="213"/>
                </a:lnTo>
                <a:lnTo>
                  <a:pt x="305" y="227"/>
                </a:lnTo>
                <a:lnTo>
                  <a:pt x="309" y="242"/>
                </a:lnTo>
                <a:lnTo>
                  <a:pt x="309" y="256"/>
                </a:lnTo>
                <a:lnTo>
                  <a:pt x="313" y="273"/>
                </a:lnTo>
                <a:lnTo>
                  <a:pt x="291" y="285"/>
                </a:lnTo>
                <a:lnTo>
                  <a:pt x="274" y="296"/>
                </a:lnTo>
                <a:lnTo>
                  <a:pt x="253" y="308"/>
                </a:lnTo>
                <a:lnTo>
                  <a:pt x="235" y="320"/>
                </a:lnTo>
                <a:lnTo>
                  <a:pt x="214" y="331"/>
                </a:lnTo>
                <a:lnTo>
                  <a:pt x="196" y="343"/>
                </a:lnTo>
                <a:lnTo>
                  <a:pt x="175" y="355"/>
                </a:lnTo>
                <a:lnTo>
                  <a:pt x="158" y="366"/>
                </a:lnTo>
                <a:lnTo>
                  <a:pt x="138" y="378"/>
                </a:lnTo>
                <a:lnTo>
                  <a:pt x="119" y="390"/>
                </a:lnTo>
                <a:lnTo>
                  <a:pt x="99" y="401"/>
                </a:lnTo>
                <a:lnTo>
                  <a:pt x="82" y="415"/>
                </a:lnTo>
                <a:lnTo>
                  <a:pt x="64" y="426"/>
                </a:lnTo>
                <a:lnTo>
                  <a:pt x="47" y="442"/>
                </a:lnTo>
                <a:lnTo>
                  <a:pt x="30" y="455"/>
                </a:lnTo>
                <a:lnTo>
                  <a:pt x="14" y="473"/>
                </a:lnTo>
                <a:close/>
              </a:path>
            </a:pathLst>
          </a:custGeom>
          <a:solidFill>
            <a:srgbClr val="ffd1c7"/>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17" name=""/>
          <p:cNvSpPr/>
          <p:nvPr/>
        </p:nvSpPr>
        <p:spPr>
          <a:xfrm>
            <a:off x="4597560" y="5302080"/>
            <a:ext cx="460080" cy="113040"/>
          </a:xfrm>
          <a:custGeom>
            <a:avLst/>
            <a:gdLst/>
            <a:ahLst/>
            <a:rect l="l" t="t" r="r" b="b"/>
            <a:pathLst>
              <a:path w="580" h="141">
                <a:moveTo>
                  <a:pt x="580" y="7"/>
                </a:moveTo>
                <a:lnTo>
                  <a:pt x="572" y="11"/>
                </a:lnTo>
                <a:lnTo>
                  <a:pt x="564" y="15"/>
                </a:lnTo>
                <a:lnTo>
                  <a:pt x="558" y="19"/>
                </a:lnTo>
                <a:lnTo>
                  <a:pt x="553" y="23"/>
                </a:lnTo>
                <a:lnTo>
                  <a:pt x="541" y="27"/>
                </a:lnTo>
                <a:lnTo>
                  <a:pt x="531" y="31"/>
                </a:lnTo>
                <a:lnTo>
                  <a:pt x="516" y="31"/>
                </a:lnTo>
                <a:lnTo>
                  <a:pt x="502" y="32"/>
                </a:lnTo>
                <a:lnTo>
                  <a:pt x="487" y="32"/>
                </a:lnTo>
                <a:lnTo>
                  <a:pt x="471" y="34"/>
                </a:lnTo>
                <a:lnTo>
                  <a:pt x="454" y="32"/>
                </a:lnTo>
                <a:lnTo>
                  <a:pt x="440" y="32"/>
                </a:lnTo>
                <a:lnTo>
                  <a:pt x="427" y="29"/>
                </a:lnTo>
                <a:lnTo>
                  <a:pt x="415" y="27"/>
                </a:lnTo>
                <a:lnTo>
                  <a:pt x="403" y="23"/>
                </a:lnTo>
                <a:lnTo>
                  <a:pt x="396" y="19"/>
                </a:lnTo>
                <a:lnTo>
                  <a:pt x="390" y="13"/>
                </a:lnTo>
                <a:lnTo>
                  <a:pt x="390" y="9"/>
                </a:lnTo>
                <a:lnTo>
                  <a:pt x="370" y="1"/>
                </a:lnTo>
                <a:lnTo>
                  <a:pt x="353" y="0"/>
                </a:lnTo>
                <a:lnTo>
                  <a:pt x="337" y="0"/>
                </a:lnTo>
                <a:lnTo>
                  <a:pt x="324" y="3"/>
                </a:lnTo>
                <a:lnTo>
                  <a:pt x="308" y="7"/>
                </a:lnTo>
                <a:lnTo>
                  <a:pt x="295" y="15"/>
                </a:lnTo>
                <a:lnTo>
                  <a:pt x="283" y="23"/>
                </a:lnTo>
                <a:lnTo>
                  <a:pt x="271" y="32"/>
                </a:lnTo>
                <a:lnTo>
                  <a:pt x="258" y="40"/>
                </a:lnTo>
                <a:lnTo>
                  <a:pt x="246" y="50"/>
                </a:lnTo>
                <a:lnTo>
                  <a:pt x="233" y="58"/>
                </a:lnTo>
                <a:lnTo>
                  <a:pt x="221" y="67"/>
                </a:lnTo>
                <a:lnTo>
                  <a:pt x="207" y="73"/>
                </a:lnTo>
                <a:lnTo>
                  <a:pt x="194" y="79"/>
                </a:lnTo>
                <a:lnTo>
                  <a:pt x="180" y="83"/>
                </a:lnTo>
                <a:lnTo>
                  <a:pt x="167" y="85"/>
                </a:lnTo>
                <a:lnTo>
                  <a:pt x="4" y="137"/>
                </a:lnTo>
                <a:lnTo>
                  <a:pt x="0" y="139"/>
                </a:lnTo>
                <a:lnTo>
                  <a:pt x="0" y="141"/>
                </a:lnTo>
                <a:lnTo>
                  <a:pt x="14" y="137"/>
                </a:lnTo>
                <a:lnTo>
                  <a:pt x="29" y="135"/>
                </a:lnTo>
                <a:lnTo>
                  <a:pt x="48" y="129"/>
                </a:lnTo>
                <a:lnTo>
                  <a:pt x="68" y="127"/>
                </a:lnTo>
                <a:lnTo>
                  <a:pt x="87" y="126"/>
                </a:lnTo>
                <a:lnTo>
                  <a:pt x="107" y="126"/>
                </a:lnTo>
                <a:lnTo>
                  <a:pt x="126" y="124"/>
                </a:lnTo>
                <a:lnTo>
                  <a:pt x="145" y="124"/>
                </a:lnTo>
                <a:lnTo>
                  <a:pt x="165" y="122"/>
                </a:lnTo>
                <a:lnTo>
                  <a:pt x="186" y="122"/>
                </a:lnTo>
                <a:lnTo>
                  <a:pt x="204" y="120"/>
                </a:lnTo>
                <a:lnTo>
                  <a:pt x="223" y="118"/>
                </a:lnTo>
                <a:lnTo>
                  <a:pt x="242" y="116"/>
                </a:lnTo>
                <a:lnTo>
                  <a:pt x="264" y="114"/>
                </a:lnTo>
                <a:lnTo>
                  <a:pt x="281" y="110"/>
                </a:lnTo>
                <a:lnTo>
                  <a:pt x="302" y="106"/>
                </a:lnTo>
                <a:lnTo>
                  <a:pt x="322" y="98"/>
                </a:lnTo>
                <a:lnTo>
                  <a:pt x="343" y="93"/>
                </a:lnTo>
                <a:lnTo>
                  <a:pt x="382" y="48"/>
                </a:lnTo>
                <a:lnTo>
                  <a:pt x="390" y="42"/>
                </a:lnTo>
                <a:lnTo>
                  <a:pt x="396" y="44"/>
                </a:lnTo>
                <a:lnTo>
                  <a:pt x="398" y="48"/>
                </a:lnTo>
                <a:lnTo>
                  <a:pt x="399" y="58"/>
                </a:lnTo>
                <a:lnTo>
                  <a:pt x="399" y="71"/>
                </a:lnTo>
                <a:lnTo>
                  <a:pt x="409" y="81"/>
                </a:lnTo>
                <a:lnTo>
                  <a:pt x="427" y="81"/>
                </a:lnTo>
                <a:lnTo>
                  <a:pt x="444" y="85"/>
                </a:lnTo>
                <a:lnTo>
                  <a:pt x="462" y="87"/>
                </a:lnTo>
                <a:lnTo>
                  <a:pt x="479" y="91"/>
                </a:lnTo>
                <a:lnTo>
                  <a:pt x="496" y="93"/>
                </a:lnTo>
                <a:lnTo>
                  <a:pt x="514" y="95"/>
                </a:lnTo>
                <a:lnTo>
                  <a:pt x="531" y="95"/>
                </a:lnTo>
                <a:lnTo>
                  <a:pt x="549" y="96"/>
                </a:lnTo>
                <a:lnTo>
                  <a:pt x="555" y="85"/>
                </a:lnTo>
                <a:lnTo>
                  <a:pt x="560" y="75"/>
                </a:lnTo>
                <a:lnTo>
                  <a:pt x="564" y="64"/>
                </a:lnTo>
                <a:lnTo>
                  <a:pt x="570" y="54"/>
                </a:lnTo>
                <a:lnTo>
                  <a:pt x="572" y="42"/>
                </a:lnTo>
                <a:lnTo>
                  <a:pt x="576" y="31"/>
                </a:lnTo>
                <a:lnTo>
                  <a:pt x="578" y="19"/>
                </a:lnTo>
                <a:lnTo>
                  <a:pt x="580" y="7"/>
                </a:lnTo>
                <a:close/>
              </a:path>
            </a:pathLst>
          </a:custGeom>
          <a:solidFill>
            <a:srgbClr val="e66e5c"/>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18" name=""/>
          <p:cNvSpPr/>
          <p:nvPr/>
        </p:nvSpPr>
        <p:spPr>
          <a:xfrm>
            <a:off x="5516640" y="2963880"/>
            <a:ext cx="174600" cy="333360"/>
          </a:xfrm>
          <a:custGeom>
            <a:avLst/>
            <a:gdLst/>
            <a:ahLst/>
            <a:rect l="l" t="t" r="r" b="b"/>
            <a:pathLst>
              <a:path w="219" h="421">
                <a:moveTo>
                  <a:pt x="174" y="41"/>
                </a:moveTo>
                <a:lnTo>
                  <a:pt x="170" y="33"/>
                </a:lnTo>
                <a:lnTo>
                  <a:pt x="167" y="23"/>
                </a:lnTo>
                <a:lnTo>
                  <a:pt x="163" y="12"/>
                </a:lnTo>
                <a:lnTo>
                  <a:pt x="161" y="6"/>
                </a:lnTo>
                <a:lnTo>
                  <a:pt x="145" y="0"/>
                </a:lnTo>
                <a:lnTo>
                  <a:pt x="130" y="0"/>
                </a:lnTo>
                <a:lnTo>
                  <a:pt x="120" y="2"/>
                </a:lnTo>
                <a:lnTo>
                  <a:pt x="114" y="8"/>
                </a:lnTo>
                <a:lnTo>
                  <a:pt x="104" y="16"/>
                </a:lnTo>
                <a:lnTo>
                  <a:pt x="99" y="27"/>
                </a:lnTo>
                <a:lnTo>
                  <a:pt x="87" y="39"/>
                </a:lnTo>
                <a:lnTo>
                  <a:pt x="77" y="56"/>
                </a:lnTo>
                <a:lnTo>
                  <a:pt x="72" y="64"/>
                </a:lnTo>
                <a:lnTo>
                  <a:pt x="68" y="76"/>
                </a:lnTo>
                <a:lnTo>
                  <a:pt x="62" y="87"/>
                </a:lnTo>
                <a:lnTo>
                  <a:pt x="58" y="101"/>
                </a:lnTo>
                <a:lnTo>
                  <a:pt x="52" y="113"/>
                </a:lnTo>
                <a:lnTo>
                  <a:pt x="46" y="126"/>
                </a:lnTo>
                <a:lnTo>
                  <a:pt x="40" y="140"/>
                </a:lnTo>
                <a:lnTo>
                  <a:pt x="37" y="155"/>
                </a:lnTo>
                <a:lnTo>
                  <a:pt x="31" y="169"/>
                </a:lnTo>
                <a:lnTo>
                  <a:pt x="27" y="184"/>
                </a:lnTo>
                <a:lnTo>
                  <a:pt x="23" y="198"/>
                </a:lnTo>
                <a:lnTo>
                  <a:pt x="21" y="215"/>
                </a:lnTo>
                <a:lnTo>
                  <a:pt x="15" y="229"/>
                </a:lnTo>
                <a:lnTo>
                  <a:pt x="11" y="245"/>
                </a:lnTo>
                <a:lnTo>
                  <a:pt x="8" y="258"/>
                </a:lnTo>
                <a:lnTo>
                  <a:pt x="6" y="274"/>
                </a:lnTo>
                <a:lnTo>
                  <a:pt x="4" y="287"/>
                </a:lnTo>
                <a:lnTo>
                  <a:pt x="2" y="301"/>
                </a:lnTo>
                <a:lnTo>
                  <a:pt x="2" y="314"/>
                </a:lnTo>
                <a:lnTo>
                  <a:pt x="2" y="328"/>
                </a:lnTo>
                <a:lnTo>
                  <a:pt x="0" y="340"/>
                </a:lnTo>
                <a:lnTo>
                  <a:pt x="0" y="351"/>
                </a:lnTo>
                <a:lnTo>
                  <a:pt x="2" y="363"/>
                </a:lnTo>
                <a:lnTo>
                  <a:pt x="4" y="374"/>
                </a:lnTo>
                <a:lnTo>
                  <a:pt x="9" y="392"/>
                </a:lnTo>
                <a:lnTo>
                  <a:pt x="21" y="409"/>
                </a:lnTo>
                <a:lnTo>
                  <a:pt x="33" y="413"/>
                </a:lnTo>
                <a:lnTo>
                  <a:pt x="44" y="419"/>
                </a:lnTo>
                <a:lnTo>
                  <a:pt x="56" y="419"/>
                </a:lnTo>
                <a:lnTo>
                  <a:pt x="70" y="421"/>
                </a:lnTo>
                <a:lnTo>
                  <a:pt x="79" y="419"/>
                </a:lnTo>
                <a:lnTo>
                  <a:pt x="91" y="417"/>
                </a:lnTo>
                <a:lnTo>
                  <a:pt x="101" y="413"/>
                </a:lnTo>
                <a:lnTo>
                  <a:pt x="110" y="411"/>
                </a:lnTo>
                <a:lnTo>
                  <a:pt x="122" y="402"/>
                </a:lnTo>
                <a:lnTo>
                  <a:pt x="134" y="392"/>
                </a:lnTo>
                <a:lnTo>
                  <a:pt x="147" y="380"/>
                </a:lnTo>
                <a:lnTo>
                  <a:pt x="161" y="369"/>
                </a:lnTo>
                <a:lnTo>
                  <a:pt x="172" y="351"/>
                </a:lnTo>
                <a:lnTo>
                  <a:pt x="184" y="336"/>
                </a:lnTo>
                <a:lnTo>
                  <a:pt x="194" y="318"/>
                </a:lnTo>
                <a:lnTo>
                  <a:pt x="205" y="299"/>
                </a:lnTo>
                <a:lnTo>
                  <a:pt x="207" y="285"/>
                </a:lnTo>
                <a:lnTo>
                  <a:pt x="211" y="274"/>
                </a:lnTo>
                <a:lnTo>
                  <a:pt x="213" y="262"/>
                </a:lnTo>
                <a:lnTo>
                  <a:pt x="217" y="250"/>
                </a:lnTo>
                <a:lnTo>
                  <a:pt x="217" y="235"/>
                </a:lnTo>
                <a:lnTo>
                  <a:pt x="219" y="221"/>
                </a:lnTo>
                <a:lnTo>
                  <a:pt x="219" y="206"/>
                </a:lnTo>
                <a:lnTo>
                  <a:pt x="219" y="192"/>
                </a:lnTo>
                <a:lnTo>
                  <a:pt x="215" y="175"/>
                </a:lnTo>
                <a:lnTo>
                  <a:pt x="213" y="157"/>
                </a:lnTo>
                <a:lnTo>
                  <a:pt x="209" y="140"/>
                </a:lnTo>
                <a:lnTo>
                  <a:pt x="205" y="122"/>
                </a:lnTo>
                <a:lnTo>
                  <a:pt x="198" y="101"/>
                </a:lnTo>
                <a:lnTo>
                  <a:pt x="192" y="82"/>
                </a:lnTo>
                <a:lnTo>
                  <a:pt x="182" y="60"/>
                </a:lnTo>
                <a:lnTo>
                  <a:pt x="174" y="41"/>
                </a:lnTo>
                <a:close/>
              </a:path>
            </a:pathLst>
          </a:custGeom>
          <a:solidFill>
            <a:srgbClr val="ffbaa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19" name=""/>
          <p:cNvSpPr/>
          <p:nvPr/>
        </p:nvSpPr>
        <p:spPr>
          <a:xfrm>
            <a:off x="5530680" y="2989440"/>
            <a:ext cx="135000" cy="291960"/>
          </a:xfrm>
          <a:custGeom>
            <a:avLst/>
            <a:gdLst/>
            <a:ahLst/>
            <a:rect l="l" t="t" r="r" b="b"/>
            <a:pathLst>
              <a:path w="171" h="369">
                <a:moveTo>
                  <a:pt x="136" y="37"/>
                </a:moveTo>
                <a:lnTo>
                  <a:pt x="134" y="29"/>
                </a:lnTo>
                <a:lnTo>
                  <a:pt x="130" y="22"/>
                </a:lnTo>
                <a:lnTo>
                  <a:pt x="126" y="12"/>
                </a:lnTo>
                <a:lnTo>
                  <a:pt x="126" y="6"/>
                </a:lnTo>
                <a:lnTo>
                  <a:pt x="113" y="0"/>
                </a:lnTo>
                <a:lnTo>
                  <a:pt x="101" y="2"/>
                </a:lnTo>
                <a:lnTo>
                  <a:pt x="89" y="8"/>
                </a:lnTo>
                <a:lnTo>
                  <a:pt x="78" y="25"/>
                </a:lnTo>
                <a:lnTo>
                  <a:pt x="68" y="35"/>
                </a:lnTo>
                <a:lnTo>
                  <a:pt x="60" y="53"/>
                </a:lnTo>
                <a:lnTo>
                  <a:pt x="56" y="58"/>
                </a:lnTo>
                <a:lnTo>
                  <a:pt x="53" y="68"/>
                </a:lnTo>
                <a:lnTo>
                  <a:pt x="49" y="80"/>
                </a:lnTo>
                <a:lnTo>
                  <a:pt x="45" y="91"/>
                </a:lnTo>
                <a:lnTo>
                  <a:pt x="39" y="101"/>
                </a:lnTo>
                <a:lnTo>
                  <a:pt x="37" y="113"/>
                </a:lnTo>
                <a:lnTo>
                  <a:pt x="31" y="124"/>
                </a:lnTo>
                <a:lnTo>
                  <a:pt x="29" y="136"/>
                </a:lnTo>
                <a:lnTo>
                  <a:pt x="25" y="148"/>
                </a:lnTo>
                <a:lnTo>
                  <a:pt x="23" y="161"/>
                </a:lnTo>
                <a:lnTo>
                  <a:pt x="20" y="175"/>
                </a:lnTo>
                <a:lnTo>
                  <a:pt x="18" y="188"/>
                </a:lnTo>
                <a:lnTo>
                  <a:pt x="12" y="200"/>
                </a:lnTo>
                <a:lnTo>
                  <a:pt x="10" y="214"/>
                </a:lnTo>
                <a:lnTo>
                  <a:pt x="6" y="225"/>
                </a:lnTo>
                <a:lnTo>
                  <a:pt x="6" y="239"/>
                </a:lnTo>
                <a:lnTo>
                  <a:pt x="2" y="250"/>
                </a:lnTo>
                <a:lnTo>
                  <a:pt x="2" y="262"/>
                </a:lnTo>
                <a:lnTo>
                  <a:pt x="2" y="274"/>
                </a:lnTo>
                <a:lnTo>
                  <a:pt x="2" y="287"/>
                </a:lnTo>
                <a:lnTo>
                  <a:pt x="0" y="307"/>
                </a:lnTo>
                <a:lnTo>
                  <a:pt x="2" y="326"/>
                </a:lnTo>
                <a:lnTo>
                  <a:pt x="8" y="341"/>
                </a:lnTo>
                <a:lnTo>
                  <a:pt x="16" y="357"/>
                </a:lnTo>
                <a:lnTo>
                  <a:pt x="23" y="361"/>
                </a:lnTo>
                <a:lnTo>
                  <a:pt x="33" y="365"/>
                </a:lnTo>
                <a:lnTo>
                  <a:pt x="45" y="367"/>
                </a:lnTo>
                <a:lnTo>
                  <a:pt x="56" y="369"/>
                </a:lnTo>
                <a:lnTo>
                  <a:pt x="76" y="363"/>
                </a:lnTo>
                <a:lnTo>
                  <a:pt x="93" y="351"/>
                </a:lnTo>
                <a:lnTo>
                  <a:pt x="101" y="341"/>
                </a:lnTo>
                <a:lnTo>
                  <a:pt x="111" y="332"/>
                </a:lnTo>
                <a:lnTo>
                  <a:pt x="120" y="322"/>
                </a:lnTo>
                <a:lnTo>
                  <a:pt x="130" y="312"/>
                </a:lnTo>
                <a:lnTo>
                  <a:pt x="138" y="299"/>
                </a:lnTo>
                <a:lnTo>
                  <a:pt x="148" y="285"/>
                </a:lnTo>
                <a:lnTo>
                  <a:pt x="155" y="270"/>
                </a:lnTo>
                <a:lnTo>
                  <a:pt x="163" y="254"/>
                </a:lnTo>
                <a:lnTo>
                  <a:pt x="165" y="245"/>
                </a:lnTo>
                <a:lnTo>
                  <a:pt x="167" y="235"/>
                </a:lnTo>
                <a:lnTo>
                  <a:pt x="169" y="223"/>
                </a:lnTo>
                <a:lnTo>
                  <a:pt x="171" y="214"/>
                </a:lnTo>
                <a:lnTo>
                  <a:pt x="171" y="202"/>
                </a:lnTo>
                <a:lnTo>
                  <a:pt x="171" y="190"/>
                </a:lnTo>
                <a:lnTo>
                  <a:pt x="171" y="177"/>
                </a:lnTo>
                <a:lnTo>
                  <a:pt x="171" y="165"/>
                </a:lnTo>
                <a:lnTo>
                  <a:pt x="167" y="150"/>
                </a:lnTo>
                <a:lnTo>
                  <a:pt x="165" y="136"/>
                </a:lnTo>
                <a:lnTo>
                  <a:pt x="161" y="120"/>
                </a:lnTo>
                <a:lnTo>
                  <a:pt x="159" y="107"/>
                </a:lnTo>
                <a:lnTo>
                  <a:pt x="153" y="89"/>
                </a:lnTo>
                <a:lnTo>
                  <a:pt x="148" y="72"/>
                </a:lnTo>
                <a:lnTo>
                  <a:pt x="142" y="55"/>
                </a:lnTo>
                <a:lnTo>
                  <a:pt x="136" y="37"/>
                </a:lnTo>
                <a:close/>
              </a:path>
            </a:pathLst>
          </a:custGeom>
          <a:solidFill>
            <a:srgbClr val="ffc4b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20" name=""/>
          <p:cNvSpPr/>
          <p:nvPr/>
        </p:nvSpPr>
        <p:spPr>
          <a:xfrm>
            <a:off x="5543640" y="3013200"/>
            <a:ext cx="100080" cy="249120"/>
          </a:xfrm>
          <a:custGeom>
            <a:avLst/>
            <a:gdLst/>
            <a:ahLst/>
            <a:rect l="l" t="t" r="r" b="b"/>
            <a:pathLst>
              <a:path w="126" h="314">
                <a:moveTo>
                  <a:pt x="101" y="35"/>
                </a:moveTo>
                <a:lnTo>
                  <a:pt x="97" y="29"/>
                </a:lnTo>
                <a:lnTo>
                  <a:pt x="97" y="20"/>
                </a:lnTo>
                <a:lnTo>
                  <a:pt x="93" y="10"/>
                </a:lnTo>
                <a:lnTo>
                  <a:pt x="93" y="6"/>
                </a:lnTo>
                <a:lnTo>
                  <a:pt x="83" y="0"/>
                </a:lnTo>
                <a:lnTo>
                  <a:pt x="75" y="2"/>
                </a:lnTo>
                <a:lnTo>
                  <a:pt x="66" y="10"/>
                </a:lnTo>
                <a:lnTo>
                  <a:pt x="58" y="24"/>
                </a:lnTo>
                <a:lnTo>
                  <a:pt x="52" y="33"/>
                </a:lnTo>
                <a:lnTo>
                  <a:pt x="46" y="45"/>
                </a:lnTo>
                <a:lnTo>
                  <a:pt x="40" y="60"/>
                </a:lnTo>
                <a:lnTo>
                  <a:pt x="35" y="80"/>
                </a:lnTo>
                <a:lnTo>
                  <a:pt x="29" y="97"/>
                </a:lnTo>
                <a:lnTo>
                  <a:pt x="23" y="119"/>
                </a:lnTo>
                <a:lnTo>
                  <a:pt x="19" y="128"/>
                </a:lnTo>
                <a:lnTo>
                  <a:pt x="17" y="140"/>
                </a:lnTo>
                <a:lnTo>
                  <a:pt x="13" y="151"/>
                </a:lnTo>
                <a:lnTo>
                  <a:pt x="13" y="163"/>
                </a:lnTo>
                <a:lnTo>
                  <a:pt x="9" y="173"/>
                </a:lnTo>
                <a:lnTo>
                  <a:pt x="7" y="184"/>
                </a:lnTo>
                <a:lnTo>
                  <a:pt x="6" y="194"/>
                </a:lnTo>
                <a:lnTo>
                  <a:pt x="4" y="206"/>
                </a:lnTo>
                <a:lnTo>
                  <a:pt x="2" y="225"/>
                </a:lnTo>
                <a:lnTo>
                  <a:pt x="2" y="245"/>
                </a:lnTo>
                <a:lnTo>
                  <a:pt x="0" y="260"/>
                </a:lnTo>
                <a:lnTo>
                  <a:pt x="2" y="278"/>
                </a:lnTo>
                <a:lnTo>
                  <a:pt x="6" y="291"/>
                </a:lnTo>
                <a:lnTo>
                  <a:pt x="11" y="305"/>
                </a:lnTo>
                <a:lnTo>
                  <a:pt x="25" y="312"/>
                </a:lnTo>
                <a:lnTo>
                  <a:pt x="44" y="314"/>
                </a:lnTo>
                <a:lnTo>
                  <a:pt x="52" y="310"/>
                </a:lnTo>
                <a:lnTo>
                  <a:pt x="62" y="307"/>
                </a:lnTo>
                <a:lnTo>
                  <a:pt x="70" y="299"/>
                </a:lnTo>
                <a:lnTo>
                  <a:pt x="77" y="289"/>
                </a:lnTo>
                <a:lnTo>
                  <a:pt x="87" y="272"/>
                </a:lnTo>
                <a:lnTo>
                  <a:pt x="101" y="256"/>
                </a:lnTo>
                <a:lnTo>
                  <a:pt x="104" y="245"/>
                </a:lnTo>
                <a:lnTo>
                  <a:pt x="110" y="235"/>
                </a:lnTo>
                <a:lnTo>
                  <a:pt x="116" y="223"/>
                </a:lnTo>
                <a:lnTo>
                  <a:pt x="122" y="212"/>
                </a:lnTo>
                <a:lnTo>
                  <a:pt x="124" y="194"/>
                </a:lnTo>
                <a:lnTo>
                  <a:pt x="126" y="179"/>
                </a:lnTo>
                <a:lnTo>
                  <a:pt x="126" y="159"/>
                </a:lnTo>
                <a:lnTo>
                  <a:pt x="126" y="140"/>
                </a:lnTo>
                <a:lnTo>
                  <a:pt x="124" y="128"/>
                </a:lnTo>
                <a:lnTo>
                  <a:pt x="122" y="117"/>
                </a:lnTo>
                <a:lnTo>
                  <a:pt x="120" y="105"/>
                </a:lnTo>
                <a:lnTo>
                  <a:pt x="118" y="93"/>
                </a:lnTo>
                <a:lnTo>
                  <a:pt x="114" y="78"/>
                </a:lnTo>
                <a:lnTo>
                  <a:pt x="110" y="64"/>
                </a:lnTo>
                <a:lnTo>
                  <a:pt x="104" y="49"/>
                </a:lnTo>
                <a:lnTo>
                  <a:pt x="101" y="35"/>
                </a:lnTo>
                <a:close/>
              </a:path>
            </a:pathLst>
          </a:custGeom>
          <a:solidFill>
            <a:srgbClr val="ffcfc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21" name=""/>
          <p:cNvSpPr/>
          <p:nvPr/>
        </p:nvSpPr>
        <p:spPr>
          <a:xfrm>
            <a:off x="5556240" y="3040200"/>
            <a:ext cx="61920" cy="204480"/>
          </a:xfrm>
          <a:custGeom>
            <a:avLst/>
            <a:gdLst/>
            <a:ahLst/>
            <a:rect l="l" t="t" r="r" b="b"/>
            <a:pathLst>
              <a:path w="80" h="258">
                <a:moveTo>
                  <a:pt x="66" y="29"/>
                </a:moveTo>
                <a:lnTo>
                  <a:pt x="64" y="23"/>
                </a:lnTo>
                <a:lnTo>
                  <a:pt x="62" y="18"/>
                </a:lnTo>
                <a:lnTo>
                  <a:pt x="62" y="10"/>
                </a:lnTo>
                <a:lnTo>
                  <a:pt x="62" y="6"/>
                </a:lnTo>
                <a:lnTo>
                  <a:pt x="56" y="0"/>
                </a:lnTo>
                <a:lnTo>
                  <a:pt x="51" y="2"/>
                </a:lnTo>
                <a:lnTo>
                  <a:pt x="45" y="8"/>
                </a:lnTo>
                <a:lnTo>
                  <a:pt x="41" y="20"/>
                </a:lnTo>
                <a:lnTo>
                  <a:pt x="35" y="25"/>
                </a:lnTo>
                <a:lnTo>
                  <a:pt x="31" y="37"/>
                </a:lnTo>
                <a:lnTo>
                  <a:pt x="27" y="49"/>
                </a:lnTo>
                <a:lnTo>
                  <a:pt x="25" y="64"/>
                </a:lnTo>
                <a:lnTo>
                  <a:pt x="20" y="80"/>
                </a:lnTo>
                <a:lnTo>
                  <a:pt x="16" y="97"/>
                </a:lnTo>
                <a:lnTo>
                  <a:pt x="12" y="115"/>
                </a:lnTo>
                <a:lnTo>
                  <a:pt x="10" y="134"/>
                </a:lnTo>
                <a:lnTo>
                  <a:pt x="6" y="151"/>
                </a:lnTo>
                <a:lnTo>
                  <a:pt x="4" y="169"/>
                </a:lnTo>
                <a:lnTo>
                  <a:pt x="2" y="184"/>
                </a:lnTo>
                <a:lnTo>
                  <a:pt x="2" y="202"/>
                </a:lnTo>
                <a:lnTo>
                  <a:pt x="0" y="215"/>
                </a:lnTo>
                <a:lnTo>
                  <a:pt x="2" y="229"/>
                </a:lnTo>
                <a:lnTo>
                  <a:pt x="2" y="241"/>
                </a:lnTo>
                <a:lnTo>
                  <a:pt x="8" y="252"/>
                </a:lnTo>
                <a:lnTo>
                  <a:pt x="16" y="258"/>
                </a:lnTo>
                <a:lnTo>
                  <a:pt x="31" y="258"/>
                </a:lnTo>
                <a:lnTo>
                  <a:pt x="39" y="254"/>
                </a:lnTo>
                <a:lnTo>
                  <a:pt x="49" y="248"/>
                </a:lnTo>
                <a:lnTo>
                  <a:pt x="55" y="237"/>
                </a:lnTo>
                <a:lnTo>
                  <a:pt x="62" y="225"/>
                </a:lnTo>
                <a:lnTo>
                  <a:pt x="64" y="212"/>
                </a:lnTo>
                <a:lnTo>
                  <a:pt x="70" y="198"/>
                </a:lnTo>
                <a:lnTo>
                  <a:pt x="74" y="184"/>
                </a:lnTo>
                <a:lnTo>
                  <a:pt x="80" y="167"/>
                </a:lnTo>
                <a:lnTo>
                  <a:pt x="80" y="153"/>
                </a:lnTo>
                <a:lnTo>
                  <a:pt x="80" y="142"/>
                </a:lnTo>
                <a:lnTo>
                  <a:pt x="80" y="128"/>
                </a:lnTo>
                <a:lnTo>
                  <a:pt x="80" y="113"/>
                </a:lnTo>
                <a:lnTo>
                  <a:pt x="76" y="93"/>
                </a:lnTo>
                <a:lnTo>
                  <a:pt x="74" y="76"/>
                </a:lnTo>
                <a:lnTo>
                  <a:pt x="72" y="64"/>
                </a:lnTo>
                <a:lnTo>
                  <a:pt x="70" y="53"/>
                </a:lnTo>
                <a:lnTo>
                  <a:pt x="68" y="41"/>
                </a:lnTo>
                <a:lnTo>
                  <a:pt x="66" y="29"/>
                </a:lnTo>
                <a:close/>
              </a:path>
            </a:pathLst>
          </a:custGeom>
          <a:solidFill>
            <a:srgbClr val="ffd9c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22" name=""/>
          <p:cNvSpPr/>
          <p:nvPr/>
        </p:nvSpPr>
        <p:spPr>
          <a:xfrm>
            <a:off x="6303960" y="3855960"/>
            <a:ext cx="158760" cy="298440"/>
          </a:xfrm>
          <a:custGeom>
            <a:avLst/>
            <a:gdLst/>
            <a:ahLst/>
            <a:rect l="l" t="t" r="r" b="b"/>
            <a:pathLst>
              <a:path w="200" h="374">
                <a:moveTo>
                  <a:pt x="62" y="168"/>
                </a:moveTo>
                <a:lnTo>
                  <a:pt x="62" y="180"/>
                </a:lnTo>
                <a:lnTo>
                  <a:pt x="64" y="192"/>
                </a:lnTo>
                <a:lnTo>
                  <a:pt x="64" y="203"/>
                </a:lnTo>
                <a:lnTo>
                  <a:pt x="64" y="217"/>
                </a:lnTo>
                <a:lnTo>
                  <a:pt x="62" y="229"/>
                </a:lnTo>
                <a:lnTo>
                  <a:pt x="62" y="242"/>
                </a:lnTo>
                <a:lnTo>
                  <a:pt x="60" y="256"/>
                </a:lnTo>
                <a:lnTo>
                  <a:pt x="58" y="269"/>
                </a:lnTo>
                <a:lnTo>
                  <a:pt x="52" y="281"/>
                </a:lnTo>
                <a:lnTo>
                  <a:pt x="48" y="293"/>
                </a:lnTo>
                <a:lnTo>
                  <a:pt x="44" y="304"/>
                </a:lnTo>
                <a:lnTo>
                  <a:pt x="40" y="316"/>
                </a:lnTo>
                <a:lnTo>
                  <a:pt x="29" y="335"/>
                </a:lnTo>
                <a:lnTo>
                  <a:pt x="19" y="353"/>
                </a:lnTo>
                <a:lnTo>
                  <a:pt x="9" y="360"/>
                </a:lnTo>
                <a:lnTo>
                  <a:pt x="0" y="374"/>
                </a:lnTo>
                <a:lnTo>
                  <a:pt x="8" y="366"/>
                </a:lnTo>
                <a:lnTo>
                  <a:pt x="19" y="360"/>
                </a:lnTo>
                <a:lnTo>
                  <a:pt x="37" y="345"/>
                </a:lnTo>
                <a:lnTo>
                  <a:pt x="54" y="331"/>
                </a:lnTo>
                <a:lnTo>
                  <a:pt x="73" y="318"/>
                </a:lnTo>
                <a:lnTo>
                  <a:pt x="95" y="306"/>
                </a:lnTo>
                <a:lnTo>
                  <a:pt x="114" y="293"/>
                </a:lnTo>
                <a:lnTo>
                  <a:pt x="136" y="281"/>
                </a:lnTo>
                <a:lnTo>
                  <a:pt x="145" y="275"/>
                </a:lnTo>
                <a:lnTo>
                  <a:pt x="155" y="269"/>
                </a:lnTo>
                <a:lnTo>
                  <a:pt x="167" y="264"/>
                </a:lnTo>
                <a:lnTo>
                  <a:pt x="178" y="260"/>
                </a:lnTo>
                <a:lnTo>
                  <a:pt x="186" y="252"/>
                </a:lnTo>
                <a:lnTo>
                  <a:pt x="192" y="244"/>
                </a:lnTo>
                <a:lnTo>
                  <a:pt x="196" y="232"/>
                </a:lnTo>
                <a:lnTo>
                  <a:pt x="200" y="223"/>
                </a:lnTo>
                <a:lnTo>
                  <a:pt x="200" y="211"/>
                </a:lnTo>
                <a:lnTo>
                  <a:pt x="200" y="200"/>
                </a:lnTo>
                <a:lnTo>
                  <a:pt x="196" y="186"/>
                </a:lnTo>
                <a:lnTo>
                  <a:pt x="194" y="174"/>
                </a:lnTo>
                <a:lnTo>
                  <a:pt x="188" y="159"/>
                </a:lnTo>
                <a:lnTo>
                  <a:pt x="182" y="147"/>
                </a:lnTo>
                <a:lnTo>
                  <a:pt x="176" y="134"/>
                </a:lnTo>
                <a:lnTo>
                  <a:pt x="172" y="122"/>
                </a:lnTo>
                <a:lnTo>
                  <a:pt x="167" y="110"/>
                </a:lnTo>
                <a:lnTo>
                  <a:pt x="163" y="101"/>
                </a:lnTo>
                <a:lnTo>
                  <a:pt x="157" y="93"/>
                </a:lnTo>
                <a:lnTo>
                  <a:pt x="153" y="87"/>
                </a:lnTo>
                <a:lnTo>
                  <a:pt x="145" y="77"/>
                </a:lnTo>
                <a:lnTo>
                  <a:pt x="139" y="66"/>
                </a:lnTo>
                <a:lnTo>
                  <a:pt x="130" y="50"/>
                </a:lnTo>
                <a:lnTo>
                  <a:pt x="120" y="35"/>
                </a:lnTo>
                <a:lnTo>
                  <a:pt x="106" y="17"/>
                </a:lnTo>
                <a:lnTo>
                  <a:pt x="95" y="8"/>
                </a:lnTo>
                <a:lnTo>
                  <a:pt x="83" y="0"/>
                </a:lnTo>
                <a:lnTo>
                  <a:pt x="72" y="0"/>
                </a:lnTo>
                <a:lnTo>
                  <a:pt x="81" y="27"/>
                </a:lnTo>
                <a:lnTo>
                  <a:pt x="85" y="33"/>
                </a:lnTo>
                <a:lnTo>
                  <a:pt x="89" y="44"/>
                </a:lnTo>
                <a:lnTo>
                  <a:pt x="91" y="56"/>
                </a:lnTo>
                <a:lnTo>
                  <a:pt x="93" y="68"/>
                </a:lnTo>
                <a:lnTo>
                  <a:pt x="91" y="79"/>
                </a:lnTo>
                <a:lnTo>
                  <a:pt x="89" y="91"/>
                </a:lnTo>
                <a:lnTo>
                  <a:pt x="87" y="101"/>
                </a:lnTo>
                <a:lnTo>
                  <a:pt x="87" y="112"/>
                </a:lnTo>
                <a:lnTo>
                  <a:pt x="81" y="126"/>
                </a:lnTo>
                <a:lnTo>
                  <a:pt x="75" y="141"/>
                </a:lnTo>
                <a:lnTo>
                  <a:pt x="68" y="155"/>
                </a:lnTo>
                <a:lnTo>
                  <a:pt x="62" y="168"/>
                </a:lnTo>
                <a:close/>
              </a:path>
            </a:pathLst>
          </a:custGeom>
          <a:solidFill>
            <a:srgbClr val="00d9e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23" name=""/>
          <p:cNvSpPr/>
          <p:nvPr/>
        </p:nvSpPr>
        <p:spPr>
          <a:xfrm>
            <a:off x="5792760" y="4076640"/>
            <a:ext cx="142920" cy="263520"/>
          </a:xfrm>
          <a:custGeom>
            <a:avLst/>
            <a:gdLst/>
            <a:ahLst/>
            <a:rect l="l" t="t" r="r" b="b"/>
            <a:pathLst>
              <a:path w="180" h="332">
                <a:moveTo>
                  <a:pt x="0" y="332"/>
                </a:moveTo>
                <a:lnTo>
                  <a:pt x="8" y="320"/>
                </a:lnTo>
                <a:lnTo>
                  <a:pt x="17" y="308"/>
                </a:lnTo>
                <a:lnTo>
                  <a:pt x="25" y="297"/>
                </a:lnTo>
                <a:lnTo>
                  <a:pt x="35" y="285"/>
                </a:lnTo>
                <a:lnTo>
                  <a:pt x="43" y="272"/>
                </a:lnTo>
                <a:lnTo>
                  <a:pt x="50" y="260"/>
                </a:lnTo>
                <a:lnTo>
                  <a:pt x="56" y="248"/>
                </a:lnTo>
                <a:lnTo>
                  <a:pt x="64" y="239"/>
                </a:lnTo>
                <a:lnTo>
                  <a:pt x="66" y="233"/>
                </a:lnTo>
                <a:lnTo>
                  <a:pt x="76" y="225"/>
                </a:lnTo>
                <a:lnTo>
                  <a:pt x="83" y="217"/>
                </a:lnTo>
                <a:lnTo>
                  <a:pt x="91" y="215"/>
                </a:lnTo>
                <a:lnTo>
                  <a:pt x="103" y="208"/>
                </a:lnTo>
                <a:lnTo>
                  <a:pt x="114" y="202"/>
                </a:lnTo>
                <a:lnTo>
                  <a:pt x="126" y="196"/>
                </a:lnTo>
                <a:lnTo>
                  <a:pt x="138" y="190"/>
                </a:lnTo>
                <a:lnTo>
                  <a:pt x="138" y="178"/>
                </a:lnTo>
                <a:lnTo>
                  <a:pt x="141" y="169"/>
                </a:lnTo>
                <a:lnTo>
                  <a:pt x="141" y="157"/>
                </a:lnTo>
                <a:lnTo>
                  <a:pt x="145" y="147"/>
                </a:lnTo>
                <a:lnTo>
                  <a:pt x="151" y="126"/>
                </a:lnTo>
                <a:lnTo>
                  <a:pt x="161" y="109"/>
                </a:lnTo>
                <a:lnTo>
                  <a:pt x="165" y="95"/>
                </a:lnTo>
                <a:lnTo>
                  <a:pt x="169" y="82"/>
                </a:lnTo>
                <a:lnTo>
                  <a:pt x="172" y="68"/>
                </a:lnTo>
                <a:lnTo>
                  <a:pt x="176" y="56"/>
                </a:lnTo>
                <a:lnTo>
                  <a:pt x="178" y="41"/>
                </a:lnTo>
                <a:lnTo>
                  <a:pt x="180" y="27"/>
                </a:lnTo>
                <a:lnTo>
                  <a:pt x="180" y="14"/>
                </a:lnTo>
                <a:lnTo>
                  <a:pt x="180" y="0"/>
                </a:lnTo>
                <a:lnTo>
                  <a:pt x="169" y="8"/>
                </a:lnTo>
                <a:lnTo>
                  <a:pt x="161" y="10"/>
                </a:lnTo>
                <a:lnTo>
                  <a:pt x="147" y="23"/>
                </a:lnTo>
                <a:lnTo>
                  <a:pt x="134" y="39"/>
                </a:lnTo>
                <a:lnTo>
                  <a:pt x="122" y="54"/>
                </a:lnTo>
                <a:lnTo>
                  <a:pt x="110" y="72"/>
                </a:lnTo>
                <a:lnTo>
                  <a:pt x="99" y="89"/>
                </a:lnTo>
                <a:lnTo>
                  <a:pt x="87" y="107"/>
                </a:lnTo>
                <a:lnTo>
                  <a:pt x="77" y="124"/>
                </a:lnTo>
                <a:lnTo>
                  <a:pt x="72" y="142"/>
                </a:lnTo>
                <a:lnTo>
                  <a:pt x="64" y="153"/>
                </a:lnTo>
                <a:lnTo>
                  <a:pt x="58" y="165"/>
                </a:lnTo>
                <a:lnTo>
                  <a:pt x="52" y="177"/>
                </a:lnTo>
                <a:lnTo>
                  <a:pt x="46" y="190"/>
                </a:lnTo>
                <a:lnTo>
                  <a:pt x="41" y="202"/>
                </a:lnTo>
                <a:lnTo>
                  <a:pt x="37" y="213"/>
                </a:lnTo>
                <a:lnTo>
                  <a:pt x="31" y="225"/>
                </a:lnTo>
                <a:lnTo>
                  <a:pt x="29" y="239"/>
                </a:lnTo>
                <a:lnTo>
                  <a:pt x="25" y="248"/>
                </a:lnTo>
                <a:lnTo>
                  <a:pt x="21" y="260"/>
                </a:lnTo>
                <a:lnTo>
                  <a:pt x="17" y="272"/>
                </a:lnTo>
                <a:lnTo>
                  <a:pt x="13" y="283"/>
                </a:lnTo>
                <a:lnTo>
                  <a:pt x="10" y="295"/>
                </a:lnTo>
                <a:lnTo>
                  <a:pt x="6" y="306"/>
                </a:lnTo>
                <a:lnTo>
                  <a:pt x="2" y="318"/>
                </a:lnTo>
                <a:lnTo>
                  <a:pt x="0" y="332"/>
                </a:lnTo>
                <a:close/>
              </a:path>
            </a:pathLst>
          </a:custGeom>
          <a:solidFill>
            <a:srgbClr val="00ade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24" name=""/>
          <p:cNvSpPr/>
          <p:nvPr/>
        </p:nvSpPr>
        <p:spPr>
          <a:xfrm>
            <a:off x="5689440" y="4255920"/>
            <a:ext cx="166680" cy="554040"/>
          </a:xfrm>
          <a:custGeom>
            <a:avLst/>
            <a:gdLst/>
            <a:ahLst/>
            <a:rect l="l" t="t" r="r" b="b"/>
            <a:pathLst>
              <a:path w="209" h="698">
                <a:moveTo>
                  <a:pt x="0" y="398"/>
                </a:moveTo>
                <a:lnTo>
                  <a:pt x="0" y="409"/>
                </a:lnTo>
                <a:lnTo>
                  <a:pt x="4" y="421"/>
                </a:lnTo>
                <a:lnTo>
                  <a:pt x="4" y="432"/>
                </a:lnTo>
                <a:lnTo>
                  <a:pt x="8" y="444"/>
                </a:lnTo>
                <a:lnTo>
                  <a:pt x="10" y="456"/>
                </a:lnTo>
                <a:lnTo>
                  <a:pt x="12" y="467"/>
                </a:lnTo>
                <a:lnTo>
                  <a:pt x="14" y="479"/>
                </a:lnTo>
                <a:lnTo>
                  <a:pt x="17" y="493"/>
                </a:lnTo>
                <a:lnTo>
                  <a:pt x="17" y="504"/>
                </a:lnTo>
                <a:lnTo>
                  <a:pt x="19" y="516"/>
                </a:lnTo>
                <a:lnTo>
                  <a:pt x="21" y="527"/>
                </a:lnTo>
                <a:lnTo>
                  <a:pt x="23" y="539"/>
                </a:lnTo>
                <a:lnTo>
                  <a:pt x="23" y="551"/>
                </a:lnTo>
                <a:lnTo>
                  <a:pt x="25" y="562"/>
                </a:lnTo>
                <a:lnTo>
                  <a:pt x="25" y="574"/>
                </a:lnTo>
                <a:lnTo>
                  <a:pt x="27" y="586"/>
                </a:lnTo>
                <a:lnTo>
                  <a:pt x="27" y="576"/>
                </a:lnTo>
                <a:lnTo>
                  <a:pt x="31" y="564"/>
                </a:lnTo>
                <a:lnTo>
                  <a:pt x="37" y="547"/>
                </a:lnTo>
                <a:lnTo>
                  <a:pt x="45" y="531"/>
                </a:lnTo>
                <a:lnTo>
                  <a:pt x="50" y="514"/>
                </a:lnTo>
                <a:lnTo>
                  <a:pt x="58" y="498"/>
                </a:lnTo>
                <a:lnTo>
                  <a:pt x="66" y="485"/>
                </a:lnTo>
                <a:lnTo>
                  <a:pt x="74" y="477"/>
                </a:lnTo>
                <a:lnTo>
                  <a:pt x="64" y="698"/>
                </a:lnTo>
                <a:lnTo>
                  <a:pt x="70" y="688"/>
                </a:lnTo>
                <a:lnTo>
                  <a:pt x="76" y="679"/>
                </a:lnTo>
                <a:lnTo>
                  <a:pt x="83" y="665"/>
                </a:lnTo>
                <a:lnTo>
                  <a:pt x="95" y="652"/>
                </a:lnTo>
                <a:lnTo>
                  <a:pt x="103" y="632"/>
                </a:lnTo>
                <a:lnTo>
                  <a:pt x="114" y="613"/>
                </a:lnTo>
                <a:lnTo>
                  <a:pt x="120" y="601"/>
                </a:lnTo>
                <a:lnTo>
                  <a:pt x="126" y="591"/>
                </a:lnTo>
                <a:lnTo>
                  <a:pt x="132" y="580"/>
                </a:lnTo>
                <a:lnTo>
                  <a:pt x="140" y="570"/>
                </a:lnTo>
                <a:lnTo>
                  <a:pt x="122" y="589"/>
                </a:lnTo>
                <a:lnTo>
                  <a:pt x="107" y="611"/>
                </a:lnTo>
                <a:lnTo>
                  <a:pt x="91" y="630"/>
                </a:lnTo>
                <a:lnTo>
                  <a:pt x="78" y="652"/>
                </a:lnTo>
                <a:lnTo>
                  <a:pt x="68" y="652"/>
                </a:lnTo>
                <a:lnTo>
                  <a:pt x="74" y="634"/>
                </a:lnTo>
                <a:lnTo>
                  <a:pt x="81" y="617"/>
                </a:lnTo>
                <a:lnTo>
                  <a:pt x="91" y="601"/>
                </a:lnTo>
                <a:lnTo>
                  <a:pt x="103" y="586"/>
                </a:lnTo>
                <a:lnTo>
                  <a:pt x="112" y="570"/>
                </a:lnTo>
                <a:lnTo>
                  <a:pt x="122" y="555"/>
                </a:lnTo>
                <a:lnTo>
                  <a:pt x="132" y="539"/>
                </a:lnTo>
                <a:lnTo>
                  <a:pt x="143" y="525"/>
                </a:lnTo>
                <a:lnTo>
                  <a:pt x="149" y="508"/>
                </a:lnTo>
                <a:lnTo>
                  <a:pt x="159" y="493"/>
                </a:lnTo>
                <a:lnTo>
                  <a:pt x="167" y="477"/>
                </a:lnTo>
                <a:lnTo>
                  <a:pt x="178" y="461"/>
                </a:lnTo>
                <a:lnTo>
                  <a:pt x="186" y="446"/>
                </a:lnTo>
                <a:lnTo>
                  <a:pt x="194" y="430"/>
                </a:lnTo>
                <a:lnTo>
                  <a:pt x="202" y="413"/>
                </a:lnTo>
                <a:lnTo>
                  <a:pt x="209" y="398"/>
                </a:lnTo>
                <a:lnTo>
                  <a:pt x="209" y="384"/>
                </a:lnTo>
                <a:lnTo>
                  <a:pt x="207" y="372"/>
                </a:lnTo>
                <a:lnTo>
                  <a:pt x="202" y="361"/>
                </a:lnTo>
                <a:lnTo>
                  <a:pt x="196" y="349"/>
                </a:lnTo>
                <a:lnTo>
                  <a:pt x="186" y="337"/>
                </a:lnTo>
                <a:lnTo>
                  <a:pt x="176" y="326"/>
                </a:lnTo>
                <a:lnTo>
                  <a:pt x="167" y="314"/>
                </a:lnTo>
                <a:lnTo>
                  <a:pt x="157" y="308"/>
                </a:lnTo>
                <a:lnTo>
                  <a:pt x="140" y="322"/>
                </a:lnTo>
                <a:lnTo>
                  <a:pt x="128" y="339"/>
                </a:lnTo>
                <a:lnTo>
                  <a:pt x="114" y="359"/>
                </a:lnTo>
                <a:lnTo>
                  <a:pt x="105" y="378"/>
                </a:lnTo>
                <a:lnTo>
                  <a:pt x="93" y="396"/>
                </a:lnTo>
                <a:lnTo>
                  <a:pt x="81" y="415"/>
                </a:lnTo>
                <a:lnTo>
                  <a:pt x="68" y="430"/>
                </a:lnTo>
                <a:lnTo>
                  <a:pt x="52" y="444"/>
                </a:lnTo>
                <a:lnTo>
                  <a:pt x="50" y="427"/>
                </a:lnTo>
                <a:lnTo>
                  <a:pt x="50" y="413"/>
                </a:lnTo>
                <a:lnTo>
                  <a:pt x="50" y="396"/>
                </a:lnTo>
                <a:lnTo>
                  <a:pt x="50" y="382"/>
                </a:lnTo>
                <a:lnTo>
                  <a:pt x="50" y="366"/>
                </a:lnTo>
                <a:lnTo>
                  <a:pt x="52" y="353"/>
                </a:lnTo>
                <a:lnTo>
                  <a:pt x="54" y="337"/>
                </a:lnTo>
                <a:lnTo>
                  <a:pt x="56" y="324"/>
                </a:lnTo>
                <a:lnTo>
                  <a:pt x="56" y="308"/>
                </a:lnTo>
                <a:lnTo>
                  <a:pt x="58" y="295"/>
                </a:lnTo>
                <a:lnTo>
                  <a:pt x="60" y="279"/>
                </a:lnTo>
                <a:lnTo>
                  <a:pt x="64" y="266"/>
                </a:lnTo>
                <a:lnTo>
                  <a:pt x="66" y="250"/>
                </a:lnTo>
                <a:lnTo>
                  <a:pt x="70" y="239"/>
                </a:lnTo>
                <a:lnTo>
                  <a:pt x="74" y="223"/>
                </a:lnTo>
                <a:lnTo>
                  <a:pt x="79" y="211"/>
                </a:lnTo>
                <a:lnTo>
                  <a:pt x="81" y="198"/>
                </a:lnTo>
                <a:lnTo>
                  <a:pt x="85" y="184"/>
                </a:lnTo>
                <a:lnTo>
                  <a:pt x="87" y="171"/>
                </a:lnTo>
                <a:lnTo>
                  <a:pt x="91" y="157"/>
                </a:lnTo>
                <a:lnTo>
                  <a:pt x="93" y="143"/>
                </a:lnTo>
                <a:lnTo>
                  <a:pt x="97" y="130"/>
                </a:lnTo>
                <a:lnTo>
                  <a:pt x="99" y="116"/>
                </a:lnTo>
                <a:lnTo>
                  <a:pt x="105" y="105"/>
                </a:lnTo>
                <a:lnTo>
                  <a:pt x="107" y="89"/>
                </a:lnTo>
                <a:lnTo>
                  <a:pt x="112" y="78"/>
                </a:lnTo>
                <a:lnTo>
                  <a:pt x="114" y="62"/>
                </a:lnTo>
                <a:lnTo>
                  <a:pt x="120" y="50"/>
                </a:lnTo>
                <a:lnTo>
                  <a:pt x="124" y="37"/>
                </a:lnTo>
                <a:lnTo>
                  <a:pt x="128" y="23"/>
                </a:lnTo>
                <a:lnTo>
                  <a:pt x="132" y="12"/>
                </a:lnTo>
                <a:lnTo>
                  <a:pt x="138" y="0"/>
                </a:lnTo>
                <a:lnTo>
                  <a:pt x="130" y="2"/>
                </a:lnTo>
                <a:lnTo>
                  <a:pt x="114" y="17"/>
                </a:lnTo>
                <a:lnTo>
                  <a:pt x="101" y="35"/>
                </a:lnTo>
                <a:lnTo>
                  <a:pt x="89" y="54"/>
                </a:lnTo>
                <a:lnTo>
                  <a:pt x="79" y="74"/>
                </a:lnTo>
                <a:lnTo>
                  <a:pt x="68" y="91"/>
                </a:lnTo>
                <a:lnTo>
                  <a:pt x="60" y="112"/>
                </a:lnTo>
                <a:lnTo>
                  <a:pt x="52" y="132"/>
                </a:lnTo>
                <a:lnTo>
                  <a:pt x="47" y="153"/>
                </a:lnTo>
                <a:lnTo>
                  <a:pt x="39" y="173"/>
                </a:lnTo>
                <a:lnTo>
                  <a:pt x="33" y="194"/>
                </a:lnTo>
                <a:lnTo>
                  <a:pt x="29" y="204"/>
                </a:lnTo>
                <a:lnTo>
                  <a:pt x="27" y="213"/>
                </a:lnTo>
                <a:lnTo>
                  <a:pt x="23" y="225"/>
                </a:lnTo>
                <a:lnTo>
                  <a:pt x="21" y="237"/>
                </a:lnTo>
                <a:lnTo>
                  <a:pt x="17" y="246"/>
                </a:lnTo>
                <a:lnTo>
                  <a:pt x="15" y="258"/>
                </a:lnTo>
                <a:lnTo>
                  <a:pt x="14" y="268"/>
                </a:lnTo>
                <a:lnTo>
                  <a:pt x="14" y="279"/>
                </a:lnTo>
                <a:lnTo>
                  <a:pt x="12" y="291"/>
                </a:lnTo>
                <a:lnTo>
                  <a:pt x="10" y="302"/>
                </a:lnTo>
                <a:lnTo>
                  <a:pt x="10" y="314"/>
                </a:lnTo>
                <a:lnTo>
                  <a:pt x="10" y="326"/>
                </a:lnTo>
                <a:lnTo>
                  <a:pt x="8" y="343"/>
                </a:lnTo>
                <a:lnTo>
                  <a:pt x="6" y="361"/>
                </a:lnTo>
                <a:lnTo>
                  <a:pt x="4" y="378"/>
                </a:lnTo>
                <a:lnTo>
                  <a:pt x="0" y="398"/>
                </a:lnTo>
                <a:close/>
              </a:path>
            </a:pathLst>
          </a:custGeom>
          <a:solidFill>
            <a:srgbClr val="00ade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25" name=""/>
          <p:cNvSpPr/>
          <p:nvPr/>
        </p:nvSpPr>
        <p:spPr>
          <a:xfrm>
            <a:off x="5880240" y="4062240"/>
            <a:ext cx="398160" cy="497160"/>
          </a:xfrm>
          <a:custGeom>
            <a:avLst/>
            <a:gdLst/>
            <a:ahLst/>
            <a:rect l="l" t="t" r="r" b="b"/>
            <a:pathLst>
              <a:path w="503" h="626">
                <a:moveTo>
                  <a:pt x="16" y="471"/>
                </a:moveTo>
                <a:lnTo>
                  <a:pt x="22" y="481"/>
                </a:lnTo>
                <a:lnTo>
                  <a:pt x="30" y="498"/>
                </a:lnTo>
                <a:lnTo>
                  <a:pt x="31" y="508"/>
                </a:lnTo>
                <a:lnTo>
                  <a:pt x="37" y="519"/>
                </a:lnTo>
                <a:lnTo>
                  <a:pt x="39" y="531"/>
                </a:lnTo>
                <a:lnTo>
                  <a:pt x="45" y="544"/>
                </a:lnTo>
                <a:lnTo>
                  <a:pt x="47" y="556"/>
                </a:lnTo>
                <a:lnTo>
                  <a:pt x="51" y="568"/>
                </a:lnTo>
                <a:lnTo>
                  <a:pt x="53" y="579"/>
                </a:lnTo>
                <a:lnTo>
                  <a:pt x="57" y="593"/>
                </a:lnTo>
                <a:lnTo>
                  <a:pt x="62" y="610"/>
                </a:lnTo>
                <a:lnTo>
                  <a:pt x="68" y="626"/>
                </a:lnTo>
                <a:lnTo>
                  <a:pt x="72" y="612"/>
                </a:lnTo>
                <a:lnTo>
                  <a:pt x="78" y="599"/>
                </a:lnTo>
                <a:lnTo>
                  <a:pt x="84" y="581"/>
                </a:lnTo>
                <a:lnTo>
                  <a:pt x="94" y="566"/>
                </a:lnTo>
                <a:lnTo>
                  <a:pt x="101" y="548"/>
                </a:lnTo>
                <a:lnTo>
                  <a:pt x="109" y="533"/>
                </a:lnTo>
                <a:lnTo>
                  <a:pt x="115" y="519"/>
                </a:lnTo>
                <a:lnTo>
                  <a:pt x="121" y="512"/>
                </a:lnTo>
                <a:lnTo>
                  <a:pt x="126" y="492"/>
                </a:lnTo>
                <a:lnTo>
                  <a:pt x="134" y="475"/>
                </a:lnTo>
                <a:lnTo>
                  <a:pt x="142" y="457"/>
                </a:lnTo>
                <a:lnTo>
                  <a:pt x="150" y="444"/>
                </a:lnTo>
                <a:lnTo>
                  <a:pt x="156" y="428"/>
                </a:lnTo>
                <a:lnTo>
                  <a:pt x="163" y="417"/>
                </a:lnTo>
                <a:lnTo>
                  <a:pt x="171" y="405"/>
                </a:lnTo>
                <a:lnTo>
                  <a:pt x="179" y="393"/>
                </a:lnTo>
                <a:lnTo>
                  <a:pt x="185" y="382"/>
                </a:lnTo>
                <a:lnTo>
                  <a:pt x="190" y="370"/>
                </a:lnTo>
                <a:lnTo>
                  <a:pt x="198" y="360"/>
                </a:lnTo>
                <a:lnTo>
                  <a:pt x="206" y="351"/>
                </a:lnTo>
                <a:lnTo>
                  <a:pt x="220" y="333"/>
                </a:lnTo>
                <a:lnTo>
                  <a:pt x="237" y="318"/>
                </a:lnTo>
                <a:lnTo>
                  <a:pt x="251" y="300"/>
                </a:lnTo>
                <a:lnTo>
                  <a:pt x="268" y="283"/>
                </a:lnTo>
                <a:lnTo>
                  <a:pt x="276" y="273"/>
                </a:lnTo>
                <a:lnTo>
                  <a:pt x="286" y="265"/>
                </a:lnTo>
                <a:lnTo>
                  <a:pt x="297" y="256"/>
                </a:lnTo>
                <a:lnTo>
                  <a:pt x="309" y="248"/>
                </a:lnTo>
                <a:lnTo>
                  <a:pt x="318" y="236"/>
                </a:lnTo>
                <a:lnTo>
                  <a:pt x="330" y="225"/>
                </a:lnTo>
                <a:lnTo>
                  <a:pt x="342" y="213"/>
                </a:lnTo>
                <a:lnTo>
                  <a:pt x="355" y="203"/>
                </a:lnTo>
                <a:lnTo>
                  <a:pt x="367" y="190"/>
                </a:lnTo>
                <a:lnTo>
                  <a:pt x="382" y="178"/>
                </a:lnTo>
                <a:lnTo>
                  <a:pt x="396" y="164"/>
                </a:lnTo>
                <a:lnTo>
                  <a:pt x="414" y="151"/>
                </a:lnTo>
                <a:lnTo>
                  <a:pt x="425" y="133"/>
                </a:lnTo>
                <a:lnTo>
                  <a:pt x="443" y="116"/>
                </a:lnTo>
                <a:lnTo>
                  <a:pt x="458" y="97"/>
                </a:lnTo>
                <a:lnTo>
                  <a:pt x="476" y="79"/>
                </a:lnTo>
                <a:lnTo>
                  <a:pt x="489" y="58"/>
                </a:lnTo>
                <a:lnTo>
                  <a:pt x="499" y="38"/>
                </a:lnTo>
                <a:lnTo>
                  <a:pt x="503" y="19"/>
                </a:lnTo>
                <a:lnTo>
                  <a:pt x="501" y="0"/>
                </a:lnTo>
                <a:lnTo>
                  <a:pt x="481" y="11"/>
                </a:lnTo>
                <a:lnTo>
                  <a:pt x="464" y="25"/>
                </a:lnTo>
                <a:lnTo>
                  <a:pt x="446" y="36"/>
                </a:lnTo>
                <a:lnTo>
                  <a:pt x="429" y="50"/>
                </a:lnTo>
                <a:lnTo>
                  <a:pt x="412" y="58"/>
                </a:lnTo>
                <a:lnTo>
                  <a:pt x="398" y="66"/>
                </a:lnTo>
                <a:lnTo>
                  <a:pt x="382" y="73"/>
                </a:lnTo>
                <a:lnTo>
                  <a:pt x="369" y="83"/>
                </a:lnTo>
                <a:lnTo>
                  <a:pt x="353" y="91"/>
                </a:lnTo>
                <a:lnTo>
                  <a:pt x="340" y="100"/>
                </a:lnTo>
                <a:lnTo>
                  <a:pt x="324" y="108"/>
                </a:lnTo>
                <a:lnTo>
                  <a:pt x="313" y="120"/>
                </a:lnTo>
                <a:lnTo>
                  <a:pt x="299" y="130"/>
                </a:lnTo>
                <a:lnTo>
                  <a:pt x="286" y="139"/>
                </a:lnTo>
                <a:lnTo>
                  <a:pt x="272" y="149"/>
                </a:lnTo>
                <a:lnTo>
                  <a:pt x="260" y="161"/>
                </a:lnTo>
                <a:lnTo>
                  <a:pt x="247" y="170"/>
                </a:lnTo>
                <a:lnTo>
                  <a:pt x="233" y="182"/>
                </a:lnTo>
                <a:lnTo>
                  <a:pt x="220" y="194"/>
                </a:lnTo>
                <a:lnTo>
                  <a:pt x="208" y="205"/>
                </a:lnTo>
                <a:lnTo>
                  <a:pt x="194" y="215"/>
                </a:lnTo>
                <a:lnTo>
                  <a:pt x="183" y="226"/>
                </a:lnTo>
                <a:lnTo>
                  <a:pt x="171" y="238"/>
                </a:lnTo>
                <a:lnTo>
                  <a:pt x="159" y="250"/>
                </a:lnTo>
                <a:lnTo>
                  <a:pt x="148" y="261"/>
                </a:lnTo>
                <a:lnTo>
                  <a:pt x="136" y="273"/>
                </a:lnTo>
                <a:lnTo>
                  <a:pt x="125" y="285"/>
                </a:lnTo>
                <a:lnTo>
                  <a:pt x="115" y="298"/>
                </a:lnTo>
                <a:lnTo>
                  <a:pt x="97" y="314"/>
                </a:lnTo>
                <a:lnTo>
                  <a:pt x="82" y="329"/>
                </a:lnTo>
                <a:lnTo>
                  <a:pt x="66" y="347"/>
                </a:lnTo>
                <a:lnTo>
                  <a:pt x="53" y="364"/>
                </a:lnTo>
                <a:lnTo>
                  <a:pt x="37" y="380"/>
                </a:lnTo>
                <a:lnTo>
                  <a:pt x="24" y="397"/>
                </a:lnTo>
                <a:lnTo>
                  <a:pt x="12" y="415"/>
                </a:lnTo>
                <a:lnTo>
                  <a:pt x="0" y="434"/>
                </a:lnTo>
                <a:lnTo>
                  <a:pt x="4" y="444"/>
                </a:lnTo>
                <a:lnTo>
                  <a:pt x="10" y="455"/>
                </a:lnTo>
                <a:lnTo>
                  <a:pt x="14" y="465"/>
                </a:lnTo>
                <a:lnTo>
                  <a:pt x="16" y="471"/>
                </a:lnTo>
                <a:close/>
              </a:path>
            </a:pathLst>
          </a:custGeom>
          <a:solidFill>
            <a:srgbClr val="d6ffff"/>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26" name=""/>
          <p:cNvSpPr/>
          <p:nvPr/>
        </p:nvSpPr>
        <p:spPr>
          <a:xfrm>
            <a:off x="5688000" y="3441600"/>
            <a:ext cx="212760" cy="198360"/>
          </a:xfrm>
          <a:custGeom>
            <a:avLst/>
            <a:gdLst/>
            <a:ahLst/>
            <a:rect l="l" t="t" r="r" b="b"/>
            <a:pathLst>
              <a:path w="268" h="250">
                <a:moveTo>
                  <a:pt x="52" y="12"/>
                </a:moveTo>
                <a:lnTo>
                  <a:pt x="64" y="8"/>
                </a:lnTo>
                <a:lnTo>
                  <a:pt x="78" y="6"/>
                </a:lnTo>
                <a:lnTo>
                  <a:pt x="93" y="2"/>
                </a:lnTo>
                <a:lnTo>
                  <a:pt x="111" y="2"/>
                </a:lnTo>
                <a:lnTo>
                  <a:pt x="126" y="0"/>
                </a:lnTo>
                <a:lnTo>
                  <a:pt x="144" y="0"/>
                </a:lnTo>
                <a:lnTo>
                  <a:pt x="159" y="0"/>
                </a:lnTo>
                <a:lnTo>
                  <a:pt x="176" y="2"/>
                </a:lnTo>
                <a:lnTo>
                  <a:pt x="190" y="2"/>
                </a:lnTo>
                <a:lnTo>
                  <a:pt x="206" y="4"/>
                </a:lnTo>
                <a:lnTo>
                  <a:pt x="219" y="6"/>
                </a:lnTo>
                <a:lnTo>
                  <a:pt x="233" y="10"/>
                </a:lnTo>
                <a:lnTo>
                  <a:pt x="242" y="14"/>
                </a:lnTo>
                <a:lnTo>
                  <a:pt x="252" y="20"/>
                </a:lnTo>
                <a:lnTo>
                  <a:pt x="258" y="25"/>
                </a:lnTo>
                <a:lnTo>
                  <a:pt x="264" y="33"/>
                </a:lnTo>
                <a:lnTo>
                  <a:pt x="266" y="45"/>
                </a:lnTo>
                <a:lnTo>
                  <a:pt x="268" y="60"/>
                </a:lnTo>
                <a:lnTo>
                  <a:pt x="268" y="72"/>
                </a:lnTo>
                <a:lnTo>
                  <a:pt x="268" y="88"/>
                </a:lnTo>
                <a:lnTo>
                  <a:pt x="264" y="97"/>
                </a:lnTo>
                <a:lnTo>
                  <a:pt x="260" y="109"/>
                </a:lnTo>
                <a:lnTo>
                  <a:pt x="256" y="119"/>
                </a:lnTo>
                <a:lnTo>
                  <a:pt x="254" y="130"/>
                </a:lnTo>
                <a:lnTo>
                  <a:pt x="246" y="144"/>
                </a:lnTo>
                <a:lnTo>
                  <a:pt x="237" y="161"/>
                </a:lnTo>
                <a:lnTo>
                  <a:pt x="231" y="171"/>
                </a:lnTo>
                <a:lnTo>
                  <a:pt x="225" y="183"/>
                </a:lnTo>
                <a:lnTo>
                  <a:pt x="219" y="192"/>
                </a:lnTo>
                <a:lnTo>
                  <a:pt x="215" y="204"/>
                </a:lnTo>
                <a:lnTo>
                  <a:pt x="198" y="221"/>
                </a:lnTo>
                <a:lnTo>
                  <a:pt x="182" y="237"/>
                </a:lnTo>
                <a:lnTo>
                  <a:pt x="165" y="247"/>
                </a:lnTo>
                <a:lnTo>
                  <a:pt x="147" y="250"/>
                </a:lnTo>
                <a:lnTo>
                  <a:pt x="130" y="247"/>
                </a:lnTo>
                <a:lnTo>
                  <a:pt x="116" y="243"/>
                </a:lnTo>
                <a:lnTo>
                  <a:pt x="101" y="235"/>
                </a:lnTo>
                <a:lnTo>
                  <a:pt x="89" y="227"/>
                </a:lnTo>
                <a:lnTo>
                  <a:pt x="76" y="216"/>
                </a:lnTo>
                <a:lnTo>
                  <a:pt x="64" y="206"/>
                </a:lnTo>
                <a:lnTo>
                  <a:pt x="52" y="194"/>
                </a:lnTo>
                <a:lnTo>
                  <a:pt x="43" y="183"/>
                </a:lnTo>
                <a:lnTo>
                  <a:pt x="31" y="167"/>
                </a:lnTo>
                <a:lnTo>
                  <a:pt x="23" y="152"/>
                </a:lnTo>
                <a:lnTo>
                  <a:pt x="16" y="136"/>
                </a:lnTo>
                <a:lnTo>
                  <a:pt x="10" y="120"/>
                </a:lnTo>
                <a:lnTo>
                  <a:pt x="4" y="103"/>
                </a:lnTo>
                <a:lnTo>
                  <a:pt x="2" y="88"/>
                </a:lnTo>
                <a:lnTo>
                  <a:pt x="0" y="72"/>
                </a:lnTo>
                <a:lnTo>
                  <a:pt x="0" y="57"/>
                </a:lnTo>
                <a:lnTo>
                  <a:pt x="4" y="45"/>
                </a:lnTo>
                <a:lnTo>
                  <a:pt x="17" y="31"/>
                </a:lnTo>
                <a:lnTo>
                  <a:pt x="33" y="18"/>
                </a:lnTo>
                <a:lnTo>
                  <a:pt x="52" y="12"/>
                </a:lnTo>
                <a:close/>
              </a:path>
            </a:pathLst>
          </a:custGeom>
          <a:solidFill>
            <a:srgbClr val="ffbaa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27" name=""/>
          <p:cNvSpPr/>
          <p:nvPr/>
        </p:nvSpPr>
        <p:spPr>
          <a:xfrm>
            <a:off x="5700600" y="3452760"/>
            <a:ext cx="160560" cy="146160"/>
          </a:xfrm>
          <a:custGeom>
            <a:avLst/>
            <a:gdLst/>
            <a:ahLst/>
            <a:rect l="l" t="t" r="r" b="b"/>
            <a:pathLst>
              <a:path w="201" h="184">
                <a:moveTo>
                  <a:pt x="36" y="8"/>
                </a:moveTo>
                <a:lnTo>
                  <a:pt x="44" y="6"/>
                </a:lnTo>
                <a:lnTo>
                  <a:pt x="54" y="4"/>
                </a:lnTo>
                <a:lnTo>
                  <a:pt x="65" y="2"/>
                </a:lnTo>
                <a:lnTo>
                  <a:pt x="79" y="2"/>
                </a:lnTo>
                <a:lnTo>
                  <a:pt x="91" y="0"/>
                </a:lnTo>
                <a:lnTo>
                  <a:pt x="102" y="0"/>
                </a:lnTo>
                <a:lnTo>
                  <a:pt x="116" y="0"/>
                </a:lnTo>
                <a:lnTo>
                  <a:pt x="129" y="2"/>
                </a:lnTo>
                <a:lnTo>
                  <a:pt x="139" y="2"/>
                </a:lnTo>
                <a:lnTo>
                  <a:pt x="151" y="2"/>
                </a:lnTo>
                <a:lnTo>
                  <a:pt x="160" y="4"/>
                </a:lnTo>
                <a:lnTo>
                  <a:pt x="172" y="8"/>
                </a:lnTo>
                <a:lnTo>
                  <a:pt x="188" y="13"/>
                </a:lnTo>
                <a:lnTo>
                  <a:pt x="197" y="25"/>
                </a:lnTo>
                <a:lnTo>
                  <a:pt x="199" y="35"/>
                </a:lnTo>
                <a:lnTo>
                  <a:pt x="201" y="44"/>
                </a:lnTo>
                <a:lnTo>
                  <a:pt x="201" y="54"/>
                </a:lnTo>
                <a:lnTo>
                  <a:pt x="201" y="66"/>
                </a:lnTo>
                <a:lnTo>
                  <a:pt x="195" y="83"/>
                </a:lnTo>
                <a:lnTo>
                  <a:pt x="192" y="101"/>
                </a:lnTo>
                <a:lnTo>
                  <a:pt x="184" y="108"/>
                </a:lnTo>
                <a:lnTo>
                  <a:pt x="178" y="122"/>
                </a:lnTo>
                <a:lnTo>
                  <a:pt x="168" y="136"/>
                </a:lnTo>
                <a:lnTo>
                  <a:pt x="160" y="151"/>
                </a:lnTo>
                <a:lnTo>
                  <a:pt x="149" y="163"/>
                </a:lnTo>
                <a:lnTo>
                  <a:pt x="137" y="174"/>
                </a:lnTo>
                <a:lnTo>
                  <a:pt x="124" y="180"/>
                </a:lnTo>
                <a:lnTo>
                  <a:pt x="110" y="184"/>
                </a:lnTo>
                <a:lnTo>
                  <a:pt x="98" y="180"/>
                </a:lnTo>
                <a:lnTo>
                  <a:pt x="87" y="178"/>
                </a:lnTo>
                <a:lnTo>
                  <a:pt x="75" y="172"/>
                </a:lnTo>
                <a:lnTo>
                  <a:pt x="65" y="167"/>
                </a:lnTo>
                <a:lnTo>
                  <a:pt x="46" y="151"/>
                </a:lnTo>
                <a:lnTo>
                  <a:pt x="31" y="136"/>
                </a:lnTo>
                <a:lnTo>
                  <a:pt x="23" y="124"/>
                </a:lnTo>
                <a:lnTo>
                  <a:pt x="17" y="112"/>
                </a:lnTo>
                <a:lnTo>
                  <a:pt x="11" y="101"/>
                </a:lnTo>
                <a:lnTo>
                  <a:pt x="7" y="89"/>
                </a:lnTo>
                <a:lnTo>
                  <a:pt x="1" y="75"/>
                </a:lnTo>
                <a:lnTo>
                  <a:pt x="0" y="64"/>
                </a:lnTo>
                <a:lnTo>
                  <a:pt x="0" y="52"/>
                </a:lnTo>
                <a:lnTo>
                  <a:pt x="0" y="41"/>
                </a:lnTo>
                <a:lnTo>
                  <a:pt x="1" y="31"/>
                </a:lnTo>
                <a:lnTo>
                  <a:pt x="9" y="23"/>
                </a:lnTo>
                <a:lnTo>
                  <a:pt x="21" y="11"/>
                </a:lnTo>
                <a:lnTo>
                  <a:pt x="36" y="8"/>
                </a:lnTo>
                <a:close/>
              </a:path>
            </a:pathLst>
          </a:custGeom>
          <a:solidFill>
            <a:srgbClr val="ffc4b5"/>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28" name=""/>
          <p:cNvSpPr/>
          <p:nvPr/>
        </p:nvSpPr>
        <p:spPr>
          <a:xfrm>
            <a:off x="5711760" y="3465360"/>
            <a:ext cx="106560" cy="95400"/>
          </a:xfrm>
          <a:custGeom>
            <a:avLst/>
            <a:gdLst/>
            <a:ahLst/>
            <a:rect l="l" t="t" r="r" b="b"/>
            <a:pathLst>
              <a:path w="136" h="121">
                <a:moveTo>
                  <a:pt x="23" y="6"/>
                </a:moveTo>
                <a:lnTo>
                  <a:pt x="33" y="2"/>
                </a:lnTo>
                <a:lnTo>
                  <a:pt x="51" y="2"/>
                </a:lnTo>
                <a:lnTo>
                  <a:pt x="66" y="0"/>
                </a:lnTo>
                <a:lnTo>
                  <a:pt x="85" y="0"/>
                </a:lnTo>
                <a:lnTo>
                  <a:pt x="101" y="0"/>
                </a:lnTo>
                <a:lnTo>
                  <a:pt x="116" y="2"/>
                </a:lnTo>
                <a:lnTo>
                  <a:pt x="126" y="6"/>
                </a:lnTo>
                <a:lnTo>
                  <a:pt x="134" y="14"/>
                </a:lnTo>
                <a:lnTo>
                  <a:pt x="136" y="29"/>
                </a:lnTo>
                <a:lnTo>
                  <a:pt x="136" y="45"/>
                </a:lnTo>
                <a:lnTo>
                  <a:pt x="132" y="57"/>
                </a:lnTo>
                <a:lnTo>
                  <a:pt x="130" y="70"/>
                </a:lnTo>
                <a:lnTo>
                  <a:pt x="120" y="84"/>
                </a:lnTo>
                <a:lnTo>
                  <a:pt x="111" y="101"/>
                </a:lnTo>
                <a:lnTo>
                  <a:pt x="101" y="107"/>
                </a:lnTo>
                <a:lnTo>
                  <a:pt x="93" y="115"/>
                </a:lnTo>
                <a:lnTo>
                  <a:pt x="84" y="119"/>
                </a:lnTo>
                <a:lnTo>
                  <a:pt x="74" y="121"/>
                </a:lnTo>
                <a:lnTo>
                  <a:pt x="56" y="115"/>
                </a:lnTo>
                <a:lnTo>
                  <a:pt x="45" y="109"/>
                </a:lnTo>
                <a:lnTo>
                  <a:pt x="31" y="97"/>
                </a:lnTo>
                <a:lnTo>
                  <a:pt x="21" y="88"/>
                </a:lnTo>
                <a:lnTo>
                  <a:pt x="10" y="72"/>
                </a:lnTo>
                <a:lnTo>
                  <a:pt x="4" y="58"/>
                </a:lnTo>
                <a:lnTo>
                  <a:pt x="0" y="41"/>
                </a:lnTo>
                <a:lnTo>
                  <a:pt x="0" y="26"/>
                </a:lnTo>
                <a:lnTo>
                  <a:pt x="0" y="20"/>
                </a:lnTo>
                <a:lnTo>
                  <a:pt x="6" y="14"/>
                </a:lnTo>
                <a:lnTo>
                  <a:pt x="14" y="8"/>
                </a:lnTo>
                <a:lnTo>
                  <a:pt x="23" y="6"/>
                </a:lnTo>
                <a:close/>
              </a:path>
            </a:pathLst>
          </a:custGeom>
          <a:solidFill>
            <a:srgbClr val="ffcfc2"/>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29" name=""/>
          <p:cNvSpPr/>
          <p:nvPr/>
        </p:nvSpPr>
        <p:spPr>
          <a:xfrm>
            <a:off x="5722920" y="3479760"/>
            <a:ext cx="55440" cy="42840"/>
          </a:xfrm>
          <a:custGeom>
            <a:avLst/>
            <a:gdLst/>
            <a:ahLst/>
            <a:rect l="l" t="t" r="r" b="b"/>
            <a:pathLst>
              <a:path w="69" h="54">
                <a:moveTo>
                  <a:pt x="7" y="4"/>
                </a:moveTo>
                <a:lnTo>
                  <a:pt x="19" y="2"/>
                </a:lnTo>
                <a:lnTo>
                  <a:pt x="38" y="0"/>
                </a:lnTo>
                <a:lnTo>
                  <a:pt x="56" y="0"/>
                </a:lnTo>
                <a:lnTo>
                  <a:pt x="69" y="6"/>
                </a:lnTo>
                <a:lnTo>
                  <a:pt x="69" y="21"/>
                </a:lnTo>
                <a:lnTo>
                  <a:pt x="64" y="37"/>
                </a:lnTo>
                <a:lnTo>
                  <a:pt x="58" y="42"/>
                </a:lnTo>
                <a:lnTo>
                  <a:pt x="54" y="48"/>
                </a:lnTo>
                <a:lnTo>
                  <a:pt x="46" y="52"/>
                </a:lnTo>
                <a:lnTo>
                  <a:pt x="38" y="54"/>
                </a:lnTo>
                <a:lnTo>
                  <a:pt x="21" y="48"/>
                </a:lnTo>
                <a:lnTo>
                  <a:pt x="9" y="39"/>
                </a:lnTo>
                <a:lnTo>
                  <a:pt x="2" y="25"/>
                </a:lnTo>
                <a:lnTo>
                  <a:pt x="0" y="8"/>
                </a:lnTo>
                <a:lnTo>
                  <a:pt x="0" y="4"/>
                </a:lnTo>
                <a:lnTo>
                  <a:pt x="7" y="4"/>
                </a:lnTo>
                <a:close/>
              </a:path>
            </a:pathLst>
          </a:custGeom>
          <a:solidFill>
            <a:srgbClr val="ffd9cf"/>
          </a:solidFill>
          <a:ln w="0">
            <a:noFill/>
          </a:ln>
        </p:spPr>
        <p:style>
          <a:lnRef idx="0"/>
          <a:fillRef idx="0"/>
          <a:effectRef idx="0"/>
          <a:fontRef idx="minor"/>
        </p:style>
        <p:txBody>
          <a:bodyPr lIns="90000" rIns="90000" tIns="-3960" bIns="-3960" anchor="t">
            <a:noAutofit/>
          </a:bodyPr>
          <a:p>
            <a:endParaRPr b="0" lang="en-US" sz="2400" spc="-1" strike="noStrike">
              <a:solidFill>
                <a:srgbClr val="ffff66"/>
              </a:solidFill>
              <a:latin typeface="Times New Roman"/>
            </a:endParaRPr>
          </a:p>
        </p:txBody>
      </p:sp>
      <p:sp>
        <p:nvSpPr>
          <p:cNvPr id="230" name=""/>
          <p:cNvSpPr/>
          <p:nvPr/>
        </p:nvSpPr>
        <p:spPr>
          <a:xfrm>
            <a:off x="5659560" y="3862440"/>
            <a:ext cx="223560" cy="108000"/>
          </a:xfrm>
          <a:custGeom>
            <a:avLst/>
            <a:gdLst/>
            <a:ahLst/>
            <a:rect l="l" t="t" r="r" b="b"/>
            <a:pathLst>
              <a:path w="283" h="135">
                <a:moveTo>
                  <a:pt x="155" y="0"/>
                </a:moveTo>
                <a:lnTo>
                  <a:pt x="140" y="0"/>
                </a:lnTo>
                <a:lnTo>
                  <a:pt x="130" y="0"/>
                </a:lnTo>
                <a:lnTo>
                  <a:pt x="118" y="0"/>
                </a:lnTo>
                <a:lnTo>
                  <a:pt x="111" y="0"/>
                </a:lnTo>
                <a:lnTo>
                  <a:pt x="95" y="0"/>
                </a:lnTo>
                <a:lnTo>
                  <a:pt x="84" y="5"/>
                </a:lnTo>
                <a:lnTo>
                  <a:pt x="70" y="11"/>
                </a:lnTo>
                <a:lnTo>
                  <a:pt x="56" y="23"/>
                </a:lnTo>
                <a:lnTo>
                  <a:pt x="47" y="29"/>
                </a:lnTo>
                <a:lnTo>
                  <a:pt x="39" y="36"/>
                </a:lnTo>
                <a:lnTo>
                  <a:pt x="29" y="46"/>
                </a:lnTo>
                <a:lnTo>
                  <a:pt x="22" y="58"/>
                </a:lnTo>
                <a:lnTo>
                  <a:pt x="10" y="65"/>
                </a:lnTo>
                <a:lnTo>
                  <a:pt x="4" y="75"/>
                </a:lnTo>
                <a:lnTo>
                  <a:pt x="0" y="83"/>
                </a:lnTo>
                <a:lnTo>
                  <a:pt x="0" y="93"/>
                </a:lnTo>
                <a:lnTo>
                  <a:pt x="8" y="104"/>
                </a:lnTo>
                <a:lnTo>
                  <a:pt x="25" y="116"/>
                </a:lnTo>
                <a:lnTo>
                  <a:pt x="35" y="120"/>
                </a:lnTo>
                <a:lnTo>
                  <a:pt x="47" y="124"/>
                </a:lnTo>
                <a:lnTo>
                  <a:pt x="60" y="126"/>
                </a:lnTo>
                <a:lnTo>
                  <a:pt x="76" y="129"/>
                </a:lnTo>
                <a:lnTo>
                  <a:pt x="89" y="131"/>
                </a:lnTo>
                <a:lnTo>
                  <a:pt x="105" y="133"/>
                </a:lnTo>
                <a:lnTo>
                  <a:pt x="120" y="133"/>
                </a:lnTo>
                <a:lnTo>
                  <a:pt x="136" y="135"/>
                </a:lnTo>
                <a:lnTo>
                  <a:pt x="150" y="133"/>
                </a:lnTo>
                <a:lnTo>
                  <a:pt x="163" y="131"/>
                </a:lnTo>
                <a:lnTo>
                  <a:pt x="177" y="129"/>
                </a:lnTo>
                <a:lnTo>
                  <a:pt x="190" y="128"/>
                </a:lnTo>
                <a:lnTo>
                  <a:pt x="202" y="124"/>
                </a:lnTo>
                <a:lnTo>
                  <a:pt x="215" y="120"/>
                </a:lnTo>
                <a:lnTo>
                  <a:pt x="227" y="116"/>
                </a:lnTo>
                <a:lnTo>
                  <a:pt x="239" y="114"/>
                </a:lnTo>
                <a:lnTo>
                  <a:pt x="256" y="102"/>
                </a:lnTo>
                <a:lnTo>
                  <a:pt x="270" y="93"/>
                </a:lnTo>
                <a:lnTo>
                  <a:pt x="279" y="79"/>
                </a:lnTo>
                <a:lnTo>
                  <a:pt x="283" y="65"/>
                </a:lnTo>
                <a:lnTo>
                  <a:pt x="279" y="48"/>
                </a:lnTo>
                <a:lnTo>
                  <a:pt x="274" y="36"/>
                </a:lnTo>
                <a:lnTo>
                  <a:pt x="260" y="23"/>
                </a:lnTo>
                <a:lnTo>
                  <a:pt x="246" y="15"/>
                </a:lnTo>
                <a:lnTo>
                  <a:pt x="237" y="9"/>
                </a:lnTo>
                <a:lnTo>
                  <a:pt x="227" y="7"/>
                </a:lnTo>
                <a:lnTo>
                  <a:pt x="215" y="3"/>
                </a:lnTo>
                <a:lnTo>
                  <a:pt x="206" y="3"/>
                </a:lnTo>
                <a:lnTo>
                  <a:pt x="192" y="0"/>
                </a:lnTo>
                <a:lnTo>
                  <a:pt x="181" y="0"/>
                </a:lnTo>
                <a:lnTo>
                  <a:pt x="167" y="0"/>
                </a:lnTo>
                <a:lnTo>
                  <a:pt x="155" y="0"/>
                </a:lnTo>
                <a:close/>
              </a:path>
            </a:pathLst>
          </a:custGeom>
          <a:solidFill>
            <a:srgbClr val="ffbaa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31" name=""/>
          <p:cNvSpPr/>
          <p:nvPr/>
        </p:nvSpPr>
        <p:spPr>
          <a:xfrm>
            <a:off x="5675400" y="3876840"/>
            <a:ext cx="164880" cy="88560"/>
          </a:xfrm>
          <a:custGeom>
            <a:avLst/>
            <a:gdLst/>
            <a:ahLst/>
            <a:rect l="l" t="t" r="r" b="b"/>
            <a:pathLst>
              <a:path w="207" h="112">
                <a:moveTo>
                  <a:pt x="112" y="0"/>
                </a:moveTo>
                <a:lnTo>
                  <a:pt x="93" y="0"/>
                </a:lnTo>
                <a:lnTo>
                  <a:pt x="79" y="0"/>
                </a:lnTo>
                <a:lnTo>
                  <a:pt x="67" y="0"/>
                </a:lnTo>
                <a:lnTo>
                  <a:pt x="60" y="6"/>
                </a:lnTo>
                <a:lnTo>
                  <a:pt x="50" y="10"/>
                </a:lnTo>
                <a:lnTo>
                  <a:pt x="40" y="19"/>
                </a:lnTo>
                <a:lnTo>
                  <a:pt x="27" y="31"/>
                </a:lnTo>
                <a:lnTo>
                  <a:pt x="15" y="48"/>
                </a:lnTo>
                <a:lnTo>
                  <a:pt x="1" y="64"/>
                </a:lnTo>
                <a:lnTo>
                  <a:pt x="0" y="78"/>
                </a:lnTo>
                <a:lnTo>
                  <a:pt x="5" y="87"/>
                </a:lnTo>
                <a:lnTo>
                  <a:pt x="19" y="97"/>
                </a:lnTo>
                <a:lnTo>
                  <a:pt x="34" y="101"/>
                </a:lnTo>
                <a:lnTo>
                  <a:pt x="54" y="107"/>
                </a:lnTo>
                <a:lnTo>
                  <a:pt x="64" y="109"/>
                </a:lnTo>
                <a:lnTo>
                  <a:pt x="75" y="111"/>
                </a:lnTo>
                <a:lnTo>
                  <a:pt x="87" y="111"/>
                </a:lnTo>
                <a:lnTo>
                  <a:pt x="98" y="112"/>
                </a:lnTo>
                <a:lnTo>
                  <a:pt x="118" y="109"/>
                </a:lnTo>
                <a:lnTo>
                  <a:pt x="137" y="107"/>
                </a:lnTo>
                <a:lnTo>
                  <a:pt x="155" y="101"/>
                </a:lnTo>
                <a:lnTo>
                  <a:pt x="172" y="95"/>
                </a:lnTo>
                <a:lnTo>
                  <a:pt x="186" y="85"/>
                </a:lnTo>
                <a:lnTo>
                  <a:pt x="197" y="78"/>
                </a:lnTo>
                <a:lnTo>
                  <a:pt x="203" y="66"/>
                </a:lnTo>
                <a:lnTo>
                  <a:pt x="207" y="54"/>
                </a:lnTo>
                <a:lnTo>
                  <a:pt x="203" y="41"/>
                </a:lnTo>
                <a:lnTo>
                  <a:pt x="199" y="31"/>
                </a:lnTo>
                <a:lnTo>
                  <a:pt x="190" y="19"/>
                </a:lnTo>
                <a:lnTo>
                  <a:pt x="180" y="14"/>
                </a:lnTo>
                <a:lnTo>
                  <a:pt x="164" y="6"/>
                </a:lnTo>
                <a:lnTo>
                  <a:pt x="149" y="2"/>
                </a:lnTo>
                <a:lnTo>
                  <a:pt x="129" y="0"/>
                </a:lnTo>
                <a:lnTo>
                  <a:pt x="112" y="0"/>
                </a:lnTo>
                <a:close/>
              </a:path>
            </a:pathLst>
          </a:custGeom>
          <a:solidFill>
            <a:srgbClr val="ffc4b5"/>
          </a:solidFill>
          <a:ln w="0">
            <a:noFill/>
          </a:ln>
        </p:spPr>
        <p:style>
          <a:lnRef idx="0"/>
          <a:fillRef idx="0"/>
          <a:effectRef idx="0"/>
          <a:fontRef idx="minor"/>
        </p:style>
        <p:txBody>
          <a:bodyPr lIns="90000" rIns="90000" tIns="41760" bIns="41760" anchor="t">
            <a:noAutofit/>
          </a:bodyPr>
          <a:p>
            <a:endParaRPr b="0" lang="en-US" sz="2400" spc="-1" strike="noStrike">
              <a:solidFill>
                <a:srgbClr val="ffff66"/>
              </a:solidFill>
              <a:latin typeface="Times New Roman"/>
            </a:endParaRPr>
          </a:p>
        </p:txBody>
      </p:sp>
      <p:sp>
        <p:nvSpPr>
          <p:cNvPr id="232" name=""/>
          <p:cNvSpPr/>
          <p:nvPr/>
        </p:nvSpPr>
        <p:spPr>
          <a:xfrm>
            <a:off x="5691240" y="3890880"/>
            <a:ext cx="106200" cy="69840"/>
          </a:xfrm>
          <a:custGeom>
            <a:avLst/>
            <a:gdLst/>
            <a:ahLst/>
            <a:rect l="l" t="t" r="r" b="b"/>
            <a:pathLst>
              <a:path w="134" h="90">
                <a:moveTo>
                  <a:pt x="74" y="0"/>
                </a:moveTo>
                <a:lnTo>
                  <a:pt x="60" y="0"/>
                </a:lnTo>
                <a:lnTo>
                  <a:pt x="52" y="0"/>
                </a:lnTo>
                <a:lnTo>
                  <a:pt x="45" y="0"/>
                </a:lnTo>
                <a:lnTo>
                  <a:pt x="39" y="4"/>
                </a:lnTo>
                <a:lnTo>
                  <a:pt x="33" y="8"/>
                </a:lnTo>
                <a:lnTo>
                  <a:pt x="27" y="16"/>
                </a:lnTo>
                <a:lnTo>
                  <a:pt x="19" y="26"/>
                </a:lnTo>
                <a:lnTo>
                  <a:pt x="12" y="39"/>
                </a:lnTo>
                <a:lnTo>
                  <a:pt x="2" y="49"/>
                </a:lnTo>
                <a:lnTo>
                  <a:pt x="0" y="61"/>
                </a:lnTo>
                <a:lnTo>
                  <a:pt x="4" y="70"/>
                </a:lnTo>
                <a:lnTo>
                  <a:pt x="12" y="78"/>
                </a:lnTo>
                <a:lnTo>
                  <a:pt x="21" y="82"/>
                </a:lnTo>
                <a:lnTo>
                  <a:pt x="35" y="86"/>
                </a:lnTo>
                <a:lnTo>
                  <a:pt x="48" y="88"/>
                </a:lnTo>
                <a:lnTo>
                  <a:pt x="64" y="90"/>
                </a:lnTo>
                <a:lnTo>
                  <a:pt x="76" y="86"/>
                </a:lnTo>
                <a:lnTo>
                  <a:pt x="89" y="84"/>
                </a:lnTo>
                <a:lnTo>
                  <a:pt x="99" y="78"/>
                </a:lnTo>
                <a:lnTo>
                  <a:pt x="110" y="74"/>
                </a:lnTo>
                <a:lnTo>
                  <a:pt x="126" y="61"/>
                </a:lnTo>
                <a:lnTo>
                  <a:pt x="134" y="43"/>
                </a:lnTo>
                <a:lnTo>
                  <a:pt x="128" y="24"/>
                </a:lnTo>
                <a:lnTo>
                  <a:pt x="114" y="10"/>
                </a:lnTo>
                <a:lnTo>
                  <a:pt x="105" y="4"/>
                </a:lnTo>
                <a:lnTo>
                  <a:pt x="95" y="2"/>
                </a:lnTo>
                <a:lnTo>
                  <a:pt x="83" y="0"/>
                </a:lnTo>
                <a:lnTo>
                  <a:pt x="74" y="0"/>
                </a:lnTo>
                <a:close/>
              </a:path>
            </a:pathLst>
          </a:custGeom>
          <a:solidFill>
            <a:srgbClr val="ffcfc2"/>
          </a:solidFill>
          <a:ln w="0">
            <a:noFill/>
          </a:ln>
        </p:spPr>
        <p:style>
          <a:lnRef idx="0"/>
          <a:fillRef idx="0"/>
          <a:effectRef idx="0"/>
          <a:fontRef idx="minor"/>
        </p:style>
        <p:txBody>
          <a:bodyPr lIns="90000" rIns="90000" tIns="23040" bIns="23040" anchor="t">
            <a:noAutofit/>
          </a:bodyPr>
          <a:p>
            <a:endParaRPr b="0" lang="en-US" sz="2400" spc="-1" strike="noStrike">
              <a:solidFill>
                <a:srgbClr val="ffff66"/>
              </a:solidFill>
              <a:latin typeface="Times New Roman"/>
            </a:endParaRPr>
          </a:p>
        </p:txBody>
      </p:sp>
      <p:sp>
        <p:nvSpPr>
          <p:cNvPr id="233" name=""/>
          <p:cNvSpPr/>
          <p:nvPr/>
        </p:nvSpPr>
        <p:spPr>
          <a:xfrm>
            <a:off x="5708520" y="3902040"/>
            <a:ext cx="44640" cy="54000"/>
          </a:xfrm>
          <a:custGeom>
            <a:avLst/>
            <a:gdLst/>
            <a:ahLst/>
            <a:rect l="l" t="t" r="r" b="b"/>
            <a:pathLst>
              <a:path w="56" h="68">
                <a:moveTo>
                  <a:pt x="31" y="0"/>
                </a:moveTo>
                <a:lnTo>
                  <a:pt x="22" y="0"/>
                </a:lnTo>
                <a:lnTo>
                  <a:pt x="16" y="4"/>
                </a:lnTo>
                <a:lnTo>
                  <a:pt x="10" y="14"/>
                </a:lnTo>
                <a:lnTo>
                  <a:pt x="4" y="31"/>
                </a:lnTo>
                <a:lnTo>
                  <a:pt x="0" y="47"/>
                </a:lnTo>
                <a:lnTo>
                  <a:pt x="4" y="58"/>
                </a:lnTo>
                <a:lnTo>
                  <a:pt x="14" y="64"/>
                </a:lnTo>
                <a:lnTo>
                  <a:pt x="27" y="68"/>
                </a:lnTo>
                <a:lnTo>
                  <a:pt x="37" y="62"/>
                </a:lnTo>
                <a:lnTo>
                  <a:pt x="47" y="56"/>
                </a:lnTo>
                <a:lnTo>
                  <a:pt x="53" y="45"/>
                </a:lnTo>
                <a:lnTo>
                  <a:pt x="56" y="33"/>
                </a:lnTo>
                <a:lnTo>
                  <a:pt x="53" y="17"/>
                </a:lnTo>
                <a:lnTo>
                  <a:pt x="49" y="8"/>
                </a:lnTo>
                <a:lnTo>
                  <a:pt x="39" y="0"/>
                </a:lnTo>
                <a:lnTo>
                  <a:pt x="31" y="0"/>
                </a:lnTo>
                <a:close/>
              </a:path>
            </a:pathLst>
          </a:custGeom>
          <a:solidFill>
            <a:srgbClr val="ffd9cf"/>
          </a:solidFill>
          <a:ln w="0">
            <a:noFill/>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234" name=""/>
          <p:cNvSpPr/>
          <p:nvPr/>
        </p:nvSpPr>
        <p:spPr>
          <a:xfrm>
            <a:off x="5634000" y="3213000"/>
            <a:ext cx="266760" cy="119160"/>
          </a:xfrm>
          <a:custGeom>
            <a:avLst/>
            <a:gdLst/>
            <a:ahLst/>
            <a:rect l="l" t="t" r="r" b="b"/>
            <a:pathLst>
              <a:path w="336" h="150">
                <a:moveTo>
                  <a:pt x="182" y="0"/>
                </a:moveTo>
                <a:lnTo>
                  <a:pt x="196" y="0"/>
                </a:lnTo>
                <a:lnTo>
                  <a:pt x="210" y="4"/>
                </a:lnTo>
                <a:lnTo>
                  <a:pt x="223" y="8"/>
                </a:lnTo>
                <a:lnTo>
                  <a:pt x="237" y="18"/>
                </a:lnTo>
                <a:lnTo>
                  <a:pt x="248" y="24"/>
                </a:lnTo>
                <a:lnTo>
                  <a:pt x="262" y="35"/>
                </a:lnTo>
                <a:lnTo>
                  <a:pt x="274" y="47"/>
                </a:lnTo>
                <a:lnTo>
                  <a:pt x="287" y="58"/>
                </a:lnTo>
                <a:lnTo>
                  <a:pt x="295" y="70"/>
                </a:lnTo>
                <a:lnTo>
                  <a:pt x="305" y="82"/>
                </a:lnTo>
                <a:lnTo>
                  <a:pt x="312" y="93"/>
                </a:lnTo>
                <a:lnTo>
                  <a:pt x="322" y="105"/>
                </a:lnTo>
                <a:lnTo>
                  <a:pt x="326" y="115"/>
                </a:lnTo>
                <a:lnTo>
                  <a:pt x="332" y="124"/>
                </a:lnTo>
                <a:lnTo>
                  <a:pt x="334" y="132"/>
                </a:lnTo>
                <a:lnTo>
                  <a:pt x="336" y="140"/>
                </a:lnTo>
                <a:lnTo>
                  <a:pt x="332" y="146"/>
                </a:lnTo>
                <a:lnTo>
                  <a:pt x="322" y="150"/>
                </a:lnTo>
                <a:lnTo>
                  <a:pt x="305" y="148"/>
                </a:lnTo>
                <a:lnTo>
                  <a:pt x="287" y="146"/>
                </a:lnTo>
                <a:lnTo>
                  <a:pt x="274" y="142"/>
                </a:lnTo>
                <a:lnTo>
                  <a:pt x="262" y="142"/>
                </a:lnTo>
                <a:lnTo>
                  <a:pt x="248" y="138"/>
                </a:lnTo>
                <a:lnTo>
                  <a:pt x="237" y="138"/>
                </a:lnTo>
                <a:lnTo>
                  <a:pt x="223" y="136"/>
                </a:lnTo>
                <a:lnTo>
                  <a:pt x="210" y="134"/>
                </a:lnTo>
                <a:lnTo>
                  <a:pt x="196" y="134"/>
                </a:lnTo>
                <a:lnTo>
                  <a:pt x="182" y="134"/>
                </a:lnTo>
                <a:lnTo>
                  <a:pt x="165" y="132"/>
                </a:lnTo>
                <a:lnTo>
                  <a:pt x="149" y="132"/>
                </a:lnTo>
                <a:lnTo>
                  <a:pt x="134" y="132"/>
                </a:lnTo>
                <a:lnTo>
                  <a:pt x="118" y="132"/>
                </a:lnTo>
                <a:lnTo>
                  <a:pt x="103" y="132"/>
                </a:lnTo>
                <a:lnTo>
                  <a:pt x="87" y="132"/>
                </a:lnTo>
                <a:lnTo>
                  <a:pt x="72" y="132"/>
                </a:lnTo>
                <a:lnTo>
                  <a:pt x="60" y="132"/>
                </a:lnTo>
                <a:lnTo>
                  <a:pt x="47" y="130"/>
                </a:lnTo>
                <a:lnTo>
                  <a:pt x="35" y="128"/>
                </a:lnTo>
                <a:lnTo>
                  <a:pt x="23" y="126"/>
                </a:lnTo>
                <a:lnTo>
                  <a:pt x="16" y="124"/>
                </a:lnTo>
                <a:lnTo>
                  <a:pt x="4" y="119"/>
                </a:lnTo>
                <a:lnTo>
                  <a:pt x="0" y="111"/>
                </a:lnTo>
                <a:lnTo>
                  <a:pt x="4" y="97"/>
                </a:lnTo>
                <a:lnTo>
                  <a:pt x="16" y="80"/>
                </a:lnTo>
                <a:lnTo>
                  <a:pt x="23" y="70"/>
                </a:lnTo>
                <a:lnTo>
                  <a:pt x="35" y="62"/>
                </a:lnTo>
                <a:lnTo>
                  <a:pt x="47" y="53"/>
                </a:lnTo>
                <a:lnTo>
                  <a:pt x="60" y="45"/>
                </a:lnTo>
                <a:lnTo>
                  <a:pt x="72" y="33"/>
                </a:lnTo>
                <a:lnTo>
                  <a:pt x="87" y="26"/>
                </a:lnTo>
                <a:lnTo>
                  <a:pt x="103" y="18"/>
                </a:lnTo>
                <a:lnTo>
                  <a:pt x="118" y="12"/>
                </a:lnTo>
                <a:lnTo>
                  <a:pt x="134" y="6"/>
                </a:lnTo>
                <a:lnTo>
                  <a:pt x="149" y="2"/>
                </a:lnTo>
                <a:lnTo>
                  <a:pt x="165" y="0"/>
                </a:lnTo>
                <a:lnTo>
                  <a:pt x="182" y="0"/>
                </a:lnTo>
                <a:close/>
              </a:path>
            </a:pathLst>
          </a:custGeom>
          <a:solidFill>
            <a:srgbClr val="ffbaa8"/>
          </a:solidFill>
          <a:ln w="0">
            <a:noFill/>
          </a:ln>
        </p:spPr>
        <p:style>
          <a:lnRef idx="0"/>
          <a:fillRef idx="0"/>
          <a:effectRef idx="0"/>
          <a:fontRef idx="minor"/>
        </p:style>
        <p:txBody>
          <a:bodyPr lIns="90000" rIns="90000" tIns="46800" bIns="46800" anchor="t">
            <a:noAutofit/>
          </a:bodyPr>
          <a:p>
            <a:endParaRPr b="0" lang="en-US" sz="2400" spc="-1" strike="noStrike">
              <a:solidFill>
                <a:srgbClr val="ffff66"/>
              </a:solidFill>
              <a:latin typeface="Times New Roman"/>
            </a:endParaRPr>
          </a:p>
        </p:txBody>
      </p:sp>
      <p:sp>
        <p:nvSpPr>
          <p:cNvPr id="235" name=""/>
          <p:cNvSpPr/>
          <p:nvPr/>
        </p:nvSpPr>
        <p:spPr>
          <a:xfrm>
            <a:off x="5656320" y="3236760"/>
            <a:ext cx="222120" cy="86040"/>
          </a:xfrm>
          <a:custGeom>
            <a:avLst/>
            <a:gdLst/>
            <a:ahLst/>
            <a:rect l="l" t="t" r="r" b="b"/>
            <a:pathLst>
              <a:path w="281" h="109">
                <a:moveTo>
                  <a:pt x="150" y="0"/>
                </a:moveTo>
                <a:lnTo>
                  <a:pt x="161" y="0"/>
                </a:lnTo>
                <a:lnTo>
                  <a:pt x="173" y="2"/>
                </a:lnTo>
                <a:lnTo>
                  <a:pt x="185" y="6"/>
                </a:lnTo>
                <a:lnTo>
                  <a:pt x="198" y="12"/>
                </a:lnTo>
                <a:lnTo>
                  <a:pt x="208" y="18"/>
                </a:lnTo>
                <a:lnTo>
                  <a:pt x="219" y="26"/>
                </a:lnTo>
                <a:lnTo>
                  <a:pt x="229" y="33"/>
                </a:lnTo>
                <a:lnTo>
                  <a:pt x="241" y="43"/>
                </a:lnTo>
                <a:lnTo>
                  <a:pt x="256" y="59"/>
                </a:lnTo>
                <a:lnTo>
                  <a:pt x="270" y="76"/>
                </a:lnTo>
                <a:lnTo>
                  <a:pt x="278" y="90"/>
                </a:lnTo>
                <a:lnTo>
                  <a:pt x="281" y="101"/>
                </a:lnTo>
                <a:lnTo>
                  <a:pt x="278" y="105"/>
                </a:lnTo>
                <a:lnTo>
                  <a:pt x="270" y="109"/>
                </a:lnTo>
                <a:lnTo>
                  <a:pt x="256" y="107"/>
                </a:lnTo>
                <a:lnTo>
                  <a:pt x="241" y="107"/>
                </a:lnTo>
                <a:lnTo>
                  <a:pt x="229" y="103"/>
                </a:lnTo>
                <a:lnTo>
                  <a:pt x="219" y="103"/>
                </a:lnTo>
                <a:lnTo>
                  <a:pt x="208" y="99"/>
                </a:lnTo>
                <a:lnTo>
                  <a:pt x="198" y="99"/>
                </a:lnTo>
                <a:lnTo>
                  <a:pt x="185" y="97"/>
                </a:lnTo>
                <a:lnTo>
                  <a:pt x="173" y="97"/>
                </a:lnTo>
                <a:lnTo>
                  <a:pt x="161" y="97"/>
                </a:lnTo>
                <a:lnTo>
                  <a:pt x="150" y="97"/>
                </a:lnTo>
                <a:lnTo>
                  <a:pt x="136" y="95"/>
                </a:lnTo>
                <a:lnTo>
                  <a:pt x="122" y="95"/>
                </a:lnTo>
                <a:lnTo>
                  <a:pt x="109" y="95"/>
                </a:lnTo>
                <a:lnTo>
                  <a:pt x="97" y="95"/>
                </a:lnTo>
                <a:lnTo>
                  <a:pt x="84" y="95"/>
                </a:lnTo>
                <a:lnTo>
                  <a:pt x="72" y="95"/>
                </a:lnTo>
                <a:lnTo>
                  <a:pt x="60" y="95"/>
                </a:lnTo>
                <a:lnTo>
                  <a:pt x="51" y="95"/>
                </a:lnTo>
                <a:lnTo>
                  <a:pt x="39" y="93"/>
                </a:lnTo>
                <a:lnTo>
                  <a:pt x="29" y="93"/>
                </a:lnTo>
                <a:lnTo>
                  <a:pt x="20" y="92"/>
                </a:lnTo>
                <a:lnTo>
                  <a:pt x="14" y="92"/>
                </a:lnTo>
                <a:lnTo>
                  <a:pt x="2" y="86"/>
                </a:lnTo>
                <a:lnTo>
                  <a:pt x="0" y="82"/>
                </a:lnTo>
                <a:lnTo>
                  <a:pt x="2" y="70"/>
                </a:lnTo>
                <a:lnTo>
                  <a:pt x="14" y="59"/>
                </a:lnTo>
                <a:lnTo>
                  <a:pt x="20" y="51"/>
                </a:lnTo>
                <a:lnTo>
                  <a:pt x="29" y="45"/>
                </a:lnTo>
                <a:lnTo>
                  <a:pt x="39" y="37"/>
                </a:lnTo>
                <a:lnTo>
                  <a:pt x="51" y="31"/>
                </a:lnTo>
                <a:lnTo>
                  <a:pt x="60" y="24"/>
                </a:lnTo>
                <a:lnTo>
                  <a:pt x="72" y="18"/>
                </a:lnTo>
                <a:lnTo>
                  <a:pt x="84" y="12"/>
                </a:lnTo>
                <a:lnTo>
                  <a:pt x="97" y="8"/>
                </a:lnTo>
                <a:lnTo>
                  <a:pt x="109" y="2"/>
                </a:lnTo>
                <a:lnTo>
                  <a:pt x="122" y="0"/>
                </a:lnTo>
                <a:lnTo>
                  <a:pt x="136" y="0"/>
                </a:lnTo>
                <a:lnTo>
                  <a:pt x="150" y="0"/>
                </a:lnTo>
                <a:close/>
              </a:path>
            </a:pathLst>
          </a:custGeom>
          <a:solidFill>
            <a:srgbClr val="ffc4b5"/>
          </a:solidFill>
          <a:ln w="0">
            <a:noFill/>
          </a:ln>
        </p:spPr>
        <p:style>
          <a:lnRef idx="0"/>
          <a:fillRef idx="0"/>
          <a:effectRef idx="0"/>
          <a:fontRef idx="minor"/>
        </p:style>
        <p:txBody>
          <a:bodyPr lIns="90000" rIns="90000" tIns="39240" bIns="39240" anchor="t">
            <a:noAutofit/>
          </a:bodyPr>
          <a:p>
            <a:endParaRPr b="0" lang="en-US" sz="2400" spc="-1" strike="noStrike">
              <a:solidFill>
                <a:srgbClr val="ffff66"/>
              </a:solidFill>
              <a:latin typeface="Times New Roman"/>
            </a:endParaRPr>
          </a:p>
        </p:txBody>
      </p:sp>
      <p:sp>
        <p:nvSpPr>
          <p:cNvPr id="236" name=""/>
          <p:cNvSpPr/>
          <p:nvPr/>
        </p:nvSpPr>
        <p:spPr>
          <a:xfrm>
            <a:off x="5675400" y="3259080"/>
            <a:ext cx="180720" cy="54000"/>
          </a:xfrm>
          <a:custGeom>
            <a:avLst/>
            <a:gdLst/>
            <a:ahLst/>
            <a:rect l="l" t="t" r="r" b="b"/>
            <a:pathLst>
              <a:path w="226" h="68">
                <a:moveTo>
                  <a:pt x="120" y="0"/>
                </a:moveTo>
                <a:lnTo>
                  <a:pt x="139" y="0"/>
                </a:lnTo>
                <a:lnTo>
                  <a:pt x="159" y="8"/>
                </a:lnTo>
                <a:lnTo>
                  <a:pt x="176" y="16"/>
                </a:lnTo>
                <a:lnTo>
                  <a:pt x="193" y="28"/>
                </a:lnTo>
                <a:lnTo>
                  <a:pt x="205" y="37"/>
                </a:lnTo>
                <a:lnTo>
                  <a:pt x="217" y="49"/>
                </a:lnTo>
                <a:lnTo>
                  <a:pt x="223" y="57"/>
                </a:lnTo>
                <a:lnTo>
                  <a:pt x="226" y="64"/>
                </a:lnTo>
                <a:lnTo>
                  <a:pt x="223" y="66"/>
                </a:lnTo>
                <a:lnTo>
                  <a:pt x="217" y="68"/>
                </a:lnTo>
                <a:lnTo>
                  <a:pt x="205" y="68"/>
                </a:lnTo>
                <a:lnTo>
                  <a:pt x="193" y="68"/>
                </a:lnTo>
                <a:lnTo>
                  <a:pt x="176" y="64"/>
                </a:lnTo>
                <a:lnTo>
                  <a:pt x="159" y="64"/>
                </a:lnTo>
                <a:lnTo>
                  <a:pt x="139" y="63"/>
                </a:lnTo>
                <a:lnTo>
                  <a:pt x="120" y="63"/>
                </a:lnTo>
                <a:lnTo>
                  <a:pt x="108" y="61"/>
                </a:lnTo>
                <a:lnTo>
                  <a:pt x="98" y="61"/>
                </a:lnTo>
                <a:lnTo>
                  <a:pt x="87" y="61"/>
                </a:lnTo>
                <a:lnTo>
                  <a:pt x="77" y="61"/>
                </a:lnTo>
                <a:lnTo>
                  <a:pt x="56" y="61"/>
                </a:lnTo>
                <a:lnTo>
                  <a:pt x="38" y="61"/>
                </a:lnTo>
                <a:lnTo>
                  <a:pt x="21" y="59"/>
                </a:lnTo>
                <a:lnTo>
                  <a:pt x="9" y="57"/>
                </a:lnTo>
                <a:lnTo>
                  <a:pt x="1" y="53"/>
                </a:lnTo>
                <a:lnTo>
                  <a:pt x="0" y="51"/>
                </a:lnTo>
                <a:lnTo>
                  <a:pt x="1" y="43"/>
                </a:lnTo>
                <a:lnTo>
                  <a:pt x="9" y="37"/>
                </a:lnTo>
                <a:lnTo>
                  <a:pt x="21" y="28"/>
                </a:lnTo>
                <a:lnTo>
                  <a:pt x="38" y="20"/>
                </a:lnTo>
                <a:lnTo>
                  <a:pt x="56" y="12"/>
                </a:lnTo>
                <a:lnTo>
                  <a:pt x="77" y="6"/>
                </a:lnTo>
                <a:lnTo>
                  <a:pt x="87" y="2"/>
                </a:lnTo>
                <a:lnTo>
                  <a:pt x="98" y="0"/>
                </a:lnTo>
                <a:lnTo>
                  <a:pt x="108" y="0"/>
                </a:lnTo>
                <a:lnTo>
                  <a:pt x="120" y="0"/>
                </a:lnTo>
                <a:close/>
              </a:path>
            </a:pathLst>
          </a:custGeom>
          <a:solidFill>
            <a:srgbClr val="ffcfc2"/>
          </a:solidFill>
          <a:ln w="0">
            <a:noFill/>
          </a:ln>
        </p:spPr>
        <p:style>
          <a:lnRef idx="0"/>
          <a:fillRef idx="0"/>
          <a:effectRef idx="0"/>
          <a:fontRef idx="minor"/>
        </p:style>
        <p:txBody>
          <a:bodyPr lIns="90000" rIns="90000" tIns="7200" bIns="7200" anchor="t">
            <a:noAutofit/>
          </a:bodyPr>
          <a:p>
            <a:endParaRPr b="0" lang="en-US" sz="2400" spc="-1" strike="noStrike">
              <a:solidFill>
                <a:srgbClr val="ffff66"/>
              </a:solidFill>
              <a:latin typeface="Times New Roman"/>
            </a:endParaRPr>
          </a:p>
        </p:txBody>
      </p:sp>
      <p:sp>
        <p:nvSpPr>
          <p:cNvPr id="237" name=""/>
          <p:cNvSpPr/>
          <p:nvPr/>
        </p:nvSpPr>
        <p:spPr>
          <a:xfrm>
            <a:off x="5694480" y="3282840"/>
            <a:ext cx="137880" cy="22320"/>
          </a:xfrm>
          <a:custGeom>
            <a:avLst/>
            <a:gdLst/>
            <a:ahLst/>
            <a:rect l="l" t="t" r="r" b="b"/>
            <a:pathLst>
              <a:path w="174" h="29">
                <a:moveTo>
                  <a:pt x="93" y="0"/>
                </a:moveTo>
                <a:lnTo>
                  <a:pt x="106" y="0"/>
                </a:lnTo>
                <a:lnTo>
                  <a:pt x="122" y="1"/>
                </a:lnTo>
                <a:lnTo>
                  <a:pt x="136" y="3"/>
                </a:lnTo>
                <a:lnTo>
                  <a:pt x="149" y="9"/>
                </a:lnTo>
                <a:lnTo>
                  <a:pt x="159" y="13"/>
                </a:lnTo>
                <a:lnTo>
                  <a:pt x="167" y="19"/>
                </a:lnTo>
                <a:lnTo>
                  <a:pt x="170" y="23"/>
                </a:lnTo>
                <a:lnTo>
                  <a:pt x="174" y="27"/>
                </a:lnTo>
                <a:lnTo>
                  <a:pt x="170" y="27"/>
                </a:lnTo>
                <a:lnTo>
                  <a:pt x="167" y="27"/>
                </a:lnTo>
                <a:lnTo>
                  <a:pt x="159" y="27"/>
                </a:lnTo>
                <a:lnTo>
                  <a:pt x="149" y="29"/>
                </a:lnTo>
                <a:lnTo>
                  <a:pt x="136" y="27"/>
                </a:lnTo>
                <a:lnTo>
                  <a:pt x="122" y="27"/>
                </a:lnTo>
                <a:lnTo>
                  <a:pt x="106" y="27"/>
                </a:lnTo>
                <a:lnTo>
                  <a:pt x="93" y="27"/>
                </a:lnTo>
                <a:lnTo>
                  <a:pt x="77" y="25"/>
                </a:lnTo>
                <a:lnTo>
                  <a:pt x="62" y="25"/>
                </a:lnTo>
                <a:lnTo>
                  <a:pt x="44" y="25"/>
                </a:lnTo>
                <a:lnTo>
                  <a:pt x="31" y="25"/>
                </a:lnTo>
                <a:lnTo>
                  <a:pt x="17" y="23"/>
                </a:lnTo>
                <a:lnTo>
                  <a:pt x="8" y="23"/>
                </a:lnTo>
                <a:lnTo>
                  <a:pt x="0" y="21"/>
                </a:lnTo>
                <a:lnTo>
                  <a:pt x="0" y="17"/>
                </a:lnTo>
                <a:lnTo>
                  <a:pt x="8" y="13"/>
                </a:lnTo>
                <a:lnTo>
                  <a:pt x="17" y="9"/>
                </a:lnTo>
                <a:lnTo>
                  <a:pt x="31" y="7"/>
                </a:lnTo>
                <a:lnTo>
                  <a:pt x="44" y="3"/>
                </a:lnTo>
                <a:lnTo>
                  <a:pt x="62" y="1"/>
                </a:lnTo>
                <a:lnTo>
                  <a:pt x="77" y="0"/>
                </a:lnTo>
                <a:lnTo>
                  <a:pt x="93" y="0"/>
                </a:lnTo>
                <a:close/>
              </a:path>
            </a:pathLst>
          </a:custGeom>
          <a:solidFill>
            <a:srgbClr val="ffd9cf"/>
          </a:solidFill>
          <a:ln w="0">
            <a:noFill/>
          </a:ln>
        </p:spPr>
        <p:style>
          <a:lnRef idx="0"/>
          <a:fillRef idx="0"/>
          <a:effectRef idx="0"/>
          <a:fontRef idx="minor"/>
        </p:style>
        <p:txBody>
          <a:bodyPr lIns="90000" rIns="90000" tIns="-24480" bIns="-24480" anchor="t">
            <a:noAutofit/>
          </a:bodyPr>
          <a:p>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a:t>
            </a:r>
            <a:r>
              <a:rPr b="0" lang="en-US" sz="4400" spc="-1" strike="noStrike">
                <a:solidFill>
                  <a:srgbClr val="cc00cc"/>
                </a:solidFill>
                <a:latin typeface="Arial"/>
              </a:rPr>
              <a:t>Taking the Lead in Understanding Each Other”--Discussion</a:t>
            </a:r>
            <a:endParaRPr b="0" lang="en-US" sz="4400" spc="-1" strike="noStrike">
              <a:solidFill>
                <a:srgbClr val="cc00cc"/>
              </a:solidFill>
              <a:latin typeface="Arial"/>
            </a:endParaRPr>
          </a:p>
        </p:txBody>
      </p:sp>
      <p:sp>
        <p:nvSpPr>
          <p:cNvPr id="23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mpathic listening is important</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ometimes expectations are not voiced, so the other cannot live up to them</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e aware of your own feelings</a:t>
            </a:r>
            <a:endParaRPr b="0" lang="en-US" sz="3200" spc="-1" strike="noStrike">
              <a:solidFill>
                <a:srgbClr val="ffff66"/>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mmunicate so as to achieve a win/win situation</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cc"/>
                </a:solidFill>
                <a:latin typeface="Arial"/>
              </a:rPr>
              <a:t>“</a:t>
            </a:r>
            <a:r>
              <a:rPr b="0" lang="en-US" sz="4400" spc="-1" strike="noStrike">
                <a:solidFill>
                  <a:srgbClr val="cc00cc"/>
                </a:solidFill>
                <a:latin typeface="Arial"/>
              </a:rPr>
              <a:t>Taking the Lead in Understanding Each Other”: Cognitive Objectives</a:t>
            </a:r>
            <a:endParaRPr b="0" lang="en-US" sz="4400" spc="-1" strike="noStrike">
              <a:solidFill>
                <a:srgbClr val="cc00cc"/>
              </a:solidFill>
              <a:latin typeface="Arial"/>
            </a:endParaRPr>
          </a:p>
        </p:txBody>
      </p:sp>
      <p:sp>
        <p:nvSpPr>
          <p:cNvPr id="241" name="PlaceHolder 2"/>
          <p:cNvSpPr>
            <a:spLocks noGrp="1"/>
          </p:cNvSpPr>
          <p:nvPr>
            <p:ph/>
          </p:nvPr>
        </p:nvSpPr>
        <p:spPr>
          <a:xfrm>
            <a:off x="685440" y="2514600"/>
            <a:ext cx="380988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tudents will understand the importance of listening well and understanding the viewpoints of others</a:t>
            </a:r>
            <a:endParaRPr b="0" lang="en-US" sz="3200" spc="-1" strike="noStrike">
              <a:solidFill>
                <a:srgbClr val="ffff66"/>
              </a:solidFill>
              <a:latin typeface="Times New Roman"/>
            </a:endParaRPr>
          </a:p>
        </p:txBody>
      </p:sp>
      <p:pic>
        <p:nvPicPr>
          <p:cNvPr id="242" name="" descr=""/>
          <p:cNvPicPr/>
          <p:nvPr/>
        </p:nvPicPr>
        <p:blipFill>
          <a:blip r:embed="rId1"/>
          <a:stretch/>
        </p:blipFill>
        <p:spPr>
          <a:xfrm>
            <a:off x="5105520" y="2438280"/>
            <a:ext cx="3352680" cy="381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unders</cp:lastModifiedBy>
  <dcterms:modified xsi:type="dcterms:W3CDTF">2008-03-27T17:46:27Z</dcterms:modified>
  <cp:revision>22</cp:revision>
  <dc:subject/>
  <dc:title>PowerPoint Presentation</dc:title>
</cp:coreProperties>
</file>